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BA2-7DF6-4333-B3FB-6A3C495E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5037-64C9-4800-B4EA-4CDC36BB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8F59-A505-4C23-B3DD-F039C88E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0876-703A-45FB-8687-5025C921F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FAB56-FB09-4902-8BAE-31A857DB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3A6A-BD23-424A-9DA5-8973653B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034D3-9541-4804-8445-717D5732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FD1B-3FA0-4E04-A01F-15C4CAF6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44BF-DA1A-499C-A1B1-E6DEC653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C889-3A1C-4787-8BCC-0F73C9B3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3C69-2043-4ADC-86FB-61FA0E6E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6A2C-27D1-4166-AAE6-126F012E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C39B-E12C-4B53-A061-E158A543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F544-3149-462E-856B-3B937A43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3DFB-A270-4F87-B053-79391A51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C94A-3A16-4D41-BA7A-2FBDAED91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2852-2B42-4A99-8CDB-99B27FCEC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E5638-FD89-41D7-BEF7-5DB431C30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0B896-36C8-4EA3-A4CB-7137D319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AD30E-7372-4BD3-9468-E919167B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FD14F-1058-417A-A299-A7132ED7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F4C93-3508-4104-BBC8-A6701569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BFD-ADB7-42AF-BB8A-A35F46A7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3B809-F92B-4418-BA96-BB2BFF18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6266F-6FD2-4972-A43E-A9815D72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4E27C-E6E2-4556-A6EE-099C4386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84121-F1B4-4E4A-BE96-0235195B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BF1D0-87A0-4873-9014-FFA298E7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78410-4B09-4555-8868-0FC78E0A7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E85CD-3CDD-442D-9001-90D22875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4D42D-870B-4FA2-8F60-90F304DFA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FAF7E-98AC-43B0-82DE-59EEFE4AD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231F1-F5DA-4A1A-86C2-29E63262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CB29-0AC2-4B14-A76A-4B994585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DB45A-C61A-4084-AF43-A9EDCB3E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71A39-74F2-4EFD-9827-B2B6E8B2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6432A-6E24-4D36-AF85-04E9F743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CDE53-586D-40CE-9878-7477DAC1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60C13-4F33-4E29-BDFA-B3D9A339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884B2-6BE0-431A-8E62-B289ACD6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969AD-8196-4863-8CDF-CFDB6DA8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BBB61-41E2-4CB7-8222-F54480E3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95C85-EC72-4A0B-839D-5ADD87695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969FA-817F-4714-B8A5-BCDFCECE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ABBA-EAF4-4770-B7BD-D2CE00A8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446B8E-B231-42E1-8E18-7D17BE1C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FF1C8-4D23-4D9A-A0D1-F5D9ADB9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21FC1-7FFE-4665-8E2A-B163EBB1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4A2CB-D901-4016-8707-EA38838B8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CFA28-1E63-45F1-A02C-2260617E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CC14C-2987-4A8E-8F27-3023E853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86F61-17D6-4B17-9A7B-D9A3EE96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AAC7D-58A3-4C01-BED0-236F4701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E6F33-CBB2-47F3-BAE1-6947AA97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F2BB7-4EFD-4D82-9EA1-064F6742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206-7667-4F57-9A22-42A32BCD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A4D87-7618-45BC-BD3B-B4A269DE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02E8-F9FB-4D52-B891-3F369D08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268D-FCF7-4C16-8E76-DE3453DF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769-0652-4B38-90C8-F86FC935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124B-538F-47A8-B053-C30F99F06CAB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6677-CE9B-4BB9-85D2-25E5E989C190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1F8E-6484-4115-9A37-7C448EDA8B47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1119D-7F8D-4AC8-B8DA-CD4A22941F33}" type="slidenum">
              <a:rPr b="0" lang="ar-SA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255E-B2E6-4EDC-8BD6-CAC50379ADCD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shraf@ksu.edu.sa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UTORIAL # 4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INFORMATION SECURITY 493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rite click on any packet, and chose ‘follow TCP stream’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at window will show the interaction between the PCs in regard to this stream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 the filter tap, write down ‘dns’, and click enter. What will this do?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7" name="Picture 3" descr="Wireshark captures packets and allows you to examine their content."/>
          <p:cNvPicPr/>
          <p:nvPr/>
        </p:nvPicPr>
        <p:blipFill>
          <a:blip r:embed="rId1"/>
          <a:stretch/>
        </p:blipFill>
        <p:spPr>
          <a:xfrm>
            <a:off x="457200" y="380880"/>
            <a:ext cx="83059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0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ANKS !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UTORIAL DELIVERED BY 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shraf Youssef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IS dept.,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College of Computer and Information Sciences (CCIS),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King Saud University ,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Riyadh ,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Kingdom of Saudi Arabia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Mobile:0507181787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E-mail : </a:t>
            </a:r>
            <a:r>
              <a:rPr b="1" lang="en-US" sz="22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ashraf@ksu.edu.sa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Medium"/>
              </a:rPr>
              <a:t>6.1: ENCRYPT A WINDOWS FILE</a:t>
            </a: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Windows operating systems since Windows 2000 have included the ability to encrypt files. Follow these steps: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Within Windows Explorer or the Desktop, right-click an individual file and choose Properties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On the General tab, click the advanced button that appears underneath Attributes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Check the Encrypt box contents to secure data. Notice that you cannot choose to both encrypt the data and compress it.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Click OK to exit. Click OK again at the Properties dialog box.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 warning box appears asking if you want to encrypt only the file or the entire directory (the parent folder). Choose to only encrypt the one file and click OK again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What is different about the file appearance now?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521840" cy="54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6.2: TURN ON FOLDER ENCRYPTION WITH CIPHER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Folders can be encrypted from the command line in Windows XP using the cipher command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Franklin Gothic Book"/>
              </a:rPr>
              <a:t>Earlier versions of cipher allowed you to work with individual files as well as folders. Starting with Windows XP, cipher now works at the folder level only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anklin Gothic Book"/>
              </a:rPr>
              <a:t>To use cipher to turn on folder encryption, follow these steps: 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anklin Gothic Book"/>
              </a:rPr>
              <a:t>Choose Start </a:t>
            </a:r>
            <a:r>
              <a:rPr b="1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900" spc="-1" strike="noStrike">
                <a:solidFill>
                  <a:srgbClr val="000000"/>
                </a:solidFill>
                <a:latin typeface="Franklin Gothic Book"/>
              </a:rPr>
              <a:t> Run. 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anklin Gothic Book"/>
              </a:rPr>
              <a:t>Type cmd and press Enter. This action opens a command window. 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anklin Gothic Book"/>
              </a:rPr>
              <a:t>make sure you are on the C, and your prompt shows “C:\&gt;”.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anklin Gothic Book"/>
              </a:rPr>
              <a:t>Open ‘My computer’, clicks on C, and create a new folder there. Create a new file test1.txt. 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25956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Franklin Gothic Book"/>
              </a:rPr>
              <a:t>Go back to the cmd, Type cipher /e directory, where directory is replaced by the name of a directory/folder you have created. Press Enter.</a:t>
            </a:r>
            <a:endParaRPr b="1" lang="en-US" sz="19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A message appears that the directory is now encrypted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To see the status of the directory, type cd folder (where folder is the name of the folder you created), then type cipher directory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A message appears stating that all new files added to this directory will be encrypted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reate a file within that directory (creating a file is easily accomplished by typing echo hello &gt; test2.txt, which creates a text file with only the word hello in it)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ithin that directory, type cipher. In the list of files that appears, you’ll see a U to the left of all files that were initially there and an E to the left of the newly created file, which indicates that it is encrypted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ype exit to close the command window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6.3: WIRESHARK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ireShark purpose is to capture network traffic and to represent it in a readable form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s exercise will help to get you familiar with wireshark and to understand how to read the packets, to do so, follow the next steps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Double click on WireShark file provided to you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Scroll through the top window, click on one of the lines, and try to understand the explanation in the middle window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8T06:58:18Z</dcterms:created>
  <dc:creator>maqsood.m</dc:creator>
  <dc:description/>
  <dc:language>en-US</dc:language>
  <cp:lastModifiedBy>Ashraf Youssef</cp:lastModifiedBy>
  <dcterms:modified xsi:type="dcterms:W3CDTF">2014-09-15T10:22:36Z</dcterms:modified>
  <cp:revision>11</cp:revision>
  <dc:subject/>
  <dc:title>Tutorial # 4</dc:title>
</cp:coreProperties>
</file>