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BD5-83B1-47C8-B827-49F8C3C1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6D5-6539-4980-8ACD-8D6789A6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734-3259-43C0-BBC7-23D59B2B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00D-9890-481B-BF86-3FE907DD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2932-A8F6-437D-AD8E-C4637109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E29F-7D85-4C13-8C0E-AA35CB97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49E3-7F39-4C9D-BAD1-8CC3B184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8829-91EE-4DD9-9154-54954634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7F46-CBE6-498F-91FC-692E0654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FC30-5A28-415B-AA5A-4DD6F52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0979-B214-4F20-8A89-99FCF6F4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95E-F280-4A51-B54C-4434947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EE82-4979-4D40-8F13-2E4F3D0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4E8-630A-4131-9756-EF17F51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88BB-F79A-4660-BAB7-42A7545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E334-A014-43E3-9225-DCBA87FF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97D6-E7FF-4EC1-A3DA-E31EB7D6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C53E-AD99-4897-81EB-462E313A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6885-24F7-40E0-8A2F-F4820675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BEB7-6AF8-499B-82E5-A8AAE4D7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E8E4-A99E-45E2-9637-4CBF7C71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998A-4058-4B78-B60C-CDA75ED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1D0-7990-4A8A-A5FC-24DAFB9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98DF8-D5ED-455E-8DF5-5B94BC9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C17D-ABC7-4AED-B08E-FD0FEBC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4DC6-5F1B-47FF-8373-865F7593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C7B4-7675-42B4-A854-778F575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EE30-D788-4763-AEB4-BAE1C4D6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1964-9395-4EF1-80FD-CCA898B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A7CF-ADAB-4D6B-A0E3-0C7E62D6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E5E6-7452-4024-891A-EFB96740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D9078-B236-452D-A913-46F712B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4531-5E1A-4FE4-A343-B3561D9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944-B7B3-475A-B30D-D4F497E5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4544-DCCF-4DF6-8495-6285F62B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D203-268F-4761-88CE-E3922E4A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6D0E-8005-4BD5-87A2-2B9D950C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93E6-2B5E-46BC-B207-DB10554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10A6-AB50-4810-AD6F-7FEDF9FE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0A92-35B8-4614-A34C-6BCDDB5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D8971-38A4-4A9B-B9D4-AF385734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EC32-6A99-4F42-A813-B3F36299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B9A0-2913-4FCB-A74E-1D4234DD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322B6-1F22-4C0E-B48C-6E6FAC83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631-0D64-40B7-930D-FB1BC743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70DDF-F38C-4630-B832-62C63B0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C3D6-3E08-406C-9301-FC2B24A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6482-63B9-4D55-B232-B9EEBF0F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AD13-CD6B-41F8-A6A4-F34F08E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A8A5-8B65-4940-BE6B-0DE1BC3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712A-1C4A-4DE4-9E0E-154B532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C337-A066-47B3-9026-C49A0D1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B4700-801A-47BD-9413-50C7E86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EBFFC-A7A2-43B4-B00F-5D0403E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6B58-5778-42B3-81E3-7472466F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6A1-D55C-44FE-BF54-796F9FFA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D003C-3D9F-4E60-BA2B-80C98A3F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DC8-3F03-4985-A622-037BDE1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1DE-6AA3-4544-B8C6-20890B6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A26-63F8-410C-9F7F-6AE72BA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5EC-1A13-4DB3-8B46-C6676E62D678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166-61EF-4A74-AD30-A5AEDB69A046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3E0-2F8F-4FFF-94E1-FB623A29A0F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E2F-59F3-46D9-ABD6-F3A6FA566139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952-EF51-45C0-A702-A6795B4585FF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shraf@ksu.edu.s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UTORIAL # 4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INFORMATION SECURITY 49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rite click on any packet, and chose ‘follow TCP stream’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window will show the interaction between the PCs in regard to this strea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filter tap, write down ‘dns’, and click enter. What will this do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Wireshark captures packets and allows you to examine their content.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ANKS 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.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</a:t>
            </a:r>
            <a:r>
              <a:rPr b="1" lang="en-US" sz="22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6.1: ENCRYPT A WINDOWS FILE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ndows operating systems since Windows 2000 have included the ability to encrypt files. Follow these steps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thin Windows Explorer or the Desktop, right-click an individual file and choose Propertie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On the General tab, click the advanced button that appears underneath Attribute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heck the Encrypt box contents to secure data. Notice that you cannot choose to both encrypt the data and compress it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lick OK to exit. Click OK again at the Properties dialog box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 warning box appears asking if you want to encrypt only the file or the entire directory (the parent folder). Choose to only encrypt the one file and click OK agai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What is different about the file appearance now?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6.2: TURN ON FOLDER ENCRYPTION WITH CIPH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olders can be encrypted from the command line in Windows XP using the cipher comman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Earlier versions of cipher allowed you to work with individual files as well as folders. Starting with Windows XP, cipher now works at the folder level only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To use cipher to turn on folder encryption, follow these steps: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 Run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Type cmd and press Enter. This action opens a command window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make sure you are on the C, and your prompt shows “C:\&gt;”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Open ‘My computer’, clicks on C, and create a new folder there. Create a new file test1.txt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Go back to the cmd, Type cipher /e directory, where directory is replaced by the name of a directory/folder you have created. Press Enter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message appears that the directory is now encrypted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see the status of the directory, type cd folder (where folder is the name of the folder you created), then type cipher directory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message appears stating that all new files added to this directory will be encrypte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reate a file within that directory (creating a file is easily accomplished by typing echo hello &gt; test2.txt, which creates a text file with only the word hello in it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thin that directory, type cipher. In the list of files that appears, you’ll see a U to the left of all files that were initially there and an E to the left of the newly created file, which indicates that it is encrypted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ype exit to close the command window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6.3: WIRESHARK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reShark purpose is to capture network traffic and to represent it in a readable for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exercise will help to get you familiar with wireshark and to understand how to read the packets, to do so, follow the next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Double click on WireShark file provided to you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croll through the top window, click on one of the lines, and try to understand the explanation in the middle window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8:18Z</dcterms:created>
  <dc:creator>maqsood.m</dc:creator>
  <dc:description/>
  <dc:language>en-US</dc:language>
  <cp:lastModifiedBy>Ashraf Youssef</cp:lastModifiedBy>
  <dcterms:modified xsi:type="dcterms:W3CDTF">2014-09-15T10:22:36Z</dcterms:modified>
  <cp:revision>11</cp:revision>
  <dc:subject/>
  <dc:title>Tutorial # 4</dc:title>
</cp:coreProperties>
</file>