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Kate Stephenson" initials="K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presProps" Target="presProps.xml"/><Relationship Id="rId4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2-04-05T11:56:44.598000000" idx="1">
    <p:pos x="10" y="10"/>
    <p:text>The note does not seem to belong with the slide. Please review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759D1-F77C-442A-8CE4-537F2C79A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41ED0-4BA8-479F-9215-B77D35E5D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971D8-856F-426D-AB25-40D300E40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99814-2B04-4C5F-BAD1-D0F3CC570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9E558-91BC-4EF7-94CA-4AA247A0B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6DCE4-9B6C-4F5F-91A4-0827C0F21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C0314-514A-40FE-8701-B55573923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2A95D-3C2B-4449-B240-74A7A1D4F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2EA9C-3EE6-4912-B65F-077208017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BC32A-1F20-40E3-9397-397C11674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2FB00-11DF-45A6-82AB-DBF7D01F0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C2125-0CB7-473F-B691-AD531F3FF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02F08-9C08-423D-9689-EB7B0205A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2F699-627A-403D-A513-F95D18D4A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FF3-66FD-4F3D-B64E-D1DD3282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DD9-573E-4B3B-BCA7-BBC79B7F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3E0E4-5B1D-457C-BB0D-FC0015C8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5CC-2019-4713-AFAD-D824EEC6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691AE-6CC0-40C6-85BB-4F976FD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A1C2C-27F8-4C66-90DF-F874D3E6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23209-D106-45F9-8D97-1256FFA8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52B62-4090-457C-9BA4-A4EDC800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9CD64-DE9B-49F8-93B6-99238EFB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72A05-9E70-402F-A519-DDE8416A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7962E-351A-4FCF-A278-1C76D677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88457-3079-4432-A99E-FD771C34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4DF5A-6A95-4658-ABB9-90EE73EE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E521C-4049-4E31-BC08-0E662B02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0C6-0552-4654-95B3-784C70C2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181D2-150B-463C-B3A7-75F69556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718DA-831A-4389-B4C8-9118173E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41399-9E8C-4C36-A0EE-90EF5ED1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369C1-3891-42A8-9C16-FC3BACC9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7B276-A8EE-436A-A597-14DB1572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97A19-1443-40E3-98F5-2F56D28B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CD300-3C49-4157-9FBA-62BBE52C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3AF4B-AC7C-4CFA-B792-F0936F37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AAEB2-C0A7-415A-9C1C-EE63511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D5CD7-D5DE-4E61-8623-5AC29583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DAA5-A384-44A4-83E3-456A6712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F471F-4A51-4BCA-B668-1CA08A57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62FA0-2BDB-48E3-AACF-FAB0AD2E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4FEB2-7C20-46F0-A3D8-312B02DE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4442A-1D7A-45B4-8EE6-1F791F8E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66B28-215A-4B5A-8CB5-E1FE571A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34563-A2A4-46BE-A766-4FD04A3B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1E184-0A09-4BB8-9374-4C5391EF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ED202-EE93-4FD2-AA48-43E64773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0A8A3-D59A-4F15-9F9B-B5FEB8D1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A8ACB-6F69-4F4C-89E5-FBFC83B3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ABC7-0FEA-44B6-92E8-E8F344DE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F432C-061E-4C3D-9A2B-6247CB6C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8AA09-AA58-4904-A166-C4644210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3D565-595F-4946-BA58-C96B1754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A1227-2DB0-4DA2-A22C-D170F755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95136-38CF-4876-9B90-7328E405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1506B-2D1C-4DBE-9115-F799B4F8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BA2F2-D4B8-4555-9EC0-BEB37929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BC4F7-AA06-452A-A475-D4AE0ED9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6494A-6A65-4093-A35D-9BB86D1A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93195-B751-4794-BDCF-D66018AE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7553-73D3-4905-B832-09552A5F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5F25C-8F86-43F0-A524-4C0F8CC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28464-B2AC-47F9-85B8-DF3C485A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C2FDF-D412-4EC6-87A4-06FA4E35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5F606-D6C0-4227-9542-6F464731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A080F-03A3-4391-A36F-DA539CF0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3E7E4-4547-4AB9-8043-8ACE3D0C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02E13-273F-494E-A688-A028ACCB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0F762-D2AD-4881-A628-D5F3F824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7229C-138B-4D74-9C4E-7EF3357F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ECC5A-5E6F-47FD-AA2F-9F47C21D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D307-64F1-476C-A0C6-DFABDEFA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597C3-6726-4B2E-961E-3139A865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70252-BB00-48B3-B7D1-62E30E73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1C308-05A3-4DAB-B899-CCA4C550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55C1B-12CC-4C30-8EAA-7CD86DF8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AFD08-269E-4CE4-A8C0-9AB51A41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D53EF-2C7A-40DD-ABD3-42640EEF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9B27C-81D4-4B2A-9A62-590B062F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15D85-AD4A-4A69-927E-4C6BAC89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B4D96-302A-48D8-8455-4C41161B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EDD22-802C-4091-AD9D-47CD3613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8126-75F6-4138-851D-788AEB96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685DB-0F42-475F-B1DD-71632108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9095D-5EED-4A09-96D1-3BEB4582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0B413-EC19-486F-85DF-482BF100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F7C8DA-6A73-473D-9C29-AFF8E8E3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F65A5E-1BF7-4B61-B1CD-BC62E80A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11BF0-09A4-47FA-908C-121C1EC0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45907-8FF7-45EF-B8AE-C758E8B1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E61DB-1CBF-4FDC-AE90-1AB59B5B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927C8-8542-49B1-9C98-8943ED0C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661C0-363C-418E-8177-2165E33C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A34D-3314-426F-89AE-F7276B22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F0F8E-AD32-4E3F-808B-4F9D693E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D99BB-D8DA-40E1-80CE-6626AD21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006B59-B543-4672-BDDD-F5B3167C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70678-109B-45C7-AF09-A824CF55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CEE8F-0B28-4EC5-9A8C-A5BCDDC9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3A673-D252-4116-AFD4-58CF3069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E5843-DB55-46F4-869E-D74FB58D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A4FDB-1958-420D-8ECB-0F0C92C6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08E1A-EEDC-462E-946A-56D9432B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B9FB0-C26E-4D4C-9450-B9D2A224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A966-3C1F-4FB3-A499-81533B5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E5CDA-056F-4208-A5C0-5B10F7ED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65AAF-E6A5-48D0-977F-DBAF0CC2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5CCF7-4997-4EAA-8671-A5F387E8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2750E-3BF5-4181-B128-756BD6DA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0B541E-A1E0-48DC-AEE1-694F92C2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DA43E-7058-4C83-8C6A-3D56A026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7D2E9-DFA7-4842-89CD-0B8EA49E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E406F-1F09-40B7-93EB-B60340AD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7F720-DEA9-4317-ACC4-CB89BAB5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E558C-C7F4-4FC8-B99F-FF1C8B3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510-A0C6-4579-977F-B0F9B047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AC6C-510E-4800-A1FF-F2294460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86377-2CF9-4632-A633-34B019C9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0B656-8983-4FD0-9E30-FE6AB4DF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8DFC5-D090-402D-A2C6-812096B6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4D618-0106-4EAF-A2E6-B1506138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662AA-F361-4593-BF65-983DD8C1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014193-3DEB-4F22-841D-4D7C9D8D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B2705-79B5-4895-8475-67F8EE32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D8A5F3-454B-4BDC-B85C-A8930D3F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C7310-17D9-4E1A-A51F-49735173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02C3F-9EAD-4DF3-988E-60F56B76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8CED-F86D-45AD-B318-D217E5FD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405E54-9C5D-40FD-9BDD-3F2700F8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A5DB4-B7E3-42AB-B5DC-44F49D7C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BB017-5009-4C85-81E8-89223BB7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70B2C-BA7F-4266-90D0-5976CD4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C4F06-F372-4A3E-8E2F-5A4A5DB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7AE33-7508-4E56-8C2E-F82DB9A5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0BAFBB-83EE-4986-80E3-D32817CA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36907-891B-431C-BD51-4370B76E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BE5B1-D585-4BA3-98BA-14B19102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587B2-7FB6-497F-8200-9BE71A8F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3467-AB90-41DF-BD41-6B4F1A53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8BB0C-AF89-450B-8720-E1DF3316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8B8CD-E1BF-4E31-AE8A-D6D202D0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CDD1F-9B95-4119-B5F7-DAE535E8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47FC6-5B4C-4900-B0AE-A0CB18BE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BE7A5C-A449-4B04-8A9E-ED6B81C0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A2A335-4D41-4385-9B7D-CB4C8CF6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DABAF-A328-49F4-AFF2-4FE05CEE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A0679-E3DD-4090-A9E0-82974ADE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3E744-546B-4712-926C-CF24E656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A9BCA7-3D53-4865-A199-D9EF525D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A17E-17E1-470E-BB5C-A91F7115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9C2DCF-A4AE-4819-8262-C7ACB7D0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F8BB95-9674-4E69-BFC0-3EC49E49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09B93-A99E-4BDE-B06C-4387676B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4CB396-99DD-414C-8E5D-2FBDA16A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0E6219-FEF0-47EF-894B-66B2037F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49ADE4-807C-4DDB-866F-D9BCB8BF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7A58D-BBF3-4F9F-81F7-E88B6EB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80FBA-78E8-4221-8F97-E3F91841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0F778-1A08-4517-9643-2F57865E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D4D55-AC16-41A4-A988-81437FC5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7AAC-DB67-4AC4-A302-ABBDF3E9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3B3157-F4DD-4120-907A-2DB67DB3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2CF016-424A-44B4-835F-A8EE3780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884C9E-EF63-40E1-BE90-8F05CD06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C0B18-786F-4013-8527-7C343154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2F069-E8B5-4C84-9324-B4BD9F51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A4EDC2-321D-42B5-913A-B7BD58E8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FE161D-6CC2-4F38-A8D0-BCBB7E63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D5AAAB-2F23-414C-83A7-E473EF93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6A0BEF-037D-443B-9B02-F4FB4FE6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3742DB-4F0D-4634-AC07-F13038AF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7A82-2E9B-4387-842E-DB250CA2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5A386D-F615-4EB4-A1A5-ACDBEF39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00747-1038-40CB-848E-1B2F68D2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5BC1B-FE9E-4400-9910-F8B753EF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151AF-408F-4161-A355-2E152FBA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30D9F-6DAF-4FE8-B572-6DD177F0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420382-3D6E-4592-9E15-4A04DFD0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A72E80-A43C-443A-B5C3-3277F6BA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1C09C-FEE7-4517-9B99-ECBFC850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B84CB2-E3C2-4F18-80D2-0AB93CED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16F37-2A84-4800-BFEA-E0CD001B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0CB55-E3B5-4309-ABB0-19C0CC34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73944-9A43-4E4C-B522-34AC3176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F61DE-454B-4067-904F-B65EE85A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BC4374-4956-41CB-848F-2105BCA2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5310DA-94E6-4E71-9DA5-F3F0BD88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56D416-5BB0-4186-A62C-DBEDE80F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DE396-3E51-43A9-AA35-41B95FF1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697404-33D9-441D-A73F-67DB8ED5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B3C81A-1BD3-45E5-9C9C-C2240323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08BC4A-7A66-4BD9-AE89-5C608D9C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EE7CA0-FC01-44D1-9C63-665F7965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327E-1C4E-41D1-B5FF-25955E5B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A56941-7A7D-468B-96EB-E16E55D2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E69C91-F398-4E51-96F1-9DA0AED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6D84F8-D4D9-4D9C-91A7-BE81FCFC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6A8682-94A0-48A0-8EF2-73629C9F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A07155-61CC-43C0-BDC0-3B401E1D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409FCF-59DF-4FFD-A4F4-3A144976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E319E9-87C0-4EAD-800D-22DB8712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2959F3-6FB4-4A6E-8774-46CC56DA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F63DBA-2883-4E29-A03A-B9B41FFA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2A2012-0131-489A-B97B-FD71B6E0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9346-647D-49D2-A686-96FE37AD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B8B909-A58B-4F2F-AD33-AB96ED33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94B887-D49F-4F26-9A87-FA31786E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F5DF02-3821-4C75-BFAA-83FAC054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35B47C-1E97-44D0-893E-7DFC139E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32B787-DD9A-47AB-ADC5-FC1B1EB2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A8EDC9-A277-4779-9C9C-00668573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CD1BE9-521C-4B2E-9E89-9F4A0579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DCC65E-9545-430B-B1DB-9D13F7AA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822524-9BCF-4C8C-B941-949D07E2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DB66-2D22-4F1F-9EB7-0AF58C8F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483-0A4F-4CB6-964A-2CF5BE13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3811D-268A-40C6-B124-60AE3A9D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34A8B-906A-45D6-B181-F90E7AC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2769-58C9-40DE-BD9E-2A8DCA03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7C10-A368-46BE-83BC-7BEF980C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9F0F2-644D-46A4-8239-BF7D843D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3471-8FF3-42E2-AB92-D5CCBA34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BC63-3488-464F-9381-F7D82490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3CB59-2C23-4D7F-B15A-300B611F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D9067-8F91-414E-AFD2-CA421A4D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B5B6C-0E90-4025-98D9-36371191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BF2-E9AD-44F5-96F4-929D9CB1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CC990-48EA-495A-9AFE-537F1AB0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5DB2A-DF83-4F32-A1AC-942BDF4E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11B6B-F97B-4FC8-8A8C-E3318F03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4A0F4-A3B5-4A8A-9D8E-75D7434F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E800-5A23-4D82-A9E4-797A3A4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2D58-3753-424A-9610-42D20114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54B9D-65F7-49D4-B3F9-0867E0AD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7D36-0D26-4B45-8ABA-51EB6B82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19438-FE80-4FA5-8D8C-A7267FC7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BA323-84A0-4733-BA7F-FCA77CCA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167-DE2D-447A-8530-35969C4B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23C4A-8035-4DFE-B6AF-A5BA0FD2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ADCF-E09B-4D4B-A1B3-870F096E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B5895-CCC5-41B5-A1EE-B9F3D0C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D3C94-B7DE-4F03-B070-2F395B88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D6747-1A35-413C-B86E-7B516622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89330-8319-4E77-86DB-70E5E26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64CB-D705-4B1F-8301-0CABAA8E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65D54-8404-420D-9C69-ECE9F3DB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D483-AA22-4DCF-B97A-7652C34E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9DC2E-6F96-42B7-B7B8-0C50CE3A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F6A-85E7-4DFF-BEFC-D166C3BE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D2658-798C-4F00-92E1-66BFA359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B2C4A-AAF7-42F2-97CC-9AA99BC1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9425B-A3FF-43D7-92BF-19AC35D9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87FA6-6BD2-472C-87F4-545ECF5E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947C8-FB60-47B2-8F1D-4DBFB872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BE2B1-CC33-45CA-84A6-3604804F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AE622-86DF-4492-A18E-54095A39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5BF41-D4DB-429E-877A-0EE95AA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CC38-1618-4DDD-AF23-799A85D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6733D-E8BD-49DE-9BD7-F82FA7C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240-F4CA-4C1F-85E9-28DE764D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00662-BF68-456F-BE45-0350AA4D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E3B6D-CDB8-4FAC-818E-4601B50D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DAAA4-EE3C-43E0-87CB-1F9B39A9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52C49-3383-4D88-AF4C-1B9C8626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0451E-0431-4667-8800-52DDCB7F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E916B-263C-46A6-ADB0-06321269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B628D-9FFB-4829-AC69-43EB38D8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E516A-C85A-4F7C-AA8C-1D63FC25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F9BB6-E289-436B-9FB9-A2C0DC5E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E4842-F3C7-4884-A876-A2010B0D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081-3F09-45DC-9F3C-5B39C126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4445F-FF3C-4DB0-80B1-639E0F0D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7A3B0-A1AE-42D1-A096-A2A3FEB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EA1A7-F631-4BB2-8105-AF808CA5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ABB98-D27B-4A92-BDD3-FEBF0347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BC6EE-52C8-42C5-8592-8238283B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A897-8457-44F2-B31D-7BF35430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7E9B4-8C8F-456B-BAF9-DCAEB55E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A3CF9-2437-468C-8D3E-FB793512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58164-FFC5-404E-A27D-EE44073A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0494C-12E5-4EA2-8F6D-82AD138E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624-BD74-4931-BE57-290958AC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CA739-C97F-4FF0-96AD-543F4132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E6675-A133-486A-ABA9-389A40BD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9CBBB-0957-400F-955F-C9B77E89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60E98-E1F9-494D-BB55-1BB2C467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1627D-F820-4DF2-A0A4-0B68F461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13EED-5A7F-465C-A78B-29EE5BD3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440C3-9278-40E2-BDF6-9B8D0218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43476-9C87-412C-8EA4-366C12E2A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5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7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9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11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13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15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17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19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1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5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7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9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1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3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5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7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41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3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5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7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9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3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5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7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60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63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65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67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69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71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74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77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80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82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84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86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89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92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95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98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101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103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105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107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109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111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113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115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117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119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121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123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125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127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129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131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133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135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137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BD2D4-F5BB-482E-9009-48E33D888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4F2CB-CA39-4F4D-AA57-E70E4DF2D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4E683-0B34-40BC-ABB5-2663F2F9F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BB1F9-555B-480C-89C3-EAA82B52E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43614-6B78-4F84-94B7-2A33ECCC0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6F321-BA95-439D-A160-926F5EC13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B723B-1326-4D54-B53E-F0ED00CD3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ED462-DEC6-43E1-B7FE-02F8A087C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DD16E-7B7D-4188-B752-A81E8F8E9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3D429-975B-46E2-A6F8-DE95026E6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3BEBC-6D99-43A8-B0A2-0CB75E8B7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9290F-F25D-4211-8801-E93B27694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A553B-46E2-4A0E-B997-66908D484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A9482-6719-4A29-971D-5F4B4F1F9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6FC44-40DE-45D8-9A64-B6649C3E0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49314-FC4B-48FD-BF33-C97BD122F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1979F-AE3E-4E7F-9259-909886C44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1CD65-4148-4B6D-B7C7-C0D3415B1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45781-ADC7-406B-8A07-51820D919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83963-C7A6-4BBB-842A-54A46629D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55520-F77D-42E4-85B9-C0161A453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86FB6-041D-47DF-950F-58C3C45CE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63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464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466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468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470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472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474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476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478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480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482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484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486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488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490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492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494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496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500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502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504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506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508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0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12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14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16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519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522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524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526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528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530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533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536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539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541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543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545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548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551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554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557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560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562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564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566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568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570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572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574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576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578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580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582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584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586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588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590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592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594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596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7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8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41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comments" Target="../comments/comment1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CD2E3-C1CB-4537-A9D3-244109C29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419720" y="46479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lobal Mark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 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Picture 5" descr="I:\Keegan_CO1c Components\K&amp;G Cover.tif"/>
          <p:cNvPicPr/>
          <p:nvPr/>
        </p:nvPicPr>
        <p:blipFill>
          <a:blip r:embed="rId1"/>
          <a:stretch/>
        </p:blipFill>
        <p:spPr>
          <a:xfrm>
            <a:off x="0" y="0"/>
            <a:ext cx="3289320" cy="6858000"/>
          </a:xfrm>
          <a:prstGeom prst="rect">
            <a:avLst/>
          </a:prstGeom>
          <a:ln w="0">
            <a:noFill/>
          </a:ln>
        </p:spPr>
      </p:pic>
      <p:sp>
        <p:nvSpPr>
          <p:cNvPr id="1270" name="TextBox 2"/>
          <p:cNvSpPr/>
          <p:nvPr/>
        </p:nvSpPr>
        <p:spPr>
          <a:xfrm>
            <a:off x="5500800" y="3730680"/>
            <a:ext cx="34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Box 1"/>
          <p:cNvSpPr/>
          <p:nvPr/>
        </p:nvSpPr>
        <p:spPr>
          <a:xfrm>
            <a:off x="5354640" y="131436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cDonald’s Global 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Content Placeholder 6" descr="md2.jpg"/>
          <p:cNvPicPr/>
          <p:nvPr/>
        </p:nvPicPr>
        <p:blipFill>
          <a:blip r:embed="rId1"/>
          <a:srcRect l="0" t="-15201" r="0" b="-1520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9360">
            <a:solidFill>
              <a:srgbClr val="c4bd9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Going Glob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4bd97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U.S. companies, 75% of total world market for goods and services is outside the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ca-Cola earns 75% of operating income and 2/3 of profit outside of North Ame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Japanese companies, 90% of world market is outside the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4% of market potential is outside of Germany for its companies even though it is the largest EU mar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Big Is The Global Mark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3" name="Content Placeholder 4" descr="Table1-4.jpg"/>
          <p:cNvPicPr/>
          <p:nvPr/>
        </p:nvPicPr>
        <p:blipFill>
          <a:blip r:embed="rId1"/>
          <a:srcRect l="0" t="-27872" r="0" b="-27872"/>
          <a:stretch/>
        </p:blipFill>
        <p:spPr>
          <a:xfrm>
            <a:off x="355680" y="1828800"/>
            <a:ext cx="8229600" cy="4525920"/>
          </a:xfrm>
          <a:prstGeom prst="rect">
            <a:avLst/>
          </a:prstGeom>
          <a:ln w="9360">
            <a:solidFill>
              <a:srgbClr val="c4bd9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 Ori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4bd9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thnocentric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me country is superior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es only similarities in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umes products and practices that succeed at home will be successful everywher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ads to a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ens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 Ori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ycentric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ch country is u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ch subsidiary develops its own unique business and marketing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ten referred to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ads to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calized or adap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roa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t assumes products must be adapted to local market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 Ori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iocentric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region is the relevant geographic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: The NAFTA or European Union mark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companies serve markets throughout the world but on a regional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: General Motors had four regions for decad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5"/>
          <p:cNvSpPr/>
          <p:nvPr/>
        </p:nvSpPr>
        <p:spPr>
          <a:xfrm>
            <a:off x="3200400" y="5384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uropean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 Ori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ocentric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tire world is a potential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rives for integrated global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so known as a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or transnational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tains an association with the headquarters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sues serving world markets from a single country or sources globally to focus on select country 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ads to a combination o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ension and adaptation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ces Affecting Global Integration &amp; Global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lateral trade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verging market needs and want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information r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portation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tion impro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t develop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ving Forces Affecting Global Integration and Global Marke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4368960" y="1600200"/>
            <a:ext cx="431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&amp;D as a percent of s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ld economic tr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08 global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wing middle class in China, India, Brazil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pid growth in China pre-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vement to free markets worldw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ving Forces Affecting Global Integration and Global Marke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3263760" y="1692000"/>
            <a:ext cx="542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ve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erience transf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e econom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ource util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414000" y="1600200"/>
            <a:ext cx="827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vs.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Scope of activities are outside the home-country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Picture 5" descr=""/>
          <p:cNvPicPr/>
          <p:nvPr/>
        </p:nvPicPr>
        <p:blipFill>
          <a:blip r:embed="rId1"/>
          <a:stretch/>
        </p:blipFill>
        <p:spPr>
          <a:xfrm>
            <a:off x="685800" y="3011400"/>
            <a:ext cx="77724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training Force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fecting Global Integration and Global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456840" y="1815840"/>
            <a:ext cx="5041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agement myo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ganizational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tional contr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position to glob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value for customers by improving benefits or reducing p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the pro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d new distribution chan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better commun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t monetary and non-monetary costs and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 Box 38"/>
          <p:cNvSpPr/>
          <p:nvPr/>
        </p:nvSpPr>
        <p:spPr>
          <a:xfrm>
            <a:off x="2577960" y="5195880"/>
            <a:ext cx="35686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alue=Benefits/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456840" y="1599840"/>
            <a:ext cx="8217000" cy="4343400"/>
          </a:xfrm>
          <a:prstGeom prst="rect">
            <a:avLst/>
          </a:prstGeom>
          <a:noFill/>
          <a:ln w="9360">
            <a:solidFill>
              <a:srgbClr val="c4bd97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Economic globalization constitu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integration of national economies into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international economy through trade, dire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foreign investment (by corporation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multinationals), short-term capital flow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international flows of workers and human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generally, and flows of technology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~Jagdish Bhagwait~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INDUS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industry is global to the extent that a company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industry position in one country is interdependent with its industry position in anoth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3"/>
          <p:cNvSpPr/>
          <p:nvPr/>
        </p:nvSpPr>
        <p:spPr>
          <a:xfrm>
            <a:off x="847800" y="2990880"/>
            <a:ext cx="7127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dicators of global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atio of cross-border investment to total capital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portion of industry revenue generated by all companies that compete in key world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atio of cross-border trade to worldwide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5"/>
          <p:cNvSpPr/>
          <p:nvPr/>
        </p:nvSpPr>
        <p:spPr>
          <a:xfrm>
            <a:off x="3267000" y="5533920"/>
            <a:ext cx="2800440" cy="9169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ca Cola spent $5 billion worldwide on promotions and marketing in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ETITIVE ADVANTAGE, GLOBALIZATIO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amp; GLOBAL INDUS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entration and attention on core business and compe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stle is focused: We are food and beverages. We are no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nning bicycle shops. Even in food we are not in all fiel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re are certain areas we do not touch…We have no sof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nks because I have said we will either buy Coca-Cola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leave it alone. This is focus.</a:t>
            </a:r>
            <a:r>
              <a:rPr b="1" i="1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lmut Maucher, former chairman of Nestlé S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MARKETING: What It Is &amp; What It I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le Country Marketing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rget Market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 Mi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Marketing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Market Particip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 Mix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P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: Adapt or Standardiz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entration of Market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ordination of Market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gration of Competitive Mo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IZATION vs. ADAP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4bd9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iza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Standard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ing standardized products marketed worldwide with a standardized marketing m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sence of mass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localiza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dap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xing standardization and customization in a way that minimizes costs while maximizing satisf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sence of seg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nk globally, act lo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IZATION vs. ADAP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aces of Coca-Cola Around the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Picture 4" descr=""/>
          <p:cNvPicPr/>
          <p:nvPr/>
        </p:nvPicPr>
        <p:blipFill>
          <a:blip r:embed="rId1"/>
          <a:srcRect l="-5202" t="0" r="-5202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94" name="Text Box 6"/>
          <p:cNvSpPr/>
          <p:nvPr/>
        </p:nvSpPr>
        <p:spPr>
          <a:xfrm>
            <a:off x="2768760" y="250524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rab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ad 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9"/>
          <p:cNvSpPr/>
          <p:nvPr/>
        </p:nvSpPr>
        <p:spPr>
          <a:xfrm>
            <a:off x="3568680" y="27432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7"/>
          <p:cNvSpPr/>
          <p:nvPr/>
        </p:nvSpPr>
        <p:spPr>
          <a:xfrm>
            <a:off x="2017800" y="4432320"/>
            <a:ext cx="2630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in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licious/happin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8"/>
          <p:cNvSpPr/>
          <p:nvPr/>
        </p:nvSpPr>
        <p:spPr>
          <a:xfrm>
            <a:off x="3276720" y="466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9:12Z</dcterms:created>
  <dc:creator>Jill Solomon</dc:creator>
  <dc:description/>
  <dc:language>en-US</dc:language>
  <cp:lastModifiedBy>User</cp:lastModifiedBy>
  <dcterms:modified xsi:type="dcterms:W3CDTF">2014-02-05T10:30:43Z</dcterms:modified>
  <cp:revision>55</cp:revision>
  <dc:subject/>
  <dc:title>PowerPoint Presentation</dc:title>
</cp:coreProperties>
</file>