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6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1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Kate Stephenson" initials="K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presProps" Target="presProps.xml"/><Relationship Id="rId4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12-04-05T11:56:44.598000000" idx="1">
    <p:pos x="10" y="10"/>
    <p:text>The note does not seem to belong with the slide. Please review.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dt" idx="7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 type="ftr" idx="7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 type="sldNum" idx="7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11A1ED-8C73-4F0B-AF20-52F255C59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9CFF63-3555-40B0-BC73-23B82DBE5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037CD8-8DBD-4EE6-98A8-AC29B02F4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E8130-705F-4E6E-8354-54C362023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10C78-DBD1-4A92-B035-0C0F5A4C6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00FB1F-173F-4B26-B187-A29F0FC907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6473CC-2CEF-476F-B748-5AF7927F8A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E45D8E-A5A3-4A1C-915F-8EEEF2F92E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C8574-7828-4DCB-8613-BA3A456D6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87789-F3D0-4B09-BD08-BF15F5447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02B7D-4D4E-4E3E-B743-DA5ACD459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F7233-EEA1-442C-8BEC-810215E63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F53C5-B1F8-43CB-9A28-D2E83F86AD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DCD22C-5086-4F44-A356-40802EA47A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42BA-5F25-4880-8859-CED5DA2F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26B5-636F-4A65-8B18-1D6AD727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A0495-9EE0-4B29-9C6C-5C65D76D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D8B4-6AB8-4F42-BC35-CE397BBB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2E230-7A94-4B3D-B0A9-AB5C24DD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4114D-2348-416D-B1DD-15DD98C2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ADC2B-EC0F-4690-9425-22189F9F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8D6D8-B942-4B74-80F4-85B0D75E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CF098-763D-4E12-B923-41FAC373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20C02-0A2F-4342-A49B-EE481717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97AEE-F4A2-4DE8-B137-AF77ED5D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2954F-BFFF-4F09-9D72-C0DB25B8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AAD36-C953-4BFB-9D4C-797A23C2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B8B22-2CB6-480F-AFF7-8E71FF4B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B2E3-EB4A-4189-B8FC-1487245F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121D2-E162-4138-99BA-D4ACA669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A06A6-0980-413A-BF83-04E1355F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9045A-93FB-4DFC-A2A1-7BBA5C06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BDC2C-A8E2-4AA0-B2A0-9F07EF5B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597D5-0ECB-4104-AB87-E245C9F5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D8664-A4A2-408A-A7EF-192F5CCE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E1111-F9F1-43EC-97B0-587920B2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3123A-1D70-4648-8FD6-0EDB373D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DF3A5-3D7B-44CC-A7F2-7BEE3967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B4AA9-C1C7-49CC-BDEE-179D3C68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6EBC-2EB7-4C54-BE27-046C2DAE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BED79-684D-4EAF-963E-29E959BE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FAB83-A38F-4677-8103-25D9C8CB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AE48F-9F37-4562-B7D3-CAE6C740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11F27-FEDB-45FE-913E-F0341BE3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2EE1A-C400-4EEC-91A9-484026C9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02968-2AB4-4EF1-9D65-7E066FAD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AB76E-BE99-4306-98F6-046FA7B0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C5269-88A0-4D6E-8C4C-1E71A1F2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087A0-E23A-4B9F-8FAF-3B179BC5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5676C-BAD5-4416-A67F-4D32FFE3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AF9A-B419-4CED-B547-A2798B8D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9E767-9A6A-4938-92D0-88400147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D46C4-95DB-4065-87A7-FAFE21B8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1C376-8EEA-4489-88C7-E993B020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FF4F7-1759-4E90-B95A-E03B6CE7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02765-5AA2-4B1D-A8B9-1F212647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809D1-C279-4A8E-A5ED-F85EE376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1CCAE-A6EE-4B4A-A1E7-0C480500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8B183-FD46-4684-8317-2A677412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1B575-628C-49FD-BDA5-419F1D7A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B057D-4F9B-4DB0-9B3A-B6802741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DA86-654A-411F-92BA-B61C05F3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F8747-291C-482F-A735-8FDBA45A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E178A9-2A0F-4A1F-A1A0-FE753711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2333C-A741-43D3-BF68-7FDA5F08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CDAB4-9A44-4F1E-9E7C-B09EC1C0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BA39D-561E-41CD-BB20-8B199827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526F3-EA5C-4258-BBFC-34739C07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79C31-8CB5-4A21-970F-5B998FC62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8D31C2-B1B0-4ADC-BCDF-9CBDC178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ACBB08-01BF-4208-933D-160A1184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69B58F-23B4-4D04-B626-6E3C5279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360C-4CB6-4F2F-AC40-22416204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0CB544-AB69-4324-8B6C-8EE16149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D761A4-BB2E-4A47-8D43-016A8E06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996CCB-0F53-4147-80BB-9A48FC8A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5F7448-1D22-4728-9275-198CCC4F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757406-6DF9-4F14-ABE4-54D30BD0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C91FDE-15A9-4288-B5F5-A0B4701D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C7B2D7-D226-42E8-B376-7D6B7109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345D28-CD8D-4B27-B9A1-F84EDED3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D6F9EA-B32C-444A-9151-8743E291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99E84B-EE77-43E3-A94D-D8C3B168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902F-60F1-4112-ABF1-5F9B2D23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1BC484-FC32-4F13-81C9-B406EC21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E46FDE-5F66-4DB2-9E7F-602F45E9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B7B0A4-E320-4BAD-8AE9-929DA56A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431600-0FE8-4838-ACC6-73F0E3B4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D622DA-9ABD-4E97-8BFD-32521D74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D01CD6-718B-4D33-B9C8-ABD59EFF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F781BB-D0A0-41E4-9A1C-96CD1E19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758B4F-1502-40C0-8683-025369BB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07BA56-3D89-43CA-81A2-A88AC64C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50A6F5-7A5D-4D8D-872F-5D067BDD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6DE7-6280-4E84-AF2B-2ADB70BF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995DAC-6455-4154-BCE1-605D3D44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D4689D-01EF-4581-82B6-B00613F3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E3D46F-B68B-490E-AC0C-C294F1AC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F2C7FC-0273-4D8A-B530-94FC141B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676C42-54D2-463C-96E5-5704AFB4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835791-AFA1-4991-9FD6-C52B0B76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8D45EA-E2BF-48A8-A188-FA38F3EA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28D5A8-79A5-46E5-947F-FEC4A5E2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E4076E-183A-4FC2-AEA3-55381BE4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AA8A1D-736A-41B6-BA0A-1D59691F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1439-C7A4-4294-AC88-061CBC1C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AA17DD-C794-49BD-95DB-ED497EB6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BAD00D-EB30-4890-93C2-7D7A1636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9A4A0B-3318-4F2F-8168-22D2CEB6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69531C-BA4B-4C81-88B1-E28DB9EE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15E111-B108-4CD8-9A08-FE2D610D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F46E8E-3615-4F68-BE22-029E7757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76F881-8974-4A47-8FD7-48560EA2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976DED-AF9B-4101-BE48-00933022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B21872-E31F-4CC8-B771-A44929E8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5BA0FF-3F79-4DBD-AD76-986B9BCE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9065-0E8C-4E7F-98A7-7C39A210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39C8-054A-4931-98D1-4D35EE06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9B28AC-6596-4937-9064-3B55E5C7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493D5B-7095-4A9D-A4B4-C5FEFE04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8873CA-8105-435D-A598-18775BE7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AB31E0-77CA-44A9-BC38-45B9AC5C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89A8C7-6590-4293-93D1-8EC15DF5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F74C66-0952-4646-A6E7-6A406590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38104D-E99A-4D53-9DCB-93B664E3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2C858D-4B3C-4008-A245-1A19800B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C7E2F4-4DB6-4C27-BA26-6AF8A38D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469023-8617-49A4-AB4C-D0773D8B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C32F-CF5C-42A6-8269-7372AD67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52B220-9CEA-4F14-AB22-0219DEAF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1534CB-36CA-422F-811D-C1CD7D29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F18D06-2CAD-4825-9CF8-293483E7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05DBB7-3843-4AA1-9A1A-EB379101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8DDEEF-64D6-475F-9BB8-D2D57934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1417DE-8210-43D4-89A4-FB50D3AF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62BB67-A7F9-49FF-8B3A-D012F725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61815B-606B-4D4A-9710-C58895D7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E3F958-0C31-47FE-88E3-1659F327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871F23-259A-492B-8EE8-32589131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5860-0824-4910-9F5C-C6E86A72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3B42C3-206A-4716-952E-933191B8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DEDE62-BA63-47BE-A14B-EB85111C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86AB14-4BFE-4F03-A3A1-3AB26CA5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1D2083-EB15-4EE7-A13F-E53B3B9C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581EC8-2714-4710-8E3E-90ADEDAF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89E5EC-0914-4298-A87C-953A8660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F48870-9FCC-4F02-9DEE-BC0A164E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34C99A-E5FD-485F-8B1F-F626DB52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75E47E-E9AD-4410-A09E-13972B3C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20C3C5-2514-4E6E-AA5D-825E1A6A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AD45-24F6-46DD-B193-9083E8DC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920717-BE14-468F-AEA1-78631875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D3A6C5-D842-4A96-AABE-A2D5B588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3BCB8B-F7C5-4064-9B69-1EAA8E0C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A5811E-1589-4955-8F1B-DFA268C8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09DD11-7697-4809-B6B3-4960A9F7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A70B1D-7DAC-4963-9A4B-FBE6DA39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F34952-28A2-4691-94FA-353652B4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EB30D9-D51B-4307-833A-1ABA67B2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72CDA0-53CD-4F6B-A446-A525B974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237F02-5BDE-4298-8F90-20C8D91A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EB2A-63B9-48F0-B687-2FCDF9E4D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9D5BE6-A954-4857-B1F8-E549412D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222614-64C8-4D59-9F3E-CF0A469B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35516A-6BBD-4848-BE82-3B35B9BC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0B0B30-9868-4C61-B653-EF2E4D70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B43D13-DA29-4A5F-A13C-591A5FBD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A652B9-6428-4541-9097-2A834AD0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DA1756-A311-4C67-A1AE-2A6ABC26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EEA156-2695-40AB-AE71-9B56E6A0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CBB7EF-C2CF-4591-9DA1-3E4AD3AE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EF1A96-E88C-4F95-A5F5-FC34E4F1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B26FB-BDC7-4D4B-9710-6B39646C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388A9C-F513-4166-BDAE-4E75B6DA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9BA0E1-273E-4D73-BFE2-E3A8CA03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753C12-9A54-45D2-89E9-634502C1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FD0CD6-6867-43DB-B1A6-0754E2F3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B3616B-483A-4A06-94A9-C01AD453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4660B5-73A2-4C61-9035-227EF345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189FC8-E421-46C4-8D80-6B19D9E7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7491BA-B14A-4A2C-A0D3-8B262B4B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49E80E-404E-47C9-8319-AEC0B03A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A9D7B7-4B2E-4A62-9558-87344821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6AA71-623E-42CE-BFA1-E576DD3D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FDDBBF-7063-4C84-8260-BC960808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900151-1222-47E0-8D31-B6582E4B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6B9170-5120-4F9C-9494-5FFF3F2A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325ECB-5D69-4518-B2D0-251C87D1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8676CB-7008-403E-ADCC-4D086749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62324D-EE6F-4AF1-8B46-3E587AEA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FCA59D-7863-4675-BB74-A2CA43CE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63118B-6B57-4BB4-A9C4-C5155BB2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BBB47B-6D15-4ABE-84C9-2BBC9D96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885E93-4B42-4E16-B0C0-443C8D62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D1B62-492C-42A2-8EDD-335B290B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529565-173B-4CF5-B644-2E9E8A92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3B4EA2-945A-4057-ADF9-5C569210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6D0720-6C08-4F25-84F3-6242F2B6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2C1C1C-38B5-4EC8-906E-B7AA9E52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C7067A-E613-4236-A912-8133701D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5294D3-B4F6-40F6-A4E1-A567A9DB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6A6CB6-F157-44B7-8443-52C4E54A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9F5F1C-06B0-4E29-A8E7-C4C5C29C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ED6596-0B39-442E-A7E5-53A8358D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FABA35-2679-4B58-8486-21091D0E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49E93-EAD6-4282-9B6E-ED3058A6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BCB08D-48E0-431B-9179-AEB95043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82409F-5795-4854-81D5-0B920BD0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10EEBB-D512-4CA6-8E03-7845B28C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B44D0F-B162-42FE-85E6-01B9EEAB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0A5D9F-D71A-47DF-A464-41F9A664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A7CEBA-C288-4FB8-A486-522BA39F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FEEF17-CA2A-4CB5-B327-BC350204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F1F5E1-B277-4A61-8713-CA2862167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CFD8AE-0BFC-46C8-88CB-8F3F2367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2CBDB-7BB7-4D85-96F3-2239D149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C97E-CA63-42C7-B9E1-7D9A53BA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E327A-BBEA-431A-8A37-6D57B740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B9F49-F0F5-4B0C-A42A-31CFBFAB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5000A-94D6-488B-BD56-EDC6A2BC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ED41E-ADA9-4509-9570-6B8E811B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07561-DE25-40EB-B55E-95F4CF56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CAB4F-85DD-4994-940F-4CF8DA1EF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2166C-0292-4CCF-A69B-D3519E22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277A3-731A-4183-847B-D6016C74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756A5-1A31-4C0F-9801-B226D2DC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7D0FA-1510-4751-B3A1-E097243B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04D-B364-4FE7-8DDC-769749DE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16BEC-0B8F-4A09-B175-70B16122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CBB7E-A2BB-40C5-8D43-B62401E8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BF2C6-5F07-40DE-A01A-E565869C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4E04E-D0A1-46EF-9E20-6A7EEA6C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E5061-A6E8-4A8A-8AF9-F93BA918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29D8E-8A10-460D-B41D-41456730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A7177-415C-435C-BE17-45544F72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FB931-FF38-4340-928F-063105EE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7AF7A-D1DD-4AFC-8785-502A3BAC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48B3F-14D9-437D-B3EF-4E0DB260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8A5C-971E-41A4-AED1-952B4B6B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32ED8-7996-486F-9E0B-1268AB25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734B7-4C38-4C68-A5EF-7619C58C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651D2-84B2-4B73-A544-389419C8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B4A26-A9DA-4F91-ACB8-B983503C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76DD8-B327-4C4F-B2C1-5D593B89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740BD-534A-4189-A78C-4F5D5692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698B8-3130-487A-BF5D-62F085E5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7F705-2F6D-48BB-82E3-0918318D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51E8F-8F81-404C-9E69-729DB659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D509A-B7A4-4DA0-BCB5-D3293BBA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DAAC-633A-4C07-A655-F3509F43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0DD6D-AA85-47C5-B6AA-5E900C67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A69E0-969C-4375-BFD5-8141A519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A2C9B-04FF-4DAE-843A-78DA740A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9E653-1C36-49DA-B059-7ACCC3D7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1CD95-D7E9-469A-8CDE-B6631CFF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0F37A-C324-448C-AFA8-EE440ADB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36E5E-9D92-495C-8912-176A1F67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8C1FE-4486-4E0A-AF46-A1E37343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C79F1-61B6-429C-8D4A-5F806C0F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38285-966C-47A3-A046-BC29A4DA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B2CE-955C-4D7D-A62E-DED6EB7E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4D934-66FF-4031-9A05-56B21921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848B5-5D56-40B5-9425-3B339F2A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0D05F-1737-4202-85AB-F03419E5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5704B-8FEC-4DA5-BB9D-CE334ED4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2B6F0-BA7F-4EBE-B781-CE2268A1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67906-8A8F-414F-818D-3AF0FAAA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AA131-C9BC-415E-BF6A-C7B123B2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ACD10-0702-465B-B107-8AD8467E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FA2F1-9436-4E1B-8BA6-3AAC88B0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ECBDE-0C7B-4015-BB0A-B1FB3605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1951-D956-4ECF-9D04-FE2D7359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1A2D1-E828-4D1E-BD35-292364DC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DC410-3187-4860-9E6B-4B08B664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8C64C-4B09-4C71-9776-F99C8A7F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1FAAB-62B1-46AE-9018-93B05122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70C81-232B-445A-BCA8-5782F49A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95943-B5AC-4A91-9706-D893E7E7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D170C-E2CF-4802-9257-D2E2E9BD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59CD7-66D9-427A-8F2A-6E989C0F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8A094-C9F0-4CDB-9332-9CD49B12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1D6AD-7578-47B1-9E20-6733B0D0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8F9D-BE6F-4497-8E71-26C330C8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401B8-1D2E-4873-A991-C7911777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A57CD-AA2D-4DE6-94E4-91211DAB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AF62C-A44A-4FE5-829C-4E0D0689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08F2A-B458-4410-BBF5-707FEAF3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C785A-EB6B-4408-AF0C-E2EA83D2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B52CF-3916-4964-A3FA-4E83A76B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32838-78FE-45BF-A60A-69DF5F77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D0D92-5955-4714-BE0C-8A47FA3AA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6"/>
          <p:cNvGrpSpPr/>
          <p:nvPr/>
        </p:nvGrpSpPr>
        <p:grpSpPr>
          <a:xfrm>
            <a:off x="227160" y="601560"/>
            <a:ext cx="4130640" cy="5883480"/>
            <a:chOff x="227160" y="601560"/>
            <a:chExt cx="4130640" cy="5883480"/>
          </a:xfrm>
        </p:grpSpPr>
        <p:grpSp>
          <p:nvGrpSpPr>
            <p:cNvPr id="4" name="Group 7"/>
            <p:cNvGrpSpPr/>
            <p:nvPr/>
          </p:nvGrpSpPr>
          <p:grpSpPr>
            <a:xfrm>
              <a:off x="2430360" y="830160"/>
              <a:ext cx="1494360" cy="1276200"/>
              <a:chOff x="2430360" y="830160"/>
              <a:chExt cx="1494360" cy="1276200"/>
            </a:xfrm>
          </p:grpSpPr>
          <p:sp>
            <p:nvSpPr>
              <p:cNvPr id="5" name="Freeform 141"/>
              <p:cNvSpPr/>
              <p:nvPr/>
            </p:nvSpPr>
            <p:spPr>
              <a:xfrm>
                <a:off x="2430360" y="830160"/>
                <a:ext cx="1494360" cy="1276200"/>
              </a:xfrm>
              <a:custGeom>
                <a:avLst/>
                <a:gdLst/>
                <a:ahLst/>
                <a:rect l="l" t="t" r="r" b="b"/>
                <a:pathLst>
                  <a:path w="3128" h="3128">
                    <a:moveTo>
                      <a:pt x="1550" y="0"/>
                    </a:moveTo>
                    <a:lnTo>
                      <a:pt x="1429" y="6"/>
                    </a:lnTo>
                    <a:lnTo>
                      <a:pt x="1308" y="21"/>
                    </a:lnTo>
                    <a:lnTo>
                      <a:pt x="1188" y="46"/>
                    </a:lnTo>
                    <a:lnTo>
                      <a:pt x="1070" y="80"/>
                    </a:lnTo>
                    <a:lnTo>
                      <a:pt x="953" y="124"/>
                    </a:lnTo>
                    <a:lnTo>
                      <a:pt x="839" y="179"/>
                    </a:lnTo>
                    <a:lnTo>
                      <a:pt x="728" y="243"/>
                    </a:lnTo>
                    <a:lnTo>
                      <a:pt x="622" y="316"/>
                    </a:lnTo>
                    <a:lnTo>
                      <a:pt x="525" y="396"/>
                    </a:lnTo>
                    <a:lnTo>
                      <a:pt x="435" y="482"/>
                    </a:lnTo>
                    <a:lnTo>
                      <a:pt x="353" y="574"/>
                    </a:lnTo>
                    <a:lnTo>
                      <a:pt x="279" y="672"/>
                    </a:lnTo>
                    <a:lnTo>
                      <a:pt x="214" y="774"/>
                    </a:lnTo>
                    <a:lnTo>
                      <a:pt x="157" y="881"/>
                    </a:lnTo>
                    <a:lnTo>
                      <a:pt x="109" y="992"/>
                    </a:lnTo>
                    <a:lnTo>
                      <a:pt x="69" y="1105"/>
                    </a:lnTo>
                    <a:lnTo>
                      <a:pt x="38" y="1221"/>
                    </a:lnTo>
                    <a:lnTo>
                      <a:pt x="16" y="1339"/>
                    </a:lnTo>
                    <a:lnTo>
                      <a:pt x="4" y="1459"/>
                    </a:lnTo>
                    <a:lnTo>
                      <a:pt x="0" y="1579"/>
                    </a:lnTo>
                    <a:lnTo>
                      <a:pt x="6" y="1700"/>
                    </a:lnTo>
                    <a:lnTo>
                      <a:pt x="21" y="1820"/>
                    </a:lnTo>
                    <a:lnTo>
                      <a:pt x="45" y="1940"/>
                    </a:lnTo>
                    <a:lnTo>
                      <a:pt x="80" y="2059"/>
                    </a:lnTo>
                    <a:lnTo>
                      <a:pt x="124" y="2175"/>
                    </a:lnTo>
                    <a:lnTo>
                      <a:pt x="178" y="2289"/>
                    </a:lnTo>
                    <a:lnTo>
                      <a:pt x="242" y="2401"/>
                    </a:lnTo>
                    <a:lnTo>
                      <a:pt x="315" y="2506"/>
                    </a:lnTo>
                    <a:lnTo>
                      <a:pt x="395" y="2604"/>
                    </a:lnTo>
                    <a:lnTo>
                      <a:pt x="482" y="2694"/>
                    </a:lnTo>
                    <a:lnTo>
                      <a:pt x="574" y="2776"/>
                    </a:lnTo>
                    <a:lnTo>
                      <a:pt x="672" y="2849"/>
                    </a:lnTo>
                    <a:lnTo>
                      <a:pt x="774" y="2915"/>
                    </a:lnTo>
                    <a:lnTo>
                      <a:pt x="881" y="2972"/>
                    </a:lnTo>
                    <a:lnTo>
                      <a:pt x="991" y="3020"/>
                    </a:lnTo>
                    <a:lnTo>
                      <a:pt x="1105" y="3060"/>
                    </a:lnTo>
                    <a:lnTo>
                      <a:pt x="1221" y="3090"/>
                    </a:lnTo>
                    <a:lnTo>
                      <a:pt x="1339" y="3112"/>
                    </a:lnTo>
                    <a:lnTo>
                      <a:pt x="1458" y="3125"/>
                    </a:lnTo>
                    <a:lnTo>
                      <a:pt x="1579" y="3129"/>
                    </a:lnTo>
                    <a:lnTo>
                      <a:pt x="1699" y="3123"/>
                    </a:lnTo>
                    <a:lnTo>
                      <a:pt x="1820" y="3108"/>
                    </a:lnTo>
                    <a:lnTo>
                      <a:pt x="1940" y="3083"/>
                    </a:lnTo>
                    <a:lnTo>
                      <a:pt x="2058" y="3049"/>
                    </a:lnTo>
                    <a:lnTo>
                      <a:pt x="2175" y="3005"/>
                    </a:lnTo>
                    <a:lnTo>
                      <a:pt x="2289" y="2951"/>
                    </a:lnTo>
                    <a:lnTo>
                      <a:pt x="2400" y="2886"/>
                    </a:lnTo>
                    <a:lnTo>
                      <a:pt x="2506" y="2813"/>
                    </a:lnTo>
                    <a:lnTo>
                      <a:pt x="2604" y="2733"/>
                    </a:lnTo>
                    <a:lnTo>
                      <a:pt x="2694" y="2647"/>
                    </a:lnTo>
                    <a:lnTo>
                      <a:pt x="2775" y="2555"/>
                    </a:lnTo>
                    <a:lnTo>
                      <a:pt x="2849" y="2457"/>
                    </a:lnTo>
                    <a:lnTo>
                      <a:pt x="2914" y="2355"/>
                    </a:lnTo>
                    <a:lnTo>
                      <a:pt x="2971" y="2248"/>
                    </a:lnTo>
                    <a:lnTo>
                      <a:pt x="3020" y="2138"/>
                    </a:lnTo>
                    <a:lnTo>
                      <a:pt x="3059" y="2024"/>
                    </a:lnTo>
                    <a:lnTo>
                      <a:pt x="3090" y="1908"/>
                    </a:lnTo>
                    <a:lnTo>
                      <a:pt x="3112" y="1790"/>
                    </a:lnTo>
                    <a:lnTo>
                      <a:pt x="3125" y="1670"/>
                    </a:lnTo>
                    <a:lnTo>
                      <a:pt x="3128" y="1550"/>
                    </a:lnTo>
                    <a:lnTo>
                      <a:pt x="3123" y="1429"/>
                    </a:lnTo>
                    <a:lnTo>
                      <a:pt x="3108" y="1309"/>
                    </a:lnTo>
                    <a:lnTo>
                      <a:pt x="3083" y="1189"/>
                    </a:lnTo>
                    <a:lnTo>
                      <a:pt x="3048" y="1070"/>
                    </a:lnTo>
                    <a:lnTo>
                      <a:pt x="3004" y="954"/>
                    </a:lnTo>
                    <a:lnTo>
                      <a:pt x="2950" y="840"/>
                    </a:lnTo>
                    <a:lnTo>
                      <a:pt x="2886" y="728"/>
                    </a:lnTo>
                    <a:lnTo>
                      <a:pt x="2813" y="623"/>
                    </a:lnTo>
                    <a:lnTo>
                      <a:pt x="2733" y="525"/>
                    </a:lnTo>
                    <a:lnTo>
                      <a:pt x="2647" y="435"/>
                    </a:lnTo>
                    <a:lnTo>
                      <a:pt x="2554" y="353"/>
                    </a:lnTo>
                    <a:lnTo>
                      <a:pt x="2457" y="280"/>
                    </a:lnTo>
                    <a:lnTo>
                      <a:pt x="2354" y="214"/>
                    </a:lnTo>
                    <a:lnTo>
                      <a:pt x="2248" y="157"/>
                    </a:lnTo>
                    <a:lnTo>
                      <a:pt x="2137" y="109"/>
                    </a:lnTo>
                    <a:lnTo>
                      <a:pt x="2024" y="69"/>
                    </a:lnTo>
                    <a:lnTo>
                      <a:pt x="1908" y="39"/>
                    </a:lnTo>
                    <a:lnTo>
                      <a:pt x="1790" y="17"/>
                    </a:lnTo>
                    <a:lnTo>
                      <a:pt x="1670" y="4"/>
                    </a:lnTo>
                    <a:lnTo>
                      <a:pt x="155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3094560" y="2134080"/>
              <a:ext cx="1263240" cy="1078920"/>
              <a:chOff x="3094560" y="2134080"/>
              <a:chExt cx="1263240" cy="1078920"/>
            </a:xfrm>
          </p:grpSpPr>
          <p:sp>
            <p:nvSpPr>
              <p:cNvPr id="7" name="Freeform 140"/>
              <p:cNvSpPr/>
              <p:nvPr/>
            </p:nvSpPr>
            <p:spPr>
              <a:xfrm>
                <a:off x="3094560" y="2134080"/>
                <a:ext cx="1263240" cy="1078920"/>
              </a:xfrm>
              <a:custGeom>
                <a:avLst/>
                <a:gdLst/>
                <a:ahLst/>
                <a:rect l="l" t="t" r="r" b="b"/>
                <a:pathLst>
                  <a:path w="2644" h="2644">
                    <a:moveTo>
                      <a:pt x="1311" y="0"/>
                    </a:moveTo>
                    <a:lnTo>
                      <a:pt x="1205" y="5"/>
                    </a:lnTo>
                    <a:lnTo>
                      <a:pt x="1097" y="19"/>
                    </a:lnTo>
                    <a:lnTo>
                      <a:pt x="991" y="42"/>
                    </a:lnTo>
                    <a:lnTo>
                      <a:pt x="889" y="73"/>
                    </a:lnTo>
                    <a:lnTo>
                      <a:pt x="791" y="111"/>
                    </a:lnTo>
                    <a:lnTo>
                      <a:pt x="697" y="157"/>
                    </a:lnTo>
                    <a:lnTo>
                      <a:pt x="608" y="209"/>
                    </a:lnTo>
                    <a:lnTo>
                      <a:pt x="524" y="268"/>
                    </a:lnTo>
                    <a:lnTo>
                      <a:pt x="445" y="333"/>
                    </a:lnTo>
                    <a:lnTo>
                      <a:pt x="371" y="403"/>
                    </a:lnTo>
                    <a:lnTo>
                      <a:pt x="304" y="479"/>
                    </a:lnTo>
                    <a:lnTo>
                      <a:pt x="242" y="560"/>
                    </a:lnTo>
                    <a:lnTo>
                      <a:pt x="187" y="645"/>
                    </a:lnTo>
                    <a:lnTo>
                      <a:pt x="138" y="734"/>
                    </a:lnTo>
                    <a:lnTo>
                      <a:pt x="96" y="827"/>
                    </a:lnTo>
                    <a:lnTo>
                      <a:pt x="62" y="923"/>
                    </a:lnTo>
                    <a:lnTo>
                      <a:pt x="34" y="1022"/>
                    </a:lnTo>
                    <a:lnTo>
                      <a:pt x="15" y="1124"/>
                    </a:lnTo>
                    <a:lnTo>
                      <a:pt x="3" y="1227"/>
                    </a:lnTo>
                    <a:lnTo>
                      <a:pt x="0" y="1332"/>
                    </a:lnTo>
                    <a:lnTo>
                      <a:pt x="6" y="1439"/>
                    </a:lnTo>
                    <a:lnTo>
                      <a:pt x="20" y="1547"/>
                    </a:lnTo>
                    <a:lnTo>
                      <a:pt x="42" y="1653"/>
                    </a:lnTo>
                    <a:lnTo>
                      <a:pt x="73" y="1755"/>
                    </a:lnTo>
                    <a:lnTo>
                      <a:pt x="112" y="1853"/>
                    </a:lnTo>
                    <a:lnTo>
                      <a:pt x="157" y="1947"/>
                    </a:lnTo>
                    <a:lnTo>
                      <a:pt x="210" y="2036"/>
                    </a:lnTo>
                    <a:lnTo>
                      <a:pt x="268" y="2120"/>
                    </a:lnTo>
                    <a:lnTo>
                      <a:pt x="333" y="2199"/>
                    </a:lnTo>
                    <a:lnTo>
                      <a:pt x="404" y="2273"/>
                    </a:lnTo>
                    <a:lnTo>
                      <a:pt x="480" y="2340"/>
                    </a:lnTo>
                    <a:lnTo>
                      <a:pt x="560" y="2402"/>
                    </a:lnTo>
                    <a:lnTo>
                      <a:pt x="645" y="2457"/>
                    </a:lnTo>
                    <a:lnTo>
                      <a:pt x="735" y="2506"/>
                    </a:lnTo>
                    <a:lnTo>
                      <a:pt x="827" y="2548"/>
                    </a:lnTo>
                    <a:lnTo>
                      <a:pt x="924" y="2582"/>
                    </a:lnTo>
                    <a:lnTo>
                      <a:pt x="1023" y="2609"/>
                    </a:lnTo>
                    <a:lnTo>
                      <a:pt x="1124" y="2629"/>
                    </a:lnTo>
                    <a:lnTo>
                      <a:pt x="1228" y="2640"/>
                    </a:lnTo>
                    <a:lnTo>
                      <a:pt x="1333" y="2644"/>
                    </a:lnTo>
                    <a:lnTo>
                      <a:pt x="1440" y="2638"/>
                    </a:lnTo>
                    <a:lnTo>
                      <a:pt x="1547" y="2624"/>
                    </a:lnTo>
                    <a:lnTo>
                      <a:pt x="1653" y="2601"/>
                    </a:lnTo>
                    <a:lnTo>
                      <a:pt x="1756" y="2571"/>
                    </a:lnTo>
                    <a:lnTo>
                      <a:pt x="1854" y="2532"/>
                    </a:lnTo>
                    <a:lnTo>
                      <a:pt x="1947" y="2487"/>
                    </a:lnTo>
                    <a:lnTo>
                      <a:pt x="2037" y="2434"/>
                    </a:lnTo>
                    <a:lnTo>
                      <a:pt x="2121" y="2375"/>
                    </a:lnTo>
                    <a:lnTo>
                      <a:pt x="2200" y="2311"/>
                    </a:lnTo>
                    <a:lnTo>
                      <a:pt x="2273" y="2240"/>
                    </a:lnTo>
                    <a:lnTo>
                      <a:pt x="2341" y="2164"/>
                    </a:lnTo>
                    <a:lnTo>
                      <a:pt x="2402" y="2084"/>
                    </a:lnTo>
                    <a:lnTo>
                      <a:pt x="2458" y="1999"/>
                    </a:lnTo>
                    <a:lnTo>
                      <a:pt x="2506" y="1909"/>
                    </a:lnTo>
                    <a:lnTo>
                      <a:pt x="2548" y="1816"/>
                    </a:lnTo>
                    <a:lnTo>
                      <a:pt x="2583" y="1720"/>
                    </a:lnTo>
                    <a:lnTo>
                      <a:pt x="2610" y="1621"/>
                    </a:lnTo>
                    <a:lnTo>
                      <a:pt x="2629" y="1520"/>
                    </a:lnTo>
                    <a:lnTo>
                      <a:pt x="2641" y="1416"/>
                    </a:lnTo>
                    <a:lnTo>
                      <a:pt x="2644" y="1311"/>
                    </a:lnTo>
                    <a:lnTo>
                      <a:pt x="2639" y="1204"/>
                    </a:lnTo>
                    <a:lnTo>
                      <a:pt x="2625" y="1097"/>
                    </a:lnTo>
                    <a:lnTo>
                      <a:pt x="2602" y="991"/>
                    </a:lnTo>
                    <a:lnTo>
                      <a:pt x="2571" y="888"/>
                    </a:lnTo>
                    <a:lnTo>
                      <a:pt x="2533" y="790"/>
                    </a:lnTo>
                    <a:lnTo>
                      <a:pt x="2487" y="696"/>
                    </a:lnTo>
                    <a:lnTo>
                      <a:pt x="2435" y="607"/>
                    </a:lnTo>
                    <a:lnTo>
                      <a:pt x="2376" y="523"/>
                    </a:lnTo>
                    <a:lnTo>
                      <a:pt x="2311" y="444"/>
                    </a:lnTo>
                    <a:lnTo>
                      <a:pt x="2241" y="371"/>
                    </a:lnTo>
                    <a:lnTo>
                      <a:pt x="2165" y="303"/>
                    </a:lnTo>
                    <a:lnTo>
                      <a:pt x="2084" y="241"/>
                    </a:lnTo>
                    <a:lnTo>
                      <a:pt x="1999" y="186"/>
                    </a:lnTo>
                    <a:lnTo>
                      <a:pt x="1910" y="138"/>
                    </a:lnTo>
                    <a:lnTo>
                      <a:pt x="1817" y="96"/>
                    </a:lnTo>
                    <a:lnTo>
                      <a:pt x="1721" y="61"/>
                    </a:lnTo>
                    <a:lnTo>
                      <a:pt x="1622" y="34"/>
                    </a:lnTo>
                    <a:lnTo>
                      <a:pt x="1520" y="14"/>
                    </a:lnTo>
                    <a:lnTo>
                      <a:pt x="1417" y="3"/>
                    </a:lnTo>
                    <a:lnTo>
                      <a:pt x="131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Group 9"/>
            <p:cNvGrpSpPr/>
            <p:nvPr/>
          </p:nvGrpSpPr>
          <p:grpSpPr>
            <a:xfrm>
              <a:off x="3316320" y="3307320"/>
              <a:ext cx="850320" cy="726120"/>
              <a:chOff x="3316320" y="3307320"/>
              <a:chExt cx="850320" cy="726120"/>
            </a:xfrm>
          </p:grpSpPr>
          <p:sp>
            <p:nvSpPr>
              <p:cNvPr id="9" name="Freeform 139"/>
              <p:cNvSpPr/>
              <p:nvPr/>
            </p:nvSpPr>
            <p:spPr>
              <a:xfrm>
                <a:off x="3316320" y="3307320"/>
                <a:ext cx="850320" cy="726120"/>
              </a:xfrm>
              <a:custGeom>
                <a:avLst/>
                <a:gdLst/>
                <a:ahLst/>
                <a:rect l="l" t="t" r="r" b="b"/>
                <a:pathLst>
                  <a:path w="1780" h="1780">
                    <a:moveTo>
                      <a:pt x="864" y="0"/>
                    </a:moveTo>
                    <a:lnTo>
                      <a:pt x="794" y="5"/>
                    </a:lnTo>
                    <a:lnTo>
                      <a:pt x="724" y="15"/>
                    </a:lnTo>
                    <a:lnTo>
                      <a:pt x="656" y="31"/>
                    </a:lnTo>
                    <a:lnTo>
                      <a:pt x="590" y="52"/>
                    </a:lnTo>
                    <a:lnTo>
                      <a:pt x="527" y="77"/>
                    </a:lnTo>
                    <a:lnTo>
                      <a:pt x="465" y="108"/>
                    </a:lnTo>
                    <a:lnTo>
                      <a:pt x="406" y="143"/>
                    </a:lnTo>
                    <a:lnTo>
                      <a:pt x="350" y="182"/>
                    </a:lnTo>
                    <a:lnTo>
                      <a:pt x="298" y="226"/>
                    </a:lnTo>
                    <a:lnTo>
                      <a:pt x="248" y="273"/>
                    </a:lnTo>
                    <a:lnTo>
                      <a:pt x="203" y="324"/>
                    </a:lnTo>
                    <a:lnTo>
                      <a:pt x="161" y="379"/>
                    </a:lnTo>
                    <a:lnTo>
                      <a:pt x="123" y="437"/>
                    </a:lnTo>
                    <a:lnTo>
                      <a:pt x="90" y="498"/>
                    </a:lnTo>
                    <a:lnTo>
                      <a:pt x="62" y="563"/>
                    </a:lnTo>
                    <a:lnTo>
                      <a:pt x="39" y="630"/>
                    </a:lnTo>
                    <a:lnTo>
                      <a:pt x="20" y="699"/>
                    </a:lnTo>
                    <a:lnTo>
                      <a:pt x="8" y="771"/>
                    </a:lnTo>
                    <a:lnTo>
                      <a:pt x="1" y="844"/>
                    </a:lnTo>
                    <a:lnTo>
                      <a:pt x="0" y="916"/>
                    </a:lnTo>
                    <a:lnTo>
                      <a:pt x="5" y="987"/>
                    </a:lnTo>
                    <a:lnTo>
                      <a:pt x="15" y="1056"/>
                    </a:lnTo>
                    <a:lnTo>
                      <a:pt x="31" y="1124"/>
                    </a:lnTo>
                    <a:lnTo>
                      <a:pt x="52" y="1190"/>
                    </a:lnTo>
                    <a:lnTo>
                      <a:pt x="77" y="1254"/>
                    </a:lnTo>
                    <a:lnTo>
                      <a:pt x="108" y="1315"/>
                    </a:lnTo>
                    <a:lnTo>
                      <a:pt x="143" y="1374"/>
                    </a:lnTo>
                    <a:lnTo>
                      <a:pt x="182" y="1430"/>
                    </a:lnTo>
                    <a:lnTo>
                      <a:pt x="226" y="1483"/>
                    </a:lnTo>
                    <a:lnTo>
                      <a:pt x="273" y="1532"/>
                    </a:lnTo>
                    <a:lnTo>
                      <a:pt x="324" y="1578"/>
                    </a:lnTo>
                    <a:lnTo>
                      <a:pt x="379" y="1619"/>
                    </a:lnTo>
                    <a:lnTo>
                      <a:pt x="437" y="1657"/>
                    </a:lnTo>
                    <a:lnTo>
                      <a:pt x="498" y="1690"/>
                    </a:lnTo>
                    <a:lnTo>
                      <a:pt x="563" y="1718"/>
                    </a:lnTo>
                    <a:lnTo>
                      <a:pt x="630" y="1742"/>
                    </a:lnTo>
                    <a:lnTo>
                      <a:pt x="699" y="1760"/>
                    </a:lnTo>
                    <a:lnTo>
                      <a:pt x="771" y="1772"/>
                    </a:lnTo>
                    <a:lnTo>
                      <a:pt x="844" y="1779"/>
                    </a:lnTo>
                    <a:lnTo>
                      <a:pt x="916" y="1780"/>
                    </a:lnTo>
                    <a:lnTo>
                      <a:pt x="987" y="1775"/>
                    </a:lnTo>
                    <a:lnTo>
                      <a:pt x="1056" y="1765"/>
                    </a:lnTo>
                    <a:lnTo>
                      <a:pt x="1124" y="1749"/>
                    </a:lnTo>
                    <a:lnTo>
                      <a:pt x="1190" y="1729"/>
                    </a:lnTo>
                    <a:lnTo>
                      <a:pt x="1254" y="1703"/>
                    </a:lnTo>
                    <a:lnTo>
                      <a:pt x="1315" y="1672"/>
                    </a:lnTo>
                    <a:lnTo>
                      <a:pt x="1374" y="1638"/>
                    </a:lnTo>
                    <a:lnTo>
                      <a:pt x="1430" y="1598"/>
                    </a:lnTo>
                    <a:lnTo>
                      <a:pt x="1483" y="1555"/>
                    </a:lnTo>
                    <a:lnTo>
                      <a:pt x="1532" y="1507"/>
                    </a:lnTo>
                    <a:lnTo>
                      <a:pt x="1578" y="1456"/>
                    </a:lnTo>
                    <a:lnTo>
                      <a:pt x="1619" y="1401"/>
                    </a:lnTo>
                    <a:lnTo>
                      <a:pt x="1657" y="1343"/>
                    </a:lnTo>
                    <a:lnTo>
                      <a:pt x="1690" y="1282"/>
                    </a:lnTo>
                    <a:lnTo>
                      <a:pt x="1718" y="1218"/>
                    </a:lnTo>
                    <a:lnTo>
                      <a:pt x="1742" y="1151"/>
                    </a:lnTo>
                    <a:lnTo>
                      <a:pt x="1760" y="1081"/>
                    </a:lnTo>
                    <a:lnTo>
                      <a:pt x="1772" y="1009"/>
                    </a:lnTo>
                    <a:lnTo>
                      <a:pt x="1779" y="936"/>
                    </a:lnTo>
                    <a:lnTo>
                      <a:pt x="1780" y="864"/>
                    </a:lnTo>
                    <a:lnTo>
                      <a:pt x="1775" y="794"/>
                    </a:lnTo>
                    <a:lnTo>
                      <a:pt x="1765" y="724"/>
                    </a:lnTo>
                    <a:lnTo>
                      <a:pt x="1749" y="656"/>
                    </a:lnTo>
                    <a:lnTo>
                      <a:pt x="1729" y="590"/>
                    </a:lnTo>
                    <a:lnTo>
                      <a:pt x="1703" y="527"/>
                    </a:lnTo>
                    <a:lnTo>
                      <a:pt x="1672" y="465"/>
                    </a:lnTo>
                    <a:lnTo>
                      <a:pt x="1637" y="406"/>
                    </a:lnTo>
                    <a:lnTo>
                      <a:pt x="1598" y="350"/>
                    </a:lnTo>
                    <a:lnTo>
                      <a:pt x="1555" y="298"/>
                    </a:lnTo>
                    <a:lnTo>
                      <a:pt x="1507" y="248"/>
                    </a:lnTo>
                    <a:lnTo>
                      <a:pt x="1456" y="203"/>
                    </a:lnTo>
                    <a:lnTo>
                      <a:pt x="1401" y="161"/>
                    </a:lnTo>
                    <a:lnTo>
                      <a:pt x="1343" y="123"/>
                    </a:lnTo>
                    <a:lnTo>
                      <a:pt x="1282" y="90"/>
                    </a:lnTo>
                    <a:lnTo>
                      <a:pt x="1218" y="62"/>
                    </a:lnTo>
                    <a:lnTo>
                      <a:pt x="1151" y="39"/>
                    </a:lnTo>
                    <a:lnTo>
                      <a:pt x="1081" y="20"/>
                    </a:lnTo>
                    <a:lnTo>
                      <a:pt x="1009" y="8"/>
                    </a:lnTo>
                    <a:lnTo>
                      <a:pt x="936" y="1"/>
                    </a:lnTo>
                    <a:lnTo>
                      <a:pt x="864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0"/>
            <p:cNvGrpSpPr/>
            <p:nvPr/>
          </p:nvGrpSpPr>
          <p:grpSpPr>
            <a:xfrm>
              <a:off x="3285720" y="4097880"/>
              <a:ext cx="538920" cy="460080"/>
              <a:chOff x="3285720" y="4097880"/>
              <a:chExt cx="538920" cy="460080"/>
            </a:xfrm>
          </p:grpSpPr>
          <p:sp>
            <p:nvSpPr>
              <p:cNvPr id="11" name="Freeform 138"/>
              <p:cNvSpPr/>
              <p:nvPr/>
            </p:nvSpPr>
            <p:spPr>
              <a:xfrm>
                <a:off x="3285720" y="4097880"/>
                <a:ext cx="538920" cy="460080"/>
              </a:xfrm>
              <a:custGeom>
                <a:avLst/>
                <a:gdLst/>
                <a:ahLst/>
                <a:rect l="l" t="t" r="r" b="b"/>
                <a:pathLst>
                  <a:path w="1128" h="1128">
                    <a:moveTo>
                      <a:pt x="575" y="0"/>
                    </a:moveTo>
                    <a:lnTo>
                      <a:pt x="487" y="5"/>
                    </a:lnTo>
                    <a:lnTo>
                      <a:pt x="402" y="23"/>
                    </a:lnTo>
                    <a:lnTo>
                      <a:pt x="321" y="54"/>
                    </a:lnTo>
                    <a:lnTo>
                      <a:pt x="246" y="97"/>
                    </a:lnTo>
                    <a:lnTo>
                      <a:pt x="178" y="152"/>
                    </a:lnTo>
                    <a:lnTo>
                      <a:pt x="119" y="216"/>
                    </a:lnTo>
                    <a:lnTo>
                      <a:pt x="70" y="291"/>
                    </a:lnTo>
                    <a:lnTo>
                      <a:pt x="32" y="374"/>
                    </a:lnTo>
                    <a:lnTo>
                      <a:pt x="9" y="463"/>
                    </a:lnTo>
                    <a:lnTo>
                      <a:pt x="0" y="552"/>
                    </a:lnTo>
                    <a:lnTo>
                      <a:pt x="0" y="596"/>
                    </a:lnTo>
                    <a:lnTo>
                      <a:pt x="12" y="683"/>
                    </a:lnTo>
                    <a:lnTo>
                      <a:pt x="37" y="766"/>
                    </a:lnTo>
                    <a:lnTo>
                      <a:pt x="74" y="844"/>
                    </a:lnTo>
                    <a:lnTo>
                      <a:pt x="123" y="916"/>
                    </a:lnTo>
                    <a:lnTo>
                      <a:pt x="182" y="979"/>
                    </a:lnTo>
                    <a:lnTo>
                      <a:pt x="252" y="1034"/>
                    </a:lnTo>
                    <a:lnTo>
                      <a:pt x="331" y="1077"/>
                    </a:lnTo>
                    <a:lnTo>
                      <a:pt x="418" y="1108"/>
                    </a:lnTo>
                    <a:lnTo>
                      <a:pt x="507" y="1125"/>
                    </a:lnTo>
                    <a:lnTo>
                      <a:pt x="552" y="1127"/>
                    </a:lnTo>
                    <a:lnTo>
                      <a:pt x="596" y="1127"/>
                    </a:lnTo>
                    <a:lnTo>
                      <a:pt x="682" y="1115"/>
                    </a:lnTo>
                    <a:lnTo>
                      <a:pt x="765" y="1090"/>
                    </a:lnTo>
                    <a:lnTo>
                      <a:pt x="844" y="1053"/>
                    </a:lnTo>
                    <a:lnTo>
                      <a:pt x="915" y="1004"/>
                    </a:lnTo>
                    <a:lnTo>
                      <a:pt x="979" y="945"/>
                    </a:lnTo>
                    <a:lnTo>
                      <a:pt x="1034" y="875"/>
                    </a:lnTo>
                    <a:lnTo>
                      <a:pt x="1077" y="796"/>
                    </a:lnTo>
                    <a:lnTo>
                      <a:pt x="1108" y="708"/>
                    </a:lnTo>
                    <a:lnTo>
                      <a:pt x="1124" y="620"/>
                    </a:lnTo>
                    <a:lnTo>
                      <a:pt x="1127" y="575"/>
                    </a:lnTo>
                    <a:lnTo>
                      <a:pt x="1126" y="531"/>
                    </a:lnTo>
                    <a:lnTo>
                      <a:pt x="1114" y="445"/>
                    </a:lnTo>
                    <a:lnTo>
                      <a:pt x="1090" y="362"/>
                    </a:lnTo>
                    <a:lnTo>
                      <a:pt x="1053" y="283"/>
                    </a:lnTo>
                    <a:lnTo>
                      <a:pt x="1004" y="212"/>
                    </a:lnTo>
                    <a:lnTo>
                      <a:pt x="944" y="148"/>
                    </a:lnTo>
                    <a:lnTo>
                      <a:pt x="875" y="93"/>
                    </a:lnTo>
                    <a:lnTo>
                      <a:pt x="795" y="50"/>
                    </a:lnTo>
                    <a:lnTo>
                      <a:pt x="708" y="19"/>
                    </a:lnTo>
                    <a:lnTo>
                      <a:pt x="619" y="3"/>
                    </a:lnTo>
                    <a:lnTo>
                      <a:pt x="575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Group 11"/>
            <p:cNvGrpSpPr/>
            <p:nvPr/>
          </p:nvGrpSpPr>
          <p:grpSpPr>
            <a:xfrm>
              <a:off x="3090240" y="4593600"/>
              <a:ext cx="450360" cy="384840"/>
              <a:chOff x="3090240" y="4593600"/>
              <a:chExt cx="450360" cy="384840"/>
            </a:xfrm>
          </p:grpSpPr>
          <p:sp>
            <p:nvSpPr>
              <p:cNvPr id="13" name="Freeform 137"/>
              <p:cNvSpPr/>
              <p:nvPr/>
            </p:nvSpPr>
            <p:spPr>
              <a:xfrm>
                <a:off x="3090240" y="4593600"/>
                <a:ext cx="450360" cy="384840"/>
              </a:xfrm>
              <a:custGeom>
                <a:avLst/>
                <a:gdLst/>
                <a:ahLst/>
                <a:rect l="l" t="t" r="r" b="b"/>
                <a:pathLst>
                  <a:path w="943" h="943">
                    <a:moveTo>
                      <a:pt x="481" y="0"/>
                    </a:moveTo>
                    <a:lnTo>
                      <a:pt x="408" y="5"/>
                    </a:lnTo>
                    <a:lnTo>
                      <a:pt x="337" y="20"/>
                    </a:lnTo>
                    <a:lnTo>
                      <a:pt x="270" y="46"/>
                    </a:lnTo>
                    <a:lnTo>
                      <a:pt x="207" y="82"/>
                    </a:lnTo>
                    <a:lnTo>
                      <a:pt x="149" y="128"/>
                    </a:lnTo>
                    <a:lnTo>
                      <a:pt x="99" y="183"/>
                    </a:lnTo>
                    <a:lnTo>
                      <a:pt x="57" y="247"/>
                    </a:lnTo>
                    <a:lnTo>
                      <a:pt x="26" y="318"/>
                    </a:lnTo>
                    <a:lnTo>
                      <a:pt x="8" y="390"/>
                    </a:lnTo>
                    <a:lnTo>
                      <a:pt x="0" y="463"/>
                    </a:lnTo>
                    <a:lnTo>
                      <a:pt x="1" y="499"/>
                    </a:lnTo>
                    <a:lnTo>
                      <a:pt x="11" y="571"/>
                    </a:lnTo>
                    <a:lnTo>
                      <a:pt x="32" y="640"/>
                    </a:lnTo>
                    <a:lnTo>
                      <a:pt x="63" y="706"/>
                    </a:lnTo>
                    <a:lnTo>
                      <a:pt x="104" y="766"/>
                    </a:lnTo>
                    <a:lnTo>
                      <a:pt x="154" y="820"/>
                    </a:lnTo>
                    <a:lnTo>
                      <a:pt x="214" y="867"/>
                    </a:lnTo>
                    <a:lnTo>
                      <a:pt x="282" y="903"/>
                    </a:lnTo>
                    <a:lnTo>
                      <a:pt x="354" y="928"/>
                    </a:lnTo>
                    <a:lnTo>
                      <a:pt x="426" y="941"/>
                    </a:lnTo>
                    <a:lnTo>
                      <a:pt x="463" y="943"/>
                    </a:lnTo>
                    <a:lnTo>
                      <a:pt x="499" y="942"/>
                    </a:lnTo>
                    <a:lnTo>
                      <a:pt x="571" y="933"/>
                    </a:lnTo>
                    <a:lnTo>
                      <a:pt x="641" y="912"/>
                    </a:lnTo>
                    <a:lnTo>
                      <a:pt x="706" y="881"/>
                    </a:lnTo>
                    <a:lnTo>
                      <a:pt x="766" y="840"/>
                    </a:lnTo>
                    <a:lnTo>
                      <a:pt x="820" y="789"/>
                    </a:lnTo>
                    <a:lnTo>
                      <a:pt x="867" y="729"/>
                    </a:lnTo>
                    <a:lnTo>
                      <a:pt x="903" y="661"/>
                    </a:lnTo>
                    <a:lnTo>
                      <a:pt x="928" y="590"/>
                    </a:lnTo>
                    <a:lnTo>
                      <a:pt x="941" y="517"/>
                    </a:lnTo>
                    <a:lnTo>
                      <a:pt x="943" y="481"/>
                    </a:lnTo>
                    <a:lnTo>
                      <a:pt x="942" y="444"/>
                    </a:lnTo>
                    <a:lnTo>
                      <a:pt x="933" y="372"/>
                    </a:lnTo>
                    <a:lnTo>
                      <a:pt x="912" y="303"/>
                    </a:lnTo>
                    <a:lnTo>
                      <a:pt x="881" y="238"/>
                    </a:lnTo>
                    <a:lnTo>
                      <a:pt x="840" y="177"/>
                    </a:lnTo>
                    <a:lnTo>
                      <a:pt x="789" y="123"/>
                    </a:lnTo>
                    <a:lnTo>
                      <a:pt x="730" y="77"/>
                    </a:lnTo>
                    <a:lnTo>
                      <a:pt x="662" y="40"/>
                    </a:lnTo>
                    <a:lnTo>
                      <a:pt x="590" y="15"/>
                    </a:lnTo>
                    <a:lnTo>
                      <a:pt x="517" y="3"/>
                    </a:lnTo>
                    <a:lnTo>
                      <a:pt x="481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Group 12"/>
            <p:cNvGrpSpPr/>
            <p:nvPr/>
          </p:nvGrpSpPr>
          <p:grpSpPr>
            <a:xfrm>
              <a:off x="2809080" y="4977360"/>
              <a:ext cx="445680" cy="380520"/>
              <a:chOff x="2809080" y="4977360"/>
              <a:chExt cx="445680" cy="380520"/>
            </a:xfrm>
          </p:grpSpPr>
          <p:sp>
            <p:nvSpPr>
              <p:cNvPr id="15" name="Freeform 136"/>
              <p:cNvSpPr/>
              <p:nvPr/>
            </p:nvSpPr>
            <p:spPr>
              <a:xfrm>
                <a:off x="2809080" y="4977360"/>
                <a:ext cx="445680" cy="380520"/>
              </a:xfrm>
              <a:custGeom>
                <a:avLst/>
                <a:gdLst/>
                <a:ahLst/>
                <a:rect l="l" t="t" r="r" b="b"/>
                <a:pathLst>
                  <a:path w="933" h="933">
                    <a:moveTo>
                      <a:pt x="468" y="0"/>
                    </a:moveTo>
                    <a:lnTo>
                      <a:pt x="396" y="6"/>
                    </a:lnTo>
                    <a:lnTo>
                      <a:pt x="327" y="22"/>
                    </a:lnTo>
                    <a:lnTo>
                      <a:pt x="260" y="48"/>
                    </a:lnTo>
                    <a:lnTo>
                      <a:pt x="197" y="86"/>
                    </a:lnTo>
                    <a:lnTo>
                      <a:pt x="141" y="133"/>
                    </a:lnTo>
                    <a:lnTo>
                      <a:pt x="91" y="190"/>
                    </a:lnTo>
                    <a:lnTo>
                      <a:pt x="51" y="255"/>
                    </a:lnTo>
                    <a:lnTo>
                      <a:pt x="22" y="323"/>
                    </a:lnTo>
                    <a:lnTo>
                      <a:pt x="6" y="394"/>
                    </a:lnTo>
                    <a:lnTo>
                      <a:pt x="0" y="465"/>
                    </a:lnTo>
                    <a:lnTo>
                      <a:pt x="1" y="501"/>
                    </a:lnTo>
                    <a:lnTo>
                      <a:pt x="12" y="572"/>
                    </a:lnTo>
                    <a:lnTo>
                      <a:pt x="33" y="640"/>
                    </a:lnTo>
                    <a:lnTo>
                      <a:pt x="65" y="705"/>
                    </a:lnTo>
                    <a:lnTo>
                      <a:pt x="107" y="765"/>
                    </a:lnTo>
                    <a:lnTo>
                      <a:pt x="160" y="818"/>
                    </a:lnTo>
                    <a:lnTo>
                      <a:pt x="221" y="864"/>
                    </a:lnTo>
                    <a:lnTo>
                      <a:pt x="288" y="898"/>
                    </a:lnTo>
                    <a:lnTo>
                      <a:pt x="357" y="920"/>
                    </a:lnTo>
                    <a:lnTo>
                      <a:pt x="429" y="932"/>
                    </a:lnTo>
                    <a:lnTo>
                      <a:pt x="465" y="933"/>
                    </a:lnTo>
                    <a:lnTo>
                      <a:pt x="500" y="932"/>
                    </a:lnTo>
                    <a:lnTo>
                      <a:pt x="571" y="921"/>
                    </a:lnTo>
                    <a:lnTo>
                      <a:pt x="640" y="900"/>
                    </a:lnTo>
                    <a:lnTo>
                      <a:pt x="704" y="868"/>
                    </a:lnTo>
                    <a:lnTo>
                      <a:pt x="764" y="826"/>
                    </a:lnTo>
                    <a:lnTo>
                      <a:pt x="818" y="773"/>
                    </a:lnTo>
                    <a:lnTo>
                      <a:pt x="863" y="712"/>
                    </a:lnTo>
                    <a:lnTo>
                      <a:pt x="897" y="645"/>
                    </a:lnTo>
                    <a:lnTo>
                      <a:pt x="920" y="576"/>
                    </a:lnTo>
                    <a:lnTo>
                      <a:pt x="931" y="504"/>
                    </a:lnTo>
                    <a:lnTo>
                      <a:pt x="933" y="468"/>
                    </a:lnTo>
                    <a:lnTo>
                      <a:pt x="931" y="433"/>
                    </a:lnTo>
                    <a:lnTo>
                      <a:pt x="921" y="362"/>
                    </a:lnTo>
                    <a:lnTo>
                      <a:pt x="899" y="293"/>
                    </a:lnTo>
                    <a:lnTo>
                      <a:pt x="867" y="229"/>
                    </a:lnTo>
                    <a:lnTo>
                      <a:pt x="825" y="169"/>
                    </a:lnTo>
                    <a:lnTo>
                      <a:pt x="773" y="115"/>
                    </a:lnTo>
                    <a:lnTo>
                      <a:pt x="711" y="70"/>
                    </a:lnTo>
                    <a:lnTo>
                      <a:pt x="645" y="36"/>
                    </a:lnTo>
                    <a:lnTo>
                      <a:pt x="575" y="13"/>
                    </a:lnTo>
                    <a:lnTo>
                      <a:pt x="504" y="2"/>
                    </a:lnTo>
                    <a:lnTo>
                      <a:pt x="468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2490840" y="5333040"/>
              <a:ext cx="407520" cy="347760"/>
              <a:chOff x="2490840" y="5333040"/>
              <a:chExt cx="407520" cy="347760"/>
            </a:xfrm>
          </p:grpSpPr>
          <p:sp>
            <p:nvSpPr>
              <p:cNvPr id="17" name="Freeform 135"/>
              <p:cNvSpPr/>
              <p:nvPr/>
            </p:nvSpPr>
            <p:spPr>
              <a:xfrm>
                <a:off x="2490840" y="5333040"/>
                <a:ext cx="407520" cy="347760"/>
              </a:xfrm>
              <a:custGeom>
                <a:avLst/>
                <a:gdLst/>
                <a:ahLst/>
                <a:rect l="l" t="t" r="r" b="b"/>
                <a:pathLst>
                  <a:path w="853" h="853">
                    <a:moveTo>
                      <a:pt x="421" y="0"/>
                    </a:moveTo>
                    <a:lnTo>
                      <a:pt x="356" y="6"/>
                    </a:lnTo>
                    <a:lnTo>
                      <a:pt x="292" y="22"/>
                    </a:lnTo>
                    <a:lnTo>
                      <a:pt x="230" y="48"/>
                    </a:lnTo>
                    <a:lnTo>
                      <a:pt x="173" y="84"/>
                    </a:lnTo>
                    <a:lnTo>
                      <a:pt x="121" y="129"/>
                    </a:lnTo>
                    <a:lnTo>
                      <a:pt x="77" y="183"/>
                    </a:lnTo>
                    <a:lnTo>
                      <a:pt x="42" y="241"/>
                    </a:lnTo>
                    <a:lnTo>
                      <a:pt x="18" y="303"/>
                    </a:lnTo>
                    <a:lnTo>
                      <a:pt x="4" y="367"/>
                    </a:lnTo>
                    <a:lnTo>
                      <a:pt x="0" y="433"/>
                    </a:lnTo>
                    <a:lnTo>
                      <a:pt x="2" y="465"/>
                    </a:lnTo>
                    <a:lnTo>
                      <a:pt x="13" y="530"/>
                    </a:lnTo>
                    <a:lnTo>
                      <a:pt x="33" y="593"/>
                    </a:lnTo>
                    <a:lnTo>
                      <a:pt x="64" y="652"/>
                    </a:lnTo>
                    <a:lnTo>
                      <a:pt x="105" y="707"/>
                    </a:lnTo>
                    <a:lnTo>
                      <a:pt x="155" y="756"/>
                    </a:lnTo>
                    <a:lnTo>
                      <a:pt x="211" y="795"/>
                    </a:lnTo>
                    <a:lnTo>
                      <a:pt x="271" y="824"/>
                    </a:lnTo>
                    <a:lnTo>
                      <a:pt x="335" y="843"/>
                    </a:lnTo>
                    <a:lnTo>
                      <a:pt x="400" y="852"/>
                    </a:lnTo>
                    <a:lnTo>
                      <a:pt x="432" y="853"/>
                    </a:lnTo>
                    <a:lnTo>
                      <a:pt x="465" y="852"/>
                    </a:lnTo>
                    <a:lnTo>
                      <a:pt x="530" y="841"/>
                    </a:lnTo>
                    <a:lnTo>
                      <a:pt x="592" y="820"/>
                    </a:lnTo>
                    <a:lnTo>
                      <a:pt x="652" y="789"/>
                    </a:lnTo>
                    <a:lnTo>
                      <a:pt x="707" y="748"/>
                    </a:lnTo>
                    <a:lnTo>
                      <a:pt x="756" y="698"/>
                    </a:lnTo>
                    <a:lnTo>
                      <a:pt x="795" y="642"/>
                    </a:lnTo>
                    <a:lnTo>
                      <a:pt x="824" y="582"/>
                    </a:lnTo>
                    <a:lnTo>
                      <a:pt x="843" y="519"/>
                    </a:lnTo>
                    <a:lnTo>
                      <a:pt x="852" y="454"/>
                    </a:lnTo>
                    <a:lnTo>
                      <a:pt x="853" y="421"/>
                    </a:lnTo>
                    <a:lnTo>
                      <a:pt x="851" y="388"/>
                    </a:lnTo>
                    <a:lnTo>
                      <a:pt x="840" y="324"/>
                    </a:lnTo>
                    <a:lnTo>
                      <a:pt x="820" y="261"/>
                    </a:lnTo>
                    <a:lnTo>
                      <a:pt x="789" y="201"/>
                    </a:lnTo>
                    <a:lnTo>
                      <a:pt x="748" y="147"/>
                    </a:lnTo>
                    <a:lnTo>
                      <a:pt x="698" y="98"/>
                    </a:lnTo>
                    <a:lnTo>
                      <a:pt x="642" y="58"/>
                    </a:lnTo>
                    <a:lnTo>
                      <a:pt x="582" y="29"/>
                    </a:lnTo>
                    <a:lnTo>
                      <a:pt x="518" y="10"/>
                    </a:lnTo>
                    <a:lnTo>
                      <a:pt x="453" y="1"/>
                    </a:lnTo>
                    <a:lnTo>
                      <a:pt x="421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Group 14"/>
            <p:cNvGrpSpPr/>
            <p:nvPr/>
          </p:nvGrpSpPr>
          <p:grpSpPr>
            <a:xfrm>
              <a:off x="231840" y="3613320"/>
              <a:ext cx="2466000" cy="1896120"/>
              <a:chOff x="231840" y="3613320"/>
              <a:chExt cx="2466000" cy="1896120"/>
            </a:xfrm>
          </p:grpSpPr>
          <p:sp>
            <p:nvSpPr>
              <p:cNvPr id="19" name="Freeform 134"/>
              <p:cNvSpPr/>
              <p:nvPr/>
            </p:nvSpPr>
            <p:spPr>
              <a:xfrm>
                <a:off x="231840" y="3613320"/>
                <a:ext cx="2466000" cy="1896120"/>
              </a:xfrm>
              <a:custGeom>
                <a:avLst/>
                <a:gdLst/>
                <a:ahLst/>
                <a:rect l="l" t="t" r="r" b="b"/>
                <a:pathLst>
                  <a:path w="5161" h="4647">
                    <a:moveTo>
                      <a:pt x="0" y="0"/>
                    </a:moveTo>
                    <a:lnTo>
                      <a:pt x="0" y="23"/>
                    </a:lnTo>
                    <a:lnTo>
                      <a:pt x="358" y="314"/>
                    </a:lnTo>
                    <a:lnTo>
                      <a:pt x="937" y="796"/>
                    </a:lnTo>
                    <a:lnTo>
                      <a:pt x="1517" y="1292"/>
                    </a:lnTo>
                    <a:lnTo>
                      <a:pt x="2100" y="1803"/>
                    </a:lnTo>
                    <a:lnTo>
                      <a:pt x="2689" y="2331"/>
                    </a:lnTo>
                    <a:lnTo>
                      <a:pt x="3286" y="2877"/>
                    </a:lnTo>
                    <a:lnTo>
                      <a:pt x="3893" y="3444"/>
                    </a:lnTo>
                    <a:lnTo>
                      <a:pt x="4513" y="4034"/>
                    </a:lnTo>
                    <a:lnTo>
                      <a:pt x="5148" y="4647"/>
                    </a:lnTo>
                    <a:lnTo>
                      <a:pt x="5161" y="4634"/>
                    </a:lnTo>
                    <a:lnTo>
                      <a:pt x="4525" y="4021"/>
                    </a:lnTo>
                    <a:lnTo>
                      <a:pt x="3905" y="3431"/>
                    </a:lnTo>
                    <a:lnTo>
                      <a:pt x="3298" y="2864"/>
                    </a:lnTo>
                    <a:lnTo>
                      <a:pt x="2701" y="2318"/>
                    </a:lnTo>
                    <a:lnTo>
                      <a:pt x="2112" y="1790"/>
                    </a:lnTo>
                    <a:lnTo>
                      <a:pt x="1528" y="1279"/>
                    </a:lnTo>
                    <a:lnTo>
                      <a:pt x="948" y="783"/>
                    </a:lnTo>
                    <a:lnTo>
                      <a:pt x="369" y="3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Group 15"/>
            <p:cNvGrpSpPr/>
            <p:nvPr/>
          </p:nvGrpSpPr>
          <p:grpSpPr>
            <a:xfrm>
              <a:off x="231840" y="3841200"/>
              <a:ext cx="2464560" cy="1667160"/>
              <a:chOff x="231840" y="3841200"/>
              <a:chExt cx="2464560" cy="1667160"/>
            </a:xfrm>
          </p:grpSpPr>
          <p:sp>
            <p:nvSpPr>
              <p:cNvPr id="21" name="Freeform 133"/>
              <p:cNvSpPr/>
              <p:nvPr/>
            </p:nvSpPr>
            <p:spPr>
              <a:xfrm>
                <a:off x="231840" y="3841200"/>
                <a:ext cx="2464560" cy="1667160"/>
              </a:xfrm>
              <a:custGeom>
                <a:avLst/>
                <a:gdLst/>
                <a:ahLst/>
                <a:rect l="l" t="t" r="r" b="b"/>
                <a:pathLst>
                  <a:path w="5158" h="4086">
                    <a:moveTo>
                      <a:pt x="0" y="0"/>
                    </a:moveTo>
                    <a:lnTo>
                      <a:pt x="0" y="10"/>
                    </a:lnTo>
                    <a:lnTo>
                      <a:pt x="216" y="136"/>
                    </a:lnTo>
                    <a:lnTo>
                      <a:pt x="831" y="524"/>
                    </a:lnTo>
                    <a:lnTo>
                      <a:pt x="1441" y="940"/>
                    </a:lnTo>
                    <a:lnTo>
                      <a:pt x="2049" y="1385"/>
                    </a:lnTo>
                    <a:lnTo>
                      <a:pt x="2658" y="1860"/>
                    </a:lnTo>
                    <a:lnTo>
                      <a:pt x="3270" y="2366"/>
                    </a:lnTo>
                    <a:lnTo>
                      <a:pt x="3888" y="2905"/>
                    </a:lnTo>
                    <a:lnTo>
                      <a:pt x="4514" y="3478"/>
                    </a:lnTo>
                    <a:lnTo>
                      <a:pt x="5151" y="4086"/>
                    </a:lnTo>
                    <a:lnTo>
                      <a:pt x="5158" y="4080"/>
                    </a:lnTo>
                    <a:lnTo>
                      <a:pt x="4520" y="3471"/>
                    </a:lnTo>
                    <a:lnTo>
                      <a:pt x="3894" y="2898"/>
                    </a:lnTo>
                    <a:lnTo>
                      <a:pt x="3276" y="2359"/>
                    </a:lnTo>
                    <a:lnTo>
                      <a:pt x="2663" y="1853"/>
                    </a:lnTo>
                    <a:lnTo>
                      <a:pt x="2054" y="1378"/>
                    </a:lnTo>
                    <a:lnTo>
                      <a:pt x="1446" y="933"/>
                    </a:lnTo>
                    <a:lnTo>
                      <a:pt x="835" y="517"/>
                    </a:lnTo>
                    <a:lnTo>
                      <a:pt x="221" y="1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Group 16"/>
            <p:cNvGrpSpPr/>
            <p:nvPr/>
          </p:nvGrpSpPr>
          <p:grpSpPr>
            <a:xfrm>
              <a:off x="231840" y="3991320"/>
              <a:ext cx="2464560" cy="1517040"/>
              <a:chOff x="231840" y="3991320"/>
              <a:chExt cx="2464560" cy="1517040"/>
            </a:xfrm>
          </p:grpSpPr>
          <p:sp>
            <p:nvSpPr>
              <p:cNvPr id="23" name="Freeform 132"/>
              <p:cNvSpPr/>
              <p:nvPr/>
            </p:nvSpPr>
            <p:spPr>
              <a:xfrm>
                <a:off x="231840" y="3991320"/>
                <a:ext cx="2464560" cy="1517040"/>
              </a:xfrm>
              <a:custGeom>
                <a:avLst/>
                <a:gdLst/>
                <a:ahLst/>
                <a:rect l="l" t="t" r="r" b="b"/>
                <a:pathLst>
                  <a:path w="5158" h="3718">
                    <a:moveTo>
                      <a:pt x="0" y="0"/>
                    </a:moveTo>
                    <a:lnTo>
                      <a:pt x="0" y="10"/>
                    </a:lnTo>
                    <a:lnTo>
                      <a:pt x="196" y="95"/>
                    </a:lnTo>
                    <a:lnTo>
                      <a:pt x="691" y="337"/>
                    </a:lnTo>
                    <a:lnTo>
                      <a:pt x="1182" y="605"/>
                    </a:lnTo>
                    <a:lnTo>
                      <a:pt x="1672" y="898"/>
                    </a:lnTo>
                    <a:lnTo>
                      <a:pt x="2160" y="1218"/>
                    </a:lnTo>
                    <a:lnTo>
                      <a:pt x="2650" y="1565"/>
                    </a:lnTo>
                    <a:lnTo>
                      <a:pt x="3141" y="1939"/>
                    </a:lnTo>
                    <a:lnTo>
                      <a:pt x="3635" y="2341"/>
                    </a:lnTo>
                    <a:lnTo>
                      <a:pt x="4134" y="2771"/>
                    </a:lnTo>
                    <a:lnTo>
                      <a:pt x="4639" y="3230"/>
                    </a:lnTo>
                    <a:lnTo>
                      <a:pt x="5151" y="3718"/>
                    </a:lnTo>
                    <a:lnTo>
                      <a:pt x="5158" y="3712"/>
                    </a:lnTo>
                    <a:lnTo>
                      <a:pt x="4645" y="3224"/>
                    </a:lnTo>
                    <a:lnTo>
                      <a:pt x="4140" y="2765"/>
                    </a:lnTo>
                    <a:lnTo>
                      <a:pt x="3641" y="2335"/>
                    </a:lnTo>
                    <a:lnTo>
                      <a:pt x="3146" y="1932"/>
                    </a:lnTo>
                    <a:lnTo>
                      <a:pt x="2655" y="1558"/>
                    </a:lnTo>
                    <a:lnTo>
                      <a:pt x="2165" y="1211"/>
                    </a:lnTo>
                    <a:lnTo>
                      <a:pt x="1676" y="891"/>
                    </a:lnTo>
                    <a:lnTo>
                      <a:pt x="1187" y="597"/>
                    </a:lnTo>
                    <a:lnTo>
                      <a:pt x="695" y="329"/>
                    </a:lnTo>
                    <a:lnTo>
                      <a:pt x="200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Group 17"/>
            <p:cNvGrpSpPr/>
            <p:nvPr/>
          </p:nvGrpSpPr>
          <p:grpSpPr>
            <a:xfrm>
              <a:off x="231840" y="4080600"/>
              <a:ext cx="2464560" cy="1427760"/>
              <a:chOff x="231840" y="4080600"/>
              <a:chExt cx="2464560" cy="1427760"/>
            </a:xfrm>
          </p:grpSpPr>
          <p:sp>
            <p:nvSpPr>
              <p:cNvPr id="25" name="Freeform 131"/>
              <p:cNvSpPr/>
              <p:nvPr/>
            </p:nvSpPr>
            <p:spPr>
              <a:xfrm>
                <a:off x="231840" y="4080600"/>
                <a:ext cx="2464560" cy="1427760"/>
              </a:xfrm>
              <a:custGeom>
                <a:avLst/>
                <a:gdLst/>
                <a:ahLst/>
                <a:rect l="l" t="t" r="r" b="b"/>
                <a:pathLst>
                  <a:path w="5158" h="3499">
                    <a:moveTo>
                      <a:pt x="0" y="0"/>
                    </a:moveTo>
                    <a:lnTo>
                      <a:pt x="0" y="10"/>
                    </a:lnTo>
                    <a:lnTo>
                      <a:pt x="19" y="16"/>
                    </a:lnTo>
                    <a:lnTo>
                      <a:pt x="410" y="161"/>
                    </a:lnTo>
                    <a:lnTo>
                      <a:pt x="800" y="326"/>
                    </a:lnTo>
                    <a:lnTo>
                      <a:pt x="1188" y="511"/>
                    </a:lnTo>
                    <a:lnTo>
                      <a:pt x="1576" y="716"/>
                    </a:lnTo>
                    <a:lnTo>
                      <a:pt x="1964" y="942"/>
                    </a:lnTo>
                    <a:lnTo>
                      <a:pt x="2352" y="1188"/>
                    </a:lnTo>
                    <a:lnTo>
                      <a:pt x="2742" y="1455"/>
                    </a:lnTo>
                    <a:lnTo>
                      <a:pt x="3134" y="1743"/>
                    </a:lnTo>
                    <a:lnTo>
                      <a:pt x="3530" y="2051"/>
                    </a:lnTo>
                    <a:lnTo>
                      <a:pt x="3928" y="2381"/>
                    </a:lnTo>
                    <a:lnTo>
                      <a:pt x="4331" y="2732"/>
                    </a:lnTo>
                    <a:lnTo>
                      <a:pt x="4738" y="3105"/>
                    </a:lnTo>
                    <a:lnTo>
                      <a:pt x="5151" y="3499"/>
                    </a:lnTo>
                    <a:lnTo>
                      <a:pt x="5158" y="3493"/>
                    </a:lnTo>
                    <a:lnTo>
                      <a:pt x="4744" y="3098"/>
                    </a:lnTo>
                    <a:lnTo>
                      <a:pt x="4337" y="2726"/>
                    </a:lnTo>
                    <a:lnTo>
                      <a:pt x="3934" y="2374"/>
                    </a:lnTo>
                    <a:lnTo>
                      <a:pt x="3535" y="2044"/>
                    </a:lnTo>
                    <a:lnTo>
                      <a:pt x="3140" y="1736"/>
                    </a:lnTo>
                    <a:lnTo>
                      <a:pt x="2747" y="1448"/>
                    </a:lnTo>
                    <a:lnTo>
                      <a:pt x="2357" y="1181"/>
                    </a:lnTo>
                    <a:lnTo>
                      <a:pt x="1968" y="934"/>
                    </a:lnTo>
                    <a:lnTo>
                      <a:pt x="1580" y="708"/>
                    </a:lnTo>
                    <a:lnTo>
                      <a:pt x="1192" y="503"/>
                    </a:lnTo>
                    <a:lnTo>
                      <a:pt x="803" y="318"/>
                    </a:lnTo>
                    <a:lnTo>
                      <a:pt x="414" y="152"/>
                    </a:lnTo>
                    <a:lnTo>
                      <a:pt x="22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Group 18"/>
            <p:cNvGrpSpPr/>
            <p:nvPr/>
          </p:nvGrpSpPr>
          <p:grpSpPr>
            <a:xfrm>
              <a:off x="231840" y="4136760"/>
              <a:ext cx="2464560" cy="1371960"/>
              <a:chOff x="231840" y="4136760"/>
              <a:chExt cx="2464560" cy="1371960"/>
            </a:xfrm>
          </p:grpSpPr>
          <p:sp>
            <p:nvSpPr>
              <p:cNvPr id="27" name="Freeform 130"/>
              <p:cNvSpPr/>
              <p:nvPr/>
            </p:nvSpPr>
            <p:spPr>
              <a:xfrm>
                <a:off x="231840" y="4136760"/>
                <a:ext cx="2464560" cy="1371960"/>
              </a:xfrm>
              <a:custGeom>
                <a:avLst/>
                <a:gdLst/>
                <a:ahLst/>
                <a:rect l="l" t="t" r="r" b="b"/>
                <a:pathLst>
                  <a:path w="5158" h="3362">
                    <a:moveTo>
                      <a:pt x="0" y="0"/>
                    </a:moveTo>
                    <a:lnTo>
                      <a:pt x="0" y="9"/>
                    </a:lnTo>
                    <a:lnTo>
                      <a:pt x="225" y="72"/>
                    </a:lnTo>
                    <a:lnTo>
                      <a:pt x="568" y="188"/>
                    </a:lnTo>
                    <a:lnTo>
                      <a:pt x="911" y="322"/>
                    </a:lnTo>
                    <a:lnTo>
                      <a:pt x="1254" y="474"/>
                    </a:lnTo>
                    <a:lnTo>
                      <a:pt x="1597" y="644"/>
                    </a:lnTo>
                    <a:lnTo>
                      <a:pt x="1941" y="832"/>
                    </a:lnTo>
                    <a:lnTo>
                      <a:pt x="2286" y="1039"/>
                    </a:lnTo>
                    <a:lnTo>
                      <a:pt x="2633" y="1264"/>
                    </a:lnTo>
                    <a:lnTo>
                      <a:pt x="2982" y="1508"/>
                    </a:lnTo>
                    <a:lnTo>
                      <a:pt x="3334" y="1770"/>
                    </a:lnTo>
                    <a:lnTo>
                      <a:pt x="3689" y="2051"/>
                    </a:lnTo>
                    <a:lnTo>
                      <a:pt x="4048" y="2350"/>
                    </a:lnTo>
                    <a:lnTo>
                      <a:pt x="4411" y="2669"/>
                    </a:lnTo>
                    <a:lnTo>
                      <a:pt x="4779" y="3006"/>
                    </a:lnTo>
                    <a:lnTo>
                      <a:pt x="5151" y="3362"/>
                    </a:lnTo>
                    <a:lnTo>
                      <a:pt x="5158" y="3356"/>
                    </a:lnTo>
                    <a:lnTo>
                      <a:pt x="4785" y="2999"/>
                    </a:lnTo>
                    <a:lnTo>
                      <a:pt x="4417" y="2662"/>
                    </a:lnTo>
                    <a:lnTo>
                      <a:pt x="4054" y="2344"/>
                    </a:lnTo>
                    <a:lnTo>
                      <a:pt x="3695" y="2044"/>
                    </a:lnTo>
                    <a:lnTo>
                      <a:pt x="3339" y="1763"/>
                    </a:lnTo>
                    <a:lnTo>
                      <a:pt x="2987" y="1501"/>
                    </a:lnTo>
                    <a:lnTo>
                      <a:pt x="2638" y="1257"/>
                    </a:lnTo>
                    <a:lnTo>
                      <a:pt x="2290" y="1032"/>
                    </a:lnTo>
                    <a:lnTo>
                      <a:pt x="1945" y="825"/>
                    </a:lnTo>
                    <a:lnTo>
                      <a:pt x="1601" y="636"/>
                    </a:lnTo>
                    <a:lnTo>
                      <a:pt x="1257" y="466"/>
                    </a:lnTo>
                    <a:lnTo>
                      <a:pt x="914" y="314"/>
                    </a:lnTo>
                    <a:lnTo>
                      <a:pt x="571" y="180"/>
                    </a:lnTo>
                    <a:lnTo>
                      <a:pt x="227" y="6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Group 19"/>
            <p:cNvGrpSpPr/>
            <p:nvPr/>
          </p:nvGrpSpPr>
          <p:grpSpPr>
            <a:xfrm>
              <a:off x="231840" y="4183200"/>
              <a:ext cx="2464560" cy="1325160"/>
              <a:chOff x="231840" y="4183200"/>
              <a:chExt cx="2464560" cy="1325160"/>
            </a:xfrm>
          </p:grpSpPr>
          <p:sp>
            <p:nvSpPr>
              <p:cNvPr id="29" name="Freeform 129"/>
              <p:cNvSpPr/>
              <p:nvPr/>
            </p:nvSpPr>
            <p:spPr>
              <a:xfrm>
                <a:off x="231840" y="4183200"/>
                <a:ext cx="2464560" cy="1325160"/>
              </a:xfrm>
              <a:custGeom>
                <a:avLst/>
                <a:gdLst/>
                <a:ahLst/>
                <a:rect l="l" t="t" r="r" b="b"/>
                <a:pathLst>
                  <a:path w="5158" h="3248">
                    <a:moveTo>
                      <a:pt x="0" y="0"/>
                    </a:moveTo>
                    <a:lnTo>
                      <a:pt x="0" y="9"/>
                    </a:lnTo>
                    <a:lnTo>
                      <a:pt x="22" y="13"/>
                    </a:lnTo>
                    <a:lnTo>
                      <a:pt x="330" y="89"/>
                    </a:lnTo>
                    <a:lnTo>
                      <a:pt x="639" y="181"/>
                    </a:lnTo>
                    <a:lnTo>
                      <a:pt x="947" y="289"/>
                    </a:lnTo>
                    <a:lnTo>
                      <a:pt x="1257" y="415"/>
                    </a:lnTo>
                    <a:lnTo>
                      <a:pt x="1567" y="557"/>
                    </a:lnTo>
                    <a:lnTo>
                      <a:pt x="1879" y="717"/>
                    </a:lnTo>
                    <a:lnTo>
                      <a:pt x="2192" y="893"/>
                    </a:lnTo>
                    <a:lnTo>
                      <a:pt x="2508" y="1087"/>
                    </a:lnTo>
                    <a:lnTo>
                      <a:pt x="2826" y="1297"/>
                    </a:lnTo>
                    <a:lnTo>
                      <a:pt x="3146" y="1524"/>
                    </a:lnTo>
                    <a:lnTo>
                      <a:pt x="3471" y="1769"/>
                    </a:lnTo>
                    <a:lnTo>
                      <a:pt x="3798" y="2030"/>
                    </a:lnTo>
                    <a:lnTo>
                      <a:pt x="4130" y="2309"/>
                    </a:lnTo>
                    <a:lnTo>
                      <a:pt x="4465" y="2605"/>
                    </a:lnTo>
                    <a:lnTo>
                      <a:pt x="4806" y="2918"/>
                    </a:lnTo>
                    <a:lnTo>
                      <a:pt x="5151" y="3248"/>
                    </a:lnTo>
                    <a:lnTo>
                      <a:pt x="5158" y="3242"/>
                    </a:lnTo>
                    <a:lnTo>
                      <a:pt x="4812" y="2911"/>
                    </a:lnTo>
                    <a:lnTo>
                      <a:pt x="4471" y="2598"/>
                    </a:lnTo>
                    <a:lnTo>
                      <a:pt x="4135" y="2302"/>
                    </a:lnTo>
                    <a:lnTo>
                      <a:pt x="3804" y="2023"/>
                    </a:lnTo>
                    <a:lnTo>
                      <a:pt x="3476" y="1762"/>
                    </a:lnTo>
                    <a:lnTo>
                      <a:pt x="3152" y="1517"/>
                    </a:lnTo>
                    <a:lnTo>
                      <a:pt x="2831" y="1290"/>
                    </a:lnTo>
                    <a:lnTo>
                      <a:pt x="2512" y="1079"/>
                    </a:lnTo>
                    <a:lnTo>
                      <a:pt x="2197" y="886"/>
                    </a:lnTo>
                    <a:lnTo>
                      <a:pt x="1883" y="709"/>
                    </a:lnTo>
                    <a:lnTo>
                      <a:pt x="1571" y="550"/>
                    </a:lnTo>
                    <a:lnTo>
                      <a:pt x="1260" y="407"/>
                    </a:lnTo>
                    <a:lnTo>
                      <a:pt x="951" y="281"/>
                    </a:lnTo>
                    <a:lnTo>
                      <a:pt x="642" y="172"/>
                    </a:lnTo>
                    <a:lnTo>
                      <a:pt x="333" y="80"/>
                    </a:lnTo>
                    <a:lnTo>
                      <a:pt x="24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Group 20"/>
            <p:cNvGrpSpPr/>
            <p:nvPr/>
          </p:nvGrpSpPr>
          <p:grpSpPr>
            <a:xfrm>
              <a:off x="231840" y="4226040"/>
              <a:ext cx="2464560" cy="1282320"/>
              <a:chOff x="231840" y="4226040"/>
              <a:chExt cx="2464560" cy="1282320"/>
            </a:xfrm>
          </p:grpSpPr>
          <p:sp>
            <p:nvSpPr>
              <p:cNvPr id="31" name="Freeform 128"/>
              <p:cNvSpPr/>
              <p:nvPr/>
            </p:nvSpPr>
            <p:spPr>
              <a:xfrm>
                <a:off x="231840" y="4226040"/>
                <a:ext cx="2464560" cy="1282320"/>
              </a:xfrm>
              <a:custGeom>
                <a:avLst/>
                <a:gdLst/>
                <a:ahLst/>
                <a:rect l="l" t="t" r="r" b="b"/>
                <a:pathLst>
                  <a:path w="5158" h="3143">
                    <a:moveTo>
                      <a:pt x="0" y="0"/>
                    </a:moveTo>
                    <a:lnTo>
                      <a:pt x="0" y="9"/>
                    </a:lnTo>
                    <a:lnTo>
                      <a:pt x="105" y="24"/>
                    </a:lnTo>
                    <a:lnTo>
                      <a:pt x="385" y="80"/>
                    </a:lnTo>
                    <a:lnTo>
                      <a:pt x="665" y="151"/>
                    </a:lnTo>
                    <a:lnTo>
                      <a:pt x="946" y="239"/>
                    </a:lnTo>
                    <a:lnTo>
                      <a:pt x="1229" y="342"/>
                    </a:lnTo>
                    <a:lnTo>
                      <a:pt x="1513" y="462"/>
                    </a:lnTo>
                    <a:lnTo>
                      <a:pt x="1799" y="597"/>
                    </a:lnTo>
                    <a:lnTo>
                      <a:pt x="2087" y="749"/>
                    </a:lnTo>
                    <a:lnTo>
                      <a:pt x="2378" y="916"/>
                    </a:lnTo>
                    <a:lnTo>
                      <a:pt x="2671" y="1100"/>
                    </a:lnTo>
                    <a:lnTo>
                      <a:pt x="2968" y="1299"/>
                    </a:lnTo>
                    <a:lnTo>
                      <a:pt x="3267" y="1514"/>
                    </a:lnTo>
                    <a:lnTo>
                      <a:pt x="3571" y="1746"/>
                    </a:lnTo>
                    <a:lnTo>
                      <a:pt x="3878" y="1993"/>
                    </a:lnTo>
                    <a:lnTo>
                      <a:pt x="4189" y="2256"/>
                    </a:lnTo>
                    <a:lnTo>
                      <a:pt x="4505" y="2536"/>
                    </a:lnTo>
                    <a:lnTo>
                      <a:pt x="4826" y="2831"/>
                    </a:lnTo>
                    <a:lnTo>
                      <a:pt x="5151" y="3143"/>
                    </a:lnTo>
                    <a:lnTo>
                      <a:pt x="5158" y="3137"/>
                    </a:lnTo>
                    <a:lnTo>
                      <a:pt x="4832" y="2825"/>
                    </a:lnTo>
                    <a:lnTo>
                      <a:pt x="4511" y="2529"/>
                    </a:lnTo>
                    <a:lnTo>
                      <a:pt x="4195" y="2250"/>
                    </a:lnTo>
                    <a:lnTo>
                      <a:pt x="3883" y="1986"/>
                    </a:lnTo>
                    <a:lnTo>
                      <a:pt x="3576" y="1739"/>
                    </a:lnTo>
                    <a:lnTo>
                      <a:pt x="3273" y="1507"/>
                    </a:lnTo>
                    <a:lnTo>
                      <a:pt x="2973" y="1292"/>
                    </a:lnTo>
                    <a:lnTo>
                      <a:pt x="2676" y="1092"/>
                    </a:lnTo>
                    <a:lnTo>
                      <a:pt x="2382" y="909"/>
                    </a:lnTo>
                    <a:lnTo>
                      <a:pt x="2091" y="741"/>
                    </a:lnTo>
                    <a:lnTo>
                      <a:pt x="1803" y="589"/>
                    </a:lnTo>
                    <a:lnTo>
                      <a:pt x="1517" y="454"/>
                    </a:lnTo>
                    <a:lnTo>
                      <a:pt x="1232" y="334"/>
                    </a:lnTo>
                    <a:lnTo>
                      <a:pt x="949" y="231"/>
                    </a:lnTo>
                    <a:lnTo>
                      <a:pt x="667" y="143"/>
                    </a:lnTo>
                    <a:lnTo>
                      <a:pt x="386" y="71"/>
                    </a:lnTo>
                    <a:lnTo>
                      <a:pt x="106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Group 21"/>
            <p:cNvGrpSpPr/>
            <p:nvPr/>
          </p:nvGrpSpPr>
          <p:grpSpPr>
            <a:xfrm>
              <a:off x="231840" y="3458880"/>
              <a:ext cx="2802240" cy="1711800"/>
              <a:chOff x="231840" y="3458880"/>
              <a:chExt cx="2802240" cy="1711800"/>
            </a:xfrm>
          </p:grpSpPr>
          <p:sp>
            <p:nvSpPr>
              <p:cNvPr id="33" name="Freeform 127"/>
              <p:cNvSpPr/>
              <p:nvPr/>
            </p:nvSpPr>
            <p:spPr>
              <a:xfrm>
                <a:off x="231840" y="3458880"/>
                <a:ext cx="2802240" cy="1711800"/>
              </a:xfrm>
              <a:custGeom>
                <a:avLst/>
                <a:gdLst/>
                <a:ahLst/>
                <a:rect l="l" t="t" r="r" b="b"/>
                <a:pathLst>
                  <a:path w="5865" h="4195">
                    <a:moveTo>
                      <a:pt x="0" y="0"/>
                    </a:moveTo>
                    <a:lnTo>
                      <a:pt x="0" y="21"/>
                    </a:lnTo>
                    <a:lnTo>
                      <a:pt x="587" y="424"/>
                    </a:lnTo>
                    <a:lnTo>
                      <a:pt x="1837" y="1295"/>
                    </a:lnTo>
                    <a:lnTo>
                      <a:pt x="3777" y="2678"/>
                    </a:lnTo>
                    <a:lnTo>
                      <a:pt x="5855" y="4195"/>
                    </a:lnTo>
                    <a:lnTo>
                      <a:pt x="5865" y="4181"/>
                    </a:lnTo>
                    <a:lnTo>
                      <a:pt x="3788" y="2664"/>
                    </a:lnTo>
                    <a:lnTo>
                      <a:pt x="1848" y="1280"/>
                    </a:lnTo>
                    <a:lnTo>
                      <a:pt x="597" y="4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22"/>
            <p:cNvGrpSpPr/>
            <p:nvPr/>
          </p:nvGrpSpPr>
          <p:grpSpPr>
            <a:xfrm>
              <a:off x="231840" y="3695760"/>
              <a:ext cx="2801520" cy="1473120"/>
              <a:chOff x="231840" y="3695760"/>
              <a:chExt cx="2801520" cy="1473120"/>
            </a:xfrm>
          </p:grpSpPr>
          <p:sp>
            <p:nvSpPr>
              <p:cNvPr id="35" name="Freeform 126"/>
              <p:cNvSpPr/>
              <p:nvPr/>
            </p:nvSpPr>
            <p:spPr>
              <a:xfrm>
                <a:off x="231840" y="3695760"/>
                <a:ext cx="2801520" cy="1473120"/>
              </a:xfrm>
              <a:custGeom>
                <a:avLst/>
                <a:gdLst/>
                <a:ahLst/>
                <a:rect l="l" t="t" r="r" b="b"/>
                <a:pathLst>
                  <a:path w="5863" h="3610">
                    <a:moveTo>
                      <a:pt x="0" y="0"/>
                    </a:moveTo>
                    <a:lnTo>
                      <a:pt x="0" y="10"/>
                    </a:lnTo>
                    <a:lnTo>
                      <a:pt x="445" y="223"/>
                    </a:lnTo>
                    <a:lnTo>
                      <a:pt x="1103" y="560"/>
                    </a:lnTo>
                    <a:lnTo>
                      <a:pt x="1761" y="919"/>
                    </a:lnTo>
                    <a:lnTo>
                      <a:pt x="2422" y="1302"/>
                    </a:lnTo>
                    <a:lnTo>
                      <a:pt x="3087" y="1710"/>
                    </a:lnTo>
                    <a:lnTo>
                      <a:pt x="3761" y="2144"/>
                    </a:lnTo>
                    <a:lnTo>
                      <a:pt x="4446" y="2604"/>
                    </a:lnTo>
                    <a:lnTo>
                      <a:pt x="5144" y="3093"/>
                    </a:lnTo>
                    <a:lnTo>
                      <a:pt x="5858" y="3610"/>
                    </a:lnTo>
                    <a:lnTo>
                      <a:pt x="5863" y="3603"/>
                    </a:lnTo>
                    <a:lnTo>
                      <a:pt x="5149" y="3085"/>
                    </a:lnTo>
                    <a:lnTo>
                      <a:pt x="4451" y="2597"/>
                    </a:lnTo>
                    <a:lnTo>
                      <a:pt x="3766" y="2136"/>
                    </a:lnTo>
                    <a:lnTo>
                      <a:pt x="3092" y="1703"/>
                    </a:lnTo>
                    <a:lnTo>
                      <a:pt x="2426" y="1295"/>
                    </a:lnTo>
                    <a:lnTo>
                      <a:pt x="1765" y="912"/>
                    </a:lnTo>
                    <a:lnTo>
                      <a:pt x="1107" y="552"/>
                    </a:lnTo>
                    <a:lnTo>
                      <a:pt x="449" y="2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Group 23"/>
            <p:cNvGrpSpPr/>
            <p:nvPr/>
          </p:nvGrpSpPr>
          <p:grpSpPr>
            <a:xfrm>
              <a:off x="231840" y="3858120"/>
              <a:ext cx="2801520" cy="1311120"/>
              <a:chOff x="231840" y="3858120"/>
              <a:chExt cx="2801520" cy="1311120"/>
            </a:xfrm>
          </p:grpSpPr>
          <p:sp>
            <p:nvSpPr>
              <p:cNvPr id="37" name="Freeform 125"/>
              <p:cNvSpPr/>
              <p:nvPr/>
            </p:nvSpPr>
            <p:spPr>
              <a:xfrm>
                <a:off x="231840" y="3858120"/>
                <a:ext cx="2801520" cy="1311120"/>
              </a:xfrm>
              <a:custGeom>
                <a:avLst/>
                <a:gdLst/>
                <a:ahLst/>
                <a:rect l="l" t="t" r="r" b="b"/>
                <a:pathLst>
                  <a:path w="5863" h="3213">
                    <a:moveTo>
                      <a:pt x="0" y="0"/>
                    </a:moveTo>
                    <a:lnTo>
                      <a:pt x="0" y="10"/>
                    </a:lnTo>
                    <a:lnTo>
                      <a:pt x="66" y="30"/>
                    </a:lnTo>
                    <a:lnTo>
                      <a:pt x="580" y="211"/>
                    </a:lnTo>
                    <a:lnTo>
                      <a:pt x="1094" y="412"/>
                    </a:lnTo>
                    <a:lnTo>
                      <a:pt x="1607" y="635"/>
                    </a:lnTo>
                    <a:lnTo>
                      <a:pt x="2121" y="879"/>
                    </a:lnTo>
                    <a:lnTo>
                      <a:pt x="2637" y="1145"/>
                    </a:lnTo>
                    <a:lnTo>
                      <a:pt x="3158" y="1433"/>
                    </a:lnTo>
                    <a:lnTo>
                      <a:pt x="3683" y="1743"/>
                    </a:lnTo>
                    <a:lnTo>
                      <a:pt x="4214" y="2076"/>
                    </a:lnTo>
                    <a:lnTo>
                      <a:pt x="4753" y="2431"/>
                    </a:lnTo>
                    <a:lnTo>
                      <a:pt x="5300" y="2811"/>
                    </a:lnTo>
                    <a:lnTo>
                      <a:pt x="5858" y="3213"/>
                    </a:lnTo>
                    <a:lnTo>
                      <a:pt x="5863" y="3206"/>
                    </a:lnTo>
                    <a:lnTo>
                      <a:pt x="5305" y="2803"/>
                    </a:lnTo>
                    <a:lnTo>
                      <a:pt x="4758" y="2424"/>
                    </a:lnTo>
                    <a:lnTo>
                      <a:pt x="4219" y="2068"/>
                    </a:lnTo>
                    <a:lnTo>
                      <a:pt x="3687" y="1735"/>
                    </a:lnTo>
                    <a:lnTo>
                      <a:pt x="3162" y="1425"/>
                    </a:lnTo>
                    <a:lnTo>
                      <a:pt x="2642" y="1137"/>
                    </a:lnTo>
                    <a:lnTo>
                      <a:pt x="2125" y="871"/>
                    </a:lnTo>
                    <a:lnTo>
                      <a:pt x="1610" y="627"/>
                    </a:lnTo>
                    <a:lnTo>
                      <a:pt x="1097" y="404"/>
                    </a:lnTo>
                    <a:lnTo>
                      <a:pt x="583" y="202"/>
                    </a:lnTo>
                    <a:lnTo>
                      <a:pt x="68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" name="Group 24"/>
            <p:cNvGrpSpPr/>
            <p:nvPr/>
          </p:nvGrpSpPr>
          <p:grpSpPr>
            <a:xfrm>
              <a:off x="231840" y="3959640"/>
              <a:ext cx="2801520" cy="1209600"/>
              <a:chOff x="231840" y="3959640"/>
              <a:chExt cx="2801520" cy="1209600"/>
            </a:xfrm>
          </p:grpSpPr>
          <p:sp>
            <p:nvSpPr>
              <p:cNvPr id="39" name="Freeform 124"/>
              <p:cNvSpPr/>
              <p:nvPr/>
            </p:nvSpPr>
            <p:spPr>
              <a:xfrm>
                <a:off x="231840" y="3959640"/>
                <a:ext cx="2801520" cy="1209600"/>
              </a:xfrm>
              <a:custGeom>
                <a:avLst/>
                <a:gdLst/>
                <a:ahLst/>
                <a:rect l="l" t="t" r="r" b="b"/>
                <a:pathLst>
                  <a:path w="5863" h="2965">
                    <a:moveTo>
                      <a:pt x="0" y="0"/>
                    </a:moveTo>
                    <a:lnTo>
                      <a:pt x="0" y="9"/>
                    </a:lnTo>
                    <a:lnTo>
                      <a:pt x="101" y="31"/>
                    </a:lnTo>
                    <a:lnTo>
                      <a:pt x="498" y="133"/>
                    </a:lnTo>
                    <a:lnTo>
                      <a:pt x="896" y="252"/>
                    </a:lnTo>
                    <a:lnTo>
                      <a:pt x="1293" y="387"/>
                    </a:lnTo>
                    <a:lnTo>
                      <a:pt x="1691" y="538"/>
                    </a:lnTo>
                    <a:lnTo>
                      <a:pt x="2091" y="705"/>
                    </a:lnTo>
                    <a:lnTo>
                      <a:pt x="2493" y="889"/>
                    </a:lnTo>
                    <a:lnTo>
                      <a:pt x="2898" y="1090"/>
                    </a:lnTo>
                    <a:lnTo>
                      <a:pt x="3306" y="1307"/>
                    </a:lnTo>
                    <a:lnTo>
                      <a:pt x="3718" y="1541"/>
                    </a:lnTo>
                    <a:lnTo>
                      <a:pt x="4134" y="1791"/>
                    </a:lnTo>
                    <a:lnTo>
                      <a:pt x="4556" y="2059"/>
                    </a:lnTo>
                    <a:lnTo>
                      <a:pt x="4983" y="2344"/>
                    </a:lnTo>
                    <a:lnTo>
                      <a:pt x="5417" y="2645"/>
                    </a:lnTo>
                    <a:lnTo>
                      <a:pt x="5858" y="2964"/>
                    </a:lnTo>
                    <a:lnTo>
                      <a:pt x="5863" y="2957"/>
                    </a:lnTo>
                    <a:lnTo>
                      <a:pt x="5422" y="2638"/>
                    </a:lnTo>
                    <a:lnTo>
                      <a:pt x="4988" y="2336"/>
                    </a:lnTo>
                    <a:lnTo>
                      <a:pt x="4561" y="2052"/>
                    </a:lnTo>
                    <a:lnTo>
                      <a:pt x="4139" y="1784"/>
                    </a:lnTo>
                    <a:lnTo>
                      <a:pt x="3722" y="1533"/>
                    </a:lnTo>
                    <a:lnTo>
                      <a:pt x="3310" y="1299"/>
                    </a:lnTo>
                    <a:lnTo>
                      <a:pt x="2902" y="1082"/>
                    </a:lnTo>
                    <a:lnTo>
                      <a:pt x="2497" y="881"/>
                    </a:lnTo>
                    <a:lnTo>
                      <a:pt x="2095" y="697"/>
                    </a:lnTo>
                    <a:lnTo>
                      <a:pt x="1695" y="530"/>
                    </a:lnTo>
                    <a:lnTo>
                      <a:pt x="1296" y="378"/>
                    </a:lnTo>
                    <a:lnTo>
                      <a:pt x="898" y="243"/>
                    </a:lnTo>
                    <a:lnTo>
                      <a:pt x="501" y="125"/>
                    </a:lnTo>
                    <a:lnTo>
                      <a:pt x="103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" name="Group 25"/>
            <p:cNvGrpSpPr/>
            <p:nvPr/>
          </p:nvGrpSpPr>
          <p:grpSpPr>
            <a:xfrm>
              <a:off x="231840" y="4021920"/>
              <a:ext cx="2801520" cy="1146960"/>
              <a:chOff x="231840" y="4021920"/>
              <a:chExt cx="2801520" cy="1146960"/>
            </a:xfrm>
          </p:grpSpPr>
          <p:sp>
            <p:nvSpPr>
              <p:cNvPr id="41" name="Freeform 123"/>
              <p:cNvSpPr/>
              <p:nvPr/>
            </p:nvSpPr>
            <p:spPr>
              <a:xfrm>
                <a:off x="231840" y="4021920"/>
                <a:ext cx="2801520" cy="1146960"/>
              </a:xfrm>
              <a:custGeom>
                <a:avLst/>
                <a:gdLst/>
                <a:ahLst/>
                <a:rect l="l" t="t" r="r" b="b"/>
                <a:pathLst>
                  <a:path w="5863" h="2811">
                    <a:moveTo>
                      <a:pt x="0" y="0"/>
                    </a:moveTo>
                    <a:lnTo>
                      <a:pt x="0" y="9"/>
                    </a:lnTo>
                    <a:lnTo>
                      <a:pt x="46" y="16"/>
                    </a:lnTo>
                    <a:lnTo>
                      <a:pt x="393" y="81"/>
                    </a:lnTo>
                    <a:lnTo>
                      <a:pt x="740" y="160"/>
                    </a:lnTo>
                    <a:lnTo>
                      <a:pt x="1087" y="254"/>
                    </a:lnTo>
                    <a:lnTo>
                      <a:pt x="1436" y="362"/>
                    </a:lnTo>
                    <a:lnTo>
                      <a:pt x="1786" y="485"/>
                    </a:lnTo>
                    <a:lnTo>
                      <a:pt x="2138" y="623"/>
                    </a:lnTo>
                    <a:lnTo>
                      <a:pt x="2492" y="775"/>
                    </a:lnTo>
                    <a:lnTo>
                      <a:pt x="2849" y="942"/>
                    </a:lnTo>
                    <a:lnTo>
                      <a:pt x="3210" y="1124"/>
                    </a:lnTo>
                    <a:lnTo>
                      <a:pt x="3574" y="1321"/>
                    </a:lnTo>
                    <a:lnTo>
                      <a:pt x="3942" y="1532"/>
                    </a:lnTo>
                    <a:lnTo>
                      <a:pt x="4314" y="1758"/>
                    </a:lnTo>
                    <a:lnTo>
                      <a:pt x="4692" y="1999"/>
                    </a:lnTo>
                    <a:lnTo>
                      <a:pt x="5075" y="2255"/>
                    </a:lnTo>
                    <a:lnTo>
                      <a:pt x="5463" y="2526"/>
                    </a:lnTo>
                    <a:lnTo>
                      <a:pt x="5858" y="2811"/>
                    </a:lnTo>
                    <a:lnTo>
                      <a:pt x="5863" y="2804"/>
                    </a:lnTo>
                    <a:lnTo>
                      <a:pt x="5468" y="2518"/>
                    </a:lnTo>
                    <a:lnTo>
                      <a:pt x="5080" y="2248"/>
                    </a:lnTo>
                    <a:lnTo>
                      <a:pt x="4697" y="1992"/>
                    </a:lnTo>
                    <a:lnTo>
                      <a:pt x="4319" y="1751"/>
                    </a:lnTo>
                    <a:lnTo>
                      <a:pt x="3946" y="1524"/>
                    </a:lnTo>
                    <a:lnTo>
                      <a:pt x="3578" y="1313"/>
                    </a:lnTo>
                    <a:lnTo>
                      <a:pt x="3214" y="1116"/>
                    </a:lnTo>
                    <a:lnTo>
                      <a:pt x="2853" y="935"/>
                    </a:lnTo>
                    <a:lnTo>
                      <a:pt x="2496" y="767"/>
                    </a:lnTo>
                    <a:lnTo>
                      <a:pt x="2141" y="615"/>
                    </a:lnTo>
                    <a:lnTo>
                      <a:pt x="1789" y="477"/>
                    </a:lnTo>
                    <a:lnTo>
                      <a:pt x="1438" y="354"/>
                    </a:lnTo>
                    <a:lnTo>
                      <a:pt x="1090" y="246"/>
                    </a:lnTo>
                    <a:lnTo>
                      <a:pt x="742" y="152"/>
                    </a:lnTo>
                    <a:lnTo>
                      <a:pt x="395" y="72"/>
                    </a:lnTo>
                    <a:lnTo>
                      <a:pt x="48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Group 26"/>
            <p:cNvGrpSpPr/>
            <p:nvPr/>
          </p:nvGrpSpPr>
          <p:grpSpPr>
            <a:xfrm>
              <a:off x="231840" y="4077720"/>
              <a:ext cx="2801520" cy="1091520"/>
              <a:chOff x="231840" y="4077720"/>
              <a:chExt cx="2801520" cy="1091520"/>
            </a:xfrm>
          </p:grpSpPr>
          <p:sp>
            <p:nvSpPr>
              <p:cNvPr id="43" name="Freeform 122"/>
              <p:cNvSpPr/>
              <p:nvPr/>
            </p:nvSpPr>
            <p:spPr>
              <a:xfrm>
                <a:off x="231840" y="4077720"/>
                <a:ext cx="2801520" cy="1091520"/>
              </a:xfrm>
              <a:custGeom>
                <a:avLst/>
                <a:gdLst/>
                <a:ahLst/>
                <a:rect l="l" t="t" r="r" b="b"/>
                <a:pathLst>
                  <a:path w="5863" h="2675">
                    <a:moveTo>
                      <a:pt x="0" y="0"/>
                    </a:moveTo>
                    <a:lnTo>
                      <a:pt x="0" y="9"/>
                    </a:lnTo>
                    <a:lnTo>
                      <a:pt x="244" y="35"/>
                    </a:lnTo>
                    <a:lnTo>
                      <a:pt x="553" y="82"/>
                    </a:lnTo>
                    <a:lnTo>
                      <a:pt x="863" y="143"/>
                    </a:lnTo>
                    <a:lnTo>
                      <a:pt x="1175" y="217"/>
                    </a:lnTo>
                    <a:lnTo>
                      <a:pt x="1489" y="305"/>
                    </a:lnTo>
                    <a:lnTo>
                      <a:pt x="1804" y="406"/>
                    </a:lnTo>
                    <a:lnTo>
                      <a:pt x="2122" y="521"/>
                    </a:lnTo>
                    <a:lnTo>
                      <a:pt x="2442" y="649"/>
                    </a:lnTo>
                    <a:lnTo>
                      <a:pt x="2765" y="790"/>
                    </a:lnTo>
                    <a:lnTo>
                      <a:pt x="3092" y="946"/>
                    </a:lnTo>
                    <a:lnTo>
                      <a:pt x="3422" y="1114"/>
                    </a:lnTo>
                    <a:lnTo>
                      <a:pt x="3755" y="1297"/>
                    </a:lnTo>
                    <a:lnTo>
                      <a:pt x="4093" y="1492"/>
                    </a:lnTo>
                    <a:lnTo>
                      <a:pt x="4436" y="1702"/>
                    </a:lnTo>
                    <a:lnTo>
                      <a:pt x="4783" y="1925"/>
                    </a:lnTo>
                    <a:lnTo>
                      <a:pt x="5136" y="2161"/>
                    </a:lnTo>
                    <a:lnTo>
                      <a:pt x="5494" y="2411"/>
                    </a:lnTo>
                    <a:lnTo>
                      <a:pt x="5858" y="2674"/>
                    </a:lnTo>
                    <a:lnTo>
                      <a:pt x="5863" y="2667"/>
                    </a:lnTo>
                    <a:lnTo>
                      <a:pt x="5499" y="2404"/>
                    </a:lnTo>
                    <a:lnTo>
                      <a:pt x="5141" y="2154"/>
                    </a:lnTo>
                    <a:lnTo>
                      <a:pt x="4788" y="1917"/>
                    </a:lnTo>
                    <a:lnTo>
                      <a:pt x="4441" y="1694"/>
                    </a:lnTo>
                    <a:lnTo>
                      <a:pt x="4098" y="1485"/>
                    </a:lnTo>
                    <a:lnTo>
                      <a:pt x="3760" y="1289"/>
                    </a:lnTo>
                    <a:lnTo>
                      <a:pt x="3426" y="1107"/>
                    </a:lnTo>
                    <a:lnTo>
                      <a:pt x="3095" y="938"/>
                    </a:lnTo>
                    <a:lnTo>
                      <a:pt x="2769" y="782"/>
                    </a:lnTo>
                    <a:lnTo>
                      <a:pt x="2445" y="641"/>
                    </a:lnTo>
                    <a:lnTo>
                      <a:pt x="2125" y="512"/>
                    </a:lnTo>
                    <a:lnTo>
                      <a:pt x="1807" y="398"/>
                    </a:lnTo>
                    <a:lnTo>
                      <a:pt x="1491" y="296"/>
                    </a:lnTo>
                    <a:lnTo>
                      <a:pt x="1177" y="209"/>
                    </a:lnTo>
                    <a:lnTo>
                      <a:pt x="865" y="135"/>
                    </a:lnTo>
                    <a:lnTo>
                      <a:pt x="555" y="74"/>
                    </a:lnTo>
                    <a:lnTo>
                      <a:pt x="245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" name="Group 27"/>
            <p:cNvGrpSpPr/>
            <p:nvPr/>
          </p:nvGrpSpPr>
          <p:grpSpPr>
            <a:xfrm>
              <a:off x="231840" y="4128480"/>
              <a:ext cx="2801520" cy="1040400"/>
              <a:chOff x="231840" y="4128480"/>
              <a:chExt cx="2801520" cy="1040400"/>
            </a:xfrm>
          </p:grpSpPr>
          <p:sp>
            <p:nvSpPr>
              <p:cNvPr id="45" name="Freeform 121"/>
              <p:cNvSpPr/>
              <p:nvPr/>
            </p:nvSpPr>
            <p:spPr>
              <a:xfrm>
                <a:off x="231840" y="4128480"/>
                <a:ext cx="2801520" cy="1040400"/>
              </a:xfrm>
              <a:custGeom>
                <a:avLst/>
                <a:gdLst/>
                <a:ahLst/>
                <a:rect l="l" t="t" r="r" b="b"/>
                <a:pathLst>
                  <a:path w="5863" h="2550">
                    <a:moveTo>
                      <a:pt x="0" y="0"/>
                    </a:moveTo>
                    <a:lnTo>
                      <a:pt x="0" y="9"/>
                    </a:lnTo>
                    <a:lnTo>
                      <a:pt x="85" y="11"/>
                    </a:lnTo>
                    <a:lnTo>
                      <a:pt x="364" y="30"/>
                    </a:lnTo>
                    <a:lnTo>
                      <a:pt x="644" y="62"/>
                    </a:lnTo>
                    <a:lnTo>
                      <a:pt x="926" y="107"/>
                    </a:lnTo>
                    <a:lnTo>
                      <a:pt x="1209" y="164"/>
                    </a:lnTo>
                    <a:lnTo>
                      <a:pt x="1495" y="235"/>
                    </a:lnTo>
                    <a:lnTo>
                      <a:pt x="1783" y="318"/>
                    </a:lnTo>
                    <a:lnTo>
                      <a:pt x="2074" y="413"/>
                    </a:lnTo>
                    <a:lnTo>
                      <a:pt x="2368" y="522"/>
                    </a:lnTo>
                    <a:lnTo>
                      <a:pt x="2665" y="643"/>
                    </a:lnTo>
                    <a:lnTo>
                      <a:pt x="2965" y="777"/>
                    </a:lnTo>
                    <a:lnTo>
                      <a:pt x="3268" y="923"/>
                    </a:lnTo>
                    <a:lnTo>
                      <a:pt x="3576" y="1082"/>
                    </a:lnTo>
                    <a:lnTo>
                      <a:pt x="3887" y="1254"/>
                    </a:lnTo>
                    <a:lnTo>
                      <a:pt x="4203" y="1439"/>
                    </a:lnTo>
                    <a:lnTo>
                      <a:pt x="4524" y="1636"/>
                    </a:lnTo>
                    <a:lnTo>
                      <a:pt x="4850" y="1845"/>
                    </a:lnTo>
                    <a:lnTo>
                      <a:pt x="5180" y="2068"/>
                    </a:lnTo>
                    <a:lnTo>
                      <a:pt x="5516" y="2303"/>
                    </a:lnTo>
                    <a:lnTo>
                      <a:pt x="5858" y="2550"/>
                    </a:lnTo>
                    <a:lnTo>
                      <a:pt x="5863" y="2543"/>
                    </a:lnTo>
                    <a:lnTo>
                      <a:pt x="5521" y="2296"/>
                    </a:lnTo>
                    <a:lnTo>
                      <a:pt x="5185" y="2061"/>
                    </a:lnTo>
                    <a:lnTo>
                      <a:pt x="4854" y="1838"/>
                    </a:lnTo>
                    <a:lnTo>
                      <a:pt x="4529" y="1628"/>
                    </a:lnTo>
                    <a:lnTo>
                      <a:pt x="4208" y="1431"/>
                    </a:lnTo>
                    <a:lnTo>
                      <a:pt x="3892" y="1246"/>
                    </a:lnTo>
                    <a:lnTo>
                      <a:pt x="3580" y="1075"/>
                    </a:lnTo>
                    <a:lnTo>
                      <a:pt x="3272" y="915"/>
                    </a:lnTo>
                    <a:lnTo>
                      <a:pt x="2968" y="769"/>
                    </a:lnTo>
                    <a:lnTo>
                      <a:pt x="2668" y="635"/>
                    </a:lnTo>
                    <a:lnTo>
                      <a:pt x="2371" y="514"/>
                    </a:lnTo>
                    <a:lnTo>
                      <a:pt x="2077" y="405"/>
                    </a:lnTo>
                    <a:lnTo>
                      <a:pt x="1786" y="309"/>
                    </a:lnTo>
                    <a:lnTo>
                      <a:pt x="1498" y="226"/>
                    </a:lnTo>
                    <a:lnTo>
                      <a:pt x="1211" y="156"/>
                    </a:lnTo>
                    <a:lnTo>
                      <a:pt x="927" y="98"/>
                    </a:lnTo>
                    <a:lnTo>
                      <a:pt x="645" y="53"/>
                    </a:lnTo>
                    <a:lnTo>
                      <a:pt x="364" y="21"/>
                    </a:lnTo>
                    <a:lnTo>
                      <a:pt x="85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Group 28"/>
            <p:cNvGrpSpPr/>
            <p:nvPr/>
          </p:nvGrpSpPr>
          <p:grpSpPr>
            <a:xfrm>
              <a:off x="231840" y="3319560"/>
              <a:ext cx="3084840" cy="1467720"/>
              <a:chOff x="231840" y="3319560"/>
              <a:chExt cx="3084840" cy="1467720"/>
            </a:xfrm>
          </p:grpSpPr>
          <p:sp>
            <p:nvSpPr>
              <p:cNvPr id="47" name="Freeform 120"/>
              <p:cNvSpPr/>
              <p:nvPr/>
            </p:nvSpPr>
            <p:spPr>
              <a:xfrm>
                <a:off x="231840" y="3319560"/>
                <a:ext cx="3084840" cy="1467720"/>
              </a:xfrm>
              <a:custGeom>
                <a:avLst/>
                <a:gdLst/>
                <a:ahLst/>
                <a:rect l="l" t="t" r="r" b="b"/>
                <a:pathLst>
                  <a:path w="6456" h="3597">
                    <a:moveTo>
                      <a:pt x="0" y="0"/>
                    </a:moveTo>
                    <a:lnTo>
                      <a:pt x="0" y="10"/>
                    </a:lnTo>
                    <a:lnTo>
                      <a:pt x="130" y="85"/>
                    </a:lnTo>
                    <a:lnTo>
                      <a:pt x="2789" y="1588"/>
                    </a:lnTo>
                    <a:lnTo>
                      <a:pt x="6452" y="3598"/>
                    </a:lnTo>
                    <a:lnTo>
                      <a:pt x="6456" y="3590"/>
                    </a:lnTo>
                    <a:lnTo>
                      <a:pt x="2793" y="1581"/>
                    </a:lnTo>
                    <a:lnTo>
                      <a:pt x="135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29"/>
            <p:cNvGrpSpPr/>
            <p:nvPr/>
          </p:nvGrpSpPr>
          <p:grpSpPr>
            <a:xfrm>
              <a:off x="231840" y="3560400"/>
              <a:ext cx="3084840" cy="1227240"/>
              <a:chOff x="231840" y="3560400"/>
              <a:chExt cx="3084840" cy="1227240"/>
            </a:xfrm>
          </p:grpSpPr>
          <p:sp>
            <p:nvSpPr>
              <p:cNvPr id="49" name="Freeform 119"/>
              <p:cNvSpPr/>
              <p:nvPr/>
            </p:nvSpPr>
            <p:spPr>
              <a:xfrm>
                <a:off x="231840" y="3560400"/>
                <a:ext cx="3084840" cy="1227240"/>
              </a:xfrm>
              <a:custGeom>
                <a:avLst/>
                <a:gdLst/>
                <a:ahLst/>
                <a:rect l="l" t="t" r="r" b="b"/>
                <a:pathLst>
                  <a:path w="6456" h="3008">
                    <a:moveTo>
                      <a:pt x="0" y="0"/>
                    </a:moveTo>
                    <a:lnTo>
                      <a:pt x="0" y="9"/>
                    </a:lnTo>
                    <a:lnTo>
                      <a:pt x="638" y="252"/>
                    </a:lnTo>
                    <a:lnTo>
                      <a:pt x="1332" y="532"/>
                    </a:lnTo>
                    <a:lnTo>
                      <a:pt x="2030" y="828"/>
                    </a:lnTo>
                    <a:lnTo>
                      <a:pt x="2735" y="1142"/>
                    </a:lnTo>
                    <a:lnTo>
                      <a:pt x="3449" y="1474"/>
                    </a:lnTo>
                    <a:lnTo>
                      <a:pt x="4175" y="1826"/>
                    </a:lnTo>
                    <a:lnTo>
                      <a:pt x="4915" y="2198"/>
                    </a:lnTo>
                    <a:lnTo>
                      <a:pt x="5673" y="2592"/>
                    </a:lnTo>
                    <a:lnTo>
                      <a:pt x="6452" y="3008"/>
                    </a:lnTo>
                    <a:lnTo>
                      <a:pt x="6456" y="3000"/>
                    </a:lnTo>
                    <a:lnTo>
                      <a:pt x="5677" y="2584"/>
                    </a:lnTo>
                    <a:lnTo>
                      <a:pt x="4919" y="2190"/>
                    </a:lnTo>
                    <a:lnTo>
                      <a:pt x="4178" y="1818"/>
                    </a:lnTo>
                    <a:lnTo>
                      <a:pt x="3453" y="1466"/>
                    </a:lnTo>
                    <a:lnTo>
                      <a:pt x="2739" y="1134"/>
                    </a:lnTo>
                    <a:lnTo>
                      <a:pt x="2034" y="820"/>
                    </a:lnTo>
                    <a:lnTo>
                      <a:pt x="1336" y="523"/>
                    </a:lnTo>
                    <a:lnTo>
                      <a:pt x="641" y="2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30"/>
            <p:cNvGrpSpPr/>
            <p:nvPr/>
          </p:nvGrpSpPr>
          <p:grpSpPr>
            <a:xfrm>
              <a:off x="231840" y="3730680"/>
              <a:ext cx="3085560" cy="1058760"/>
              <a:chOff x="231840" y="3730680"/>
              <a:chExt cx="3085560" cy="1058760"/>
            </a:xfrm>
          </p:grpSpPr>
          <p:sp>
            <p:nvSpPr>
              <p:cNvPr id="51" name="Freeform 118"/>
              <p:cNvSpPr/>
              <p:nvPr/>
            </p:nvSpPr>
            <p:spPr>
              <a:xfrm>
                <a:off x="231840" y="3730680"/>
                <a:ext cx="3085560" cy="1058760"/>
              </a:xfrm>
              <a:custGeom>
                <a:avLst/>
                <a:gdLst/>
                <a:ahLst/>
                <a:rect l="l" t="t" r="r" b="b"/>
                <a:pathLst>
                  <a:path w="6458" h="2595">
                    <a:moveTo>
                      <a:pt x="0" y="0"/>
                    </a:moveTo>
                    <a:lnTo>
                      <a:pt x="0" y="18"/>
                    </a:lnTo>
                    <a:lnTo>
                      <a:pt x="504" y="140"/>
                    </a:lnTo>
                    <a:lnTo>
                      <a:pt x="1021" y="280"/>
                    </a:lnTo>
                    <a:lnTo>
                      <a:pt x="1540" y="437"/>
                    </a:lnTo>
                    <a:lnTo>
                      <a:pt x="2061" y="609"/>
                    </a:lnTo>
                    <a:lnTo>
                      <a:pt x="2585" y="798"/>
                    </a:lnTo>
                    <a:lnTo>
                      <a:pt x="3114" y="1003"/>
                    </a:lnTo>
                    <a:lnTo>
                      <a:pt x="3648" y="1225"/>
                    </a:lnTo>
                    <a:lnTo>
                      <a:pt x="4190" y="1464"/>
                    </a:lnTo>
                    <a:lnTo>
                      <a:pt x="4740" y="1721"/>
                    </a:lnTo>
                    <a:lnTo>
                      <a:pt x="5299" y="1994"/>
                    </a:lnTo>
                    <a:lnTo>
                      <a:pt x="5869" y="2286"/>
                    </a:lnTo>
                    <a:lnTo>
                      <a:pt x="6450" y="2595"/>
                    </a:lnTo>
                    <a:lnTo>
                      <a:pt x="6458" y="2579"/>
                    </a:lnTo>
                    <a:lnTo>
                      <a:pt x="5877" y="2270"/>
                    </a:lnTo>
                    <a:lnTo>
                      <a:pt x="5307" y="1979"/>
                    </a:lnTo>
                    <a:lnTo>
                      <a:pt x="4748" y="1705"/>
                    </a:lnTo>
                    <a:lnTo>
                      <a:pt x="4197" y="1448"/>
                    </a:lnTo>
                    <a:lnTo>
                      <a:pt x="3655" y="1209"/>
                    </a:lnTo>
                    <a:lnTo>
                      <a:pt x="3120" y="987"/>
                    </a:lnTo>
                    <a:lnTo>
                      <a:pt x="2591" y="781"/>
                    </a:lnTo>
                    <a:lnTo>
                      <a:pt x="2066" y="592"/>
                    </a:lnTo>
                    <a:lnTo>
                      <a:pt x="1545" y="420"/>
                    </a:lnTo>
                    <a:lnTo>
                      <a:pt x="1026" y="263"/>
                    </a:lnTo>
                    <a:lnTo>
                      <a:pt x="509" y="1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31"/>
            <p:cNvGrpSpPr/>
            <p:nvPr/>
          </p:nvGrpSpPr>
          <p:grpSpPr>
            <a:xfrm>
              <a:off x="231840" y="3842640"/>
              <a:ext cx="3084840" cy="945000"/>
              <a:chOff x="231840" y="3842640"/>
              <a:chExt cx="3084840" cy="945000"/>
            </a:xfrm>
          </p:grpSpPr>
          <p:sp>
            <p:nvSpPr>
              <p:cNvPr id="53" name="Freeform 117"/>
              <p:cNvSpPr/>
              <p:nvPr/>
            </p:nvSpPr>
            <p:spPr>
              <a:xfrm>
                <a:off x="231840" y="3842640"/>
                <a:ext cx="3084840" cy="945000"/>
              </a:xfrm>
              <a:custGeom>
                <a:avLst/>
                <a:gdLst/>
                <a:ahLst/>
                <a:rect l="l" t="t" r="r" b="b"/>
                <a:pathLst>
                  <a:path w="6456" h="2316">
                    <a:moveTo>
                      <a:pt x="0" y="0"/>
                    </a:moveTo>
                    <a:lnTo>
                      <a:pt x="0" y="9"/>
                    </a:lnTo>
                    <a:lnTo>
                      <a:pt x="309" y="51"/>
                    </a:lnTo>
                    <a:lnTo>
                      <a:pt x="697" y="117"/>
                    </a:lnTo>
                    <a:lnTo>
                      <a:pt x="1086" y="194"/>
                    </a:lnTo>
                    <a:lnTo>
                      <a:pt x="1476" y="284"/>
                    </a:lnTo>
                    <a:lnTo>
                      <a:pt x="1868" y="386"/>
                    </a:lnTo>
                    <a:lnTo>
                      <a:pt x="2262" y="500"/>
                    </a:lnTo>
                    <a:lnTo>
                      <a:pt x="2660" y="626"/>
                    </a:lnTo>
                    <a:lnTo>
                      <a:pt x="3061" y="764"/>
                    </a:lnTo>
                    <a:lnTo>
                      <a:pt x="3466" y="915"/>
                    </a:lnTo>
                    <a:lnTo>
                      <a:pt x="3875" y="1078"/>
                    </a:lnTo>
                    <a:lnTo>
                      <a:pt x="4289" y="1253"/>
                    </a:lnTo>
                    <a:lnTo>
                      <a:pt x="4709" y="1441"/>
                    </a:lnTo>
                    <a:lnTo>
                      <a:pt x="5134" y="1641"/>
                    </a:lnTo>
                    <a:lnTo>
                      <a:pt x="5566" y="1853"/>
                    </a:lnTo>
                    <a:lnTo>
                      <a:pt x="6005" y="2078"/>
                    </a:lnTo>
                    <a:lnTo>
                      <a:pt x="6452" y="2316"/>
                    </a:lnTo>
                    <a:lnTo>
                      <a:pt x="6456" y="2308"/>
                    </a:lnTo>
                    <a:lnTo>
                      <a:pt x="6009" y="2070"/>
                    </a:lnTo>
                    <a:lnTo>
                      <a:pt x="5570" y="1845"/>
                    </a:lnTo>
                    <a:lnTo>
                      <a:pt x="5138" y="1633"/>
                    </a:lnTo>
                    <a:lnTo>
                      <a:pt x="4712" y="1433"/>
                    </a:lnTo>
                    <a:lnTo>
                      <a:pt x="4293" y="1245"/>
                    </a:lnTo>
                    <a:lnTo>
                      <a:pt x="3878" y="1069"/>
                    </a:lnTo>
                    <a:lnTo>
                      <a:pt x="3469" y="907"/>
                    </a:lnTo>
                    <a:lnTo>
                      <a:pt x="3064" y="756"/>
                    </a:lnTo>
                    <a:lnTo>
                      <a:pt x="2663" y="617"/>
                    </a:lnTo>
                    <a:lnTo>
                      <a:pt x="2265" y="491"/>
                    </a:lnTo>
                    <a:lnTo>
                      <a:pt x="1870" y="377"/>
                    </a:lnTo>
                    <a:lnTo>
                      <a:pt x="1478" y="275"/>
                    </a:lnTo>
                    <a:lnTo>
                      <a:pt x="1087" y="186"/>
                    </a:lnTo>
                    <a:lnTo>
                      <a:pt x="698" y="108"/>
                    </a:lnTo>
                    <a:lnTo>
                      <a:pt x="310" y="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32"/>
            <p:cNvGrpSpPr/>
            <p:nvPr/>
          </p:nvGrpSpPr>
          <p:grpSpPr>
            <a:xfrm>
              <a:off x="231840" y="3910680"/>
              <a:ext cx="3085560" cy="878400"/>
              <a:chOff x="231840" y="3910680"/>
              <a:chExt cx="3085560" cy="878400"/>
            </a:xfrm>
          </p:grpSpPr>
          <p:sp>
            <p:nvSpPr>
              <p:cNvPr id="55" name="Freeform 116"/>
              <p:cNvSpPr/>
              <p:nvPr/>
            </p:nvSpPr>
            <p:spPr>
              <a:xfrm>
                <a:off x="231840" y="3910680"/>
                <a:ext cx="3085560" cy="878400"/>
              </a:xfrm>
              <a:custGeom>
                <a:avLst/>
                <a:gdLst/>
                <a:ahLst/>
                <a:rect l="l" t="t" r="r" b="b"/>
                <a:pathLst>
                  <a:path w="6458" h="2153">
                    <a:moveTo>
                      <a:pt x="0" y="0"/>
                    </a:moveTo>
                    <a:lnTo>
                      <a:pt x="0" y="18"/>
                    </a:lnTo>
                    <a:lnTo>
                      <a:pt x="27" y="19"/>
                    </a:lnTo>
                    <a:lnTo>
                      <a:pt x="361" y="46"/>
                    </a:lnTo>
                    <a:lnTo>
                      <a:pt x="696" y="84"/>
                    </a:lnTo>
                    <a:lnTo>
                      <a:pt x="1032" y="132"/>
                    </a:lnTo>
                    <a:lnTo>
                      <a:pt x="1369" y="192"/>
                    </a:lnTo>
                    <a:lnTo>
                      <a:pt x="1709" y="262"/>
                    </a:lnTo>
                    <a:lnTo>
                      <a:pt x="2050" y="342"/>
                    </a:lnTo>
                    <a:lnTo>
                      <a:pt x="2394" y="434"/>
                    </a:lnTo>
                    <a:lnTo>
                      <a:pt x="2742" y="536"/>
                    </a:lnTo>
                    <a:lnTo>
                      <a:pt x="3092" y="649"/>
                    </a:lnTo>
                    <a:lnTo>
                      <a:pt x="3446" y="773"/>
                    </a:lnTo>
                    <a:lnTo>
                      <a:pt x="3804" y="908"/>
                    </a:lnTo>
                    <a:lnTo>
                      <a:pt x="4167" y="1054"/>
                    </a:lnTo>
                    <a:lnTo>
                      <a:pt x="4533" y="1210"/>
                    </a:lnTo>
                    <a:lnTo>
                      <a:pt x="4905" y="1377"/>
                    </a:lnTo>
                    <a:lnTo>
                      <a:pt x="5283" y="1555"/>
                    </a:lnTo>
                    <a:lnTo>
                      <a:pt x="5666" y="1744"/>
                    </a:lnTo>
                    <a:lnTo>
                      <a:pt x="6054" y="1943"/>
                    </a:lnTo>
                    <a:lnTo>
                      <a:pt x="6450" y="2154"/>
                    </a:lnTo>
                    <a:lnTo>
                      <a:pt x="6458" y="2138"/>
                    </a:lnTo>
                    <a:lnTo>
                      <a:pt x="6063" y="1928"/>
                    </a:lnTo>
                    <a:lnTo>
                      <a:pt x="5673" y="1728"/>
                    </a:lnTo>
                    <a:lnTo>
                      <a:pt x="5290" y="1539"/>
                    </a:lnTo>
                    <a:lnTo>
                      <a:pt x="4913" y="1361"/>
                    </a:lnTo>
                    <a:lnTo>
                      <a:pt x="4541" y="1194"/>
                    </a:lnTo>
                    <a:lnTo>
                      <a:pt x="4173" y="1037"/>
                    </a:lnTo>
                    <a:lnTo>
                      <a:pt x="3811" y="892"/>
                    </a:lnTo>
                    <a:lnTo>
                      <a:pt x="3452" y="757"/>
                    </a:lnTo>
                    <a:lnTo>
                      <a:pt x="3098" y="633"/>
                    </a:lnTo>
                    <a:lnTo>
                      <a:pt x="2747" y="519"/>
                    </a:lnTo>
                    <a:lnTo>
                      <a:pt x="2399" y="417"/>
                    </a:lnTo>
                    <a:lnTo>
                      <a:pt x="2055" y="325"/>
                    </a:lnTo>
                    <a:lnTo>
                      <a:pt x="1712" y="244"/>
                    </a:lnTo>
                    <a:lnTo>
                      <a:pt x="1373" y="174"/>
                    </a:lnTo>
                    <a:lnTo>
                      <a:pt x="1035" y="115"/>
                    </a:lnTo>
                    <a:lnTo>
                      <a:pt x="698" y="66"/>
                    </a:lnTo>
                    <a:lnTo>
                      <a:pt x="363" y="29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33"/>
            <p:cNvGrpSpPr/>
            <p:nvPr/>
          </p:nvGrpSpPr>
          <p:grpSpPr>
            <a:xfrm>
              <a:off x="231840" y="3975120"/>
              <a:ext cx="3084840" cy="812880"/>
              <a:chOff x="231840" y="3975120"/>
              <a:chExt cx="3084840" cy="812880"/>
            </a:xfrm>
          </p:grpSpPr>
          <p:sp>
            <p:nvSpPr>
              <p:cNvPr id="57" name="Freeform 114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397" y="9"/>
                    </a:moveTo>
                    <a:lnTo>
                      <a:pt x="27" y="9"/>
                    </a:lnTo>
                    <a:lnTo>
                      <a:pt x="322" y="14"/>
                    </a:lnTo>
                    <a:lnTo>
                      <a:pt x="619" y="29"/>
                    </a:lnTo>
                    <a:lnTo>
                      <a:pt x="916" y="54"/>
                    </a:lnTo>
                    <a:lnTo>
                      <a:pt x="1216" y="89"/>
                    </a:lnTo>
                    <a:lnTo>
                      <a:pt x="1518" y="134"/>
                    </a:lnTo>
                    <a:lnTo>
                      <a:pt x="1822" y="188"/>
                    </a:lnTo>
                    <a:lnTo>
                      <a:pt x="2128" y="253"/>
                    </a:lnTo>
                    <a:lnTo>
                      <a:pt x="2437" y="328"/>
                    </a:lnTo>
                    <a:lnTo>
                      <a:pt x="2749" y="412"/>
                    </a:lnTo>
                    <a:lnTo>
                      <a:pt x="3065" y="507"/>
                    </a:lnTo>
                    <a:lnTo>
                      <a:pt x="3384" y="611"/>
                    </a:lnTo>
                    <a:lnTo>
                      <a:pt x="3706" y="725"/>
                    </a:lnTo>
                    <a:lnTo>
                      <a:pt x="4033" y="849"/>
                    </a:lnTo>
                    <a:lnTo>
                      <a:pt x="4364" y="983"/>
                    </a:lnTo>
                    <a:lnTo>
                      <a:pt x="4699" y="1127"/>
                    </a:lnTo>
                    <a:lnTo>
                      <a:pt x="5039" y="1280"/>
                    </a:lnTo>
                    <a:lnTo>
                      <a:pt x="5384" y="1443"/>
                    </a:lnTo>
                    <a:lnTo>
                      <a:pt x="5734" y="1616"/>
                    </a:lnTo>
                    <a:lnTo>
                      <a:pt x="6090" y="1799"/>
                    </a:lnTo>
                    <a:lnTo>
                      <a:pt x="6452" y="1992"/>
                    </a:lnTo>
                    <a:lnTo>
                      <a:pt x="6456" y="1984"/>
                    </a:lnTo>
                    <a:lnTo>
                      <a:pt x="6094" y="1791"/>
                    </a:lnTo>
                    <a:lnTo>
                      <a:pt x="5738" y="1609"/>
                    </a:lnTo>
                    <a:lnTo>
                      <a:pt x="5388" y="1436"/>
                    </a:lnTo>
                    <a:lnTo>
                      <a:pt x="5043" y="1272"/>
                    </a:lnTo>
                    <a:lnTo>
                      <a:pt x="4703" y="1119"/>
                    </a:lnTo>
                    <a:lnTo>
                      <a:pt x="4367" y="975"/>
                    </a:lnTo>
                    <a:lnTo>
                      <a:pt x="4036" y="841"/>
                    </a:lnTo>
                    <a:lnTo>
                      <a:pt x="3709" y="717"/>
                    </a:lnTo>
                    <a:lnTo>
                      <a:pt x="3386" y="603"/>
                    </a:lnTo>
                    <a:lnTo>
                      <a:pt x="3067" y="498"/>
                    </a:lnTo>
                    <a:lnTo>
                      <a:pt x="2752" y="404"/>
                    </a:lnTo>
                    <a:lnTo>
                      <a:pt x="2439" y="319"/>
                    </a:lnTo>
                    <a:lnTo>
                      <a:pt x="2130" y="245"/>
                    </a:lnTo>
                    <a:lnTo>
                      <a:pt x="1823" y="180"/>
                    </a:lnTo>
                    <a:lnTo>
                      <a:pt x="1519" y="125"/>
                    </a:lnTo>
                    <a:lnTo>
                      <a:pt x="1217" y="80"/>
                    </a:lnTo>
                    <a:lnTo>
                      <a:pt x="917" y="45"/>
                    </a:lnTo>
                    <a:lnTo>
                      <a:pt x="619" y="20"/>
                    </a:lnTo>
                    <a:lnTo>
                      <a:pt x="397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15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27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27" y="9"/>
                    </a:lnTo>
                    <a:lnTo>
                      <a:pt x="397" y="9"/>
                    </a:lnTo>
                    <a:lnTo>
                      <a:pt x="322" y="5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34"/>
            <p:cNvGrpSpPr/>
            <p:nvPr/>
          </p:nvGrpSpPr>
          <p:grpSpPr>
            <a:xfrm>
              <a:off x="231840" y="4025880"/>
              <a:ext cx="3084840" cy="761760"/>
              <a:chOff x="231840" y="4025880"/>
              <a:chExt cx="3084840" cy="761760"/>
            </a:xfrm>
          </p:grpSpPr>
          <p:sp>
            <p:nvSpPr>
              <p:cNvPr id="60" name="Freeform 112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856" y="9"/>
                    </a:moveTo>
                    <a:lnTo>
                      <a:pt x="510" y="9"/>
                    </a:lnTo>
                    <a:lnTo>
                      <a:pt x="777" y="14"/>
                    </a:lnTo>
                    <a:lnTo>
                      <a:pt x="1047" y="28"/>
                    </a:lnTo>
                    <a:lnTo>
                      <a:pt x="1319" y="51"/>
                    </a:lnTo>
                    <a:lnTo>
                      <a:pt x="1593" y="84"/>
                    </a:lnTo>
                    <a:lnTo>
                      <a:pt x="1869" y="126"/>
                    </a:lnTo>
                    <a:lnTo>
                      <a:pt x="2149" y="178"/>
                    </a:lnTo>
                    <a:lnTo>
                      <a:pt x="2431" y="239"/>
                    </a:lnTo>
                    <a:lnTo>
                      <a:pt x="2716" y="309"/>
                    </a:lnTo>
                    <a:lnTo>
                      <a:pt x="3005" y="388"/>
                    </a:lnTo>
                    <a:lnTo>
                      <a:pt x="3297" y="477"/>
                    </a:lnTo>
                    <a:lnTo>
                      <a:pt x="3593" y="575"/>
                    </a:lnTo>
                    <a:lnTo>
                      <a:pt x="3892" y="682"/>
                    </a:lnTo>
                    <a:lnTo>
                      <a:pt x="4196" y="798"/>
                    </a:lnTo>
                    <a:lnTo>
                      <a:pt x="4504" y="924"/>
                    </a:lnTo>
                    <a:lnTo>
                      <a:pt x="4816" y="1058"/>
                    </a:lnTo>
                    <a:lnTo>
                      <a:pt x="5133" y="1202"/>
                    </a:lnTo>
                    <a:lnTo>
                      <a:pt x="5455" y="1354"/>
                    </a:lnTo>
                    <a:lnTo>
                      <a:pt x="5782" y="1516"/>
                    </a:lnTo>
                    <a:lnTo>
                      <a:pt x="6114" y="1687"/>
                    </a:lnTo>
                    <a:lnTo>
                      <a:pt x="6452" y="1867"/>
                    </a:lnTo>
                    <a:lnTo>
                      <a:pt x="6456" y="1859"/>
                    </a:lnTo>
                    <a:lnTo>
                      <a:pt x="6118" y="1679"/>
                    </a:lnTo>
                    <a:lnTo>
                      <a:pt x="5786" y="1508"/>
                    </a:lnTo>
                    <a:lnTo>
                      <a:pt x="5459" y="1346"/>
                    </a:lnTo>
                    <a:lnTo>
                      <a:pt x="5137" y="1194"/>
                    </a:lnTo>
                    <a:lnTo>
                      <a:pt x="4820" y="1050"/>
                    </a:lnTo>
                    <a:lnTo>
                      <a:pt x="4507" y="915"/>
                    </a:lnTo>
                    <a:lnTo>
                      <a:pt x="4199" y="790"/>
                    </a:lnTo>
                    <a:lnTo>
                      <a:pt x="3895" y="674"/>
                    </a:lnTo>
                    <a:lnTo>
                      <a:pt x="3595" y="567"/>
                    </a:lnTo>
                    <a:lnTo>
                      <a:pt x="3299" y="469"/>
                    </a:lnTo>
                    <a:lnTo>
                      <a:pt x="3007" y="380"/>
                    </a:lnTo>
                    <a:lnTo>
                      <a:pt x="2718" y="300"/>
                    </a:lnTo>
                    <a:lnTo>
                      <a:pt x="2433" y="230"/>
                    </a:lnTo>
                    <a:lnTo>
                      <a:pt x="2150" y="169"/>
                    </a:lnTo>
                    <a:lnTo>
                      <a:pt x="1871" y="118"/>
                    </a:lnTo>
                    <a:lnTo>
                      <a:pt x="1594" y="75"/>
                    </a:lnTo>
                    <a:lnTo>
                      <a:pt x="1320" y="43"/>
                    </a:lnTo>
                    <a:lnTo>
                      <a:pt x="1048" y="19"/>
                    </a:lnTo>
                    <a:lnTo>
                      <a:pt x="856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13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510" y="0"/>
                    </a:moveTo>
                    <a:lnTo>
                      <a:pt x="159" y="8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159" y="17"/>
                    </a:lnTo>
                    <a:lnTo>
                      <a:pt x="510" y="9"/>
                    </a:lnTo>
                    <a:lnTo>
                      <a:pt x="856" y="9"/>
                    </a:lnTo>
                    <a:lnTo>
                      <a:pt x="778" y="5"/>
                    </a:lnTo>
                    <a:lnTo>
                      <a:pt x="51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35"/>
            <p:cNvGrpSpPr/>
            <p:nvPr/>
          </p:nvGrpSpPr>
          <p:grpSpPr>
            <a:xfrm>
              <a:off x="231840" y="3181320"/>
              <a:ext cx="3316320" cy="1164600"/>
              <a:chOff x="231840" y="3181320"/>
              <a:chExt cx="3316320" cy="1164600"/>
            </a:xfrm>
          </p:grpSpPr>
          <p:sp>
            <p:nvSpPr>
              <p:cNvPr id="63" name="Freeform 111"/>
              <p:cNvSpPr/>
              <p:nvPr/>
            </p:nvSpPr>
            <p:spPr>
              <a:xfrm>
                <a:off x="231840" y="3181320"/>
                <a:ext cx="3316320" cy="1164600"/>
              </a:xfrm>
              <a:custGeom>
                <a:avLst/>
                <a:gdLst/>
                <a:ahLst/>
                <a:rect l="l" t="t" r="r" b="b"/>
                <a:pathLst>
                  <a:path w="6941" h="2854">
                    <a:moveTo>
                      <a:pt x="0" y="0"/>
                    </a:moveTo>
                    <a:lnTo>
                      <a:pt x="0" y="10"/>
                    </a:lnTo>
                    <a:lnTo>
                      <a:pt x="261" y="134"/>
                    </a:lnTo>
                    <a:lnTo>
                      <a:pt x="940" y="447"/>
                    </a:lnTo>
                    <a:lnTo>
                      <a:pt x="1629" y="754"/>
                    </a:lnTo>
                    <a:lnTo>
                      <a:pt x="2330" y="1057"/>
                    </a:lnTo>
                    <a:lnTo>
                      <a:pt x="3046" y="1357"/>
                    </a:lnTo>
                    <a:lnTo>
                      <a:pt x="3779" y="1654"/>
                    </a:lnTo>
                    <a:lnTo>
                      <a:pt x="4532" y="1952"/>
                    </a:lnTo>
                    <a:lnTo>
                      <a:pt x="5308" y="2250"/>
                    </a:lnTo>
                    <a:lnTo>
                      <a:pt x="6938" y="2854"/>
                    </a:lnTo>
                    <a:lnTo>
                      <a:pt x="6941" y="2846"/>
                    </a:lnTo>
                    <a:lnTo>
                      <a:pt x="5311" y="2242"/>
                    </a:lnTo>
                    <a:lnTo>
                      <a:pt x="4535" y="1944"/>
                    </a:lnTo>
                    <a:lnTo>
                      <a:pt x="3782" y="1646"/>
                    </a:lnTo>
                    <a:lnTo>
                      <a:pt x="3049" y="1348"/>
                    </a:lnTo>
                    <a:lnTo>
                      <a:pt x="2334" y="1049"/>
                    </a:lnTo>
                    <a:lnTo>
                      <a:pt x="1633" y="746"/>
                    </a:lnTo>
                    <a:lnTo>
                      <a:pt x="944" y="439"/>
                    </a:lnTo>
                    <a:lnTo>
                      <a:pt x="265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36"/>
            <p:cNvGrpSpPr/>
            <p:nvPr/>
          </p:nvGrpSpPr>
          <p:grpSpPr>
            <a:xfrm>
              <a:off x="231840" y="3419280"/>
              <a:ext cx="3318840" cy="931680"/>
              <a:chOff x="231840" y="3419280"/>
              <a:chExt cx="3318840" cy="931680"/>
            </a:xfrm>
          </p:grpSpPr>
          <p:sp>
            <p:nvSpPr>
              <p:cNvPr id="65" name="Freeform 110"/>
              <p:cNvSpPr/>
              <p:nvPr/>
            </p:nvSpPr>
            <p:spPr>
              <a:xfrm>
                <a:off x="231840" y="3419280"/>
                <a:ext cx="3318840" cy="931680"/>
              </a:xfrm>
              <a:custGeom>
                <a:avLst/>
                <a:gdLst/>
                <a:ahLst/>
                <a:rect l="l" t="t" r="r" b="b"/>
                <a:pathLst>
                  <a:path w="6946" h="2283">
                    <a:moveTo>
                      <a:pt x="0" y="0"/>
                    </a:moveTo>
                    <a:lnTo>
                      <a:pt x="0" y="36"/>
                    </a:lnTo>
                    <a:lnTo>
                      <a:pt x="71" y="56"/>
                    </a:lnTo>
                    <a:lnTo>
                      <a:pt x="792" y="260"/>
                    </a:lnTo>
                    <a:lnTo>
                      <a:pt x="1516" y="473"/>
                    </a:lnTo>
                    <a:lnTo>
                      <a:pt x="2247" y="696"/>
                    </a:lnTo>
                    <a:lnTo>
                      <a:pt x="3741" y="1174"/>
                    </a:lnTo>
                    <a:lnTo>
                      <a:pt x="5295" y="1701"/>
                    </a:lnTo>
                    <a:lnTo>
                      <a:pt x="6934" y="2283"/>
                    </a:lnTo>
                    <a:lnTo>
                      <a:pt x="6946" y="2250"/>
                    </a:lnTo>
                    <a:lnTo>
                      <a:pt x="5307" y="1668"/>
                    </a:lnTo>
                    <a:lnTo>
                      <a:pt x="3752" y="1141"/>
                    </a:lnTo>
                    <a:lnTo>
                      <a:pt x="2258" y="662"/>
                    </a:lnTo>
                    <a:lnTo>
                      <a:pt x="1526" y="439"/>
                    </a:lnTo>
                    <a:lnTo>
                      <a:pt x="802" y="226"/>
                    </a:lnTo>
                    <a:lnTo>
                      <a:pt x="81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37"/>
            <p:cNvGrpSpPr/>
            <p:nvPr/>
          </p:nvGrpSpPr>
          <p:grpSpPr>
            <a:xfrm>
              <a:off x="231840" y="3604320"/>
              <a:ext cx="3316320" cy="741240"/>
              <a:chOff x="231840" y="3604320"/>
              <a:chExt cx="3316320" cy="741240"/>
            </a:xfrm>
          </p:grpSpPr>
          <p:sp>
            <p:nvSpPr>
              <p:cNvPr id="67" name="Freeform 109"/>
              <p:cNvSpPr/>
              <p:nvPr/>
            </p:nvSpPr>
            <p:spPr>
              <a:xfrm>
                <a:off x="231840" y="3604320"/>
                <a:ext cx="3316320" cy="741240"/>
              </a:xfrm>
              <a:custGeom>
                <a:avLst/>
                <a:gdLst/>
                <a:ahLst/>
                <a:rect l="l" t="t" r="r" b="b"/>
                <a:pathLst>
                  <a:path w="6941" h="1817">
                    <a:moveTo>
                      <a:pt x="0" y="0"/>
                    </a:moveTo>
                    <a:lnTo>
                      <a:pt x="0" y="9"/>
                    </a:lnTo>
                    <a:lnTo>
                      <a:pt x="134" y="26"/>
                    </a:lnTo>
                    <a:lnTo>
                      <a:pt x="629" y="100"/>
                    </a:lnTo>
                    <a:lnTo>
                      <a:pt x="1125" y="184"/>
                    </a:lnTo>
                    <a:lnTo>
                      <a:pt x="1624" y="279"/>
                    </a:lnTo>
                    <a:lnTo>
                      <a:pt x="2125" y="384"/>
                    </a:lnTo>
                    <a:lnTo>
                      <a:pt x="2631" y="500"/>
                    </a:lnTo>
                    <a:lnTo>
                      <a:pt x="3142" y="626"/>
                    </a:lnTo>
                    <a:lnTo>
                      <a:pt x="3659" y="763"/>
                    </a:lnTo>
                    <a:lnTo>
                      <a:pt x="4183" y="911"/>
                    </a:lnTo>
                    <a:lnTo>
                      <a:pt x="4715" y="1070"/>
                    </a:lnTo>
                    <a:lnTo>
                      <a:pt x="5255" y="1240"/>
                    </a:lnTo>
                    <a:lnTo>
                      <a:pt x="5805" y="1421"/>
                    </a:lnTo>
                    <a:lnTo>
                      <a:pt x="6366" y="1613"/>
                    </a:lnTo>
                    <a:lnTo>
                      <a:pt x="6938" y="1817"/>
                    </a:lnTo>
                    <a:lnTo>
                      <a:pt x="6941" y="1809"/>
                    </a:lnTo>
                    <a:lnTo>
                      <a:pt x="6369" y="1605"/>
                    </a:lnTo>
                    <a:lnTo>
                      <a:pt x="5808" y="1412"/>
                    </a:lnTo>
                    <a:lnTo>
                      <a:pt x="5258" y="1231"/>
                    </a:lnTo>
                    <a:lnTo>
                      <a:pt x="4717" y="1061"/>
                    </a:lnTo>
                    <a:lnTo>
                      <a:pt x="4185" y="902"/>
                    </a:lnTo>
                    <a:lnTo>
                      <a:pt x="3661" y="754"/>
                    </a:lnTo>
                    <a:lnTo>
                      <a:pt x="3144" y="617"/>
                    </a:lnTo>
                    <a:lnTo>
                      <a:pt x="2633" y="491"/>
                    </a:lnTo>
                    <a:lnTo>
                      <a:pt x="2127" y="375"/>
                    </a:lnTo>
                    <a:lnTo>
                      <a:pt x="1625" y="270"/>
                    </a:lnTo>
                    <a:lnTo>
                      <a:pt x="1127" y="176"/>
                    </a:lnTo>
                    <a:lnTo>
                      <a:pt x="630" y="92"/>
                    </a:lnTo>
                    <a:lnTo>
                      <a:pt x="135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38"/>
            <p:cNvGrpSpPr/>
            <p:nvPr/>
          </p:nvGrpSpPr>
          <p:grpSpPr>
            <a:xfrm>
              <a:off x="231840" y="3720600"/>
              <a:ext cx="3317400" cy="627120"/>
              <a:chOff x="231840" y="3720600"/>
              <a:chExt cx="3317400" cy="627120"/>
            </a:xfrm>
          </p:grpSpPr>
          <p:sp>
            <p:nvSpPr>
              <p:cNvPr id="69" name="Freeform 108"/>
              <p:cNvSpPr/>
              <p:nvPr/>
            </p:nvSpPr>
            <p:spPr>
              <a:xfrm>
                <a:off x="231840" y="3720600"/>
                <a:ext cx="3317400" cy="627120"/>
              </a:xfrm>
              <a:custGeom>
                <a:avLst/>
                <a:gdLst/>
                <a:ahLst/>
                <a:rect l="l" t="t" r="r" b="b"/>
                <a:pathLst>
                  <a:path w="6943" h="1537">
                    <a:moveTo>
                      <a:pt x="0" y="0"/>
                    </a:moveTo>
                    <a:lnTo>
                      <a:pt x="0" y="18"/>
                    </a:lnTo>
                    <a:lnTo>
                      <a:pt x="126" y="22"/>
                    </a:lnTo>
                    <a:lnTo>
                      <a:pt x="479" y="41"/>
                    </a:lnTo>
                    <a:lnTo>
                      <a:pt x="834" y="68"/>
                    </a:lnTo>
                    <a:lnTo>
                      <a:pt x="1189" y="102"/>
                    </a:lnTo>
                    <a:lnTo>
                      <a:pt x="1547" y="144"/>
                    </a:lnTo>
                    <a:lnTo>
                      <a:pt x="1907" y="194"/>
                    </a:lnTo>
                    <a:lnTo>
                      <a:pt x="2269" y="251"/>
                    </a:lnTo>
                    <a:lnTo>
                      <a:pt x="2634" y="316"/>
                    </a:lnTo>
                    <a:lnTo>
                      <a:pt x="3002" y="389"/>
                    </a:lnTo>
                    <a:lnTo>
                      <a:pt x="3374" y="469"/>
                    </a:lnTo>
                    <a:lnTo>
                      <a:pt x="3750" y="557"/>
                    </a:lnTo>
                    <a:lnTo>
                      <a:pt x="4130" y="653"/>
                    </a:lnTo>
                    <a:lnTo>
                      <a:pt x="4514" y="756"/>
                    </a:lnTo>
                    <a:lnTo>
                      <a:pt x="4903" y="867"/>
                    </a:lnTo>
                    <a:lnTo>
                      <a:pt x="5298" y="986"/>
                    </a:lnTo>
                    <a:lnTo>
                      <a:pt x="5699" y="1112"/>
                    </a:lnTo>
                    <a:lnTo>
                      <a:pt x="6105" y="1246"/>
                    </a:lnTo>
                    <a:lnTo>
                      <a:pt x="6518" y="1388"/>
                    </a:lnTo>
                    <a:lnTo>
                      <a:pt x="6937" y="1537"/>
                    </a:lnTo>
                    <a:lnTo>
                      <a:pt x="6943" y="1520"/>
                    </a:lnTo>
                    <a:lnTo>
                      <a:pt x="6523" y="1371"/>
                    </a:lnTo>
                    <a:lnTo>
                      <a:pt x="6110" y="1229"/>
                    </a:lnTo>
                    <a:lnTo>
                      <a:pt x="5704" y="1095"/>
                    </a:lnTo>
                    <a:lnTo>
                      <a:pt x="5303" y="969"/>
                    </a:lnTo>
                    <a:lnTo>
                      <a:pt x="4908" y="850"/>
                    </a:lnTo>
                    <a:lnTo>
                      <a:pt x="4519" y="739"/>
                    </a:lnTo>
                    <a:lnTo>
                      <a:pt x="4134" y="636"/>
                    </a:lnTo>
                    <a:lnTo>
                      <a:pt x="3754" y="540"/>
                    </a:lnTo>
                    <a:lnTo>
                      <a:pt x="3378" y="452"/>
                    </a:lnTo>
                    <a:lnTo>
                      <a:pt x="3006" y="372"/>
                    </a:lnTo>
                    <a:lnTo>
                      <a:pt x="2637" y="299"/>
                    </a:lnTo>
                    <a:lnTo>
                      <a:pt x="2272" y="234"/>
                    </a:lnTo>
                    <a:lnTo>
                      <a:pt x="1909" y="176"/>
                    </a:lnTo>
                    <a:lnTo>
                      <a:pt x="1549" y="127"/>
                    </a:lnTo>
                    <a:lnTo>
                      <a:pt x="1191" y="85"/>
                    </a:lnTo>
                    <a:lnTo>
                      <a:pt x="835" y="50"/>
                    </a:lnTo>
                    <a:lnTo>
                      <a:pt x="480" y="23"/>
                    </a:lnTo>
                    <a:lnTo>
                      <a:pt x="126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39"/>
            <p:cNvGrpSpPr/>
            <p:nvPr/>
          </p:nvGrpSpPr>
          <p:grpSpPr>
            <a:xfrm>
              <a:off x="231840" y="3795480"/>
              <a:ext cx="3316320" cy="550440"/>
              <a:chOff x="231840" y="3795480"/>
              <a:chExt cx="3316320" cy="550440"/>
            </a:xfrm>
          </p:grpSpPr>
          <p:sp>
            <p:nvSpPr>
              <p:cNvPr id="71" name="Freeform 106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879" y="8"/>
                    </a:moveTo>
                    <a:lnTo>
                      <a:pt x="419" y="8"/>
                    </a:lnTo>
                    <a:lnTo>
                      <a:pt x="719" y="12"/>
                    </a:lnTo>
                    <a:lnTo>
                      <a:pt x="1021" y="22"/>
                    </a:lnTo>
                    <a:lnTo>
                      <a:pt x="1324" y="39"/>
                    </a:lnTo>
                    <a:lnTo>
                      <a:pt x="1629" y="63"/>
                    </a:lnTo>
                    <a:lnTo>
                      <a:pt x="1936" y="93"/>
                    </a:lnTo>
                    <a:lnTo>
                      <a:pt x="2245" y="130"/>
                    </a:lnTo>
                    <a:lnTo>
                      <a:pt x="2557" y="174"/>
                    </a:lnTo>
                    <a:lnTo>
                      <a:pt x="2871" y="225"/>
                    </a:lnTo>
                    <a:lnTo>
                      <a:pt x="3189" y="282"/>
                    </a:lnTo>
                    <a:lnTo>
                      <a:pt x="3509" y="346"/>
                    </a:lnTo>
                    <a:lnTo>
                      <a:pt x="3833" y="417"/>
                    </a:lnTo>
                    <a:lnTo>
                      <a:pt x="4161" y="494"/>
                    </a:lnTo>
                    <a:lnTo>
                      <a:pt x="4492" y="578"/>
                    </a:lnTo>
                    <a:lnTo>
                      <a:pt x="4827" y="668"/>
                    </a:lnTo>
                    <a:lnTo>
                      <a:pt x="5167" y="765"/>
                    </a:lnTo>
                    <a:lnTo>
                      <a:pt x="5512" y="869"/>
                    </a:lnTo>
                    <a:lnTo>
                      <a:pt x="5861" y="979"/>
                    </a:lnTo>
                    <a:lnTo>
                      <a:pt x="6215" y="1096"/>
                    </a:lnTo>
                    <a:lnTo>
                      <a:pt x="6574" y="1219"/>
                    </a:lnTo>
                    <a:lnTo>
                      <a:pt x="6938" y="1349"/>
                    </a:lnTo>
                    <a:lnTo>
                      <a:pt x="6941" y="1341"/>
                    </a:lnTo>
                    <a:lnTo>
                      <a:pt x="6577" y="1211"/>
                    </a:lnTo>
                    <a:lnTo>
                      <a:pt x="6217" y="1087"/>
                    </a:lnTo>
                    <a:lnTo>
                      <a:pt x="5863" y="971"/>
                    </a:lnTo>
                    <a:lnTo>
                      <a:pt x="5514" y="860"/>
                    </a:lnTo>
                    <a:lnTo>
                      <a:pt x="5170" y="757"/>
                    </a:lnTo>
                    <a:lnTo>
                      <a:pt x="4830" y="660"/>
                    </a:lnTo>
                    <a:lnTo>
                      <a:pt x="4494" y="569"/>
                    </a:lnTo>
                    <a:lnTo>
                      <a:pt x="4163" y="485"/>
                    </a:lnTo>
                    <a:lnTo>
                      <a:pt x="3835" y="408"/>
                    </a:lnTo>
                    <a:lnTo>
                      <a:pt x="3511" y="337"/>
                    </a:lnTo>
                    <a:lnTo>
                      <a:pt x="3190" y="273"/>
                    </a:lnTo>
                    <a:lnTo>
                      <a:pt x="2873" y="216"/>
                    </a:lnTo>
                    <a:lnTo>
                      <a:pt x="2558" y="165"/>
                    </a:lnTo>
                    <a:lnTo>
                      <a:pt x="2246" y="122"/>
                    </a:lnTo>
                    <a:lnTo>
                      <a:pt x="1937" y="84"/>
                    </a:lnTo>
                    <a:lnTo>
                      <a:pt x="1630" y="54"/>
                    </a:lnTo>
                    <a:lnTo>
                      <a:pt x="1324" y="30"/>
                    </a:lnTo>
                    <a:lnTo>
                      <a:pt x="1021" y="13"/>
                    </a:lnTo>
                    <a:lnTo>
                      <a:pt x="879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7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419" y="0"/>
                    </a:moveTo>
                    <a:lnTo>
                      <a:pt x="31" y="5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31" y="14"/>
                    </a:lnTo>
                    <a:lnTo>
                      <a:pt x="419" y="8"/>
                    </a:lnTo>
                    <a:lnTo>
                      <a:pt x="879" y="8"/>
                    </a:lnTo>
                    <a:lnTo>
                      <a:pt x="719" y="3"/>
                    </a:lnTo>
                    <a:lnTo>
                      <a:pt x="41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40"/>
            <p:cNvGrpSpPr/>
            <p:nvPr/>
          </p:nvGrpSpPr>
          <p:grpSpPr>
            <a:xfrm>
              <a:off x="231840" y="3846240"/>
              <a:ext cx="3316320" cy="499320"/>
              <a:chOff x="231840" y="3846240"/>
              <a:chExt cx="3316320" cy="499320"/>
            </a:xfrm>
          </p:grpSpPr>
          <p:sp>
            <p:nvSpPr>
              <p:cNvPr id="74" name="Freeform 104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500" y="9"/>
                    </a:moveTo>
                    <a:lnTo>
                      <a:pt x="1069" y="9"/>
                    </a:lnTo>
                    <a:lnTo>
                      <a:pt x="1336" y="12"/>
                    </a:lnTo>
                    <a:lnTo>
                      <a:pt x="1604" y="22"/>
                    </a:lnTo>
                    <a:lnTo>
                      <a:pt x="1875" y="37"/>
                    </a:lnTo>
                    <a:lnTo>
                      <a:pt x="2147" y="59"/>
                    </a:lnTo>
                    <a:lnTo>
                      <a:pt x="2422" y="86"/>
                    </a:lnTo>
                    <a:lnTo>
                      <a:pt x="2700" y="120"/>
                    </a:lnTo>
                    <a:lnTo>
                      <a:pt x="2980" y="160"/>
                    </a:lnTo>
                    <a:lnTo>
                      <a:pt x="3263" y="206"/>
                    </a:lnTo>
                    <a:lnTo>
                      <a:pt x="3549" y="258"/>
                    </a:lnTo>
                    <a:lnTo>
                      <a:pt x="3838" y="317"/>
                    </a:lnTo>
                    <a:lnTo>
                      <a:pt x="4131" y="381"/>
                    </a:lnTo>
                    <a:lnTo>
                      <a:pt x="4427" y="451"/>
                    </a:lnTo>
                    <a:lnTo>
                      <a:pt x="4726" y="527"/>
                    </a:lnTo>
                    <a:lnTo>
                      <a:pt x="5030" y="609"/>
                    </a:lnTo>
                    <a:lnTo>
                      <a:pt x="5337" y="697"/>
                    </a:lnTo>
                    <a:lnTo>
                      <a:pt x="5649" y="791"/>
                    </a:lnTo>
                    <a:lnTo>
                      <a:pt x="5964" y="890"/>
                    </a:lnTo>
                    <a:lnTo>
                      <a:pt x="6284" y="996"/>
                    </a:lnTo>
                    <a:lnTo>
                      <a:pt x="6609" y="1108"/>
                    </a:lnTo>
                    <a:lnTo>
                      <a:pt x="6938" y="1225"/>
                    </a:lnTo>
                    <a:lnTo>
                      <a:pt x="6941" y="1217"/>
                    </a:lnTo>
                    <a:lnTo>
                      <a:pt x="6612" y="1099"/>
                    </a:lnTo>
                    <a:lnTo>
                      <a:pt x="6287" y="988"/>
                    </a:lnTo>
                    <a:lnTo>
                      <a:pt x="5967" y="882"/>
                    </a:lnTo>
                    <a:lnTo>
                      <a:pt x="5651" y="782"/>
                    </a:lnTo>
                    <a:lnTo>
                      <a:pt x="5340" y="688"/>
                    </a:lnTo>
                    <a:lnTo>
                      <a:pt x="5032" y="600"/>
                    </a:lnTo>
                    <a:lnTo>
                      <a:pt x="4729" y="518"/>
                    </a:lnTo>
                    <a:lnTo>
                      <a:pt x="4429" y="442"/>
                    </a:lnTo>
                    <a:lnTo>
                      <a:pt x="4133" y="372"/>
                    </a:lnTo>
                    <a:lnTo>
                      <a:pt x="3840" y="308"/>
                    </a:lnTo>
                    <a:lnTo>
                      <a:pt x="3551" y="250"/>
                    </a:lnTo>
                    <a:lnTo>
                      <a:pt x="3265" y="198"/>
                    </a:lnTo>
                    <a:lnTo>
                      <a:pt x="2982" y="152"/>
                    </a:lnTo>
                    <a:lnTo>
                      <a:pt x="2701" y="112"/>
                    </a:lnTo>
                    <a:lnTo>
                      <a:pt x="2423" y="78"/>
                    </a:lnTo>
                    <a:lnTo>
                      <a:pt x="2148" y="50"/>
                    </a:lnTo>
                    <a:lnTo>
                      <a:pt x="1875" y="28"/>
                    </a:lnTo>
                    <a:lnTo>
                      <a:pt x="1605" y="13"/>
                    </a:lnTo>
                    <a:lnTo>
                      <a:pt x="1500" y="9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05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069" y="0"/>
                    </a:moveTo>
                    <a:lnTo>
                      <a:pt x="661" y="8"/>
                    </a:lnTo>
                    <a:lnTo>
                      <a:pt x="256" y="30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256" y="39"/>
                    </a:lnTo>
                    <a:lnTo>
                      <a:pt x="661" y="17"/>
                    </a:lnTo>
                    <a:lnTo>
                      <a:pt x="1069" y="9"/>
                    </a:lnTo>
                    <a:lnTo>
                      <a:pt x="1500" y="9"/>
                    </a:lnTo>
                    <a:lnTo>
                      <a:pt x="1336" y="4"/>
                    </a:lnTo>
                    <a:lnTo>
                      <a:pt x="106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41"/>
            <p:cNvGrpSpPr/>
            <p:nvPr/>
          </p:nvGrpSpPr>
          <p:grpSpPr>
            <a:xfrm>
              <a:off x="231840" y="3882240"/>
              <a:ext cx="3316320" cy="463320"/>
              <a:chOff x="231840" y="3882240"/>
              <a:chExt cx="3316320" cy="463320"/>
            </a:xfrm>
          </p:grpSpPr>
          <p:sp>
            <p:nvSpPr>
              <p:cNvPr id="77" name="Freeform 102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941" y="8"/>
                    </a:moveTo>
                    <a:lnTo>
                      <a:pt x="1531" y="8"/>
                    </a:lnTo>
                    <a:lnTo>
                      <a:pt x="1774" y="11"/>
                    </a:lnTo>
                    <a:lnTo>
                      <a:pt x="2019" y="20"/>
                    </a:lnTo>
                    <a:lnTo>
                      <a:pt x="2266" y="34"/>
                    </a:lnTo>
                    <a:lnTo>
                      <a:pt x="2516" y="54"/>
                    </a:lnTo>
                    <a:lnTo>
                      <a:pt x="2768" y="80"/>
                    </a:lnTo>
                    <a:lnTo>
                      <a:pt x="3023" y="112"/>
                    </a:lnTo>
                    <a:lnTo>
                      <a:pt x="3280" y="149"/>
                    </a:lnTo>
                    <a:lnTo>
                      <a:pt x="3541" y="192"/>
                    </a:lnTo>
                    <a:lnTo>
                      <a:pt x="3805" y="240"/>
                    </a:lnTo>
                    <a:lnTo>
                      <a:pt x="4071" y="294"/>
                    </a:lnTo>
                    <a:lnTo>
                      <a:pt x="4341" y="354"/>
                    </a:lnTo>
                    <a:lnTo>
                      <a:pt x="4615" y="419"/>
                    </a:lnTo>
                    <a:lnTo>
                      <a:pt x="4892" y="489"/>
                    </a:lnTo>
                    <a:lnTo>
                      <a:pt x="5172" y="565"/>
                    </a:lnTo>
                    <a:lnTo>
                      <a:pt x="5456" y="647"/>
                    </a:lnTo>
                    <a:lnTo>
                      <a:pt x="5745" y="734"/>
                    </a:lnTo>
                    <a:lnTo>
                      <a:pt x="6037" y="826"/>
                    </a:lnTo>
                    <a:lnTo>
                      <a:pt x="6333" y="924"/>
                    </a:lnTo>
                    <a:lnTo>
                      <a:pt x="6634" y="1027"/>
                    </a:lnTo>
                    <a:lnTo>
                      <a:pt x="6938" y="1136"/>
                    </a:lnTo>
                    <a:lnTo>
                      <a:pt x="6941" y="1128"/>
                    </a:lnTo>
                    <a:lnTo>
                      <a:pt x="6636" y="1019"/>
                    </a:lnTo>
                    <a:lnTo>
                      <a:pt x="6336" y="916"/>
                    </a:lnTo>
                    <a:lnTo>
                      <a:pt x="6039" y="818"/>
                    </a:lnTo>
                    <a:lnTo>
                      <a:pt x="5747" y="725"/>
                    </a:lnTo>
                    <a:lnTo>
                      <a:pt x="5459" y="638"/>
                    </a:lnTo>
                    <a:lnTo>
                      <a:pt x="5174" y="557"/>
                    </a:lnTo>
                    <a:lnTo>
                      <a:pt x="4894" y="481"/>
                    </a:lnTo>
                    <a:lnTo>
                      <a:pt x="4617" y="410"/>
                    </a:lnTo>
                    <a:lnTo>
                      <a:pt x="4343" y="345"/>
                    </a:lnTo>
                    <a:lnTo>
                      <a:pt x="4073" y="285"/>
                    </a:lnTo>
                    <a:lnTo>
                      <a:pt x="3806" y="231"/>
                    </a:lnTo>
                    <a:lnTo>
                      <a:pt x="3543" y="183"/>
                    </a:lnTo>
                    <a:lnTo>
                      <a:pt x="3282" y="140"/>
                    </a:lnTo>
                    <a:lnTo>
                      <a:pt x="3024" y="103"/>
                    </a:lnTo>
                    <a:lnTo>
                      <a:pt x="2769" y="71"/>
                    </a:lnTo>
                    <a:lnTo>
                      <a:pt x="2517" y="46"/>
                    </a:lnTo>
                    <a:lnTo>
                      <a:pt x="2267" y="25"/>
                    </a:lnTo>
                    <a:lnTo>
                      <a:pt x="2019" y="11"/>
                    </a:lnTo>
                    <a:lnTo>
                      <a:pt x="1941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03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531" y="0"/>
                    </a:moveTo>
                    <a:lnTo>
                      <a:pt x="1112" y="8"/>
                    </a:lnTo>
                    <a:lnTo>
                      <a:pt x="697" y="35"/>
                    </a:lnTo>
                    <a:lnTo>
                      <a:pt x="288" y="80"/>
                    </a:lnTo>
                    <a:lnTo>
                      <a:pt x="0" y="124"/>
                    </a:lnTo>
                    <a:lnTo>
                      <a:pt x="0" y="133"/>
                    </a:lnTo>
                    <a:lnTo>
                      <a:pt x="289" y="89"/>
                    </a:lnTo>
                    <a:lnTo>
                      <a:pt x="698" y="44"/>
                    </a:lnTo>
                    <a:lnTo>
                      <a:pt x="1112" y="17"/>
                    </a:lnTo>
                    <a:lnTo>
                      <a:pt x="1531" y="8"/>
                    </a:lnTo>
                    <a:lnTo>
                      <a:pt x="1941" y="8"/>
                    </a:lnTo>
                    <a:lnTo>
                      <a:pt x="1774" y="2"/>
                    </a:lnTo>
                    <a:lnTo>
                      <a:pt x="1531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42"/>
            <p:cNvGrpSpPr/>
            <p:nvPr/>
          </p:nvGrpSpPr>
          <p:grpSpPr>
            <a:xfrm>
              <a:off x="231840" y="2994120"/>
              <a:ext cx="3510360" cy="683640"/>
              <a:chOff x="231840" y="2994120"/>
              <a:chExt cx="3510360" cy="683640"/>
            </a:xfrm>
          </p:grpSpPr>
          <p:sp>
            <p:nvSpPr>
              <p:cNvPr id="80" name="Freeform 101"/>
              <p:cNvSpPr/>
              <p:nvPr/>
            </p:nvSpPr>
            <p:spPr>
              <a:xfrm>
                <a:off x="231840" y="2994120"/>
                <a:ext cx="3510360" cy="683640"/>
              </a:xfrm>
              <a:custGeom>
                <a:avLst/>
                <a:gdLst/>
                <a:ahLst/>
                <a:rect l="l" t="t" r="r" b="b"/>
                <a:pathLst>
                  <a:path w="7347" h="1676">
                    <a:moveTo>
                      <a:pt x="0" y="0"/>
                    </a:moveTo>
                    <a:lnTo>
                      <a:pt x="0" y="37"/>
                    </a:lnTo>
                    <a:lnTo>
                      <a:pt x="366" y="162"/>
                    </a:lnTo>
                    <a:lnTo>
                      <a:pt x="1068" y="384"/>
                    </a:lnTo>
                    <a:lnTo>
                      <a:pt x="1783" y="590"/>
                    </a:lnTo>
                    <a:lnTo>
                      <a:pt x="2511" y="781"/>
                    </a:lnTo>
                    <a:lnTo>
                      <a:pt x="3257" y="958"/>
                    </a:lnTo>
                    <a:lnTo>
                      <a:pt x="4023" y="1123"/>
                    </a:lnTo>
                    <a:lnTo>
                      <a:pt x="4812" y="1276"/>
                    </a:lnTo>
                    <a:lnTo>
                      <a:pt x="5626" y="1419"/>
                    </a:lnTo>
                    <a:lnTo>
                      <a:pt x="6469" y="1551"/>
                    </a:lnTo>
                    <a:lnTo>
                      <a:pt x="7343" y="1676"/>
                    </a:lnTo>
                    <a:lnTo>
                      <a:pt x="7347" y="1641"/>
                    </a:lnTo>
                    <a:lnTo>
                      <a:pt x="6474" y="1517"/>
                    </a:lnTo>
                    <a:lnTo>
                      <a:pt x="5632" y="1384"/>
                    </a:lnTo>
                    <a:lnTo>
                      <a:pt x="4818" y="1242"/>
                    </a:lnTo>
                    <a:lnTo>
                      <a:pt x="4030" y="1089"/>
                    </a:lnTo>
                    <a:lnTo>
                      <a:pt x="3265" y="924"/>
                    </a:lnTo>
                    <a:lnTo>
                      <a:pt x="2520" y="747"/>
                    </a:lnTo>
                    <a:lnTo>
                      <a:pt x="1792" y="556"/>
                    </a:lnTo>
                    <a:lnTo>
                      <a:pt x="1079" y="350"/>
                    </a:lnTo>
                    <a:lnTo>
                      <a:pt x="377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43"/>
            <p:cNvGrpSpPr/>
            <p:nvPr/>
          </p:nvGrpSpPr>
          <p:grpSpPr>
            <a:xfrm>
              <a:off x="231840" y="3234960"/>
              <a:ext cx="3510360" cy="442080"/>
              <a:chOff x="231840" y="3234960"/>
              <a:chExt cx="3510360" cy="442080"/>
            </a:xfrm>
          </p:grpSpPr>
          <p:sp>
            <p:nvSpPr>
              <p:cNvPr id="82" name="Freeform 100"/>
              <p:cNvSpPr/>
              <p:nvPr/>
            </p:nvSpPr>
            <p:spPr>
              <a:xfrm>
                <a:off x="231840" y="3234960"/>
                <a:ext cx="3510360" cy="442080"/>
              </a:xfrm>
              <a:custGeom>
                <a:avLst/>
                <a:gdLst/>
                <a:ahLst/>
                <a:rect l="l" t="t" r="r" b="b"/>
                <a:pathLst>
                  <a:path w="7347" h="1084">
                    <a:moveTo>
                      <a:pt x="0" y="0"/>
                    </a:moveTo>
                    <a:lnTo>
                      <a:pt x="0" y="36"/>
                    </a:lnTo>
                    <a:lnTo>
                      <a:pt x="182" y="64"/>
                    </a:lnTo>
                    <a:lnTo>
                      <a:pt x="7343" y="1085"/>
                    </a:lnTo>
                    <a:lnTo>
                      <a:pt x="7347" y="1050"/>
                    </a:lnTo>
                    <a:lnTo>
                      <a:pt x="187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44"/>
            <p:cNvGrpSpPr/>
            <p:nvPr/>
          </p:nvGrpSpPr>
          <p:grpSpPr>
            <a:xfrm>
              <a:off x="231840" y="3417120"/>
              <a:ext cx="3511440" cy="263880"/>
              <a:chOff x="231840" y="3417120"/>
              <a:chExt cx="3511440" cy="263880"/>
            </a:xfrm>
          </p:grpSpPr>
          <p:sp>
            <p:nvSpPr>
              <p:cNvPr id="84" name="Freeform 99"/>
              <p:cNvSpPr/>
              <p:nvPr/>
            </p:nvSpPr>
            <p:spPr>
              <a:xfrm>
                <a:off x="231840" y="3417120"/>
                <a:ext cx="3511440" cy="263880"/>
              </a:xfrm>
              <a:custGeom>
                <a:avLst/>
                <a:gdLst/>
                <a:ahLst/>
                <a:rect l="l" t="t" r="r" b="b"/>
                <a:pathLst>
                  <a:path w="7349" h="647">
                    <a:moveTo>
                      <a:pt x="0" y="0"/>
                    </a:moveTo>
                    <a:lnTo>
                      <a:pt x="0" y="53"/>
                    </a:lnTo>
                    <a:lnTo>
                      <a:pt x="571" y="63"/>
                    </a:lnTo>
                    <a:lnTo>
                      <a:pt x="1316" y="87"/>
                    </a:lnTo>
                    <a:lnTo>
                      <a:pt x="2068" y="123"/>
                    </a:lnTo>
                    <a:lnTo>
                      <a:pt x="2831" y="171"/>
                    </a:lnTo>
                    <a:lnTo>
                      <a:pt x="3607" y="230"/>
                    </a:lnTo>
                    <a:lnTo>
                      <a:pt x="4802" y="342"/>
                    </a:lnTo>
                    <a:lnTo>
                      <a:pt x="6043" y="481"/>
                    </a:lnTo>
                    <a:lnTo>
                      <a:pt x="7342" y="647"/>
                    </a:lnTo>
                    <a:lnTo>
                      <a:pt x="7349" y="595"/>
                    </a:lnTo>
                    <a:lnTo>
                      <a:pt x="6050" y="429"/>
                    </a:lnTo>
                    <a:lnTo>
                      <a:pt x="4807" y="290"/>
                    </a:lnTo>
                    <a:lnTo>
                      <a:pt x="3611" y="178"/>
                    </a:lnTo>
                    <a:lnTo>
                      <a:pt x="2834" y="118"/>
                    </a:lnTo>
                    <a:lnTo>
                      <a:pt x="2071" y="70"/>
                    </a:lnTo>
                    <a:lnTo>
                      <a:pt x="1318" y="34"/>
                    </a:lnTo>
                    <a:lnTo>
                      <a:pt x="573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45"/>
            <p:cNvGrpSpPr/>
            <p:nvPr/>
          </p:nvGrpSpPr>
          <p:grpSpPr>
            <a:xfrm>
              <a:off x="231840" y="3512520"/>
              <a:ext cx="3510000" cy="159840"/>
              <a:chOff x="231840" y="3512520"/>
              <a:chExt cx="3510000" cy="159840"/>
            </a:xfrm>
          </p:grpSpPr>
          <p:sp>
            <p:nvSpPr>
              <p:cNvPr id="86" name="Freeform 97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963" y="8"/>
                    </a:moveTo>
                    <a:lnTo>
                      <a:pt x="2252" y="8"/>
                    </a:lnTo>
                    <a:lnTo>
                      <a:pt x="2488" y="9"/>
                    </a:lnTo>
                    <a:lnTo>
                      <a:pt x="2966" y="17"/>
                    </a:lnTo>
                    <a:lnTo>
                      <a:pt x="3449" y="33"/>
                    </a:lnTo>
                    <a:lnTo>
                      <a:pt x="3939" y="56"/>
                    </a:lnTo>
                    <a:lnTo>
                      <a:pt x="4437" y="87"/>
                    </a:lnTo>
                    <a:lnTo>
                      <a:pt x="4944" y="126"/>
                    </a:lnTo>
                    <a:lnTo>
                      <a:pt x="5720" y="198"/>
                    </a:lnTo>
                    <a:lnTo>
                      <a:pt x="6520" y="287"/>
                    </a:lnTo>
                    <a:lnTo>
                      <a:pt x="7345" y="391"/>
                    </a:lnTo>
                    <a:lnTo>
                      <a:pt x="7346" y="383"/>
                    </a:lnTo>
                    <a:lnTo>
                      <a:pt x="6521" y="278"/>
                    </a:lnTo>
                    <a:lnTo>
                      <a:pt x="5721" y="189"/>
                    </a:lnTo>
                    <a:lnTo>
                      <a:pt x="4944" y="117"/>
                    </a:lnTo>
                    <a:lnTo>
                      <a:pt x="4438" y="79"/>
                    </a:lnTo>
                    <a:lnTo>
                      <a:pt x="3940" y="47"/>
                    </a:lnTo>
                    <a:lnTo>
                      <a:pt x="3449" y="24"/>
                    </a:lnTo>
                    <a:lnTo>
                      <a:pt x="2966" y="8"/>
                    </a:lnTo>
                    <a:lnTo>
                      <a:pt x="2963" y="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98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252" y="0"/>
                    </a:moveTo>
                    <a:lnTo>
                      <a:pt x="1739" y="4"/>
                    </a:lnTo>
                    <a:lnTo>
                      <a:pt x="1232" y="19"/>
                    </a:lnTo>
                    <a:lnTo>
                      <a:pt x="729" y="42"/>
                    </a:lnTo>
                    <a:lnTo>
                      <a:pt x="229" y="76"/>
                    </a:lnTo>
                    <a:lnTo>
                      <a:pt x="0" y="96"/>
                    </a:lnTo>
                    <a:lnTo>
                      <a:pt x="0" y="105"/>
                    </a:lnTo>
                    <a:lnTo>
                      <a:pt x="230" y="85"/>
                    </a:lnTo>
                    <a:lnTo>
                      <a:pt x="729" y="51"/>
                    </a:lnTo>
                    <a:lnTo>
                      <a:pt x="1232" y="27"/>
                    </a:lnTo>
                    <a:lnTo>
                      <a:pt x="1740" y="13"/>
                    </a:lnTo>
                    <a:lnTo>
                      <a:pt x="2963" y="8"/>
                    </a:lnTo>
                    <a:lnTo>
                      <a:pt x="2488" y="1"/>
                    </a:lnTo>
                    <a:lnTo>
                      <a:pt x="2252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46"/>
            <p:cNvGrpSpPr/>
            <p:nvPr/>
          </p:nvGrpSpPr>
          <p:grpSpPr>
            <a:xfrm>
              <a:off x="231840" y="3538080"/>
              <a:ext cx="3510000" cy="136080"/>
              <a:chOff x="231840" y="3538080"/>
              <a:chExt cx="3510000" cy="136080"/>
            </a:xfrm>
          </p:grpSpPr>
          <p:sp>
            <p:nvSpPr>
              <p:cNvPr id="89" name="Freeform 95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4039" y="18"/>
                    </a:moveTo>
                    <a:lnTo>
                      <a:pt x="3118" y="18"/>
                    </a:lnTo>
                    <a:lnTo>
                      <a:pt x="3314" y="19"/>
                    </a:lnTo>
                    <a:lnTo>
                      <a:pt x="3711" y="25"/>
                    </a:lnTo>
                    <a:lnTo>
                      <a:pt x="4113" y="38"/>
                    </a:lnTo>
                    <a:lnTo>
                      <a:pt x="4521" y="58"/>
                    </a:lnTo>
                    <a:lnTo>
                      <a:pt x="4936" y="83"/>
                    </a:lnTo>
                    <a:lnTo>
                      <a:pt x="5357" y="115"/>
                    </a:lnTo>
                    <a:lnTo>
                      <a:pt x="6002" y="174"/>
                    </a:lnTo>
                    <a:lnTo>
                      <a:pt x="6664" y="247"/>
                    </a:lnTo>
                    <a:lnTo>
                      <a:pt x="7344" y="334"/>
                    </a:lnTo>
                    <a:lnTo>
                      <a:pt x="7346" y="316"/>
                    </a:lnTo>
                    <a:lnTo>
                      <a:pt x="6666" y="230"/>
                    </a:lnTo>
                    <a:lnTo>
                      <a:pt x="6003" y="157"/>
                    </a:lnTo>
                    <a:lnTo>
                      <a:pt x="5358" y="97"/>
                    </a:lnTo>
                    <a:lnTo>
                      <a:pt x="4937" y="66"/>
                    </a:lnTo>
                    <a:lnTo>
                      <a:pt x="4522" y="40"/>
                    </a:lnTo>
                    <a:lnTo>
                      <a:pt x="4114" y="21"/>
                    </a:lnTo>
                    <a:lnTo>
                      <a:pt x="4039" y="1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96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3118" y="0"/>
                    </a:moveTo>
                    <a:lnTo>
                      <a:pt x="2561" y="7"/>
                    </a:lnTo>
                    <a:lnTo>
                      <a:pt x="2013" y="28"/>
                    </a:lnTo>
                    <a:lnTo>
                      <a:pt x="1472" y="62"/>
                    </a:lnTo>
                    <a:lnTo>
                      <a:pt x="938" y="110"/>
                    </a:lnTo>
                    <a:lnTo>
                      <a:pt x="410" y="173"/>
                    </a:lnTo>
                    <a:lnTo>
                      <a:pt x="0" y="233"/>
                    </a:lnTo>
                    <a:lnTo>
                      <a:pt x="0" y="251"/>
                    </a:lnTo>
                    <a:lnTo>
                      <a:pt x="412" y="190"/>
                    </a:lnTo>
                    <a:lnTo>
                      <a:pt x="940" y="128"/>
                    </a:lnTo>
                    <a:lnTo>
                      <a:pt x="1473" y="79"/>
                    </a:lnTo>
                    <a:lnTo>
                      <a:pt x="2013" y="45"/>
                    </a:lnTo>
                    <a:lnTo>
                      <a:pt x="2561" y="25"/>
                    </a:lnTo>
                    <a:lnTo>
                      <a:pt x="3118" y="18"/>
                    </a:lnTo>
                    <a:lnTo>
                      <a:pt x="4039" y="18"/>
                    </a:lnTo>
                    <a:lnTo>
                      <a:pt x="3712" y="8"/>
                    </a:lnTo>
                    <a:lnTo>
                      <a:pt x="3315" y="1"/>
                    </a:lnTo>
                    <a:lnTo>
                      <a:pt x="3118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47"/>
            <p:cNvGrpSpPr/>
            <p:nvPr/>
          </p:nvGrpSpPr>
          <p:grpSpPr>
            <a:xfrm>
              <a:off x="231840" y="3556440"/>
              <a:ext cx="3510000" cy="159480"/>
              <a:chOff x="231840" y="3556440"/>
              <a:chExt cx="3510000" cy="159480"/>
            </a:xfrm>
          </p:grpSpPr>
          <p:sp>
            <p:nvSpPr>
              <p:cNvPr id="92" name="Freeform 93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3645" y="0"/>
                    </a:moveTo>
                    <a:lnTo>
                      <a:pt x="3062" y="9"/>
                    </a:lnTo>
                    <a:lnTo>
                      <a:pt x="2491" y="34"/>
                    </a:lnTo>
                    <a:lnTo>
                      <a:pt x="1932" y="77"/>
                    </a:lnTo>
                    <a:lnTo>
                      <a:pt x="1382" y="138"/>
                    </a:lnTo>
                    <a:lnTo>
                      <a:pt x="841" y="217"/>
                    </a:lnTo>
                    <a:lnTo>
                      <a:pt x="307" y="315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309" y="323"/>
                    </a:lnTo>
                    <a:lnTo>
                      <a:pt x="843" y="226"/>
                    </a:lnTo>
                    <a:lnTo>
                      <a:pt x="1383" y="147"/>
                    </a:lnTo>
                    <a:lnTo>
                      <a:pt x="1933" y="86"/>
                    </a:lnTo>
                    <a:lnTo>
                      <a:pt x="2492" y="43"/>
                    </a:lnTo>
                    <a:lnTo>
                      <a:pt x="3062" y="17"/>
                    </a:lnTo>
                    <a:lnTo>
                      <a:pt x="3645" y="9"/>
                    </a:lnTo>
                    <a:lnTo>
                      <a:pt x="4250" y="9"/>
                    </a:lnTo>
                    <a:lnTo>
                      <a:pt x="3990" y="3"/>
                    </a:lnTo>
                    <a:lnTo>
                      <a:pt x="3645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94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4250" y="9"/>
                    </a:moveTo>
                    <a:lnTo>
                      <a:pt x="3645" y="9"/>
                    </a:lnTo>
                    <a:lnTo>
                      <a:pt x="3817" y="10"/>
                    </a:lnTo>
                    <a:lnTo>
                      <a:pt x="4164" y="15"/>
                    </a:lnTo>
                    <a:lnTo>
                      <a:pt x="4517" y="27"/>
                    </a:lnTo>
                    <a:lnTo>
                      <a:pt x="4875" y="43"/>
                    </a:lnTo>
                    <a:lnTo>
                      <a:pt x="5238" y="66"/>
                    </a:lnTo>
                    <a:lnTo>
                      <a:pt x="5607" y="94"/>
                    </a:lnTo>
                    <a:lnTo>
                      <a:pt x="6172" y="145"/>
                    </a:lnTo>
                    <a:lnTo>
                      <a:pt x="6751" y="209"/>
                    </a:lnTo>
                    <a:lnTo>
                      <a:pt x="7345" y="284"/>
                    </a:lnTo>
                    <a:lnTo>
                      <a:pt x="7346" y="276"/>
                    </a:lnTo>
                    <a:lnTo>
                      <a:pt x="6752" y="200"/>
                    </a:lnTo>
                    <a:lnTo>
                      <a:pt x="6172" y="137"/>
                    </a:lnTo>
                    <a:lnTo>
                      <a:pt x="5608" y="85"/>
                    </a:lnTo>
                    <a:lnTo>
                      <a:pt x="5239" y="57"/>
                    </a:lnTo>
                    <a:lnTo>
                      <a:pt x="4875" y="35"/>
                    </a:lnTo>
                    <a:lnTo>
                      <a:pt x="4517" y="18"/>
                    </a:lnTo>
                    <a:lnTo>
                      <a:pt x="4250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48"/>
            <p:cNvGrpSpPr/>
            <p:nvPr/>
          </p:nvGrpSpPr>
          <p:grpSpPr>
            <a:xfrm>
              <a:off x="231840" y="3567240"/>
              <a:ext cx="3510000" cy="221400"/>
              <a:chOff x="231840" y="3567240"/>
              <a:chExt cx="3510000" cy="221400"/>
            </a:xfrm>
          </p:grpSpPr>
          <p:sp>
            <p:nvSpPr>
              <p:cNvPr id="95" name="Freeform 91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000" y="0"/>
                    </a:moveTo>
                    <a:lnTo>
                      <a:pt x="3401" y="10"/>
                    </a:lnTo>
                    <a:lnTo>
                      <a:pt x="2819" y="40"/>
                    </a:lnTo>
                    <a:lnTo>
                      <a:pt x="2250" y="91"/>
                    </a:lnTo>
                    <a:lnTo>
                      <a:pt x="1694" y="162"/>
                    </a:lnTo>
                    <a:lnTo>
                      <a:pt x="1149" y="255"/>
                    </a:lnTo>
                    <a:lnTo>
                      <a:pt x="615" y="370"/>
                    </a:lnTo>
                    <a:lnTo>
                      <a:pt x="89" y="507"/>
                    </a:lnTo>
                    <a:lnTo>
                      <a:pt x="0" y="534"/>
                    </a:lnTo>
                    <a:lnTo>
                      <a:pt x="0" y="543"/>
                    </a:lnTo>
                    <a:lnTo>
                      <a:pt x="92" y="515"/>
                    </a:lnTo>
                    <a:lnTo>
                      <a:pt x="617" y="378"/>
                    </a:lnTo>
                    <a:lnTo>
                      <a:pt x="1151" y="264"/>
                    </a:lnTo>
                    <a:lnTo>
                      <a:pt x="1695" y="171"/>
                    </a:lnTo>
                    <a:lnTo>
                      <a:pt x="2251" y="99"/>
                    </a:lnTo>
                    <a:lnTo>
                      <a:pt x="2819" y="49"/>
                    </a:lnTo>
                    <a:lnTo>
                      <a:pt x="3402" y="19"/>
                    </a:lnTo>
                    <a:lnTo>
                      <a:pt x="4000" y="9"/>
                    </a:lnTo>
                    <a:lnTo>
                      <a:pt x="4577" y="9"/>
                    </a:lnTo>
                    <a:lnTo>
                      <a:pt x="4312" y="3"/>
                    </a:lnTo>
                    <a:lnTo>
                      <a:pt x="400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92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577" y="9"/>
                    </a:moveTo>
                    <a:lnTo>
                      <a:pt x="4000" y="9"/>
                    </a:lnTo>
                    <a:lnTo>
                      <a:pt x="4155" y="9"/>
                    </a:lnTo>
                    <a:lnTo>
                      <a:pt x="4469" y="15"/>
                    </a:lnTo>
                    <a:lnTo>
                      <a:pt x="4788" y="25"/>
                    </a:lnTo>
                    <a:lnTo>
                      <a:pt x="5112" y="40"/>
                    </a:lnTo>
                    <a:lnTo>
                      <a:pt x="5440" y="60"/>
                    </a:lnTo>
                    <a:lnTo>
                      <a:pt x="5774" y="85"/>
                    </a:lnTo>
                    <a:lnTo>
                      <a:pt x="6285" y="132"/>
                    </a:lnTo>
                    <a:lnTo>
                      <a:pt x="6808" y="189"/>
                    </a:lnTo>
                    <a:lnTo>
                      <a:pt x="7345" y="257"/>
                    </a:lnTo>
                    <a:lnTo>
                      <a:pt x="7346" y="249"/>
                    </a:lnTo>
                    <a:lnTo>
                      <a:pt x="6809" y="181"/>
                    </a:lnTo>
                    <a:lnTo>
                      <a:pt x="6286" y="123"/>
                    </a:lnTo>
                    <a:lnTo>
                      <a:pt x="5775" y="76"/>
                    </a:lnTo>
                    <a:lnTo>
                      <a:pt x="5441" y="51"/>
                    </a:lnTo>
                    <a:lnTo>
                      <a:pt x="5112" y="31"/>
                    </a:lnTo>
                    <a:lnTo>
                      <a:pt x="4788" y="16"/>
                    </a:lnTo>
                    <a:lnTo>
                      <a:pt x="4577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49"/>
            <p:cNvGrpSpPr/>
            <p:nvPr/>
          </p:nvGrpSpPr>
          <p:grpSpPr>
            <a:xfrm>
              <a:off x="231840" y="2679840"/>
              <a:ext cx="3492360" cy="193320"/>
              <a:chOff x="231840" y="2679840"/>
              <a:chExt cx="3492360" cy="193320"/>
            </a:xfrm>
          </p:grpSpPr>
          <p:sp>
            <p:nvSpPr>
              <p:cNvPr id="98" name="Freeform 89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0" y="184"/>
                    </a:moveTo>
                    <a:lnTo>
                      <a:pt x="0" y="240"/>
                    </a:lnTo>
                    <a:lnTo>
                      <a:pt x="8" y="241"/>
                    </a:lnTo>
                    <a:lnTo>
                      <a:pt x="259" y="282"/>
                    </a:lnTo>
                    <a:lnTo>
                      <a:pt x="511" y="319"/>
                    </a:lnTo>
                    <a:lnTo>
                      <a:pt x="765" y="352"/>
                    </a:lnTo>
                    <a:lnTo>
                      <a:pt x="1019" y="381"/>
                    </a:lnTo>
                    <a:lnTo>
                      <a:pt x="1276" y="406"/>
                    </a:lnTo>
                    <a:lnTo>
                      <a:pt x="1533" y="427"/>
                    </a:lnTo>
                    <a:lnTo>
                      <a:pt x="1793" y="444"/>
                    </a:lnTo>
                    <a:lnTo>
                      <a:pt x="2054" y="458"/>
                    </a:lnTo>
                    <a:lnTo>
                      <a:pt x="2318" y="467"/>
                    </a:lnTo>
                    <a:lnTo>
                      <a:pt x="2583" y="473"/>
                    </a:lnTo>
                    <a:lnTo>
                      <a:pt x="2851" y="475"/>
                    </a:lnTo>
                    <a:lnTo>
                      <a:pt x="3057" y="474"/>
                    </a:lnTo>
                    <a:lnTo>
                      <a:pt x="3264" y="470"/>
                    </a:lnTo>
                    <a:lnTo>
                      <a:pt x="3473" y="465"/>
                    </a:lnTo>
                    <a:lnTo>
                      <a:pt x="3895" y="448"/>
                    </a:lnTo>
                    <a:lnTo>
                      <a:pt x="4322" y="422"/>
                    </a:lnTo>
                    <a:lnTo>
                      <a:pt x="2851" y="422"/>
                    </a:lnTo>
                    <a:lnTo>
                      <a:pt x="2319" y="414"/>
                    </a:lnTo>
                    <a:lnTo>
                      <a:pt x="1796" y="392"/>
                    </a:lnTo>
                    <a:lnTo>
                      <a:pt x="1280" y="353"/>
                    </a:lnTo>
                    <a:lnTo>
                      <a:pt x="771" y="300"/>
                    </a:lnTo>
                    <a:lnTo>
                      <a:pt x="268" y="230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90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7300" y="0"/>
                    </a:moveTo>
                    <a:lnTo>
                      <a:pt x="6579" y="116"/>
                    </a:lnTo>
                    <a:lnTo>
                      <a:pt x="6110" y="183"/>
                    </a:lnTo>
                    <a:lnTo>
                      <a:pt x="5650" y="242"/>
                    </a:lnTo>
                    <a:lnTo>
                      <a:pt x="5199" y="292"/>
                    </a:lnTo>
                    <a:lnTo>
                      <a:pt x="4756" y="335"/>
                    </a:lnTo>
                    <a:lnTo>
                      <a:pt x="4321" y="369"/>
                    </a:lnTo>
                    <a:lnTo>
                      <a:pt x="3893" y="395"/>
                    </a:lnTo>
                    <a:lnTo>
                      <a:pt x="3471" y="412"/>
                    </a:lnTo>
                    <a:lnTo>
                      <a:pt x="3263" y="418"/>
                    </a:lnTo>
                    <a:lnTo>
                      <a:pt x="3056" y="421"/>
                    </a:lnTo>
                    <a:lnTo>
                      <a:pt x="2851" y="422"/>
                    </a:lnTo>
                    <a:lnTo>
                      <a:pt x="4322" y="422"/>
                    </a:lnTo>
                    <a:lnTo>
                      <a:pt x="4760" y="388"/>
                    </a:lnTo>
                    <a:lnTo>
                      <a:pt x="5204" y="345"/>
                    </a:lnTo>
                    <a:lnTo>
                      <a:pt x="5656" y="294"/>
                    </a:lnTo>
                    <a:lnTo>
                      <a:pt x="6117" y="235"/>
                    </a:lnTo>
                    <a:lnTo>
                      <a:pt x="6586" y="168"/>
                    </a:lnTo>
                    <a:lnTo>
                      <a:pt x="7309" y="52"/>
                    </a:lnTo>
                    <a:lnTo>
                      <a:pt x="7300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50"/>
            <p:cNvGrpSpPr/>
            <p:nvPr/>
          </p:nvGrpSpPr>
          <p:grpSpPr>
            <a:xfrm>
              <a:off x="231840" y="2673000"/>
              <a:ext cx="3493800" cy="336960"/>
              <a:chOff x="231840" y="2673000"/>
              <a:chExt cx="3493800" cy="336960"/>
            </a:xfrm>
          </p:grpSpPr>
          <p:sp>
            <p:nvSpPr>
              <p:cNvPr id="101" name="Freeform 88"/>
              <p:cNvSpPr/>
              <p:nvPr/>
            </p:nvSpPr>
            <p:spPr>
              <a:xfrm>
                <a:off x="231840" y="2673000"/>
                <a:ext cx="3493800" cy="336960"/>
              </a:xfrm>
              <a:custGeom>
                <a:avLst/>
                <a:gdLst/>
                <a:ahLst/>
                <a:rect l="l" t="t" r="r" b="b"/>
                <a:pathLst>
                  <a:path w="7312" h="826">
                    <a:moveTo>
                      <a:pt x="7297" y="0"/>
                    </a:moveTo>
                    <a:lnTo>
                      <a:pt x="6017" y="206"/>
                    </a:lnTo>
                    <a:lnTo>
                      <a:pt x="5195" y="324"/>
                    </a:lnTo>
                    <a:lnTo>
                      <a:pt x="4394" y="428"/>
                    </a:lnTo>
                    <a:lnTo>
                      <a:pt x="3613" y="517"/>
                    </a:lnTo>
                    <a:lnTo>
                      <a:pt x="2847" y="591"/>
                    </a:lnTo>
                    <a:lnTo>
                      <a:pt x="2095" y="651"/>
                    </a:lnTo>
                    <a:lnTo>
                      <a:pt x="1354" y="695"/>
                    </a:lnTo>
                    <a:lnTo>
                      <a:pt x="619" y="725"/>
                    </a:lnTo>
                    <a:lnTo>
                      <a:pt x="254" y="734"/>
                    </a:lnTo>
                    <a:lnTo>
                      <a:pt x="0" y="738"/>
                    </a:lnTo>
                    <a:lnTo>
                      <a:pt x="0" y="826"/>
                    </a:lnTo>
                    <a:lnTo>
                      <a:pt x="256" y="822"/>
                    </a:lnTo>
                    <a:lnTo>
                      <a:pt x="622" y="813"/>
                    </a:lnTo>
                    <a:lnTo>
                      <a:pt x="1358" y="783"/>
                    </a:lnTo>
                    <a:lnTo>
                      <a:pt x="2101" y="739"/>
                    </a:lnTo>
                    <a:lnTo>
                      <a:pt x="2855" y="679"/>
                    </a:lnTo>
                    <a:lnTo>
                      <a:pt x="3622" y="605"/>
                    </a:lnTo>
                    <a:lnTo>
                      <a:pt x="4405" y="516"/>
                    </a:lnTo>
                    <a:lnTo>
                      <a:pt x="5207" y="412"/>
                    </a:lnTo>
                    <a:lnTo>
                      <a:pt x="6030" y="293"/>
                    </a:lnTo>
                    <a:lnTo>
                      <a:pt x="7312" y="87"/>
                    </a:lnTo>
                    <a:lnTo>
                      <a:pt x="7297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51"/>
            <p:cNvGrpSpPr/>
            <p:nvPr/>
          </p:nvGrpSpPr>
          <p:grpSpPr>
            <a:xfrm>
              <a:off x="231840" y="2683440"/>
              <a:ext cx="3491280" cy="499680"/>
              <a:chOff x="231840" y="2683440"/>
              <a:chExt cx="3491280" cy="499680"/>
            </a:xfrm>
          </p:grpSpPr>
          <p:sp>
            <p:nvSpPr>
              <p:cNvPr id="103" name="Freeform 87"/>
              <p:cNvSpPr/>
              <p:nvPr/>
            </p:nvSpPr>
            <p:spPr>
              <a:xfrm>
                <a:off x="231840" y="2683440"/>
                <a:ext cx="3491280" cy="499680"/>
              </a:xfrm>
              <a:custGeom>
                <a:avLst/>
                <a:gdLst/>
                <a:ahLst/>
                <a:rect l="l" t="t" r="r" b="b"/>
                <a:pathLst>
                  <a:path w="7307" h="1225">
                    <a:moveTo>
                      <a:pt x="7301" y="0"/>
                    </a:moveTo>
                    <a:lnTo>
                      <a:pt x="0" y="1190"/>
                    </a:lnTo>
                    <a:lnTo>
                      <a:pt x="0" y="1225"/>
                    </a:lnTo>
                    <a:lnTo>
                      <a:pt x="7307" y="35"/>
                    </a:lnTo>
                    <a:lnTo>
                      <a:pt x="730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52"/>
            <p:cNvGrpSpPr/>
            <p:nvPr/>
          </p:nvGrpSpPr>
          <p:grpSpPr>
            <a:xfrm>
              <a:off x="231840" y="2687040"/>
              <a:ext cx="3490920" cy="623160"/>
              <a:chOff x="231840" y="2687040"/>
              <a:chExt cx="3490920" cy="623160"/>
            </a:xfrm>
          </p:grpSpPr>
          <p:sp>
            <p:nvSpPr>
              <p:cNvPr id="105" name="Freeform 86"/>
              <p:cNvSpPr/>
              <p:nvPr/>
            </p:nvSpPr>
            <p:spPr>
              <a:xfrm>
                <a:off x="231840" y="2687040"/>
                <a:ext cx="3490920" cy="623160"/>
              </a:xfrm>
              <a:custGeom>
                <a:avLst/>
                <a:gdLst/>
                <a:ahLst/>
                <a:rect l="l" t="t" r="r" b="b"/>
                <a:pathLst>
                  <a:path w="7306" h="1527">
                    <a:moveTo>
                      <a:pt x="7303" y="0"/>
                    </a:moveTo>
                    <a:lnTo>
                      <a:pt x="5590" y="301"/>
                    </a:lnTo>
                    <a:lnTo>
                      <a:pt x="3977" y="610"/>
                    </a:lnTo>
                    <a:lnTo>
                      <a:pt x="2442" y="931"/>
                    </a:lnTo>
                    <a:lnTo>
                      <a:pt x="1696" y="1098"/>
                    </a:lnTo>
                    <a:lnTo>
                      <a:pt x="961" y="1270"/>
                    </a:lnTo>
                    <a:lnTo>
                      <a:pt x="233" y="1449"/>
                    </a:lnTo>
                    <a:lnTo>
                      <a:pt x="0" y="1509"/>
                    </a:lnTo>
                    <a:lnTo>
                      <a:pt x="0" y="1527"/>
                    </a:lnTo>
                    <a:lnTo>
                      <a:pt x="238" y="1466"/>
                    </a:lnTo>
                    <a:lnTo>
                      <a:pt x="965" y="1287"/>
                    </a:lnTo>
                    <a:lnTo>
                      <a:pt x="1700" y="1115"/>
                    </a:lnTo>
                    <a:lnTo>
                      <a:pt x="2446" y="948"/>
                    </a:lnTo>
                    <a:lnTo>
                      <a:pt x="3981" y="627"/>
                    </a:lnTo>
                    <a:lnTo>
                      <a:pt x="5593" y="319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53"/>
            <p:cNvGrpSpPr/>
            <p:nvPr/>
          </p:nvGrpSpPr>
          <p:grpSpPr>
            <a:xfrm>
              <a:off x="231840" y="2688840"/>
              <a:ext cx="3490560" cy="708480"/>
              <a:chOff x="231840" y="2688840"/>
              <a:chExt cx="3490560" cy="708480"/>
            </a:xfrm>
          </p:grpSpPr>
          <p:sp>
            <p:nvSpPr>
              <p:cNvPr id="107" name="Freeform 85"/>
              <p:cNvSpPr/>
              <p:nvPr/>
            </p:nvSpPr>
            <p:spPr>
              <a:xfrm>
                <a:off x="231840" y="2688840"/>
                <a:ext cx="3490560" cy="708480"/>
              </a:xfrm>
              <a:custGeom>
                <a:avLst/>
                <a:gdLst/>
                <a:ahLst/>
                <a:rect l="l" t="t" r="r" b="b"/>
                <a:pathLst>
                  <a:path w="7305" h="1737">
                    <a:moveTo>
                      <a:pt x="7304" y="0"/>
                    </a:moveTo>
                    <a:lnTo>
                      <a:pt x="6434" y="152"/>
                    </a:lnTo>
                    <a:lnTo>
                      <a:pt x="5594" y="309"/>
                    </a:lnTo>
                    <a:lnTo>
                      <a:pt x="4781" y="472"/>
                    </a:lnTo>
                    <a:lnTo>
                      <a:pt x="3992" y="642"/>
                    </a:lnTo>
                    <a:lnTo>
                      <a:pt x="3225" y="820"/>
                    </a:lnTo>
                    <a:lnTo>
                      <a:pt x="2476" y="1006"/>
                    </a:lnTo>
                    <a:lnTo>
                      <a:pt x="1742" y="1201"/>
                    </a:lnTo>
                    <a:lnTo>
                      <a:pt x="1022" y="1408"/>
                    </a:lnTo>
                    <a:lnTo>
                      <a:pt x="312" y="1625"/>
                    </a:lnTo>
                    <a:lnTo>
                      <a:pt x="0" y="1728"/>
                    </a:lnTo>
                    <a:lnTo>
                      <a:pt x="0" y="1737"/>
                    </a:lnTo>
                    <a:lnTo>
                      <a:pt x="315" y="1634"/>
                    </a:lnTo>
                    <a:lnTo>
                      <a:pt x="1025" y="1416"/>
                    </a:lnTo>
                    <a:lnTo>
                      <a:pt x="1745" y="1210"/>
                    </a:lnTo>
                    <a:lnTo>
                      <a:pt x="2478" y="1014"/>
                    </a:lnTo>
                    <a:lnTo>
                      <a:pt x="3227" y="828"/>
                    </a:lnTo>
                    <a:lnTo>
                      <a:pt x="3994" y="651"/>
                    </a:lnTo>
                    <a:lnTo>
                      <a:pt x="4783" y="481"/>
                    </a:lnTo>
                    <a:lnTo>
                      <a:pt x="5596" y="318"/>
                    </a:lnTo>
                    <a:lnTo>
                      <a:pt x="6436" y="161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4"/>
            <p:cNvGrpSpPr/>
            <p:nvPr/>
          </p:nvGrpSpPr>
          <p:grpSpPr>
            <a:xfrm>
              <a:off x="231840" y="2688840"/>
              <a:ext cx="3490560" cy="874440"/>
              <a:chOff x="231840" y="2688840"/>
              <a:chExt cx="3490560" cy="874440"/>
            </a:xfrm>
          </p:grpSpPr>
          <p:sp>
            <p:nvSpPr>
              <p:cNvPr id="109" name="Freeform 84"/>
              <p:cNvSpPr/>
              <p:nvPr/>
            </p:nvSpPr>
            <p:spPr>
              <a:xfrm>
                <a:off x="231840" y="2688840"/>
                <a:ext cx="3490560" cy="874440"/>
              </a:xfrm>
              <a:custGeom>
                <a:avLst/>
                <a:gdLst/>
                <a:ahLst/>
                <a:rect l="l" t="t" r="r" b="b"/>
                <a:pathLst>
                  <a:path w="7305" h="2143">
                    <a:moveTo>
                      <a:pt x="7304" y="0"/>
                    </a:moveTo>
                    <a:lnTo>
                      <a:pt x="6436" y="155"/>
                    </a:lnTo>
                    <a:lnTo>
                      <a:pt x="5603" y="322"/>
                    </a:lnTo>
                    <a:lnTo>
                      <a:pt x="4800" y="501"/>
                    </a:lnTo>
                    <a:lnTo>
                      <a:pt x="4027" y="693"/>
                    </a:lnTo>
                    <a:lnTo>
                      <a:pt x="3280" y="900"/>
                    </a:lnTo>
                    <a:lnTo>
                      <a:pt x="2557" y="1123"/>
                    </a:lnTo>
                    <a:lnTo>
                      <a:pt x="1855" y="1364"/>
                    </a:lnTo>
                    <a:lnTo>
                      <a:pt x="1171" y="1623"/>
                    </a:lnTo>
                    <a:lnTo>
                      <a:pt x="503" y="1902"/>
                    </a:lnTo>
                    <a:lnTo>
                      <a:pt x="0" y="2133"/>
                    </a:lnTo>
                    <a:lnTo>
                      <a:pt x="0" y="2143"/>
                    </a:lnTo>
                    <a:lnTo>
                      <a:pt x="506" y="1910"/>
                    </a:lnTo>
                    <a:lnTo>
                      <a:pt x="1174" y="1632"/>
                    </a:lnTo>
                    <a:lnTo>
                      <a:pt x="1858" y="1372"/>
                    </a:lnTo>
                    <a:lnTo>
                      <a:pt x="2560" y="1132"/>
                    </a:lnTo>
                    <a:lnTo>
                      <a:pt x="3283" y="909"/>
                    </a:lnTo>
                    <a:lnTo>
                      <a:pt x="4029" y="701"/>
                    </a:lnTo>
                    <a:lnTo>
                      <a:pt x="4802" y="509"/>
                    </a:lnTo>
                    <a:lnTo>
                      <a:pt x="5604" y="330"/>
                    </a:lnTo>
                    <a:lnTo>
                      <a:pt x="6438" y="164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55"/>
            <p:cNvGrpSpPr/>
            <p:nvPr/>
          </p:nvGrpSpPr>
          <p:grpSpPr>
            <a:xfrm>
              <a:off x="231840" y="2687040"/>
              <a:ext cx="3490920" cy="796320"/>
              <a:chOff x="231840" y="2687040"/>
              <a:chExt cx="3490920" cy="796320"/>
            </a:xfrm>
          </p:grpSpPr>
          <p:sp>
            <p:nvSpPr>
              <p:cNvPr id="111" name="Freeform 83"/>
              <p:cNvSpPr/>
              <p:nvPr/>
            </p:nvSpPr>
            <p:spPr>
              <a:xfrm>
                <a:off x="231840" y="2687040"/>
                <a:ext cx="3490920" cy="796320"/>
              </a:xfrm>
              <a:custGeom>
                <a:avLst/>
                <a:gdLst/>
                <a:ahLst/>
                <a:rect l="l" t="t" r="r" b="b"/>
                <a:pathLst>
                  <a:path w="7306" h="1952">
                    <a:moveTo>
                      <a:pt x="7303" y="0"/>
                    </a:moveTo>
                    <a:lnTo>
                      <a:pt x="6434" y="154"/>
                    </a:lnTo>
                    <a:lnTo>
                      <a:pt x="5597" y="316"/>
                    </a:lnTo>
                    <a:lnTo>
                      <a:pt x="4789" y="487"/>
                    </a:lnTo>
                    <a:lnTo>
                      <a:pt x="4008" y="669"/>
                    </a:lnTo>
                    <a:lnTo>
                      <a:pt x="3250" y="863"/>
                    </a:lnTo>
                    <a:lnTo>
                      <a:pt x="2513" y="1069"/>
                    </a:lnTo>
                    <a:lnTo>
                      <a:pt x="1794" y="1289"/>
                    </a:lnTo>
                    <a:lnTo>
                      <a:pt x="1091" y="1524"/>
                    </a:lnTo>
                    <a:lnTo>
                      <a:pt x="401" y="1775"/>
                    </a:lnTo>
                    <a:lnTo>
                      <a:pt x="0" y="1933"/>
                    </a:lnTo>
                    <a:lnTo>
                      <a:pt x="0" y="1952"/>
                    </a:lnTo>
                    <a:lnTo>
                      <a:pt x="407" y="1791"/>
                    </a:lnTo>
                    <a:lnTo>
                      <a:pt x="1097" y="1541"/>
                    </a:lnTo>
                    <a:lnTo>
                      <a:pt x="1800" y="1306"/>
                    </a:lnTo>
                    <a:lnTo>
                      <a:pt x="2518" y="1086"/>
                    </a:lnTo>
                    <a:lnTo>
                      <a:pt x="3254" y="880"/>
                    </a:lnTo>
                    <a:lnTo>
                      <a:pt x="4012" y="686"/>
                    </a:lnTo>
                    <a:lnTo>
                      <a:pt x="4793" y="505"/>
                    </a:lnTo>
                    <a:lnTo>
                      <a:pt x="5601" y="333"/>
                    </a:lnTo>
                    <a:lnTo>
                      <a:pt x="6437" y="171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56"/>
            <p:cNvGrpSpPr/>
            <p:nvPr/>
          </p:nvGrpSpPr>
          <p:grpSpPr>
            <a:xfrm>
              <a:off x="231840" y="1468440"/>
              <a:ext cx="2956680" cy="1017000"/>
              <a:chOff x="231840" y="1468440"/>
              <a:chExt cx="2956680" cy="1017000"/>
            </a:xfrm>
          </p:grpSpPr>
          <p:sp>
            <p:nvSpPr>
              <p:cNvPr id="113" name="Freeform 82"/>
              <p:cNvSpPr/>
              <p:nvPr/>
            </p:nvSpPr>
            <p:spPr>
              <a:xfrm>
                <a:off x="231840" y="1468440"/>
                <a:ext cx="2956680" cy="1017000"/>
              </a:xfrm>
              <a:custGeom>
                <a:avLst/>
                <a:gdLst/>
                <a:ahLst/>
                <a:rect l="l" t="t" r="r" b="b"/>
                <a:pathLst>
                  <a:path w="6188" h="2493">
                    <a:moveTo>
                      <a:pt x="6141" y="0"/>
                    </a:moveTo>
                    <a:lnTo>
                      <a:pt x="5951" y="121"/>
                    </a:lnTo>
                    <a:lnTo>
                      <a:pt x="5763" y="238"/>
                    </a:lnTo>
                    <a:lnTo>
                      <a:pt x="5576" y="352"/>
                    </a:lnTo>
                    <a:lnTo>
                      <a:pt x="5390" y="463"/>
                    </a:lnTo>
                    <a:lnTo>
                      <a:pt x="5206" y="571"/>
                    </a:lnTo>
                    <a:lnTo>
                      <a:pt x="5023" y="676"/>
                    </a:lnTo>
                    <a:lnTo>
                      <a:pt x="4842" y="778"/>
                    </a:lnTo>
                    <a:lnTo>
                      <a:pt x="4662" y="876"/>
                    </a:lnTo>
                    <a:lnTo>
                      <a:pt x="4483" y="972"/>
                    </a:lnTo>
                    <a:lnTo>
                      <a:pt x="4306" y="1065"/>
                    </a:lnTo>
                    <a:lnTo>
                      <a:pt x="4130" y="1154"/>
                    </a:lnTo>
                    <a:lnTo>
                      <a:pt x="3954" y="1241"/>
                    </a:lnTo>
                    <a:lnTo>
                      <a:pt x="3780" y="1324"/>
                    </a:lnTo>
                    <a:lnTo>
                      <a:pt x="3608" y="1405"/>
                    </a:lnTo>
                    <a:lnTo>
                      <a:pt x="3436" y="1482"/>
                    </a:lnTo>
                    <a:lnTo>
                      <a:pt x="3265" y="1557"/>
                    </a:lnTo>
                    <a:lnTo>
                      <a:pt x="3095" y="1628"/>
                    </a:lnTo>
                    <a:lnTo>
                      <a:pt x="2926" y="1696"/>
                    </a:lnTo>
                    <a:lnTo>
                      <a:pt x="2758" y="1762"/>
                    </a:lnTo>
                    <a:lnTo>
                      <a:pt x="2591" y="1824"/>
                    </a:lnTo>
                    <a:lnTo>
                      <a:pt x="2424" y="1883"/>
                    </a:lnTo>
                    <a:lnTo>
                      <a:pt x="2258" y="1939"/>
                    </a:lnTo>
                    <a:lnTo>
                      <a:pt x="2093" y="1992"/>
                    </a:lnTo>
                    <a:lnTo>
                      <a:pt x="1929" y="2042"/>
                    </a:lnTo>
                    <a:lnTo>
                      <a:pt x="1765" y="2089"/>
                    </a:lnTo>
                    <a:lnTo>
                      <a:pt x="1602" y="2133"/>
                    </a:lnTo>
                    <a:lnTo>
                      <a:pt x="1440" y="2174"/>
                    </a:lnTo>
                    <a:lnTo>
                      <a:pt x="1278" y="2212"/>
                    </a:lnTo>
                    <a:lnTo>
                      <a:pt x="1116" y="2247"/>
                    </a:lnTo>
                    <a:lnTo>
                      <a:pt x="955" y="2279"/>
                    </a:lnTo>
                    <a:lnTo>
                      <a:pt x="794" y="2307"/>
                    </a:lnTo>
                    <a:lnTo>
                      <a:pt x="634" y="2333"/>
                    </a:lnTo>
                    <a:lnTo>
                      <a:pt x="474" y="2356"/>
                    </a:lnTo>
                    <a:lnTo>
                      <a:pt x="314" y="2375"/>
                    </a:lnTo>
                    <a:lnTo>
                      <a:pt x="154" y="2392"/>
                    </a:lnTo>
                    <a:lnTo>
                      <a:pt x="0" y="2405"/>
                    </a:lnTo>
                    <a:lnTo>
                      <a:pt x="0" y="2494"/>
                    </a:lnTo>
                    <a:lnTo>
                      <a:pt x="162" y="2480"/>
                    </a:lnTo>
                    <a:lnTo>
                      <a:pt x="324" y="2463"/>
                    </a:lnTo>
                    <a:lnTo>
                      <a:pt x="485" y="2443"/>
                    </a:lnTo>
                    <a:lnTo>
                      <a:pt x="647" y="2420"/>
                    </a:lnTo>
                    <a:lnTo>
                      <a:pt x="809" y="2394"/>
                    </a:lnTo>
                    <a:lnTo>
                      <a:pt x="971" y="2365"/>
                    </a:lnTo>
                    <a:lnTo>
                      <a:pt x="1134" y="2333"/>
                    </a:lnTo>
                    <a:lnTo>
                      <a:pt x="1297" y="2298"/>
                    </a:lnTo>
                    <a:lnTo>
                      <a:pt x="1461" y="2260"/>
                    </a:lnTo>
                    <a:lnTo>
                      <a:pt x="1624" y="2218"/>
                    </a:lnTo>
                    <a:lnTo>
                      <a:pt x="1789" y="2174"/>
                    </a:lnTo>
                    <a:lnTo>
                      <a:pt x="1954" y="2127"/>
                    </a:lnTo>
                    <a:lnTo>
                      <a:pt x="2120" y="2076"/>
                    </a:lnTo>
                    <a:lnTo>
                      <a:pt x="2286" y="2023"/>
                    </a:lnTo>
                    <a:lnTo>
                      <a:pt x="2453" y="1966"/>
                    </a:lnTo>
                    <a:lnTo>
                      <a:pt x="2621" y="1907"/>
                    </a:lnTo>
                    <a:lnTo>
                      <a:pt x="2789" y="1844"/>
                    </a:lnTo>
                    <a:lnTo>
                      <a:pt x="2958" y="1778"/>
                    </a:lnTo>
                    <a:lnTo>
                      <a:pt x="3128" y="1709"/>
                    </a:lnTo>
                    <a:lnTo>
                      <a:pt x="3299" y="1638"/>
                    </a:lnTo>
                    <a:lnTo>
                      <a:pt x="3471" y="1563"/>
                    </a:lnTo>
                    <a:lnTo>
                      <a:pt x="3644" y="1485"/>
                    </a:lnTo>
                    <a:lnTo>
                      <a:pt x="3818" y="1404"/>
                    </a:lnTo>
                    <a:lnTo>
                      <a:pt x="3993" y="1320"/>
                    </a:lnTo>
                    <a:lnTo>
                      <a:pt x="4169" y="1233"/>
                    </a:lnTo>
                    <a:lnTo>
                      <a:pt x="4346" y="1143"/>
                    </a:lnTo>
                    <a:lnTo>
                      <a:pt x="4524" y="1050"/>
                    </a:lnTo>
                    <a:lnTo>
                      <a:pt x="4704" y="954"/>
                    </a:lnTo>
                    <a:lnTo>
                      <a:pt x="4885" y="854"/>
                    </a:lnTo>
                    <a:lnTo>
                      <a:pt x="5067" y="752"/>
                    </a:lnTo>
                    <a:lnTo>
                      <a:pt x="5250" y="647"/>
                    </a:lnTo>
                    <a:lnTo>
                      <a:pt x="5435" y="538"/>
                    </a:lnTo>
                    <a:lnTo>
                      <a:pt x="5621" y="427"/>
                    </a:lnTo>
                    <a:lnTo>
                      <a:pt x="5809" y="313"/>
                    </a:lnTo>
                    <a:lnTo>
                      <a:pt x="5998" y="195"/>
                    </a:lnTo>
                    <a:lnTo>
                      <a:pt x="6188" y="75"/>
                    </a:lnTo>
                    <a:lnTo>
                      <a:pt x="6141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57"/>
            <p:cNvGrpSpPr/>
            <p:nvPr/>
          </p:nvGrpSpPr>
          <p:grpSpPr>
            <a:xfrm>
              <a:off x="231840" y="1477800"/>
              <a:ext cx="2950200" cy="1182240"/>
              <a:chOff x="231840" y="1477800"/>
              <a:chExt cx="2950200" cy="1182240"/>
            </a:xfrm>
          </p:grpSpPr>
          <p:sp>
            <p:nvSpPr>
              <p:cNvPr id="115" name="Freeform 81"/>
              <p:cNvSpPr/>
              <p:nvPr/>
            </p:nvSpPr>
            <p:spPr>
              <a:xfrm>
                <a:off x="231840" y="1477800"/>
                <a:ext cx="2950200" cy="1182240"/>
              </a:xfrm>
              <a:custGeom>
                <a:avLst/>
                <a:gdLst/>
                <a:ahLst/>
                <a:rect l="l" t="t" r="r" b="b"/>
                <a:pathLst>
                  <a:path w="6174" h="2898">
                    <a:moveTo>
                      <a:pt x="6155" y="0"/>
                    </a:moveTo>
                    <a:lnTo>
                      <a:pt x="5613" y="339"/>
                    </a:lnTo>
                    <a:lnTo>
                      <a:pt x="5081" y="659"/>
                    </a:lnTo>
                    <a:lnTo>
                      <a:pt x="4558" y="959"/>
                    </a:lnTo>
                    <a:lnTo>
                      <a:pt x="4043" y="1241"/>
                    </a:lnTo>
                    <a:lnTo>
                      <a:pt x="3535" y="1505"/>
                    </a:lnTo>
                    <a:lnTo>
                      <a:pt x="3033" y="1749"/>
                    </a:lnTo>
                    <a:lnTo>
                      <a:pt x="2535" y="1976"/>
                    </a:lnTo>
                    <a:lnTo>
                      <a:pt x="2041" y="2184"/>
                    </a:lnTo>
                    <a:lnTo>
                      <a:pt x="1550" y="2374"/>
                    </a:lnTo>
                    <a:lnTo>
                      <a:pt x="1061" y="2547"/>
                    </a:lnTo>
                    <a:lnTo>
                      <a:pt x="572" y="2703"/>
                    </a:lnTo>
                    <a:lnTo>
                      <a:pt x="83" y="2841"/>
                    </a:lnTo>
                    <a:lnTo>
                      <a:pt x="0" y="2861"/>
                    </a:lnTo>
                    <a:lnTo>
                      <a:pt x="0" y="2897"/>
                    </a:lnTo>
                    <a:lnTo>
                      <a:pt x="92" y="2875"/>
                    </a:lnTo>
                    <a:lnTo>
                      <a:pt x="582" y="2736"/>
                    </a:lnTo>
                    <a:lnTo>
                      <a:pt x="1072" y="2581"/>
                    </a:lnTo>
                    <a:lnTo>
                      <a:pt x="1562" y="2407"/>
                    </a:lnTo>
                    <a:lnTo>
                      <a:pt x="2054" y="2217"/>
                    </a:lnTo>
                    <a:lnTo>
                      <a:pt x="2549" y="2008"/>
                    </a:lnTo>
                    <a:lnTo>
                      <a:pt x="3048" y="1781"/>
                    </a:lnTo>
                    <a:lnTo>
                      <a:pt x="3551" y="1536"/>
                    </a:lnTo>
                    <a:lnTo>
                      <a:pt x="4060" y="1272"/>
                    </a:lnTo>
                    <a:lnTo>
                      <a:pt x="4576" y="990"/>
                    </a:lnTo>
                    <a:lnTo>
                      <a:pt x="5099" y="689"/>
                    </a:lnTo>
                    <a:lnTo>
                      <a:pt x="5632" y="369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58"/>
            <p:cNvGrpSpPr/>
            <p:nvPr/>
          </p:nvGrpSpPr>
          <p:grpSpPr>
            <a:xfrm>
              <a:off x="231840" y="1477800"/>
              <a:ext cx="2950200" cy="1348200"/>
              <a:chOff x="231840" y="1477800"/>
              <a:chExt cx="2950200" cy="1348200"/>
            </a:xfrm>
          </p:grpSpPr>
          <p:sp>
            <p:nvSpPr>
              <p:cNvPr id="117" name="Freeform 80"/>
              <p:cNvSpPr/>
              <p:nvPr/>
            </p:nvSpPr>
            <p:spPr>
              <a:xfrm>
                <a:off x="231840" y="1477800"/>
                <a:ext cx="2950200" cy="1348200"/>
              </a:xfrm>
              <a:custGeom>
                <a:avLst/>
                <a:gdLst/>
                <a:ahLst/>
                <a:rect l="l" t="t" r="r" b="b"/>
                <a:pathLst>
                  <a:path w="6174" h="3304">
                    <a:moveTo>
                      <a:pt x="6155" y="0"/>
                    </a:moveTo>
                    <a:lnTo>
                      <a:pt x="5408" y="468"/>
                    </a:lnTo>
                    <a:lnTo>
                      <a:pt x="4679" y="910"/>
                    </a:lnTo>
                    <a:lnTo>
                      <a:pt x="3966" y="1325"/>
                    </a:lnTo>
                    <a:lnTo>
                      <a:pt x="3265" y="1716"/>
                    </a:lnTo>
                    <a:lnTo>
                      <a:pt x="2574" y="2082"/>
                    </a:lnTo>
                    <a:lnTo>
                      <a:pt x="1890" y="2425"/>
                    </a:lnTo>
                    <a:lnTo>
                      <a:pt x="1210" y="2746"/>
                    </a:lnTo>
                    <a:lnTo>
                      <a:pt x="532" y="3046"/>
                    </a:lnTo>
                    <a:lnTo>
                      <a:pt x="0" y="3265"/>
                    </a:lnTo>
                    <a:lnTo>
                      <a:pt x="0" y="3303"/>
                    </a:lnTo>
                    <a:lnTo>
                      <a:pt x="546" y="3078"/>
                    </a:lnTo>
                    <a:lnTo>
                      <a:pt x="1225" y="2778"/>
                    </a:lnTo>
                    <a:lnTo>
                      <a:pt x="1905" y="2457"/>
                    </a:lnTo>
                    <a:lnTo>
                      <a:pt x="2590" y="2113"/>
                    </a:lnTo>
                    <a:lnTo>
                      <a:pt x="3282" y="1747"/>
                    </a:lnTo>
                    <a:lnTo>
                      <a:pt x="3983" y="1356"/>
                    </a:lnTo>
                    <a:lnTo>
                      <a:pt x="4697" y="940"/>
                    </a:lnTo>
                    <a:lnTo>
                      <a:pt x="5427" y="498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59"/>
            <p:cNvGrpSpPr/>
            <p:nvPr/>
          </p:nvGrpSpPr>
          <p:grpSpPr>
            <a:xfrm>
              <a:off x="231840" y="1480680"/>
              <a:ext cx="2948040" cy="1465920"/>
              <a:chOff x="231840" y="1480680"/>
              <a:chExt cx="2948040" cy="1465920"/>
            </a:xfrm>
          </p:grpSpPr>
          <p:sp>
            <p:nvSpPr>
              <p:cNvPr id="119" name="Freeform 79"/>
              <p:cNvSpPr/>
              <p:nvPr/>
            </p:nvSpPr>
            <p:spPr>
              <a:xfrm>
                <a:off x="231840" y="1480680"/>
                <a:ext cx="2948040" cy="1465920"/>
              </a:xfrm>
              <a:custGeom>
                <a:avLst/>
                <a:gdLst/>
                <a:ahLst/>
                <a:rect l="l" t="t" r="r" b="b"/>
                <a:pathLst>
                  <a:path w="6170" h="3593">
                    <a:moveTo>
                      <a:pt x="6160" y="0"/>
                    </a:moveTo>
                    <a:lnTo>
                      <a:pt x="5414" y="472"/>
                    </a:lnTo>
                    <a:lnTo>
                      <a:pt x="4687" y="923"/>
                    </a:lnTo>
                    <a:lnTo>
                      <a:pt x="3977" y="1355"/>
                    </a:lnTo>
                    <a:lnTo>
                      <a:pt x="3282" y="1769"/>
                    </a:lnTo>
                    <a:lnTo>
                      <a:pt x="2598" y="2166"/>
                    </a:lnTo>
                    <a:lnTo>
                      <a:pt x="1923" y="2547"/>
                    </a:lnTo>
                    <a:lnTo>
                      <a:pt x="1255" y="2914"/>
                    </a:lnTo>
                    <a:lnTo>
                      <a:pt x="590" y="3269"/>
                    </a:lnTo>
                    <a:lnTo>
                      <a:pt x="0" y="3573"/>
                    </a:lnTo>
                    <a:lnTo>
                      <a:pt x="0" y="3593"/>
                    </a:lnTo>
                    <a:lnTo>
                      <a:pt x="598" y="3284"/>
                    </a:lnTo>
                    <a:lnTo>
                      <a:pt x="1263" y="2930"/>
                    </a:lnTo>
                    <a:lnTo>
                      <a:pt x="1932" y="2563"/>
                    </a:lnTo>
                    <a:lnTo>
                      <a:pt x="2607" y="2181"/>
                    </a:lnTo>
                    <a:lnTo>
                      <a:pt x="3291" y="1784"/>
                    </a:lnTo>
                    <a:lnTo>
                      <a:pt x="3986" y="1370"/>
                    </a:lnTo>
                    <a:lnTo>
                      <a:pt x="4696" y="938"/>
                    </a:lnTo>
                    <a:lnTo>
                      <a:pt x="5423" y="487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60"/>
            <p:cNvGrpSpPr/>
            <p:nvPr/>
          </p:nvGrpSpPr>
          <p:grpSpPr>
            <a:xfrm>
              <a:off x="231840" y="1482480"/>
              <a:ext cx="2946600" cy="1550880"/>
              <a:chOff x="231840" y="1482480"/>
              <a:chExt cx="2946600" cy="1550880"/>
            </a:xfrm>
          </p:grpSpPr>
          <p:sp>
            <p:nvSpPr>
              <p:cNvPr id="121" name="Freeform 78"/>
              <p:cNvSpPr/>
              <p:nvPr/>
            </p:nvSpPr>
            <p:spPr>
              <a:xfrm>
                <a:off x="231840" y="1482480"/>
                <a:ext cx="2946600" cy="1550880"/>
              </a:xfrm>
              <a:custGeom>
                <a:avLst/>
                <a:gdLst/>
                <a:ahLst/>
                <a:rect l="l" t="t" r="r" b="b"/>
                <a:pathLst>
                  <a:path w="6167" h="3801">
                    <a:moveTo>
                      <a:pt x="6162" y="0"/>
                    </a:moveTo>
                    <a:lnTo>
                      <a:pt x="3987" y="1373"/>
                    </a:lnTo>
                    <a:lnTo>
                      <a:pt x="1958" y="2622"/>
                    </a:lnTo>
                    <a:lnTo>
                      <a:pt x="0" y="3791"/>
                    </a:lnTo>
                    <a:lnTo>
                      <a:pt x="0" y="3801"/>
                    </a:lnTo>
                    <a:lnTo>
                      <a:pt x="1963" y="2630"/>
                    </a:lnTo>
                    <a:lnTo>
                      <a:pt x="3992" y="1380"/>
                    </a:lnTo>
                    <a:lnTo>
                      <a:pt x="6167" y="7"/>
                    </a:lnTo>
                    <a:lnTo>
                      <a:pt x="6162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61"/>
            <p:cNvGrpSpPr/>
            <p:nvPr/>
          </p:nvGrpSpPr>
          <p:grpSpPr>
            <a:xfrm>
              <a:off x="231840" y="1480680"/>
              <a:ext cx="2948040" cy="1640520"/>
              <a:chOff x="231840" y="1480680"/>
              <a:chExt cx="2948040" cy="1640520"/>
            </a:xfrm>
          </p:grpSpPr>
          <p:sp>
            <p:nvSpPr>
              <p:cNvPr id="123" name="Freeform 77"/>
              <p:cNvSpPr/>
              <p:nvPr/>
            </p:nvSpPr>
            <p:spPr>
              <a:xfrm>
                <a:off x="231840" y="1480680"/>
                <a:ext cx="2948040" cy="1640520"/>
              </a:xfrm>
              <a:custGeom>
                <a:avLst/>
                <a:gdLst/>
                <a:ahLst/>
                <a:rect l="l" t="t" r="r" b="b"/>
                <a:pathLst>
                  <a:path w="6170" h="4021">
                    <a:moveTo>
                      <a:pt x="6160" y="0"/>
                    </a:moveTo>
                    <a:lnTo>
                      <a:pt x="3994" y="1388"/>
                    </a:lnTo>
                    <a:lnTo>
                      <a:pt x="0" y="4000"/>
                    </a:lnTo>
                    <a:lnTo>
                      <a:pt x="0" y="4021"/>
                    </a:lnTo>
                    <a:lnTo>
                      <a:pt x="4004" y="1403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62"/>
            <p:cNvGrpSpPr/>
            <p:nvPr/>
          </p:nvGrpSpPr>
          <p:grpSpPr>
            <a:xfrm>
              <a:off x="231840" y="1480680"/>
              <a:ext cx="2948040" cy="1726920"/>
              <a:chOff x="231840" y="1480680"/>
              <a:chExt cx="2948040" cy="1726920"/>
            </a:xfrm>
          </p:grpSpPr>
          <p:sp>
            <p:nvSpPr>
              <p:cNvPr id="125" name="Freeform 76"/>
              <p:cNvSpPr/>
              <p:nvPr/>
            </p:nvSpPr>
            <p:spPr>
              <a:xfrm>
                <a:off x="231840" y="1480680"/>
                <a:ext cx="2948040" cy="1726920"/>
              </a:xfrm>
              <a:custGeom>
                <a:avLst/>
                <a:gdLst/>
                <a:ahLst/>
                <a:rect l="l" t="t" r="r" b="b"/>
                <a:pathLst>
                  <a:path w="6170" h="4232">
                    <a:moveTo>
                      <a:pt x="6160" y="0"/>
                    </a:moveTo>
                    <a:lnTo>
                      <a:pt x="5417" y="477"/>
                    </a:lnTo>
                    <a:lnTo>
                      <a:pt x="4004" y="1401"/>
                    </a:lnTo>
                    <a:lnTo>
                      <a:pt x="3331" y="1852"/>
                    </a:lnTo>
                    <a:lnTo>
                      <a:pt x="2676" y="2298"/>
                    </a:lnTo>
                    <a:lnTo>
                      <a:pt x="2037" y="2740"/>
                    </a:lnTo>
                    <a:lnTo>
                      <a:pt x="1412" y="3181"/>
                    </a:lnTo>
                    <a:lnTo>
                      <a:pt x="798" y="3622"/>
                    </a:lnTo>
                    <a:lnTo>
                      <a:pt x="193" y="4066"/>
                    </a:lnTo>
                    <a:lnTo>
                      <a:pt x="0" y="4210"/>
                    </a:lnTo>
                    <a:lnTo>
                      <a:pt x="0" y="4232"/>
                    </a:lnTo>
                    <a:lnTo>
                      <a:pt x="204" y="4080"/>
                    </a:lnTo>
                    <a:lnTo>
                      <a:pt x="808" y="3637"/>
                    </a:lnTo>
                    <a:lnTo>
                      <a:pt x="1422" y="3195"/>
                    </a:lnTo>
                    <a:lnTo>
                      <a:pt x="2047" y="2755"/>
                    </a:lnTo>
                    <a:lnTo>
                      <a:pt x="2686" y="2312"/>
                    </a:lnTo>
                    <a:lnTo>
                      <a:pt x="3340" y="1867"/>
                    </a:lnTo>
                    <a:lnTo>
                      <a:pt x="4014" y="1416"/>
                    </a:lnTo>
                    <a:lnTo>
                      <a:pt x="5426" y="492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63"/>
            <p:cNvGrpSpPr/>
            <p:nvPr/>
          </p:nvGrpSpPr>
          <p:grpSpPr>
            <a:xfrm>
              <a:off x="2219040" y="601560"/>
              <a:ext cx="9000" cy="4320"/>
              <a:chOff x="2219040" y="601560"/>
              <a:chExt cx="9000" cy="4320"/>
            </a:xfrm>
          </p:grpSpPr>
          <p:sp>
            <p:nvSpPr>
              <p:cNvPr id="127" name="Freeform 75"/>
              <p:cNvSpPr/>
              <p:nvPr/>
            </p:nvSpPr>
            <p:spPr>
              <a:xfrm>
                <a:off x="2219040" y="6015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8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2" y="11"/>
                    </a:lnTo>
                    <a:lnTo>
                      <a:pt x="15" y="10"/>
                    </a:lnTo>
                    <a:lnTo>
                      <a:pt x="18" y="5"/>
                    </a:lnTo>
                    <a:lnTo>
                      <a:pt x="19" y="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64"/>
            <p:cNvGrpSpPr/>
            <p:nvPr/>
          </p:nvGrpSpPr>
          <p:grpSpPr>
            <a:xfrm>
              <a:off x="2232360" y="607320"/>
              <a:ext cx="9360" cy="7200"/>
              <a:chOff x="2232360" y="607320"/>
              <a:chExt cx="9360" cy="7200"/>
            </a:xfrm>
          </p:grpSpPr>
          <p:sp>
            <p:nvSpPr>
              <p:cNvPr id="129" name="Freeform 74"/>
              <p:cNvSpPr/>
              <p:nvPr/>
            </p:nvSpPr>
            <p:spPr>
              <a:xfrm>
                <a:off x="2232360" y="60732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2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65"/>
            <p:cNvGrpSpPr/>
            <p:nvPr/>
          </p:nvGrpSpPr>
          <p:grpSpPr>
            <a:xfrm>
              <a:off x="2248200" y="619200"/>
              <a:ext cx="6840" cy="3600"/>
              <a:chOff x="2248200" y="619200"/>
              <a:chExt cx="6840" cy="3600"/>
            </a:xfrm>
          </p:grpSpPr>
          <p:sp>
            <p:nvSpPr>
              <p:cNvPr id="131" name="Freeform 73"/>
              <p:cNvSpPr/>
              <p:nvPr/>
            </p:nvSpPr>
            <p:spPr>
              <a:xfrm>
                <a:off x="2248200" y="61920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0"/>
                    </a:moveTo>
                    <a:lnTo>
                      <a:pt x="5" y="0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5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66"/>
            <p:cNvGrpSpPr/>
            <p:nvPr/>
          </p:nvGrpSpPr>
          <p:grpSpPr>
            <a:xfrm>
              <a:off x="2245680" y="615960"/>
              <a:ext cx="9360" cy="6120"/>
              <a:chOff x="2245680" y="615960"/>
              <a:chExt cx="9360" cy="6120"/>
            </a:xfrm>
          </p:grpSpPr>
          <p:sp>
            <p:nvSpPr>
              <p:cNvPr id="133" name="Freeform 72"/>
              <p:cNvSpPr/>
              <p:nvPr/>
            </p:nvSpPr>
            <p:spPr>
              <a:xfrm>
                <a:off x="2245680" y="61596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5" y="15"/>
                    </a:lnTo>
                    <a:lnTo>
                      <a:pt x="10" y="8"/>
                    </a:lnTo>
                    <a:lnTo>
                      <a:pt x="20" y="8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67"/>
            <p:cNvGrpSpPr/>
            <p:nvPr/>
          </p:nvGrpSpPr>
          <p:grpSpPr>
            <a:xfrm>
              <a:off x="2259000" y="624600"/>
              <a:ext cx="9360" cy="7200"/>
              <a:chOff x="2259000" y="624600"/>
              <a:chExt cx="9360" cy="7200"/>
            </a:xfrm>
          </p:grpSpPr>
          <p:sp>
            <p:nvSpPr>
              <p:cNvPr id="135" name="Freeform 71"/>
              <p:cNvSpPr/>
              <p:nvPr/>
            </p:nvSpPr>
            <p:spPr>
              <a:xfrm>
                <a:off x="2259000" y="62460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68"/>
            <p:cNvGrpSpPr/>
            <p:nvPr/>
          </p:nvGrpSpPr>
          <p:grpSpPr>
            <a:xfrm>
              <a:off x="227160" y="633240"/>
              <a:ext cx="3561480" cy="5851800"/>
              <a:chOff x="227160" y="633240"/>
              <a:chExt cx="3561480" cy="5851800"/>
            </a:xfrm>
          </p:grpSpPr>
          <p:sp>
            <p:nvSpPr>
              <p:cNvPr id="137" name="Freeform 69"/>
              <p:cNvSpPr/>
              <p:nvPr/>
            </p:nvSpPr>
            <p:spPr>
              <a:xfrm>
                <a:off x="2273400" y="6332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5"/>
                    </a:lnTo>
                    <a:lnTo>
                      <a:pt x="14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Picture 70" descr=""/>
              <p:cNvPicPr/>
              <p:nvPr/>
            </p:nvPicPr>
            <p:blipFill>
              <a:blip r:embed="rId2"/>
              <a:stretch/>
            </p:blipFill>
            <p:spPr>
              <a:xfrm>
                <a:off x="227160" y="637560"/>
                <a:ext cx="3561480" cy="5847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9" name="TextBox 142"/>
          <p:cNvSpPr/>
          <p:nvPr/>
        </p:nvSpPr>
        <p:spPr>
          <a:xfrm>
            <a:off x="5006880" y="91908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43"/>
          <p:cNvSpPr/>
          <p:nvPr/>
        </p:nvSpPr>
        <p:spPr>
          <a:xfrm>
            <a:off x="5192640" y="3114720"/>
            <a:ext cx="34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44"/>
          <p:cNvSpPr/>
          <p:nvPr/>
        </p:nvSpPr>
        <p:spPr>
          <a:xfrm>
            <a:off x="5192640" y="4351320"/>
            <a:ext cx="32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to Global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6D0F8-46FC-4579-A51F-46627842C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B17CC6-805E-43EB-9447-BDC59AB39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8BC874-5B40-4C50-89A2-95208C572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F85477-8F58-4CAC-BD20-2E4444695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536BC-B562-425F-BC41-92C3C3239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8D9DCB-1A6C-4AEF-B53B-6940A4C83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D2B0AE-40FC-4F4B-83A1-221A062FA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FE6E2-03C7-412F-A499-6A718C33F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1C5F8-C32B-45BC-8ACD-A5EFD59E1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5B1B1-2841-4A4F-8BC4-A37D80B33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6" descr="Untitled.png"/>
          <p:cNvPicPr/>
          <p:nvPr/>
        </p:nvPicPr>
        <p:blipFill>
          <a:blip r:embed="rId2"/>
          <a:stretch/>
        </p:blipFill>
        <p:spPr>
          <a:xfrm>
            <a:off x="2687760" y="1490760"/>
            <a:ext cx="3539880" cy="53229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89193-C787-4429-B8B2-3C39D80E7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7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E82A71-C81D-45E4-9CF4-268531D48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BB94C-1386-4FD8-A532-C56E5D9E2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33AC0C-CDF6-42A4-9209-745A7AA11F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178643-FFBD-4AEF-8751-B09A67081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38E08D-0451-4B6F-B8C6-533FA0A1F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85C67-8D09-48FC-8B4B-CC3EC27EA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C44E72-D8F7-468D-AD55-AFA493D71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A9A955-BA66-4195-88AD-B98BAEF9E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39644-0EC7-415C-BEA8-8604FEDE8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28BA0D-0B88-4A0A-B98E-A6D43A4AC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6E7A6B-200B-417C-A09D-CA25DE80C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6"/>
          <p:cNvGrpSpPr/>
          <p:nvPr/>
        </p:nvGrpSpPr>
        <p:grpSpPr>
          <a:xfrm>
            <a:off x="227160" y="601560"/>
            <a:ext cx="4130640" cy="5883480"/>
            <a:chOff x="227160" y="601560"/>
            <a:chExt cx="4130640" cy="5883480"/>
          </a:xfrm>
        </p:grpSpPr>
        <p:grpSp>
          <p:nvGrpSpPr>
            <p:cNvPr id="463" name="Group 7"/>
            <p:cNvGrpSpPr/>
            <p:nvPr/>
          </p:nvGrpSpPr>
          <p:grpSpPr>
            <a:xfrm>
              <a:off x="2430360" y="830160"/>
              <a:ext cx="1494360" cy="1276200"/>
              <a:chOff x="2430360" y="830160"/>
              <a:chExt cx="1494360" cy="1276200"/>
            </a:xfrm>
          </p:grpSpPr>
          <p:sp>
            <p:nvSpPr>
              <p:cNvPr id="464" name="Freeform 141"/>
              <p:cNvSpPr/>
              <p:nvPr/>
            </p:nvSpPr>
            <p:spPr>
              <a:xfrm>
                <a:off x="2430360" y="830160"/>
                <a:ext cx="1494360" cy="1276200"/>
              </a:xfrm>
              <a:custGeom>
                <a:avLst/>
                <a:gdLst/>
                <a:ahLst/>
                <a:rect l="l" t="t" r="r" b="b"/>
                <a:pathLst>
                  <a:path w="3128" h="3128">
                    <a:moveTo>
                      <a:pt x="1550" y="0"/>
                    </a:moveTo>
                    <a:lnTo>
                      <a:pt x="1429" y="6"/>
                    </a:lnTo>
                    <a:lnTo>
                      <a:pt x="1308" y="21"/>
                    </a:lnTo>
                    <a:lnTo>
                      <a:pt x="1188" y="46"/>
                    </a:lnTo>
                    <a:lnTo>
                      <a:pt x="1070" y="80"/>
                    </a:lnTo>
                    <a:lnTo>
                      <a:pt x="953" y="124"/>
                    </a:lnTo>
                    <a:lnTo>
                      <a:pt x="839" y="179"/>
                    </a:lnTo>
                    <a:lnTo>
                      <a:pt x="728" y="243"/>
                    </a:lnTo>
                    <a:lnTo>
                      <a:pt x="622" y="316"/>
                    </a:lnTo>
                    <a:lnTo>
                      <a:pt x="525" y="396"/>
                    </a:lnTo>
                    <a:lnTo>
                      <a:pt x="435" y="482"/>
                    </a:lnTo>
                    <a:lnTo>
                      <a:pt x="353" y="574"/>
                    </a:lnTo>
                    <a:lnTo>
                      <a:pt x="279" y="672"/>
                    </a:lnTo>
                    <a:lnTo>
                      <a:pt x="214" y="774"/>
                    </a:lnTo>
                    <a:lnTo>
                      <a:pt x="157" y="881"/>
                    </a:lnTo>
                    <a:lnTo>
                      <a:pt x="109" y="992"/>
                    </a:lnTo>
                    <a:lnTo>
                      <a:pt x="69" y="1105"/>
                    </a:lnTo>
                    <a:lnTo>
                      <a:pt x="38" y="1221"/>
                    </a:lnTo>
                    <a:lnTo>
                      <a:pt x="16" y="1339"/>
                    </a:lnTo>
                    <a:lnTo>
                      <a:pt x="4" y="1459"/>
                    </a:lnTo>
                    <a:lnTo>
                      <a:pt x="0" y="1579"/>
                    </a:lnTo>
                    <a:lnTo>
                      <a:pt x="6" y="1700"/>
                    </a:lnTo>
                    <a:lnTo>
                      <a:pt x="21" y="1820"/>
                    </a:lnTo>
                    <a:lnTo>
                      <a:pt x="45" y="1940"/>
                    </a:lnTo>
                    <a:lnTo>
                      <a:pt x="80" y="2059"/>
                    </a:lnTo>
                    <a:lnTo>
                      <a:pt x="124" y="2175"/>
                    </a:lnTo>
                    <a:lnTo>
                      <a:pt x="178" y="2289"/>
                    </a:lnTo>
                    <a:lnTo>
                      <a:pt x="242" y="2401"/>
                    </a:lnTo>
                    <a:lnTo>
                      <a:pt x="315" y="2506"/>
                    </a:lnTo>
                    <a:lnTo>
                      <a:pt x="395" y="2604"/>
                    </a:lnTo>
                    <a:lnTo>
                      <a:pt x="482" y="2694"/>
                    </a:lnTo>
                    <a:lnTo>
                      <a:pt x="574" y="2776"/>
                    </a:lnTo>
                    <a:lnTo>
                      <a:pt x="672" y="2849"/>
                    </a:lnTo>
                    <a:lnTo>
                      <a:pt x="774" y="2915"/>
                    </a:lnTo>
                    <a:lnTo>
                      <a:pt x="881" y="2972"/>
                    </a:lnTo>
                    <a:lnTo>
                      <a:pt x="991" y="3020"/>
                    </a:lnTo>
                    <a:lnTo>
                      <a:pt x="1105" y="3060"/>
                    </a:lnTo>
                    <a:lnTo>
                      <a:pt x="1221" y="3090"/>
                    </a:lnTo>
                    <a:lnTo>
                      <a:pt x="1339" y="3112"/>
                    </a:lnTo>
                    <a:lnTo>
                      <a:pt x="1458" y="3125"/>
                    </a:lnTo>
                    <a:lnTo>
                      <a:pt x="1579" y="3129"/>
                    </a:lnTo>
                    <a:lnTo>
                      <a:pt x="1699" y="3123"/>
                    </a:lnTo>
                    <a:lnTo>
                      <a:pt x="1820" y="3108"/>
                    </a:lnTo>
                    <a:lnTo>
                      <a:pt x="1940" y="3083"/>
                    </a:lnTo>
                    <a:lnTo>
                      <a:pt x="2058" y="3049"/>
                    </a:lnTo>
                    <a:lnTo>
                      <a:pt x="2175" y="3005"/>
                    </a:lnTo>
                    <a:lnTo>
                      <a:pt x="2289" y="2951"/>
                    </a:lnTo>
                    <a:lnTo>
                      <a:pt x="2400" y="2886"/>
                    </a:lnTo>
                    <a:lnTo>
                      <a:pt x="2506" y="2813"/>
                    </a:lnTo>
                    <a:lnTo>
                      <a:pt x="2604" y="2733"/>
                    </a:lnTo>
                    <a:lnTo>
                      <a:pt x="2694" y="2647"/>
                    </a:lnTo>
                    <a:lnTo>
                      <a:pt x="2775" y="2555"/>
                    </a:lnTo>
                    <a:lnTo>
                      <a:pt x="2849" y="2457"/>
                    </a:lnTo>
                    <a:lnTo>
                      <a:pt x="2914" y="2355"/>
                    </a:lnTo>
                    <a:lnTo>
                      <a:pt x="2971" y="2248"/>
                    </a:lnTo>
                    <a:lnTo>
                      <a:pt x="3020" y="2138"/>
                    </a:lnTo>
                    <a:lnTo>
                      <a:pt x="3059" y="2024"/>
                    </a:lnTo>
                    <a:lnTo>
                      <a:pt x="3090" y="1908"/>
                    </a:lnTo>
                    <a:lnTo>
                      <a:pt x="3112" y="1790"/>
                    </a:lnTo>
                    <a:lnTo>
                      <a:pt x="3125" y="1670"/>
                    </a:lnTo>
                    <a:lnTo>
                      <a:pt x="3128" y="1550"/>
                    </a:lnTo>
                    <a:lnTo>
                      <a:pt x="3123" y="1429"/>
                    </a:lnTo>
                    <a:lnTo>
                      <a:pt x="3108" y="1309"/>
                    </a:lnTo>
                    <a:lnTo>
                      <a:pt x="3083" y="1189"/>
                    </a:lnTo>
                    <a:lnTo>
                      <a:pt x="3048" y="1070"/>
                    </a:lnTo>
                    <a:lnTo>
                      <a:pt x="3004" y="954"/>
                    </a:lnTo>
                    <a:lnTo>
                      <a:pt x="2950" y="840"/>
                    </a:lnTo>
                    <a:lnTo>
                      <a:pt x="2886" y="728"/>
                    </a:lnTo>
                    <a:lnTo>
                      <a:pt x="2813" y="623"/>
                    </a:lnTo>
                    <a:lnTo>
                      <a:pt x="2733" y="525"/>
                    </a:lnTo>
                    <a:lnTo>
                      <a:pt x="2647" y="435"/>
                    </a:lnTo>
                    <a:lnTo>
                      <a:pt x="2554" y="353"/>
                    </a:lnTo>
                    <a:lnTo>
                      <a:pt x="2457" y="280"/>
                    </a:lnTo>
                    <a:lnTo>
                      <a:pt x="2354" y="214"/>
                    </a:lnTo>
                    <a:lnTo>
                      <a:pt x="2248" y="157"/>
                    </a:lnTo>
                    <a:lnTo>
                      <a:pt x="2137" y="109"/>
                    </a:lnTo>
                    <a:lnTo>
                      <a:pt x="2024" y="69"/>
                    </a:lnTo>
                    <a:lnTo>
                      <a:pt x="1908" y="39"/>
                    </a:lnTo>
                    <a:lnTo>
                      <a:pt x="1790" y="17"/>
                    </a:lnTo>
                    <a:lnTo>
                      <a:pt x="1670" y="4"/>
                    </a:lnTo>
                    <a:lnTo>
                      <a:pt x="155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8"/>
            <p:cNvGrpSpPr/>
            <p:nvPr/>
          </p:nvGrpSpPr>
          <p:grpSpPr>
            <a:xfrm>
              <a:off x="3094560" y="2134080"/>
              <a:ext cx="1263240" cy="1078920"/>
              <a:chOff x="3094560" y="2134080"/>
              <a:chExt cx="1263240" cy="1078920"/>
            </a:xfrm>
          </p:grpSpPr>
          <p:sp>
            <p:nvSpPr>
              <p:cNvPr id="466" name="Freeform 140"/>
              <p:cNvSpPr/>
              <p:nvPr/>
            </p:nvSpPr>
            <p:spPr>
              <a:xfrm>
                <a:off x="3094560" y="2134080"/>
                <a:ext cx="1263240" cy="1078920"/>
              </a:xfrm>
              <a:custGeom>
                <a:avLst/>
                <a:gdLst/>
                <a:ahLst/>
                <a:rect l="l" t="t" r="r" b="b"/>
                <a:pathLst>
                  <a:path w="2644" h="2644">
                    <a:moveTo>
                      <a:pt x="1311" y="0"/>
                    </a:moveTo>
                    <a:lnTo>
                      <a:pt x="1205" y="5"/>
                    </a:lnTo>
                    <a:lnTo>
                      <a:pt x="1097" y="19"/>
                    </a:lnTo>
                    <a:lnTo>
                      <a:pt x="991" y="42"/>
                    </a:lnTo>
                    <a:lnTo>
                      <a:pt x="889" y="73"/>
                    </a:lnTo>
                    <a:lnTo>
                      <a:pt x="791" y="111"/>
                    </a:lnTo>
                    <a:lnTo>
                      <a:pt x="697" y="157"/>
                    </a:lnTo>
                    <a:lnTo>
                      <a:pt x="608" y="209"/>
                    </a:lnTo>
                    <a:lnTo>
                      <a:pt x="524" y="268"/>
                    </a:lnTo>
                    <a:lnTo>
                      <a:pt x="445" y="333"/>
                    </a:lnTo>
                    <a:lnTo>
                      <a:pt x="371" y="403"/>
                    </a:lnTo>
                    <a:lnTo>
                      <a:pt x="304" y="479"/>
                    </a:lnTo>
                    <a:lnTo>
                      <a:pt x="242" y="560"/>
                    </a:lnTo>
                    <a:lnTo>
                      <a:pt x="187" y="645"/>
                    </a:lnTo>
                    <a:lnTo>
                      <a:pt x="138" y="734"/>
                    </a:lnTo>
                    <a:lnTo>
                      <a:pt x="96" y="827"/>
                    </a:lnTo>
                    <a:lnTo>
                      <a:pt x="62" y="923"/>
                    </a:lnTo>
                    <a:lnTo>
                      <a:pt x="34" y="1022"/>
                    </a:lnTo>
                    <a:lnTo>
                      <a:pt x="15" y="1124"/>
                    </a:lnTo>
                    <a:lnTo>
                      <a:pt x="3" y="1227"/>
                    </a:lnTo>
                    <a:lnTo>
                      <a:pt x="0" y="1332"/>
                    </a:lnTo>
                    <a:lnTo>
                      <a:pt x="6" y="1439"/>
                    </a:lnTo>
                    <a:lnTo>
                      <a:pt x="20" y="1547"/>
                    </a:lnTo>
                    <a:lnTo>
                      <a:pt x="42" y="1653"/>
                    </a:lnTo>
                    <a:lnTo>
                      <a:pt x="73" y="1755"/>
                    </a:lnTo>
                    <a:lnTo>
                      <a:pt x="112" y="1853"/>
                    </a:lnTo>
                    <a:lnTo>
                      <a:pt x="157" y="1947"/>
                    </a:lnTo>
                    <a:lnTo>
                      <a:pt x="210" y="2036"/>
                    </a:lnTo>
                    <a:lnTo>
                      <a:pt x="268" y="2120"/>
                    </a:lnTo>
                    <a:lnTo>
                      <a:pt x="333" y="2199"/>
                    </a:lnTo>
                    <a:lnTo>
                      <a:pt x="404" y="2273"/>
                    </a:lnTo>
                    <a:lnTo>
                      <a:pt x="480" y="2340"/>
                    </a:lnTo>
                    <a:lnTo>
                      <a:pt x="560" y="2402"/>
                    </a:lnTo>
                    <a:lnTo>
                      <a:pt x="645" y="2457"/>
                    </a:lnTo>
                    <a:lnTo>
                      <a:pt x="735" y="2506"/>
                    </a:lnTo>
                    <a:lnTo>
                      <a:pt x="827" y="2548"/>
                    </a:lnTo>
                    <a:lnTo>
                      <a:pt x="924" y="2582"/>
                    </a:lnTo>
                    <a:lnTo>
                      <a:pt x="1023" y="2609"/>
                    </a:lnTo>
                    <a:lnTo>
                      <a:pt x="1124" y="2629"/>
                    </a:lnTo>
                    <a:lnTo>
                      <a:pt x="1228" y="2640"/>
                    </a:lnTo>
                    <a:lnTo>
                      <a:pt x="1333" y="2644"/>
                    </a:lnTo>
                    <a:lnTo>
                      <a:pt x="1440" y="2638"/>
                    </a:lnTo>
                    <a:lnTo>
                      <a:pt x="1547" y="2624"/>
                    </a:lnTo>
                    <a:lnTo>
                      <a:pt x="1653" y="2601"/>
                    </a:lnTo>
                    <a:lnTo>
                      <a:pt x="1756" y="2571"/>
                    </a:lnTo>
                    <a:lnTo>
                      <a:pt x="1854" y="2532"/>
                    </a:lnTo>
                    <a:lnTo>
                      <a:pt x="1947" y="2487"/>
                    </a:lnTo>
                    <a:lnTo>
                      <a:pt x="2037" y="2434"/>
                    </a:lnTo>
                    <a:lnTo>
                      <a:pt x="2121" y="2375"/>
                    </a:lnTo>
                    <a:lnTo>
                      <a:pt x="2200" y="2311"/>
                    </a:lnTo>
                    <a:lnTo>
                      <a:pt x="2273" y="2240"/>
                    </a:lnTo>
                    <a:lnTo>
                      <a:pt x="2341" y="2164"/>
                    </a:lnTo>
                    <a:lnTo>
                      <a:pt x="2402" y="2084"/>
                    </a:lnTo>
                    <a:lnTo>
                      <a:pt x="2458" y="1999"/>
                    </a:lnTo>
                    <a:lnTo>
                      <a:pt x="2506" y="1909"/>
                    </a:lnTo>
                    <a:lnTo>
                      <a:pt x="2548" y="1816"/>
                    </a:lnTo>
                    <a:lnTo>
                      <a:pt x="2583" y="1720"/>
                    </a:lnTo>
                    <a:lnTo>
                      <a:pt x="2610" y="1621"/>
                    </a:lnTo>
                    <a:lnTo>
                      <a:pt x="2629" y="1520"/>
                    </a:lnTo>
                    <a:lnTo>
                      <a:pt x="2641" y="1416"/>
                    </a:lnTo>
                    <a:lnTo>
                      <a:pt x="2644" y="1311"/>
                    </a:lnTo>
                    <a:lnTo>
                      <a:pt x="2639" y="1204"/>
                    </a:lnTo>
                    <a:lnTo>
                      <a:pt x="2625" y="1097"/>
                    </a:lnTo>
                    <a:lnTo>
                      <a:pt x="2602" y="991"/>
                    </a:lnTo>
                    <a:lnTo>
                      <a:pt x="2571" y="888"/>
                    </a:lnTo>
                    <a:lnTo>
                      <a:pt x="2533" y="790"/>
                    </a:lnTo>
                    <a:lnTo>
                      <a:pt x="2487" y="696"/>
                    </a:lnTo>
                    <a:lnTo>
                      <a:pt x="2435" y="607"/>
                    </a:lnTo>
                    <a:lnTo>
                      <a:pt x="2376" y="523"/>
                    </a:lnTo>
                    <a:lnTo>
                      <a:pt x="2311" y="444"/>
                    </a:lnTo>
                    <a:lnTo>
                      <a:pt x="2241" y="371"/>
                    </a:lnTo>
                    <a:lnTo>
                      <a:pt x="2165" y="303"/>
                    </a:lnTo>
                    <a:lnTo>
                      <a:pt x="2084" y="241"/>
                    </a:lnTo>
                    <a:lnTo>
                      <a:pt x="1999" y="186"/>
                    </a:lnTo>
                    <a:lnTo>
                      <a:pt x="1910" y="138"/>
                    </a:lnTo>
                    <a:lnTo>
                      <a:pt x="1817" y="96"/>
                    </a:lnTo>
                    <a:lnTo>
                      <a:pt x="1721" y="61"/>
                    </a:lnTo>
                    <a:lnTo>
                      <a:pt x="1622" y="34"/>
                    </a:lnTo>
                    <a:lnTo>
                      <a:pt x="1520" y="14"/>
                    </a:lnTo>
                    <a:lnTo>
                      <a:pt x="1417" y="3"/>
                    </a:lnTo>
                    <a:lnTo>
                      <a:pt x="131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9"/>
            <p:cNvGrpSpPr/>
            <p:nvPr/>
          </p:nvGrpSpPr>
          <p:grpSpPr>
            <a:xfrm>
              <a:off x="3316320" y="3307320"/>
              <a:ext cx="850320" cy="726120"/>
              <a:chOff x="3316320" y="3307320"/>
              <a:chExt cx="850320" cy="726120"/>
            </a:xfrm>
          </p:grpSpPr>
          <p:sp>
            <p:nvSpPr>
              <p:cNvPr id="468" name="Freeform 139"/>
              <p:cNvSpPr/>
              <p:nvPr/>
            </p:nvSpPr>
            <p:spPr>
              <a:xfrm>
                <a:off x="3316320" y="3307320"/>
                <a:ext cx="850320" cy="726120"/>
              </a:xfrm>
              <a:custGeom>
                <a:avLst/>
                <a:gdLst/>
                <a:ahLst/>
                <a:rect l="l" t="t" r="r" b="b"/>
                <a:pathLst>
                  <a:path w="1780" h="1780">
                    <a:moveTo>
                      <a:pt x="864" y="0"/>
                    </a:moveTo>
                    <a:lnTo>
                      <a:pt x="794" y="5"/>
                    </a:lnTo>
                    <a:lnTo>
                      <a:pt x="724" y="15"/>
                    </a:lnTo>
                    <a:lnTo>
                      <a:pt x="656" y="31"/>
                    </a:lnTo>
                    <a:lnTo>
                      <a:pt x="590" y="52"/>
                    </a:lnTo>
                    <a:lnTo>
                      <a:pt x="527" y="77"/>
                    </a:lnTo>
                    <a:lnTo>
                      <a:pt x="465" y="108"/>
                    </a:lnTo>
                    <a:lnTo>
                      <a:pt x="406" y="143"/>
                    </a:lnTo>
                    <a:lnTo>
                      <a:pt x="350" y="182"/>
                    </a:lnTo>
                    <a:lnTo>
                      <a:pt x="298" y="226"/>
                    </a:lnTo>
                    <a:lnTo>
                      <a:pt x="248" y="273"/>
                    </a:lnTo>
                    <a:lnTo>
                      <a:pt x="203" y="324"/>
                    </a:lnTo>
                    <a:lnTo>
                      <a:pt x="161" y="379"/>
                    </a:lnTo>
                    <a:lnTo>
                      <a:pt x="123" y="437"/>
                    </a:lnTo>
                    <a:lnTo>
                      <a:pt x="90" y="498"/>
                    </a:lnTo>
                    <a:lnTo>
                      <a:pt x="62" y="563"/>
                    </a:lnTo>
                    <a:lnTo>
                      <a:pt x="39" y="630"/>
                    </a:lnTo>
                    <a:lnTo>
                      <a:pt x="20" y="699"/>
                    </a:lnTo>
                    <a:lnTo>
                      <a:pt x="8" y="771"/>
                    </a:lnTo>
                    <a:lnTo>
                      <a:pt x="1" y="844"/>
                    </a:lnTo>
                    <a:lnTo>
                      <a:pt x="0" y="916"/>
                    </a:lnTo>
                    <a:lnTo>
                      <a:pt x="5" y="987"/>
                    </a:lnTo>
                    <a:lnTo>
                      <a:pt x="15" y="1056"/>
                    </a:lnTo>
                    <a:lnTo>
                      <a:pt x="31" y="1124"/>
                    </a:lnTo>
                    <a:lnTo>
                      <a:pt x="52" y="1190"/>
                    </a:lnTo>
                    <a:lnTo>
                      <a:pt x="77" y="1254"/>
                    </a:lnTo>
                    <a:lnTo>
                      <a:pt x="108" y="1315"/>
                    </a:lnTo>
                    <a:lnTo>
                      <a:pt x="143" y="1374"/>
                    </a:lnTo>
                    <a:lnTo>
                      <a:pt x="182" y="1430"/>
                    </a:lnTo>
                    <a:lnTo>
                      <a:pt x="226" y="1483"/>
                    </a:lnTo>
                    <a:lnTo>
                      <a:pt x="273" y="1532"/>
                    </a:lnTo>
                    <a:lnTo>
                      <a:pt x="324" y="1578"/>
                    </a:lnTo>
                    <a:lnTo>
                      <a:pt x="379" y="1619"/>
                    </a:lnTo>
                    <a:lnTo>
                      <a:pt x="437" y="1657"/>
                    </a:lnTo>
                    <a:lnTo>
                      <a:pt x="498" y="1690"/>
                    </a:lnTo>
                    <a:lnTo>
                      <a:pt x="563" y="1718"/>
                    </a:lnTo>
                    <a:lnTo>
                      <a:pt x="630" y="1742"/>
                    </a:lnTo>
                    <a:lnTo>
                      <a:pt x="699" y="1760"/>
                    </a:lnTo>
                    <a:lnTo>
                      <a:pt x="771" y="1772"/>
                    </a:lnTo>
                    <a:lnTo>
                      <a:pt x="844" y="1779"/>
                    </a:lnTo>
                    <a:lnTo>
                      <a:pt x="916" y="1780"/>
                    </a:lnTo>
                    <a:lnTo>
                      <a:pt x="987" y="1775"/>
                    </a:lnTo>
                    <a:lnTo>
                      <a:pt x="1056" y="1765"/>
                    </a:lnTo>
                    <a:lnTo>
                      <a:pt x="1124" y="1749"/>
                    </a:lnTo>
                    <a:lnTo>
                      <a:pt x="1190" y="1729"/>
                    </a:lnTo>
                    <a:lnTo>
                      <a:pt x="1254" y="1703"/>
                    </a:lnTo>
                    <a:lnTo>
                      <a:pt x="1315" y="1672"/>
                    </a:lnTo>
                    <a:lnTo>
                      <a:pt x="1374" y="1638"/>
                    </a:lnTo>
                    <a:lnTo>
                      <a:pt x="1430" y="1598"/>
                    </a:lnTo>
                    <a:lnTo>
                      <a:pt x="1483" y="1555"/>
                    </a:lnTo>
                    <a:lnTo>
                      <a:pt x="1532" y="1507"/>
                    </a:lnTo>
                    <a:lnTo>
                      <a:pt x="1578" y="1456"/>
                    </a:lnTo>
                    <a:lnTo>
                      <a:pt x="1619" y="1401"/>
                    </a:lnTo>
                    <a:lnTo>
                      <a:pt x="1657" y="1343"/>
                    </a:lnTo>
                    <a:lnTo>
                      <a:pt x="1690" y="1282"/>
                    </a:lnTo>
                    <a:lnTo>
                      <a:pt x="1718" y="1218"/>
                    </a:lnTo>
                    <a:lnTo>
                      <a:pt x="1742" y="1151"/>
                    </a:lnTo>
                    <a:lnTo>
                      <a:pt x="1760" y="1081"/>
                    </a:lnTo>
                    <a:lnTo>
                      <a:pt x="1772" y="1009"/>
                    </a:lnTo>
                    <a:lnTo>
                      <a:pt x="1779" y="936"/>
                    </a:lnTo>
                    <a:lnTo>
                      <a:pt x="1780" y="864"/>
                    </a:lnTo>
                    <a:lnTo>
                      <a:pt x="1775" y="794"/>
                    </a:lnTo>
                    <a:lnTo>
                      <a:pt x="1765" y="724"/>
                    </a:lnTo>
                    <a:lnTo>
                      <a:pt x="1749" y="656"/>
                    </a:lnTo>
                    <a:lnTo>
                      <a:pt x="1729" y="590"/>
                    </a:lnTo>
                    <a:lnTo>
                      <a:pt x="1703" y="527"/>
                    </a:lnTo>
                    <a:lnTo>
                      <a:pt x="1672" y="465"/>
                    </a:lnTo>
                    <a:lnTo>
                      <a:pt x="1637" y="406"/>
                    </a:lnTo>
                    <a:lnTo>
                      <a:pt x="1598" y="350"/>
                    </a:lnTo>
                    <a:lnTo>
                      <a:pt x="1555" y="298"/>
                    </a:lnTo>
                    <a:lnTo>
                      <a:pt x="1507" y="248"/>
                    </a:lnTo>
                    <a:lnTo>
                      <a:pt x="1456" y="203"/>
                    </a:lnTo>
                    <a:lnTo>
                      <a:pt x="1401" y="161"/>
                    </a:lnTo>
                    <a:lnTo>
                      <a:pt x="1343" y="123"/>
                    </a:lnTo>
                    <a:lnTo>
                      <a:pt x="1282" y="90"/>
                    </a:lnTo>
                    <a:lnTo>
                      <a:pt x="1218" y="62"/>
                    </a:lnTo>
                    <a:lnTo>
                      <a:pt x="1151" y="39"/>
                    </a:lnTo>
                    <a:lnTo>
                      <a:pt x="1081" y="20"/>
                    </a:lnTo>
                    <a:lnTo>
                      <a:pt x="1009" y="8"/>
                    </a:lnTo>
                    <a:lnTo>
                      <a:pt x="936" y="1"/>
                    </a:lnTo>
                    <a:lnTo>
                      <a:pt x="864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10"/>
            <p:cNvGrpSpPr/>
            <p:nvPr/>
          </p:nvGrpSpPr>
          <p:grpSpPr>
            <a:xfrm>
              <a:off x="3285720" y="4097880"/>
              <a:ext cx="538920" cy="460080"/>
              <a:chOff x="3285720" y="4097880"/>
              <a:chExt cx="538920" cy="460080"/>
            </a:xfrm>
          </p:grpSpPr>
          <p:sp>
            <p:nvSpPr>
              <p:cNvPr id="470" name="Freeform 138"/>
              <p:cNvSpPr/>
              <p:nvPr/>
            </p:nvSpPr>
            <p:spPr>
              <a:xfrm>
                <a:off x="3285720" y="4097880"/>
                <a:ext cx="538920" cy="460080"/>
              </a:xfrm>
              <a:custGeom>
                <a:avLst/>
                <a:gdLst/>
                <a:ahLst/>
                <a:rect l="l" t="t" r="r" b="b"/>
                <a:pathLst>
                  <a:path w="1128" h="1128">
                    <a:moveTo>
                      <a:pt x="575" y="0"/>
                    </a:moveTo>
                    <a:lnTo>
                      <a:pt x="487" y="5"/>
                    </a:lnTo>
                    <a:lnTo>
                      <a:pt x="402" y="23"/>
                    </a:lnTo>
                    <a:lnTo>
                      <a:pt x="321" y="54"/>
                    </a:lnTo>
                    <a:lnTo>
                      <a:pt x="246" y="97"/>
                    </a:lnTo>
                    <a:lnTo>
                      <a:pt x="178" y="152"/>
                    </a:lnTo>
                    <a:lnTo>
                      <a:pt x="119" y="216"/>
                    </a:lnTo>
                    <a:lnTo>
                      <a:pt x="70" y="291"/>
                    </a:lnTo>
                    <a:lnTo>
                      <a:pt x="32" y="374"/>
                    </a:lnTo>
                    <a:lnTo>
                      <a:pt x="9" y="463"/>
                    </a:lnTo>
                    <a:lnTo>
                      <a:pt x="0" y="552"/>
                    </a:lnTo>
                    <a:lnTo>
                      <a:pt x="0" y="596"/>
                    </a:lnTo>
                    <a:lnTo>
                      <a:pt x="12" y="683"/>
                    </a:lnTo>
                    <a:lnTo>
                      <a:pt x="37" y="766"/>
                    </a:lnTo>
                    <a:lnTo>
                      <a:pt x="74" y="844"/>
                    </a:lnTo>
                    <a:lnTo>
                      <a:pt x="123" y="916"/>
                    </a:lnTo>
                    <a:lnTo>
                      <a:pt x="182" y="979"/>
                    </a:lnTo>
                    <a:lnTo>
                      <a:pt x="252" y="1034"/>
                    </a:lnTo>
                    <a:lnTo>
                      <a:pt x="331" y="1077"/>
                    </a:lnTo>
                    <a:lnTo>
                      <a:pt x="418" y="1108"/>
                    </a:lnTo>
                    <a:lnTo>
                      <a:pt x="507" y="1125"/>
                    </a:lnTo>
                    <a:lnTo>
                      <a:pt x="552" y="1127"/>
                    </a:lnTo>
                    <a:lnTo>
                      <a:pt x="596" y="1127"/>
                    </a:lnTo>
                    <a:lnTo>
                      <a:pt x="682" y="1115"/>
                    </a:lnTo>
                    <a:lnTo>
                      <a:pt x="765" y="1090"/>
                    </a:lnTo>
                    <a:lnTo>
                      <a:pt x="844" y="1053"/>
                    </a:lnTo>
                    <a:lnTo>
                      <a:pt x="915" y="1004"/>
                    </a:lnTo>
                    <a:lnTo>
                      <a:pt x="979" y="945"/>
                    </a:lnTo>
                    <a:lnTo>
                      <a:pt x="1034" y="875"/>
                    </a:lnTo>
                    <a:lnTo>
                      <a:pt x="1077" y="796"/>
                    </a:lnTo>
                    <a:lnTo>
                      <a:pt x="1108" y="708"/>
                    </a:lnTo>
                    <a:lnTo>
                      <a:pt x="1124" y="620"/>
                    </a:lnTo>
                    <a:lnTo>
                      <a:pt x="1127" y="575"/>
                    </a:lnTo>
                    <a:lnTo>
                      <a:pt x="1126" y="531"/>
                    </a:lnTo>
                    <a:lnTo>
                      <a:pt x="1114" y="445"/>
                    </a:lnTo>
                    <a:lnTo>
                      <a:pt x="1090" y="362"/>
                    </a:lnTo>
                    <a:lnTo>
                      <a:pt x="1053" y="283"/>
                    </a:lnTo>
                    <a:lnTo>
                      <a:pt x="1004" y="212"/>
                    </a:lnTo>
                    <a:lnTo>
                      <a:pt x="944" y="148"/>
                    </a:lnTo>
                    <a:lnTo>
                      <a:pt x="875" y="93"/>
                    </a:lnTo>
                    <a:lnTo>
                      <a:pt x="795" y="50"/>
                    </a:lnTo>
                    <a:lnTo>
                      <a:pt x="708" y="19"/>
                    </a:lnTo>
                    <a:lnTo>
                      <a:pt x="619" y="3"/>
                    </a:lnTo>
                    <a:lnTo>
                      <a:pt x="575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11"/>
            <p:cNvGrpSpPr/>
            <p:nvPr/>
          </p:nvGrpSpPr>
          <p:grpSpPr>
            <a:xfrm>
              <a:off x="3090240" y="4593600"/>
              <a:ext cx="450360" cy="384840"/>
              <a:chOff x="3090240" y="4593600"/>
              <a:chExt cx="450360" cy="384840"/>
            </a:xfrm>
          </p:grpSpPr>
          <p:sp>
            <p:nvSpPr>
              <p:cNvPr id="472" name="Freeform 137"/>
              <p:cNvSpPr/>
              <p:nvPr/>
            </p:nvSpPr>
            <p:spPr>
              <a:xfrm>
                <a:off x="3090240" y="4593600"/>
                <a:ext cx="450360" cy="384840"/>
              </a:xfrm>
              <a:custGeom>
                <a:avLst/>
                <a:gdLst/>
                <a:ahLst/>
                <a:rect l="l" t="t" r="r" b="b"/>
                <a:pathLst>
                  <a:path w="943" h="943">
                    <a:moveTo>
                      <a:pt x="481" y="0"/>
                    </a:moveTo>
                    <a:lnTo>
                      <a:pt x="408" y="5"/>
                    </a:lnTo>
                    <a:lnTo>
                      <a:pt x="337" y="20"/>
                    </a:lnTo>
                    <a:lnTo>
                      <a:pt x="270" y="46"/>
                    </a:lnTo>
                    <a:lnTo>
                      <a:pt x="207" y="82"/>
                    </a:lnTo>
                    <a:lnTo>
                      <a:pt x="149" y="128"/>
                    </a:lnTo>
                    <a:lnTo>
                      <a:pt x="99" y="183"/>
                    </a:lnTo>
                    <a:lnTo>
                      <a:pt x="57" y="247"/>
                    </a:lnTo>
                    <a:lnTo>
                      <a:pt x="26" y="318"/>
                    </a:lnTo>
                    <a:lnTo>
                      <a:pt x="8" y="390"/>
                    </a:lnTo>
                    <a:lnTo>
                      <a:pt x="0" y="463"/>
                    </a:lnTo>
                    <a:lnTo>
                      <a:pt x="1" y="499"/>
                    </a:lnTo>
                    <a:lnTo>
                      <a:pt x="11" y="571"/>
                    </a:lnTo>
                    <a:lnTo>
                      <a:pt x="32" y="640"/>
                    </a:lnTo>
                    <a:lnTo>
                      <a:pt x="63" y="706"/>
                    </a:lnTo>
                    <a:lnTo>
                      <a:pt x="104" y="766"/>
                    </a:lnTo>
                    <a:lnTo>
                      <a:pt x="154" y="820"/>
                    </a:lnTo>
                    <a:lnTo>
                      <a:pt x="214" y="867"/>
                    </a:lnTo>
                    <a:lnTo>
                      <a:pt x="282" y="903"/>
                    </a:lnTo>
                    <a:lnTo>
                      <a:pt x="354" y="928"/>
                    </a:lnTo>
                    <a:lnTo>
                      <a:pt x="426" y="941"/>
                    </a:lnTo>
                    <a:lnTo>
                      <a:pt x="463" y="943"/>
                    </a:lnTo>
                    <a:lnTo>
                      <a:pt x="499" y="942"/>
                    </a:lnTo>
                    <a:lnTo>
                      <a:pt x="571" y="933"/>
                    </a:lnTo>
                    <a:lnTo>
                      <a:pt x="641" y="912"/>
                    </a:lnTo>
                    <a:lnTo>
                      <a:pt x="706" y="881"/>
                    </a:lnTo>
                    <a:lnTo>
                      <a:pt x="766" y="840"/>
                    </a:lnTo>
                    <a:lnTo>
                      <a:pt x="820" y="789"/>
                    </a:lnTo>
                    <a:lnTo>
                      <a:pt x="867" y="729"/>
                    </a:lnTo>
                    <a:lnTo>
                      <a:pt x="903" y="661"/>
                    </a:lnTo>
                    <a:lnTo>
                      <a:pt x="928" y="590"/>
                    </a:lnTo>
                    <a:lnTo>
                      <a:pt x="941" y="517"/>
                    </a:lnTo>
                    <a:lnTo>
                      <a:pt x="943" y="481"/>
                    </a:lnTo>
                    <a:lnTo>
                      <a:pt x="942" y="444"/>
                    </a:lnTo>
                    <a:lnTo>
                      <a:pt x="933" y="372"/>
                    </a:lnTo>
                    <a:lnTo>
                      <a:pt x="912" y="303"/>
                    </a:lnTo>
                    <a:lnTo>
                      <a:pt x="881" y="238"/>
                    </a:lnTo>
                    <a:lnTo>
                      <a:pt x="840" y="177"/>
                    </a:lnTo>
                    <a:lnTo>
                      <a:pt x="789" y="123"/>
                    </a:lnTo>
                    <a:lnTo>
                      <a:pt x="730" y="77"/>
                    </a:lnTo>
                    <a:lnTo>
                      <a:pt x="662" y="40"/>
                    </a:lnTo>
                    <a:lnTo>
                      <a:pt x="590" y="15"/>
                    </a:lnTo>
                    <a:lnTo>
                      <a:pt x="517" y="3"/>
                    </a:lnTo>
                    <a:lnTo>
                      <a:pt x="481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12"/>
            <p:cNvGrpSpPr/>
            <p:nvPr/>
          </p:nvGrpSpPr>
          <p:grpSpPr>
            <a:xfrm>
              <a:off x="2809080" y="4977360"/>
              <a:ext cx="445680" cy="380520"/>
              <a:chOff x="2809080" y="4977360"/>
              <a:chExt cx="445680" cy="380520"/>
            </a:xfrm>
          </p:grpSpPr>
          <p:sp>
            <p:nvSpPr>
              <p:cNvPr id="474" name="Freeform 136"/>
              <p:cNvSpPr/>
              <p:nvPr/>
            </p:nvSpPr>
            <p:spPr>
              <a:xfrm>
                <a:off x="2809080" y="4977360"/>
                <a:ext cx="445680" cy="380520"/>
              </a:xfrm>
              <a:custGeom>
                <a:avLst/>
                <a:gdLst/>
                <a:ahLst/>
                <a:rect l="l" t="t" r="r" b="b"/>
                <a:pathLst>
                  <a:path w="933" h="933">
                    <a:moveTo>
                      <a:pt x="468" y="0"/>
                    </a:moveTo>
                    <a:lnTo>
                      <a:pt x="396" y="6"/>
                    </a:lnTo>
                    <a:lnTo>
                      <a:pt x="327" y="22"/>
                    </a:lnTo>
                    <a:lnTo>
                      <a:pt x="260" y="48"/>
                    </a:lnTo>
                    <a:lnTo>
                      <a:pt x="197" y="86"/>
                    </a:lnTo>
                    <a:lnTo>
                      <a:pt x="141" y="133"/>
                    </a:lnTo>
                    <a:lnTo>
                      <a:pt x="91" y="190"/>
                    </a:lnTo>
                    <a:lnTo>
                      <a:pt x="51" y="255"/>
                    </a:lnTo>
                    <a:lnTo>
                      <a:pt x="22" y="323"/>
                    </a:lnTo>
                    <a:lnTo>
                      <a:pt x="6" y="394"/>
                    </a:lnTo>
                    <a:lnTo>
                      <a:pt x="0" y="465"/>
                    </a:lnTo>
                    <a:lnTo>
                      <a:pt x="1" y="501"/>
                    </a:lnTo>
                    <a:lnTo>
                      <a:pt x="12" y="572"/>
                    </a:lnTo>
                    <a:lnTo>
                      <a:pt x="33" y="640"/>
                    </a:lnTo>
                    <a:lnTo>
                      <a:pt x="65" y="705"/>
                    </a:lnTo>
                    <a:lnTo>
                      <a:pt x="107" y="765"/>
                    </a:lnTo>
                    <a:lnTo>
                      <a:pt x="160" y="818"/>
                    </a:lnTo>
                    <a:lnTo>
                      <a:pt x="221" y="864"/>
                    </a:lnTo>
                    <a:lnTo>
                      <a:pt x="288" y="898"/>
                    </a:lnTo>
                    <a:lnTo>
                      <a:pt x="357" y="920"/>
                    </a:lnTo>
                    <a:lnTo>
                      <a:pt x="429" y="932"/>
                    </a:lnTo>
                    <a:lnTo>
                      <a:pt x="465" y="933"/>
                    </a:lnTo>
                    <a:lnTo>
                      <a:pt x="500" y="932"/>
                    </a:lnTo>
                    <a:lnTo>
                      <a:pt x="571" y="921"/>
                    </a:lnTo>
                    <a:lnTo>
                      <a:pt x="640" y="900"/>
                    </a:lnTo>
                    <a:lnTo>
                      <a:pt x="704" y="868"/>
                    </a:lnTo>
                    <a:lnTo>
                      <a:pt x="764" y="826"/>
                    </a:lnTo>
                    <a:lnTo>
                      <a:pt x="818" y="773"/>
                    </a:lnTo>
                    <a:lnTo>
                      <a:pt x="863" y="712"/>
                    </a:lnTo>
                    <a:lnTo>
                      <a:pt x="897" y="645"/>
                    </a:lnTo>
                    <a:lnTo>
                      <a:pt x="920" y="576"/>
                    </a:lnTo>
                    <a:lnTo>
                      <a:pt x="931" y="504"/>
                    </a:lnTo>
                    <a:lnTo>
                      <a:pt x="933" y="468"/>
                    </a:lnTo>
                    <a:lnTo>
                      <a:pt x="931" y="433"/>
                    </a:lnTo>
                    <a:lnTo>
                      <a:pt x="921" y="362"/>
                    </a:lnTo>
                    <a:lnTo>
                      <a:pt x="899" y="293"/>
                    </a:lnTo>
                    <a:lnTo>
                      <a:pt x="867" y="229"/>
                    </a:lnTo>
                    <a:lnTo>
                      <a:pt x="825" y="169"/>
                    </a:lnTo>
                    <a:lnTo>
                      <a:pt x="773" y="115"/>
                    </a:lnTo>
                    <a:lnTo>
                      <a:pt x="711" y="70"/>
                    </a:lnTo>
                    <a:lnTo>
                      <a:pt x="645" y="36"/>
                    </a:lnTo>
                    <a:lnTo>
                      <a:pt x="575" y="13"/>
                    </a:lnTo>
                    <a:lnTo>
                      <a:pt x="504" y="2"/>
                    </a:lnTo>
                    <a:lnTo>
                      <a:pt x="468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13"/>
            <p:cNvGrpSpPr/>
            <p:nvPr/>
          </p:nvGrpSpPr>
          <p:grpSpPr>
            <a:xfrm>
              <a:off x="2490840" y="5333040"/>
              <a:ext cx="407520" cy="347760"/>
              <a:chOff x="2490840" y="5333040"/>
              <a:chExt cx="407520" cy="347760"/>
            </a:xfrm>
          </p:grpSpPr>
          <p:sp>
            <p:nvSpPr>
              <p:cNvPr id="476" name="Freeform 135"/>
              <p:cNvSpPr/>
              <p:nvPr/>
            </p:nvSpPr>
            <p:spPr>
              <a:xfrm>
                <a:off x="2490840" y="5333040"/>
                <a:ext cx="407520" cy="347760"/>
              </a:xfrm>
              <a:custGeom>
                <a:avLst/>
                <a:gdLst/>
                <a:ahLst/>
                <a:rect l="l" t="t" r="r" b="b"/>
                <a:pathLst>
                  <a:path w="853" h="853">
                    <a:moveTo>
                      <a:pt x="421" y="0"/>
                    </a:moveTo>
                    <a:lnTo>
                      <a:pt x="356" y="6"/>
                    </a:lnTo>
                    <a:lnTo>
                      <a:pt x="292" y="22"/>
                    </a:lnTo>
                    <a:lnTo>
                      <a:pt x="230" y="48"/>
                    </a:lnTo>
                    <a:lnTo>
                      <a:pt x="173" y="84"/>
                    </a:lnTo>
                    <a:lnTo>
                      <a:pt x="121" y="129"/>
                    </a:lnTo>
                    <a:lnTo>
                      <a:pt x="77" y="183"/>
                    </a:lnTo>
                    <a:lnTo>
                      <a:pt x="42" y="241"/>
                    </a:lnTo>
                    <a:lnTo>
                      <a:pt x="18" y="303"/>
                    </a:lnTo>
                    <a:lnTo>
                      <a:pt x="4" y="367"/>
                    </a:lnTo>
                    <a:lnTo>
                      <a:pt x="0" y="433"/>
                    </a:lnTo>
                    <a:lnTo>
                      <a:pt x="2" y="465"/>
                    </a:lnTo>
                    <a:lnTo>
                      <a:pt x="13" y="530"/>
                    </a:lnTo>
                    <a:lnTo>
                      <a:pt x="33" y="593"/>
                    </a:lnTo>
                    <a:lnTo>
                      <a:pt x="64" y="652"/>
                    </a:lnTo>
                    <a:lnTo>
                      <a:pt x="105" y="707"/>
                    </a:lnTo>
                    <a:lnTo>
                      <a:pt x="155" y="756"/>
                    </a:lnTo>
                    <a:lnTo>
                      <a:pt x="211" y="795"/>
                    </a:lnTo>
                    <a:lnTo>
                      <a:pt x="271" y="824"/>
                    </a:lnTo>
                    <a:lnTo>
                      <a:pt x="335" y="843"/>
                    </a:lnTo>
                    <a:lnTo>
                      <a:pt x="400" y="852"/>
                    </a:lnTo>
                    <a:lnTo>
                      <a:pt x="432" y="853"/>
                    </a:lnTo>
                    <a:lnTo>
                      <a:pt x="465" y="852"/>
                    </a:lnTo>
                    <a:lnTo>
                      <a:pt x="530" y="841"/>
                    </a:lnTo>
                    <a:lnTo>
                      <a:pt x="592" y="820"/>
                    </a:lnTo>
                    <a:lnTo>
                      <a:pt x="652" y="789"/>
                    </a:lnTo>
                    <a:lnTo>
                      <a:pt x="707" y="748"/>
                    </a:lnTo>
                    <a:lnTo>
                      <a:pt x="756" y="698"/>
                    </a:lnTo>
                    <a:lnTo>
                      <a:pt x="795" y="642"/>
                    </a:lnTo>
                    <a:lnTo>
                      <a:pt x="824" y="582"/>
                    </a:lnTo>
                    <a:lnTo>
                      <a:pt x="843" y="519"/>
                    </a:lnTo>
                    <a:lnTo>
                      <a:pt x="852" y="454"/>
                    </a:lnTo>
                    <a:lnTo>
                      <a:pt x="853" y="421"/>
                    </a:lnTo>
                    <a:lnTo>
                      <a:pt x="851" y="388"/>
                    </a:lnTo>
                    <a:lnTo>
                      <a:pt x="840" y="324"/>
                    </a:lnTo>
                    <a:lnTo>
                      <a:pt x="820" y="261"/>
                    </a:lnTo>
                    <a:lnTo>
                      <a:pt x="789" y="201"/>
                    </a:lnTo>
                    <a:lnTo>
                      <a:pt x="748" y="147"/>
                    </a:lnTo>
                    <a:lnTo>
                      <a:pt x="698" y="98"/>
                    </a:lnTo>
                    <a:lnTo>
                      <a:pt x="642" y="58"/>
                    </a:lnTo>
                    <a:lnTo>
                      <a:pt x="582" y="29"/>
                    </a:lnTo>
                    <a:lnTo>
                      <a:pt x="518" y="10"/>
                    </a:lnTo>
                    <a:lnTo>
                      <a:pt x="453" y="1"/>
                    </a:lnTo>
                    <a:lnTo>
                      <a:pt x="421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Group 14"/>
            <p:cNvGrpSpPr/>
            <p:nvPr/>
          </p:nvGrpSpPr>
          <p:grpSpPr>
            <a:xfrm>
              <a:off x="231840" y="3613320"/>
              <a:ext cx="2466000" cy="1896120"/>
              <a:chOff x="231840" y="3613320"/>
              <a:chExt cx="2466000" cy="1896120"/>
            </a:xfrm>
          </p:grpSpPr>
          <p:sp>
            <p:nvSpPr>
              <p:cNvPr id="478" name="Freeform 134"/>
              <p:cNvSpPr/>
              <p:nvPr/>
            </p:nvSpPr>
            <p:spPr>
              <a:xfrm>
                <a:off x="231840" y="3613320"/>
                <a:ext cx="2466000" cy="1896120"/>
              </a:xfrm>
              <a:custGeom>
                <a:avLst/>
                <a:gdLst/>
                <a:ahLst/>
                <a:rect l="l" t="t" r="r" b="b"/>
                <a:pathLst>
                  <a:path w="5161" h="4647">
                    <a:moveTo>
                      <a:pt x="0" y="0"/>
                    </a:moveTo>
                    <a:lnTo>
                      <a:pt x="0" y="23"/>
                    </a:lnTo>
                    <a:lnTo>
                      <a:pt x="358" y="314"/>
                    </a:lnTo>
                    <a:lnTo>
                      <a:pt x="937" y="796"/>
                    </a:lnTo>
                    <a:lnTo>
                      <a:pt x="1517" y="1292"/>
                    </a:lnTo>
                    <a:lnTo>
                      <a:pt x="2100" y="1803"/>
                    </a:lnTo>
                    <a:lnTo>
                      <a:pt x="2689" y="2331"/>
                    </a:lnTo>
                    <a:lnTo>
                      <a:pt x="3286" y="2877"/>
                    </a:lnTo>
                    <a:lnTo>
                      <a:pt x="3893" y="3444"/>
                    </a:lnTo>
                    <a:lnTo>
                      <a:pt x="4513" y="4034"/>
                    </a:lnTo>
                    <a:lnTo>
                      <a:pt x="5148" y="4647"/>
                    </a:lnTo>
                    <a:lnTo>
                      <a:pt x="5161" y="4634"/>
                    </a:lnTo>
                    <a:lnTo>
                      <a:pt x="4525" y="4021"/>
                    </a:lnTo>
                    <a:lnTo>
                      <a:pt x="3905" y="3431"/>
                    </a:lnTo>
                    <a:lnTo>
                      <a:pt x="3298" y="2864"/>
                    </a:lnTo>
                    <a:lnTo>
                      <a:pt x="2701" y="2318"/>
                    </a:lnTo>
                    <a:lnTo>
                      <a:pt x="2112" y="1790"/>
                    </a:lnTo>
                    <a:lnTo>
                      <a:pt x="1528" y="1279"/>
                    </a:lnTo>
                    <a:lnTo>
                      <a:pt x="948" y="783"/>
                    </a:lnTo>
                    <a:lnTo>
                      <a:pt x="369" y="3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15"/>
            <p:cNvGrpSpPr/>
            <p:nvPr/>
          </p:nvGrpSpPr>
          <p:grpSpPr>
            <a:xfrm>
              <a:off x="231840" y="3841200"/>
              <a:ext cx="2464560" cy="1667160"/>
              <a:chOff x="231840" y="3841200"/>
              <a:chExt cx="2464560" cy="1667160"/>
            </a:xfrm>
          </p:grpSpPr>
          <p:sp>
            <p:nvSpPr>
              <p:cNvPr id="480" name="Freeform 133"/>
              <p:cNvSpPr/>
              <p:nvPr/>
            </p:nvSpPr>
            <p:spPr>
              <a:xfrm>
                <a:off x="231840" y="3841200"/>
                <a:ext cx="2464560" cy="1667160"/>
              </a:xfrm>
              <a:custGeom>
                <a:avLst/>
                <a:gdLst/>
                <a:ahLst/>
                <a:rect l="l" t="t" r="r" b="b"/>
                <a:pathLst>
                  <a:path w="5158" h="4086">
                    <a:moveTo>
                      <a:pt x="0" y="0"/>
                    </a:moveTo>
                    <a:lnTo>
                      <a:pt x="0" y="10"/>
                    </a:lnTo>
                    <a:lnTo>
                      <a:pt x="216" y="136"/>
                    </a:lnTo>
                    <a:lnTo>
                      <a:pt x="831" y="524"/>
                    </a:lnTo>
                    <a:lnTo>
                      <a:pt x="1441" y="940"/>
                    </a:lnTo>
                    <a:lnTo>
                      <a:pt x="2049" y="1385"/>
                    </a:lnTo>
                    <a:lnTo>
                      <a:pt x="2658" y="1860"/>
                    </a:lnTo>
                    <a:lnTo>
                      <a:pt x="3270" y="2366"/>
                    </a:lnTo>
                    <a:lnTo>
                      <a:pt x="3888" y="2905"/>
                    </a:lnTo>
                    <a:lnTo>
                      <a:pt x="4514" y="3478"/>
                    </a:lnTo>
                    <a:lnTo>
                      <a:pt x="5151" y="4086"/>
                    </a:lnTo>
                    <a:lnTo>
                      <a:pt x="5158" y="4080"/>
                    </a:lnTo>
                    <a:lnTo>
                      <a:pt x="4520" y="3471"/>
                    </a:lnTo>
                    <a:lnTo>
                      <a:pt x="3894" y="2898"/>
                    </a:lnTo>
                    <a:lnTo>
                      <a:pt x="3276" y="2359"/>
                    </a:lnTo>
                    <a:lnTo>
                      <a:pt x="2663" y="1853"/>
                    </a:lnTo>
                    <a:lnTo>
                      <a:pt x="2054" y="1378"/>
                    </a:lnTo>
                    <a:lnTo>
                      <a:pt x="1446" y="933"/>
                    </a:lnTo>
                    <a:lnTo>
                      <a:pt x="835" y="517"/>
                    </a:lnTo>
                    <a:lnTo>
                      <a:pt x="221" y="1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16"/>
            <p:cNvGrpSpPr/>
            <p:nvPr/>
          </p:nvGrpSpPr>
          <p:grpSpPr>
            <a:xfrm>
              <a:off x="231840" y="3991320"/>
              <a:ext cx="2464560" cy="1517040"/>
              <a:chOff x="231840" y="3991320"/>
              <a:chExt cx="2464560" cy="1517040"/>
            </a:xfrm>
          </p:grpSpPr>
          <p:sp>
            <p:nvSpPr>
              <p:cNvPr id="482" name="Freeform 132"/>
              <p:cNvSpPr/>
              <p:nvPr/>
            </p:nvSpPr>
            <p:spPr>
              <a:xfrm>
                <a:off x="231840" y="3991320"/>
                <a:ext cx="2464560" cy="1517040"/>
              </a:xfrm>
              <a:custGeom>
                <a:avLst/>
                <a:gdLst/>
                <a:ahLst/>
                <a:rect l="l" t="t" r="r" b="b"/>
                <a:pathLst>
                  <a:path w="5158" h="3718">
                    <a:moveTo>
                      <a:pt x="0" y="0"/>
                    </a:moveTo>
                    <a:lnTo>
                      <a:pt x="0" y="10"/>
                    </a:lnTo>
                    <a:lnTo>
                      <a:pt x="196" y="95"/>
                    </a:lnTo>
                    <a:lnTo>
                      <a:pt x="691" y="337"/>
                    </a:lnTo>
                    <a:lnTo>
                      <a:pt x="1182" y="605"/>
                    </a:lnTo>
                    <a:lnTo>
                      <a:pt x="1672" y="898"/>
                    </a:lnTo>
                    <a:lnTo>
                      <a:pt x="2160" y="1218"/>
                    </a:lnTo>
                    <a:lnTo>
                      <a:pt x="2650" y="1565"/>
                    </a:lnTo>
                    <a:lnTo>
                      <a:pt x="3141" y="1939"/>
                    </a:lnTo>
                    <a:lnTo>
                      <a:pt x="3635" y="2341"/>
                    </a:lnTo>
                    <a:lnTo>
                      <a:pt x="4134" y="2771"/>
                    </a:lnTo>
                    <a:lnTo>
                      <a:pt x="4639" y="3230"/>
                    </a:lnTo>
                    <a:lnTo>
                      <a:pt x="5151" y="3718"/>
                    </a:lnTo>
                    <a:lnTo>
                      <a:pt x="5158" y="3712"/>
                    </a:lnTo>
                    <a:lnTo>
                      <a:pt x="4645" y="3224"/>
                    </a:lnTo>
                    <a:lnTo>
                      <a:pt x="4140" y="2765"/>
                    </a:lnTo>
                    <a:lnTo>
                      <a:pt x="3641" y="2335"/>
                    </a:lnTo>
                    <a:lnTo>
                      <a:pt x="3146" y="1932"/>
                    </a:lnTo>
                    <a:lnTo>
                      <a:pt x="2655" y="1558"/>
                    </a:lnTo>
                    <a:lnTo>
                      <a:pt x="2165" y="1211"/>
                    </a:lnTo>
                    <a:lnTo>
                      <a:pt x="1676" y="891"/>
                    </a:lnTo>
                    <a:lnTo>
                      <a:pt x="1187" y="597"/>
                    </a:lnTo>
                    <a:lnTo>
                      <a:pt x="695" y="329"/>
                    </a:lnTo>
                    <a:lnTo>
                      <a:pt x="200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17"/>
            <p:cNvGrpSpPr/>
            <p:nvPr/>
          </p:nvGrpSpPr>
          <p:grpSpPr>
            <a:xfrm>
              <a:off x="231840" y="4080600"/>
              <a:ext cx="2464560" cy="1427760"/>
              <a:chOff x="231840" y="4080600"/>
              <a:chExt cx="2464560" cy="1427760"/>
            </a:xfrm>
          </p:grpSpPr>
          <p:sp>
            <p:nvSpPr>
              <p:cNvPr id="484" name="Freeform 131"/>
              <p:cNvSpPr/>
              <p:nvPr/>
            </p:nvSpPr>
            <p:spPr>
              <a:xfrm>
                <a:off x="231840" y="4080600"/>
                <a:ext cx="2464560" cy="1427760"/>
              </a:xfrm>
              <a:custGeom>
                <a:avLst/>
                <a:gdLst/>
                <a:ahLst/>
                <a:rect l="l" t="t" r="r" b="b"/>
                <a:pathLst>
                  <a:path w="5158" h="3499">
                    <a:moveTo>
                      <a:pt x="0" y="0"/>
                    </a:moveTo>
                    <a:lnTo>
                      <a:pt x="0" y="10"/>
                    </a:lnTo>
                    <a:lnTo>
                      <a:pt x="19" y="16"/>
                    </a:lnTo>
                    <a:lnTo>
                      <a:pt x="410" y="161"/>
                    </a:lnTo>
                    <a:lnTo>
                      <a:pt x="800" y="326"/>
                    </a:lnTo>
                    <a:lnTo>
                      <a:pt x="1188" y="511"/>
                    </a:lnTo>
                    <a:lnTo>
                      <a:pt x="1576" y="716"/>
                    </a:lnTo>
                    <a:lnTo>
                      <a:pt x="1964" y="942"/>
                    </a:lnTo>
                    <a:lnTo>
                      <a:pt x="2352" y="1188"/>
                    </a:lnTo>
                    <a:lnTo>
                      <a:pt x="2742" y="1455"/>
                    </a:lnTo>
                    <a:lnTo>
                      <a:pt x="3134" y="1743"/>
                    </a:lnTo>
                    <a:lnTo>
                      <a:pt x="3530" y="2051"/>
                    </a:lnTo>
                    <a:lnTo>
                      <a:pt x="3928" y="2381"/>
                    </a:lnTo>
                    <a:lnTo>
                      <a:pt x="4331" y="2732"/>
                    </a:lnTo>
                    <a:lnTo>
                      <a:pt x="4738" y="3105"/>
                    </a:lnTo>
                    <a:lnTo>
                      <a:pt x="5151" y="3499"/>
                    </a:lnTo>
                    <a:lnTo>
                      <a:pt x="5158" y="3493"/>
                    </a:lnTo>
                    <a:lnTo>
                      <a:pt x="4744" y="3098"/>
                    </a:lnTo>
                    <a:lnTo>
                      <a:pt x="4337" y="2726"/>
                    </a:lnTo>
                    <a:lnTo>
                      <a:pt x="3934" y="2374"/>
                    </a:lnTo>
                    <a:lnTo>
                      <a:pt x="3535" y="2044"/>
                    </a:lnTo>
                    <a:lnTo>
                      <a:pt x="3140" y="1736"/>
                    </a:lnTo>
                    <a:lnTo>
                      <a:pt x="2747" y="1448"/>
                    </a:lnTo>
                    <a:lnTo>
                      <a:pt x="2357" y="1181"/>
                    </a:lnTo>
                    <a:lnTo>
                      <a:pt x="1968" y="934"/>
                    </a:lnTo>
                    <a:lnTo>
                      <a:pt x="1580" y="708"/>
                    </a:lnTo>
                    <a:lnTo>
                      <a:pt x="1192" y="503"/>
                    </a:lnTo>
                    <a:lnTo>
                      <a:pt x="803" y="318"/>
                    </a:lnTo>
                    <a:lnTo>
                      <a:pt x="414" y="152"/>
                    </a:lnTo>
                    <a:lnTo>
                      <a:pt x="22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8"/>
            <p:cNvGrpSpPr/>
            <p:nvPr/>
          </p:nvGrpSpPr>
          <p:grpSpPr>
            <a:xfrm>
              <a:off x="231840" y="4136760"/>
              <a:ext cx="2464560" cy="1371960"/>
              <a:chOff x="231840" y="4136760"/>
              <a:chExt cx="2464560" cy="1371960"/>
            </a:xfrm>
          </p:grpSpPr>
          <p:sp>
            <p:nvSpPr>
              <p:cNvPr id="486" name="Freeform 130"/>
              <p:cNvSpPr/>
              <p:nvPr/>
            </p:nvSpPr>
            <p:spPr>
              <a:xfrm>
                <a:off x="231840" y="4136760"/>
                <a:ext cx="2464560" cy="1371960"/>
              </a:xfrm>
              <a:custGeom>
                <a:avLst/>
                <a:gdLst/>
                <a:ahLst/>
                <a:rect l="l" t="t" r="r" b="b"/>
                <a:pathLst>
                  <a:path w="5158" h="3362">
                    <a:moveTo>
                      <a:pt x="0" y="0"/>
                    </a:moveTo>
                    <a:lnTo>
                      <a:pt x="0" y="9"/>
                    </a:lnTo>
                    <a:lnTo>
                      <a:pt x="225" y="72"/>
                    </a:lnTo>
                    <a:lnTo>
                      <a:pt x="568" y="188"/>
                    </a:lnTo>
                    <a:lnTo>
                      <a:pt x="911" y="322"/>
                    </a:lnTo>
                    <a:lnTo>
                      <a:pt x="1254" y="474"/>
                    </a:lnTo>
                    <a:lnTo>
                      <a:pt x="1597" y="644"/>
                    </a:lnTo>
                    <a:lnTo>
                      <a:pt x="1941" y="832"/>
                    </a:lnTo>
                    <a:lnTo>
                      <a:pt x="2286" y="1039"/>
                    </a:lnTo>
                    <a:lnTo>
                      <a:pt x="2633" y="1264"/>
                    </a:lnTo>
                    <a:lnTo>
                      <a:pt x="2982" y="1508"/>
                    </a:lnTo>
                    <a:lnTo>
                      <a:pt x="3334" y="1770"/>
                    </a:lnTo>
                    <a:lnTo>
                      <a:pt x="3689" y="2051"/>
                    </a:lnTo>
                    <a:lnTo>
                      <a:pt x="4048" y="2350"/>
                    </a:lnTo>
                    <a:lnTo>
                      <a:pt x="4411" y="2669"/>
                    </a:lnTo>
                    <a:lnTo>
                      <a:pt x="4779" y="3006"/>
                    </a:lnTo>
                    <a:lnTo>
                      <a:pt x="5151" y="3362"/>
                    </a:lnTo>
                    <a:lnTo>
                      <a:pt x="5158" y="3356"/>
                    </a:lnTo>
                    <a:lnTo>
                      <a:pt x="4785" y="2999"/>
                    </a:lnTo>
                    <a:lnTo>
                      <a:pt x="4417" y="2662"/>
                    </a:lnTo>
                    <a:lnTo>
                      <a:pt x="4054" y="2344"/>
                    </a:lnTo>
                    <a:lnTo>
                      <a:pt x="3695" y="2044"/>
                    </a:lnTo>
                    <a:lnTo>
                      <a:pt x="3339" y="1763"/>
                    </a:lnTo>
                    <a:lnTo>
                      <a:pt x="2987" y="1501"/>
                    </a:lnTo>
                    <a:lnTo>
                      <a:pt x="2638" y="1257"/>
                    </a:lnTo>
                    <a:lnTo>
                      <a:pt x="2290" y="1032"/>
                    </a:lnTo>
                    <a:lnTo>
                      <a:pt x="1945" y="825"/>
                    </a:lnTo>
                    <a:lnTo>
                      <a:pt x="1601" y="636"/>
                    </a:lnTo>
                    <a:lnTo>
                      <a:pt x="1257" y="466"/>
                    </a:lnTo>
                    <a:lnTo>
                      <a:pt x="914" y="314"/>
                    </a:lnTo>
                    <a:lnTo>
                      <a:pt x="571" y="180"/>
                    </a:lnTo>
                    <a:lnTo>
                      <a:pt x="227" y="6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19"/>
            <p:cNvGrpSpPr/>
            <p:nvPr/>
          </p:nvGrpSpPr>
          <p:grpSpPr>
            <a:xfrm>
              <a:off x="231840" y="4183200"/>
              <a:ext cx="2464560" cy="1325160"/>
              <a:chOff x="231840" y="4183200"/>
              <a:chExt cx="2464560" cy="1325160"/>
            </a:xfrm>
          </p:grpSpPr>
          <p:sp>
            <p:nvSpPr>
              <p:cNvPr id="488" name="Freeform 129"/>
              <p:cNvSpPr/>
              <p:nvPr/>
            </p:nvSpPr>
            <p:spPr>
              <a:xfrm>
                <a:off x="231840" y="4183200"/>
                <a:ext cx="2464560" cy="1325160"/>
              </a:xfrm>
              <a:custGeom>
                <a:avLst/>
                <a:gdLst/>
                <a:ahLst/>
                <a:rect l="l" t="t" r="r" b="b"/>
                <a:pathLst>
                  <a:path w="5158" h="3248">
                    <a:moveTo>
                      <a:pt x="0" y="0"/>
                    </a:moveTo>
                    <a:lnTo>
                      <a:pt x="0" y="9"/>
                    </a:lnTo>
                    <a:lnTo>
                      <a:pt x="22" y="13"/>
                    </a:lnTo>
                    <a:lnTo>
                      <a:pt x="330" y="89"/>
                    </a:lnTo>
                    <a:lnTo>
                      <a:pt x="639" y="181"/>
                    </a:lnTo>
                    <a:lnTo>
                      <a:pt x="947" y="289"/>
                    </a:lnTo>
                    <a:lnTo>
                      <a:pt x="1257" y="415"/>
                    </a:lnTo>
                    <a:lnTo>
                      <a:pt x="1567" y="557"/>
                    </a:lnTo>
                    <a:lnTo>
                      <a:pt x="1879" y="717"/>
                    </a:lnTo>
                    <a:lnTo>
                      <a:pt x="2192" y="893"/>
                    </a:lnTo>
                    <a:lnTo>
                      <a:pt x="2508" y="1087"/>
                    </a:lnTo>
                    <a:lnTo>
                      <a:pt x="2826" y="1297"/>
                    </a:lnTo>
                    <a:lnTo>
                      <a:pt x="3146" y="1524"/>
                    </a:lnTo>
                    <a:lnTo>
                      <a:pt x="3471" y="1769"/>
                    </a:lnTo>
                    <a:lnTo>
                      <a:pt x="3798" y="2030"/>
                    </a:lnTo>
                    <a:lnTo>
                      <a:pt x="4130" y="2309"/>
                    </a:lnTo>
                    <a:lnTo>
                      <a:pt x="4465" y="2605"/>
                    </a:lnTo>
                    <a:lnTo>
                      <a:pt x="4806" y="2918"/>
                    </a:lnTo>
                    <a:lnTo>
                      <a:pt x="5151" y="3248"/>
                    </a:lnTo>
                    <a:lnTo>
                      <a:pt x="5158" y="3242"/>
                    </a:lnTo>
                    <a:lnTo>
                      <a:pt x="4812" y="2911"/>
                    </a:lnTo>
                    <a:lnTo>
                      <a:pt x="4471" y="2598"/>
                    </a:lnTo>
                    <a:lnTo>
                      <a:pt x="4135" y="2302"/>
                    </a:lnTo>
                    <a:lnTo>
                      <a:pt x="3804" y="2023"/>
                    </a:lnTo>
                    <a:lnTo>
                      <a:pt x="3476" y="1762"/>
                    </a:lnTo>
                    <a:lnTo>
                      <a:pt x="3152" y="1517"/>
                    </a:lnTo>
                    <a:lnTo>
                      <a:pt x="2831" y="1290"/>
                    </a:lnTo>
                    <a:lnTo>
                      <a:pt x="2512" y="1079"/>
                    </a:lnTo>
                    <a:lnTo>
                      <a:pt x="2197" y="886"/>
                    </a:lnTo>
                    <a:lnTo>
                      <a:pt x="1883" y="709"/>
                    </a:lnTo>
                    <a:lnTo>
                      <a:pt x="1571" y="550"/>
                    </a:lnTo>
                    <a:lnTo>
                      <a:pt x="1260" y="407"/>
                    </a:lnTo>
                    <a:lnTo>
                      <a:pt x="951" y="281"/>
                    </a:lnTo>
                    <a:lnTo>
                      <a:pt x="642" y="172"/>
                    </a:lnTo>
                    <a:lnTo>
                      <a:pt x="333" y="80"/>
                    </a:lnTo>
                    <a:lnTo>
                      <a:pt x="24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20"/>
            <p:cNvGrpSpPr/>
            <p:nvPr/>
          </p:nvGrpSpPr>
          <p:grpSpPr>
            <a:xfrm>
              <a:off x="231840" y="4226040"/>
              <a:ext cx="2464560" cy="1282320"/>
              <a:chOff x="231840" y="4226040"/>
              <a:chExt cx="2464560" cy="1282320"/>
            </a:xfrm>
          </p:grpSpPr>
          <p:sp>
            <p:nvSpPr>
              <p:cNvPr id="490" name="Freeform 128"/>
              <p:cNvSpPr/>
              <p:nvPr/>
            </p:nvSpPr>
            <p:spPr>
              <a:xfrm>
                <a:off x="231840" y="4226040"/>
                <a:ext cx="2464560" cy="1282320"/>
              </a:xfrm>
              <a:custGeom>
                <a:avLst/>
                <a:gdLst/>
                <a:ahLst/>
                <a:rect l="l" t="t" r="r" b="b"/>
                <a:pathLst>
                  <a:path w="5158" h="3143">
                    <a:moveTo>
                      <a:pt x="0" y="0"/>
                    </a:moveTo>
                    <a:lnTo>
                      <a:pt x="0" y="9"/>
                    </a:lnTo>
                    <a:lnTo>
                      <a:pt x="105" y="24"/>
                    </a:lnTo>
                    <a:lnTo>
                      <a:pt x="385" y="80"/>
                    </a:lnTo>
                    <a:lnTo>
                      <a:pt x="665" y="151"/>
                    </a:lnTo>
                    <a:lnTo>
                      <a:pt x="946" y="239"/>
                    </a:lnTo>
                    <a:lnTo>
                      <a:pt x="1229" y="342"/>
                    </a:lnTo>
                    <a:lnTo>
                      <a:pt x="1513" y="462"/>
                    </a:lnTo>
                    <a:lnTo>
                      <a:pt x="1799" y="597"/>
                    </a:lnTo>
                    <a:lnTo>
                      <a:pt x="2087" y="749"/>
                    </a:lnTo>
                    <a:lnTo>
                      <a:pt x="2378" y="916"/>
                    </a:lnTo>
                    <a:lnTo>
                      <a:pt x="2671" y="1100"/>
                    </a:lnTo>
                    <a:lnTo>
                      <a:pt x="2968" y="1299"/>
                    </a:lnTo>
                    <a:lnTo>
                      <a:pt x="3267" y="1514"/>
                    </a:lnTo>
                    <a:lnTo>
                      <a:pt x="3571" y="1746"/>
                    </a:lnTo>
                    <a:lnTo>
                      <a:pt x="3878" y="1993"/>
                    </a:lnTo>
                    <a:lnTo>
                      <a:pt x="4189" y="2256"/>
                    </a:lnTo>
                    <a:lnTo>
                      <a:pt x="4505" y="2536"/>
                    </a:lnTo>
                    <a:lnTo>
                      <a:pt x="4826" y="2831"/>
                    </a:lnTo>
                    <a:lnTo>
                      <a:pt x="5151" y="3143"/>
                    </a:lnTo>
                    <a:lnTo>
                      <a:pt x="5158" y="3137"/>
                    </a:lnTo>
                    <a:lnTo>
                      <a:pt x="4832" y="2825"/>
                    </a:lnTo>
                    <a:lnTo>
                      <a:pt x="4511" y="2529"/>
                    </a:lnTo>
                    <a:lnTo>
                      <a:pt x="4195" y="2250"/>
                    </a:lnTo>
                    <a:lnTo>
                      <a:pt x="3883" y="1986"/>
                    </a:lnTo>
                    <a:lnTo>
                      <a:pt x="3576" y="1739"/>
                    </a:lnTo>
                    <a:lnTo>
                      <a:pt x="3273" y="1507"/>
                    </a:lnTo>
                    <a:lnTo>
                      <a:pt x="2973" y="1292"/>
                    </a:lnTo>
                    <a:lnTo>
                      <a:pt x="2676" y="1092"/>
                    </a:lnTo>
                    <a:lnTo>
                      <a:pt x="2382" y="909"/>
                    </a:lnTo>
                    <a:lnTo>
                      <a:pt x="2091" y="741"/>
                    </a:lnTo>
                    <a:lnTo>
                      <a:pt x="1803" y="589"/>
                    </a:lnTo>
                    <a:lnTo>
                      <a:pt x="1517" y="454"/>
                    </a:lnTo>
                    <a:lnTo>
                      <a:pt x="1232" y="334"/>
                    </a:lnTo>
                    <a:lnTo>
                      <a:pt x="949" y="231"/>
                    </a:lnTo>
                    <a:lnTo>
                      <a:pt x="667" y="143"/>
                    </a:lnTo>
                    <a:lnTo>
                      <a:pt x="386" y="71"/>
                    </a:lnTo>
                    <a:lnTo>
                      <a:pt x="106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21"/>
            <p:cNvGrpSpPr/>
            <p:nvPr/>
          </p:nvGrpSpPr>
          <p:grpSpPr>
            <a:xfrm>
              <a:off x="231840" y="3458880"/>
              <a:ext cx="2802240" cy="1711800"/>
              <a:chOff x="231840" y="3458880"/>
              <a:chExt cx="2802240" cy="1711800"/>
            </a:xfrm>
          </p:grpSpPr>
          <p:sp>
            <p:nvSpPr>
              <p:cNvPr id="492" name="Freeform 127"/>
              <p:cNvSpPr/>
              <p:nvPr/>
            </p:nvSpPr>
            <p:spPr>
              <a:xfrm>
                <a:off x="231840" y="3458880"/>
                <a:ext cx="2802240" cy="1711800"/>
              </a:xfrm>
              <a:custGeom>
                <a:avLst/>
                <a:gdLst/>
                <a:ahLst/>
                <a:rect l="l" t="t" r="r" b="b"/>
                <a:pathLst>
                  <a:path w="5865" h="4195">
                    <a:moveTo>
                      <a:pt x="0" y="0"/>
                    </a:moveTo>
                    <a:lnTo>
                      <a:pt x="0" y="21"/>
                    </a:lnTo>
                    <a:lnTo>
                      <a:pt x="587" y="424"/>
                    </a:lnTo>
                    <a:lnTo>
                      <a:pt x="1837" y="1295"/>
                    </a:lnTo>
                    <a:lnTo>
                      <a:pt x="3777" y="2678"/>
                    </a:lnTo>
                    <a:lnTo>
                      <a:pt x="5855" y="4195"/>
                    </a:lnTo>
                    <a:lnTo>
                      <a:pt x="5865" y="4181"/>
                    </a:lnTo>
                    <a:lnTo>
                      <a:pt x="3788" y="2664"/>
                    </a:lnTo>
                    <a:lnTo>
                      <a:pt x="1848" y="1280"/>
                    </a:lnTo>
                    <a:lnTo>
                      <a:pt x="597" y="4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Group 22"/>
            <p:cNvGrpSpPr/>
            <p:nvPr/>
          </p:nvGrpSpPr>
          <p:grpSpPr>
            <a:xfrm>
              <a:off x="231840" y="3695760"/>
              <a:ext cx="2801520" cy="1473120"/>
              <a:chOff x="231840" y="3695760"/>
              <a:chExt cx="2801520" cy="1473120"/>
            </a:xfrm>
          </p:grpSpPr>
          <p:sp>
            <p:nvSpPr>
              <p:cNvPr id="494" name="Freeform 126"/>
              <p:cNvSpPr/>
              <p:nvPr/>
            </p:nvSpPr>
            <p:spPr>
              <a:xfrm>
                <a:off x="231840" y="3695760"/>
                <a:ext cx="2801520" cy="1473120"/>
              </a:xfrm>
              <a:custGeom>
                <a:avLst/>
                <a:gdLst/>
                <a:ahLst/>
                <a:rect l="l" t="t" r="r" b="b"/>
                <a:pathLst>
                  <a:path w="5863" h="3610">
                    <a:moveTo>
                      <a:pt x="0" y="0"/>
                    </a:moveTo>
                    <a:lnTo>
                      <a:pt x="0" y="10"/>
                    </a:lnTo>
                    <a:lnTo>
                      <a:pt x="445" y="223"/>
                    </a:lnTo>
                    <a:lnTo>
                      <a:pt x="1103" y="560"/>
                    </a:lnTo>
                    <a:lnTo>
                      <a:pt x="1761" y="919"/>
                    </a:lnTo>
                    <a:lnTo>
                      <a:pt x="2422" y="1302"/>
                    </a:lnTo>
                    <a:lnTo>
                      <a:pt x="3087" y="1710"/>
                    </a:lnTo>
                    <a:lnTo>
                      <a:pt x="3761" y="2144"/>
                    </a:lnTo>
                    <a:lnTo>
                      <a:pt x="4446" y="2604"/>
                    </a:lnTo>
                    <a:lnTo>
                      <a:pt x="5144" y="3093"/>
                    </a:lnTo>
                    <a:lnTo>
                      <a:pt x="5858" y="3610"/>
                    </a:lnTo>
                    <a:lnTo>
                      <a:pt x="5863" y="3603"/>
                    </a:lnTo>
                    <a:lnTo>
                      <a:pt x="5149" y="3085"/>
                    </a:lnTo>
                    <a:lnTo>
                      <a:pt x="4451" y="2597"/>
                    </a:lnTo>
                    <a:lnTo>
                      <a:pt x="3766" y="2136"/>
                    </a:lnTo>
                    <a:lnTo>
                      <a:pt x="3092" y="1703"/>
                    </a:lnTo>
                    <a:lnTo>
                      <a:pt x="2426" y="1295"/>
                    </a:lnTo>
                    <a:lnTo>
                      <a:pt x="1765" y="912"/>
                    </a:lnTo>
                    <a:lnTo>
                      <a:pt x="1107" y="552"/>
                    </a:lnTo>
                    <a:lnTo>
                      <a:pt x="449" y="2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23"/>
            <p:cNvGrpSpPr/>
            <p:nvPr/>
          </p:nvGrpSpPr>
          <p:grpSpPr>
            <a:xfrm>
              <a:off x="231840" y="3858120"/>
              <a:ext cx="2801520" cy="1311120"/>
              <a:chOff x="231840" y="3858120"/>
              <a:chExt cx="2801520" cy="1311120"/>
            </a:xfrm>
          </p:grpSpPr>
          <p:sp>
            <p:nvSpPr>
              <p:cNvPr id="496" name="Freeform 125"/>
              <p:cNvSpPr/>
              <p:nvPr/>
            </p:nvSpPr>
            <p:spPr>
              <a:xfrm>
                <a:off x="231840" y="3858120"/>
                <a:ext cx="2801520" cy="1311120"/>
              </a:xfrm>
              <a:custGeom>
                <a:avLst/>
                <a:gdLst/>
                <a:ahLst/>
                <a:rect l="l" t="t" r="r" b="b"/>
                <a:pathLst>
                  <a:path w="5863" h="3213">
                    <a:moveTo>
                      <a:pt x="0" y="0"/>
                    </a:moveTo>
                    <a:lnTo>
                      <a:pt x="0" y="10"/>
                    </a:lnTo>
                    <a:lnTo>
                      <a:pt x="66" y="30"/>
                    </a:lnTo>
                    <a:lnTo>
                      <a:pt x="580" y="211"/>
                    </a:lnTo>
                    <a:lnTo>
                      <a:pt x="1094" y="412"/>
                    </a:lnTo>
                    <a:lnTo>
                      <a:pt x="1607" y="635"/>
                    </a:lnTo>
                    <a:lnTo>
                      <a:pt x="2121" y="879"/>
                    </a:lnTo>
                    <a:lnTo>
                      <a:pt x="2637" y="1145"/>
                    </a:lnTo>
                    <a:lnTo>
                      <a:pt x="3158" y="1433"/>
                    </a:lnTo>
                    <a:lnTo>
                      <a:pt x="3683" y="1743"/>
                    </a:lnTo>
                    <a:lnTo>
                      <a:pt x="4214" y="2076"/>
                    </a:lnTo>
                    <a:lnTo>
                      <a:pt x="4753" y="2431"/>
                    </a:lnTo>
                    <a:lnTo>
                      <a:pt x="5300" y="2811"/>
                    </a:lnTo>
                    <a:lnTo>
                      <a:pt x="5858" y="3213"/>
                    </a:lnTo>
                    <a:lnTo>
                      <a:pt x="5863" y="3206"/>
                    </a:lnTo>
                    <a:lnTo>
                      <a:pt x="5305" y="2803"/>
                    </a:lnTo>
                    <a:lnTo>
                      <a:pt x="4758" y="2424"/>
                    </a:lnTo>
                    <a:lnTo>
                      <a:pt x="4219" y="2068"/>
                    </a:lnTo>
                    <a:lnTo>
                      <a:pt x="3687" y="1735"/>
                    </a:lnTo>
                    <a:lnTo>
                      <a:pt x="3162" y="1425"/>
                    </a:lnTo>
                    <a:lnTo>
                      <a:pt x="2642" y="1137"/>
                    </a:lnTo>
                    <a:lnTo>
                      <a:pt x="2125" y="871"/>
                    </a:lnTo>
                    <a:lnTo>
                      <a:pt x="1610" y="627"/>
                    </a:lnTo>
                    <a:lnTo>
                      <a:pt x="1097" y="404"/>
                    </a:lnTo>
                    <a:lnTo>
                      <a:pt x="583" y="202"/>
                    </a:lnTo>
                    <a:lnTo>
                      <a:pt x="68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24"/>
            <p:cNvGrpSpPr/>
            <p:nvPr/>
          </p:nvGrpSpPr>
          <p:grpSpPr>
            <a:xfrm>
              <a:off x="231840" y="3959640"/>
              <a:ext cx="2801520" cy="1209600"/>
              <a:chOff x="231840" y="3959640"/>
              <a:chExt cx="2801520" cy="1209600"/>
            </a:xfrm>
          </p:grpSpPr>
          <p:sp>
            <p:nvSpPr>
              <p:cNvPr id="498" name="Freeform 124"/>
              <p:cNvSpPr/>
              <p:nvPr/>
            </p:nvSpPr>
            <p:spPr>
              <a:xfrm>
                <a:off x="231840" y="3959640"/>
                <a:ext cx="2801520" cy="1209600"/>
              </a:xfrm>
              <a:custGeom>
                <a:avLst/>
                <a:gdLst/>
                <a:ahLst/>
                <a:rect l="l" t="t" r="r" b="b"/>
                <a:pathLst>
                  <a:path w="5863" h="2965">
                    <a:moveTo>
                      <a:pt x="0" y="0"/>
                    </a:moveTo>
                    <a:lnTo>
                      <a:pt x="0" y="9"/>
                    </a:lnTo>
                    <a:lnTo>
                      <a:pt x="101" y="31"/>
                    </a:lnTo>
                    <a:lnTo>
                      <a:pt x="498" y="133"/>
                    </a:lnTo>
                    <a:lnTo>
                      <a:pt x="896" y="252"/>
                    </a:lnTo>
                    <a:lnTo>
                      <a:pt x="1293" y="387"/>
                    </a:lnTo>
                    <a:lnTo>
                      <a:pt x="1691" y="538"/>
                    </a:lnTo>
                    <a:lnTo>
                      <a:pt x="2091" y="705"/>
                    </a:lnTo>
                    <a:lnTo>
                      <a:pt x="2493" y="889"/>
                    </a:lnTo>
                    <a:lnTo>
                      <a:pt x="2898" y="1090"/>
                    </a:lnTo>
                    <a:lnTo>
                      <a:pt x="3306" y="1307"/>
                    </a:lnTo>
                    <a:lnTo>
                      <a:pt x="3718" y="1541"/>
                    </a:lnTo>
                    <a:lnTo>
                      <a:pt x="4134" y="1791"/>
                    </a:lnTo>
                    <a:lnTo>
                      <a:pt x="4556" y="2059"/>
                    </a:lnTo>
                    <a:lnTo>
                      <a:pt x="4983" y="2344"/>
                    </a:lnTo>
                    <a:lnTo>
                      <a:pt x="5417" y="2645"/>
                    </a:lnTo>
                    <a:lnTo>
                      <a:pt x="5858" y="2964"/>
                    </a:lnTo>
                    <a:lnTo>
                      <a:pt x="5863" y="2957"/>
                    </a:lnTo>
                    <a:lnTo>
                      <a:pt x="5422" y="2638"/>
                    </a:lnTo>
                    <a:lnTo>
                      <a:pt x="4988" y="2336"/>
                    </a:lnTo>
                    <a:lnTo>
                      <a:pt x="4561" y="2052"/>
                    </a:lnTo>
                    <a:lnTo>
                      <a:pt x="4139" y="1784"/>
                    </a:lnTo>
                    <a:lnTo>
                      <a:pt x="3722" y="1533"/>
                    </a:lnTo>
                    <a:lnTo>
                      <a:pt x="3310" y="1299"/>
                    </a:lnTo>
                    <a:lnTo>
                      <a:pt x="2902" y="1082"/>
                    </a:lnTo>
                    <a:lnTo>
                      <a:pt x="2497" y="881"/>
                    </a:lnTo>
                    <a:lnTo>
                      <a:pt x="2095" y="697"/>
                    </a:lnTo>
                    <a:lnTo>
                      <a:pt x="1695" y="530"/>
                    </a:lnTo>
                    <a:lnTo>
                      <a:pt x="1296" y="378"/>
                    </a:lnTo>
                    <a:lnTo>
                      <a:pt x="898" y="243"/>
                    </a:lnTo>
                    <a:lnTo>
                      <a:pt x="501" y="125"/>
                    </a:lnTo>
                    <a:lnTo>
                      <a:pt x="103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Group 25"/>
            <p:cNvGrpSpPr/>
            <p:nvPr/>
          </p:nvGrpSpPr>
          <p:grpSpPr>
            <a:xfrm>
              <a:off x="231840" y="4021920"/>
              <a:ext cx="2801520" cy="1146960"/>
              <a:chOff x="231840" y="4021920"/>
              <a:chExt cx="2801520" cy="1146960"/>
            </a:xfrm>
          </p:grpSpPr>
          <p:sp>
            <p:nvSpPr>
              <p:cNvPr id="500" name="Freeform 123"/>
              <p:cNvSpPr/>
              <p:nvPr/>
            </p:nvSpPr>
            <p:spPr>
              <a:xfrm>
                <a:off x="231840" y="4021920"/>
                <a:ext cx="2801520" cy="1146960"/>
              </a:xfrm>
              <a:custGeom>
                <a:avLst/>
                <a:gdLst/>
                <a:ahLst/>
                <a:rect l="l" t="t" r="r" b="b"/>
                <a:pathLst>
                  <a:path w="5863" h="2811">
                    <a:moveTo>
                      <a:pt x="0" y="0"/>
                    </a:moveTo>
                    <a:lnTo>
                      <a:pt x="0" y="9"/>
                    </a:lnTo>
                    <a:lnTo>
                      <a:pt x="46" y="16"/>
                    </a:lnTo>
                    <a:lnTo>
                      <a:pt x="393" y="81"/>
                    </a:lnTo>
                    <a:lnTo>
                      <a:pt x="740" y="160"/>
                    </a:lnTo>
                    <a:lnTo>
                      <a:pt x="1087" y="254"/>
                    </a:lnTo>
                    <a:lnTo>
                      <a:pt x="1436" y="362"/>
                    </a:lnTo>
                    <a:lnTo>
                      <a:pt x="1786" y="485"/>
                    </a:lnTo>
                    <a:lnTo>
                      <a:pt x="2138" y="623"/>
                    </a:lnTo>
                    <a:lnTo>
                      <a:pt x="2492" y="775"/>
                    </a:lnTo>
                    <a:lnTo>
                      <a:pt x="2849" y="942"/>
                    </a:lnTo>
                    <a:lnTo>
                      <a:pt x="3210" y="1124"/>
                    </a:lnTo>
                    <a:lnTo>
                      <a:pt x="3574" y="1321"/>
                    </a:lnTo>
                    <a:lnTo>
                      <a:pt x="3942" y="1532"/>
                    </a:lnTo>
                    <a:lnTo>
                      <a:pt x="4314" y="1758"/>
                    </a:lnTo>
                    <a:lnTo>
                      <a:pt x="4692" y="1999"/>
                    </a:lnTo>
                    <a:lnTo>
                      <a:pt x="5075" y="2255"/>
                    </a:lnTo>
                    <a:lnTo>
                      <a:pt x="5463" y="2526"/>
                    </a:lnTo>
                    <a:lnTo>
                      <a:pt x="5858" y="2811"/>
                    </a:lnTo>
                    <a:lnTo>
                      <a:pt x="5863" y="2804"/>
                    </a:lnTo>
                    <a:lnTo>
                      <a:pt x="5468" y="2518"/>
                    </a:lnTo>
                    <a:lnTo>
                      <a:pt x="5080" y="2248"/>
                    </a:lnTo>
                    <a:lnTo>
                      <a:pt x="4697" y="1992"/>
                    </a:lnTo>
                    <a:lnTo>
                      <a:pt x="4319" y="1751"/>
                    </a:lnTo>
                    <a:lnTo>
                      <a:pt x="3946" y="1524"/>
                    </a:lnTo>
                    <a:lnTo>
                      <a:pt x="3578" y="1313"/>
                    </a:lnTo>
                    <a:lnTo>
                      <a:pt x="3214" y="1116"/>
                    </a:lnTo>
                    <a:lnTo>
                      <a:pt x="2853" y="935"/>
                    </a:lnTo>
                    <a:lnTo>
                      <a:pt x="2496" y="767"/>
                    </a:lnTo>
                    <a:lnTo>
                      <a:pt x="2141" y="615"/>
                    </a:lnTo>
                    <a:lnTo>
                      <a:pt x="1789" y="477"/>
                    </a:lnTo>
                    <a:lnTo>
                      <a:pt x="1438" y="354"/>
                    </a:lnTo>
                    <a:lnTo>
                      <a:pt x="1090" y="246"/>
                    </a:lnTo>
                    <a:lnTo>
                      <a:pt x="742" y="152"/>
                    </a:lnTo>
                    <a:lnTo>
                      <a:pt x="395" y="72"/>
                    </a:lnTo>
                    <a:lnTo>
                      <a:pt x="48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26"/>
            <p:cNvGrpSpPr/>
            <p:nvPr/>
          </p:nvGrpSpPr>
          <p:grpSpPr>
            <a:xfrm>
              <a:off x="231840" y="4077720"/>
              <a:ext cx="2801520" cy="1091520"/>
              <a:chOff x="231840" y="4077720"/>
              <a:chExt cx="2801520" cy="1091520"/>
            </a:xfrm>
          </p:grpSpPr>
          <p:sp>
            <p:nvSpPr>
              <p:cNvPr id="502" name="Freeform 122"/>
              <p:cNvSpPr/>
              <p:nvPr/>
            </p:nvSpPr>
            <p:spPr>
              <a:xfrm>
                <a:off x="231840" y="4077720"/>
                <a:ext cx="2801520" cy="1091520"/>
              </a:xfrm>
              <a:custGeom>
                <a:avLst/>
                <a:gdLst/>
                <a:ahLst/>
                <a:rect l="l" t="t" r="r" b="b"/>
                <a:pathLst>
                  <a:path w="5863" h="2675">
                    <a:moveTo>
                      <a:pt x="0" y="0"/>
                    </a:moveTo>
                    <a:lnTo>
                      <a:pt x="0" y="9"/>
                    </a:lnTo>
                    <a:lnTo>
                      <a:pt x="244" y="35"/>
                    </a:lnTo>
                    <a:lnTo>
                      <a:pt x="553" y="82"/>
                    </a:lnTo>
                    <a:lnTo>
                      <a:pt x="863" y="143"/>
                    </a:lnTo>
                    <a:lnTo>
                      <a:pt x="1175" y="217"/>
                    </a:lnTo>
                    <a:lnTo>
                      <a:pt x="1489" y="305"/>
                    </a:lnTo>
                    <a:lnTo>
                      <a:pt x="1804" y="406"/>
                    </a:lnTo>
                    <a:lnTo>
                      <a:pt x="2122" y="521"/>
                    </a:lnTo>
                    <a:lnTo>
                      <a:pt x="2442" y="649"/>
                    </a:lnTo>
                    <a:lnTo>
                      <a:pt x="2765" y="790"/>
                    </a:lnTo>
                    <a:lnTo>
                      <a:pt x="3092" y="946"/>
                    </a:lnTo>
                    <a:lnTo>
                      <a:pt x="3422" y="1114"/>
                    </a:lnTo>
                    <a:lnTo>
                      <a:pt x="3755" y="1297"/>
                    </a:lnTo>
                    <a:lnTo>
                      <a:pt x="4093" y="1492"/>
                    </a:lnTo>
                    <a:lnTo>
                      <a:pt x="4436" y="1702"/>
                    </a:lnTo>
                    <a:lnTo>
                      <a:pt x="4783" y="1925"/>
                    </a:lnTo>
                    <a:lnTo>
                      <a:pt x="5136" y="2161"/>
                    </a:lnTo>
                    <a:lnTo>
                      <a:pt x="5494" y="2411"/>
                    </a:lnTo>
                    <a:lnTo>
                      <a:pt x="5858" y="2674"/>
                    </a:lnTo>
                    <a:lnTo>
                      <a:pt x="5863" y="2667"/>
                    </a:lnTo>
                    <a:lnTo>
                      <a:pt x="5499" y="2404"/>
                    </a:lnTo>
                    <a:lnTo>
                      <a:pt x="5141" y="2154"/>
                    </a:lnTo>
                    <a:lnTo>
                      <a:pt x="4788" y="1917"/>
                    </a:lnTo>
                    <a:lnTo>
                      <a:pt x="4441" y="1694"/>
                    </a:lnTo>
                    <a:lnTo>
                      <a:pt x="4098" y="1485"/>
                    </a:lnTo>
                    <a:lnTo>
                      <a:pt x="3760" y="1289"/>
                    </a:lnTo>
                    <a:lnTo>
                      <a:pt x="3426" y="1107"/>
                    </a:lnTo>
                    <a:lnTo>
                      <a:pt x="3095" y="938"/>
                    </a:lnTo>
                    <a:lnTo>
                      <a:pt x="2769" y="782"/>
                    </a:lnTo>
                    <a:lnTo>
                      <a:pt x="2445" y="641"/>
                    </a:lnTo>
                    <a:lnTo>
                      <a:pt x="2125" y="512"/>
                    </a:lnTo>
                    <a:lnTo>
                      <a:pt x="1807" y="398"/>
                    </a:lnTo>
                    <a:lnTo>
                      <a:pt x="1491" y="296"/>
                    </a:lnTo>
                    <a:lnTo>
                      <a:pt x="1177" y="209"/>
                    </a:lnTo>
                    <a:lnTo>
                      <a:pt x="865" y="135"/>
                    </a:lnTo>
                    <a:lnTo>
                      <a:pt x="555" y="74"/>
                    </a:lnTo>
                    <a:lnTo>
                      <a:pt x="245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27"/>
            <p:cNvGrpSpPr/>
            <p:nvPr/>
          </p:nvGrpSpPr>
          <p:grpSpPr>
            <a:xfrm>
              <a:off x="231840" y="4128480"/>
              <a:ext cx="2801520" cy="1040400"/>
              <a:chOff x="231840" y="4128480"/>
              <a:chExt cx="2801520" cy="1040400"/>
            </a:xfrm>
          </p:grpSpPr>
          <p:sp>
            <p:nvSpPr>
              <p:cNvPr id="504" name="Freeform 121"/>
              <p:cNvSpPr/>
              <p:nvPr/>
            </p:nvSpPr>
            <p:spPr>
              <a:xfrm>
                <a:off x="231840" y="4128480"/>
                <a:ext cx="2801520" cy="1040400"/>
              </a:xfrm>
              <a:custGeom>
                <a:avLst/>
                <a:gdLst/>
                <a:ahLst/>
                <a:rect l="l" t="t" r="r" b="b"/>
                <a:pathLst>
                  <a:path w="5863" h="2550">
                    <a:moveTo>
                      <a:pt x="0" y="0"/>
                    </a:moveTo>
                    <a:lnTo>
                      <a:pt x="0" y="9"/>
                    </a:lnTo>
                    <a:lnTo>
                      <a:pt x="85" y="11"/>
                    </a:lnTo>
                    <a:lnTo>
                      <a:pt x="364" y="30"/>
                    </a:lnTo>
                    <a:lnTo>
                      <a:pt x="644" y="62"/>
                    </a:lnTo>
                    <a:lnTo>
                      <a:pt x="926" y="107"/>
                    </a:lnTo>
                    <a:lnTo>
                      <a:pt x="1209" y="164"/>
                    </a:lnTo>
                    <a:lnTo>
                      <a:pt x="1495" y="235"/>
                    </a:lnTo>
                    <a:lnTo>
                      <a:pt x="1783" y="318"/>
                    </a:lnTo>
                    <a:lnTo>
                      <a:pt x="2074" y="413"/>
                    </a:lnTo>
                    <a:lnTo>
                      <a:pt x="2368" y="522"/>
                    </a:lnTo>
                    <a:lnTo>
                      <a:pt x="2665" y="643"/>
                    </a:lnTo>
                    <a:lnTo>
                      <a:pt x="2965" y="777"/>
                    </a:lnTo>
                    <a:lnTo>
                      <a:pt x="3268" y="923"/>
                    </a:lnTo>
                    <a:lnTo>
                      <a:pt x="3576" y="1082"/>
                    </a:lnTo>
                    <a:lnTo>
                      <a:pt x="3887" y="1254"/>
                    </a:lnTo>
                    <a:lnTo>
                      <a:pt x="4203" y="1439"/>
                    </a:lnTo>
                    <a:lnTo>
                      <a:pt x="4524" y="1636"/>
                    </a:lnTo>
                    <a:lnTo>
                      <a:pt x="4850" y="1845"/>
                    </a:lnTo>
                    <a:lnTo>
                      <a:pt x="5180" y="2068"/>
                    </a:lnTo>
                    <a:lnTo>
                      <a:pt x="5516" y="2303"/>
                    </a:lnTo>
                    <a:lnTo>
                      <a:pt x="5858" y="2550"/>
                    </a:lnTo>
                    <a:lnTo>
                      <a:pt x="5863" y="2543"/>
                    </a:lnTo>
                    <a:lnTo>
                      <a:pt x="5521" y="2296"/>
                    </a:lnTo>
                    <a:lnTo>
                      <a:pt x="5185" y="2061"/>
                    </a:lnTo>
                    <a:lnTo>
                      <a:pt x="4854" y="1838"/>
                    </a:lnTo>
                    <a:lnTo>
                      <a:pt x="4529" y="1628"/>
                    </a:lnTo>
                    <a:lnTo>
                      <a:pt x="4208" y="1431"/>
                    </a:lnTo>
                    <a:lnTo>
                      <a:pt x="3892" y="1246"/>
                    </a:lnTo>
                    <a:lnTo>
                      <a:pt x="3580" y="1075"/>
                    </a:lnTo>
                    <a:lnTo>
                      <a:pt x="3272" y="915"/>
                    </a:lnTo>
                    <a:lnTo>
                      <a:pt x="2968" y="769"/>
                    </a:lnTo>
                    <a:lnTo>
                      <a:pt x="2668" y="635"/>
                    </a:lnTo>
                    <a:lnTo>
                      <a:pt x="2371" y="514"/>
                    </a:lnTo>
                    <a:lnTo>
                      <a:pt x="2077" y="405"/>
                    </a:lnTo>
                    <a:lnTo>
                      <a:pt x="1786" y="309"/>
                    </a:lnTo>
                    <a:lnTo>
                      <a:pt x="1498" y="226"/>
                    </a:lnTo>
                    <a:lnTo>
                      <a:pt x="1211" y="156"/>
                    </a:lnTo>
                    <a:lnTo>
                      <a:pt x="927" y="98"/>
                    </a:lnTo>
                    <a:lnTo>
                      <a:pt x="645" y="53"/>
                    </a:lnTo>
                    <a:lnTo>
                      <a:pt x="364" y="21"/>
                    </a:lnTo>
                    <a:lnTo>
                      <a:pt x="85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" name="Group 28"/>
            <p:cNvGrpSpPr/>
            <p:nvPr/>
          </p:nvGrpSpPr>
          <p:grpSpPr>
            <a:xfrm>
              <a:off x="231840" y="3319560"/>
              <a:ext cx="3084840" cy="1467720"/>
              <a:chOff x="231840" y="3319560"/>
              <a:chExt cx="3084840" cy="1467720"/>
            </a:xfrm>
          </p:grpSpPr>
          <p:sp>
            <p:nvSpPr>
              <p:cNvPr id="506" name="Freeform 120"/>
              <p:cNvSpPr/>
              <p:nvPr/>
            </p:nvSpPr>
            <p:spPr>
              <a:xfrm>
                <a:off x="231840" y="3319560"/>
                <a:ext cx="3084840" cy="1467720"/>
              </a:xfrm>
              <a:custGeom>
                <a:avLst/>
                <a:gdLst/>
                <a:ahLst/>
                <a:rect l="l" t="t" r="r" b="b"/>
                <a:pathLst>
                  <a:path w="6456" h="3597">
                    <a:moveTo>
                      <a:pt x="0" y="0"/>
                    </a:moveTo>
                    <a:lnTo>
                      <a:pt x="0" y="10"/>
                    </a:lnTo>
                    <a:lnTo>
                      <a:pt x="130" y="85"/>
                    </a:lnTo>
                    <a:lnTo>
                      <a:pt x="2789" y="1588"/>
                    </a:lnTo>
                    <a:lnTo>
                      <a:pt x="6452" y="3598"/>
                    </a:lnTo>
                    <a:lnTo>
                      <a:pt x="6456" y="3590"/>
                    </a:lnTo>
                    <a:lnTo>
                      <a:pt x="2793" y="1581"/>
                    </a:lnTo>
                    <a:lnTo>
                      <a:pt x="135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Group 29"/>
            <p:cNvGrpSpPr/>
            <p:nvPr/>
          </p:nvGrpSpPr>
          <p:grpSpPr>
            <a:xfrm>
              <a:off x="231840" y="3560400"/>
              <a:ext cx="3084840" cy="1227240"/>
              <a:chOff x="231840" y="3560400"/>
              <a:chExt cx="3084840" cy="1227240"/>
            </a:xfrm>
          </p:grpSpPr>
          <p:sp>
            <p:nvSpPr>
              <p:cNvPr id="508" name="Freeform 119"/>
              <p:cNvSpPr/>
              <p:nvPr/>
            </p:nvSpPr>
            <p:spPr>
              <a:xfrm>
                <a:off x="231840" y="3560400"/>
                <a:ext cx="3084840" cy="1227240"/>
              </a:xfrm>
              <a:custGeom>
                <a:avLst/>
                <a:gdLst/>
                <a:ahLst/>
                <a:rect l="l" t="t" r="r" b="b"/>
                <a:pathLst>
                  <a:path w="6456" h="3008">
                    <a:moveTo>
                      <a:pt x="0" y="0"/>
                    </a:moveTo>
                    <a:lnTo>
                      <a:pt x="0" y="9"/>
                    </a:lnTo>
                    <a:lnTo>
                      <a:pt x="638" y="252"/>
                    </a:lnTo>
                    <a:lnTo>
                      <a:pt x="1332" y="532"/>
                    </a:lnTo>
                    <a:lnTo>
                      <a:pt x="2030" y="828"/>
                    </a:lnTo>
                    <a:lnTo>
                      <a:pt x="2735" y="1142"/>
                    </a:lnTo>
                    <a:lnTo>
                      <a:pt x="3449" y="1474"/>
                    </a:lnTo>
                    <a:lnTo>
                      <a:pt x="4175" y="1826"/>
                    </a:lnTo>
                    <a:lnTo>
                      <a:pt x="4915" y="2198"/>
                    </a:lnTo>
                    <a:lnTo>
                      <a:pt x="5673" y="2592"/>
                    </a:lnTo>
                    <a:lnTo>
                      <a:pt x="6452" y="3008"/>
                    </a:lnTo>
                    <a:lnTo>
                      <a:pt x="6456" y="3000"/>
                    </a:lnTo>
                    <a:lnTo>
                      <a:pt x="5677" y="2584"/>
                    </a:lnTo>
                    <a:lnTo>
                      <a:pt x="4919" y="2190"/>
                    </a:lnTo>
                    <a:lnTo>
                      <a:pt x="4178" y="1818"/>
                    </a:lnTo>
                    <a:lnTo>
                      <a:pt x="3453" y="1466"/>
                    </a:lnTo>
                    <a:lnTo>
                      <a:pt x="2739" y="1134"/>
                    </a:lnTo>
                    <a:lnTo>
                      <a:pt x="2034" y="820"/>
                    </a:lnTo>
                    <a:lnTo>
                      <a:pt x="1336" y="523"/>
                    </a:lnTo>
                    <a:lnTo>
                      <a:pt x="641" y="2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Group 30"/>
            <p:cNvGrpSpPr/>
            <p:nvPr/>
          </p:nvGrpSpPr>
          <p:grpSpPr>
            <a:xfrm>
              <a:off x="231840" y="3730680"/>
              <a:ext cx="3085560" cy="1058760"/>
              <a:chOff x="231840" y="3730680"/>
              <a:chExt cx="3085560" cy="1058760"/>
            </a:xfrm>
          </p:grpSpPr>
          <p:sp>
            <p:nvSpPr>
              <p:cNvPr id="510" name="Freeform 118"/>
              <p:cNvSpPr/>
              <p:nvPr/>
            </p:nvSpPr>
            <p:spPr>
              <a:xfrm>
                <a:off x="231840" y="3730680"/>
                <a:ext cx="3085560" cy="1058760"/>
              </a:xfrm>
              <a:custGeom>
                <a:avLst/>
                <a:gdLst/>
                <a:ahLst/>
                <a:rect l="l" t="t" r="r" b="b"/>
                <a:pathLst>
                  <a:path w="6458" h="2595">
                    <a:moveTo>
                      <a:pt x="0" y="0"/>
                    </a:moveTo>
                    <a:lnTo>
                      <a:pt x="0" y="18"/>
                    </a:lnTo>
                    <a:lnTo>
                      <a:pt x="504" y="140"/>
                    </a:lnTo>
                    <a:lnTo>
                      <a:pt x="1021" y="280"/>
                    </a:lnTo>
                    <a:lnTo>
                      <a:pt x="1540" y="437"/>
                    </a:lnTo>
                    <a:lnTo>
                      <a:pt x="2061" y="609"/>
                    </a:lnTo>
                    <a:lnTo>
                      <a:pt x="2585" y="798"/>
                    </a:lnTo>
                    <a:lnTo>
                      <a:pt x="3114" y="1003"/>
                    </a:lnTo>
                    <a:lnTo>
                      <a:pt x="3648" y="1225"/>
                    </a:lnTo>
                    <a:lnTo>
                      <a:pt x="4190" y="1464"/>
                    </a:lnTo>
                    <a:lnTo>
                      <a:pt x="4740" y="1721"/>
                    </a:lnTo>
                    <a:lnTo>
                      <a:pt x="5299" y="1994"/>
                    </a:lnTo>
                    <a:lnTo>
                      <a:pt x="5869" y="2286"/>
                    </a:lnTo>
                    <a:lnTo>
                      <a:pt x="6450" y="2595"/>
                    </a:lnTo>
                    <a:lnTo>
                      <a:pt x="6458" y="2579"/>
                    </a:lnTo>
                    <a:lnTo>
                      <a:pt x="5877" y="2270"/>
                    </a:lnTo>
                    <a:lnTo>
                      <a:pt x="5307" y="1979"/>
                    </a:lnTo>
                    <a:lnTo>
                      <a:pt x="4748" y="1705"/>
                    </a:lnTo>
                    <a:lnTo>
                      <a:pt x="4197" y="1448"/>
                    </a:lnTo>
                    <a:lnTo>
                      <a:pt x="3655" y="1209"/>
                    </a:lnTo>
                    <a:lnTo>
                      <a:pt x="3120" y="987"/>
                    </a:lnTo>
                    <a:lnTo>
                      <a:pt x="2591" y="781"/>
                    </a:lnTo>
                    <a:lnTo>
                      <a:pt x="2066" y="592"/>
                    </a:lnTo>
                    <a:lnTo>
                      <a:pt x="1545" y="420"/>
                    </a:lnTo>
                    <a:lnTo>
                      <a:pt x="1026" y="263"/>
                    </a:lnTo>
                    <a:lnTo>
                      <a:pt x="509" y="1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31"/>
            <p:cNvGrpSpPr/>
            <p:nvPr/>
          </p:nvGrpSpPr>
          <p:grpSpPr>
            <a:xfrm>
              <a:off x="231840" y="3842640"/>
              <a:ext cx="3084840" cy="945000"/>
              <a:chOff x="231840" y="3842640"/>
              <a:chExt cx="3084840" cy="945000"/>
            </a:xfrm>
          </p:grpSpPr>
          <p:sp>
            <p:nvSpPr>
              <p:cNvPr id="512" name="Freeform 117"/>
              <p:cNvSpPr/>
              <p:nvPr/>
            </p:nvSpPr>
            <p:spPr>
              <a:xfrm>
                <a:off x="231840" y="3842640"/>
                <a:ext cx="3084840" cy="945000"/>
              </a:xfrm>
              <a:custGeom>
                <a:avLst/>
                <a:gdLst/>
                <a:ahLst/>
                <a:rect l="l" t="t" r="r" b="b"/>
                <a:pathLst>
                  <a:path w="6456" h="2316">
                    <a:moveTo>
                      <a:pt x="0" y="0"/>
                    </a:moveTo>
                    <a:lnTo>
                      <a:pt x="0" y="9"/>
                    </a:lnTo>
                    <a:lnTo>
                      <a:pt x="309" y="51"/>
                    </a:lnTo>
                    <a:lnTo>
                      <a:pt x="697" y="117"/>
                    </a:lnTo>
                    <a:lnTo>
                      <a:pt x="1086" y="194"/>
                    </a:lnTo>
                    <a:lnTo>
                      <a:pt x="1476" y="284"/>
                    </a:lnTo>
                    <a:lnTo>
                      <a:pt x="1868" y="386"/>
                    </a:lnTo>
                    <a:lnTo>
                      <a:pt x="2262" y="500"/>
                    </a:lnTo>
                    <a:lnTo>
                      <a:pt x="2660" y="626"/>
                    </a:lnTo>
                    <a:lnTo>
                      <a:pt x="3061" y="764"/>
                    </a:lnTo>
                    <a:lnTo>
                      <a:pt x="3466" y="915"/>
                    </a:lnTo>
                    <a:lnTo>
                      <a:pt x="3875" y="1078"/>
                    </a:lnTo>
                    <a:lnTo>
                      <a:pt x="4289" y="1253"/>
                    </a:lnTo>
                    <a:lnTo>
                      <a:pt x="4709" y="1441"/>
                    </a:lnTo>
                    <a:lnTo>
                      <a:pt x="5134" y="1641"/>
                    </a:lnTo>
                    <a:lnTo>
                      <a:pt x="5566" y="1853"/>
                    </a:lnTo>
                    <a:lnTo>
                      <a:pt x="6005" y="2078"/>
                    </a:lnTo>
                    <a:lnTo>
                      <a:pt x="6452" y="2316"/>
                    </a:lnTo>
                    <a:lnTo>
                      <a:pt x="6456" y="2308"/>
                    </a:lnTo>
                    <a:lnTo>
                      <a:pt x="6009" y="2070"/>
                    </a:lnTo>
                    <a:lnTo>
                      <a:pt x="5570" y="1845"/>
                    </a:lnTo>
                    <a:lnTo>
                      <a:pt x="5138" y="1633"/>
                    </a:lnTo>
                    <a:lnTo>
                      <a:pt x="4712" y="1433"/>
                    </a:lnTo>
                    <a:lnTo>
                      <a:pt x="4293" y="1245"/>
                    </a:lnTo>
                    <a:lnTo>
                      <a:pt x="3878" y="1069"/>
                    </a:lnTo>
                    <a:lnTo>
                      <a:pt x="3469" y="907"/>
                    </a:lnTo>
                    <a:lnTo>
                      <a:pt x="3064" y="756"/>
                    </a:lnTo>
                    <a:lnTo>
                      <a:pt x="2663" y="617"/>
                    </a:lnTo>
                    <a:lnTo>
                      <a:pt x="2265" y="491"/>
                    </a:lnTo>
                    <a:lnTo>
                      <a:pt x="1870" y="377"/>
                    </a:lnTo>
                    <a:lnTo>
                      <a:pt x="1478" y="275"/>
                    </a:lnTo>
                    <a:lnTo>
                      <a:pt x="1087" y="186"/>
                    </a:lnTo>
                    <a:lnTo>
                      <a:pt x="698" y="108"/>
                    </a:lnTo>
                    <a:lnTo>
                      <a:pt x="310" y="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Group 32"/>
            <p:cNvGrpSpPr/>
            <p:nvPr/>
          </p:nvGrpSpPr>
          <p:grpSpPr>
            <a:xfrm>
              <a:off x="231840" y="3910680"/>
              <a:ext cx="3085560" cy="878400"/>
              <a:chOff x="231840" y="3910680"/>
              <a:chExt cx="3085560" cy="878400"/>
            </a:xfrm>
          </p:grpSpPr>
          <p:sp>
            <p:nvSpPr>
              <p:cNvPr id="514" name="Freeform 116"/>
              <p:cNvSpPr/>
              <p:nvPr/>
            </p:nvSpPr>
            <p:spPr>
              <a:xfrm>
                <a:off x="231840" y="3910680"/>
                <a:ext cx="3085560" cy="878400"/>
              </a:xfrm>
              <a:custGeom>
                <a:avLst/>
                <a:gdLst/>
                <a:ahLst/>
                <a:rect l="l" t="t" r="r" b="b"/>
                <a:pathLst>
                  <a:path w="6458" h="2153">
                    <a:moveTo>
                      <a:pt x="0" y="0"/>
                    </a:moveTo>
                    <a:lnTo>
                      <a:pt x="0" y="18"/>
                    </a:lnTo>
                    <a:lnTo>
                      <a:pt x="27" y="19"/>
                    </a:lnTo>
                    <a:lnTo>
                      <a:pt x="361" y="46"/>
                    </a:lnTo>
                    <a:lnTo>
                      <a:pt x="696" y="84"/>
                    </a:lnTo>
                    <a:lnTo>
                      <a:pt x="1032" y="132"/>
                    </a:lnTo>
                    <a:lnTo>
                      <a:pt x="1369" y="192"/>
                    </a:lnTo>
                    <a:lnTo>
                      <a:pt x="1709" y="262"/>
                    </a:lnTo>
                    <a:lnTo>
                      <a:pt x="2050" y="342"/>
                    </a:lnTo>
                    <a:lnTo>
                      <a:pt x="2394" y="434"/>
                    </a:lnTo>
                    <a:lnTo>
                      <a:pt x="2742" y="536"/>
                    </a:lnTo>
                    <a:lnTo>
                      <a:pt x="3092" y="649"/>
                    </a:lnTo>
                    <a:lnTo>
                      <a:pt x="3446" y="773"/>
                    </a:lnTo>
                    <a:lnTo>
                      <a:pt x="3804" y="908"/>
                    </a:lnTo>
                    <a:lnTo>
                      <a:pt x="4167" y="1054"/>
                    </a:lnTo>
                    <a:lnTo>
                      <a:pt x="4533" y="1210"/>
                    </a:lnTo>
                    <a:lnTo>
                      <a:pt x="4905" y="1377"/>
                    </a:lnTo>
                    <a:lnTo>
                      <a:pt x="5283" y="1555"/>
                    </a:lnTo>
                    <a:lnTo>
                      <a:pt x="5666" y="1744"/>
                    </a:lnTo>
                    <a:lnTo>
                      <a:pt x="6054" y="1943"/>
                    </a:lnTo>
                    <a:lnTo>
                      <a:pt x="6450" y="2154"/>
                    </a:lnTo>
                    <a:lnTo>
                      <a:pt x="6458" y="2138"/>
                    </a:lnTo>
                    <a:lnTo>
                      <a:pt x="6063" y="1928"/>
                    </a:lnTo>
                    <a:lnTo>
                      <a:pt x="5673" y="1728"/>
                    </a:lnTo>
                    <a:lnTo>
                      <a:pt x="5290" y="1539"/>
                    </a:lnTo>
                    <a:lnTo>
                      <a:pt x="4913" y="1361"/>
                    </a:lnTo>
                    <a:lnTo>
                      <a:pt x="4541" y="1194"/>
                    </a:lnTo>
                    <a:lnTo>
                      <a:pt x="4173" y="1037"/>
                    </a:lnTo>
                    <a:lnTo>
                      <a:pt x="3811" y="892"/>
                    </a:lnTo>
                    <a:lnTo>
                      <a:pt x="3452" y="757"/>
                    </a:lnTo>
                    <a:lnTo>
                      <a:pt x="3098" y="633"/>
                    </a:lnTo>
                    <a:lnTo>
                      <a:pt x="2747" y="519"/>
                    </a:lnTo>
                    <a:lnTo>
                      <a:pt x="2399" y="417"/>
                    </a:lnTo>
                    <a:lnTo>
                      <a:pt x="2055" y="325"/>
                    </a:lnTo>
                    <a:lnTo>
                      <a:pt x="1712" y="244"/>
                    </a:lnTo>
                    <a:lnTo>
                      <a:pt x="1373" y="174"/>
                    </a:lnTo>
                    <a:lnTo>
                      <a:pt x="1035" y="115"/>
                    </a:lnTo>
                    <a:lnTo>
                      <a:pt x="698" y="66"/>
                    </a:lnTo>
                    <a:lnTo>
                      <a:pt x="363" y="29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Group 33"/>
            <p:cNvGrpSpPr/>
            <p:nvPr/>
          </p:nvGrpSpPr>
          <p:grpSpPr>
            <a:xfrm>
              <a:off x="231840" y="3975120"/>
              <a:ext cx="3084840" cy="812880"/>
              <a:chOff x="231840" y="3975120"/>
              <a:chExt cx="3084840" cy="812880"/>
            </a:xfrm>
          </p:grpSpPr>
          <p:sp>
            <p:nvSpPr>
              <p:cNvPr id="516" name="Freeform 114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397" y="9"/>
                    </a:moveTo>
                    <a:lnTo>
                      <a:pt x="27" y="9"/>
                    </a:lnTo>
                    <a:lnTo>
                      <a:pt x="322" y="14"/>
                    </a:lnTo>
                    <a:lnTo>
                      <a:pt x="619" y="29"/>
                    </a:lnTo>
                    <a:lnTo>
                      <a:pt x="916" y="54"/>
                    </a:lnTo>
                    <a:lnTo>
                      <a:pt x="1216" y="89"/>
                    </a:lnTo>
                    <a:lnTo>
                      <a:pt x="1518" y="134"/>
                    </a:lnTo>
                    <a:lnTo>
                      <a:pt x="1822" y="188"/>
                    </a:lnTo>
                    <a:lnTo>
                      <a:pt x="2128" y="253"/>
                    </a:lnTo>
                    <a:lnTo>
                      <a:pt x="2437" y="328"/>
                    </a:lnTo>
                    <a:lnTo>
                      <a:pt x="2749" y="412"/>
                    </a:lnTo>
                    <a:lnTo>
                      <a:pt x="3065" y="507"/>
                    </a:lnTo>
                    <a:lnTo>
                      <a:pt x="3384" y="611"/>
                    </a:lnTo>
                    <a:lnTo>
                      <a:pt x="3706" y="725"/>
                    </a:lnTo>
                    <a:lnTo>
                      <a:pt x="4033" y="849"/>
                    </a:lnTo>
                    <a:lnTo>
                      <a:pt x="4364" y="983"/>
                    </a:lnTo>
                    <a:lnTo>
                      <a:pt x="4699" y="1127"/>
                    </a:lnTo>
                    <a:lnTo>
                      <a:pt x="5039" y="1280"/>
                    </a:lnTo>
                    <a:lnTo>
                      <a:pt x="5384" y="1443"/>
                    </a:lnTo>
                    <a:lnTo>
                      <a:pt x="5734" y="1616"/>
                    </a:lnTo>
                    <a:lnTo>
                      <a:pt x="6090" y="1799"/>
                    </a:lnTo>
                    <a:lnTo>
                      <a:pt x="6452" y="1992"/>
                    </a:lnTo>
                    <a:lnTo>
                      <a:pt x="6456" y="1984"/>
                    </a:lnTo>
                    <a:lnTo>
                      <a:pt x="6094" y="1791"/>
                    </a:lnTo>
                    <a:lnTo>
                      <a:pt x="5738" y="1609"/>
                    </a:lnTo>
                    <a:lnTo>
                      <a:pt x="5388" y="1436"/>
                    </a:lnTo>
                    <a:lnTo>
                      <a:pt x="5043" y="1272"/>
                    </a:lnTo>
                    <a:lnTo>
                      <a:pt x="4703" y="1119"/>
                    </a:lnTo>
                    <a:lnTo>
                      <a:pt x="4367" y="975"/>
                    </a:lnTo>
                    <a:lnTo>
                      <a:pt x="4036" y="841"/>
                    </a:lnTo>
                    <a:lnTo>
                      <a:pt x="3709" y="717"/>
                    </a:lnTo>
                    <a:lnTo>
                      <a:pt x="3386" y="603"/>
                    </a:lnTo>
                    <a:lnTo>
                      <a:pt x="3067" y="498"/>
                    </a:lnTo>
                    <a:lnTo>
                      <a:pt x="2752" y="404"/>
                    </a:lnTo>
                    <a:lnTo>
                      <a:pt x="2439" y="319"/>
                    </a:lnTo>
                    <a:lnTo>
                      <a:pt x="2130" y="245"/>
                    </a:lnTo>
                    <a:lnTo>
                      <a:pt x="1823" y="180"/>
                    </a:lnTo>
                    <a:lnTo>
                      <a:pt x="1519" y="125"/>
                    </a:lnTo>
                    <a:lnTo>
                      <a:pt x="1217" y="80"/>
                    </a:lnTo>
                    <a:lnTo>
                      <a:pt x="917" y="45"/>
                    </a:lnTo>
                    <a:lnTo>
                      <a:pt x="619" y="20"/>
                    </a:lnTo>
                    <a:lnTo>
                      <a:pt x="397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15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27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27" y="9"/>
                    </a:lnTo>
                    <a:lnTo>
                      <a:pt x="397" y="9"/>
                    </a:lnTo>
                    <a:lnTo>
                      <a:pt x="322" y="5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34"/>
            <p:cNvGrpSpPr/>
            <p:nvPr/>
          </p:nvGrpSpPr>
          <p:grpSpPr>
            <a:xfrm>
              <a:off x="231840" y="4025880"/>
              <a:ext cx="3084840" cy="761760"/>
              <a:chOff x="231840" y="4025880"/>
              <a:chExt cx="3084840" cy="761760"/>
            </a:xfrm>
          </p:grpSpPr>
          <p:sp>
            <p:nvSpPr>
              <p:cNvPr id="519" name="Freeform 112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856" y="9"/>
                    </a:moveTo>
                    <a:lnTo>
                      <a:pt x="510" y="9"/>
                    </a:lnTo>
                    <a:lnTo>
                      <a:pt x="777" y="14"/>
                    </a:lnTo>
                    <a:lnTo>
                      <a:pt x="1047" y="28"/>
                    </a:lnTo>
                    <a:lnTo>
                      <a:pt x="1319" y="51"/>
                    </a:lnTo>
                    <a:lnTo>
                      <a:pt x="1593" y="84"/>
                    </a:lnTo>
                    <a:lnTo>
                      <a:pt x="1869" y="126"/>
                    </a:lnTo>
                    <a:lnTo>
                      <a:pt x="2149" y="178"/>
                    </a:lnTo>
                    <a:lnTo>
                      <a:pt x="2431" y="239"/>
                    </a:lnTo>
                    <a:lnTo>
                      <a:pt x="2716" y="309"/>
                    </a:lnTo>
                    <a:lnTo>
                      <a:pt x="3005" y="388"/>
                    </a:lnTo>
                    <a:lnTo>
                      <a:pt x="3297" y="477"/>
                    </a:lnTo>
                    <a:lnTo>
                      <a:pt x="3593" y="575"/>
                    </a:lnTo>
                    <a:lnTo>
                      <a:pt x="3892" y="682"/>
                    </a:lnTo>
                    <a:lnTo>
                      <a:pt x="4196" y="798"/>
                    </a:lnTo>
                    <a:lnTo>
                      <a:pt x="4504" y="924"/>
                    </a:lnTo>
                    <a:lnTo>
                      <a:pt x="4816" y="1058"/>
                    </a:lnTo>
                    <a:lnTo>
                      <a:pt x="5133" y="1202"/>
                    </a:lnTo>
                    <a:lnTo>
                      <a:pt x="5455" y="1354"/>
                    </a:lnTo>
                    <a:lnTo>
                      <a:pt x="5782" y="1516"/>
                    </a:lnTo>
                    <a:lnTo>
                      <a:pt x="6114" y="1687"/>
                    </a:lnTo>
                    <a:lnTo>
                      <a:pt x="6452" y="1867"/>
                    </a:lnTo>
                    <a:lnTo>
                      <a:pt x="6456" y="1859"/>
                    </a:lnTo>
                    <a:lnTo>
                      <a:pt x="6118" y="1679"/>
                    </a:lnTo>
                    <a:lnTo>
                      <a:pt x="5786" y="1508"/>
                    </a:lnTo>
                    <a:lnTo>
                      <a:pt x="5459" y="1346"/>
                    </a:lnTo>
                    <a:lnTo>
                      <a:pt x="5137" y="1194"/>
                    </a:lnTo>
                    <a:lnTo>
                      <a:pt x="4820" y="1050"/>
                    </a:lnTo>
                    <a:lnTo>
                      <a:pt x="4507" y="915"/>
                    </a:lnTo>
                    <a:lnTo>
                      <a:pt x="4199" y="790"/>
                    </a:lnTo>
                    <a:lnTo>
                      <a:pt x="3895" y="674"/>
                    </a:lnTo>
                    <a:lnTo>
                      <a:pt x="3595" y="567"/>
                    </a:lnTo>
                    <a:lnTo>
                      <a:pt x="3299" y="469"/>
                    </a:lnTo>
                    <a:lnTo>
                      <a:pt x="3007" y="380"/>
                    </a:lnTo>
                    <a:lnTo>
                      <a:pt x="2718" y="300"/>
                    </a:lnTo>
                    <a:lnTo>
                      <a:pt x="2433" y="230"/>
                    </a:lnTo>
                    <a:lnTo>
                      <a:pt x="2150" y="169"/>
                    </a:lnTo>
                    <a:lnTo>
                      <a:pt x="1871" y="118"/>
                    </a:lnTo>
                    <a:lnTo>
                      <a:pt x="1594" y="75"/>
                    </a:lnTo>
                    <a:lnTo>
                      <a:pt x="1320" y="43"/>
                    </a:lnTo>
                    <a:lnTo>
                      <a:pt x="1048" y="19"/>
                    </a:lnTo>
                    <a:lnTo>
                      <a:pt x="856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13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510" y="0"/>
                    </a:moveTo>
                    <a:lnTo>
                      <a:pt x="159" y="8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159" y="17"/>
                    </a:lnTo>
                    <a:lnTo>
                      <a:pt x="510" y="9"/>
                    </a:lnTo>
                    <a:lnTo>
                      <a:pt x="856" y="9"/>
                    </a:lnTo>
                    <a:lnTo>
                      <a:pt x="778" y="5"/>
                    </a:lnTo>
                    <a:lnTo>
                      <a:pt x="51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35"/>
            <p:cNvGrpSpPr/>
            <p:nvPr/>
          </p:nvGrpSpPr>
          <p:grpSpPr>
            <a:xfrm>
              <a:off x="231840" y="3181320"/>
              <a:ext cx="3316320" cy="1164600"/>
              <a:chOff x="231840" y="3181320"/>
              <a:chExt cx="3316320" cy="1164600"/>
            </a:xfrm>
          </p:grpSpPr>
          <p:sp>
            <p:nvSpPr>
              <p:cNvPr id="522" name="Freeform 111"/>
              <p:cNvSpPr/>
              <p:nvPr/>
            </p:nvSpPr>
            <p:spPr>
              <a:xfrm>
                <a:off x="231840" y="3181320"/>
                <a:ext cx="3316320" cy="1164600"/>
              </a:xfrm>
              <a:custGeom>
                <a:avLst/>
                <a:gdLst/>
                <a:ahLst/>
                <a:rect l="l" t="t" r="r" b="b"/>
                <a:pathLst>
                  <a:path w="6941" h="2854">
                    <a:moveTo>
                      <a:pt x="0" y="0"/>
                    </a:moveTo>
                    <a:lnTo>
                      <a:pt x="0" y="10"/>
                    </a:lnTo>
                    <a:lnTo>
                      <a:pt x="261" y="134"/>
                    </a:lnTo>
                    <a:lnTo>
                      <a:pt x="940" y="447"/>
                    </a:lnTo>
                    <a:lnTo>
                      <a:pt x="1629" y="754"/>
                    </a:lnTo>
                    <a:lnTo>
                      <a:pt x="2330" y="1057"/>
                    </a:lnTo>
                    <a:lnTo>
                      <a:pt x="3046" y="1357"/>
                    </a:lnTo>
                    <a:lnTo>
                      <a:pt x="3779" y="1654"/>
                    </a:lnTo>
                    <a:lnTo>
                      <a:pt x="4532" y="1952"/>
                    </a:lnTo>
                    <a:lnTo>
                      <a:pt x="5308" y="2250"/>
                    </a:lnTo>
                    <a:lnTo>
                      <a:pt x="6938" y="2854"/>
                    </a:lnTo>
                    <a:lnTo>
                      <a:pt x="6941" y="2846"/>
                    </a:lnTo>
                    <a:lnTo>
                      <a:pt x="5311" y="2242"/>
                    </a:lnTo>
                    <a:lnTo>
                      <a:pt x="4535" y="1944"/>
                    </a:lnTo>
                    <a:lnTo>
                      <a:pt x="3782" y="1646"/>
                    </a:lnTo>
                    <a:lnTo>
                      <a:pt x="3049" y="1348"/>
                    </a:lnTo>
                    <a:lnTo>
                      <a:pt x="2334" y="1049"/>
                    </a:lnTo>
                    <a:lnTo>
                      <a:pt x="1633" y="746"/>
                    </a:lnTo>
                    <a:lnTo>
                      <a:pt x="944" y="439"/>
                    </a:lnTo>
                    <a:lnTo>
                      <a:pt x="265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36"/>
            <p:cNvGrpSpPr/>
            <p:nvPr/>
          </p:nvGrpSpPr>
          <p:grpSpPr>
            <a:xfrm>
              <a:off x="231840" y="3419280"/>
              <a:ext cx="3318840" cy="931680"/>
              <a:chOff x="231840" y="3419280"/>
              <a:chExt cx="3318840" cy="931680"/>
            </a:xfrm>
          </p:grpSpPr>
          <p:sp>
            <p:nvSpPr>
              <p:cNvPr id="524" name="Freeform 110"/>
              <p:cNvSpPr/>
              <p:nvPr/>
            </p:nvSpPr>
            <p:spPr>
              <a:xfrm>
                <a:off x="231840" y="3419280"/>
                <a:ext cx="3318840" cy="931680"/>
              </a:xfrm>
              <a:custGeom>
                <a:avLst/>
                <a:gdLst/>
                <a:ahLst/>
                <a:rect l="l" t="t" r="r" b="b"/>
                <a:pathLst>
                  <a:path w="6946" h="2283">
                    <a:moveTo>
                      <a:pt x="0" y="0"/>
                    </a:moveTo>
                    <a:lnTo>
                      <a:pt x="0" y="36"/>
                    </a:lnTo>
                    <a:lnTo>
                      <a:pt x="71" y="56"/>
                    </a:lnTo>
                    <a:lnTo>
                      <a:pt x="792" y="260"/>
                    </a:lnTo>
                    <a:lnTo>
                      <a:pt x="1516" y="473"/>
                    </a:lnTo>
                    <a:lnTo>
                      <a:pt x="2247" y="696"/>
                    </a:lnTo>
                    <a:lnTo>
                      <a:pt x="3741" y="1174"/>
                    </a:lnTo>
                    <a:lnTo>
                      <a:pt x="5295" y="1701"/>
                    </a:lnTo>
                    <a:lnTo>
                      <a:pt x="6934" y="2283"/>
                    </a:lnTo>
                    <a:lnTo>
                      <a:pt x="6946" y="2250"/>
                    </a:lnTo>
                    <a:lnTo>
                      <a:pt x="5307" y="1668"/>
                    </a:lnTo>
                    <a:lnTo>
                      <a:pt x="3752" y="1141"/>
                    </a:lnTo>
                    <a:lnTo>
                      <a:pt x="2258" y="662"/>
                    </a:lnTo>
                    <a:lnTo>
                      <a:pt x="1526" y="439"/>
                    </a:lnTo>
                    <a:lnTo>
                      <a:pt x="802" y="226"/>
                    </a:lnTo>
                    <a:lnTo>
                      <a:pt x="81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Group 37"/>
            <p:cNvGrpSpPr/>
            <p:nvPr/>
          </p:nvGrpSpPr>
          <p:grpSpPr>
            <a:xfrm>
              <a:off x="231840" y="3604320"/>
              <a:ext cx="3316320" cy="741240"/>
              <a:chOff x="231840" y="3604320"/>
              <a:chExt cx="3316320" cy="741240"/>
            </a:xfrm>
          </p:grpSpPr>
          <p:sp>
            <p:nvSpPr>
              <p:cNvPr id="526" name="Freeform 109"/>
              <p:cNvSpPr/>
              <p:nvPr/>
            </p:nvSpPr>
            <p:spPr>
              <a:xfrm>
                <a:off x="231840" y="3604320"/>
                <a:ext cx="3316320" cy="741240"/>
              </a:xfrm>
              <a:custGeom>
                <a:avLst/>
                <a:gdLst/>
                <a:ahLst/>
                <a:rect l="l" t="t" r="r" b="b"/>
                <a:pathLst>
                  <a:path w="6941" h="1817">
                    <a:moveTo>
                      <a:pt x="0" y="0"/>
                    </a:moveTo>
                    <a:lnTo>
                      <a:pt x="0" y="9"/>
                    </a:lnTo>
                    <a:lnTo>
                      <a:pt x="134" y="26"/>
                    </a:lnTo>
                    <a:lnTo>
                      <a:pt x="629" y="100"/>
                    </a:lnTo>
                    <a:lnTo>
                      <a:pt x="1125" y="184"/>
                    </a:lnTo>
                    <a:lnTo>
                      <a:pt x="1624" y="279"/>
                    </a:lnTo>
                    <a:lnTo>
                      <a:pt x="2125" y="384"/>
                    </a:lnTo>
                    <a:lnTo>
                      <a:pt x="2631" y="500"/>
                    </a:lnTo>
                    <a:lnTo>
                      <a:pt x="3142" y="626"/>
                    </a:lnTo>
                    <a:lnTo>
                      <a:pt x="3659" y="763"/>
                    </a:lnTo>
                    <a:lnTo>
                      <a:pt x="4183" y="911"/>
                    </a:lnTo>
                    <a:lnTo>
                      <a:pt x="4715" y="1070"/>
                    </a:lnTo>
                    <a:lnTo>
                      <a:pt x="5255" y="1240"/>
                    </a:lnTo>
                    <a:lnTo>
                      <a:pt x="5805" y="1421"/>
                    </a:lnTo>
                    <a:lnTo>
                      <a:pt x="6366" y="1613"/>
                    </a:lnTo>
                    <a:lnTo>
                      <a:pt x="6938" y="1817"/>
                    </a:lnTo>
                    <a:lnTo>
                      <a:pt x="6941" y="1809"/>
                    </a:lnTo>
                    <a:lnTo>
                      <a:pt x="6369" y="1605"/>
                    </a:lnTo>
                    <a:lnTo>
                      <a:pt x="5808" y="1412"/>
                    </a:lnTo>
                    <a:lnTo>
                      <a:pt x="5258" y="1231"/>
                    </a:lnTo>
                    <a:lnTo>
                      <a:pt x="4717" y="1061"/>
                    </a:lnTo>
                    <a:lnTo>
                      <a:pt x="4185" y="902"/>
                    </a:lnTo>
                    <a:lnTo>
                      <a:pt x="3661" y="754"/>
                    </a:lnTo>
                    <a:lnTo>
                      <a:pt x="3144" y="617"/>
                    </a:lnTo>
                    <a:lnTo>
                      <a:pt x="2633" y="491"/>
                    </a:lnTo>
                    <a:lnTo>
                      <a:pt x="2127" y="375"/>
                    </a:lnTo>
                    <a:lnTo>
                      <a:pt x="1625" y="270"/>
                    </a:lnTo>
                    <a:lnTo>
                      <a:pt x="1127" y="176"/>
                    </a:lnTo>
                    <a:lnTo>
                      <a:pt x="630" y="92"/>
                    </a:lnTo>
                    <a:lnTo>
                      <a:pt x="135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38"/>
            <p:cNvGrpSpPr/>
            <p:nvPr/>
          </p:nvGrpSpPr>
          <p:grpSpPr>
            <a:xfrm>
              <a:off x="231840" y="3720600"/>
              <a:ext cx="3317400" cy="627120"/>
              <a:chOff x="231840" y="3720600"/>
              <a:chExt cx="3317400" cy="627120"/>
            </a:xfrm>
          </p:grpSpPr>
          <p:sp>
            <p:nvSpPr>
              <p:cNvPr id="528" name="Freeform 108"/>
              <p:cNvSpPr/>
              <p:nvPr/>
            </p:nvSpPr>
            <p:spPr>
              <a:xfrm>
                <a:off x="231840" y="3720600"/>
                <a:ext cx="3317400" cy="627120"/>
              </a:xfrm>
              <a:custGeom>
                <a:avLst/>
                <a:gdLst/>
                <a:ahLst/>
                <a:rect l="l" t="t" r="r" b="b"/>
                <a:pathLst>
                  <a:path w="6943" h="1537">
                    <a:moveTo>
                      <a:pt x="0" y="0"/>
                    </a:moveTo>
                    <a:lnTo>
                      <a:pt x="0" y="18"/>
                    </a:lnTo>
                    <a:lnTo>
                      <a:pt x="126" y="22"/>
                    </a:lnTo>
                    <a:lnTo>
                      <a:pt x="479" y="41"/>
                    </a:lnTo>
                    <a:lnTo>
                      <a:pt x="834" y="68"/>
                    </a:lnTo>
                    <a:lnTo>
                      <a:pt x="1189" y="102"/>
                    </a:lnTo>
                    <a:lnTo>
                      <a:pt x="1547" y="144"/>
                    </a:lnTo>
                    <a:lnTo>
                      <a:pt x="1907" y="194"/>
                    </a:lnTo>
                    <a:lnTo>
                      <a:pt x="2269" y="251"/>
                    </a:lnTo>
                    <a:lnTo>
                      <a:pt x="2634" y="316"/>
                    </a:lnTo>
                    <a:lnTo>
                      <a:pt x="3002" y="389"/>
                    </a:lnTo>
                    <a:lnTo>
                      <a:pt x="3374" y="469"/>
                    </a:lnTo>
                    <a:lnTo>
                      <a:pt x="3750" y="557"/>
                    </a:lnTo>
                    <a:lnTo>
                      <a:pt x="4130" y="653"/>
                    </a:lnTo>
                    <a:lnTo>
                      <a:pt x="4514" y="756"/>
                    </a:lnTo>
                    <a:lnTo>
                      <a:pt x="4903" y="867"/>
                    </a:lnTo>
                    <a:lnTo>
                      <a:pt x="5298" y="986"/>
                    </a:lnTo>
                    <a:lnTo>
                      <a:pt x="5699" y="1112"/>
                    </a:lnTo>
                    <a:lnTo>
                      <a:pt x="6105" y="1246"/>
                    </a:lnTo>
                    <a:lnTo>
                      <a:pt x="6518" y="1388"/>
                    </a:lnTo>
                    <a:lnTo>
                      <a:pt x="6937" y="1537"/>
                    </a:lnTo>
                    <a:lnTo>
                      <a:pt x="6943" y="1520"/>
                    </a:lnTo>
                    <a:lnTo>
                      <a:pt x="6523" y="1371"/>
                    </a:lnTo>
                    <a:lnTo>
                      <a:pt x="6110" y="1229"/>
                    </a:lnTo>
                    <a:lnTo>
                      <a:pt x="5704" y="1095"/>
                    </a:lnTo>
                    <a:lnTo>
                      <a:pt x="5303" y="969"/>
                    </a:lnTo>
                    <a:lnTo>
                      <a:pt x="4908" y="850"/>
                    </a:lnTo>
                    <a:lnTo>
                      <a:pt x="4519" y="739"/>
                    </a:lnTo>
                    <a:lnTo>
                      <a:pt x="4134" y="636"/>
                    </a:lnTo>
                    <a:lnTo>
                      <a:pt x="3754" y="540"/>
                    </a:lnTo>
                    <a:lnTo>
                      <a:pt x="3378" y="452"/>
                    </a:lnTo>
                    <a:lnTo>
                      <a:pt x="3006" y="372"/>
                    </a:lnTo>
                    <a:lnTo>
                      <a:pt x="2637" y="299"/>
                    </a:lnTo>
                    <a:lnTo>
                      <a:pt x="2272" y="234"/>
                    </a:lnTo>
                    <a:lnTo>
                      <a:pt x="1909" y="176"/>
                    </a:lnTo>
                    <a:lnTo>
                      <a:pt x="1549" y="127"/>
                    </a:lnTo>
                    <a:lnTo>
                      <a:pt x="1191" y="85"/>
                    </a:lnTo>
                    <a:lnTo>
                      <a:pt x="835" y="50"/>
                    </a:lnTo>
                    <a:lnTo>
                      <a:pt x="480" y="23"/>
                    </a:lnTo>
                    <a:lnTo>
                      <a:pt x="126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39"/>
            <p:cNvGrpSpPr/>
            <p:nvPr/>
          </p:nvGrpSpPr>
          <p:grpSpPr>
            <a:xfrm>
              <a:off x="231840" y="3795480"/>
              <a:ext cx="3316320" cy="550440"/>
              <a:chOff x="231840" y="3795480"/>
              <a:chExt cx="3316320" cy="550440"/>
            </a:xfrm>
          </p:grpSpPr>
          <p:sp>
            <p:nvSpPr>
              <p:cNvPr id="530" name="Freeform 106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879" y="8"/>
                    </a:moveTo>
                    <a:lnTo>
                      <a:pt x="419" y="8"/>
                    </a:lnTo>
                    <a:lnTo>
                      <a:pt x="719" y="12"/>
                    </a:lnTo>
                    <a:lnTo>
                      <a:pt x="1021" y="22"/>
                    </a:lnTo>
                    <a:lnTo>
                      <a:pt x="1324" y="39"/>
                    </a:lnTo>
                    <a:lnTo>
                      <a:pt x="1629" y="63"/>
                    </a:lnTo>
                    <a:lnTo>
                      <a:pt x="1936" y="93"/>
                    </a:lnTo>
                    <a:lnTo>
                      <a:pt x="2245" y="130"/>
                    </a:lnTo>
                    <a:lnTo>
                      <a:pt x="2557" y="174"/>
                    </a:lnTo>
                    <a:lnTo>
                      <a:pt x="2871" y="225"/>
                    </a:lnTo>
                    <a:lnTo>
                      <a:pt x="3189" y="282"/>
                    </a:lnTo>
                    <a:lnTo>
                      <a:pt x="3509" y="346"/>
                    </a:lnTo>
                    <a:lnTo>
                      <a:pt x="3833" y="417"/>
                    </a:lnTo>
                    <a:lnTo>
                      <a:pt x="4161" y="494"/>
                    </a:lnTo>
                    <a:lnTo>
                      <a:pt x="4492" y="578"/>
                    </a:lnTo>
                    <a:lnTo>
                      <a:pt x="4827" y="668"/>
                    </a:lnTo>
                    <a:lnTo>
                      <a:pt x="5167" y="765"/>
                    </a:lnTo>
                    <a:lnTo>
                      <a:pt x="5512" y="869"/>
                    </a:lnTo>
                    <a:lnTo>
                      <a:pt x="5861" y="979"/>
                    </a:lnTo>
                    <a:lnTo>
                      <a:pt x="6215" y="1096"/>
                    </a:lnTo>
                    <a:lnTo>
                      <a:pt x="6574" y="1219"/>
                    </a:lnTo>
                    <a:lnTo>
                      <a:pt x="6938" y="1349"/>
                    </a:lnTo>
                    <a:lnTo>
                      <a:pt x="6941" y="1341"/>
                    </a:lnTo>
                    <a:lnTo>
                      <a:pt x="6577" y="1211"/>
                    </a:lnTo>
                    <a:lnTo>
                      <a:pt x="6217" y="1087"/>
                    </a:lnTo>
                    <a:lnTo>
                      <a:pt x="5863" y="971"/>
                    </a:lnTo>
                    <a:lnTo>
                      <a:pt x="5514" y="860"/>
                    </a:lnTo>
                    <a:lnTo>
                      <a:pt x="5170" y="757"/>
                    </a:lnTo>
                    <a:lnTo>
                      <a:pt x="4830" y="660"/>
                    </a:lnTo>
                    <a:lnTo>
                      <a:pt x="4494" y="569"/>
                    </a:lnTo>
                    <a:lnTo>
                      <a:pt x="4163" y="485"/>
                    </a:lnTo>
                    <a:lnTo>
                      <a:pt x="3835" y="408"/>
                    </a:lnTo>
                    <a:lnTo>
                      <a:pt x="3511" y="337"/>
                    </a:lnTo>
                    <a:lnTo>
                      <a:pt x="3190" y="273"/>
                    </a:lnTo>
                    <a:lnTo>
                      <a:pt x="2873" y="216"/>
                    </a:lnTo>
                    <a:lnTo>
                      <a:pt x="2558" y="165"/>
                    </a:lnTo>
                    <a:lnTo>
                      <a:pt x="2246" y="122"/>
                    </a:lnTo>
                    <a:lnTo>
                      <a:pt x="1937" y="84"/>
                    </a:lnTo>
                    <a:lnTo>
                      <a:pt x="1630" y="54"/>
                    </a:lnTo>
                    <a:lnTo>
                      <a:pt x="1324" y="30"/>
                    </a:lnTo>
                    <a:lnTo>
                      <a:pt x="1021" y="13"/>
                    </a:lnTo>
                    <a:lnTo>
                      <a:pt x="879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07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419" y="0"/>
                    </a:moveTo>
                    <a:lnTo>
                      <a:pt x="31" y="5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31" y="14"/>
                    </a:lnTo>
                    <a:lnTo>
                      <a:pt x="419" y="8"/>
                    </a:lnTo>
                    <a:lnTo>
                      <a:pt x="879" y="8"/>
                    </a:lnTo>
                    <a:lnTo>
                      <a:pt x="719" y="3"/>
                    </a:lnTo>
                    <a:lnTo>
                      <a:pt x="41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40"/>
            <p:cNvGrpSpPr/>
            <p:nvPr/>
          </p:nvGrpSpPr>
          <p:grpSpPr>
            <a:xfrm>
              <a:off x="231840" y="3846240"/>
              <a:ext cx="3316320" cy="499320"/>
              <a:chOff x="231840" y="3846240"/>
              <a:chExt cx="3316320" cy="499320"/>
            </a:xfrm>
          </p:grpSpPr>
          <p:sp>
            <p:nvSpPr>
              <p:cNvPr id="533" name="Freeform 104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500" y="9"/>
                    </a:moveTo>
                    <a:lnTo>
                      <a:pt x="1069" y="9"/>
                    </a:lnTo>
                    <a:lnTo>
                      <a:pt x="1336" y="12"/>
                    </a:lnTo>
                    <a:lnTo>
                      <a:pt x="1604" y="22"/>
                    </a:lnTo>
                    <a:lnTo>
                      <a:pt x="1875" y="37"/>
                    </a:lnTo>
                    <a:lnTo>
                      <a:pt x="2147" y="59"/>
                    </a:lnTo>
                    <a:lnTo>
                      <a:pt x="2422" y="86"/>
                    </a:lnTo>
                    <a:lnTo>
                      <a:pt x="2700" y="120"/>
                    </a:lnTo>
                    <a:lnTo>
                      <a:pt x="2980" y="160"/>
                    </a:lnTo>
                    <a:lnTo>
                      <a:pt x="3263" y="206"/>
                    </a:lnTo>
                    <a:lnTo>
                      <a:pt x="3549" y="258"/>
                    </a:lnTo>
                    <a:lnTo>
                      <a:pt x="3838" y="317"/>
                    </a:lnTo>
                    <a:lnTo>
                      <a:pt x="4131" y="381"/>
                    </a:lnTo>
                    <a:lnTo>
                      <a:pt x="4427" y="451"/>
                    </a:lnTo>
                    <a:lnTo>
                      <a:pt x="4726" y="527"/>
                    </a:lnTo>
                    <a:lnTo>
                      <a:pt x="5030" y="609"/>
                    </a:lnTo>
                    <a:lnTo>
                      <a:pt x="5337" y="697"/>
                    </a:lnTo>
                    <a:lnTo>
                      <a:pt x="5649" y="791"/>
                    </a:lnTo>
                    <a:lnTo>
                      <a:pt x="5964" y="890"/>
                    </a:lnTo>
                    <a:lnTo>
                      <a:pt x="6284" y="996"/>
                    </a:lnTo>
                    <a:lnTo>
                      <a:pt x="6609" y="1108"/>
                    </a:lnTo>
                    <a:lnTo>
                      <a:pt x="6938" y="1225"/>
                    </a:lnTo>
                    <a:lnTo>
                      <a:pt x="6941" y="1217"/>
                    </a:lnTo>
                    <a:lnTo>
                      <a:pt x="6612" y="1099"/>
                    </a:lnTo>
                    <a:lnTo>
                      <a:pt x="6287" y="988"/>
                    </a:lnTo>
                    <a:lnTo>
                      <a:pt x="5967" y="882"/>
                    </a:lnTo>
                    <a:lnTo>
                      <a:pt x="5651" y="782"/>
                    </a:lnTo>
                    <a:lnTo>
                      <a:pt x="5340" y="688"/>
                    </a:lnTo>
                    <a:lnTo>
                      <a:pt x="5032" y="600"/>
                    </a:lnTo>
                    <a:lnTo>
                      <a:pt x="4729" y="518"/>
                    </a:lnTo>
                    <a:lnTo>
                      <a:pt x="4429" y="442"/>
                    </a:lnTo>
                    <a:lnTo>
                      <a:pt x="4133" y="372"/>
                    </a:lnTo>
                    <a:lnTo>
                      <a:pt x="3840" y="308"/>
                    </a:lnTo>
                    <a:lnTo>
                      <a:pt x="3551" y="250"/>
                    </a:lnTo>
                    <a:lnTo>
                      <a:pt x="3265" y="198"/>
                    </a:lnTo>
                    <a:lnTo>
                      <a:pt x="2982" y="152"/>
                    </a:lnTo>
                    <a:lnTo>
                      <a:pt x="2701" y="112"/>
                    </a:lnTo>
                    <a:lnTo>
                      <a:pt x="2423" y="78"/>
                    </a:lnTo>
                    <a:lnTo>
                      <a:pt x="2148" y="50"/>
                    </a:lnTo>
                    <a:lnTo>
                      <a:pt x="1875" y="28"/>
                    </a:lnTo>
                    <a:lnTo>
                      <a:pt x="1605" y="13"/>
                    </a:lnTo>
                    <a:lnTo>
                      <a:pt x="1500" y="9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05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069" y="0"/>
                    </a:moveTo>
                    <a:lnTo>
                      <a:pt x="661" y="8"/>
                    </a:lnTo>
                    <a:lnTo>
                      <a:pt x="256" y="30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256" y="39"/>
                    </a:lnTo>
                    <a:lnTo>
                      <a:pt x="661" y="17"/>
                    </a:lnTo>
                    <a:lnTo>
                      <a:pt x="1069" y="9"/>
                    </a:lnTo>
                    <a:lnTo>
                      <a:pt x="1500" y="9"/>
                    </a:lnTo>
                    <a:lnTo>
                      <a:pt x="1336" y="4"/>
                    </a:lnTo>
                    <a:lnTo>
                      <a:pt x="106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41"/>
            <p:cNvGrpSpPr/>
            <p:nvPr/>
          </p:nvGrpSpPr>
          <p:grpSpPr>
            <a:xfrm>
              <a:off x="231840" y="3882240"/>
              <a:ext cx="3316320" cy="463320"/>
              <a:chOff x="231840" y="3882240"/>
              <a:chExt cx="3316320" cy="463320"/>
            </a:xfrm>
          </p:grpSpPr>
          <p:sp>
            <p:nvSpPr>
              <p:cNvPr id="536" name="Freeform 102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941" y="8"/>
                    </a:moveTo>
                    <a:lnTo>
                      <a:pt x="1531" y="8"/>
                    </a:lnTo>
                    <a:lnTo>
                      <a:pt x="1774" y="11"/>
                    </a:lnTo>
                    <a:lnTo>
                      <a:pt x="2019" y="20"/>
                    </a:lnTo>
                    <a:lnTo>
                      <a:pt x="2266" y="34"/>
                    </a:lnTo>
                    <a:lnTo>
                      <a:pt x="2516" y="54"/>
                    </a:lnTo>
                    <a:lnTo>
                      <a:pt x="2768" y="80"/>
                    </a:lnTo>
                    <a:lnTo>
                      <a:pt x="3023" y="112"/>
                    </a:lnTo>
                    <a:lnTo>
                      <a:pt x="3280" y="149"/>
                    </a:lnTo>
                    <a:lnTo>
                      <a:pt x="3541" y="192"/>
                    </a:lnTo>
                    <a:lnTo>
                      <a:pt x="3805" y="240"/>
                    </a:lnTo>
                    <a:lnTo>
                      <a:pt x="4071" y="294"/>
                    </a:lnTo>
                    <a:lnTo>
                      <a:pt x="4341" y="354"/>
                    </a:lnTo>
                    <a:lnTo>
                      <a:pt x="4615" y="419"/>
                    </a:lnTo>
                    <a:lnTo>
                      <a:pt x="4892" y="489"/>
                    </a:lnTo>
                    <a:lnTo>
                      <a:pt x="5172" y="565"/>
                    </a:lnTo>
                    <a:lnTo>
                      <a:pt x="5456" y="647"/>
                    </a:lnTo>
                    <a:lnTo>
                      <a:pt x="5745" y="734"/>
                    </a:lnTo>
                    <a:lnTo>
                      <a:pt x="6037" y="826"/>
                    </a:lnTo>
                    <a:lnTo>
                      <a:pt x="6333" y="924"/>
                    </a:lnTo>
                    <a:lnTo>
                      <a:pt x="6634" y="1027"/>
                    </a:lnTo>
                    <a:lnTo>
                      <a:pt x="6938" y="1136"/>
                    </a:lnTo>
                    <a:lnTo>
                      <a:pt x="6941" y="1128"/>
                    </a:lnTo>
                    <a:lnTo>
                      <a:pt x="6636" y="1019"/>
                    </a:lnTo>
                    <a:lnTo>
                      <a:pt x="6336" y="916"/>
                    </a:lnTo>
                    <a:lnTo>
                      <a:pt x="6039" y="818"/>
                    </a:lnTo>
                    <a:lnTo>
                      <a:pt x="5747" y="725"/>
                    </a:lnTo>
                    <a:lnTo>
                      <a:pt x="5459" y="638"/>
                    </a:lnTo>
                    <a:lnTo>
                      <a:pt x="5174" y="557"/>
                    </a:lnTo>
                    <a:lnTo>
                      <a:pt x="4894" y="481"/>
                    </a:lnTo>
                    <a:lnTo>
                      <a:pt x="4617" y="410"/>
                    </a:lnTo>
                    <a:lnTo>
                      <a:pt x="4343" y="345"/>
                    </a:lnTo>
                    <a:lnTo>
                      <a:pt x="4073" y="285"/>
                    </a:lnTo>
                    <a:lnTo>
                      <a:pt x="3806" y="231"/>
                    </a:lnTo>
                    <a:lnTo>
                      <a:pt x="3543" y="183"/>
                    </a:lnTo>
                    <a:lnTo>
                      <a:pt x="3282" y="140"/>
                    </a:lnTo>
                    <a:lnTo>
                      <a:pt x="3024" y="103"/>
                    </a:lnTo>
                    <a:lnTo>
                      <a:pt x="2769" y="71"/>
                    </a:lnTo>
                    <a:lnTo>
                      <a:pt x="2517" y="46"/>
                    </a:lnTo>
                    <a:lnTo>
                      <a:pt x="2267" y="25"/>
                    </a:lnTo>
                    <a:lnTo>
                      <a:pt x="2019" y="11"/>
                    </a:lnTo>
                    <a:lnTo>
                      <a:pt x="1941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03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531" y="0"/>
                    </a:moveTo>
                    <a:lnTo>
                      <a:pt x="1112" y="8"/>
                    </a:lnTo>
                    <a:lnTo>
                      <a:pt x="697" y="35"/>
                    </a:lnTo>
                    <a:lnTo>
                      <a:pt x="288" y="80"/>
                    </a:lnTo>
                    <a:lnTo>
                      <a:pt x="0" y="124"/>
                    </a:lnTo>
                    <a:lnTo>
                      <a:pt x="0" y="133"/>
                    </a:lnTo>
                    <a:lnTo>
                      <a:pt x="289" y="89"/>
                    </a:lnTo>
                    <a:lnTo>
                      <a:pt x="698" y="44"/>
                    </a:lnTo>
                    <a:lnTo>
                      <a:pt x="1112" y="17"/>
                    </a:lnTo>
                    <a:lnTo>
                      <a:pt x="1531" y="8"/>
                    </a:lnTo>
                    <a:lnTo>
                      <a:pt x="1941" y="8"/>
                    </a:lnTo>
                    <a:lnTo>
                      <a:pt x="1774" y="2"/>
                    </a:lnTo>
                    <a:lnTo>
                      <a:pt x="1531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Group 42"/>
            <p:cNvGrpSpPr/>
            <p:nvPr/>
          </p:nvGrpSpPr>
          <p:grpSpPr>
            <a:xfrm>
              <a:off x="231840" y="2994120"/>
              <a:ext cx="3510360" cy="683640"/>
              <a:chOff x="231840" y="2994120"/>
              <a:chExt cx="3510360" cy="683640"/>
            </a:xfrm>
          </p:grpSpPr>
          <p:sp>
            <p:nvSpPr>
              <p:cNvPr id="539" name="Freeform 101"/>
              <p:cNvSpPr/>
              <p:nvPr/>
            </p:nvSpPr>
            <p:spPr>
              <a:xfrm>
                <a:off x="231840" y="2994120"/>
                <a:ext cx="3510360" cy="683640"/>
              </a:xfrm>
              <a:custGeom>
                <a:avLst/>
                <a:gdLst/>
                <a:ahLst/>
                <a:rect l="l" t="t" r="r" b="b"/>
                <a:pathLst>
                  <a:path w="7347" h="1676">
                    <a:moveTo>
                      <a:pt x="0" y="0"/>
                    </a:moveTo>
                    <a:lnTo>
                      <a:pt x="0" y="37"/>
                    </a:lnTo>
                    <a:lnTo>
                      <a:pt x="366" y="162"/>
                    </a:lnTo>
                    <a:lnTo>
                      <a:pt x="1068" y="384"/>
                    </a:lnTo>
                    <a:lnTo>
                      <a:pt x="1783" y="590"/>
                    </a:lnTo>
                    <a:lnTo>
                      <a:pt x="2511" y="781"/>
                    </a:lnTo>
                    <a:lnTo>
                      <a:pt x="3257" y="958"/>
                    </a:lnTo>
                    <a:lnTo>
                      <a:pt x="4023" y="1123"/>
                    </a:lnTo>
                    <a:lnTo>
                      <a:pt x="4812" y="1276"/>
                    </a:lnTo>
                    <a:lnTo>
                      <a:pt x="5626" y="1419"/>
                    </a:lnTo>
                    <a:lnTo>
                      <a:pt x="6469" y="1551"/>
                    </a:lnTo>
                    <a:lnTo>
                      <a:pt x="7343" y="1676"/>
                    </a:lnTo>
                    <a:lnTo>
                      <a:pt x="7347" y="1641"/>
                    </a:lnTo>
                    <a:lnTo>
                      <a:pt x="6474" y="1517"/>
                    </a:lnTo>
                    <a:lnTo>
                      <a:pt x="5632" y="1384"/>
                    </a:lnTo>
                    <a:lnTo>
                      <a:pt x="4818" y="1242"/>
                    </a:lnTo>
                    <a:lnTo>
                      <a:pt x="4030" y="1089"/>
                    </a:lnTo>
                    <a:lnTo>
                      <a:pt x="3265" y="924"/>
                    </a:lnTo>
                    <a:lnTo>
                      <a:pt x="2520" y="747"/>
                    </a:lnTo>
                    <a:lnTo>
                      <a:pt x="1792" y="556"/>
                    </a:lnTo>
                    <a:lnTo>
                      <a:pt x="1079" y="350"/>
                    </a:lnTo>
                    <a:lnTo>
                      <a:pt x="377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43"/>
            <p:cNvGrpSpPr/>
            <p:nvPr/>
          </p:nvGrpSpPr>
          <p:grpSpPr>
            <a:xfrm>
              <a:off x="231840" y="3234960"/>
              <a:ext cx="3510360" cy="442080"/>
              <a:chOff x="231840" y="3234960"/>
              <a:chExt cx="3510360" cy="442080"/>
            </a:xfrm>
          </p:grpSpPr>
          <p:sp>
            <p:nvSpPr>
              <p:cNvPr id="541" name="Freeform 100"/>
              <p:cNvSpPr/>
              <p:nvPr/>
            </p:nvSpPr>
            <p:spPr>
              <a:xfrm>
                <a:off x="231840" y="3234960"/>
                <a:ext cx="3510360" cy="442080"/>
              </a:xfrm>
              <a:custGeom>
                <a:avLst/>
                <a:gdLst/>
                <a:ahLst/>
                <a:rect l="l" t="t" r="r" b="b"/>
                <a:pathLst>
                  <a:path w="7347" h="1084">
                    <a:moveTo>
                      <a:pt x="0" y="0"/>
                    </a:moveTo>
                    <a:lnTo>
                      <a:pt x="0" y="36"/>
                    </a:lnTo>
                    <a:lnTo>
                      <a:pt x="182" y="64"/>
                    </a:lnTo>
                    <a:lnTo>
                      <a:pt x="7343" y="1085"/>
                    </a:lnTo>
                    <a:lnTo>
                      <a:pt x="7347" y="1050"/>
                    </a:lnTo>
                    <a:lnTo>
                      <a:pt x="187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Group 44"/>
            <p:cNvGrpSpPr/>
            <p:nvPr/>
          </p:nvGrpSpPr>
          <p:grpSpPr>
            <a:xfrm>
              <a:off x="231840" y="3417120"/>
              <a:ext cx="3511440" cy="263880"/>
              <a:chOff x="231840" y="3417120"/>
              <a:chExt cx="3511440" cy="263880"/>
            </a:xfrm>
          </p:grpSpPr>
          <p:sp>
            <p:nvSpPr>
              <p:cNvPr id="543" name="Freeform 99"/>
              <p:cNvSpPr/>
              <p:nvPr/>
            </p:nvSpPr>
            <p:spPr>
              <a:xfrm>
                <a:off x="231840" y="3417120"/>
                <a:ext cx="3511440" cy="263880"/>
              </a:xfrm>
              <a:custGeom>
                <a:avLst/>
                <a:gdLst/>
                <a:ahLst/>
                <a:rect l="l" t="t" r="r" b="b"/>
                <a:pathLst>
                  <a:path w="7349" h="647">
                    <a:moveTo>
                      <a:pt x="0" y="0"/>
                    </a:moveTo>
                    <a:lnTo>
                      <a:pt x="0" y="53"/>
                    </a:lnTo>
                    <a:lnTo>
                      <a:pt x="571" y="63"/>
                    </a:lnTo>
                    <a:lnTo>
                      <a:pt x="1316" y="87"/>
                    </a:lnTo>
                    <a:lnTo>
                      <a:pt x="2068" y="123"/>
                    </a:lnTo>
                    <a:lnTo>
                      <a:pt x="2831" y="171"/>
                    </a:lnTo>
                    <a:lnTo>
                      <a:pt x="3607" y="230"/>
                    </a:lnTo>
                    <a:lnTo>
                      <a:pt x="4802" y="342"/>
                    </a:lnTo>
                    <a:lnTo>
                      <a:pt x="6043" y="481"/>
                    </a:lnTo>
                    <a:lnTo>
                      <a:pt x="7342" y="647"/>
                    </a:lnTo>
                    <a:lnTo>
                      <a:pt x="7349" y="595"/>
                    </a:lnTo>
                    <a:lnTo>
                      <a:pt x="6050" y="429"/>
                    </a:lnTo>
                    <a:lnTo>
                      <a:pt x="4807" y="290"/>
                    </a:lnTo>
                    <a:lnTo>
                      <a:pt x="3611" y="178"/>
                    </a:lnTo>
                    <a:lnTo>
                      <a:pt x="2834" y="118"/>
                    </a:lnTo>
                    <a:lnTo>
                      <a:pt x="2071" y="70"/>
                    </a:lnTo>
                    <a:lnTo>
                      <a:pt x="1318" y="34"/>
                    </a:lnTo>
                    <a:lnTo>
                      <a:pt x="573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45"/>
            <p:cNvGrpSpPr/>
            <p:nvPr/>
          </p:nvGrpSpPr>
          <p:grpSpPr>
            <a:xfrm>
              <a:off x="231840" y="3512520"/>
              <a:ext cx="3510000" cy="159840"/>
              <a:chOff x="231840" y="3512520"/>
              <a:chExt cx="3510000" cy="159840"/>
            </a:xfrm>
          </p:grpSpPr>
          <p:sp>
            <p:nvSpPr>
              <p:cNvPr id="545" name="Freeform 97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963" y="8"/>
                    </a:moveTo>
                    <a:lnTo>
                      <a:pt x="2252" y="8"/>
                    </a:lnTo>
                    <a:lnTo>
                      <a:pt x="2488" y="9"/>
                    </a:lnTo>
                    <a:lnTo>
                      <a:pt x="2966" y="17"/>
                    </a:lnTo>
                    <a:lnTo>
                      <a:pt x="3449" y="33"/>
                    </a:lnTo>
                    <a:lnTo>
                      <a:pt x="3939" y="56"/>
                    </a:lnTo>
                    <a:lnTo>
                      <a:pt x="4437" y="87"/>
                    </a:lnTo>
                    <a:lnTo>
                      <a:pt x="4944" y="126"/>
                    </a:lnTo>
                    <a:lnTo>
                      <a:pt x="5720" y="198"/>
                    </a:lnTo>
                    <a:lnTo>
                      <a:pt x="6520" y="287"/>
                    </a:lnTo>
                    <a:lnTo>
                      <a:pt x="7345" y="391"/>
                    </a:lnTo>
                    <a:lnTo>
                      <a:pt x="7346" y="383"/>
                    </a:lnTo>
                    <a:lnTo>
                      <a:pt x="6521" y="278"/>
                    </a:lnTo>
                    <a:lnTo>
                      <a:pt x="5721" y="189"/>
                    </a:lnTo>
                    <a:lnTo>
                      <a:pt x="4944" y="117"/>
                    </a:lnTo>
                    <a:lnTo>
                      <a:pt x="4438" y="79"/>
                    </a:lnTo>
                    <a:lnTo>
                      <a:pt x="3940" y="47"/>
                    </a:lnTo>
                    <a:lnTo>
                      <a:pt x="3449" y="24"/>
                    </a:lnTo>
                    <a:lnTo>
                      <a:pt x="2966" y="8"/>
                    </a:lnTo>
                    <a:lnTo>
                      <a:pt x="2963" y="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98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252" y="0"/>
                    </a:moveTo>
                    <a:lnTo>
                      <a:pt x="1739" y="4"/>
                    </a:lnTo>
                    <a:lnTo>
                      <a:pt x="1232" y="19"/>
                    </a:lnTo>
                    <a:lnTo>
                      <a:pt x="729" y="42"/>
                    </a:lnTo>
                    <a:lnTo>
                      <a:pt x="229" y="76"/>
                    </a:lnTo>
                    <a:lnTo>
                      <a:pt x="0" y="96"/>
                    </a:lnTo>
                    <a:lnTo>
                      <a:pt x="0" y="105"/>
                    </a:lnTo>
                    <a:lnTo>
                      <a:pt x="230" y="85"/>
                    </a:lnTo>
                    <a:lnTo>
                      <a:pt x="729" y="51"/>
                    </a:lnTo>
                    <a:lnTo>
                      <a:pt x="1232" y="27"/>
                    </a:lnTo>
                    <a:lnTo>
                      <a:pt x="1740" y="13"/>
                    </a:lnTo>
                    <a:lnTo>
                      <a:pt x="2963" y="8"/>
                    </a:lnTo>
                    <a:lnTo>
                      <a:pt x="2488" y="1"/>
                    </a:lnTo>
                    <a:lnTo>
                      <a:pt x="2252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46"/>
            <p:cNvGrpSpPr/>
            <p:nvPr/>
          </p:nvGrpSpPr>
          <p:grpSpPr>
            <a:xfrm>
              <a:off x="231840" y="3538080"/>
              <a:ext cx="3510000" cy="136080"/>
              <a:chOff x="231840" y="3538080"/>
              <a:chExt cx="3510000" cy="136080"/>
            </a:xfrm>
          </p:grpSpPr>
          <p:sp>
            <p:nvSpPr>
              <p:cNvPr id="548" name="Freeform 95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4039" y="18"/>
                    </a:moveTo>
                    <a:lnTo>
                      <a:pt x="3118" y="18"/>
                    </a:lnTo>
                    <a:lnTo>
                      <a:pt x="3314" y="19"/>
                    </a:lnTo>
                    <a:lnTo>
                      <a:pt x="3711" y="25"/>
                    </a:lnTo>
                    <a:lnTo>
                      <a:pt x="4113" y="38"/>
                    </a:lnTo>
                    <a:lnTo>
                      <a:pt x="4521" y="58"/>
                    </a:lnTo>
                    <a:lnTo>
                      <a:pt x="4936" y="83"/>
                    </a:lnTo>
                    <a:lnTo>
                      <a:pt x="5357" y="115"/>
                    </a:lnTo>
                    <a:lnTo>
                      <a:pt x="6002" y="174"/>
                    </a:lnTo>
                    <a:lnTo>
                      <a:pt x="6664" y="247"/>
                    </a:lnTo>
                    <a:lnTo>
                      <a:pt x="7344" y="334"/>
                    </a:lnTo>
                    <a:lnTo>
                      <a:pt x="7346" y="316"/>
                    </a:lnTo>
                    <a:lnTo>
                      <a:pt x="6666" y="230"/>
                    </a:lnTo>
                    <a:lnTo>
                      <a:pt x="6003" y="157"/>
                    </a:lnTo>
                    <a:lnTo>
                      <a:pt x="5358" y="97"/>
                    </a:lnTo>
                    <a:lnTo>
                      <a:pt x="4937" y="66"/>
                    </a:lnTo>
                    <a:lnTo>
                      <a:pt x="4522" y="40"/>
                    </a:lnTo>
                    <a:lnTo>
                      <a:pt x="4114" y="21"/>
                    </a:lnTo>
                    <a:lnTo>
                      <a:pt x="4039" y="1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96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3118" y="0"/>
                    </a:moveTo>
                    <a:lnTo>
                      <a:pt x="2561" y="7"/>
                    </a:lnTo>
                    <a:lnTo>
                      <a:pt x="2013" y="28"/>
                    </a:lnTo>
                    <a:lnTo>
                      <a:pt x="1472" y="62"/>
                    </a:lnTo>
                    <a:lnTo>
                      <a:pt x="938" y="110"/>
                    </a:lnTo>
                    <a:lnTo>
                      <a:pt x="410" y="173"/>
                    </a:lnTo>
                    <a:lnTo>
                      <a:pt x="0" y="233"/>
                    </a:lnTo>
                    <a:lnTo>
                      <a:pt x="0" y="251"/>
                    </a:lnTo>
                    <a:lnTo>
                      <a:pt x="412" y="190"/>
                    </a:lnTo>
                    <a:lnTo>
                      <a:pt x="940" y="128"/>
                    </a:lnTo>
                    <a:lnTo>
                      <a:pt x="1473" y="79"/>
                    </a:lnTo>
                    <a:lnTo>
                      <a:pt x="2013" y="45"/>
                    </a:lnTo>
                    <a:lnTo>
                      <a:pt x="2561" y="25"/>
                    </a:lnTo>
                    <a:lnTo>
                      <a:pt x="3118" y="18"/>
                    </a:lnTo>
                    <a:lnTo>
                      <a:pt x="4039" y="18"/>
                    </a:lnTo>
                    <a:lnTo>
                      <a:pt x="3712" y="8"/>
                    </a:lnTo>
                    <a:lnTo>
                      <a:pt x="3315" y="1"/>
                    </a:lnTo>
                    <a:lnTo>
                      <a:pt x="3118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Group 47"/>
            <p:cNvGrpSpPr/>
            <p:nvPr/>
          </p:nvGrpSpPr>
          <p:grpSpPr>
            <a:xfrm>
              <a:off x="231840" y="3556440"/>
              <a:ext cx="3510000" cy="159480"/>
              <a:chOff x="231840" y="3556440"/>
              <a:chExt cx="3510000" cy="159480"/>
            </a:xfrm>
          </p:grpSpPr>
          <p:sp>
            <p:nvSpPr>
              <p:cNvPr id="551" name="Freeform 93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3645" y="0"/>
                    </a:moveTo>
                    <a:lnTo>
                      <a:pt x="3062" y="9"/>
                    </a:lnTo>
                    <a:lnTo>
                      <a:pt x="2491" y="34"/>
                    </a:lnTo>
                    <a:lnTo>
                      <a:pt x="1932" y="77"/>
                    </a:lnTo>
                    <a:lnTo>
                      <a:pt x="1382" y="138"/>
                    </a:lnTo>
                    <a:lnTo>
                      <a:pt x="841" y="217"/>
                    </a:lnTo>
                    <a:lnTo>
                      <a:pt x="307" y="315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309" y="323"/>
                    </a:lnTo>
                    <a:lnTo>
                      <a:pt x="843" y="226"/>
                    </a:lnTo>
                    <a:lnTo>
                      <a:pt x="1383" y="147"/>
                    </a:lnTo>
                    <a:lnTo>
                      <a:pt x="1933" y="86"/>
                    </a:lnTo>
                    <a:lnTo>
                      <a:pt x="2492" y="43"/>
                    </a:lnTo>
                    <a:lnTo>
                      <a:pt x="3062" y="17"/>
                    </a:lnTo>
                    <a:lnTo>
                      <a:pt x="3645" y="9"/>
                    </a:lnTo>
                    <a:lnTo>
                      <a:pt x="4250" y="9"/>
                    </a:lnTo>
                    <a:lnTo>
                      <a:pt x="3990" y="3"/>
                    </a:lnTo>
                    <a:lnTo>
                      <a:pt x="3645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94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4250" y="9"/>
                    </a:moveTo>
                    <a:lnTo>
                      <a:pt x="3645" y="9"/>
                    </a:lnTo>
                    <a:lnTo>
                      <a:pt x="3817" y="10"/>
                    </a:lnTo>
                    <a:lnTo>
                      <a:pt x="4164" y="15"/>
                    </a:lnTo>
                    <a:lnTo>
                      <a:pt x="4517" y="27"/>
                    </a:lnTo>
                    <a:lnTo>
                      <a:pt x="4875" y="43"/>
                    </a:lnTo>
                    <a:lnTo>
                      <a:pt x="5238" y="66"/>
                    </a:lnTo>
                    <a:lnTo>
                      <a:pt x="5607" y="94"/>
                    </a:lnTo>
                    <a:lnTo>
                      <a:pt x="6172" y="145"/>
                    </a:lnTo>
                    <a:lnTo>
                      <a:pt x="6751" y="209"/>
                    </a:lnTo>
                    <a:lnTo>
                      <a:pt x="7345" y="284"/>
                    </a:lnTo>
                    <a:lnTo>
                      <a:pt x="7346" y="276"/>
                    </a:lnTo>
                    <a:lnTo>
                      <a:pt x="6752" y="200"/>
                    </a:lnTo>
                    <a:lnTo>
                      <a:pt x="6172" y="137"/>
                    </a:lnTo>
                    <a:lnTo>
                      <a:pt x="5608" y="85"/>
                    </a:lnTo>
                    <a:lnTo>
                      <a:pt x="5239" y="57"/>
                    </a:lnTo>
                    <a:lnTo>
                      <a:pt x="4875" y="35"/>
                    </a:lnTo>
                    <a:lnTo>
                      <a:pt x="4517" y="18"/>
                    </a:lnTo>
                    <a:lnTo>
                      <a:pt x="4250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48"/>
            <p:cNvGrpSpPr/>
            <p:nvPr/>
          </p:nvGrpSpPr>
          <p:grpSpPr>
            <a:xfrm>
              <a:off x="231840" y="3567240"/>
              <a:ext cx="3510000" cy="221400"/>
              <a:chOff x="231840" y="3567240"/>
              <a:chExt cx="3510000" cy="221400"/>
            </a:xfrm>
          </p:grpSpPr>
          <p:sp>
            <p:nvSpPr>
              <p:cNvPr id="554" name="Freeform 91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000" y="0"/>
                    </a:moveTo>
                    <a:lnTo>
                      <a:pt x="3401" y="10"/>
                    </a:lnTo>
                    <a:lnTo>
                      <a:pt x="2819" y="40"/>
                    </a:lnTo>
                    <a:lnTo>
                      <a:pt x="2250" y="91"/>
                    </a:lnTo>
                    <a:lnTo>
                      <a:pt x="1694" y="162"/>
                    </a:lnTo>
                    <a:lnTo>
                      <a:pt x="1149" y="255"/>
                    </a:lnTo>
                    <a:lnTo>
                      <a:pt x="615" y="370"/>
                    </a:lnTo>
                    <a:lnTo>
                      <a:pt x="89" y="507"/>
                    </a:lnTo>
                    <a:lnTo>
                      <a:pt x="0" y="534"/>
                    </a:lnTo>
                    <a:lnTo>
                      <a:pt x="0" y="543"/>
                    </a:lnTo>
                    <a:lnTo>
                      <a:pt x="92" y="515"/>
                    </a:lnTo>
                    <a:lnTo>
                      <a:pt x="617" y="378"/>
                    </a:lnTo>
                    <a:lnTo>
                      <a:pt x="1151" y="264"/>
                    </a:lnTo>
                    <a:lnTo>
                      <a:pt x="1695" y="171"/>
                    </a:lnTo>
                    <a:lnTo>
                      <a:pt x="2251" y="99"/>
                    </a:lnTo>
                    <a:lnTo>
                      <a:pt x="2819" y="49"/>
                    </a:lnTo>
                    <a:lnTo>
                      <a:pt x="3402" y="19"/>
                    </a:lnTo>
                    <a:lnTo>
                      <a:pt x="4000" y="9"/>
                    </a:lnTo>
                    <a:lnTo>
                      <a:pt x="4577" y="9"/>
                    </a:lnTo>
                    <a:lnTo>
                      <a:pt x="4312" y="3"/>
                    </a:lnTo>
                    <a:lnTo>
                      <a:pt x="400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92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577" y="9"/>
                    </a:moveTo>
                    <a:lnTo>
                      <a:pt x="4000" y="9"/>
                    </a:lnTo>
                    <a:lnTo>
                      <a:pt x="4155" y="9"/>
                    </a:lnTo>
                    <a:lnTo>
                      <a:pt x="4469" y="15"/>
                    </a:lnTo>
                    <a:lnTo>
                      <a:pt x="4788" y="25"/>
                    </a:lnTo>
                    <a:lnTo>
                      <a:pt x="5112" y="40"/>
                    </a:lnTo>
                    <a:lnTo>
                      <a:pt x="5440" y="60"/>
                    </a:lnTo>
                    <a:lnTo>
                      <a:pt x="5774" y="85"/>
                    </a:lnTo>
                    <a:lnTo>
                      <a:pt x="6285" y="132"/>
                    </a:lnTo>
                    <a:lnTo>
                      <a:pt x="6808" y="189"/>
                    </a:lnTo>
                    <a:lnTo>
                      <a:pt x="7345" y="257"/>
                    </a:lnTo>
                    <a:lnTo>
                      <a:pt x="7346" y="249"/>
                    </a:lnTo>
                    <a:lnTo>
                      <a:pt x="6809" y="181"/>
                    </a:lnTo>
                    <a:lnTo>
                      <a:pt x="6286" y="123"/>
                    </a:lnTo>
                    <a:lnTo>
                      <a:pt x="5775" y="76"/>
                    </a:lnTo>
                    <a:lnTo>
                      <a:pt x="5441" y="51"/>
                    </a:lnTo>
                    <a:lnTo>
                      <a:pt x="5112" y="31"/>
                    </a:lnTo>
                    <a:lnTo>
                      <a:pt x="4788" y="16"/>
                    </a:lnTo>
                    <a:lnTo>
                      <a:pt x="4577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Group 49"/>
            <p:cNvGrpSpPr/>
            <p:nvPr/>
          </p:nvGrpSpPr>
          <p:grpSpPr>
            <a:xfrm>
              <a:off x="231840" y="2679840"/>
              <a:ext cx="3492360" cy="193320"/>
              <a:chOff x="231840" y="2679840"/>
              <a:chExt cx="3492360" cy="193320"/>
            </a:xfrm>
          </p:grpSpPr>
          <p:sp>
            <p:nvSpPr>
              <p:cNvPr id="557" name="Freeform 89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0" y="184"/>
                    </a:moveTo>
                    <a:lnTo>
                      <a:pt x="0" y="240"/>
                    </a:lnTo>
                    <a:lnTo>
                      <a:pt x="8" y="241"/>
                    </a:lnTo>
                    <a:lnTo>
                      <a:pt x="259" y="282"/>
                    </a:lnTo>
                    <a:lnTo>
                      <a:pt x="511" y="319"/>
                    </a:lnTo>
                    <a:lnTo>
                      <a:pt x="765" y="352"/>
                    </a:lnTo>
                    <a:lnTo>
                      <a:pt x="1019" y="381"/>
                    </a:lnTo>
                    <a:lnTo>
                      <a:pt x="1276" y="406"/>
                    </a:lnTo>
                    <a:lnTo>
                      <a:pt x="1533" y="427"/>
                    </a:lnTo>
                    <a:lnTo>
                      <a:pt x="1793" y="444"/>
                    </a:lnTo>
                    <a:lnTo>
                      <a:pt x="2054" y="458"/>
                    </a:lnTo>
                    <a:lnTo>
                      <a:pt x="2318" y="467"/>
                    </a:lnTo>
                    <a:lnTo>
                      <a:pt x="2583" y="473"/>
                    </a:lnTo>
                    <a:lnTo>
                      <a:pt x="2851" y="475"/>
                    </a:lnTo>
                    <a:lnTo>
                      <a:pt x="3057" y="474"/>
                    </a:lnTo>
                    <a:lnTo>
                      <a:pt x="3264" y="470"/>
                    </a:lnTo>
                    <a:lnTo>
                      <a:pt x="3473" y="465"/>
                    </a:lnTo>
                    <a:lnTo>
                      <a:pt x="3895" y="448"/>
                    </a:lnTo>
                    <a:lnTo>
                      <a:pt x="4322" y="422"/>
                    </a:lnTo>
                    <a:lnTo>
                      <a:pt x="2851" y="422"/>
                    </a:lnTo>
                    <a:lnTo>
                      <a:pt x="2319" y="414"/>
                    </a:lnTo>
                    <a:lnTo>
                      <a:pt x="1796" y="392"/>
                    </a:lnTo>
                    <a:lnTo>
                      <a:pt x="1280" y="353"/>
                    </a:lnTo>
                    <a:lnTo>
                      <a:pt x="771" y="300"/>
                    </a:lnTo>
                    <a:lnTo>
                      <a:pt x="268" y="230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90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7300" y="0"/>
                    </a:moveTo>
                    <a:lnTo>
                      <a:pt x="6579" y="116"/>
                    </a:lnTo>
                    <a:lnTo>
                      <a:pt x="6110" y="183"/>
                    </a:lnTo>
                    <a:lnTo>
                      <a:pt x="5650" y="242"/>
                    </a:lnTo>
                    <a:lnTo>
                      <a:pt x="5199" y="292"/>
                    </a:lnTo>
                    <a:lnTo>
                      <a:pt x="4756" y="335"/>
                    </a:lnTo>
                    <a:lnTo>
                      <a:pt x="4321" y="369"/>
                    </a:lnTo>
                    <a:lnTo>
                      <a:pt x="3893" y="395"/>
                    </a:lnTo>
                    <a:lnTo>
                      <a:pt x="3471" y="412"/>
                    </a:lnTo>
                    <a:lnTo>
                      <a:pt x="3263" y="418"/>
                    </a:lnTo>
                    <a:lnTo>
                      <a:pt x="3056" y="421"/>
                    </a:lnTo>
                    <a:lnTo>
                      <a:pt x="2851" y="422"/>
                    </a:lnTo>
                    <a:lnTo>
                      <a:pt x="4322" y="422"/>
                    </a:lnTo>
                    <a:lnTo>
                      <a:pt x="4760" y="388"/>
                    </a:lnTo>
                    <a:lnTo>
                      <a:pt x="5204" y="345"/>
                    </a:lnTo>
                    <a:lnTo>
                      <a:pt x="5656" y="294"/>
                    </a:lnTo>
                    <a:lnTo>
                      <a:pt x="6117" y="235"/>
                    </a:lnTo>
                    <a:lnTo>
                      <a:pt x="6586" y="168"/>
                    </a:lnTo>
                    <a:lnTo>
                      <a:pt x="7309" y="52"/>
                    </a:lnTo>
                    <a:lnTo>
                      <a:pt x="7300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50"/>
            <p:cNvGrpSpPr/>
            <p:nvPr/>
          </p:nvGrpSpPr>
          <p:grpSpPr>
            <a:xfrm>
              <a:off x="231840" y="2673000"/>
              <a:ext cx="3493800" cy="336960"/>
              <a:chOff x="231840" y="2673000"/>
              <a:chExt cx="3493800" cy="336960"/>
            </a:xfrm>
          </p:grpSpPr>
          <p:sp>
            <p:nvSpPr>
              <p:cNvPr id="560" name="Freeform 88"/>
              <p:cNvSpPr/>
              <p:nvPr/>
            </p:nvSpPr>
            <p:spPr>
              <a:xfrm>
                <a:off x="231840" y="2673000"/>
                <a:ext cx="3493800" cy="336960"/>
              </a:xfrm>
              <a:custGeom>
                <a:avLst/>
                <a:gdLst/>
                <a:ahLst/>
                <a:rect l="l" t="t" r="r" b="b"/>
                <a:pathLst>
                  <a:path w="7312" h="826">
                    <a:moveTo>
                      <a:pt x="7297" y="0"/>
                    </a:moveTo>
                    <a:lnTo>
                      <a:pt x="6017" y="206"/>
                    </a:lnTo>
                    <a:lnTo>
                      <a:pt x="5195" y="324"/>
                    </a:lnTo>
                    <a:lnTo>
                      <a:pt x="4394" y="428"/>
                    </a:lnTo>
                    <a:lnTo>
                      <a:pt x="3613" y="517"/>
                    </a:lnTo>
                    <a:lnTo>
                      <a:pt x="2847" y="591"/>
                    </a:lnTo>
                    <a:lnTo>
                      <a:pt x="2095" y="651"/>
                    </a:lnTo>
                    <a:lnTo>
                      <a:pt x="1354" y="695"/>
                    </a:lnTo>
                    <a:lnTo>
                      <a:pt x="619" y="725"/>
                    </a:lnTo>
                    <a:lnTo>
                      <a:pt x="254" y="734"/>
                    </a:lnTo>
                    <a:lnTo>
                      <a:pt x="0" y="738"/>
                    </a:lnTo>
                    <a:lnTo>
                      <a:pt x="0" y="826"/>
                    </a:lnTo>
                    <a:lnTo>
                      <a:pt x="256" y="822"/>
                    </a:lnTo>
                    <a:lnTo>
                      <a:pt x="622" y="813"/>
                    </a:lnTo>
                    <a:lnTo>
                      <a:pt x="1358" y="783"/>
                    </a:lnTo>
                    <a:lnTo>
                      <a:pt x="2101" y="739"/>
                    </a:lnTo>
                    <a:lnTo>
                      <a:pt x="2855" y="679"/>
                    </a:lnTo>
                    <a:lnTo>
                      <a:pt x="3622" y="605"/>
                    </a:lnTo>
                    <a:lnTo>
                      <a:pt x="4405" y="516"/>
                    </a:lnTo>
                    <a:lnTo>
                      <a:pt x="5207" y="412"/>
                    </a:lnTo>
                    <a:lnTo>
                      <a:pt x="6030" y="293"/>
                    </a:lnTo>
                    <a:lnTo>
                      <a:pt x="7312" y="87"/>
                    </a:lnTo>
                    <a:lnTo>
                      <a:pt x="7297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Group 51"/>
            <p:cNvGrpSpPr/>
            <p:nvPr/>
          </p:nvGrpSpPr>
          <p:grpSpPr>
            <a:xfrm>
              <a:off x="231840" y="2683440"/>
              <a:ext cx="3491280" cy="499680"/>
              <a:chOff x="231840" y="2683440"/>
              <a:chExt cx="3491280" cy="499680"/>
            </a:xfrm>
          </p:grpSpPr>
          <p:sp>
            <p:nvSpPr>
              <p:cNvPr id="562" name="Freeform 87"/>
              <p:cNvSpPr/>
              <p:nvPr/>
            </p:nvSpPr>
            <p:spPr>
              <a:xfrm>
                <a:off x="231840" y="2683440"/>
                <a:ext cx="3491280" cy="499680"/>
              </a:xfrm>
              <a:custGeom>
                <a:avLst/>
                <a:gdLst/>
                <a:ahLst/>
                <a:rect l="l" t="t" r="r" b="b"/>
                <a:pathLst>
                  <a:path w="7307" h="1225">
                    <a:moveTo>
                      <a:pt x="7301" y="0"/>
                    </a:moveTo>
                    <a:lnTo>
                      <a:pt x="0" y="1190"/>
                    </a:lnTo>
                    <a:lnTo>
                      <a:pt x="0" y="1225"/>
                    </a:lnTo>
                    <a:lnTo>
                      <a:pt x="7307" y="35"/>
                    </a:lnTo>
                    <a:lnTo>
                      <a:pt x="730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52"/>
            <p:cNvGrpSpPr/>
            <p:nvPr/>
          </p:nvGrpSpPr>
          <p:grpSpPr>
            <a:xfrm>
              <a:off x="231840" y="2687040"/>
              <a:ext cx="3490920" cy="623160"/>
              <a:chOff x="231840" y="2687040"/>
              <a:chExt cx="3490920" cy="623160"/>
            </a:xfrm>
          </p:grpSpPr>
          <p:sp>
            <p:nvSpPr>
              <p:cNvPr id="564" name="Freeform 86"/>
              <p:cNvSpPr/>
              <p:nvPr/>
            </p:nvSpPr>
            <p:spPr>
              <a:xfrm>
                <a:off x="231840" y="2687040"/>
                <a:ext cx="3490920" cy="623160"/>
              </a:xfrm>
              <a:custGeom>
                <a:avLst/>
                <a:gdLst/>
                <a:ahLst/>
                <a:rect l="l" t="t" r="r" b="b"/>
                <a:pathLst>
                  <a:path w="7306" h="1527">
                    <a:moveTo>
                      <a:pt x="7303" y="0"/>
                    </a:moveTo>
                    <a:lnTo>
                      <a:pt x="5590" y="301"/>
                    </a:lnTo>
                    <a:lnTo>
                      <a:pt x="3977" y="610"/>
                    </a:lnTo>
                    <a:lnTo>
                      <a:pt x="2442" y="931"/>
                    </a:lnTo>
                    <a:lnTo>
                      <a:pt x="1696" y="1098"/>
                    </a:lnTo>
                    <a:lnTo>
                      <a:pt x="961" y="1270"/>
                    </a:lnTo>
                    <a:lnTo>
                      <a:pt x="233" y="1449"/>
                    </a:lnTo>
                    <a:lnTo>
                      <a:pt x="0" y="1509"/>
                    </a:lnTo>
                    <a:lnTo>
                      <a:pt x="0" y="1527"/>
                    </a:lnTo>
                    <a:lnTo>
                      <a:pt x="238" y="1466"/>
                    </a:lnTo>
                    <a:lnTo>
                      <a:pt x="965" y="1287"/>
                    </a:lnTo>
                    <a:lnTo>
                      <a:pt x="1700" y="1115"/>
                    </a:lnTo>
                    <a:lnTo>
                      <a:pt x="2446" y="948"/>
                    </a:lnTo>
                    <a:lnTo>
                      <a:pt x="3981" y="627"/>
                    </a:lnTo>
                    <a:lnTo>
                      <a:pt x="5593" y="319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53"/>
            <p:cNvGrpSpPr/>
            <p:nvPr/>
          </p:nvGrpSpPr>
          <p:grpSpPr>
            <a:xfrm>
              <a:off x="231840" y="2688840"/>
              <a:ext cx="3490560" cy="708480"/>
              <a:chOff x="231840" y="2688840"/>
              <a:chExt cx="3490560" cy="708480"/>
            </a:xfrm>
          </p:grpSpPr>
          <p:sp>
            <p:nvSpPr>
              <p:cNvPr id="566" name="Freeform 85"/>
              <p:cNvSpPr/>
              <p:nvPr/>
            </p:nvSpPr>
            <p:spPr>
              <a:xfrm>
                <a:off x="231840" y="2688840"/>
                <a:ext cx="3490560" cy="708480"/>
              </a:xfrm>
              <a:custGeom>
                <a:avLst/>
                <a:gdLst/>
                <a:ahLst/>
                <a:rect l="l" t="t" r="r" b="b"/>
                <a:pathLst>
                  <a:path w="7305" h="1737">
                    <a:moveTo>
                      <a:pt x="7304" y="0"/>
                    </a:moveTo>
                    <a:lnTo>
                      <a:pt x="6434" y="152"/>
                    </a:lnTo>
                    <a:lnTo>
                      <a:pt x="5594" y="309"/>
                    </a:lnTo>
                    <a:lnTo>
                      <a:pt x="4781" y="472"/>
                    </a:lnTo>
                    <a:lnTo>
                      <a:pt x="3992" y="642"/>
                    </a:lnTo>
                    <a:lnTo>
                      <a:pt x="3225" y="820"/>
                    </a:lnTo>
                    <a:lnTo>
                      <a:pt x="2476" y="1006"/>
                    </a:lnTo>
                    <a:lnTo>
                      <a:pt x="1742" y="1201"/>
                    </a:lnTo>
                    <a:lnTo>
                      <a:pt x="1022" y="1408"/>
                    </a:lnTo>
                    <a:lnTo>
                      <a:pt x="312" y="1625"/>
                    </a:lnTo>
                    <a:lnTo>
                      <a:pt x="0" y="1728"/>
                    </a:lnTo>
                    <a:lnTo>
                      <a:pt x="0" y="1737"/>
                    </a:lnTo>
                    <a:lnTo>
                      <a:pt x="315" y="1634"/>
                    </a:lnTo>
                    <a:lnTo>
                      <a:pt x="1025" y="1416"/>
                    </a:lnTo>
                    <a:lnTo>
                      <a:pt x="1745" y="1210"/>
                    </a:lnTo>
                    <a:lnTo>
                      <a:pt x="2478" y="1014"/>
                    </a:lnTo>
                    <a:lnTo>
                      <a:pt x="3227" y="828"/>
                    </a:lnTo>
                    <a:lnTo>
                      <a:pt x="3994" y="651"/>
                    </a:lnTo>
                    <a:lnTo>
                      <a:pt x="4783" y="481"/>
                    </a:lnTo>
                    <a:lnTo>
                      <a:pt x="5596" y="318"/>
                    </a:lnTo>
                    <a:lnTo>
                      <a:pt x="6436" y="161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54"/>
            <p:cNvGrpSpPr/>
            <p:nvPr/>
          </p:nvGrpSpPr>
          <p:grpSpPr>
            <a:xfrm>
              <a:off x="231840" y="2688840"/>
              <a:ext cx="3490560" cy="874440"/>
              <a:chOff x="231840" y="2688840"/>
              <a:chExt cx="3490560" cy="874440"/>
            </a:xfrm>
          </p:grpSpPr>
          <p:sp>
            <p:nvSpPr>
              <p:cNvPr id="568" name="Freeform 84"/>
              <p:cNvSpPr/>
              <p:nvPr/>
            </p:nvSpPr>
            <p:spPr>
              <a:xfrm>
                <a:off x="231840" y="2688840"/>
                <a:ext cx="3490560" cy="874440"/>
              </a:xfrm>
              <a:custGeom>
                <a:avLst/>
                <a:gdLst/>
                <a:ahLst/>
                <a:rect l="l" t="t" r="r" b="b"/>
                <a:pathLst>
                  <a:path w="7305" h="2143">
                    <a:moveTo>
                      <a:pt x="7304" y="0"/>
                    </a:moveTo>
                    <a:lnTo>
                      <a:pt x="6436" y="155"/>
                    </a:lnTo>
                    <a:lnTo>
                      <a:pt x="5603" y="322"/>
                    </a:lnTo>
                    <a:lnTo>
                      <a:pt x="4800" y="501"/>
                    </a:lnTo>
                    <a:lnTo>
                      <a:pt x="4027" y="693"/>
                    </a:lnTo>
                    <a:lnTo>
                      <a:pt x="3280" y="900"/>
                    </a:lnTo>
                    <a:lnTo>
                      <a:pt x="2557" y="1123"/>
                    </a:lnTo>
                    <a:lnTo>
                      <a:pt x="1855" y="1364"/>
                    </a:lnTo>
                    <a:lnTo>
                      <a:pt x="1171" y="1623"/>
                    </a:lnTo>
                    <a:lnTo>
                      <a:pt x="503" y="1902"/>
                    </a:lnTo>
                    <a:lnTo>
                      <a:pt x="0" y="2133"/>
                    </a:lnTo>
                    <a:lnTo>
                      <a:pt x="0" y="2143"/>
                    </a:lnTo>
                    <a:lnTo>
                      <a:pt x="506" y="1910"/>
                    </a:lnTo>
                    <a:lnTo>
                      <a:pt x="1174" y="1632"/>
                    </a:lnTo>
                    <a:lnTo>
                      <a:pt x="1858" y="1372"/>
                    </a:lnTo>
                    <a:lnTo>
                      <a:pt x="2560" y="1132"/>
                    </a:lnTo>
                    <a:lnTo>
                      <a:pt x="3283" y="909"/>
                    </a:lnTo>
                    <a:lnTo>
                      <a:pt x="4029" y="701"/>
                    </a:lnTo>
                    <a:lnTo>
                      <a:pt x="4802" y="509"/>
                    </a:lnTo>
                    <a:lnTo>
                      <a:pt x="5604" y="330"/>
                    </a:lnTo>
                    <a:lnTo>
                      <a:pt x="6438" y="164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55"/>
            <p:cNvGrpSpPr/>
            <p:nvPr/>
          </p:nvGrpSpPr>
          <p:grpSpPr>
            <a:xfrm>
              <a:off x="231840" y="2687040"/>
              <a:ext cx="3490920" cy="796320"/>
              <a:chOff x="231840" y="2687040"/>
              <a:chExt cx="3490920" cy="796320"/>
            </a:xfrm>
          </p:grpSpPr>
          <p:sp>
            <p:nvSpPr>
              <p:cNvPr id="570" name="Freeform 83"/>
              <p:cNvSpPr/>
              <p:nvPr/>
            </p:nvSpPr>
            <p:spPr>
              <a:xfrm>
                <a:off x="231840" y="2687040"/>
                <a:ext cx="3490920" cy="796320"/>
              </a:xfrm>
              <a:custGeom>
                <a:avLst/>
                <a:gdLst/>
                <a:ahLst/>
                <a:rect l="l" t="t" r="r" b="b"/>
                <a:pathLst>
                  <a:path w="7306" h="1952">
                    <a:moveTo>
                      <a:pt x="7303" y="0"/>
                    </a:moveTo>
                    <a:lnTo>
                      <a:pt x="6434" y="154"/>
                    </a:lnTo>
                    <a:lnTo>
                      <a:pt x="5597" y="316"/>
                    </a:lnTo>
                    <a:lnTo>
                      <a:pt x="4789" y="487"/>
                    </a:lnTo>
                    <a:lnTo>
                      <a:pt x="4008" y="669"/>
                    </a:lnTo>
                    <a:lnTo>
                      <a:pt x="3250" y="863"/>
                    </a:lnTo>
                    <a:lnTo>
                      <a:pt x="2513" y="1069"/>
                    </a:lnTo>
                    <a:lnTo>
                      <a:pt x="1794" y="1289"/>
                    </a:lnTo>
                    <a:lnTo>
                      <a:pt x="1091" y="1524"/>
                    </a:lnTo>
                    <a:lnTo>
                      <a:pt x="401" y="1775"/>
                    </a:lnTo>
                    <a:lnTo>
                      <a:pt x="0" y="1933"/>
                    </a:lnTo>
                    <a:lnTo>
                      <a:pt x="0" y="1952"/>
                    </a:lnTo>
                    <a:lnTo>
                      <a:pt x="407" y="1791"/>
                    </a:lnTo>
                    <a:lnTo>
                      <a:pt x="1097" y="1541"/>
                    </a:lnTo>
                    <a:lnTo>
                      <a:pt x="1800" y="1306"/>
                    </a:lnTo>
                    <a:lnTo>
                      <a:pt x="2518" y="1086"/>
                    </a:lnTo>
                    <a:lnTo>
                      <a:pt x="3254" y="880"/>
                    </a:lnTo>
                    <a:lnTo>
                      <a:pt x="4012" y="686"/>
                    </a:lnTo>
                    <a:lnTo>
                      <a:pt x="4793" y="505"/>
                    </a:lnTo>
                    <a:lnTo>
                      <a:pt x="5601" y="333"/>
                    </a:lnTo>
                    <a:lnTo>
                      <a:pt x="6437" y="171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Group 56"/>
            <p:cNvGrpSpPr/>
            <p:nvPr/>
          </p:nvGrpSpPr>
          <p:grpSpPr>
            <a:xfrm>
              <a:off x="231840" y="1468440"/>
              <a:ext cx="2956680" cy="1017000"/>
              <a:chOff x="231840" y="1468440"/>
              <a:chExt cx="2956680" cy="1017000"/>
            </a:xfrm>
          </p:grpSpPr>
          <p:sp>
            <p:nvSpPr>
              <p:cNvPr id="572" name="Freeform 82"/>
              <p:cNvSpPr/>
              <p:nvPr/>
            </p:nvSpPr>
            <p:spPr>
              <a:xfrm>
                <a:off x="231840" y="1468440"/>
                <a:ext cx="2956680" cy="1017000"/>
              </a:xfrm>
              <a:custGeom>
                <a:avLst/>
                <a:gdLst/>
                <a:ahLst/>
                <a:rect l="l" t="t" r="r" b="b"/>
                <a:pathLst>
                  <a:path w="6188" h="2493">
                    <a:moveTo>
                      <a:pt x="6141" y="0"/>
                    </a:moveTo>
                    <a:lnTo>
                      <a:pt x="5951" y="121"/>
                    </a:lnTo>
                    <a:lnTo>
                      <a:pt x="5763" y="238"/>
                    </a:lnTo>
                    <a:lnTo>
                      <a:pt x="5576" y="352"/>
                    </a:lnTo>
                    <a:lnTo>
                      <a:pt x="5390" y="463"/>
                    </a:lnTo>
                    <a:lnTo>
                      <a:pt x="5206" y="571"/>
                    </a:lnTo>
                    <a:lnTo>
                      <a:pt x="5023" y="676"/>
                    </a:lnTo>
                    <a:lnTo>
                      <a:pt x="4842" y="778"/>
                    </a:lnTo>
                    <a:lnTo>
                      <a:pt x="4662" y="876"/>
                    </a:lnTo>
                    <a:lnTo>
                      <a:pt x="4483" y="972"/>
                    </a:lnTo>
                    <a:lnTo>
                      <a:pt x="4306" y="1065"/>
                    </a:lnTo>
                    <a:lnTo>
                      <a:pt x="4130" y="1154"/>
                    </a:lnTo>
                    <a:lnTo>
                      <a:pt x="3954" y="1241"/>
                    </a:lnTo>
                    <a:lnTo>
                      <a:pt x="3780" y="1324"/>
                    </a:lnTo>
                    <a:lnTo>
                      <a:pt x="3608" y="1405"/>
                    </a:lnTo>
                    <a:lnTo>
                      <a:pt x="3436" y="1482"/>
                    </a:lnTo>
                    <a:lnTo>
                      <a:pt x="3265" y="1557"/>
                    </a:lnTo>
                    <a:lnTo>
                      <a:pt x="3095" y="1628"/>
                    </a:lnTo>
                    <a:lnTo>
                      <a:pt x="2926" y="1696"/>
                    </a:lnTo>
                    <a:lnTo>
                      <a:pt x="2758" y="1762"/>
                    </a:lnTo>
                    <a:lnTo>
                      <a:pt x="2591" y="1824"/>
                    </a:lnTo>
                    <a:lnTo>
                      <a:pt x="2424" y="1883"/>
                    </a:lnTo>
                    <a:lnTo>
                      <a:pt x="2258" y="1939"/>
                    </a:lnTo>
                    <a:lnTo>
                      <a:pt x="2093" y="1992"/>
                    </a:lnTo>
                    <a:lnTo>
                      <a:pt x="1929" y="2042"/>
                    </a:lnTo>
                    <a:lnTo>
                      <a:pt x="1765" y="2089"/>
                    </a:lnTo>
                    <a:lnTo>
                      <a:pt x="1602" y="2133"/>
                    </a:lnTo>
                    <a:lnTo>
                      <a:pt x="1440" y="2174"/>
                    </a:lnTo>
                    <a:lnTo>
                      <a:pt x="1278" y="2212"/>
                    </a:lnTo>
                    <a:lnTo>
                      <a:pt x="1116" y="2247"/>
                    </a:lnTo>
                    <a:lnTo>
                      <a:pt x="955" y="2279"/>
                    </a:lnTo>
                    <a:lnTo>
                      <a:pt x="794" y="2307"/>
                    </a:lnTo>
                    <a:lnTo>
                      <a:pt x="634" y="2333"/>
                    </a:lnTo>
                    <a:lnTo>
                      <a:pt x="474" y="2356"/>
                    </a:lnTo>
                    <a:lnTo>
                      <a:pt x="314" y="2375"/>
                    </a:lnTo>
                    <a:lnTo>
                      <a:pt x="154" y="2392"/>
                    </a:lnTo>
                    <a:lnTo>
                      <a:pt x="0" y="2405"/>
                    </a:lnTo>
                    <a:lnTo>
                      <a:pt x="0" y="2494"/>
                    </a:lnTo>
                    <a:lnTo>
                      <a:pt x="162" y="2480"/>
                    </a:lnTo>
                    <a:lnTo>
                      <a:pt x="324" y="2463"/>
                    </a:lnTo>
                    <a:lnTo>
                      <a:pt x="485" y="2443"/>
                    </a:lnTo>
                    <a:lnTo>
                      <a:pt x="647" y="2420"/>
                    </a:lnTo>
                    <a:lnTo>
                      <a:pt x="809" y="2394"/>
                    </a:lnTo>
                    <a:lnTo>
                      <a:pt x="971" y="2365"/>
                    </a:lnTo>
                    <a:lnTo>
                      <a:pt x="1134" y="2333"/>
                    </a:lnTo>
                    <a:lnTo>
                      <a:pt x="1297" y="2298"/>
                    </a:lnTo>
                    <a:lnTo>
                      <a:pt x="1461" y="2260"/>
                    </a:lnTo>
                    <a:lnTo>
                      <a:pt x="1624" y="2218"/>
                    </a:lnTo>
                    <a:lnTo>
                      <a:pt x="1789" y="2174"/>
                    </a:lnTo>
                    <a:lnTo>
                      <a:pt x="1954" y="2127"/>
                    </a:lnTo>
                    <a:lnTo>
                      <a:pt x="2120" y="2076"/>
                    </a:lnTo>
                    <a:lnTo>
                      <a:pt x="2286" y="2023"/>
                    </a:lnTo>
                    <a:lnTo>
                      <a:pt x="2453" y="1966"/>
                    </a:lnTo>
                    <a:lnTo>
                      <a:pt x="2621" y="1907"/>
                    </a:lnTo>
                    <a:lnTo>
                      <a:pt x="2789" y="1844"/>
                    </a:lnTo>
                    <a:lnTo>
                      <a:pt x="2958" y="1778"/>
                    </a:lnTo>
                    <a:lnTo>
                      <a:pt x="3128" y="1709"/>
                    </a:lnTo>
                    <a:lnTo>
                      <a:pt x="3299" y="1638"/>
                    </a:lnTo>
                    <a:lnTo>
                      <a:pt x="3471" y="1563"/>
                    </a:lnTo>
                    <a:lnTo>
                      <a:pt x="3644" y="1485"/>
                    </a:lnTo>
                    <a:lnTo>
                      <a:pt x="3818" y="1404"/>
                    </a:lnTo>
                    <a:lnTo>
                      <a:pt x="3993" y="1320"/>
                    </a:lnTo>
                    <a:lnTo>
                      <a:pt x="4169" y="1233"/>
                    </a:lnTo>
                    <a:lnTo>
                      <a:pt x="4346" y="1143"/>
                    </a:lnTo>
                    <a:lnTo>
                      <a:pt x="4524" y="1050"/>
                    </a:lnTo>
                    <a:lnTo>
                      <a:pt x="4704" y="954"/>
                    </a:lnTo>
                    <a:lnTo>
                      <a:pt x="4885" y="854"/>
                    </a:lnTo>
                    <a:lnTo>
                      <a:pt x="5067" y="752"/>
                    </a:lnTo>
                    <a:lnTo>
                      <a:pt x="5250" y="647"/>
                    </a:lnTo>
                    <a:lnTo>
                      <a:pt x="5435" y="538"/>
                    </a:lnTo>
                    <a:lnTo>
                      <a:pt x="5621" y="427"/>
                    </a:lnTo>
                    <a:lnTo>
                      <a:pt x="5809" y="313"/>
                    </a:lnTo>
                    <a:lnTo>
                      <a:pt x="5998" y="195"/>
                    </a:lnTo>
                    <a:lnTo>
                      <a:pt x="6188" y="75"/>
                    </a:lnTo>
                    <a:lnTo>
                      <a:pt x="6141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57"/>
            <p:cNvGrpSpPr/>
            <p:nvPr/>
          </p:nvGrpSpPr>
          <p:grpSpPr>
            <a:xfrm>
              <a:off x="231840" y="1477800"/>
              <a:ext cx="2950200" cy="1182240"/>
              <a:chOff x="231840" y="1477800"/>
              <a:chExt cx="2950200" cy="1182240"/>
            </a:xfrm>
          </p:grpSpPr>
          <p:sp>
            <p:nvSpPr>
              <p:cNvPr id="574" name="Freeform 81"/>
              <p:cNvSpPr/>
              <p:nvPr/>
            </p:nvSpPr>
            <p:spPr>
              <a:xfrm>
                <a:off x="231840" y="1477800"/>
                <a:ext cx="2950200" cy="1182240"/>
              </a:xfrm>
              <a:custGeom>
                <a:avLst/>
                <a:gdLst/>
                <a:ahLst/>
                <a:rect l="l" t="t" r="r" b="b"/>
                <a:pathLst>
                  <a:path w="6174" h="2898">
                    <a:moveTo>
                      <a:pt x="6155" y="0"/>
                    </a:moveTo>
                    <a:lnTo>
                      <a:pt x="5613" y="339"/>
                    </a:lnTo>
                    <a:lnTo>
                      <a:pt x="5081" y="659"/>
                    </a:lnTo>
                    <a:lnTo>
                      <a:pt x="4558" y="959"/>
                    </a:lnTo>
                    <a:lnTo>
                      <a:pt x="4043" y="1241"/>
                    </a:lnTo>
                    <a:lnTo>
                      <a:pt x="3535" y="1505"/>
                    </a:lnTo>
                    <a:lnTo>
                      <a:pt x="3033" y="1749"/>
                    </a:lnTo>
                    <a:lnTo>
                      <a:pt x="2535" y="1976"/>
                    </a:lnTo>
                    <a:lnTo>
                      <a:pt x="2041" y="2184"/>
                    </a:lnTo>
                    <a:lnTo>
                      <a:pt x="1550" y="2374"/>
                    </a:lnTo>
                    <a:lnTo>
                      <a:pt x="1061" y="2547"/>
                    </a:lnTo>
                    <a:lnTo>
                      <a:pt x="572" y="2703"/>
                    </a:lnTo>
                    <a:lnTo>
                      <a:pt x="83" y="2841"/>
                    </a:lnTo>
                    <a:lnTo>
                      <a:pt x="0" y="2861"/>
                    </a:lnTo>
                    <a:lnTo>
                      <a:pt x="0" y="2897"/>
                    </a:lnTo>
                    <a:lnTo>
                      <a:pt x="92" y="2875"/>
                    </a:lnTo>
                    <a:lnTo>
                      <a:pt x="582" y="2736"/>
                    </a:lnTo>
                    <a:lnTo>
                      <a:pt x="1072" y="2581"/>
                    </a:lnTo>
                    <a:lnTo>
                      <a:pt x="1562" y="2407"/>
                    </a:lnTo>
                    <a:lnTo>
                      <a:pt x="2054" y="2217"/>
                    </a:lnTo>
                    <a:lnTo>
                      <a:pt x="2549" y="2008"/>
                    </a:lnTo>
                    <a:lnTo>
                      <a:pt x="3048" y="1781"/>
                    </a:lnTo>
                    <a:lnTo>
                      <a:pt x="3551" y="1536"/>
                    </a:lnTo>
                    <a:lnTo>
                      <a:pt x="4060" y="1272"/>
                    </a:lnTo>
                    <a:lnTo>
                      <a:pt x="4576" y="990"/>
                    </a:lnTo>
                    <a:lnTo>
                      <a:pt x="5099" y="689"/>
                    </a:lnTo>
                    <a:lnTo>
                      <a:pt x="5632" y="369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58"/>
            <p:cNvGrpSpPr/>
            <p:nvPr/>
          </p:nvGrpSpPr>
          <p:grpSpPr>
            <a:xfrm>
              <a:off x="231840" y="1477800"/>
              <a:ext cx="2950200" cy="1348200"/>
              <a:chOff x="231840" y="1477800"/>
              <a:chExt cx="2950200" cy="1348200"/>
            </a:xfrm>
          </p:grpSpPr>
          <p:sp>
            <p:nvSpPr>
              <p:cNvPr id="576" name="Freeform 80"/>
              <p:cNvSpPr/>
              <p:nvPr/>
            </p:nvSpPr>
            <p:spPr>
              <a:xfrm>
                <a:off x="231840" y="1477800"/>
                <a:ext cx="2950200" cy="1348200"/>
              </a:xfrm>
              <a:custGeom>
                <a:avLst/>
                <a:gdLst/>
                <a:ahLst/>
                <a:rect l="l" t="t" r="r" b="b"/>
                <a:pathLst>
                  <a:path w="6174" h="3304">
                    <a:moveTo>
                      <a:pt x="6155" y="0"/>
                    </a:moveTo>
                    <a:lnTo>
                      <a:pt x="5408" y="468"/>
                    </a:lnTo>
                    <a:lnTo>
                      <a:pt x="4679" y="910"/>
                    </a:lnTo>
                    <a:lnTo>
                      <a:pt x="3966" y="1325"/>
                    </a:lnTo>
                    <a:lnTo>
                      <a:pt x="3265" y="1716"/>
                    </a:lnTo>
                    <a:lnTo>
                      <a:pt x="2574" y="2082"/>
                    </a:lnTo>
                    <a:lnTo>
                      <a:pt x="1890" y="2425"/>
                    </a:lnTo>
                    <a:lnTo>
                      <a:pt x="1210" y="2746"/>
                    </a:lnTo>
                    <a:lnTo>
                      <a:pt x="532" y="3046"/>
                    </a:lnTo>
                    <a:lnTo>
                      <a:pt x="0" y="3265"/>
                    </a:lnTo>
                    <a:lnTo>
                      <a:pt x="0" y="3303"/>
                    </a:lnTo>
                    <a:lnTo>
                      <a:pt x="546" y="3078"/>
                    </a:lnTo>
                    <a:lnTo>
                      <a:pt x="1225" y="2778"/>
                    </a:lnTo>
                    <a:lnTo>
                      <a:pt x="1905" y="2457"/>
                    </a:lnTo>
                    <a:lnTo>
                      <a:pt x="2590" y="2113"/>
                    </a:lnTo>
                    <a:lnTo>
                      <a:pt x="3282" y="1747"/>
                    </a:lnTo>
                    <a:lnTo>
                      <a:pt x="3983" y="1356"/>
                    </a:lnTo>
                    <a:lnTo>
                      <a:pt x="4697" y="940"/>
                    </a:lnTo>
                    <a:lnTo>
                      <a:pt x="5427" y="498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59"/>
            <p:cNvGrpSpPr/>
            <p:nvPr/>
          </p:nvGrpSpPr>
          <p:grpSpPr>
            <a:xfrm>
              <a:off x="231840" y="1480680"/>
              <a:ext cx="2948040" cy="1465920"/>
              <a:chOff x="231840" y="1480680"/>
              <a:chExt cx="2948040" cy="1465920"/>
            </a:xfrm>
          </p:grpSpPr>
          <p:sp>
            <p:nvSpPr>
              <p:cNvPr id="578" name="Freeform 79"/>
              <p:cNvSpPr/>
              <p:nvPr/>
            </p:nvSpPr>
            <p:spPr>
              <a:xfrm>
                <a:off x="231840" y="1480680"/>
                <a:ext cx="2948040" cy="1465920"/>
              </a:xfrm>
              <a:custGeom>
                <a:avLst/>
                <a:gdLst/>
                <a:ahLst/>
                <a:rect l="l" t="t" r="r" b="b"/>
                <a:pathLst>
                  <a:path w="6170" h="3593">
                    <a:moveTo>
                      <a:pt x="6160" y="0"/>
                    </a:moveTo>
                    <a:lnTo>
                      <a:pt x="5414" y="472"/>
                    </a:lnTo>
                    <a:lnTo>
                      <a:pt x="4687" y="923"/>
                    </a:lnTo>
                    <a:lnTo>
                      <a:pt x="3977" y="1355"/>
                    </a:lnTo>
                    <a:lnTo>
                      <a:pt x="3282" y="1769"/>
                    </a:lnTo>
                    <a:lnTo>
                      <a:pt x="2598" y="2166"/>
                    </a:lnTo>
                    <a:lnTo>
                      <a:pt x="1923" y="2547"/>
                    </a:lnTo>
                    <a:lnTo>
                      <a:pt x="1255" y="2914"/>
                    </a:lnTo>
                    <a:lnTo>
                      <a:pt x="590" y="3269"/>
                    </a:lnTo>
                    <a:lnTo>
                      <a:pt x="0" y="3573"/>
                    </a:lnTo>
                    <a:lnTo>
                      <a:pt x="0" y="3593"/>
                    </a:lnTo>
                    <a:lnTo>
                      <a:pt x="598" y="3284"/>
                    </a:lnTo>
                    <a:lnTo>
                      <a:pt x="1263" y="2930"/>
                    </a:lnTo>
                    <a:lnTo>
                      <a:pt x="1932" y="2563"/>
                    </a:lnTo>
                    <a:lnTo>
                      <a:pt x="2607" y="2181"/>
                    </a:lnTo>
                    <a:lnTo>
                      <a:pt x="3291" y="1784"/>
                    </a:lnTo>
                    <a:lnTo>
                      <a:pt x="3986" y="1370"/>
                    </a:lnTo>
                    <a:lnTo>
                      <a:pt x="4696" y="938"/>
                    </a:lnTo>
                    <a:lnTo>
                      <a:pt x="5423" y="487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60"/>
            <p:cNvGrpSpPr/>
            <p:nvPr/>
          </p:nvGrpSpPr>
          <p:grpSpPr>
            <a:xfrm>
              <a:off x="231840" y="1482480"/>
              <a:ext cx="2946600" cy="1550880"/>
              <a:chOff x="231840" y="1482480"/>
              <a:chExt cx="2946600" cy="1550880"/>
            </a:xfrm>
          </p:grpSpPr>
          <p:sp>
            <p:nvSpPr>
              <p:cNvPr id="580" name="Freeform 78"/>
              <p:cNvSpPr/>
              <p:nvPr/>
            </p:nvSpPr>
            <p:spPr>
              <a:xfrm>
                <a:off x="231840" y="1482480"/>
                <a:ext cx="2946600" cy="1550880"/>
              </a:xfrm>
              <a:custGeom>
                <a:avLst/>
                <a:gdLst/>
                <a:ahLst/>
                <a:rect l="l" t="t" r="r" b="b"/>
                <a:pathLst>
                  <a:path w="6167" h="3801">
                    <a:moveTo>
                      <a:pt x="6162" y="0"/>
                    </a:moveTo>
                    <a:lnTo>
                      <a:pt x="3987" y="1373"/>
                    </a:lnTo>
                    <a:lnTo>
                      <a:pt x="1958" y="2622"/>
                    </a:lnTo>
                    <a:lnTo>
                      <a:pt x="0" y="3791"/>
                    </a:lnTo>
                    <a:lnTo>
                      <a:pt x="0" y="3801"/>
                    </a:lnTo>
                    <a:lnTo>
                      <a:pt x="1963" y="2630"/>
                    </a:lnTo>
                    <a:lnTo>
                      <a:pt x="3992" y="1380"/>
                    </a:lnTo>
                    <a:lnTo>
                      <a:pt x="6167" y="7"/>
                    </a:lnTo>
                    <a:lnTo>
                      <a:pt x="6162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61"/>
            <p:cNvGrpSpPr/>
            <p:nvPr/>
          </p:nvGrpSpPr>
          <p:grpSpPr>
            <a:xfrm>
              <a:off x="231840" y="1480680"/>
              <a:ext cx="2948040" cy="1640520"/>
              <a:chOff x="231840" y="1480680"/>
              <a:chExt cx="2948040" cy="1640520"/>
            </a:xfrm>
          </p:grpSpPr>
          <p:sp>
            <p:nvSpPr>
              <p:cNvPr id="582" name="Freeform 77"/>
              <p:cNvSpPr/>
              <p:nvPr/>
            </p:nvSpPr>
            <p:spPr>
              <a:xfrm>
                <a:off x="231840" y="1480680"/>
                <a:ext cx="2948040" cy="1640520"/>
              </a:xfrm>
              <a:custGeom>
                <a:avLst/>
                <a:gdLst/>
                <a:ahLst/>
                <a:rect l="l" t="t" r="r" b="b"/>
                <a:pathLst>
                  <a:path w="6170" h="4021">
                    <a:moveTo>
                      <a:pt x="6160" y="0"/>
                    </a:moveTo>
                    <a:lnTo>
                      <a:pt x="3994" y="1388"/>
                    </a:lnTo>
                    <a:lnTo>
                      <a:pt x="0" y="4000"/>
                    </a:lnTo>
                    <a:lnTo>
                      <a:pt x="0" y="4021"/>
                    </a:lnTo>
                    <a:lnTo>
                      <a:pt x="4004" y="1403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Group 62"/>
            <p:cNvGrpSpPr/>
            <p:nvPr/>
          </p:nvGrpSpPr>
          <p:grpSpPr>
            <a:xfrm>
              <a:off x="231840" y="1480680"/>
              <a:ext cx="2948040" cy="1726920"/>
              <a:chOff x="231840" y="1480680"/>
              <a:chExt cx="2948040" cy="1726920"/>
            </a:xfrm>
          </p:grpSpPr>
          <p:sp>
            <p:nvSpPr>
              <p:cNvPr id="584" name="Freeform 76"/>
              <p:cNvSpPr/>
              <p:nvPr/>
            </p:nvSpPr>
            <p:spPr>
              <a:xfrm>
                <a:off x="231840" y="1480680"/>
                <a:ext cx="2948040" cy="1726920"/>
              </a:xfrm>
              <a:custGeom>
                <a:avLst/>
                <a:gdLst/>
                <a:ahLst/>
                <a:rect l="l" t="t" r="r" b="b"/>
                <a:pathLst>
                  <a:path w="6170" h="4232">
                    <a:moveTo>
                      <a:pt x="6160" y="0"/>
                    </a:moveTo>
                    <a:lnTo>
                      <a:pt x="5417" y="477"/>
                    </a:lnTo>
                    <a:lnTo>
                      <a:pt x="4004" y="1401"/>
                    </a:lnTo>
                    <a:lnTo>
                      <a:pt x="3331" y="1852"/>
                    </a:lnTo>
                    <a:lnTo>
                      <a:pt x="2676" y="2298"/>
                    </a:lnTo>
                    <a:lnTo>
                      <a:pt x="2037" y="2740"/>
                    </a:lnTo>
                    <a:lnTo>
                      <a:pt x="1412" y="3181"/>
                    </a:lnTo>
                    <a:lnTo>
                      <a:pt x="798" y="3622"/>
                    </a:lnTo>
                    <a:lnTo>
                      <a:pt x="193" y="4066"/>
                    </a:lnTo>
                    <a:lnTo>
                      <a:pt x="0" y="4210"/>
                    </a:lnTo>
                    <a:lnTo>
                      <a:pt x="0" y="4232"/>
                    </a:lnTo>
                    <a:lnTo>
                      <a:pt x="204" y="4080"/>
                    </a:lnTo>
                    <a:lnTo>
                      <a:pt x="808" y="3637"/>
                    </a:lnTo>
                    <a:lnTo>
                      <a:pt x="1422" y="3195"/>
                    </a:lnTo>
                    <a:lnTo>
                      <a:pt x="2047" y="2755"/>
                    </a:lnTo>
                    <a:lnTo>
                      <a:pt x="2686" y="2312"/>
                    </a:lnTo>
                    <a:lnTo>
                      <a:pt x="3340" y="1867"/>
                    </a:lnTo>
                    <a:lnTo>
                      <a:pt x="4014" y="1416"/>
                    </a:lnTo>
                    <a:lnTo>
                      <a:pt x="5426" y="492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Group 63"/>
            <p:cNvGrpSpPr/>
            <p:nvPr/>
          </p:nvGrpSpPr>
          <p:grpSpPr>
            <a:xfrm>
              <a:off x="2219040" y="601560"/>
              <a:ext cx="9000" cy="4320"/>
              <a:chOff x="2219040" y="601560"/>
              <a:chExt cx="9000" cy="4320"/>
            </a:xfrm>
          </p:grpSpPr>
          <p:sp>
            <p:nvSpPr>
              <p:cNvPr id="586" name="Freeform 75"/>
              <p:cNvSpPr/>
              <p:nvPr/>
            </p:nvSpPr>
            <p:spPr>
              <a:xfrm>
                <a:off x="2219040" y="6015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8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2" y="11"/>
                    </a:lnTo>
                    <a:lnTo>
                      <a:pt x="15" y="10"/>
                    </a:lnTo>
                    <a:lnTo>
                      <a:pt x="18" y="5"/>
                    </a:lnTo>
                    <a:lnTo>
                      <a:pt x="19" y="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64"/>
            <p:cNvGrpSpPr/>
            <p:nvPr/>
          </p:nvGrpSpPr>
          <p:grpSpPr>
            <a:xfrm>
              <a:off x="2232360" y="607320"/>
              <a:ext cx="9360" cy="7200"/>
              <a:chOff x="2232360" y="607320"/>
              <a:chExt cx="9360" cy="7200"/>
            </a:xfrm>
          </p:grpSpPr>
          <p:sp>
            <p:nvSpPr>
              <p:cNvPr id="588" name="Freeform 74"/>
              <p:cNvSpPr/>
              <p:nvPr/>
            </p:nvSpPr>
            <p:spPr>
              <a:xfrm>
                <a:off x="2232360" y="60732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2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65"/>
            <p:cNvGrpSpPr/>
            <p:nvPr/>
          </p:nvGrpSpPr>
          <p:grpSpPr>
            <a:xfrm>
              <a:off x="2248200" y="619200"/>
              <a:ext cx="6840" cy="3600"/>
              <a:chOff x="2248200" y="619200"/>
              <a:chExt cx="6840" cy="3600"/>
            </a:xfrm>
          </p:grpSpPr>
          <p:sp>
            <p:nvSpPr>
              <p:cNvPr id="590" name="Freeform 73"/>
              <p:cNvSpPr/>
              <p:nvPr/>
            </p:nvSpPr>
            <p:spPr>
              <a:xfrm>
                <a:off x="2248200" y="61920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0"/>
                    </a:moveTo>
                    <a:lnTo>
                      <a:pt x="5" y="0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5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66"/>
            <p:cNvGrpSpPr/>
            <p:nvPr/>
          </p:nvGrpSpPr>
          <p:grpSpPr>
            <a:xfrm>
              <a:off x="2245680" y="615960"/>
              <a:ext cx="9360" cy="6120"/>
              <a:chOff x="2245680" y="615960"/>
              <a:chExt cx="9360" cy="6120"/>
            </a:xfrm>
          </p:grpSpPr>
          <p:sp>
            <p:nvSpPr>
              <p:cNvPr id="592" name="Freeform 72"/>
              <p:cNvSpPr/>
              <p:nvPr/>
            </p:nvSpPr>
            <p:spPr>
              <a:xfrm>
                <a:off x="2245680" y="61596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5" y="15"/>
                    </a:lnTo>
                    <a:lnTo>
                      <a:pt x="10" y="8"/>
                    </a:lnTo>
                    <a:lnTo>
                      <a:pt x="20" y="8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Group 67"/>
            <p:cNvGrpSpPr/>
            <p:nvPr/>
          </p:nvGrpSpPr>
          <p:grpSpPr>
            <a:xfrm>
              <a:off x="2259000" y="624600"/>
              <a:ext cx="9360" cy="7200"/>
              <a:chOff x="2259000" y="624600"/>
              <a:chExt cx="9360" cy="7200"/>
            </a:xfrm>
          </p:grpSpPr>
          <p:sp>
            <p:nvSpPr>
              <p:cNvPr id="594" name="Freeform 71"/>
              <p:cNvSpPr/>
              <p:nvPr/>
            </p:nvSpPr>
            <p:spPr>
              <a:xfrm>
                <a:off x="2259000" y="62460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68"/>
            <p:cNvGrpSpPr/>
            <p:nvPr/>
          </p:nvGrpSpPr>
          <p:grpSpPr>
            <a:xfrm>
              <a:off x="227160" y="633240"/>
              <a:ext cx="3561480" cy="5851800"/>
              <a:chOff x="227160" y="633240"/>
              <a:chExt cx="3561480" cy="5851800"/>
            </a:xfrm>
          </p:grpSpPr>
          <p:sp>
            <p:nvSpPr>
              <p:cNvPr id="596" name="Freeform 69"/>
              <p:cNvSpPr/>
              <p:nvPr/>
            </p:nvSpPr>
            <p:spPr>
              <a:xfrm>
                <a:off x="2273400" y="6332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5"/>
                    </a:lnTo>
                    <a:lnTo>
                      <a:pt x="14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7" name="Picture 70" descr=""/>
              <p:cNvPicPr/>
              <p:nvPr/>
            </p:nvPicPr>
            <p:blipFill>
              <a:blip r:embed="rId2"/>
              <a:stretch/>
            </p:blipFill>
            <p:spPr>
              <a:xfrm>
                <a:off x="227160" y="637560"/>
                <a:ext cx="3561480" cy="5847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98" name="TextBox 142"/>
          <p:cNvSpPr/>
          <p:nvPr/>
        </p:nvSpPr>
        <p:spPr>
          <a:xfrm>
            <a:off x="5006880" y="91908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143"/>
          <p:cNvSpPr/>
          <p:nvPr/>
        </p:nvSpPr>
        <p:spPr>
          <a:xfrm>
            <a:off x="5192640" y="3114720"/>
            <a:ext cx="34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144"/>
          <p:cNvSpPr/>
          <p:nvPr/>
        </p:nvSpPr>
        <p:spPr>
          <a:xfrm>
            <a:off x="5192640" y="4351320"/>
            <a:ext cx="32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to Global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41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9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comments" Target="../comments/comment14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C06BBC-C8AB-45AA-AAC0-C79B102EE8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419720" y="46479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lobal Marke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apter 1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9" name="Picture 5" descr="I:\Keegan_CO1c Components\K&amp;G Cover.tif"/>
          <p:cNvPicPr/>
          <p:nvPr/>
        </p:nvPicPr>
        <p:blipFill>
          <a:blip r:embed="rId1"/>
          <a:stretch/>
        </p:blipFill>
        <p:spPr>
          <a:xfrm>
            <a:off x="0" y="0"/>
            <a:ext cx="3289320" cy="6858000"/>
          </a:xfrm>
          <a:prstGeom prst="rect">
            <a:avLst/>
          </a:prstGeom>
          <a:ln w="0">
            <a:noFill/>
          </a:ln>
        </p:spPr>
      </p:pic>
      <p:sp>
        <p:nvSpPr>
          <p:cNvPr id="1270" name="TextBox 2"/>
          <p:cNvSpPr/>
          <p:nvPr/>
        </p:nvSpPr>
        <p:spPr>
          <a:xfrm>
            <a:off x="5500800" y="3730680"/>
            <a:ext cx="349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Box 1"/>
          <p:cNvSpPr/>
          <p:nvPr/>
        </p:nvSpPr>
        <p:spPr>
          <a:xfrm>
            <a:off x="5354640" y="131436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cDonald’s Global Mark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9" name="Content Placeholder 6" descr="md2.jpg"/>
          <p:cNvPicPr/>
          <p:nvPr/>
        </p:nvPicPr>
        <p:blipFill>
          <a:blip r:embed="rId1"/>
          <a:srcRect l="0" t="-15201" r="0" b="-1520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9360">
            <a:solidFill>
              <a:srgbClr val="c4bd9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Importance of Going Glob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4bd97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 U.S. companies, 75% of total world market for goods and services is outside the count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ca-Cola earns 75% of operating income and 2/3 of profit outside of North Amer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 Japanese companies, 90% of world market is outside the count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4% of market potential is outside of Germany for its companies even though it is the largest EU mark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Big Is The Global Mark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3" name="Content Placeholder 4" descr="Table1-4.jpg"/>
          <p:cNvPicPr/>
          <p:nvPr/>
        </p:nvPicPr>
        <p:blipFill>
          <a:blip r:embed="rId1"/>
          <a:srcRect l="0" t="-27872" r="0" b="-27872"/>
          <a:stretch/>
        </p:blipFill>
        <p:spPr>
          <a:xfrm>
            <a:off x="355680" y="1828800"/>
            <a:ext cx="8229600" cy="4525920"/>
          </a:xfrm>
          <a:prstGeom prst="rect">
            <a:avLst/>
          </a:prstGeom>
          <a:ln w="9360">
            <a:solidFill>
              <a:srgbClr val="c4bd9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ement Ori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4bd97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thnocentric 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me country is superior to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es only similarities in other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sumes products and practices that succeed at home will be successful everywher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ads to a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tens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ement Ori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ycentric 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ach country is u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ach subsidiary develops its own unique business and marketing strate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ften referred to a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ltin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ads to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calized or adapt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pproac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at assumes products must be adapted to local market 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ement Ori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iocentric 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region is the relevant geographic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: The NAFTA or European Union mark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e companies serve markets throughout the world but on a regional ba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: General Motors had four regions for decad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5"/>
          <p:cNvSpPr/>
          <p:nvPr/>
        </p:nvSpPr>
        <p:spPr>
          <a:xfrm>
            <a:off x="3200400" y="5384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uropean 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ement Ori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ocentric 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tire world is a potential 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rives for integrated global strate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so known as a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 or transnational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tains an association with the headquarters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rsues serving world markets from a single country or sources globally to focus on select country mark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ads to a combination of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tension and adaptation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rces Affecting Global Integration &amp; Global Marke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ltilateral trade agre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verging market needs and wants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information rev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nsportation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unication improv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duct development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iving Forces Affecting Global Integration and Global Marketing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"/>
          <p:cNvSpPr txBox="1"/>
          <p:nvPr/>
        </p:nvSpPr>
        <p:spPr>
          <a:xfrm>
            <a:off x="4368960" y="1600200"/>
            <a:ext cx="431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Qual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&amp;D as a percent of s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orld economic tr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08 global cri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rowing middle class in China, India, Brazil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apid growth in China pre-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vement to free markets worldw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iving Forces Affecting Global Integration and Global Marketing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3263760" y="1692000"/>
            <a:ext cx="5423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ver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perience transf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e econom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source util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 strate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414000" y="1600200"/>
            <a:ext cx="827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 vs.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r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Scope of activities are outside the home-country 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4" name="Picture 5" descr=""/>
          <p:cNvPicPr/>
          <p:nvPr/>
        </p:nvPicPr>
        <p:blipFill>
          <a:blip r:embed="rId1"/>
          <a:stretch/>
        </p:blipFill>
        <p:spPr>
          <a:xfrm>
            <a:off x="685800" y="3011400"/>
            <a:ext cx="777240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training Forces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ffecting Global Integration and Global Marke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456840" y="1815840"/>
            <a:ext cx="50418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agement myop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ganizational 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ational contr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position to glob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MARK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value for customers by improving benefits or reducing pr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ve the produ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d new distribution chann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better commun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t monetary and non-monetary costs and pr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Text Box 38"/>
          <p:cNvSpPr/>
          <p:nvPr/>
        </p:nvSpPr>
        <p:spPr>
          <a:xfrm>
            <a:off x="2577960" y="5195880"/>
            <a:ext cx="356868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Value=Benefits/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456840" y="1599840"/>
            <a:ext cx="8217000" cy="4343400"/>
          </a:xfrm>
          <a:prstGeom prst="rect">
            <a:avLst/>
          </a:prstGeom>
          <a:noFill/>
          <a:ln w="9360">
            <a:solidFill>
              <a:srgbClr val="c4bd97"/>
            </a:solidFill>
            <a:miter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Economic globalization constitut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integration of national economies into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international economy through trade, direc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foreign investment (by corporations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multinationals), short-term capital flow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international flows of workers and human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generally, and flows of technology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New Times Roman"/>
              </a:rPr>
              <a:t>~Jagdish Bhagwait~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INDUST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457200" y="159984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industry is global to the extent that a company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industry position in one country is interdependent with its industry position in anoth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TextBox 3"/>
          <p:cNvSpPr/>
          <p:nvPr/>
        </p:nvSpPr>
        <p:spPr>
          <a:xfrm>
            <a:off x="847800" y="2990880"/>
            <a:ext cx="71276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dicators of global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atio of cross-border investment to total capital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oportion of industry revenue generated by all companies that compete in key world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atio of cross-border trade to worldwide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Box 5"/>
          <p:cNvSpPr/>
          <p:nvPr/>
        </p:nvSpPr>
        <p:spPr>
          <a:xfrm>
            <a:off x="3267000" y="5533920"/>
            <a:ext cx="2800440" cy="91692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ca Cola spent $5 billion worldwide on promotions and marketing in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ETITIVE ADVANTAGE, GLOBALIZATION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amp; GLOBAL INDUST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centration and attention on core business and compe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stle is focused: We are food and beverages. We are no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unning bicycle shops. Even in food we are not in all field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re are certain areas we do not touch…We have no sof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inks because I have said we will either buy Coca-Cola 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 leave it alone. This is focus.</a:t>
            </a:r>
            <a:r>
              <a:rPr b="1" i="1" lang="ja-JP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lmut Maucher, former chairman of Nestlé S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~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 MARKETING: What It Is &amp; What It Isn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ngle Country Marketing Strate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arget Market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rketing Mix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mo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 Marketing Strate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 Market Particip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rketing Mix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 P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: Adapt or Standardiz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centration of Market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ordination of Market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gration of Competitive Mo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NDARDIZATION vs. ADAP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4bd97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izatio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Standard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ing standardized products marketed worldwide with a standardized marketing mi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ssence of mass mark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 localizatio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dap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xing standardization and customization in a way that minimizes costs while maximizing satisf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ssence of seg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ink globally, act lo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NDARDIZATION vs. ADAP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Faces of Coca-Cola Around the Wor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3" name="Picture 4" descr=""/>
          <p:cNvPicPr/>
          <p:nvPr/>
        </p:nvPicPr>
        <p:blipFill>
          <a:blip r:embed="rId1"/>
          <a:srcRect l="-5202" t="0" r="-5202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294" name="Text Box 6"/>
          <p:cNvSpPr/>
          <p:nvPr/>
        </p:nvSpPr>
        <p:spPr>
          <a:xfrm>
            <a:off x="2768760" y="2505240"/>
            <a:ext cx="198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rab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ad 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9"/>
          <p:cNvSpPr/>
          <p:nvPr/>
        </p:nvSpPr>
        <p:spPr>
          <a:xfrm>
            <a:off x="3568680" y="27432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Text Box 7"/>
          <p:cNvSpPr/>
          <p:nvPr/>
        </p:nvSpPr>
        <p:spPr>
          <a:xfrm>
            <a:off x="2017800" y="4432320"/>
            <a:ext cx="2630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ine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licious/happiness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Line 8"/>
          <p:cNvSpPr/>
          <p:nvPr/>
        </p:nvSpPr>
        <p:spPr>
          <a:xfrm>
            <a:off x="3276720" y="4660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5:29:12Z</dcterms:created>
  <dc:creator>Jill Solomon</dc:creator>
  <dc:description/>
  <dc:language>en-US</dc:language>
  <cp:lastModifiedBy>User</cp:lastModifiedBy>
  <dcterms:modified xsi:type="dcterms:W3CDTF">2014-02-05T10:30:43Z</dcterms:modified>
  <cp:revision>55</cp:revision>
  <dc:subject/>
  <dc:title>PowerPoint Presentation</dc:title>
</cp:coreProperties>
</file>