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ate Stephenson" initials="K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2-04-05T12:15:08.636000000" idx="1">
    <p:pos x="10" y="10"/>
    <p:text>In the notes, second paragraph: 
"the figure was 26 percent"
To what does figure refer?
Also, in the next sentence: 
"40-year period"
Given the dates that are mentioned, there is only about a 22 year span. Please review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AE59C-64E0-4A4A-90AE-2DC86B458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2F246-15F4-4ECE-BEE5-9B0BC7F53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EC923-5EE0-4B8E-A9C6-3AA4F21F7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017D7-B300-4994-8272-646804A1C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F4E8B-3F85-4BAF-9506-B14D4665A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B4383-7C22-4D2A-B777-6DC70504A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CD816-2C80-4629-92F4-43C484AAA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4358C-4A53-4A47-B871-2DE9B625E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E86FF-EA99-4AB5-8C86-54EC6BBF0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77D99-2010-4978-8F86-6EDFDA2B5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6254A-6F8E-4DFF-8A13-C9B3692BE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4D3DD-B4E2-4A85-96A5-A889583FA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85A6E-8B35-4DDF-8025-A1DDBEC73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72F5D-083F-45BC-9B14-42F53279D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82098-4419-4123-B831-4EE47B0BE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18C6A-9F71-4F18-B30A-A4FE7C23E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56930-F014-4F24-B417-79373B434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94013-F454-4883-9B86-8DA4A8355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5DBC2-328E-408F-9280-0D9CAD80D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FB14B-4FEA-4F41-BE96-F42CCDB5C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1B8FE-5D0F-440F-8FD3-F65FF7A6F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11FC5-27A0-4FFD-9EDC-AAE177A05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6195C-5F07-4D05-A7A6-7D062E1C3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217DB-E709-43E3-854F-89B43A188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F8067-553B-401B-9C3D-C26ED80F7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301A8-F41E-4861-A9FD-57B6C5743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95D1B-4115-484F-821F-EB8915D9F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C7630-D7AA-405A-A656-C600CFCEB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109-AE76-42BF-9688-B8057568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ECF-648C-4985-ACBB-C307AF4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B2C-04F1-4465-B125-94167BDF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97A-D3C7-4087-997A-A2CE702B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A542-8AD3-4F2B-8A2B-D1E8FC13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5276-9EB8-4871-BAD0-454E191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BF98-8DFE-46F9-981D-3F9C39F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D100-DACF-4115-A8AD-4DC3D937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F6DF-AEAC-4CE8-9E4A-ED08055E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CAEF-8133-424F-9C75-8B8D4A9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82B-2CA8-4385-866B-968B3B9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EE7-F60D-4D1D-B57E-52BC69C1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65D-060D-445C-84FD-F051835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5D6B-1A2B-4356-9223-5524EBE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47D1-2511-4178-86E4-5F17623B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586-BED6-4369-AC05-A83239AB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D88E-92C6-455F-B1BC-31C74B6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ABC-B437-4B8B-81F7-FD99E285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3E3-922F-4252-B536-7AFB1F9B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A4F-8169-45DD-9F50-8CA0B55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D15-B070-465A-96AA-E28B2B7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C19-3053-4920-9789-7CFB269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3A1-74D4-4429-8430-5C279AE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BCB-2B0D-469B-8055-2D08F47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2B2D6-65F2-44BC-8828-C870F3DC2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Rectangle 141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42A50-72C4-4EFD-B915-EEAFE6ACF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0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1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3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5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27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29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1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3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5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37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9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1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3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5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47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49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1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3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5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57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59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1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3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5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67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69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1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3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6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79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1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3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5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87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0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3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6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298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0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2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5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08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1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4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17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19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1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3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5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27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29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1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3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5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37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39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1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3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5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47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49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1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3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5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56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57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59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1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3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65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67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69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1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3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75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77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79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1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3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85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87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89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1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3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395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397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399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1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3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05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07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09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2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15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17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19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1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3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26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29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2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34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36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1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44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47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0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3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55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57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59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1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3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65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67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69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1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3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75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77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79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1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3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85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87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89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0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7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F269777-9E69-4EED-AC45-488938137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ally Planned 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system in which command resource allocation is used extensively in an environment of private resource ow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ish government controls 2/3s of all spending; a hybrid of CPS and capit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ish government plans move towards priva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50FAE8D-100C-4511-A53E-E2B98B5A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Free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nkings of economic freedom among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” “mostly free” “mostly unfree” “represse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s considered include such things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xatio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ital flows and foreign 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nking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ge and price contr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erty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ack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019920" y="4724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C89D0C3-2AED-4A6B-877B-318B31972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Freedom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1 Rank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722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ng K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hr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191120" y="177804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kmenis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or-L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. Rep. Con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rit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mbab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69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th Ko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609480" y="6248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anked: Afghanistan, Iraq, Liechtenstein, Su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35D94BE-5265-4DCB-A3D8-D7A676D6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f Marke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Bank has defined four categories of development using Gross National Income (GNI) as a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identified 10 years ago, were countries in Central Europe, Latin America, and Asia that were to have rapid economic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day, the focus is 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azil, Russia, India, and 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CF762CAF-8308-4EA0-A4BD-03975E65D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9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124080" y="22417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P per capita of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6 or 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ited industr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percentage of population in fa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birth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literac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vy reliance on foreign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tical instability and un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ed in Sub-Sahara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zbekistan and Turmenis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28600" y="6127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0C5AEB6-F2CC-4A23-9B0D-58D3E38B7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-Middle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I per capita: $996 to $3,9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ly expanding consumer 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eap lab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ure, standardized, labor-intensive industries like footwear, textiles and to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C nations are India, Ch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65050CC-42FA-49BF-8549-CCD2BA24E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3656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per-Middle-Income Count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5244840"/>
            <a:ext cx="86104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o called newly industrializing economies (NI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: Brazil, Russia, Malaysia, Chile, Venezuela, Hungary, Mex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4"/>
          <p:cNvSpPr/>
          <p:nvPr/>
        </p:nvSpPr>
        <p:spPr>
          <a:xfrm>
            <a:off x="4127400" y="1320840"/>
            <a:ext cx="45338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P per capita: $3,946 to $12,1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ly industrializing, less agricultural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ing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sing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literacy rates and advance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wage costs than advanc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901800" y="450864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ean copper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2674AE8-461C-49B0-BD00-3965F406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Opportunities in LD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zed by a shortage of goods and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ng-term opportunities must be nurtured in these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 beyond per capita GN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the LDCs collectively rather than individu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first mover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realistic dead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B3376B66-A3B9-4DA4-B307-DC2308A80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taken Assumptions about LD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or have no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or will not “waste” money on non-essential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tering developing markets is fruitless because goods there are too cheap to make a prof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ople in BOP (bottom of the pyramid) countries cannot use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mpanies doing business in BOP countries will be seen as exploiting the po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65C90BE-01C5-485C-B20F-D81C14AF4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895120" y="16765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I per capita: $12,196 or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o known as advanced, developed, industrialized, or postindustrial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stained economic growth through disciplined inno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ice sector is more than 50% of G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seholds have high ownership levels  of basic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7621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467EF03-E450-480C-903C-DBB176CD0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797280" y="2057400"/>
            <a:ext cx="534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hap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 of the world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survey of economic system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tages of mark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alance of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F294E41-FD22-452E-8559-3CC372343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Incom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, continu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ortance of information processing and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cendancy of knowledge over capital, intellectual over machine technology, scientists and professionals over engineers and semiskilled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ture 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ortance of interpersonal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D795368-02CC-4CED-9049-C360C446E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-8, the Group of E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 of global economic stability and prosp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ssia (199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3962520" y="5943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1 G-8 Leaders in Deauville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5A32768-CCC4-451F-8FD2-7901118FF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ECD, the Organization for Economic Cooperation and Developm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t-WW II Europea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, U.S. (1961), Japan (19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motes economic growth and social well-b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es on world trade, global issues, labor market de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-bribery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8AFBA6AC-ECF1-4E2D-B84D-4ECB5F3FD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Tria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, Western Europe, and Ja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ents 75% of world in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ed Triad includes all of North America and the Pacific Rim and most of Easter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mpanies should be equally strong in each p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3CA8319-898B-4AF8-88BC-184F72ADC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 Saturation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% of potential buyers or households who own a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a: 20% of people have tele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s: 1 per 43,000 Chinese; 21 per 100 Poles; 8 per 1,000 Ind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uters: 1 PC per 6,000 Chinese; 11 PCs per 100 Poles; 34 PCs per 100 EU citiz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E0CA47D-0E1F-43F9-BB87-C2F2EEB30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of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cord of all economic transactions between the residents of a country and the rest of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account–record of all recurring trade in merchandise and services, and humanitarian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 deficit—negative current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 surplus—positive current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ital account–record of all long-term direct investment, portfolio investment, and capital fl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C0081C9-1317-4CC5-9798-5BC9B3D5D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of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0" y="1765440"/>
            <a:ext cx="9144000" cy="41716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119CCF5-20FC-40C7-A72D-283803FD3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p Exporters and Importers in 20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0" y="2263680"/>
            <a:ext cx="9144000" cy="316548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F32EC37-765A-47D3-B54C-41BE7F1F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8884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view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tional Fi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eign exchange makes it possible to do business across the boundary of a national curren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cy of various countries are traded for both immediate (spot) and future (forward)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cy risk adds turbulence to global comm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7E2368F-B744-4668-99A1-69AC28A0D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eign Exch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 Dynam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and Demand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ntry sells more goods/services than it bu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is a greater demand for the curr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urrency will appreciate in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change Risks and Gains in Foreign 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1"/>
          <a:stretch/>
        </p:blipFill>
        <p:spPr>
          <a:xfrm>
            <a:off x="0" y="4114800"/>
            <a:ext cx="9151920" cy="18874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3427B8D-B017-41F8-9BFA-910F7A53E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406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he 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entury economic integration was at 10%; today it is 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 and NAFTA are very integ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mpetitors have displaced or absorbed local 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A81D6E8-30B7-47E9-B003-A309D22D2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aging Economic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2147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expos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fers to the impact of currency fluctuations on the present value of the company’s future cash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categories of economic expos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action expo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from sales/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l operating expo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rises when currency fluctuations, together with price changes, alter a company’s future revenues and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C7EF62E-7C3B-4D73-9896-8DFDC3797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aging Economic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erous techniques and strategies have been developed to reduce exchange rate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dg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volves balancing the risk of loss in one currency with a corresponding gain in another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ward Contra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et the price of the exchange rate at some point in the future to eliminate some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26FA977-62E3-41EA-A92D-1A01D718B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Global Trad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2106BEC-E066-4F88-8961-5456B97CF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11360" y="304560"/>
            <a:ext cx="8161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27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ew rea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ital movements have replaced trade as the driving force of the world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ion has become uncoupled from 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, not individual countries, is the dominating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B4A3444-CD2B-48F6-8D59-1A204DD0D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Econom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ew realities, continu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5-year struggle between capitalism and socialism has almost e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-Commerce diminishes the importance of national barriers and forces companies to re-evaluate business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88D5503-683A-4C37-80B8-367A627D8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2514600" y="3276720"/>
            <a:ext cx="5715000" cy="2666880"/>
          </a:xfrm>
          <a:prstGeom prst="rect">
            <a:avLst/>
          </a:prstGeom>
          <a:solidFill>
            <a:srgbClr val="b6b6ce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514600" y="2362320"/>
            <a:ext cx="52578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our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arket                       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5181480" y="3276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 flipH="1">
            <a:off x="2514240" y="46483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04920" y="3505320"/>
            <a:ext cx="198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2819520" y="35812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048120" y="3657600"/>
            <a:ext cx="1523880" cy="642600"/>
          </a:xfrm>
          <a:prstGeom prst="rect">
            <a:avLst/>
          </a:prstGeom>
          <a:solidFill>
            <a:srgbClr val="b6b6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048120" y="4952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5943600" y="35812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rally Planned Capit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5943600" y="4952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rally Planned Soci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2819520" y="35812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130ED5D-0DBA-468A-951B-5732C4A39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 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viduals and firms alloc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ion resources are privately ow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en by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’s role is to promote competition among firms and ensure consumer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7D2BB83-B189-49AE-A183-3465790A1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stern Market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457200" y="1600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Type of System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Key Characteristics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253f61"/>
                </a:solidFill>
                <a:latin typeface="Calibri"/>
              </a:rPr>
              <a:t>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 flipH="1">
            <a:off x="60948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09480" y="2320920"/>
            <a:ext cx="876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lo-Sax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own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US, Canada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enterpri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Great Bri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al social safety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 Mark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own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France, Germ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y 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lexible employment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icies, “social partn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dic 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 of state and 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eden,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, large safety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 flipH="1">
            <a:off x="457200" y="35053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H="1">
            <a:off x="456840" y="5029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98C640B-0CCC-4105-88A7-850FF9C01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ally Planned 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posite of market capit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e holds broad powers to serve the public interest; decides what goods and services are produced and in what quant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mers can spend only what is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 owns entire industries and controls distrib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and typically exceeds supp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ttle reliance on product differentiation, advertising, pricing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, India, and the former USSR now moving towards some market allocation and private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1:01Z</dcterms:modified>
  <cp:revision>59</cp:revision>
  <dc:subject/>
  <dc:title>PowerPoint Presentation</dc:title>
</cp:coreProperties>
</file>