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055BD-1FF8-4855-8B0C-6E17B3D42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1D2D9-410E-4683-92B5-9BC814899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BC369-0D7D-452D-A219-1B1AE1C72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280CA-452E-4BA7-85C5-FE61F282B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802A0-D91F-4325-8C56-CA0A5E4AB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F3D98-0F89-4571-AA0C-29B71F199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BF4E8-AAF8-459C-A4CD-F72CDAC37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08F82-3C8C-4488-9D90-8662F3317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7F6F5-D9F1-440E-8809-65352F7D7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7F17E-E922-417F-90CE-93D03A57B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35B67-8A3C-4085-8750-8CD07E7F7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856C3-7677-4B3B-BE72-F31E0774E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778E9-4C1D-4670-A226-3A3FE8776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4ABB7-DFE1-4130-855E-4566BD37B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E2CB5-8014-422E-B475-288E5A741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DD8DE-A937-429B-8536-3201CF3B8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1AB5C-39F8-42CB-9693-8E95B4E73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B1530-0B1E-47AE-8C50-1AFF555E8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60C66-38EB-468C-9188-D639E109A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56AA3-B797-4A10-8618-0FFE016C0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E97CB-1362-4DCF-AB5E-7F0896BA0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6F1EC-2CDB-4B37-B795-12A1AC61E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240B9-4731-44BB-A0AC-6A31D20FA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6FB-D553-4971-A0C6-1868510D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A1F-5D51-4E47-BA3C-A1C2743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898-22F7-46C5-BB97-0731027E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7F5-591D-44C8-92F8-0B57AA3A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73A-F1A1-440F-A3A2-51031BAB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5954-F082-4E6C-9537-A746D65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E4E7-983D-4D76-8886-66BED102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6FFE-D242-453B-94F4-975B3C0E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9CDD-31F6-413C-84F1-FAE62A9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3A3E-AFE7-40B0-8D6E-18103F3E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383-47A5-446F-A3D1-FFEC38A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8CD-0ED9-416F-8E91-4AD42C4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CC10-E027-4FA8-8C59-96520726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1BEC-31CA-4B34-9C57-B4D690B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41AA-58CE-42E1-B052-0C12769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AF96-EE59-4E02-AB0E-F3F0A681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0E79-D354-4DC7-A070-84D3869A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C00-A202-4314-BBBC-90D0057F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F9671-9CE5-40F3-8AB7-FF74E14317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4DC05-D061-4015-A9F4-62C7C1A569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95529-5D02-4252-B308-1ABFB9DB8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91E-FDEE-4FE4-A9C8-9B2C0CF5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7B36A-C280-403F-A829-3C5245511F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C73B3-E8FD-459C-826B-777A01317C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B95BD-B985-4D53-995A-F7E4934ED4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72523-F53E-4665-90AB-B8EFB06455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DDF49-EE39-4802-99FC-57A480BD4C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0D799-04F1-415C-9155-8BC89CCB51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2E744-1A6A-4171-9D56-DAB19487B2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8E462-17E4-4836-9D05-BD4E98A1C9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2C36E-2F71-4ED9-A221-34973B356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A9C-47CB-4695-825F-4D92A536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78A-F9B8-4A17-97A9-8B42B9D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B53-02A8-4B29-A9AB-1C8C6DF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D09-6D1F-4F03-B5DF-A12B4D8C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798-5893-4EA5-AF68-4343420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1E4AB-2F0B-4CD5-978B-19FF115A2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lobal Trad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D5939-9D24-427F-9692-F63FC0D2A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3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4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6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8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30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32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4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6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8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40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42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4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6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8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50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52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4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6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8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60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62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4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6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8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70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72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4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6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9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82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4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6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8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90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3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6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9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301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3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5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8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11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4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7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20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22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4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6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8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30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32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4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6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8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40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42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4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6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8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52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4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6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8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lobal Trad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62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63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65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7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9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71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73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75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7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9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81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83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85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7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9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91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93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95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7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9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01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05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7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9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11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13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15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8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21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23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25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7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9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32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35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8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40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42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44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7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50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53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6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9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61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63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65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7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9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71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73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75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7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9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81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83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85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7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9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91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93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95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7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0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8CAE2D1-F508-4714-B3FE-947F6367D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lobal Trad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273DD2B-7E5B-4F3D-AE5D-060E3B1B1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s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olution of Free Trad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elimination of internal barriers to trade (as in F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es common external barriers 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: The EU and Turkey, the Andean Community, Mercosur, CARICOM, Central American Integration System (S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2DB19C37-40B2-47E2-8345-6177EEA29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elimination of internal barriers to trade (as in free trade are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stablishes common external barriers to trade (as in customs un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llows for the free movement of factors of production, such as labor, capital, a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EF8DCBB-3850-422B-98E7-2D4C8DE54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elimination of internal barriers to trade (as in free trade ar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stablishes common external barriers to trade (as in customs un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llows for the free movement of factors of production, such as labor, capital, and information (as in common marke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oordinates and harmonizes economic and social policy within the u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3153C16-46A3-4A5D-8FDD-98E30BA86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 evolution of economic u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ion of unified central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of single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policies on issues such as agriculture, social policy, transport, competition, mergers, ta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s extensive political 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uld lead to a central government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6781680" y="16002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uropean Union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6A97049-16E3-4B45-B732-264B78CBB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 Goods Exports in 200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$1.27 Trill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30400" y="2019240"/>
            <a:ext cx="33652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1638360" y="1417680"/>
            <a:ext cx="6019920" cy="52023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7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40D5A54-F272-4559-ADE5-0106E8FE9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 Goods Imported in 200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2.1 Trillion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282680" y="1604880"/>
            <a:ext cx="6594480" cy="52531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51E418E-2715-46CC-8419-F47C747DF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2880" y="304560"/>
            <a:ext cx="76197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in America: SICA, Andean Community, Mercosur, CARI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Caribbean, Central, and Sou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story of no growth, inflation, debt, and protectionism has given way to free markets, open economies, and de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concern for further growth with the rise of left-leaning politic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DC0A46E-0677-4BF3-9480-45C189A44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00200" y="151920"/>
            <a:ext cx="7619760" cy="12193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ntral American Integration System (SIC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 Salvador, Honduras, Guatemala, Nicaragua, Costa Rica, and Pa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ving towards a common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External Tariff of 0 to 1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tains tariffs on goods also produced in importing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AA17E6A-CC1C-4F02-A966-02D589C9A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21932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ean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livia, Colombia, Ecuador, Pe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s U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bolished foreign exchange, financial and fiscal incentives, and export subsi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ed common external tarif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D2ED020-E21E-4279-A1DA-5A1E16659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Market of the South (MERCOSU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entina, Brazil, Paraguay, Uruguay, Venezu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s union, seeks to become common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 tariffs elimin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ed common external tariffs up to 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ime, factors of production will move freely through memb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livia, Chile, Ecuador, Per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ociate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e in free trade area but not customs u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4708E95-4F8D-4027-A163-DBA64C114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eral Agreement on Tariffs and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eaty among nations to promote trade among members established in 194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led trade disp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cked enforcement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d by World Trade Organization in 199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48FD222-BF1D-4609-A05F-8E2477623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OS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81160" y="1676520"/>
            <a:ext cx="8862840" cy="37591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682F43A-1183-4C31-B93E-1D2AB702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ibbean Community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Marke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ICO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457200" y="1514520"/>
            <a:ext cx="7881840" cy="520704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-33840" y="90360"/>
            <a:ext cx="92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rcosur, CARICOM, SICA, and the Andean Community are taking steps toward further intra-regional integration and also aligning with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D3356A5-33AC-40C8-A505-8BB63E379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I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510600" cy="40291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B095221-2B3F-4A07-AA24-7F8117144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ia-Pacific: The Association of Southeast Asian Nations (ASE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nei, Cambodia, Indonesia, Laos, Malaysia, Myanmar, Philippines, Singapore, Thailand, Viet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ing partners U.S., EU, Ch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ographically close; historically div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EAN plus six” (Japan, China, Korea, Australia, New Zealand, India) working towards an economic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CE3321D-D5A9-4667-8B19-B3B5EF603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1" descr=""/>
          <p:cNvPicPr/>
          <p:nvPr/>
        </p:nvPicPr>
        <p:blipFill>
          <a:blip r:embed="rId1"/>
          <a:stretch/>
        </p:blipFill>
        <p:spPr>
          <a:xfrm>
            <a:off x="457200" y="1587600"/>
            <a:ext cx="8556480" cy="403200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E9B367D-8154-49C0-8B1A-E396049E1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ld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largest container 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highest standard of living in the region behind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2 million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3% literacy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 3,000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ime is nearly  nonex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B29AD8C-0582-4BDC-891E-34E1175D6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European Union (EU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itially began with the 1958 Treaty of 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 is to harmonize national laws and regulations so that goods, services, people, and money could flow freely across national bound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5"/>
          <p:cNvSpPr/>
          <p:nvPr/>
        </p:nvSpPr>
        <p:spPr>
          <a:xfrm>
            <a:off x="736560" y="3924360"/>
            <a:ext cx="795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91 Maastricht Treaty set stage for transition to an economic union with a central bank and single currency (the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2CBD245-DC58-4FA8-AA37-01DF42A4D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7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0 million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15 trillion G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uro currency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ation of laws and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ce 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customs at national b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2ECBE9E-CDA1-4231-B662-F7A136795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48800" y="228240"/>
            <a:ext cx="754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Middle E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ghanistan, Bahrain, Cyprus, Egypt, Iran, Iraq, Israel, Jordan, Kuwait, Lebanon, Oman, Qatar, Saudi Arabia, Syria, the United Arab Emirates, Y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ily Arab, some Persian and J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% Muslim, 5% Christian and Jew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il prices drive comme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% of world’s oil in Saudi Ara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ab Spring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5A99966-1AF5-484B-BA68-4E53E8CA3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ulf Cooperation Coun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45720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ed in 1981 by 6 countries with 45% of world’s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countries are attempting to diversify indus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" descr=""/>
          <p:cNvPicPr/>
          <p:nvPr/>
        </p:nvPicPr>
        <p:blipFill>
          <a:blip r:embed="rId1"/>
          <a:stretch/>
        </p:blipFill>
        <p:spPr>
          <a:xfrm>
            <a:off x="165240" y="2044800"/>
            <a:ext cx="8680320" cy="30369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D008071-3320-44DE-9539-200C0192A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861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 Trade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um for trade-related negotiations among 153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in Gene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s as dispute mediator through DS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s enforcement power and can impose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BBC515E-8128-437E-97A1-6812ACF2A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4 nations over three distinct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ack Africa or sub-Sahara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na:  Middle East and North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ewed as a regional 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ion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omic Community of West African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st African Co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th African Development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409D7B7-81BA-4F84-99C1-C08F09E1E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and Cultural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31658D3-E630-4CF9-8023-BD5FFE8D2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2440" y="151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TO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7" descr=""/>
          <p:cNvPicPr/>
          <p:nvPr/>
        </p:nvPicPr>
        <p:blipFill>
          <a:blip r:embed="rId1"/>
          <a:stretch/>
        </p:blipFill>
        <p:spPr>
          <a:xfrm>
            <a:off x="0" y="1639800"/>
            <a:ext cx="9144000" cy="500544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C8E19BF-658A-444A-8BC4-C46841C8E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countries seek to lower barriers to trade within their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TAs give partners special treatment and may discriminate against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 300 PTAs have been notified to the W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ferential Trad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y of P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1816200" y="1600200"/>
            <a:ext cx="5143320" cy="43830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4"/>
          <p:cNvSpPr/>
          <p:nvPr/>
        </p:nvSpPr>
        <p:spPr>
          <a:xfrm>
            <a:off x="1816200" y="5983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T = Common External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A76A2E5-B437-45F8-8E47-6E0B67D0D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 Trad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276720" y="152388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wo or more countries agree to abolish tariffs and other barriers to trade amongst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ntries continue independent trade policies with countries outside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les of orig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ments restrict transshipment of goods from the country with the lowest tariff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0" y="6324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AFTA Protest in Ott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3EB6CB2-7A42-40CA-96F6-41566BB85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th America—NAF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, United States,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FTA established a free trade area in 19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380880" y="4419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04920" y="2971800"/>
            <a:ext cx="472428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ll three nations pledge to promote economic growth through tariff reductions and expanded trade and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o common external tar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strictions on labor and other movement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4673520" y="6400800"/>
            <a:ext cx="42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.S.-Mexico Border Cro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F8D0076-55DB-462E-8A9A-8D3BFEF00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FTA Income and 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1" descr=""/>
          <p:cNvPicPr/>
          <p:nvPr/>
        </p:nvPicPr>
        <p:blipFill>
          <a:blip r:embed="rId1"/>
          <a:stretch/>
        </p:blipFill>
        <p:spPr>
          <a:xfrm>
            <a:off x="0" y="2360520"/>
            <a:ext cx="9144000" cy="27878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1:46Z</dcterms:modified>
  <cp:revision>89</cp:revision>
  <dc:subject/>
  <dc:title>PowerPoint Presentation</dc:title>
</cp:coreProperties>
</file>