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721D9-8B42-4C58-A7D7-A0F74EBFB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93D8B-4BF8-4439-A8D3-D0C7DFFFA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8F45E-F46F-479B-8F28-4A43172CE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5BE18-5EBF-4E04-934D-7E2278EF1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1CD65-CA26-4442-8D2C-4E8586250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63A8C-836F-44A7-9080-91F701FB9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BE117-4423-4A6F-8011-6B8D05422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34C6C-A698-42B4-826B-48F44B0D4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52669-E8B6-436A-B4E9-093488CC8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26DD7-40DC-4205-9BC1-797A35FE6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83306-B69A-4156-8316-D34579A3C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B898B-19CE-486B-9FF4-69DB001EE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D8C92-C810-4682-9A5E-FE386BB53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9A9AA-7305-45CA-9044-E96EDE0A3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03A90-D3D4-4FC6-9A57-309D7A8A5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E30BA-0020-46A2-9EFB-9275E01A9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356E7-4C4A-4C8F-83E1-4D1425126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77614-9B8D-4787-8406-4B7230216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F5D9F-B3C1-4C4A-920B-F34A267DB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65C9D-792C-48DD-9456-85C8CA7A8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B8410-5674-4C4B-92D7-9409B7E28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13365-9070-4B2F-80EF-0967D1BD1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558F2-563D-4189-95E4-D0320D099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A44-8CAA-4472-BD11-33265422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0B1-6201-456E-B963-FD696446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E20-F134-420B-B140-E0AA5CDA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866-B21A-4FA1-B4FC-50E0DB54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D807-48C0-4960-8DD3-39E63318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DA72-6658-43B3-8878-FF3F4A5E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FC80-A42D-494D-8F75-6A9EC92E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915A-0A59-429D-AD5B-57DFEAC6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9C14-67B1-4D19-B733-60B55F5C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68C3-F7AB-42D0-AFFE-78D7E362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D632-8034-4E1D-A526-2F5A7DE3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A26-66CB-4BA1-8191-6FD3C02F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0511-1230-487B-942E-DAB51CD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E8E8-FD40-4442-AB14-05D2673F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977-12F9-487E-AFF2-A5802910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6939-4146-41E8-A852-BCC9EC57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C55D-B28A-4D7C-A31B-C4559EB4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EE6-4B2E-4DAA-905B-034B71BE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A641C-D20C-4EA7-BA27-4AA232ED87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9811A-ED16-4237-B0F6-07757994A3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5A803-7287-4D15-9A6D-2635B127E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0EC-F1A4-4E5B-9733-FD051236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54DEC-9245-471E-BF88-E45185070A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F45CC-DFD5-4AC9-838F-1CD7DCB844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16FAC-5372-4A61-8ECB-85AD9918C4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4069C-1C1D-4233-8137-0754A54AB4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6D6A8-439C-49D5-B0A5-BB4E36F96B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8F5EB-7133-4CC1-B53C-260DBEC7CB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14C17-2002-4C99-87FF-E366E05AAB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FD9B8-AD3E-4765-ADEA-FAAF27B66C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27E7F-C126-4268-8CA9-C2FCC0001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BB8-9AEB-42B3-9E60-052667B4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14F-C884-4957-BD47-17FB0F33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86B-1847-4834-83F7-0277C29B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C33-DFAF-4423-A7BE-FBFF13AD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B43-91A0-4BE7-9C6F-7683CF9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5C69A-7EA2-4DC4-89A5-FC734D517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lobal Trad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265B2-53CC-4C62-A9A2-64DA49A56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223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224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226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228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230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232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234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236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238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40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42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44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46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48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250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252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254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256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258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260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262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264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266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268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270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272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274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276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279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282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284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286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288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290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293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296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299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301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303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305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308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311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314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317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320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322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324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326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328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330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332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334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336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338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340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342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344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346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348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352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354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356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7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8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lobal Trad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362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363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365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367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369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371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373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375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377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379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381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383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385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387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89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91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93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95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7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399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01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05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07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409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411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413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415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418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421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423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425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427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429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432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435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438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440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442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444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447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450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453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456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459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461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463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465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467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469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471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473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475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477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479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481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483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485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487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489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491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493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495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6" name="Picture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7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0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EC4DFA9-4BE5-4113-A9D6-EBEEE2A5C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1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lobal Trad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269FF1C-A22C-4FD3-AE46-CBE98ED3C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s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olution of Free Trad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elimination of internal barriers to trade (as in F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es common external barriers to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s: The EU and Turkey, the Andean Community, Mercosur, CARICOM, Central American Integration System (S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A196870-DFBF-492C-ADB2-A722EB9E0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elimination of internal barriers to trade (as in free trade are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stablishes common external barriers to trade (as in customs un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llows for the free movement of factors of production, such as labor, capital, an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BBF2014-9CFC-4FB1-8C4C-8C9418FA2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elimination of internal barriers to trade (as in free trade ar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stablishes common external barriers to trade (as in customs un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llows for the free movement of factors of production, such as labor, capital, and information (as in common marke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oordinates and harmonizes economic and social policy within the u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BFE50DB-70E2-49C9-A81C-AF7551E85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 evolution of economic u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ion of unified central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of single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policies on issues such as agriculture, social policy, transport, competition, mergers, ta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ires extensive political 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uld lead to a central government 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6781680" y="16002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uropean Union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27CC40F3-CCE3-470F-8028-C4E3AEFB3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 Goods Exports in 200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$1.27 Trill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30400" y="2019240"/>
            <a:ext cx="33652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1638360" y="1417680"/>
            <a:ext cx="6019920" cy="52023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BE3752B-2570-4D0E-B56F-081F6DC39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 Goods Imported in 2009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2.1 Trillion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282680" y="1604880"/>
            <a:ext cx="6594480" cy="52531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CD03D35-5BC8-48C7-8B18-D6D08CE5B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12880" y="304560"/>
            <a:ext cx="76197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in America: SICA, Andean Community, Mercosur, CARI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Caribbean, Central, and Sou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story of no growth, inflation, debt, and protectionism has given way to free markets, open economies, and de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concern for further growth with the rise of left-leaning politicia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C44E952-DC8A-447A-9014-30B0D0A0A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00200" y="151920"/>
            <a:ext cx="7619760" cy="12193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ntral American Integration System (SIC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 Salvador, Honduras, Guatemala, Nicaragua, Costa Rica, and Pa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ving towards a common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External Tariff of 0 to 1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tains tariffs on goods also produced in importing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89593DD-0B75-4C59-8D01-7150BF4C6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121932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ean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livia, Colombia, Ecuador, Pe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s U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bolished foreign exchange, financial and fiscal incentives, and export subsi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ed common external tarif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4A8EF6D-F66A-4C04-8BB1-1B5841214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Market of the South (MERCOSU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entina, Brazil, Paraguay, Uruguay, Venezu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s union, seeks to become common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l tariffs elimin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ed common external tariffs up to 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time, factors of production will move freely through memb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livia, Chile, Ecuador, Per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ociate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te in free trade area but not customs u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D2B5F46-637C-4F5A-9ECC-BB32CBAF6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neral Agreement on Tariffs and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eaty among nations to promote trade among members established in 194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led trade disp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cked enforcement p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d by World Trade Organization in 199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34E3085-8F9C-4131-B332-13DE82631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RCOS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281160" y="1676520"/>
            <a:ext cx="8862840" cy="37591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51D3E20-3D97-4BD6-B200-C1093F5E9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ibbean Community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Marke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ICO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457200" y="1514520"/>
            <a:ext cx="7881840" cy="520704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3"/>
          <p:cNvSpPr/>
          <p:nvPr/>
        </p:nvSpPr>
        <p:spPr>
          <a:xfrm>
            <a:off x="-33840" y="90360"/>
            <a:ext cx="92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ercosur, CARICOM, SICA, and the Andean Community are taking steps toward further intra-regional integration and also aligning with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B36ACD5-1168-46CA-974A-60399AC8C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I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510600" cy="40291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AA73C22-D8E4-46BD-B5C3-9DECE848A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ia-Pacific: The Association of Southeast Asian Nations (ASE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nei, Cambodia, Indonesia, Laos, Malaysia, Myanmar, Philippines, Singapore, Thailand, Viet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ing partners U.S., EU, Ch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ographically close; historically div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EAN plus six” (Japan, China, Korea, Australia, New Zealand, India) working towards an economic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7EE503F-88A5-483E-80C7-3A2F22D1E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1" descr=""/>
          <p:cNvPicPr/>
          <p:nvPr/>
        </p:nvPicPr>
        <p:blipFill>
          <a:blip r:embed="rId1"/>
          <a:stretch/>
        </p:blipFill>
        <p:spPr>
          <a:xfrm>
            <a:off x="457200" y="1587600"/>
            <a:ext cx="8556480" cy="403200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4EC5DDD-A143-4CF4-94A3-FEEAF9F5E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ld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largest container 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highest standard of living in the region behind 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.2 million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3% literacy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 3,000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ime is nearly  nonex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DED05F7-D41D-4843-9F93-AB51E39F0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European Union (EU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itially began with the 1958 Treaty of 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 is to harmonize national laws and regulations so that goods, services, people, and money could flow freely across national bound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5"/>
          <p:cNvSpPr/>
          <p:nvPr/>
        </p:nvSpPr>
        <p:spPr>
          <a:xfrm>
            <a:off x="736560" y="3924360"/>
            <a:ext cx="795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91 Maastricht Treaty set stage for transition to an economic union with a central bank and single currency (the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DA607304-9A9C-4150-B642-F2A104654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uropean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7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0 million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15 trillion G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uro currency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ation of laws and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ce transpa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customs at national b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6AF7240-75ED-4614-A70D-4A7311A38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48800" y="228240"/>
            <a:ext cx="7543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Middle E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ghanistan, Bahrain, Cyprus, Egypt, Iran, Iraq, Israel, Jordan, Kuwait, Lebanon, Oman, Qatar, Saudi Arabia, Syria, the United Arab Emirates, Y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ily Arab, some Persian and J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% Muslim, 5% Christian and Jew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il prices drive comme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% of world’s oil in Saudi Ara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ab Spring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EB42401-EF6B-4FF8-89FE-AD452AA58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ulf Cooperation Counc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45720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ed in 1981 by 6 countries with 45% of world’s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countries are attempting to diversify indus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" descr=""/>
          <p:cNvPicPr/>
          <p:nvPr/>
        </p:nvPicPr>
        <p:blipFill>
          <a:blip r:embed="rId1"/>
          <a:stretch/>
        </p:blipFill>
        <p:spPr>
          <a:xfrm>
            <a:off x="165240" y="2044800"/>
            <a:ext cx="8680320" cy="30369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3FB957F-80DE-472C-B057-306CBA471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7861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Trade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um for trade-related negotiations among 153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d in Gene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s as dispute mediator through DS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s enforcement power and can impose sa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4347A06-DF3B-4629-A9E1-3CF69331A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4 nations over three distinct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ack Africa or sub-Saharan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na:  Middle East and North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ewed as a regional 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ion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Community of West African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st African Co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th African Development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D65FD86-5AAE-4A34-BF4E-CD50F6A5B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ing Ahead to Chapt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al and Cultural Enviro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2B8DDA4-909D-4AD9-A39A-EEC28CAF1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2440" y="151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TO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7" descr=""/>
          <p:cNvPicPr/>
          <p:nvPr/>
        </p:nvPicPr>
        <p:blipFill>
          <a:blip r:embed="rId1"/>
          <a:stretch/>
        </p:blipFill>
        <p:spPr>
          <a:xfrm>
            <a:off x="0" y="1639800"/>
            <a:ext cx="9144000" cy="500544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5575B6A-9BC6-4A42-8577-21AC164AD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countries seek to lower barriers to trade within their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TAs give partners special treatment and may discriminate against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 300 PTAs have been notified to the W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ferential Trade Agre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chy of P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1816200" y="1600200"/>
            <a:ext cx="5143320" cy="43830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4"/>
          <p:cNvSpPr/>
          <p:nvPr/>
        </p:nvSpPr>
        <p:spPr>
          <a:xfrm>
            <a:off x="1816200" y="5983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T = Common External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D64851A-A541-4A13-8E91-48821860D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ee Trad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276720" y="152388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wo or more countries agree to abolish tariffs and other barriers to trade amongst themsel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ntries continue independent trade policies with countries outside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les of orig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irements restrict transshipment of goods from the country with the lowest tariff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0" y="6324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AFTA Protest in Ott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C49330A-78FB-475A-8B47-AC3C3C134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th America—NAF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, United States, Me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FTA established a free trade area in 19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380880" y="4419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04920" y="2971800"/>
            <a:ext cx="472428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ll three nations pledge to promote economic growth through tariff reductions and expanded trade and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o common external tar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strictions on labor and other movement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4673520" y="6400800"/>
            <a:ext cx="42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.S.-Mexico Border Cro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D2C01DE-E25F-424B-9EC8-D95AC6885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FTA Income and Pop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Picture 1" descr=""/>
          <p:cNvPicPr/>
          <p:nvPr/>
        </p:nvPicPr>
        <p:blipFill>
          <a:blip r:embed="rId1"/>
          <a:stretch/>
        </p:blipFill>
        <p:spPr>
          <a:xfrm>
            <a:off x="0" y="2360520"/>
            <a:ext cx="9144000" cy="27878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1:46Z</dcterms:modified>
  <cp:revision>89</cp:revision>
  <dc:subject/>
  <dc:title>PowerPoint Presentation</dc:title>
</cp:coreProperties>
</file>