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C5459-4185-45F0-9400-EB4F67602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C24D7-5E40-4AE8-9E0D-E1193945E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4B62B-8E79-45D2-9435-DF5561D4F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3B27C-FDD6-4D1F-BABF-EAFB044D4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66B9C-3275-4437-9CC3-3891A8BAB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E696C-469C-445F-B9EB-E45D38ABA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72AC9-2A53-4452-A0D5-AED2BF72E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0C120-8C71-4CB1-8EE3-49F195F71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70814-5359-4BAA-8A71-24062AA9E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9F1F1-CD66-4F49-9002-BF53CD459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00784-11C7-4C80-9AA8-ED6B56B8C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E923C-990A-412B-8207-BEC38169B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1C278-896F-4AF9-9EDF-C1EAAFA9F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15D01-1E6E-4FD7-9CC7-9346EDAE5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08069-4A19-45BB-B72B-0C75E3577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702A3-C10C-4336-8249-A3F0901F0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1B506-4DC5-49D9-B6A5-900F75E9B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2DADE-036B-4A89-A21B-4EB6E7992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B51BB-617C-4D37-8767-74EFB57EE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D7E80-AAF9-446B-BDC9-8730348F5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8B3CB-22BB-474A-AE22-63B989470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E7F-722E-45DA-AC22-F841FE3E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C65-26AE-410F-8C75-3DA70F15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6CB-1E22-4EC3-8703-452AC3C1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8A5-52CF-44DB-BC75-25E3DA51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A2FB-F87A-4693-AB74-FC6A59A3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394C-4CC7-4DA1-A81C-13F62B50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A014-6C5C-4BFD-BEAA-FA82AA4C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44A6-9B71-42D7-AF31-DB3CD668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2712-0F92-43F9-BAAE-8D786201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D1D0-E4A1-4152-9093-9048D5E3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9406-F417-43FD-A63A-82679F59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466-F184-447B-85DA-FCEA98C8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C40A-CDD9-4768-9B30-45338455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0E7E-D969-4114-A86A-22151E4E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812C-964C-422B-B8FD-52812B33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8FA8-C289-428A-A589-F643A35E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93E4-CA0A-4743-A27C-D5F142D9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F0D-A9B2-424E-B1BF-21ACC253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0A1-8F2C-47E3-A210-42DC1223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3C0-855A-40C7-9236-64A9E70A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044-E847-4C5B-8CC3-50E183E8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51C-B8D1-4990-A7BE-67EF9EDE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DF2-C3E2-41AE-8551-31B9063F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BC6-BE18-4140-97F7-C99648C5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E9284-13BE-49D6-B691-B4B7E6033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4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5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7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9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11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13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15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17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19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1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3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5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7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9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1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3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5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7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41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43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45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47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9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51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53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55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57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60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63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65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67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69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71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74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77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80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82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84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86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89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92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95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98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101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103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105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107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109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111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113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115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117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119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121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123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125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127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129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131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133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135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137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&amp; Cultural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6" descr="Untitled.png"/>
          <p:cNvPicPr/>
          <p:nvPr/>
        </p:nvPicPr>
        <p:blipFill>
          <a:blip r:embed="rId2"/>
          <a:stretch/>
        </p:blipFill>
        <p:spPr>
          <a:xfrm>
            <a:off x="2687760" y="1490760"/>
            <a:ext cx="3539880" cy="5322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71803-72AD-4C13-A8E8-D1DFEF999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221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222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224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226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228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230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232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234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236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38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40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42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44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46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248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250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252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254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256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258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260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262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264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266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268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270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272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274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277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280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282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284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286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288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291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294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297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299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301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303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306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309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312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315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318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320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322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324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326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328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330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332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334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336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338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340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342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344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346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348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350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352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354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5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6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&amp; Cultural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360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361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363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365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367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369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371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373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375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377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379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381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383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385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87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89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91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93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5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397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399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401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403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05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407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409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411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413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416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419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421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423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425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427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430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433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436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438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440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442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445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448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451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454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457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459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461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463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465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467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469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471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473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475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477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479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481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483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485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487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489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491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493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4" name="Picture 7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5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Global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1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2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&amp; Cultural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orld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major religions include Buddhism, Christianity, Hinduism, Islam, and Judaism and are an important source of beliefs, attitudes, and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gious tenets, practices, holidays, and history impact global marketing activ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esth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ense of what is beautiful and what is not beauti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represents good taste as opposed to tastelessness or even obsce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sual–embodied in the color or shape of a product, label, or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yles–various degrees of complexity, for example, are perceived differently around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esthetics and 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–associated with blood, wine-making, activity, heat, and vibrancy in many countries but is poorly received in some African count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te–identified with purity and cleanliness in the West, with death in parts of As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ay–means inexpensive in Japan and China, but high quality and expensive in the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tary P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mino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Pizza pulled out of Italy because its products were seen as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o America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with bold tomato sauce and heavy topp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way had to educate Indians about the benefits of sandwiches because they do not normally eat bre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nguage and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60240" y="1600200"/>
          <a:ext cx="7772400" cy="4816440"/>
        </p:xfrm>
        <a:graphic>
          <a:graphicData uri="http://schemas.openxmlformats.org/drawingml/2006/table">
            <a:tbl>
              <a:tblPr/>
              <a:tblGrid>
                <a:gridCol w="3505320"/>
                <a:gridCol w="4267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Linguistic Catego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Language Examp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Syntax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rules of sentence 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English has relatively fixed word order; Russian has relatively free word ord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Semantics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system of 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Japanese words convey nuances of feeling for which other languages lack exact correlations;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yes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and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no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can be interpreted differently than in other languag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Phonology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system of sound patter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Japanese does not distinguish between the sounds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l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and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r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; English and Russian both have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l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and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r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sound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Morphology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word 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Russian is a highly inflected language, with six different case endings for nouns and adjectives; English has fewer inflec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7" name="Rectangle 23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ing’s Impact on 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versal aspects of the cultural environment represent opportunities to standardize elements of a marketing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ing travel and improved communications have contributed to a convergence of tastes and preferences in a number of product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- and Low-Context Cul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 resides in 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s on background, basic values, societal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s emphasis on legal paper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cus on personal repu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udi Arabia, Jap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ssages are explicit and specif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ds carry al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ance on legal paper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cus on non-personal documentation of cred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itzerland, U.S., Ger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-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-Context Cult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0" y="1603440"/>
            <a:ext cx="8962920" cy="488952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fsted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Cultural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wer D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ividualism/Collectiv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sculi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certainty Avoid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ng-term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lf-Reference Criter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Perce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conscious reference to on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own cultural values; creates cultural myop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to Reduce Cultural Myop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he problem or goal in terms of home country cultural tra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he problem in terms of host-country cultural traits; make no value jud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olate the SRC influence and examin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efine the problem without the SRC influence and solve for the host country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599840"/>
            <a:ext cx="53848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 chapter inclu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ety, Culture, and Consumer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ll’s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fsted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Cultural Typ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thnocentricity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lf-Reference Criter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slow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Hierarc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5"/>
          <p:cNvSpPr/>
          <p:nvPr/>
        </p:nvSpPr>
        <p:spPr>
          <a:xfrm>
            <a:off x="5842080" y="599112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rican Vi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Theory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Adoption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457200" y="15048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mental stages through which an individual passes from the time of his or her first knowledge of an innovation to the time of product adoption or purc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Theor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acteristics of Innov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novation is something new; five factors that affect the rate at which innovations are adopted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ve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vi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c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Theor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er Catego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Content Placeholder 3" descr="K&amp;G.tiff"/>
          <p:cNvPicPr/>
          <p:nvPr/>
        </p:nvPicPr>
        <p:blipFill>
          <a:blip r:embed="rId1"/>
          <a:srcRect l="0" t="-7433" r="0" b="-743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ing 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al factors must be considered when marketing consumer and industrial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vironmental sensitivity reflects the extent to which products must be adapted to the culture-specific needs of different national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vironmental Sensi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Content Placeholder 3" descr="K&amp;G4.tiff"/>
          <p:cNvPicPr/>
          <p:nvPr/>
        </p:nvPicPr>
        <p:blipFill>
          <a:blip r:embed="rId1"/>
          <a:srcRect l="-8221" t="0" r="-822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vironmental Sensi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pendent of social class and income, culture is a significant influence on consumption and purch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od is the most culturally-sensitive category of consumer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hydrated Knorr Soups did not gain popularity in the U.S. market that preferred canned s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rbucks overcame cultural barriers in Great Britain and had 466 outlets by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oking Ahead to Chapter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2776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olitical, Legal, and Regulatory Environments of Mark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sk of Global Mark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udy and understand the cultures of countries in which they will be doing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derstand how an unconscious reference to their own cultural values, or self-reference criterion, may influence their perception of the mark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orporate this understanding into the marketing planning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y, Culture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Consumer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–ways of living, built up by a group of human beings, that are transmitted from one generation to an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 has both conscious and unconscious values, ideas, attitudes, and symb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 is acted out in social institu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 is both physical (clothing and tools) and nonphysical (religion, attitudes, beliefs, and valu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Instit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se institu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nction to reinforce cultural n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terial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Nonmaterial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6840" y="1599840"/>
            <a:ext cx="28954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al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th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corative 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dy ado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960880" y="1599840"/>
            <a:ext cx="27255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bstract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lie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ety, Culture,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nsumer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 is the collective programming of the mind that distinguishes the members of one category of people from those of another.</a:t>
            </a:r>
            <a:r>
              <a:rPr b="1" i="1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rt Hofste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nation, an ethic group, a gender group, an organization, or a family may be considered as a categ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ety, Culture,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nsumer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nsumer cultures are emer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sons who share meaningful sets of consumption-related symb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 culture, coffee culture, fast-food culture, credit card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marily the product of a technologically  interconnected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tellit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ll ph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titudes, Beliefs, and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titude–learned tendency to respond in a consistent way to a given object or e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lief–an organized pattern of knowledge that an individual holds to be true about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ue–enduring belief or feeling that a specific mode of conduct is personally or socially preferable to another mode of condu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5:29:12Z</dcterms:created>
  <dc:creator>Jill Solomon</dc:creator>
  <dc:description/>
  <dc:language>en-US</dc:language>
  <cp:lastModifiedBy>User</cp:lastModifiedBy>
  <dcterms:modified xsi:type="dcterms:W3CDTF">2014-02-05T10:32:00Z</dcterms:modified>
  <cp:revision>45</cp:revision>
  <dc:subject/>
  <dc:title>PowerPoint Presentation</dc:title>
</cp:coreProperties>
</file>