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992D1-B1C5-4418-8528-79B164B26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1F532-9329-4EBF-BAA9-88BBF8FD0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280FE-F8F2-4901-9C65-44611047F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DF1B2-7C0D-4510-83AA-AC58B9B7F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EF639-50DC-4A9F-8413-9C2EA113D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AB31F-E95C-405F-95E3-7BA23B5BF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B34C0-99CD-43EE-B289-28B630CB6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A5C07-08E2-45EA-AD9B-A02C263AD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0F204-0810-4B59-A91A-24D8D07EE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9DA6F-E008-4F47-98F0-38A6579D7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379A3-DF1A-4321-9115-549170BF4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EAE5F-9F69-49E5-ACB4-A80921E82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46C55-8A1A-4CE1-A1AC-847D8770C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6F4CD-B253-4147-A41F-B56C821CC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79B67-9818-4915-AD54-4BB898AED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1A31E-AEDB-4E7B-ACEB-251F49CAD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AA731-DBC2-48E6-A84B-B684A8162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D0B45-81D2-4C7C-B595-E4D5005B8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20E6B-5DF8-4B4E-97F6-C86A7236D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4D0C6-33AC-462E-BE75-6CC906D57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D7B3D-5A1A-4541-B76B-CD1143231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3D3-B008-4C93-92B6-D99C6E7D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544-37E7-4F47-8EE8-880348AF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2AD-F3ED-4DA8-923B-626A3E73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6C4-E184-479A-83F5-8CE60784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67DF-48EF-4D2B-9374-240FEA44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BBFF-F994-4C83-BCF5-5FC179BB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613B-63E0-4E1E-9903-8D09C043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8FB4-8D26-4BB2-95A5-3E95DEB0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755E-BEA6-4A12-B050-C00BD013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0291-03BB-4496-A3B1-5F5523F4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453A-CF74-45D7-9E51-FD2F4391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49B-3B6F-42DD-AFA9-0A11934B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36AF-0AB6-417E-A470-66AA8186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3D65-C20A-4A1F-B556-CAB398A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F331-B4FC-457A-9C97-C7FC164B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DF11-7DD2-4C48-946D-09BAD425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E5D8-6DA1-4B92-9B80-1C962ADD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DCB-72AD-477C-871B-C369DE6C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4CE-DB60-4F7C-8B48-673EB524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97A-875A-40FD-B056-2970C970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9F9-AFE3-4577-B67B-517279B0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E4E-34C2-4C0A-8C93-F174FCB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621-6C44-4CBB-80D6-6F117D4B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208-7712-40DB-9BD7-C78DBABE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58453-7B25-4F43-9866-AEF111DB8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5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7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9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11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13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15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17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19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1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5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7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9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1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3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5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7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41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3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5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7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9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3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5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7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60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63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65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67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69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71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74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77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80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82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84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86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89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92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95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98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101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103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105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107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109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111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113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115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117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119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121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123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125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127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129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131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133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135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137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FD675-877A-4651-B1D1-75728238A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221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222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224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226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228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230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232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234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236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38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40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42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44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46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248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250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252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254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256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258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260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262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264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266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268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270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272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274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277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280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282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284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286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288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291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294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297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299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301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303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306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309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312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315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318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320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322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324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326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328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330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332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334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336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338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340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342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344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346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348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350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352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354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5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6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360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361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363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365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367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369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371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373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375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377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379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381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383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385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87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89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91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93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5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397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399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01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03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05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407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409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411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413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416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419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421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423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425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427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430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433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436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438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440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442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445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448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451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454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457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459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461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463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465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467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469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471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473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475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477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479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481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483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485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487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489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491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493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4" name="Picture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5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1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major religions include Buddhism, Christianity, Hinduism, Islam, and Judaism and are an important source of beliefs, attitudes, and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us tenets, practices, holidays, and history impact global marketing activ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esth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nse of what is beautiful and what is not beauti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represents good taste as opposed to tastelessness or even obsce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sual–embodied in the color or shape of a product, label, or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yles–various degrees of complexity, for example, are perceived differently around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esthetics and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–associated with blood, wine-making, activity, heat, and vibrancy in many countries but is poorly received in some African count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te–identified with purity and cleanliness in the West, with death in parts of As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y–means inexpensive in Japan and China, but high quality and expensive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tary P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mino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Pizza pulled out of Italy because its products were seen as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o America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ith bold tomato sauce and heavy topp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way had to educate Indians about the benefits of sandwiches because they do not normally eat bre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nguage and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60240" y="1600200"/>
          <a:ext cx="7772400" cy="4816440"/>
        </p:xfrm>
        <a:graphic>
          <a:graphicData uri="http://schemas.openxmlformats.org/drawingml/2006/table">
            <a:tbl>
              <a:tblPr/>
              <a:tblGrid>
                <a:gridCol w="3505320"/>
                <a:gridCol w="4267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inguistic Categ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anguage Examp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ntax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ules of sentence 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English has relatively fixed word order; Russian has relatively free word ord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emantics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stem of 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Japanese words convey nuances of feeling for which other languages lack exact correlations;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yes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no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can be interpreted differently than in other languag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Phonology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stem of sound patte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Japanese does not distinguish between the sounds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; English and Russian both have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soun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Morphology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word 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ussian is a highly inflected language, with six different case endings for nouns and adjectives; English has fewer infle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7" name="Rectangle 23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’s Impact on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versal aspects of the cultural environment represent opportunities to standardize elements of a marketing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ing travel and improved communications have contributed to a convergence of tastes and preferences in a number of product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 and Low-Context Cul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resides in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s on background, basic values, societal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s emphasis on legal paper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 on personal rep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udi Arabia, Jap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ssages are explicit and specif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ds carry al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ance on legal paper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 on non-personal documentation of cred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, U.S., 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-Context Cul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0" y="1603440"/>
            <a:ext cx="8962920" cy="48895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fsted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Cultur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wer D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ividualism/Collectiv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cul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certainty Avoi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ng-term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Reference Criter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Perce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conscious reference to on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own cultural values; creates cultural myo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Reduce Cultural Myop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he problem or goal in terms of home country cultural tra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he problem in terms of host-country cultural traits; make no value jud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olate the SRC influence and examin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efine the problem without the SRC influence and solve for the host country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599840"/>
            <a:ext cx="53848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chapter inclu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Consumer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l’s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fsted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Cultural Ty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thnocentricity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Reference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lo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Hierar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5"/>
          <p:cNvSpPr/>
          <p:nvPr/>
        </p:nvSpPr>
        <p:spPr>
          <a:xfrm>
            <a:off x="5842080" y="599112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rican V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doption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457200" y="15048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mental stages through which an individual passes from the time of his or her first knowledge of an innovation to the time of product adoption or purc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 of Innov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novation is something new; five factors that affect the rate at which innovations are adopted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ve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vi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er Categ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Content Placeholder 3" descr="K&amp;G.tiff"/>
          <p:cNvPicPr/>
          <p:nvPr/>
        </p:nvPicPr>
        <p:blipFill>
          <a:blip r:embed="rId1"/>
          <a:srcRect l="0" t="-7433" r="0" b="-743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al factors must be considered when marketing consumer and industrial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 reflects the extent to which products must be adapted to the culture-specific needs of different national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Content Placeholder 3" descr="K&amp;G4.tiff"/>
          <p:cNvPicPr/>
          <p:nvPr/>
        </p:nvPicPr>
        <p:blipFill>
          <a:blip r:embed="rId1"/>
          <a:srcRect l="-8221" t="0" r="-822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pendent of social class and income, culture is a significant influence on consumption and purch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od is the most culturally-sensitive category of consumer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hydrated Knorr Soups did not gain popularity in the U.S. market that preferred canned s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rbucks overcame cultural barriers in Great Britain and had 466 outlets by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ing Ahead to Chapt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2776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olitical, Legal, and Regulatory Environments of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 of Global Mark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udy and understand the cultures of countries in which they will be doing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derstand how an unconscious reference to their own cultural values, or self-reference criterion, may influence their perception of the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orporate this understanding into the marketing plann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y, Cultur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–ways of living, built up by a group of human beings, that are transmitted from one generation to an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has both conscious and unconscious values, ideas, attitudes, and symb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acted out in social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both physical (clothing and tools) and nonphysical (religion, attitudes, beliefs, and valu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Instit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se institu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ction to reinforce cultural n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terial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Nonmaterial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599840"/>
            <a:ext cx="28954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al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th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corative 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dy ado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960880" y="1599840"/>
            <a:ext cx="27255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bstract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lie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the collective programming of the mind that distinguishes the members of one category of people from those of another.</a:t>
            </a:r>
            <a:r>
              <a:rPr b="1" i="1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rt Hofste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nation, an ethic group, a gender group, an organization, or a family may be considered as a categ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s are emer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sons who share meaningful sets of consumption-related symb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 culture, coffee culture, fast-food culture, credit card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ily the product of a technologically  interconnected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tellit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ll ph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s, Beliefs,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–learned tendency to respond in a consistent way to a given object or 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lief–an organized pattern of knowledge that an individual holds to be true about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–enduring belief or feeling that a specific mode of conduct is personally or socially preferable to another mode of con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9:12Z</dcterms:created>
  <dc:creator>Jill Solomon</dc:creator>
  <dc:description/>
  <dc:language>en-US</dc:language>
  <cp:lastModifiedBy>User</cp:lastModifiedBy>
  <dcterms:modified xsi:type="dcterms:W3CDTF">2014-02-05T10:32:00Z</dcterms:modified>
  <cp:revision>45</cp:revision>
  <dc:subject/>
  <dc:title>PowerPoint Presentation</dc:title>
</cp:coreProperties>
</file>