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54D4A-F77C-41DD-90FE-33D982E7C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2004A-B2BF-4617-AF54-107E6CE34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DC9D6-82C1-4D23-9536-BFA8A3ED9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B4578-D950-4436-8778-FBC218E01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925AD-3667-4595-9461-6DC9AC239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B1824-738A-4499-A0CC-B79AE1DAB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23825-E35F-42FF-A2A4-84F25A92B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4975F-94FF-4FF0-A60D-935E7240E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EE1A0-D5AC-4A45-AAD7-19DDEFB0D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C4C77-27B6-4EF4-BEF9-5C52C44BE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B582F-C7E7-4819-90FB-A1655D40C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ACB6E-DD26-4E9B-AC5B-B73045F55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FC94B-E294-401E-9A7D-D7D125A55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E5667-C866-4A1E-842D-F47DC4D40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FF5B6-765C-425A-867C-0575E3484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DACF7-BF0E-4A19-8026-8A88C4831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4BA6F-C968-425C-8065-FA588F2F6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6DC23-033E-4186-8B66-5E45E3DC1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A6814-B6AC-442B-98A8-E64935CDA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C7BCB-E01A-46C4-B75B-A32AE9597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B92E9-2FF4-48A5-A579-CA176E5FF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8B7-1498-4E90-B26A-370BA7CD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78F-BFF7-4BA9-904C-CF287DA4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EB4-1F11-4653-8B46-97B8E25C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BAD-98C4-4C55-ABBF-1D73FE1C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3055-C118-45FB-8F73-9EEC6EEB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074A-E257-4FE2-BC13-8CD88205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BF75-2136-44C5-A030-56333FE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87C3-B5F9-4266-8621-0AD2043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1D4-7665-4AA5-BD50-BC17A1A5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1D05-F3D9-4F2D-98E0-1274B7EB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0E63-1504-40F2-ACF7-C70C7D0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0DA-18A1-4F64-B081-69597AFB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EF60-F323-4273-916A-186029F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37A-4D90-47E4-9C59-8D50069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B0B3-C6EA-4ABB-8CE5-CDF05AC1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1DDE-584B-4F56-87D0-FC7AC1BB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1787-9D81-4E92-8DB4-A4EBA2AD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49F-9006-45CE-8847-9ABC5501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D0D-B0CB-439E-895A-0323A052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114-14DB-44A1-A583-EFB9F9D4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1B4-5C70-4D33-85A7-31EE2B3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697-0885-4C06-9249-DFEBBC5F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BE2-0533-4666-954F-F3FF01CF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22E-79E0-46CB-8D28-BF9BC4D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84352-ECB2-47AF-8970-054A3C22E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19AC3-04E1-4137-9BA0-00ADA82F2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1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2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4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6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28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30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2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4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6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38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40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2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4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6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48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50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2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4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6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58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60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2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4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6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68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70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2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4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7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80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2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4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6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88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1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4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7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299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1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3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6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09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2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5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18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20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2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4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6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28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30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2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4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6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38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40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2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4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6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48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50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2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4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5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6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60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61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63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5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7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69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71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73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5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7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79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81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83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5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7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89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91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93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5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7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399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03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5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7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09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11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13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6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19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21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23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5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7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30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33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6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38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40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42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5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48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51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4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7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59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61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63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5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7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69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71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73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5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7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79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81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83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5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7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89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91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93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4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5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major religions include Buddhism, Christianity, Hinduism, Islam, and Judaism and are an important source of beliefs, attitudes, a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us tenets, practices, holidays, and history impact global marketing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nse of what is beautiful and what is not beauti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represents good taste as opposed to tastelessness or even obsce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sual–embodied in the color or shape of a product, label, or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yles–various degrees of complexity, for example, are perceived differently aroun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 and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–associated with blood, wine-making, activity, heat, and vibrancy in many countries but is poorly received in some African count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–identified with purity and cleanliness in the West, with death in parts of 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y–means inexpensive in Japan and China, but high quality and expensive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tary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mino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Pizza pulled out of Italy because its products were seen as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 Ameri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ith bold tomato sauce and heavy topp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way had to educate Indians about the benefits of sandwiches because they do not normally eat bre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uage and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60240" y="1600200"/>
          <a:ext cx="7772400" cy="4816440"/>
        </p:xfrm>
        <a:graphic>
          <a:graphicData uri="http://schemas.openxmlformats.org/drawingml/2006/table">
            <a:tbl>
              <a:tblPr/>
              <a:tblGrid>
                <a:gridCol w="3505320"/>
                <a:gridCol w="4267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inguistic 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anguage Exam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ntax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les of sentence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English has relatively fixed word order; Russian has relatively free word or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emantics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words convey nuances of feeling for which other languages lack exact correlations;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yes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no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can be interpreted differently than in other langua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Phon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sound patte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does not distinguish between the sounds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; English and Russian both have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sou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Morph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word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ssian is a highly inflected language, with six different case endings for nouns and adjectives; English has fewer infle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Rectangle 23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’s Impact on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versal aspects of the cultural environment represent opportunities to standardize elements of a marketing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ing travel and improved communications have contributed to a convergence of tastes and preferences in a number of product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Low-Context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resides in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s on background, basic values, societal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s emphasis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personal re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udi Arabia,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sages are explicit and speci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s carry al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ance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non-personal documentation of cred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, U.S.,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-Context Cul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0" y="1603440"/>
            <a:ext cx="8962920" cy="48895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wer D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vidualism/Collectiv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cul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ertainty Avoi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ng-term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Per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onscious reference to on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own cultural values; creates cultural my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Reduce Cultural Myop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or goal in terms of home country cultural tra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in terms of host-country cultural traits; make no value jud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olate the SRC influence and examin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efine the problem without the SRC influence and solve for the host country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53848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hapter inclu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Consumer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l’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hnocentricity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lo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5842080" y="599112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V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doption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57200" y="15048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mental stages through which an individual passes from the time of his or her first knowledge of an innovation to the time of product adoption or 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 of Innov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ovation is something new; five factors that affect the rate at which innovations are adopted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er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Content Placeholder 3" descr="K&amp;G.tiff"/>
          <p:cNvPicPr/>
          <p:nvPr/>
        </p:nvPicPr>
        <p:blipFill>
          <a:blip r:embed="rId1"/>
          <a:srcRect l="0" t="-7433" r="0" b="-7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al factors must be considered when marketing consumer and industr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 reflects the extent to which products must be adapted to the culture-specific needs of different 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ontent Placeholder 3" descr="K&amp;G4.tiff"/>
          <p:cNvPicPr/>
          <p:nvPr/>
        </p:nvPicPr>
        <p:blipFill>
          <a:blip r:embed="rId1"/>
          <a:srcRect l="-8221" t="0" r="-8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pendent of social class and income, culture is a significant influence on consumption and purch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is the most culturally-sensitive category of consumer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hydrated Knorr Soups did not gain popularity in the U.S. market that preferred canned s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bucks overcame cultural barriers in Great Britain and had 466 outlets by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2776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litical, Legal, and Regulatory Environments of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 of Global Mark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y and understand the cultures of countries in which they will be doing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stand how an unconscious reference to their own cultural values, or self-reference criterion, may influence their perception of the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orporate this understanding into the marketing plann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y, Cultur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–ways of living, built up by a group of human beings, that are transmitted from one generation to an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has both conscious and unconscious values, ideas, attitudes, and symb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acted out in socia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both physical (clothing and tools) and nonphysical (religion, attitudes, beliefs, and valu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Instit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ction to reinforce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erial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nmaterial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28954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a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th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orative 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dy ado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960880" y="1599840"/>
            <a:ext cx="272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bstract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the collective programming of the mind that distinguishes the members of one category of people from those of another.</a:t>
            </a:r>
            <a:r>
              <a:rPr b="1" i="1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rt Hofste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tion, an ethic group, a gender group, an organization, or a family may be considered as a categ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s are emer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sons who share meaningful sets of consumption-related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 culture, coffee culture, fast-food culture, credit card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ily the product of a technologically  interconnect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tellit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, Beliefs,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–learned tendency to respond in a consistent way to a given object or 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–an organized pattern of knowledge that an individual holds to be true about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–enduring belief or feeling that a specific mode of conduct is personally or socially preferable to another mode of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2:00Z</dcterms:modified>
  <cp:revision>45</cp:revision>
  <dc:subject/>
  <dc:title>PowerPoint Presentation</dc:title>
</cp:coreProperties>
</file>