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D97B2-D01C-438A-B4C9-C9206EA56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C0EBD-3097-4751-9F94-F962C6450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3DBBC-8E80-44C9-8D8B-755305F6D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16510-5F5F-4D9F-93C4-7827D628F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19F59-4208-401F-97BD-472C7777D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08284-8A7D-48D4-9169-2F756E354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2E96C-8191-4236-9517-CA836B116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150E6-DBF9-4C5E-B846-A88B4B05D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33F67-6A6F-4E90-A19B-EAC2253CC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34D4D-A038-4044-B9A3-17579CBED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C2DB2-91AB-4E6B-97F3-2BD4E8FBF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C41BB-040C-423D-BFAF-26F006087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4FF6D-24F3-4C98-A968-AAF29F266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F3E67-3D06-4784-8F58-8506A6289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E6CA6-0ABC-4B99-8899-1D4AF114D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6DA3A-CB59-4CB2-843E-1AF43EDC6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3F0DF-90C3-49F8-86D9-6947C5703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E22A9-A31F-4FFD-AAB9-A735886A5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95325-7F75-4673-8EF2-122DCBDF2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36EA8-D6AF-478B-8F26-70D287BD5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E4AAA-4FBA-4C57-B316-81E2CDBBA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A9F-49A8-4CDD-9883-DAAD8FB6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AC6-3CF0-4094-8765-F47B4877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8D2-0E43-418D-B111-1DF5938B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EA8-05BD-4E0E-9AE1-A8F130DF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7DDA-DE09-40FF-B858-F20EECDD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4AA7-F3E8-40D6-8960-820802FA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6764-014C-49E5-BD4C-E5ACEB6C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EF52-C325-40CC-977F-3FF525B4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A482-E573-41DD-81B8-2A0817F2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2BA6-7473-4087-8C4F-3A53CEDD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1590-72DC-4DE4-AADA-9A7931A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331-B653-4319-B898-5C12C6F3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7F42-8A6F-41AA-A8E9-2D53758B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EA37-1729-49CD-99B9-EA1A58C9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2A6E-9545-4D08-9E7C-9C2EEA87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9571-7A44-44BF-B6C3-D725C4DC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898A-C88A-4235-9976-0D5D17D3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EE1-1716-4855-B6B1-0715F9C2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09F-4BB9-4F94-948E-C8AB63D9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90F-70E4-456B-9B79-F151CE04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9E5-444A-473C-851A-3020B038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20F-1398-4F5A-8BD2-212E24DB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162-55BD-49E0-B754-1D63D426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C93-DBD2-4B05-A99D-40D75DE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35437-BAA7-47F4-A9BF-C2F6D76B7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4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5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7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9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11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13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15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17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19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1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3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5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7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9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1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3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5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7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41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43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5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7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9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51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53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55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57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60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63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65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67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69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71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74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77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80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82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84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86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89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92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95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98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101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103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105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107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109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111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113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115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117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119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121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123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125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127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129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131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133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135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137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6" descr="Untitled.png"/>
          <p:cNvPicPr/>
          <p:nvPr/>
        </p:nvPicPr>
        <p:blipFill>
          <a:blip r:embed="rId2"/>
          <a:stretch/>
        </p:blipFill>
        <p:spPr>
          <a:xfrm>
            <a:off x="2687760" y="1490760"/>
            <a:ext cx="3539880" cy="5322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747C4-B6AC-4C33-9219-D73D15497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221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222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224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226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228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230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232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234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236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238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240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242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244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246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248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250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252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254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256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258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260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262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264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266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268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270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272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274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277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280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282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284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286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288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291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294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297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299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301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303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306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309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312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315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318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320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322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324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326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328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330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332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334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336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338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340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342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344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346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348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350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352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354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5" name="Picture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6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227160" y="601560"/>
            <a:ext cx="4130640" cy="5883480"/>
            <a:chOff x="227160" y="601560"/>
            <a:chExt cx="4130640" cy="5883480"/>
          </a:xfrm>
        </p:grpSpPr>
        <p:grpSp>
          <p:nvGrpSpPr>
            <p:cNvPr id="360" name="Group 7"/>
            <p:cNvGrpSpPr/>
            <p:nvPr/>
          </p:nvGrpSpPr>
          <p:grpSpPr>
            <a:xfrm>
              <a:off x="2430360" y="830160"/>
              <a:ext cx="1494360" cy="1276200"/>
              <a:chOff x="2430360" y="830160"/>
              <a:chExt cx="1494360" cy="1276200"/>
            </a:xfrm>
          </p:grpSpPr>
          <p:sp>
            <p:nvSpPr>
              <p:cNvPr id="361" name="Freeform 141"/>
              <p:cNvSpPr/>
              <p:nvPr/>
            </p:nvSpPr>
            <p:spPr>
              <a:xfrm>
                <a:off x="2430360" y="830160"/>
                <a:ext cx="1494360" cy="1276200"/>
              </a:xfrm>
              <a:custGeom>
                <a:avLst/>
                <a:gdLst/>
                <a:ahLst/>
                <a:rect l="l" t="t" r="r" b="b"/>
                <a:pathLst>
                  <a:path w="3128" h="3128">
                    <a:moveTo>
                      <a:pt x="1550" y="0"/>
                    </a:moveTo>
                    <a:lnTo>
                      <a:pt x="1429" y="6"/>
                    </a:lnTo>
                    <a:lnTo>
                      <a:pt x="1308" y="21"/>
                    </a:lnTo>
                    <a:lnTo>
                      <a:pt x="1188" y="46"/>
                    </a:lnTo>
                    <a:lnTo>
                      <a:pt x="1070" y="80"/>
                    </a:lnTo>
                    <a:lnTo>
                      <a:pt x="953" y="124"/>
                    </a:lnTo>
                    <a:lnTo>
                      <a:pt x="839" y="179"/>
                    </a:lnTo>
                    <a:lnTo>
                      <a:pt x="728" y="243"/>
                    </a:lnTo>
                    <a:lnTo>
                      <a:pt x="622" y="316"/>
                    </a:lnTo>
                    <a:lnTo>
                      <a:pt x="525" y="396"/>
                    </a:lnTo>
                    <a:lnTo>
                      <a:pt x="435" y="482"/>
                    </a:lnTo>
                    <a:lnTo>
                      <a:pt x="353" y="574"/>
                    </a:lnTo>
                    <a:lnTo>
                      <a:pt x="279" y="672"/>
                    </a:lnTo>
                    <a:lnTo>
                      <a:pt x="214" y="774"/>
                    </a:lnTo>
                    <a:lnTo>
                      <a:pt x="157" y="881"/>
                    </a:lnTo>
                    <a:lnTo>
                      <a:pt x="109" y="992"/>
                    </a:lnTo>
                    <a:lnTo>
                      <a:pt x="69" y="1105"/>
                    </a:lnTo>
                    <a:lnTo>
                      <a:pt x="38" y="1221"/>
                    </a:lnTo>
                    <a:lnTo>
                      <a:pt x="16" y="1339"/>
                    </a:lnTo>
                    <a:lnTo>
                      <a:pt x="4" y="1459"/>
                    </a:lnTo>
                    <a:lnTo>
                      <a:pt x="0" y="1579"/>
                    </a:lnTo>
                    <a:lnTo>
                      <a:pt x="6" y="1700"/>
                    </a:lnTo>
                    <a:lnTo>
                      <a:pt x="21" y="1820"/>
                    </a:lnTo>
                    <a:lnTo>
                      <a:pt x="45" y="1940"/>
                    </a:lnTo>
                    <a:lnTo>
                      <a:pt x="80" y="2059"/>
                    </a:lnTo>
                    <a:lnTo>
                      <a:pt x="124" y="2175"/>
                    </a:lnTo>
                    <a:lnTo>
                      <a:pt x="178" y="2289"/>
                    </a:lnTo>
                    <a:lnTo>
                      <a:pt x="242" y="2401"/>
                    </a:lnTo>
                    <a:lnTo>
                      <a:pt x="315" y="2506"/>
                    </a:lnTo>
                    <a:lnTo>
                      <a:pt x="395" y="2604"/>
                    </a:lnTo>
                    <a:lnTo>
                      <a:pt x="482" y="2694"/>
                    </a:lnTo>
                    <a:lnTo>
                      <a:pt x="574" y="2776"/>
                    </a:lnTo>
                    <a:lnTo>
                      <a:pt x="672" y="2849"/>
                    </a:lnTo>
                    <a:lnTo>
                      <a:pt x="774" y="2915"/>
                    </a:lnTo>
                    <a:lnTo>
                      <a:pt x="881" y="2972"/>
                    </a:lnTo>
                    <a:lnTo>
                      <a:pt x="991" y="3020"/>
                    </a:lnTo>
                    <a:lnTo>
                      <a:pt x="1105" y="3060"/>
                    </a:lnTo>
                    <a:lnTo>
                      <a:pt x="1221" y="3090"/>
                    </a:lnTo>
                    <a:lnTo>
                      <a:pt x="1339" y="3112"/>
                    </a:lnTo>
                    <a:lnTo>
                      <a:pt x="1458" y="3125"/>
                    </a:lnTo>
                    <a:lnTo>
                      <a:pt x="1579" y="3129"/>
                    </a:lnTo>
                    <a:lnTo>
                      <a:pt x="1699" y="3123"/>
                    </a:lnTo>
                    <a:lnTo>
                      <a:pt x="1820" y="3108"/>
                    </a:lnTo>
                    <a:lnTo>
                      <a:pt x="1940" y="3083"/>
                    </a:lnTo>
                    <a:lnTo>
                      <a:pt x="2058" y="3049"/>
                    </a:lnTo>
                    <a:lnTo>
                      <a:pt x="2175" y="3005"/>
                    </a:lnTo>
                    <a:lnTo>
                      <a:pt x="2289" y="2951"/>
                    </a:lnTo>
                    <a:lnTo>
                      <a:pt x="2400" y="2886"/>
                    </a:lnTo>
                    <a:lnTo>
                      <a:pt x="2506" y="2813"/>
                    </a:lnTo>
                    <a:lnTo>
                      <a:pt x="2604" y="2733"/>
                    </a:lnTo>
                    <a:lnTo>
                      <a:pt x="2694" y="2647"/>
                    </a:lnTo>
                    <a:lnTo>
                      <a:pt x="2775" y="2555"/>
                    </a:lnTo>
                    <a:lnTo>
                      <a:pt x="2849" y="2457"/>
                    </a:lnTo>
                    <a:lnTo>
                      <a:pt x="2914" y="2355"/>
                    </a:lnTo>
                    <a:lnTo>
                      <a:pt x="2971" y="2248"/>
                    </a:lnTo>
                    <a:lnTo>
                      <a:pt x="3020" y="2138"/>
                    </a:lnTo>
                    <a:lnTo>
                      <a:pt x="3059" y="2024"/>
                    </a:lnTo>
                    <a:lnTo>
                      <a:pt x="3090" y="1908"/>
                    </a:lnTo>
                    <a:lnTo>
                      <a:pt x="3112" y="1790"/>
                    </a:lnTo>
                    <a:lnTo>
                      <a:pt x="3125" y="1670"/>
                    </a:lnTo>
                    <a:lnTo>
                      <a:pt x="3128" y="1550"/>
                    </a:lnTo>
                    <a:lnTo>
                      <a:pt x="3123" y="1429"/>
                    </a:lnTo>
                    <a:lnTo>
                      <a:pt x="3108" y="1309"/>
                    </a:lnTo>
                    <a:lnTo>
                      <a:pt x="3083" y="1189"/>
                    </a:lnTo>
                    <a:lnTo>
                      <a:pt x="3048" y="1070"/>
                    </a:lnTo>
                    <a:lnTo>
                      <a:pt x="3004" y="954"/>
                    </a:lnTo>
                    <a:lnTo>
                      <a:pt x="2950" y="840"/>
                    </a:lnTo>
                    <a:lnTo>
                      <a:pt x="2886" y="728"/>
                    </a:lnTo>
                    <a:lnTo>
                      <a:pt x="2813" y="623"/>
                    </a:lnTo>
                    <a:lnTo>
                      <a:pt x="2733" y="525"/>
                    </a:lnTo>
                    <a:lnTo>
                      <a:pt x="2647" y="435"/>
                    </a:lnTo>
                    <a:lnTo>
                      <a:pt x="2554" y="353"/>
                    </a:lnTo>
                    <a:lnTo>
                      <a:pt x="2457" y="280"/>
                    </a:lnTo>
                    <a:lnTo>
                      <a:pt x="2354" y="214"/>
                    </a:lnTo>
                    <a:lnTo>
                      <a:pt x="2248" y="157"/>
                    </a:lnTo>
                    <a:lnTo>
                      <a:pt x="2137" y="109"/>
                    </a:lnTo>
                    <a:lnTo>
                      <a:pt x="2024" y="69"/>
                    </a:lnTo>
                    <a:lnTo>
                      <a:pt x="1908" y="39"/>
                    </a:lnTo>
                    <a:lnTo>
                      <a:pt x="1790" y="17"/>
                    </a:lnTo>
                    <a:lnTo>
                      <a:pt x="1670" y="4"/>
                    </a:lnTo>
                    <a:lnTo>
                      <a:pt x="155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8"/>
            <p:cNvGrpSpPr/>
            <p:nvPr/>
          </p:nvGrpSpPr>
          <p:grpSpPr>
            <a:xfrm>
              <a:off x="3094560" y="2134080"/>
              <a:ext cx="1263240" cy="1078920"/>
              <a:chOff x="3094560" y="2134080"/>
              <a:chExt cx="1263240" cy="1078920"/>
            </a:xfrm>
          </p:grpSpPr>
          <p:sp>
            <p:nvSpPr>
              <p:cNvPr id="363" name="Freeform 140"/>
              <p:cNvSpPr/>
              <p:nvPr/>
            </p:nvSpPr>
            <p:spPr>
              <a:xfrm>
                <a:off x="3094560" y="2134080"/>
                <a:ext cx="1263240" cy="1078920"/>
              </a:xfrm>
              <a:custGeom>
                <a:avLst/>
                <a:gdLst/>
                <a:ahLst/>
                <a:rect l="l" t="t" r="r" b="b"/>
                <a:pathLst>
                  <a:path w="2644" h="2644">
                    <a:moveTo>
                      <a:pt x="1311" y="0"/>
                    </a:moveTo>
                    <a:lnTo>
                      <a:pt x="1205" y="5"/>
                    </a:lnTo>
                    <a:lnTo>
                      <a:pt x="1097" y="19"/>
                    </a:lnTo>
                    <a:lnTo>
                      <a:pt x="991" y="42"/>
                    </a:lnTo>
                    <a:lnTo>
                      <a:pt x="889" y="73"/>
                    </a:lnTo>
                    <a:lnTo>
                      <a:pt x="791" y="111"/>
                    </a:lnTo>
                    <a:lnTo>
                      <a:pt x="697" y="157"/>
                    </a:lnTo>
                    <a:lnTo>
                      <a:pt x="608" y="209"/>
                    </a:lnTo>
                    <a:lnTo>
                      <a:pt x="524" y="268"/>
                    </a:lnTo>
                    <a:lnTo>
                      <a:pt x="445" y="333"/>
                    </a:lnTo>
                    <a:lnTo>
                      <a:pt x="371" y="403"/>
                    </a:lnTo>
                    <a:lnTo>
                      <a:pt x="304" y="479"/>
                    </a:lnTo>
                    <a:lnTo>
                      <a:pt x="242" y="560"/>
                    </a:lnTo>
                    <a:lnTo>
                      <a:pt x="187" y="645"/>
                    </a:lnTo>
                    <a:lnTo>
                      <a:pt x="138" y="734"/>
                    </a:lnTo>
                    <a:lnTo>
                      <a:pt x="96" y="827"/>
                    </a:lnTo>
                    <a:lnTo>
                      <a:pt x="62" y="923"/>
                    </a:lnTo>
                    <a:lnTo>
                      <a:pt x="34" y="1022"/>
                    </a:lnTo>
                    <a:lnTo>
                      <a:pt x="15" y="1124"/>
                    </a:lnTo>
                    <a:lnTo>
                      <a:pt x="3" y="1227"/>
                    </a:lnTo>
                    <a:lnTo>
                      <a:pt x="0" y="1332"/>
                    </a:lnTo>
                    <a:lnTo>
                      <a:pt x="6" y="1439"/>
                    </a:lnTo>
                    <a:lnTo>
                      <a:pt x="20" y="1547"/>
                    </a:lnTo>
                    <a:lnTo>
                      <a:pt x="42" y="1653"/>
                    </a:lnTo>
                    <a:lnTo>
                      <a:pt x="73" y="1755"/>
                    </a:lnTo>
                    <a:lnTo>
                      <a:pt x="112" y="1853"/>
                    </a:lnTo>
                    <a:lnTo>
                      <a:pt x="157" y="1947"/>
                    </a:lnTo>
                    <a:lnTo>
                      <a:pt x="210" y="2036"/>
                    </a:lnTo>
                    <a:lnTo>
                      <a:pt x="268" y="2120"/>
                    </a:lnTo>
                    <a:lnTo>
                      <a:pt x="333" y="2199"/>
                    </a:lnTo>
                    <a:lnTo>
                      <a:pt x="404" y="2273"/>
                    </a:lnTo>
                    <a:lnTo>
                      <a:pt x="480" y="2340"/>
                    </a:lnTo>
                    <a:lnTo>
                      <a:pt x="560" y="2402"/>
                    </a:lnTo>
                    <a:lnTo>
                      <a:pt x="645" y="2457"/>
                    </a:lnTo>
                    <a:lnTo>
                      <a:pt x="735" y="2506"/>
                    </a:lnTo>
                    <a:lnTo>
                      <a:pt x="827" y="2548"/>
                    </a:lnTo>
                    <a:lnTo>
                      <a:pt x="924" y="2582"/>
                    </a:lnTo>
                    <a:lnTo>
                      <a:pt x="1023" y="2609"/>
                    </a:lnTo>
                    <a:lnTo>
                      <a:pt x="1124" y="2629"/>
                    </a:lnTo>
                    <a:lnTo>
                      <a:pt x="1228" y="2640"/>
                    </a:lnTo>
                    <a:lnTo>
                      <a:pt x="1333" y="2644"/>
                    </a:lnTo>
                    <a:lnTo>
                      <a:pt x="1440" y="2638"/>
                    </a:lnTo>
                    <a:lnTo>
                      <a:pt x="1547" y="2624"/>
                    </a:lnTo>
                    <a:lnTo>
                      <a:pt x="1653" y="2601"/>
                    </a:lnTo>
                    <a:lnTo>
                      <a:pt x="1756" y="2571"/>
                    </a:lnTo>
                    <a:lnTo>
                      <a:pt x="1854" y="2532"/>
                    </a:lnTo>
                    <a:lnTo>
                      <a:pt x="1947" y="2487"/>
                    </a:lnTo>
                    <a:lnTo>
                      <a:pt x="2037" y="2434"/>
                    </a:lnTo>
                    <a:lnTo>
                      <a:pt x="2121" y="2375"/>
                    </a:lnTo>
                    <a:lnTo>
                      <a:pt x="2200" y="2311"/>
                    </a:lnTo>
                    <a:lnTo>
                      <a:pt x="2273" y="2240"/>
                    </a:lnTo>
                    <a:lnTo>
                      <a:pt x="2341" y="2164"/>
                    </a:lnTo>
                    <a:lnTo>
                      <a:pt x="2402" y="2084"/>
                    </a:lnTo>
                    <a:lnTo>
                      <a:pt x="2458" y="1999"/>
                    </a:lnTo>
                    <a:lnTo>
                      <a:pt x="2506" y="1909"/>
                    </a:lnTo>
                    <a:lnTo>
                      <a:pt x="2548" y="1816"/>
                    </a:lnTo>
                    <a:lnTo>
                      <a:pt x="2583" y="1720"/>
                    </a:lnTo>
                    <a:lnTo>
                      <a:pt x="2610" y="1621"/>
                    </a:lnTo>
                    <a:lnTo>
                      <a:pt x="2629" y="1520"/>
                    </a:lnTo>
                    <a:lnTo>
                      <a:pt x="2641" y="1416"/>
                    </a:lnTo>
                    <a:lnTo>
                      <a:pt x="2644" y="1311"/>
                    </a:lnTo>
                    <a:lnTo>
                      <a:pt x="2639" y="1204"/>
                    </a:lnTo>
                    <a:lnTo>
                      <a:pt x="2625" y="1097"/>
                    </a:lnTo>
                    <a:lnTo>
                      <a:pt x="2602" y="991"/>
                    </a:lnTo>
                    <a:lnTo>
                      <a:pt x="2571" y="888"/>
                    </a:lnTo>
                    <a:lnTo>
                      <a:pt x="2533" y="790"/>
                    </a:lnTo>
                    <a:lnTo>
                      <a:pt x="2487" y="696"/>
                    </a:lnTo>
                    <a:lnTo>
                      <a:pt x="2435" y="607"/>
                    </a:lnTo>
                    <a:lnTo>
                      <a:pt x="2376" y="523"/>
                    </a:lnTo>
                    <a:lnTo>
                      <a:pt x="2311" y="444"/>
                    </a:lnTo>
                    <a:lnTo>
                      <a:pt x="2241" y="371"/>
                    </a:lnTo>
                    <a:lnTo>
                      <a:pt x="2165" y="303"/>
                    </a:lnTo>
                    <a:lnTo>
                      <a:pt x="2084" y="241"/>
                    </a:lnTo>
                    <a:lnTo>
                      <a:pt x="1999" y="186"/>
                    </a:lnTo>
                    <a:lnTo>
                      <a:pt x="1910" y="138"/>
                    </a:lnTo>
                    <a:lnTo>
                      <a:pt x="1817" y="96"/>
                    </a:lnTo>
                    <a:lnTo>
                      <a:pt x="1721" y="61"/>
                    </a:lnTo>
                    <a:lnTo>
                      <a:pt x="1622" y="34"/>
                    </a:lnTo>
                    <a:lnTo>
                      <a:pt x="1520" y="14"/>
                    </a:lnTo>
                    <a:lnTo>
                      <a:pt x="1417" y="3"/>
                    </a:lnTo>
                    <a:lnTo>
                      <a:pt x="131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9"/>
            <p:cNvGrpSpPr/>
            <p:nvPr/>
          </p:nvGrpSpPr>
          <p:grpSpPr>
            <a:xfrm>
              <a:off x="3316320" y="3307320"/>
              <a:ext cx="850320" cy="726120"/>
              <a:chOff x="3316320" y="3307320"/>
              <a:chExt cx="850320" cy="726120"/>
            </a:xfrm>
          </p:grpSpPr>
          <p:sp>
            <p:nvSpPr>
              <p:cNvPr id="365" name="Freeform 139"/>
              <p:cNvSpPr/>
              <p:nvPr/>
            </p:nvSpPr>
            <p:spPr>
              <a:xfrm>
                <a:off x="3316320" y="3307320"/>
                <a:ext cx="850320" cy="726120"/>
              </a:xfrm>
              <a:custGeom>
                <a:avLst/>
                <a:gdLst/>
                <a:ahLst/>
                <a:rect l="l" t="t" r="r" b="b"/>
                <a:pathLst>
                  <a:path w="1780" h="1780">
                    <a:moveTo>
                      <a:pt x="864" y="0"/>
                    </a:moveTo>
                    <a:lnTo>
                      <a:pt x="794" y="5"/>
                    </a:lnTo>
                    <a:lnTo>
                      <a:pt x="724" y="15"/>
                    </a:lnTo>
                    <a:lnTo>
                      <a:pt x="656" y="31"/>
                    </a:lnTo>
                    <a:lnTo>
                      <a:pt x="590" y="52"/>
                    </a:lnTo>
                    <a:lnTo>
                      <a:pt x="527" y="77"/>
                    </a:lnTo>
                    <a:lnTo>
                      <a:pt x="465" y="108"/>
                    </a:lnTo>
                    <a:lnTo>
                      <a:pt x="406" y="143"/>
                    </a:lnTo>
                    <a:lnTo>
                      <a:pt x="350" y="182"/>
                    </a:lnTo>
                    <a:lnTo>
                      <a:pt x="298" y="226"/>
                    </a:lnTo>
                    <a:lnTo>
                      <a:pt x="248" y="273"/>
                    </a:lnTo>
                    <a:lnTo>
                      <a:pt x="203" y="324"/>
                    </a:lnTo>
                    <a:lnTo>
                      <a:pt x="161" y="379"/>
                    </a:lnTo>
                    <a:lnTo>
                      <a:pt x="123" y="437"/>
                    </a:lnTo>
                    <a:lnTo>
                      <a:pt x="90" y="498"/>
                    </a:lnTo>
                    <a:lnTo>
                      <a:pt x="62" y="563"/>
                    </a:lnTo>
                    <a:lnTo>
                      <a:pt x="39" y="630"/>
                    </a:lnTo>
                    <a:lnTo>
                      <a:pt x="20" y="699"/>
                    </a:lnTo>
                    <a:lnTo>
                      <a:pt x="8" y="771"/>
                    </a:lnTo>
                    <a:lnTo>
                      <a:pt x="1" y="844"/>
                    </a:lnTo>
                    <a:lnTo>
                      <a:pt x="0" y="916"/>
                    </a:lnTo>
                    <a:lnTo>
                      <a:pt x="5" y="987"/>
                    </a:lnTo>
                    <a:lnTo>
                      <a:pt x="15" y="1056"/>
                    </a:lnTo>
                    <a:lnTo>
                      <a:pt x="31" y="1124"/>
                    </a:lnTo>
                    <a:lnTo>
                      <a:pt x="52" y="1190"/>
                    </a:lnTo>
                    <a:lnTo>
                      <a:pt x="77" y="1254"/>
                    </a:lnTo>
                    <a:lnTo>
                      <a:pt x="108" y="1315"/>
                    </a:lnTo>
                    <a:lnTo>
                      <a:pt x="143" y="1374"/>
                    </a:lnTo>
                    <a:lnTo>
                      <a:pt x="182" y="1430"/>
                    </a:lnTo>
                    <a:lnTo>
                      <a:pt x="226" y="1483"/>
                    </a:lnTo>
                    <a:lnTo>
                      <a:pt x="273" y="1532"/>
                    </a:lnTo>
                    <a:lnTo>
                      <a:pt x="324" y="1578"/>
                    </a:lnTo>
                    <a:lnTo>
                      <a:pt x="379" y="1619"/>
                    </a:lnTo>
                    <a:lnTo>
                      <a:pt x="437" y="1657"/>
                    </a:lnTo>
                    <a:lnTo>
                      <a:pt x="498" y="1690"/>
                    </a:lnTo>
                    <a:lnTo>
                      <a:pt x="563" y="1718"/>
                    </a:lnTo>
                    <a:lnTo>
                      <a:pt x="630" y="1742"/>
                    </a:lnTo>
                    <a:lnTo>
                      <a:pt x="699" y="1760"/>
                    </a:lnTo>
                    <a:lnTo>
                      <a:pt x="771" y="1772"/>
                    </a:lnTo>
                    <a:lnTo>
                      <a:pt x="844" y="1779"/>
                    </a:lnTo>
                    <a:lnTo>
                      <a:pt x="916" y="1780"/>
                    </a:lnTo>
                    <a:lnTo>
                      <a:pt x="987" y="1775"/>
                    </a:lnTo>
                    <a:lnTo>
                      <a:pt x="1056" y="1765"/>
                    </a:lnTo>
                    <a:lnTo>
                      <a:pt x="1124" y="1749"/>
                    </a:lnTo>
                    <a:lnTo>
                      <a:pt x="1190" y="1729"/>
                    </a:lnTo>
                    <a:lnTo>
                      <a:pt x="1254" y="1703"/>
                    </a:lnTo>
                    <a:lnTo>
                      <a:pt x="1315" y="1672"/>
                    </a:lnTo>
                    <a:lnTo>
                      <a:pt x="1374" y="1638"/>
                    </a:lnTo>
                    <a:lnTo>
                      <a:pt x="1430" y="1598"/>
                    </a:lnTo>
                    <a:lnTo>
                      <a:pt x="1483" y="1555"/>
                    </a:lnTo>
                    <a:lnTo>
                      <a:pt x="1532" y="1507"/>
                    </a:lnTo>
                    <a:lnTo>
                      <a:pt x="1578" y="1456"/>
                    </a:lnTo>
                    <a:lnTo>
                      <a:pt x="1619" y="1401"/>
                    </a:lnTo>
                    <a:lnTo>
                      <a:pt x="1657" y="1343"/>
                    </a:lnTo>
                    <a:lnTo>
                      <a:pt x="1690" y="1282"/>
                    </a:lnTo>
                    <a:lnTo>
                      <a:pt x="1718" y="1218"/>
                    </a:lnTo>
                    <a:lnTo>
                      <a:pt x="1742" y="1151"/>
                    </a:lnTo>
                    <a:lnTo>
                      <a:pt x="1760" y="1081"/>
                    </a:lnTo>
                    <a:lnTo>
                      <a:pt x="1772" y="1009"/>
                    </a:lnTo>
                    <a:lnTo>
                      <a:pt x="1779" y="936"/>
                    </a:lnTo>
                    <a:lnTo>
                      <a:pt x="1780" y="864"/>
                    </a:lnTo>
                    <a:lnTo>
                      <a:pt x="1775" y="794"/>
                    </a:lnTo>
                    <a:lnTo>
                      <a:pt x="1765" y="724"/>
                    </a:lnTo>
                    <a:lnTo>
                      <a:pt x="1749" y="656"/>
                    </a:lnTo>
                    <a:lnTo>
                      <a:pt x="1729" y="590"/>
                    </a:lnTo>
                    <a:lnTo>
                      <a:pt x="1703" y="527"/>
                    </a:lnTo>
                    <a:lnTo>
                      <a:pt x="1672" y="465"/>
                    </a:lnTo>
                    <a:lnTo>
                      <a:pt x="1637" y="406"/>
                    </a:lnTo>
                    <a:lnTo>
                      <a:pt x="1598" y="350"/>
                    </a:lnTo>
                    <a:lnTo>
                      <a:pt x="1555" y="298"/>
                    </a:lnTo>
                    <a:lnTo>
                      <a:pt x="1507" y="248"/>
                    </a:lnTo>
                    <a:lnTo>
                      <a:pt x="1456" y="203"/>
                    </a:lnTo>
                    <a:lnTo>
                      <a:pt x="1401" y="161"/>
                    </a:lnTo>
                    <a:lnTo>
                      <a:pt x="1343" y="123"/>
                    </a:lnTo>
                    <a:lnTo>
                      <a:pt x="1282" y="90"/>
                    </a:lnTo>
                    <a:lnTo>
                      <a:pt x="1218" y="62"/>
                    </a:lnTo>
                    <a:lnTo>
                      <a:pt x="1151" y="39"/>
                    </a:lnTo>
                    <a:lnTo>
                      <a:pt x="1081" y="20"/>
                    </a:lnTo>
                    <a:lnTo>
                      <a:pt x="1009" y="8"/>
                    </a:lnTo>
                    <a:lnTo>
                      <a:pt x="936" y="1"/>
                    </a:lnTo>
                    <a:lnTo>
                      <a:pt x="864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10"/>
            <p:cNvGrpSpPr/>
            <p:nvPr/>
          </p:nvGrpSpPr>
          <p:grpSpPr>
            <a:xfrm>
              <a:off x="3285720" y="4097880"/>
              <a:ext cx="538920" cy="460080"/>
              <a:chOff x="3285720" y="4097880"/>
              <a:chExt cx="538920" cy="460080"/>
            </a:xfrm>
          </p:grpSpPr>
          <p:sp>
            <p:nvSpPr>
              <p:cNvPr id="367" name="Freeform 138"/>
              <p:cNvSpPr/>
              <p:nvPr/>
            </p:nvSpPr>
            <p:spPr>
              <a:xfrm>
                <a:off x="3285720" y="4097880"/>
                <a:ext cx="538920" cy="460080"/>
              </a:xfrm>
              <a:custGeom>
                <a:avLst/>
                <a:gdLst/>
                <a:ahLst/>
                <a:rect l="l" t="t" r="r" b="b"/>
                <a:pathLst>
                  <a:path w="1128" h="1128">
                    <a:moveTo>
                      <a:pt x="575" y="0"/>
                    </a:moveTo>
                    <a:lnTo>
                      <a:pt x="487" y="5"/>
                    </a:lnTo>
                    <a:lnTo>
                      <a:pt x="402" y="23"/>
                    </a:lnTo>
                    <a:lnTo>
                      <a:pt x="321" y="54"/>
                    </a:lnTo>
                    <a:lnTo>
                      <a:pt x="246" y="97"/>
                    </a:lnTo>
                    <a:lnTo>
                      <a:pt x="178" y="152"/>
                    </a:lnTo>
                    <a:lnTo>
                      <a:pt x="119" y="216"/>
                    </a:lnTo>
                    <a:lnTo>
                      <a:pt x="70" y="291"/>
                    </a:lnTo>
                    <a:lnTo>
                      <a:pt x="32" y="374"/>
                    </a:lnTo>
                    <a:lnTo>
                      <a:pt x="9" y="463"/>
                    </a:lnTo>
                    <a:lnTo>
                      <a:pt x="0" y="552"/>
                    </a:lnTo>
                    <a:lnTo>
                      <a:pt x="0" y="596"/>
                    </a:lnTo>
                    <a:lnTo>
                      <a:pt x="12" y="683"/>
                    </a:lnTo>
                    <a:lnTo>
                      <a:pt x="37" y="766"/>
                    </a:lnTo>
                    <a:lnTo>
                      <a:pt x="74" y="844"/>
                    </a:lnTo>
                    <a:lnTo>
                      <a:pt x="123" y="916"/>
                    </a:lnTo>
                    <a:lnTo>
                      <a:pt x="182" y="979"/>
                    </a:lnTo>
                    <a:lnTo>
                      <a:pt x="252" y="1034"/>
                    </a:lnTo>
                    <a:lnTo>
                      <a:pt x="331" y="1077"/>
                    </a:lnTo>
                    <a:lnTo>
                      <a:pt x="418" y="1108"/>
                    </a:lnTo>
                    <a:lnTo>
                      <a:pt x="507" y="1125"/>
                    </a:lnTo>
                    <a:lnTo>
                      <a:pt x="552" y="1127"/>
                    </a:lnTo>
                    <a:lnTo>
                      <a:pt x="596" y="1127"/>
                    </a:lnTo>
                    <a:lnTo>
                      <a:pt x="682" y="1115"/>
                    </a:lnTo>
                    <a:lnTo>
                      <a:pt x="765" y="1090"/>
                    </a:lnTo>
                    <a:lnTo>
                      <a:pt x="844" y="1053"/>
                    </a:lnTo>
                    <a:lnTo>
                      <a:pt x="915" y="1004"/>
                    </a:lnTo>
                    <a:lnTo>
                      <a:pt x="979" y="945"/>
                    </a:lnTo>
                    <a:lnTo>
                      <a:pt x="1034" y="875"/>
                    </a:lnTo>
                    <a:lnTo>
                      <a:pt x="1077" y="796"/>
                    </a:lnTo>
                    <a:lnTo>
                      <a:pt x="1108" y="708"/>
                    </a:lnTo>
                    <a:lnTo>
                      <a:pt x="1124" y="620"/>
                    </a:lnTo>
                    <a:lnTo>
                      <a:pt x="1127" y="575"/>
                    </a:lnTo>
                    <a:lnTo>
                      <a:pt x="1126" y="531"/>
                    </a:lnTo>
                    <a:lnTo>
                      <a:pt x="1114" y="445"/>
                    </a:lnTo>
                    <a:lnTo>
                      <a:pt x="1090" y="362"/>
                    </a:lnTo>
                    <a:lnTo>
                      <a:pt x="1053" y="283"/>
                    </a:lnTo>
                    <a:lnTo>
                      <a:pt x="1004" y="212"/>
                    </a:lnTo>
                    <a:lnTo>
                      <a:pt x="944" y="148"/>
                    </a:lnTo>
                    <a:lnTo>
                      <a:pt x="875" y="93"/>
                    </a:lnTo>
                    <a:lnTo>
                      <a:pt x="795" y="50"/>
                    </a:lnTo>
                    <a:lnTo>
                      <a:pt x="708" y="19"/>
                    </a:lnTo>
                    <a:lnTo>
                      <a:pt x="619" y="3"/>
                    </a:lnTo>
                    <a:lnTo>
                      <a:pt x="575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1"/>
            <p:cNvGrpSpPr/>
            <p:nvPr/>
          </p:nvGrpSpPr>
          <p:grpSpPr>
            <a:xfrm>
              <a:off x="3090240" y="4593600"/>
              <a:ext cx="450360" cy="384840"/>
              <a:chOff x="3090240" y="4593600"/>
              <a:chExt cx="450360" cy="384840"/>
            </a:xfrm>
          </p:grpSpPr>
          <p:sp>
            <p:nvSpPr>
              <p:cNvPr id="369" name="Freeform 137"/>
              <p:cNvSpPr/>
              <p:nvPr/>
            </p:nvSpPr>
            <p:spPr>
              <a:xfrm>
                <a:off x="3090240" y="4593600"/>
                <a:ext cx="450360" cy="384840"/>
              </a:xfrm>
              <a:custGeom>
                <a:avLst/>
                <a:gdLst/>
                <a:ahLst/>
                <a:rect l="l" t="t" r="r" b="b"/>
                <a:pathLst>
                  <a:path w="943" h="943">
                    <a:moveTo>
                      <a:pt x="481" y="0"/>
                    </a:moveTo>
                    <a:lnTo>
                      <a:pt x="408" y="5"/>
                    </a:lnTo>
                    <a:lnTo>
                      <a:pt x="337" y="20"/>
                    </a:lnTo>
                    <a:lnTo>
                      <a:pt x="270" y="46"/>
                    </a:lnTo>
                    <a:lnTo>
                      <a:pt x="207" y="82"/>
                    </a:lnTo>
                    <a:lnTo>
                      <a:pt x="149" y="128"/>
                    </a:lnTo>
                    <a:lnTo>
                      <a:pt x="99" y="183"/>
                    </a:lnTo>
                    <a:lnTo>
                      <a:pt x="57" y="247"/>
                    </a:lnTo>
                    <a:lnTo>
                      <a:pt x="26" y="318"/>
                    </a:lnTo>
                    <a:lnTo>
                      <a:pt x="8" y="390"/>
                    </a:lnTo>
                    <a:lnTo>
                      <a:pt x="0" y="463"/>
                    </a:lnTo>
                    <a:lnTo>
                      <a:pt x="1" y="499"/>
                    </a:lnTo>
                    <a:lnTo>
                      <a:pt x="11" y="571"/>
                    </a:lnTo>
                    <a:lnTo>
                      <a:pt x="32" y="640"/>
                    </a:lnTo>
                    <a:lnTo>
                      <a:pt x="63" y="706"/>
                    </a:lnTo>
                    <a:lnTo>
                      <a:pt x="104" y="766"/>
                    </a:lnTo>
                    <a:lnTo>
                      <a:pt x="154" y="820"/>
                    </a:lnTo>
                    <a:lnTo>
                      <a:pt x="214" y="867"/>
                    </a:lnTo>
                    <a:lnTo>
                      <a:pt x="282" y="903"/>
                    </a:lnTo>
                    <a:lnTo>
                      <a:pt x="354" y="928"/>
                    </a:lnTo>
                    <a:lnTo>
                      <a:pt x="426" y="941"/>
                    </a:lnTo>
                    <a:lnTo>
                      <a:pt x="463" y="943"/>
                    </a:lnTo>
                    <a:lnTo>
                      <a:pt x="499" y="942"/>
                    </a:lnTo>
                    <a:lnTo>
                      <a:pt x="571" y="933"/>
                    </a:lnTo>
                    <a:lnTo>
                      <a:pt x="641" y="912"/>
                    </a:lnTo>
                    <a:lnTo>
                      <a:pt x="706" y="881"/>
                    </a:lnTo>
                    <a:lnTo>
                      <a:pt x="766" y="840"/>
                    </a:lnTo>
                    <a:lnTo>
                      <a:pt x="820" y="789"/>
                    </a:lnTo>
                    <a:lnTo>
                      <a:pt x="867" y="729"/>
                    </a:lnTo>
                    <a:lnTo>
                      <a:pt x="903" y="661"/>
                    </a:lnTo>
                    <a:lnTo>
                      <a:pt x="928" y="590"/>
                    </a:lnTo>
                    <a:lnTo>
                      <a:pt x="941" y="517"/>
                    </a:lnTo>
                    <a:lnTo>
                      <a:pt x="943" y="481"/>
                    </a:lnTo>
                    <a:lnTo>
                      <a:pt x="942" y="444"/>
                    </a:lnTo>
                    <a:lnTo>
                      <a:pt x="933" y="372"/>
                    </a:lnTo>
                    <a:lnTo>
                      <a:pt x="912" y="303"/>
                    </a:lnTo>
                    <a:lnTo>
                      <a:pt x="881" y="238"/>
                    </a:lnTo>
                    <a:lnTo>
                      <a:pt x="840" y="177"/>
                    </a:lnTo>
                    <a:lnTo>
                      <a:pt x="789" y="123"/>
                    </a:lnTo>
                    <a:lnTo>
                      <a:pt x="730" y="77"/>
                    </a:lnTo>
                    <a:lnTo>
                      <a:pt x="662" y="40"/>
                    </a:lnTo>
                    <a:lnTo>
                      <a:pt x="590" y="15"/>
                    </a:lnTo>
                    <a:lnTo>
                      <a:pt x="517" y="3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2"/>
            <p:cNvGrpSpPr/>
            <p:nvPr/>
          </p:nvGrpSpPr>
          <p:grpSpPr>
            <a:xfrm>
              <a:off x="2809080" y="4977360"/>
              <a:ext cx="445680" cy="380520"/>
              <a:chOff x="2809080" y="4977360"/>
              <a:chExt cx="445680" cy="380520"/>
            </a:xfrm>
          </p:grpSpPr>
          <p:sp>
            <p:nvSpPr>
              <p:cNvPr id="371" name="Freeform 136"/>
              <p:cNvSpPr/>
              <p:nvPr/>
            </p:nvSpPr>
            <p:spPr>
              <a:xfrm>
                <a:off x="2809080" y="4977360"/>
                <a:ext cx="445680" cy="380520"/>
              </a:xfrm>
              <a:custGeom>
                <a:avLst/>
                <a:gdLst/>
                <a:ahLst/>
                <a:rect l="l" t="t" r="r" b="b"/>
                <a:pathLst>
                  <a:path w="933" h="933">
                    <a:moveTo>
                      <a:pt x="468" y="0"/>
                    </a:moveTo>
                    <a:lnTo>
                      <a:pt x="396" y="6"/>
                    </a:lnTo>
                    <a:lnTo>
                      <a:pt x="327" y="22"/>
                    </a:lnTo>
                    <a:lnTo>
                      <a:pt x="260" y="48"/>
                    </a:lnTo>
                    <a:lnTo>
                      <a:pt x="197" y="86"/>
                    </a:lnTo>
                    <a:lnTo>
                      <a:pt x="141" y="133"/>
                    </a:lnTo>
                    <a:lnTo>
                      <a:pt x="91" y="190"/>
                    </a:lnTo>
                    <a:lnTo>
                      <a:pt x="51" y="255"/>
                    </a:lnTo>
                    <a:lnTo>
                      <a:pt x="22" y="323"/>
                    </a:lnTo>
                    <a:lnTo>
                      <a:pt x="6" y="394"/>
                    </a:lnTo>
                    <a:lnTo>
                      <a:pt x="0" y="465"/>
                    </a:lnTo>
                    <a:lnTo>
                      <a:pt x="1" y="501"/>
                    </a:lnTo>
                    <a:lnTo>
                      <a:pt x="12" y="572"/>
                    </a:lnTo>
                    <a:lnTo>
                      <a:pt x="33" y="640"/>
                    </a:lnTo>
                    <a:lnTo>
                      <a:pt x="65" y="705"/>
                    </a:lnTo>
                    <a:lnTo>
                      <a:pt x="107" y="765"/>
                    </a:lnTo>
                    <a:lnTo>
                      <a:pt x="160" y="818"/>
                    </a:lnTo>
                    <a:lnTo>
                      <a:pt x="221" y="864"/>
                    </a:lnTo>
                    <a:lnTo>
                      <a:pt x="288" y="898"/>
                    </a:lnTo>
                    <a:lnTo>
                      <a:pt x="357" y="920"/>
                    </a:lnTo>
                    <a:lnTo>
                      <a:pt x="429" y="932"/>
                    </a:lnTo>
                    <a:lnTo>
                      <a:pt x="465" y="933"/>
                    </a:lnTo>
                    <a:lnTo>
                      <a:pt x="500" y="932"/>
                    </a:lnTo>
                    <a:lnTo>
                      <a:pt x="571" y="921"/>
                    </a:lnTo>
                    <a:lnTo>
                      <a:pt x="640" y="900"/>
                    </a:lnTo>
                    <a:lnTo>
                      <a:pt x="704" y="868"/>
                    </a:lnTo>
                    <a:lnTo>
                      <a:pt x="764" y="826"/>
                    </a:lnTo>
                    <a:lnTo>
                      <a:pt x="818" y="773"/>
                    </a:lnTo>
                    <a:lnTo>
                      <a:pt x="863" y="712"/>
                    </a:lnTo>
                    <a:lnTo>
                      <a:pt x="897" y="645"/>
                    </a:lnTo>
                    <a:lnTo>
                      <a:pt x="920" y="576"/>
                    </a:lnTo>
                    <a:lnTo>
                      <a:pt x="931" y="504"/>
                    </a:lnTo>
                    <a:lnTo>
                      <a:pt x="933" y="468"/>
                    </a:lnTo>
                    <a:lnTo>
                      <a:pt x="931" y="433"/>
                    </a:lnTo>
                    <a:lnTo>
                      <a:pt x="921" y="362"/>
                    </a:lnTo>
                    <a:lnTo>
                      <a:pt x="899" y="293"/>
                    </a:lnTo>
                    <a:lnTo>
                      <a:pt x="867" y="229"/>
                    </a:lnTo>
                    <a:lnTo>
                      <a:pt x="825" y="169"/>
                    </a:lnTo>
                    <a:lnTo>
                      <a:pt x="773" y="115"/>
                    </a:lnTo>
                    <a:lnTo>
                      <a:pt x="711" y="70"/>
                    </a:lnTo>
                    <a:lnTo>
                      <a:pt x="645" y="36"/>
                    </a:lnTo>
                    <a:lnTo>
                      <a:pt x="575" y="13"/>
                    </a:lnTo>
                    <a:lnTo>
                      <a:pt x="504" y="2"/>
                    </a:lnTo>
                    <a:lnTo>
                      <a:pt x="468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3"/>
            <p:cNvGrpSpPr/>
            <p:nvPr/>
          </p:nvGrpSpPr>
          <p:grpSpPr>
            <a:xfrm>
              <a:off x="2490840" y="5333040"/>
              <a:ext cx="407520" cy="347760"/>
              <a:chOff x="2490840" y="5333040"/>
              <a:chExt cx="407520" cy="347760"/>
            </a:xfrm>
          </p:grpSpPr>
          <p:sp>
            <p:nvSpPr>
              <p:cNvPr id="373" name="Freeform 135"/>
              <p:cNvSpPr/>
              <p:nvPr/>
            </p:nvSpPr>
            <p:spPr>
              <a:xfrm>
                <a:off x="2490840" y="5333040"/>
                <a:ext cx="407520" cy="347760"/>
              </a:xfrm>
              <a:custGeom>
                <a:avLst/>
                <a:gdLst/>
                <a:ahLst/>
                <a:rect l="l" t="t" r="r" b="b"/>
                <a:pathLst>
                  <a:path w="853" h="853">
                    <a:moveTo>
                      <a:pt x="421" y="0"/>
                    </a:moveTo>
                    <a:lnTo>
                      <a:pt x="356" y="6"/>
                    </a:lnTo>
                    <a:lnTo>
                      <a:pt x="292" y="22"/>
                    </a:lnTo>
                    <a:lnTo>
                      <a:pt x="230" y="48"/>
                    </a:lnTo>
                    <a:lnTo>
                      <a:pt x="173" y="84"/>
                    </a:lnTo>
                    <a:lnTo>
                      <a:pt x="121" y="129"/>
                    </a:lnTo>
                    <a:lnTo>
                      <a:pt x="77" y="183"/>
                    </a:lnTo>
                    <a:lnTo>
                      <a:pt x="42" y="241"/>
                    </a:lnTo>
                    <a:lnTo>
                      <a:pt x="18" y="303"/>
                    </a:lnTo>
                    <a:lnTo>
                      <a:pt x="4" y="367"/>
                    </a:lnTo>
                    <a:lnTo>
                      <a:pt x="0" y="433"/>
                    </a:lnTo>
                    <a:lnTo>
                      <a:pt x="2" y="465"/>
                    </a:lnTo>
                    <a:lnTo>
                      <a:pt x="13" y="530"/>
                    </a:lnTo>
                    <a:lnTo>
                      <a:pt x="33" y="593"/>
                    </a:lnTo>
                    <a:lnTo>
                      <a:pt x="64" y="652"/>
                    </a:lnTo>
                    <a:lnTo>
                      <a:pt x="105" y="707"/>
                    </a:lnTo>
                    <a:lnTo>
                      <a:pt x="155" y="756"/>
                    </a:lnTo>
                    <a:lnTo>
                      <a:pt x="211" y="795"/>
                    </a:lnTo>
                    <a:lnTo>
                      <a:pt x="271" y="824"/>
                    </a:lnTo>
                    <a:lnTo>
                      <a:pt x="335" y="843"/>
                    </a:lnTo>
                    <a:lnTo>
                      <a:pt x="400" y="852"/>
                    </a:lnTo>
                    <a:lnTo>
                      <a:pt x="432" y="853"/>
                    </a:lnTo>
                    <a:lnTo>
                      <a:pt x="465" y="852"/>
                    </a:lnTo>
                    <a:lnTo>
                      <a:pt x="530" y="841"/>
                    </a:lnTo>
                    <a:lnTo>
                      <a:pt x="592" y="820"/>
                    </a:lnTo>
                    <a:lnTo>
                      <a:pt x="652" y="789"/>
                    </a:lnTo>
                    <a:lnTo>
                      <a:pt x="707" y="748"/>
                    </a:lnTo>
                    <a:lnTo>
                      <a:pt x="756" y="698"/>
                    </a:lnTo>
                    <a:lnTo>
                      <a:pt x="795" y="642"/>
                    </a:lnTo>
                    <a:lnTo>
                      <a:pt x="824" y="582"/>
                    </a:lnTo>
                    <a:lnTo>
                      <a:pt x="843" y="519"/>
                    </a:lnTo>
                    <a:lnTo>
                      <a:pt x="852" y="454"/>
                    </a:lnTo>
                    <a:lnTo>
                      <a:pt x="853" y="421"/>
                    </a:lnTo>
                    <a:lnTo>
                      <a:pt x="851" y="388"/>
                    </a:lnTo>
                    <a:lnTo>
                      <a:pt x="840" y="324"/>
                    </a:lnTo>
                    <a:lnTo>
                      <a:pt x="820" y="261"/>
                    </a:lnTo>
                    <a:lnTo>
                      <a:pt x="789" y="201"/>
                    </a:lnTo>
                    <a:lnTo>
                      <a:pt x="748" y="147"/>
                    </a:lnTo>
                    <a:lnTo>
                      <a:pt x="698" y="98"/>
                    </a:lnTo>
                    <a:lnTo>
                      <a:pt x="642" y="58"/>
                    </a:lnTo>
                    <a:lnTo>
                      <a:pt x="582" y="29"/>
                    </a:lnTo>
                    <a:lnTo>
                      <a:pt x="518" y="10"/>
                    </a:lnTo>
                    <a:lnTo>
                      <a:pt x="453" y="1"/>
                    </a:lnTo>
                    <a:lnTo>
                      <a:pt x="421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4"/>
            <p:cNvGrpSpPr/>
            <p:nvPr/>
          </p:nvGrpSpPr>
          <p:grpSpPr>
            <a:xfrm>
              <a:off x="231840" y="3613320"/>
              <a:ext cx="2466000" cy="1896120"/>
              <a:chOff x="231840" y="3613320"/>
              <a:chExt cx="2466000" cy="1896120"/>
            </a:xfrm>
          </p:grpSpPr>
          <p:sp>
            <p:nvSpPr>
              <p:cNvPr id="375" name="Freeform 134"/>
              <p:cNvSpPr/>
              <p:nvPr/>
            </p:nvSpPr>
            <p:spPr>
              <a:xfrm>
                <a:off x="231840" y="3613320"/>
                <a:ext cx="2466000" cy="1896120"/>
              </a:xfrm>
              <a:custGeom>
                <a:avLst/>
                <a:gdLst/>
                <a:ahLst/>
                <a:rect l="l" t="t" r="r" b="b"/>
                <a:pathLst>
                  <a:path w="5161" h="4647">
                    <a:moveTo>
                      <a:pt x="0" y="0"/>
                    </a:moveTo>
                    <a:lnTo>
                      <a:pt x="0" y="23"/>
                    </a:lnTo>
                    <a:lnTo>
                      <a:pt x="358" y="314"/>
                    </a:lnTo>
                    <a:lnTo>
                      <a:pt x="937" y="796"/>
                    </a:lnTo>
                    <a:lnTo>
                      <a:pt x="1517" y="1292"/>
                    </a:lnTo>
                    <a:lnTo>
                      <a:pt x="2100" y="1803"/>
                    </a:lnTo>
                    <a:lnTo>
                      <a:pt x="2689" y="2331"/>
                    </a:lnTo>
                    <a:lnTo>
                      <a:pt x="3286" y="2877"/>
                    </a:lnTo>
                    <a:lnTo>
                      <a:pt x="3893" y="3444"/>
                    </a:lnTo>
                    <a:lnTo>
                      <a:pt x="4513" y="4034"/>
                    </a:lnTo>
                    <a:lnTo>
                      <a:pt x="5148" y="4647"/>
                    </a:lnTo>
                    <a:lnTo>
                      <a:pt x="5161" y="4634"/>
                    </a:lnTo>
                    <a:lnTo>
                      <a:pt x="4525" y="4021"/>
                    </a:lnTo>
                    <a:lnTo>
                      <a:pt x="3905" y="3431"/>
                    </a:lnTo>
                    <a:lnTo>
                      <a:pt x="3298" y="2864"/>
                    </a:lnTo>
                    <a:lnTo>
                      <a:pt x="2701" y="2318"/>
                    </a:lnTo>
                    <a:lnTo>
                      <a:pt x="2112" y="1790"/>
                    </a:lnTo>
                    <a:lnTo>
                      <a:pt x="1528" y="1279"/>
                    </a:lnTo>
                    <a:lnTo>
                      <a:pt x="948" y="783"/>
                    </a:lnTo>
                    <a:lnTo>
                      <a:pt x="369" y="3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15"/>
            <p:cNvGrpSpPr/>
            <p:nvPr/>
          </p:nvGrpSpPr>
          <p:grpSpPr>
            <a:xfrm>
              <a:off x="231840" y="3841200"/>
              <a:ext cx="2464560" cy="1667160"/>
              <a:chOff x="231840" y="3841200"/>
              <a:chExt cx="2464560" cy="1667160"/>
            </a:xfrm>
          </p:grpSpPr>
          <p:sp>
            <p:nvSpPr>
              <p:cNvPr id="377" name="Freeform 133"/>
              <p:cNvSpPr/>
              <p:nvPr/>
            </p:nvSpPr>
            <p:spPr>
              <a:xfrm>
                <a:off x="231840" y="3841200"/>
                <a:ext cx="2464560" cy="1667160"/>
              </a:xfrm>
              <a:custGeom>
                <a:avLst/>
                <a:gdLst/>
                <a:ahLst/>
                <a:rect l="l" t="t" r="r" b="b"/>
                <a:pathLst>
                  <a:path w="5158" h="4086">
                    <a:moveTo>
                      <a:pt x="0" y="0"/>
                    </a:moveTo>
                    <a:lnTo>
                      <a:pt x="0" y="10"/>
                    </a:lnTo>
                    <a:lnTo>
                      <a:pt x="216" y="136"/>
                    </a:lnTo>
                    <a:lnTo>
                      <a:pt x="831" y="524"/>
                    </a:lnTo>
                    <a:lnTo>
                      <a:pt x="1441" y="940"/>
                    </a:lnTo>
                    <a:lnTo>
                      <a:pt x="2049" y="1385"/>
                    </a:lnTo>
                    <a:lnTo>
                      <a:pt x="2658" y="1860"/>
                    </a:lnTo>
                    <a:lnTo>
                      <a:pt x="3270" y="2366"/>
                    </a:lnTo>
                    <a:lnTo>
                      <a:pt x="3888" y="2905"/>
                    </a:lnTo>
                    <a:lnTo>
                      <a:pt x="4514" y="3478"/>
                    </a:lnTo>
                    <a:lnTo>
                      <a:pt x="5151" y="4086"/>
                    </a:lnTo>
                    <a:lnTo>
                      <a:pt x="5158" y="4080"/>
                    </a:lnTo>
                    <a:lnTo>
                      <a:pt x="4520" y="3471"/>
                    </a:lnTo>
                    <a:lnTo>
                      <a:pt x="3894" y="2898"/>
                    </a:lnTo>
                    <a:lnTo>
                      <a:pt x="3276" y="2359"/>
                    </a:lnTo>
                    <a:lnTo>
                      <a:pt x="2663" y="1853"/>
                    </a:lnTo>
                    <a:lnTo>
                      <a:pt x="2054" y="1378"/>
                    </a:lnTo>
                    <a:lnTo>
                      <a:pt x="1446" y="933"/>
                    </a:lnTo>
                    <a:lnTo>
                      <a:pt x="835" y="517"/>
                    </a:lnTo>
                    <a:lnTo>
                      <a:pt x="221" y="1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6"/>
            <p:cNvGrpSpPr/>
            <p:nvPr/>
          </p:nvGrpSpPr>
          <p:grpSpPr>
            <a:xfrm>
              <a:off x="231840" y="3991320"/>
              <a:ext cx="2464560" cy="1517040"/>
              <a:chOff x="231840" y="3991320"/>
              <a:chExt cx="2464560" cy="1517040"/>
            </a:xfrm>
          </p:grpSpPr>
          <p:sp>
            <p:nvSpPr>
              <p:cNvPr id="379" name="Freeform 132"/>
              <p:cNvSpPr/>
              <p:nvPr/>
            </p:nvSpPr>
            <p:spPr>
              <a:xfrm>
                <a:off x="231840" y="3991320"/>
                <a:ext cx="2464560" cy="1517040"/>
              </a:xfrm>
              <a:custGeom>
                <a:avLst/>
                <a:gdLst/>
                <a:ahLst/>
                <a:rect l="l" t="t" r="r" b="b"/>
                <a:pathLst>
                  <a:path w="5158" h="3718">
                    <a:moveTo>
                      <a:pt x="0" y="0"/>
                    </a:moveTo>
                    <a:lnTo>
                      <a:pt x="0" y="10"/>
                    </a:lnTo>
                    <a:lnTo>
                      <a:pt x="196" y="95"/>
                    </a:lnTo>
                    <a:lnTo>
                      <a:pt x="691" y="337"/>
                    </a:lnTo>
                    <a:lnTo>
                      <a:pt x="1182" y="605"/>
                    </a:lnTo>
                    <a:lnTo>
                      <a:pt x="1672" y="898"/>
                    </a:lnTo>
                    <a:lnTo>
                      <a:pt x="2160" y="1218"/>
                    </a:lnTo>
                    <a:lnTo>
                      <a:pt x="2650" y="1565"/>
                    </a:lnTo>
                    <a:lnTo>
                      <a:pt x="3141" y="1939"/>
                    </a:lnTo>
                    <a:lnTo>
                      <a:pt x="3635" y="2341"/>
                    </a:lnTo>
                    <a:lnTo>
                      <a:pt x="4134" y="2771"/>
                    </a:lnTo>
                    <a:lnTo>
                      <a:pt x="4639" y="3230"/>
                    </a:lnTo>
                    <a:lnTo>
                      <a:pt x="5151" y="3718"/>
                    </a:lnTo>
                    <a:lnTo>
                      <a:pt x="5158" y="3712"/>
                    </a:lnTo>
                    <a:lnTo>
                      <a:pt x="4645" y="3224"/>
                    </a:lnTo>
                    <a:lnTo>
                      <a:pt x="4140" y="2765"/>
                    </a:lnTo>
                    <a:lnTo>
                      <a:pt x="3641" y="2335"/>
                    </a:lnTo>
                    <a:lnTo>
                      <a:pt x="3146" y="1932"/>
                    </a:lnTo>
                    <a:lnTo>
                      <a:pt x="2655" y="1558"/>
                    </a:lnTo>
                    <a:lnTo>
                      <a:pt x="2165" y="1211"/>
                    </a:lnTo>
                    <a:lnTo>
                      <a:pt x="1676" y="891"/>
                    </a:lnTo>
                    <a:lnTo>
                      <a:pt x="1187" y="597"/>
                    </a:lnTo>
                    <a:lnTo>
                      <a:pt x="695" y="329"/>
                    </a:lnTo>
                    <a:lnTo>
                      <a:pt x="200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7"/>
            <p:cNvGrpSpPr/>
            <p:nvPr/>
          </p:nvGrpSpPr>
          <p:grpSpPr>
            <a:xfrm>
              <a:off x="231840" y="4080600"/>
              <a:ext cx="2464560" cy="1427760"/>
              <a:chOff x="231840" y="4080600"/>
              <a:chExt cx="2464560" cy="1427760"/>
            </a:xfrm>
          </p:grpSpPr>
          <p:sp>
            <p:nvSpPr>
              <p:cNvPr id="381" name="Freeform 131"/>
              <p:cNvSpPr/>
              <p:nvPr/>
            </p:nvSpPr>
            <p:spPr>
              <a:xfrm>
                <a:off x="231840" y="4080600"/>
                <a:ext cx="2464560" cy="1427760"/>
              </a:xfrm>
              <a:custGeom>
                <a:avLst/>
                <a:gdLst/>
                <a:ahLst/>
                <a:rect l="l" t="t" r="r" b="b"/>
                <a:pathLst>
                  <a:path w="5158" h="3499">
                    <a:moveTo>
                      <a:pt x="0" y="0"/>
                    </a:moveTo>
                    <a:lnTo>
                      <a:pt x="0" y="10"/>
                    </a:lnTo>
                    <a:lnTo>
                      <a:pt x="19" y="16"/>
                    </a:lnTo>
                    <a:lnTo>
                      <a:pt x="410" y="161"/>
                    </a:lnTo>
                    <a:lnTo>
                      <a:pt x="800" y="326"/>
                    </a:lnTo>
                    <a:lnTo>
                      <a:pt x="1188" y="511"/>
                    </a:lnTo>
                    <a:lnTo>
                      <a:pt x="1576" y="716"/>
                    </a:lnTo>
                    <a:lnTo>
                      <a:pt x="1964" y="942"/>
                    </a:lnTo>
                    <a:lnTo>
                      <a:pt x="2352" y="1188"/>
                    </a:lnTo>
                    <a:lnTo>
                      <a:pt x="2742" y="1455"/>
                    </a:lnTo>
                    <a:lnTo>
                      <a:pt x="3134" y="1743"/>
                    </a:lnTo>
                    <a:lnTo>
                      <a:pt x="3530" y="2051"/>
                    </a:lnTo>
                    <a:lnTo>
                      <a:pt x="3928" y="2381"/>
                    </a:lnTo>
                    <a:lnTo>
                      <a:pt x="4331" y="2732"/>
                    </a:lnTo>
                    <a:lnTo>
                      <a:pt x="4738" y="3105"/>
                    </a:lnTo>
                    <a:lnTo>
                      <a:pt x="5151" y="3499"/>
                    </a:lnTo>
                    <a:lnTo>
                      <a:pt x="5158" y="3493"/>
                    </a:lnTo>
                    <a:lnTo>
                      <a:pt x="4744" y="3098"/>
                    </a:lnTo>
                    <a:lnTo>
                      <a:pt x="4337" y="2726"/>
                    </a:lnTo>
                    <a:lnTo>
                      <a:pt x="3934" y="2374"/>
                    </a:lnTo>
                    <a:lnTo>
                      <a:pt x="3535" y="2044"/>
                    </a:lnTo>
                    <a:lnTo>
                      <a:pt x="3140" y="1736"/>
                    </a:lnTo>
                    <a:lnTo>
                      <a:pt x="2747" y="1448"/>
                    </a:lnTo>
                    <a:lnTo>
                      <a:pt x="2357" y="1181"/>
                    </a:lnTo>
                    <a:lnTo>
                      <a:pt x="1968" y="934"/>
                    </a:lnTo>
                    <a:lnTo>
                      <a:pt x="1580" y="708"/>
                    </a:lnTo>
                    <a:lnTo>
                      <a:pt x="1192" y="503"/>
                    </a:lnTo>
                    <a:lnTo>
                      <a:pt x="803" y="318"/>
                    </a:lnTo>
                    <a:lnTo>
                      <a:pt x="414" y="152"/>
                    </a:lnTo>
                    <a:lnTo>
                      <a:pt x="22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8"/>
            <p:cNvGrpSpPr/>
            <p:nvPr/>
          </p:nvGrpSpPr>
          <p:grpSpPr>
            <a:xfrm>
              <a:off x="231840" y="4136760"/>
              <a:ext cx="2464560" cy="1371960"/>
              <a:chOff x="231840" y="4136760"/>
              <a:chExt cx="2464560" cy="1371960"/>
            </a:xfrm>
          </p:grpSpPr>
          <p:sp>
            <p:nvSpPr>
              <p:cNvPr id="383" name="Freeform 130"/>
              <p:cNvSpPr/>
              <p:nvPr/>
            </p:nvSpPr>
            <p:spPr>
              <a:xfrm>
                <a:off x="231840" y="4136760"/>
                <a:ext cx="2464560" cy="1371960"/>
              </a:xfrm>
              <a:custGeom>
                <a:avLst/>
                <a:gdLst/>
                <a:ahLst/>
                <a:rect l="l" t="t" r="r" b="b"/>
                <a:pathLst>
                  <a:path w="5158" h="3362">
                    <a:moveTo>
                      <a:pt x="0" y="0"/>
                    </a:moveTo>
                    <a:lnTo>
                      <a:pt x="0" y="9"/>
                    </a:lnTo>
                    <a:lnTo>
                      <a:pt x="225" y="72"/>
                    </a:lnTo>
                    <a:lnTo>
                      <a:pt x="568" y="188"/>
                    </a:lnTo>
                    <a:lnTo>
                      <a:pt x="911" y="322"/>
                    </a:lnTo>
                    <a:lnTo>
                      <a:pt x="1254" y="474"/>
                    </a:lnTo>
                    <a:lnTo>
                      <a:pt x="1597" y="644"/>
                    </a:lnTo>
                    <a:lnTo>
                      <a:pt x="1941" y="832"/>
                    </a:lnTo>
                    <a:lnTo>
                      <a:pt x="2286" y="1039"/>
                    </a:lnTo>
                    <a:lnTo>
                      <a:pt x="2633" y="1264"/>
                    </a:lnTo>
                    <a:lnTo>
                      <a:pt x="2982" y="1508"/>
                    </a:lnTo>
                    <a:lnTo>
                      <a:pt x="3334" y="1770"/>
                    </a:lnTo>
                    <a:lnTo>
                      <a:pt x="3689" y="2051"/>
                    </a:lnTo>
                    <a:lnTo>
                      <a:pt x="4048" y="2350"/>
                    </a:lnTo>
                    <a:lnTo>
                      <a:pt x="4411" y="2669"/>
                    </a:lnTo>
                    <a:lnTo>
                      <a:pt x="4779" y="3006"/>
                    </a:lnTo>
                    <a:lnTo>
                      <a:pt x="5151" y="3362"/>
                    </a:lnTo>
                    <a:lnTo>
                      <a:pt x="5158" y="3356"/>
                    </a:lnTo>
                    <a:lnTo>
                      <a:pt x="4785" y="2999"/>
                    </a:lnTo>
                    <a:lnTo>
                      <a:pt x="4417" y="2662"/>
                    </a:lnTo>
                    <a:lnTo>
                      <a:pt x="4054" y="2344"/>
                    </a:lnTo>
                    <a:lnTo>
                      <a:pt x="3695" y="2044"/>
                    </a:lnTo>
                    <a:lnTo>
                      <a:pt x="3339" y="1763"/>
                    </a:lnTo>
                    <a:lnTo>
                      <a:pt x="2987" y="1501"/>
                    </a:lnTo>
                    <a:lnTo>
                      <a:pt x="2638" y="1257"/>
                    </a:lnTo>
                    <a:lnTo>
                      <a:pt x="2290" y="1032"/>
                    </a:lnTo>
                    <a:lnTo>
                      <a:pt x="1945" y="825"/>
                    </a:lnTo>
                    <a:lnTo>
                      <a:pt x="1601" y="636"/>
                    </a:lnTo>
                    <a:lnTo>
                      <a:pt x="1257" y="466"/>
                    </a:lnTo>
                    <a:lnTo>
                      <a:pt x="914" y="314"/>
                    </a:lnTo>
                    <a:lnTo>
                      <a:pt x="571" y="180"/>
                    </a:lnTo>
                    <a:lnTo>
                      <a:pt x="227" y="6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9"/>
            <p:cNvGrpSpPr/>
            <p:nvPr/>
          </p:nvGrpSpPr>
          <p:grpSpPr>
            <a:xfrm>
              <a:off x="231840" y="4183200"/>
              <a:ext cx="2464560" cy="1325160"/>
              <a:chOff x="231840" y="4183200"/>
              <a:chExt cx="2464560" cy="1325160"/>
            </a:xfrm>
          </p:grpSpPr>
          <p:sp>
            <p:nvSpPr>
              <p:cNvPr id="385" name="Freeform 129"/>
              <p:cNvSpPr/>
              <p:nvPr/>
            </p:nvSpPr>
            <p:spPr>
              <a:xfrm>
                <a:off x="231840" y="4183200"/>
                <a:ext cx="2464560" cy="1325160"/>
              </a:xfrm>
              <a:custGeom>
                <a:avLst/>
                <a:gdLst/>
                <a:ahLst/>
                <a:rect l="l" t="t" r="r" b="b"/>
                <a:pathLst>
                  <a:path w="5158" h="3248">
                    <a:moveTo>
                      <a:pt x="0" y="0"/>
                    </a:moveTo>
                    <a:lnTo>
                      <a:pt x="0" y="9"/>
                    </a:lnTo>
                    <a:lnTo>
                      <a:pt x="22" y="13"/>
                    </a:lnTo>
                    <a:lnTo>
                      <a:pt x="330" y="89"/>
                    </a:lnTo>
                    <a:lnTo>
                      <a:pt x="639" y="181"/>
                    </a:lnTo>
                    <a:lnTo>
                      <a:pt x="947" y="289"/>
                    </a:lnTo>
                    <a:lnTo>
                      <a:pt x="1257" y="415"/>
                    </a:lnTo>
                    <a:lnTo>
                      <a:pt x="1567" y="557"/>
                    </a:lnTo>
                    <a:lnTo>
                      <a:pt x="1879" y="717"/>
                    </a:lnTo>
                    <a:lnTo>
                      <a:pt x="2192" y="893"/>
                    </a:lnTo>
                    <a:lnTo>
                      <a:pt x="2508" y="1087"/>
                    </a:lnTo>
                    <a:lnTo>
                      <a:pt x="2826" y="1297"/>
                    </a:lnTo>
                    <a:lnTo>
                      <a:pt x="3146" y="1524"/>
                    </a:lnTo>
                    <a:lnTo>
                      <a:pt x="3471" y="1769"/>
                    </a:lnTo>
                    <a:lnTo>
                      <a:pt x="3798" y="2030"/>
                    </a:lnTo>
                    <a:lnTo>
                      <a:pt x="4130" y="2309"/>
                    </a:lnTo>
                    <a:lnTo>
                      <a:pt x="4465" y="2605"/>
                    </a:lnTo>
                    <a:lnTo>
                      <a:pt x="4806" y="2918"/>
                    </a:lnTo>
                    <a:lnTo>
                      <a:pt x="5151" y="3248"/>
                    </a:lnTo>
                    <a:lnTo>
                      <a:pt x="5158" y="3242"/>
                    </a:lnTo>
                    <a:lnTo>
                      <a:pt x="4812" y="2911"/>
                    </a:lnTo>
                    <a:lnTo>
                      <a:pt x="4471" y="2598"/>
                    </a:lnTo>
                    <a:lnTo>
                      <a:pt x="4135" y="2302"/>
                    </a:lnTo>
                    <a:lnTo>
                      <a:pt x="3804" y="2023"/>
                    </a:lnTo>
                    <a:lnTo>
                      <a:pt x="3476" y="1762"/>
                    </a:lnTo>
                    <a:lnTo>
                      <a:pt x="3152" y="1517"/>
                    </a:lnTo>
                    <a:lnTo>
                      <a:pt x="2831" y="1290"/>
                    </a:lnTo>
                    <a:lnTo>
                      <a:pt x="2512" y="1079"/>
                    </a:lnTo>
                    <a:lnTo>
                      <a:pt x="2197" y="886"/>
                    </a:lnTo>
                    <a:lnTo>
                      <a:pt x="1883" y="709"/>
                    </a:lnTo>
                    <a:lnTo>
                      <a:pt x="1571" y="550"/>
                    </a:lnTo>
                    <a:lnTo>
                      <a:pt x="1260" y="407"/>
                    </a:lnTo>
                    <a:lnTo>
                      <a:pt x="951" y="281"/>
                    </a:lnTo>
                    <a:lnTo>
                      <a:pt x="642" y="172"/>
                    </a:lnTo>
                    <a:lnTo>
                      <a:pt x="333" y="80"/>
                    </a:lnTo>
                    <a:lnTo>
                      <a:pt x="24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0"/>
            <p:cNvGrpSpPr/>
            <p:nvPr/>
          </p:nvGrpSpPr>
          <p:grpSpPr>
            <a:xfrm>
              <a:off x="231840" y="4226040"/>
              <a:ext cx="2464560" cy="1282320"/>
              <a:chOff x="231840" y="4226040"/>
              <a:chExt cx="2464560" cy="1282320"/>
            </a:xfrm>
          </p:grpSpPr>
          <p:sp>
            <p:nvSpPr>
              <p:cNvPr id="387" name="Freeform 128"/>
              <p:cNvSpPr/>
              <p:nvPr/>
            </p:nvSpPr>
            <p:spPr>
              <a:xfrm>
                <a:off x="231840" y="4226040"/>
                <a:ext cx="2464560" cy="1282320"/>
              </a:xfrm>
              <a:custGeom>
                <a:avLst/>
                <a:gdLst/>
                <a:ahLst/>
                <a:rect l="l" t="t" r="r" b="b"/>
                <a:pathLst>
                  <a:path w="5158" h="3143">
                    <a:moveTo>
                      <a:pt x="0" y="0"/>
                    </a:moveTo>
                    <a:lnTo>
                      <a:pt x="0" y="9"/>
                    </a:lnTo>
                    <a:lnTo>
                      <a:pt x="105" y="24"/>
                    </a:lnTo>
                    <a:lnTo>
                      <a:pt x="385" y="80"/>
                    </a:lnTo>
                    <a:lnTo>
                      <a:pt x="665" y="151"/>
                    </a:lnTo>
                    <a:lnTo>
                      <a:pt x="946" y="239"/>
                    </a:lnTo>
                    <a:lnTo>
                      <a:pt x="1229" y="342"/>
                    </a:lnTo>
                    <a:lnTo>
                      <a:pt x="1513" y="462"/>
                    </a:lnTo>
                    <a:lnTo>
                      <a:pt x="1799" y="597"/>
                    </a:lnTo>
                    <a:lnTo>
                      <a:pt x="2087" y="749"/>
                    </a:lnTo>
                    <a:lnTo>
                      <a:pt x="2378" y="916"/>
                    </a:lnTo>
                    <a:lnTo>
                      <a:pt x="2671" y="1100"/>
                    </a:lnTo>
                    <a:lnTo>
                      <a:pt x="2968" y="1299"/>
                    </a:lnTo>
                    <a:lnTo>
                      <a:pt x="3267" y="1514"/>
                    </a:lnTo>
                    <a:lnTo>
                      <a:pt x="3571" y="1746"/>
                    </a:lnTo>
                    <a:lnTo>
                      <a:pt x="3878" y="1993"/>
                    </a:lnTo>
                    <a:lnTo>
                      <a:pt x="4189" y="2256"/>
                    </a:lnTo>
                    <a:lnTo>
                      <a:pt x="4505" y="2536"/>
                    </a:lnTo>
                    <a:lnTo>
                      <a:pt x="4826" y="2831"/>
                    </a:lnTo>
                    <a:lnTo>
                      <a:pt x="5151" y="3143"/>
                    </a:lnTo>
                    <a:lnTo>
                      <a:pt x="5158" y="3137"/>
                    </a:lnTo>
                    <a:lnTo>
                      <a:pt x="4832" y="2825"/>
                    </a:lnTo>
                    <a:lnTo>
                      <a:pt x="4511" y="2529"/>
                    </a:lnTo>
                    <a:lnTo>
                      <a:pt x="4195" y="2250"/>
                    </a:lnTo>
                    <a:lnTo>
                      <a:pt x="3883" y="1986"/>
                    </a:lnTo>
                    <a:lnTo>
                      <a:pt x="3576" y="1739"/>
                    </a:lnTo>
                    <a:lnTo>
                      <a:pt x="3273" y="1507"/>
                    </a:lnTo>
                    <a:lnTo>
                      <a:pt x="2973" y="1292"/>
                    </a:lnTo>
                    <a:lnTo>
                      <a:pt x="2676" y="1092"/>
                    </a:lnTo>
                    <a:lnTo>
                      <a:pt x="2382" y="909"/>
                    </a:lnTo>
                    <a:lnTo>
                      <a:pt x="2091" y="741"/>
                    </a:lnTo>
                    <a:lnTo>
                      <a:pt x="1803" y="589"/>
                    </a:lnTo>
                    <a:lnTo>
                      <a:pt x="1517" y="454"/>
                    </a:lnTo>
                    <a:lnTo>
                      <a:pt x="1232" y="334"/>
                    </a:lnTo>
                    <a:lnTo>
                      <a:pt x="949" y="231"/>
                    </a:lnTo>
                    <a:lnTo>
                      <a:pt x="667" y="143"/>
                    </a:lnTo>
                    <a:lnTo>
                      <a:pt x="386" y="71"/>
                    </a:lnTo>
                    <a:lnTo>
                      <a:pt x="10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8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231840" y="3458880"/>
              <a:ext cx="2802240" cy="1711800"/>
              <a:chOff x="231840" y="3458880"/>
              <a:chExt cx="2802240" cy="1711800"/>
            </a:xfrm>
          </p:grpSpPr>
          <p:sp>
            <p:nvSpPr>
              <p:cNvPr id="389" name="Freeform 127"/>
              <p:cNvSpPr/>
              <p:nvPr/>
            </p:nvSpPr>
            <p:spPr>
              <a:xfrm>
                <a:off x="231840" y="3458880"/>
                <a:ext cx="2802240" cy="1711800"/>
              </a:xfrm>
              <a:custGeom>
                <a:avLst/>
                <a:gdLst/>
                <a:ahLst/>
                <a:rect l="l" t="t" r="r" b="b"/>
                <a:pathLst>
                  <a:path w="5865" h="4195">
                    <a:moveTo>
                      <a:pt x="0" y="0"/>
                    </a:moveTo>
                    <a:lnTo>
                      <a:pt x="0" y="21"/>
                    </a:lnTo>
                    <a:lnTo>
                      <a:pt x="587" y="424"/>
                    </a:lnTo>
                    <a:lnTo>
                      <a:pt x="1837" y="1295"/>
                    </a:lnTo>
                    <a:lnTo>
                      <a:pt x="3777" y="2678"/>
                    </a:lnTo>
                    <a:lnTo>
                      <a:pt x="5855" y="4195"/>
                    </a:lnTo>
                    <a:lnTo>
                      <a:pt x="5865" y="4181"/>
                    </a:lnTo>
                    <a:lnTo>
                      <a:pt x="3788" y="2664"/>
                    </a:lnTo>
                    <a:lnTo>
                      <a:pt x="1848" y="1280"/>
                    </a:lnTo>
                    <a:lnTo>
                      <a:pt x="597" y="4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231840" y="3695760"/>
              <a:ext cx="2801520" cy="1473120"/>
              <a:chOff x="231840" y="3695760"/>
              <a:chExt cx="2801520" cy="1473120"/>
            </a:xfrm>
          </p:grpSpPr>
          <p:sp>
            <p:nvSpPr>
              <p:cNvPr id="391" name="Freeform 126"/>
              <p:cNvSpPr/>
              <p:nvPr/>
            </p:nvSpPr>
            <p:spPr>
              <a:xfrm>
                <a:off x="231840" y="3695760"/>
                <a:ext cx="2801520" cy="1473120"/>
              </a:xfrm>
              <a:custGeom>
                <a:avLst/>
                <a:gdLst/>
                <a:ahLst/>
                <a:rect l="l" t="t" r="r" b="b"/>
                <a:pathLst>
                  <a:path w="5863" h="3610">
                    <a:moveTo>
                      <a:pt x="0" y="0"/>
                    </a:moveTo>
                    <a:lnTo>
                      <a:pt x="0" y="10"/>
                    </a:lnTo>
                    <a:lnTo>
                      <a:pt x="445" y="223"/>
                    </a:lnTo>
                    <a:lnTo>
                      <a:pt x="1103" y="560"/>
                    </a:lnTo>
                    <a:lnTo>
                      <a:pt x="1761" y="919"/>
                    </a:lnTo>
                    <a:lnTo>
                      <a:pt x="2422" y="1302"/>
                    </a:lnTo>
                    <a:lnTo>
                      <a:pt x="3087" y="1710"/>
                    </a:lnTo>
                    <a:lnTo>
                      <a:pt x="3761" y="2144"/>
                    </a:lnTo>
                    <a:lnTo>
                      <a:pt x="4446" y="2604"/>
                    </a:lnTo>
                    <a:lnTo>
                      <a:pt x="5144" y="3093"/>
                    </a:lnTo>
                    <a:lnTo>
                      <a:pt x="5858" y="3610"/>
                    </a:lnTo>
                    <a:lnTo>
                      <a:pt x="5863" y="3603"/>
                    </a:lnTo>
                    <a:lnTo>
                      <a:pt x="5149" y="3085"/>
                    </a:lnTo>
                    <a:lnTo>
                      <a:pt x="4451" y="2597"/>
                    </a:lnTo>
                    <a:lnTo>
                      <a:pt x="3766" y="2136"/>
                    </a:lnTo>
                    <a:lnTo>
                      <a:pt x="3092" y="1703"/>
                    </a:lnTo>
                    <a:lnTo>
                      <a:pt x="2426" y="1295"/>
                    </a:lnTo>
                    <a:lnTo>
                      <a:pt x="1765" y="912"/>
                    </a:lnTo>
                    <a:lnTo>
                      <a:pt x="1107" y="552"/>
                    </a:lnTo>
                    <a:lnTo>
                      <a:pt x="449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23"/>
            <p:cNvGrpSpPr/>
            <p:nvPr/>
          </p:nvGrpSpPr>
          <p:grpSpPr>
            <a:xfrm>
              <a:off x="231840" y="3858120"/>
              <a:ext cx="2801520" cy="1311120"/>
              <a:chOff x="231840" y="3858120"/>
              <a:chExt cx="2801520" cy="1311120"/>
            </a:xfrm>
          </p:grpSpPr>
          <p:sp>
            <p:nvSpPr>
              <p:cNvPr id="393" name="Freeform 125"/>
              <p:cNvSpPr/>
              <p:nvPr/>
            </p:nvSpPr>
            <p:spPr>
              <a:xfrm>
                <a:off x="231840" y="3858120"/>
                <a:ext cx="2801520" cy="1311120"/>
              </a:xfrm>
              <a:custGeom>
                <a:avLst/>
                <a:gdLst/>
                <a:ahLst/>
                <a:rect l="l" t="t" r="r" b="b"/>
                <a:pathLst>
                  <a:path w="5863" h="3213">
                    <a:moveTo>
                      <a:pt x="0" y="0"/>
                    </a:moveTo>
                    <a:lnTo>
                      <a:pt x="0" y="10"/>
                    </a:lnTo>
                    <a:lnTo>
                      <a:pt x="66" y="30"/>
                    </a:lnTo>
                    <a:lnTo>
                      <a:pt x="580" y="211"/>
                    </a:lnTo>
                    <a:lnTo>
                      <a:pt x="1094" y="412"/>
                    </a:lnTo>
                    <a:lnTo>
                      <a:pt x="1607" y="635"/>
                    </a:lnTo>
                    <a:lnTo>
                      <a:pt x="2121" y="879"/>
                    </a:lnTo>
                    <a:lnTo>
                      <a:pt x="2637" y="1145"/>
                    </a:lnTo>
                    <a:lnTo>
                      <a:pt x="3158" y="1433"/>
                    </a:lnTo>
                    <a:lnTo>
                      <a:pt x="3683" y="1743"/>
                    </a:lnTo>
                    <a:lnTo>
                      <a:pt x="4214" y="2076"/>
                    </a:lnTo>
                    <a:lnTo>
                      <a:pt x="4753" y="2431"/>
                    </a:lnTo>
                    <a:lnTo>
                      <a:pt x="5300" y="2811"/>
                    </a:lnTo>
                    <a:lnTo>
                      <a:pt x="5858" y="3213"/>
                    </a:lnTo>
                    <a:lnTo>
                      <a:pt x="5863" y="3206"/>
                    </a:lnTo>
                    <a:lnTo>
                      <a:pt x="5305" y="2803"/>
                    </a:lnTo>
                    <a:lnTo>
                      <a:pt x="4758" y="2424"/>
                    </a:lnTo>
                    <a:lnTo>
                      <a:pt x="4219" y="2068"/>
                    </a:lnTo>
                    <a:lnTo>
                      <a:pt x="3687" y="1735"/>
                    </a:lnTo>
                    <a:lnTo>
                      <a:pt x="3162" y="1425"/>
                    </a:lnTo>
                    <a:lnTo>
                      <a:pt x="2642" y="1137"/>
                    </a:lnTo>
                    <a:lnTo>
                      <a:pt x="2125" y="871"/>
                    </a:lnTo>
                    <a:lnTo>
                      <a:pt x="1610" y="627"/>
                    </a:lnTo>
                    <a:lnTo>
                      <a:pt x="1097" y="404"/>
                    </a:lnTo>
                    <a:lnTo>
                      <a:pt x="583" y="202"/>
                    </a:lnTo>
                    <a:lnTo>
                      <a:pt x="68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4"/>
            <p:cNvGrpSpPr/>
            <p:nvPr/>
          </p:nvGrpSpPr>
          <p:grpSpPr>
            <a:xfrm>
              <a:off x="231840" y="3959640"/>
              <a:ext cx="2801520" cy="1209600"/>
              <a:chOff x="231840" y="3959640"/>
              <a:chExt cx="2801520" cy="1209600"/>
            </a:xfrm>
          </p:grpSpPr>
          <p:sp>
            <p:nvSpPr>
              <p:cNvPr id="395" name="Freeform 124"/>
              <p:cNvSpPr/>
              <p:nvPr/>
            </p:nvSpPr>
            <p:spPr>
              <a:xfrm>
                <a:off x="231840" y="3959640"/>
                <a:ext cx="2801520" cy="1209600"/>
              </a:xfrm>
              <a:custGeom>
                <a:avLst/>
                <a:gdLst/>
                <a:ahLst/>
                <a:rect l="l" t="t" r="r" b="b"/>
                <a:pathLst>
                  <a:path w="5863" h="2965">
                    <a:moveTo>
                      <a:pt x="0" y="0"/>
                    </a:moveTo>
                    <a:lnTo>
                      <a:pt x="0" y="9"/>
                    </a:lnTo>
                    <a:lnTo>
                      <a:pt x="101" y="31"/>
                    </a:lnTo>
                    <a:lnTo>
                      <a:pt x="498" y="133"/>
                    </a:lnTo>
                    <a:lnTo>
                      <a:pt x="896" y="252"/>
                    </a:lnTo>
                    <a:lnTo>
                      <a:pt x="1293" y="387"/>
                    </a:lnTo>
                    <a:lnTo>
                      <a:pt x="1691" y="538"/>
                    </a:lnTo>
                    <a:lnTo>
                      <a:pt x="2091" y="705"/>
                    </a:lnTo>
                    <a:lnTo>
                      <a:pt x="2493" y="889"/>
                    </a:lnTo>
                    <a:lnTo>
                      <a:pt x="2898" y="1090"/>
                    </a:lnTo>
                    <a:lnTo>
                      <a:pt x="3306" y="1307"/>
                    </a:lnTo>
                    <a:lnTo>
                      <a:pt x="3718" y="1541"/>
                    </a:lnTo>
                    <a:lnTo>
                      <a:pt x="4134" y="1791"/>
                    </a:lnTo>
                    <a:lnTo>
                      <a:pt x="4556" y="2059"/>
                    </a:lnTo>
                    <a:lnTo>
                      <a:pt x="4983" y="2344"/>
                    </a:lnTo>
                    <a:lnTo>
                      <a:pt x="5417" y="2645"/>
                    </a:lnTo>
                    <a:lnTo>
                      <a:pt x="5858" y="2964"/>
                    </a:lnTo>
                    <a:lnTo>
                      <a:pt x="5863" y="2957"/>
                    </a:lnTo>
                    <a:lnTo>
                      <a:pt x="5422" y="2638"/>
                    </a:lnTo>
                    <a:lnTo>
                      <a:pt x="4988" y="2336"/>
                    </a:lnTo>
                    <a:lnTo>
                      <a:pt x="4561" y="2052"/>
                    </a:lnTo>
                    <a:lnTo>
                      <a:pt x="4139" y="1784"/>
                    </a:lnTo>
                    <a:lnTo>
                      <a:pt x="3722" y="1533"/>
                    </a:lnTo>
                    <a:lnTo>
                      <a:pt x="3310" y="1299"/>
                    </a:lnTo>
                    <a:lnTo>
                      <a:pt x="2902" y="1082"/>
                    </a:lnTo>
                    <a:lnTo>
                      <a:pt x="2497" y="881"/>
                    </a:lnTo>
                    <a:lnTo>
                      <a:pt x="2095" y="697"/>
                    </a:lnTo>
                    <a:lnTo>
                      <a:pt x="1695" y="530"/>
                    </a:lnTo>
                    <a:lnTo>
                      <a:pt x="1296" y="378"/>
                    </a:lnTo>
                    <a:lnTo>
                      <a:pt x="898" y="243"/>
                    </a:lnTo>
                    <a:lnTo>
                      <a:pt x="501" y="125"/>
                    </a:lnTo>
                    <a:lnTo>
                      <a:pt x="10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25"/>
            <p:cNvGrpSpPr/>
            <p:nvPr/>
          </p:nvGrpSpPr>
          <p:grpSpPr>
            <a:xfrm>
              <a:off x="231840" y="4021920"/>
              <a:ext cx="2801520" cy="1146960"/>
              <a:chOff x="231840" y="4021920"/>
              <a:chExt cx="2801520" cy="1146960"/>
            </a:xfrm>
          </p:grpSpPr>
          <p:sp>
            <p:nvSpPr>
              <p:cNvPr id="397" name="Freeform 123"/>
              <p:cNvSpPr/>
              <p:nvPr/>
            </p:nvSpPr>
            <p:spPr>
              <a:xfrm>
                <a:off x="231840" y="4021920"/>
                <a:ext cx="2801520" cy="1146960"/>
              </a:xfrm>
              <a:custGeom>
                <a:avLst/>
                <a:gdLst/>
                <a:ahLst/>
                <a:rect l="l" t="t" r="r" b="b"/>
                <a:pathLst>
                  <a:path w="5863" h="2811">
                    <a:moveTo>
                      <a:pt x="0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393" y="81"/>
                    </a:lnTo>
                    <a:lnTo>
                      <a:pt x="740" y="160"/>
                    </a:lnTo>
                    <a:lnTo>
                      <a:pt x="1087" y="254"/>
                    </a:lnTo>
                    <a:lnTo>
                      <a:pt x="1436" y="362"/>
                    </a:lnTo>
                    <a:lnTo>
                      <a:pt x="1786" y="485"/>
                    </a:lnTo>
                    <a:lnTo>
                      <a:pt x="2138" y="623"/>
                    </a:lnTo>
                    <a:lnTo>
                      <a:pt x="2492" y="775"/>
                    </a:lnTo>
                    <a:lnTo>
                      <a:pt x="2849" y="942"/>
                    </a:lnTo>
                    <a:lnTo>
                      <a:pt x="3210" y="1124"/>
                    </a:lnTo>
                    <a:lnTo>
                      <a:pt x="3574" y="1321"/>
                    </a:lnTo>
                    <a:lnTo>
                      <a:pt x="3942" y="1532"/>
                    </a:lnTo>
                    <a:lnTo>
                      <a:pt x="4314" y="1758"/>
                    </a:lnTo>
                    <a:lnTo>
                      <a:pt x="4692" y="1999"/>
                    </a:lnTo>
                    <a:lnTo>
                      <a:pt x="5075" y="2255"/>
                    </a:lnTo>
                    <a:lnTo>
                      <a:pt x="5463" y="2526"/>
                    </a:lnTo>
                    <a:lnTo>
                      <a:pt x="5858" y="2811"/>
                    </a:lnTo>
                    <a:lnTo>
                      <a:pt x="5863" y="2804"/>
                    </a:lnTo>
                    <a:lnTo>
                      <a:pt x="5468" y="2518"/>
                    </a:lnTo>
                    <a:lnTo>
                      <a:pt x="5080" y="2248"/>
                    </a:lnTo>
                    <a:lnTo>
                      <a:pt x="4697" y="1992"/>
                    </a:lnTo>
                    <a:lnTo>
                      <a:pt x="4319" y="1751"/>
                    </a:lnTo>
                    <a:lnTo>
                      <a:pt x="3946" y="1524"/>
                    </a:lnTo>
                    <a:lnTo>
                      <a:pt x="3578" y="1313"/>
                    </a:lnTo>
                    <a:lnTo>
                      <a:pt x="3214" y="1116"/>
                    </a:lnTo>
                    <a:lnTo>
                      <a:pt x="2853" y="935"/>
                    </a:lnTo>
                    <a:lnTo>
                      <a:pt x="2496" y="767"/>
                    </a:lnTo>
                    <a:lnTo>
                      <a:pt x="2141" y="615"/>
                    </a:lnTo>
                    <a:lnTo>
                      <a:pt x="1789" y="477"/>
                    </a:lnTo>
                    <a:lnTo>
                      <a:pt x="1438" y="354"/>
                    </a:lnTo>
                    <a:lnTo>
                      <a:pt x="1090" y="246"/>
                    </a:lnTo>
                    <a:lnTo>
                      <a:pt x="742" y="152"/>
                    </a:lnTo>
                    <a:lnTo>
                      <a:pt x="395" y="72"/>
                    </a:lnTo>
                    <a:lnTo>
                      <a:pt x="48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26"/>
            <p:cNvGrpSpPr/>
            <p:nvPr/>
          </p:nvGrpSpPr>
          <p:grpSpPr>
            <a:xfrm>
              <a:off x="231840" y="4077720"/>
              <a:ext cx="2801520" cy="1091520"/>
              <a:chOff x="231840" y="4077720"/>
              <a:chExt cx="2801520" cy="1091520"/>
            </a:xfrm>
          </p:grpSpPr>
          <p:sp>
            <p:nvSpPr>
              <p:cNvPr id="399" name="Freeform 122"/>
              <p:cNvSpPr/>
              <p:nvPr/>
            </p:nvSpPr>
            <p:spPr>
              <a:xfrm>
                <a:off x="231840" y="4077720"/>
                <a:ext cx="2801520" cy="1091520"/>
              </a:xfrm>
              <a:custGeom>
                <a:avLst/>
                <a:gdLst/>
                <a:ahLst/>
                <a:rect l="l" t="t" r="r" b="b"/>
                <a:pathLst>
                  <a:path w="5863" h="2675">
                    <a:moveTo>
                      <a:pt x="0" y="0"/>
                    </a:moveTo>
                    <a:lnTo>
                      <a:pt x="0" y="9"/>
                    </a:lnTo>
                    <a:lnTo>
                      <a:pt x="244" y="35"/>
                    </a:lnTo>
                    <a:lnTo>
                      <a:pt x="553" y="82"/>
                    </a:lnTo>
                    <a:lnTo>
                      <a:pt x="863" y="143"/>
                    </a:lnTo>
                    <a:lnTo>
                      <a:pt x="1175" y="217"/>
                    </a:lnTo>
                    <a:lnTo>
                      <a:pt x="1489" y="305"/>
                    </a:lnTo>
                    <a:lnTo>
                      <a:pt x="1804" y="406"/>
                    </a:lnTo>
                    <a:lnTo>
                      <a:pt x="2122" y="521"/>
                    </a:lnTo>
                    <a:lnTo>
                      <a:pt x="2442" y="649"/>
                    </a:lnTo>
                    <a:lnTo>
                      <a:pt x="2765" y="790"/>
                    </a:lnTo>
                    <a:lnTo>
                      <a:pt x="3092" y="946"/>
                    </a:lnTo>
                    <a:lnTo>
                      <a:pt x="3422" y="1114"/>
                    </a:lnTo>
                    <a:lnTo>
                      <a:pt x="3755" y="1297"/>
                    </a:lnTo>
                    <a:lnTo>
                      <a:pt x="4093" y="1492"/>
                    </a:lnTo>
                    <a:lnTo>
                      <a:pt x="4436" y="1702"/>
                    </a:lnTo>
                    <a:lnTo>
                      <a:pt x="4783" y="1925"/>
                    </a:lnTo>
                    <a:lnTo>
                      <a:pt x="5136" y="2161"/>
                    </a:lnTo>
                    <a:lnTo>
                      <a:pt x="5494" y="2411"/>
                    </a:lnTo>
                    <a:lnTo>
                      <a:pt x="5858" y="2674"/>
                    </a:lnTo>
                    <a:lnTo>
                      <a:pt x="5863" y="2667"/>
                    </a:lnTo>
                    <a:lnTo>
                      <a:pt x="5499" y="2404"/>
                    </a:lnTo>
                    <a:lnTo>
                      <a:pt x="5141" y="2154"/>
                    </a:lnTo>
                    <a:lnTo>
                      <a:pt x="4788" y="1917"/>
                    </a:lnTo>
                    <a:lnTo>
                      <a:pt x="4441" y="1694"/>
                    </a:lnTo>
                    <a:lnTo>
                      <a:pt x="4098" y="1485"/>
                    </a:lnTo>
                    <a:lnTo>
                      <a:pt x="3760" y="1289"/>
                    </a:lnTo>
                    <a:lnTo>
                      <a:pt x="3426" y="1107"/>
                    </a:lnTo>
                    <a:lnTo>
                      <a:pt x="3095" y="938"/>
                    </a:lnTo>
                    <a:lnTo>
                      <a:pt x="2769" y="782"/>
                    </a:lnTo>
                    <a:lnTo>
                      <a:pt x="2445" y="641"/>
                    </a:lnTo>
                    <a:lnTo>
                      <a:pt x="2125" y="512"/>
                    </a:lnTo>
                    <a:lnTo>
                      <a:pt x="1807" y="398"/>
                    </a:lnTo>
                    <a:lnTo>
                      <a:pt x="1491" y="296"/>
                    </a:lnTo>
                    <a:lnTo>
                      <a:pt x="1177" y="209"/>
                    </a:lnTo>
                    <a:lnTo>
                      <a:pt x="865" y="135"/>
                    </a:lnTo>
                    <a:lnTo>
                      <a:pt x="555" y="74"/>
                    </a:lnTo>
                    <a:lnTo>
                      <a:pt x="245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7"/>
            <p:cNvGrpSpPr/>
            <p:nvPr/>
          </p:nvGrpSpPr>
          <p:grpSpPr>
            <a:xfrm>
              <a:off x="231840" y="4128480"/>
              <a:ext cx="2801520" cy="1040400"/>
              <a:chOff x="231840" y="4128480"/>
              <a:chExt cx="2801520" cy="1040400"/>
            </a:xfrm>
          </p:grpSpPr>
          <p:sp>
            <p:nvSpPr>
              <p:cNvPr id="401" name="Freeform 121"/>
              <p:cNvSpPr/>
              <p:nvPr/>
            </p:nvSpPr>
            <p:spPr>
              <a:xfrm>
                <a:off x="231840" y="4128480"/>
                <a:ext cx="2801520" cy="1040400"/>
              </a:xfrm>
              <a:custGeom>
                <a:avLst/>
                <a:gdLst/>
                <a:ahLst/>
                <a:rect l="l" t="t" r="r" b="b"/>
                <a:pathLst>
                  <a:path w="5863" h="2550">
                    <a:moveTo>
                      <a:pt x="0" y="0"/>
                    </a:moveTo>
                    <a:lnTo>
                      <a:pt x="0" y="9"/>
                    </a:lnTo>
                    <a:lnTo>
                      <a:pt x="85" y="11"/>
                    </a:lnTo>
                    <a:lnTo>
                      <a:pt x="364" y="30"/>
                    </a:lnTo>
                    <a:lnTo>
                      <a:pt x="644" y="62"/>
                    </a:lnTo>
                    <a:lnTo>
                      <a:pt x="926" y="107"/>
                    </a:lnTo>
                    <a:lnTo>
                      <a:pt x="1209" y="164"/>
                    </a:lnTo>
                    <a:lnTo>
                      <a:pt x="1495" y="235"/>
                    </a:lnTo>
                    <a:lnTo>
                      <a:pt x="1783" y="318"/>
                    </a:lnTo>
                    <a:lnTo>
                      <a:pt x="2074" y="413"/>
                    </a:lnTo>
                    <a:lnTo>
                      <a:pt x="2368" y="522"/>
                    </a:lnTo>
                    <a:lnTo>
                      <a:pt x="2665" y="643"/>
                    </a:lnTo>
                    <a:lnTo>
                      <a:pt x="2965" y="777"/>
                    </a:lnTo>
                    <a:lnTo>
                      <a:pt x="3268" y="923"/>
                    </a:lnTo>
                    <a:lnTo>
                      <a:pt x="3576" y="1082"/>
                    </a:lnTo>
                    <a:lnTo>
                      <a:pt x="3887" y="1254"/>
                    </a:lnTo>
                    <a:lnTo>
                      <a:pt x="4203" y="1439"/>
                    </a:lnTo>
                    <a:lnTo>
                      <a:pt x="4524" y="1636"/>
                    </a:lnTo>
                    <a:lnTo>
                      <a:pt x="4850" y="1845"/>
                    </a:lnTo>
                    <a:lnTo>
                      <a:pt x="5180" y="2068"/>
                    </a:lnTo>
                    <a:lnTo>
                      <a:pt x="5516" y="2303"/>
                    </a:lnTo>
                    <a:lnTo>
                      <a:pt x="5858" y="2550"/>
                    </a:lnTo>
                    <a:lnTo>
                      <a:pt x="5863" y="2543"/>
                    </a:lnTo>
                    <a:lnTo>
                      <a:pt x="5521" y="2296"/>
                    </a:lnTo>
                    <a:lnTo>
                      <a:pt x="5185" y="2061"/>
                    </a:lnTo>
                    <a:lnTo>
                      <a:pt x="4854" y="1838"/>
                    </a:lnTo>
                    <a:lnTo>
                      <a:pt x="4529" y="1628"/>
                    </a:lnTo>
                    <a:lnTo>
                      <a:pt x="4208" y="1431"/>
                    </a:lnTo>
                    <a:lnTo>
                      <a:pt x="3892" y="1246"/>
                    </a:lnTo>
                    <a:lnTo>
                      <a:pt x="3580" y="1075"/>
                    </a:lnTo>
                    <a:lnTo>
                      <a:pt x="3272" y="915"/>
                    </a:lnTo>
                    <a:lnTo>
                      <a:pt x="2968" y="769"/>
                    </a:lnTo>
                    <a:lnTo>
                      <a:pt x="2668" y="635"/>
                    </a:lnTo>
                    <a:lnTo>
                      <a:pt x="2371" y="514"/>
                    </a:lnTo>
                    <a:lnTo>
                      <a:pt x="2077" y="405"/>
                    </a:lnTo>
                    <a:lnTo>
                      <a:pt x="1786" y="309"/>
                    </a:lnTo>
                    <a:lnTo>
                      <a:pt x="1498" y="226"/>
                    </a:lnTo>
                    <a:lnTo>
                      <a:pt x="1211" y="156"/>
                    </a:lnTo>
                    <a:lnTo>
                      <a:pt x="927" y="98"/>
                    </a:lnTo>
                    <a:lnTo>
                      <a:pt x="645" y="53"/>
                    </a:lnTo>
                    <a:lnTo>
                      <a:pt x="364" y="21"/>
                    </a:lnTo>
                    <a:lnTo>
                      <a:pt x="85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31840" y="3319560"/>
              <a:ext cx="3084840" cy="1467720"/>
              <a:chOff x="231840" y="3319560"/>
              <a:chExt cx="3084840" cy="1467720"/>
            </a:xfrm>
          </p:grpSpPr>
          <p:sp>
            <p:nvSpPr>
              <p:cNvPr id="403" name="Freeform 120"/>
              <p:cNvSpPr/>
              <p:nvPr/>
            </p:nvSpPr>
            <p:spPr>
              <a:xfrm>
                <a:off x="231840" y="3319560"/>
                <a:ext cx="3084840" cy="1467720"/>
              </a:xfrm>
              <a:custGeom>
                <a:avLst/>
                <a:gdLst/>
                <a:ahLst/>
                <a:rect l="l" t="t" r="r" b="b"/>
                <a:pathLst>
                  <a:path w="6456" h="3597">
                    <a:moveTo>
                      <a:pt x="0" y="0"/>
                    </a:moveTo>
                    <a:lnTo>
                      <a:pt x="0" y="10"/>
                    </a:lnTo>
                    <a:lnTo>
                      <a:pt x="130" y="85"/>
                    </a:lnTo>
                    <a:lnTo>
                      <a:pt x="2789" y="1588"/>
                    </a:lnTo>
                    <a:lnTo>
                      <a:pt x="6452" y="3598"/>
                    </a:lnTo>
                    <a:lnTo>
                      <a:pt x="6456" y="3590"/>
                    </a:lnTo>
                    <a:lnTo>
                      <a:pt x="2793" y="1581"/>
                    </a:lnTo>
                    <a:lnTo>
                      <a:pt x="135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9"/>
            <p:cNvGrpSpPr/>
            <p:nvPr/>
          </p:nvGrpSpPr>
          <p:grpSpPr>
            <a:xfrm>
              <a:off x="231840" y="3560400"/>
              <a:ext cx="3084840" cy="1227240"/>
              <a:chOff x="231840" y="3560400"/>
              <a:chExt cx="3084840" cy="1227240"/>
            </a:xfrm>
          </p:grpSpPr>
          <p:sp>
            <p:nvSpPr>
              <p:cNvPr id="405" name="Freeform 119"/>
              <p:cNvSpPr/>
              <p:nvPr/>
            </p:nvSpPr>
            <p:spPr>
              <a:xfrm>
                <a:off x="231840" y="3560400"/>
                <a:ext cx="3084840" cy="1227240"/>
              </a:xfrm>
              <a:custGeom>
                <a:avLst/>
                <a:gdLst/>
                <a:ahLst/>
                <a:rect l="l" t="t" r="r" b="b"/>
                <a:pathLst>
                  <a:path w="6456" h="3008">
                    <a:moveTo>
                      <a:pt x="0" y="0"/>
                    </a:moveTo>
                    <a:lnTo>
                      <a:pt x="0" y="9"/>
                    </a:lnTo>
                    <a:lnTo>
                      <a:pt x="638" y="252"/>
                    </a:lnTo>
                    <a:lnTo>
                      <a:pt x="1332" y="532"/>
                    </a:lnTo>
                    <a:lnTo>
                      <a:pt x="2030" y="828"/>
                    </a:lnTo>
                    <a:lnTo>
                      <a:pt x="2735" y="1142"/>
                    </a:lnTo>
                    <a:lnTo>
                      <a:pt x="3449" y="1474"/>
                    </a:lnTo>
                    <a:lnTo>
                      <a:pt x="4175" y="1826"/>
                    </a:lnTo>
                    <a:lnTo>
                      <a:pt x="4915" y="2198"/>
                    </a:lnTo>
                    <a:lnTo>
                      <a:pt x="5673" y="2592"/>
                    </a:lnTo>
                    <a:lnTo>
                      <a:pt x="6452" y="3008"/>
                    </a:lnTo>
                    <a:lnTo>
                      <a:pt x="6456" y="3000"/>
                    </a:lnTo>
                    <a:lnTo>
                      <a:pt x="5677" y="2584"/>
                    </a:lnTo>
                    <a:lnTo>
                      <a:pt x="4919" y="2190"/>
                    </a:lnTo>
                    <a:lnTo>
                      <a:pt x="4178" y="1818"/>
                    </a:lnTo>
                    <a:lnTo>
                      <a:pt x="3453" y="1466"/>
                    </a:lnTo>
                    <a:lnTo>
                      <a:pt x="2739" y="1134"/>
                    </a:lnTo>
                    <a:lnTo>
                      <a:pt x="2034" y="820"/>
                    </a:lnTo>
                    <a:lnTo>
                      <a:pt x="1336" y="523"/>
                    </a:lnTo>
                    <a:lnTo>
                      <a:pt x="641" y="2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30"/>
            <p:cNvGrpSpPr/>
            <p:nvPr/>
          </p:nvGrpSpPr>
          <p:grpSpPr>
            <a:xfrm>
              <a:off x="231840" y="3730680"/>
              <a:ext cx="3085560" cy="1058760"/>
              <a:chOff x="231840" y="3730680"/>
              <a:chExt cx="3085560" cy="1058760"/>
            </a:xfrm>
          </p:grpSpPr>
          <p:sp>
            <p:nvSpPr>
              <p:cNvPr id="407" name="Freeform 118"/>
              <p:cNvSpPr/>
              <p:nvPr/>
            </p:nvSpPr>
            <p:spPr>
              <a:xfrm>
                <a:off x="231840" y="3730680"/>
                <a:ext cx="3085560" cy="1058760"/>
              </a:xfrm>
              <a:custGeom>
                <a:avLst/>
                <a:gdLst/>
                <a:ahLst/>
                <a:rect l="l" t="t" r="r" b="b"/>
                <a:pathLst>
                  <a:path w="6458" h="2595">
                    <a:moveTo>
                      <a:pt x="0" y="0"/>
                    </a:moveTo>
                    <a:lnTo>
                      <a:pt x="0" y="18"/>
                    </a:lnTo>
                    <a:lnTo>
                      <a:pt x="504" y="140"/>
                    </a:lnTo>
                    <a:lnTo>
                      <a:pt x="1021" y="280"/>
                    </a:lnTo>
                    <a:lnTo>
                      <a:pt x="1540" y="437"/>
                    </a:lnTo>
                    <a:lnTo>
                      <a:pt x="2061" y="609"/>
                    </a:lnTo>
                    <a:lnTo>
                      <a:pt x="2585" y="798"/>
                    </a:lnTo>
                    <a:lnTo>
                      <a:pt x="3114" y="1003"/>
                    </a:lnTo>
                    <a:lnTo>
                      <a:pt x="3648" y="1225"/>
                    </a:lnTo>
                    <a:lnTo>
                      <a:pt x="4190" y="1464"/>
                    </a:lnTo>
                    <a:lnTo>
                      <a:pt x="4740" y="1721"/>
                    </a:lnTo>
                    <a:lnTo>
                      <a:pt x="5299" y="1994"/>
                    </a:lnTo>
                    <a:lnTo>
                      <a:pt x="5869" y="2286"/>
                    </a:lnTo>
                    <a:lnTo>
                      <a:pt x="6450" y="2595"/>
                    </a:lnTo>
                    <a:lnTo>
                      <a:pt x="6458" y="2579"/>
                    </a:lnTo>
                    <a:lnTo>
                      <a:pt x="5877" y="2270"/>
                    </a:lnTo>
                    <a:lnTo>
                      <a:pt x="5307" y="1979"/>
                    </a:lnTo>
                    <a:lnTo>
                      <a:pt x="4748" y="1705"/>
                    </a:lnTo>
                    <a:lnTo>
                      <a:pt x="4197" y="1448"/>
                    </a:lnTo>
                    <a:lnTo>
                      <a:pt x="3655" y="1209"/>
                    </a:lnTo>
                    <a:lnTo>
                      <a:pt x="3120" y="987"/>
                    </a:lnTo>
                    <a:lnTo>
                      <a:pt x="2591" y="781"/>
                    </a:lnTo>
                    <a:lnTo>
                      <a:pt x="2066" y="592"/>
                    </a:lnTo>
                    <a:lnTo>
                      <a:pt x="1545" y="420"/>
                    </a:lnTo>
                    <a:lnTo>
                      <a:pt x="1026" y="263"/>
                    </a:lnTo>
                    <a:lnTo>
                      <a:pt x="509" y="1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31"/>
            <p:cNvGrpSpPr/>
            <p:nvPr/>
          </p:nvGrpSpPr>
          <p:grpSpPr>
            <a:xfrm>
              <a:off x="231840" y="3842640"/>
              <a:ext cx="3084840" cy="945000"/>
              <a:chOff x="231840" y="3842640"/>
              <a:chExt cx="3084840" cy="945000"/>
            </a:xfrm>
          </p:grpSpPr>
          <p:sp>
            <p:nvSpPr>
              <p:cNvPr id="409" name="Freeform 117"/>
              <p:cNvSpPr/>
              <p:nvPr/>
            </p:nvSpPr>
            <p:spPr>
              <a:xfrm>
                <a:off x="231840" y="3842640"/>
                <a:ext cx="3084840" cy="945000"/>
              </a:xfrm>
              <a:custGeom>
                <a:avLst/>
                <a:gdLst/>
                <a:ahLst/>
                <a:rect l="l" t="t" r="r" b="b"/>
                <a:pathLst>
                  <a:path w="6456" h="2316">
                    <a:moveTo>
                      <a:pt x="0" y="0"/>
                    </a:moveTo>
                    <a:lnTo>
                      <a:pt x="0" y="9"/>
                    </a:lnTo>
                    <a:lnTo>
                      <a:pt x="309" y="51"/>
                    </a:lnTo>
                    <a:lnTo>
                      <a:pt x="697" y="117"/>
                    </a:lnTo>
                    <a:lnTo>
                      <a:pt x="1086" y="194"/>
                    </a:lnTo>
                    <a:lnTo>
                      <a:pt x="1476" y="284"/>
                    </a:lnTo>
                    <a:lnTo>
                      <a:pt x="1868" y="386"/>
                    </a:lnTo>
                    <a:lnTo>
                      <a:pt x="2262" y="500"/>
                    </a:lnTo>
                    <a:lnTo>
                      <a:pt x="2660" y="626"/>
                    </a:lnTo>
                    <a:lnTo>
                      <a:pt x="3061" y="764"/>
                    </a:lnTo>
                    <a:lnTo>
                      <a:pt x="3466" y="915"/>
                    </a:lnTo>
                    <a:lnTo>
                      <a:pt x="3875" y="1078"/>
                    </a:lnTo>
                    <a:lnTo>
                      <a:pt x="4289" y="1253"/>
                    </a:lnTo>
                    <a:lnTo>
                      <a:pt x="4709" y="1441"/>
                    </a:lnTo>
                    <a:lnTo>
                      <a:pt x="5134" y="1641"/>
                    </a:lnTo>
                    <a:lnTo>
                      <a:pt x="5566" y="1853"/>
                    </a:lnTo>
                    <a:lnTo>
                      <a:pt x="6005" y="2078"/>
                    </a:lnTo>
                    <a:lnTo>
                      <a:pt x="6452" y="2316"/>
                    </a:lnTo>
                    <a:lnTo>
                      <a:pt x="6456" y="2308"/>
                    </a:lnTo>
                    <a:lnTo>
                      <a:pt x="6009" y="2070"/>
                    </a:lnTo>
                    <a:lnTo>
                      <a:pt x="5570" y="1845"/>
                    </a:lnTo>
                    <a:lnTo>
                      <a:pt x="5138" y="1633"/>
                    </a:lnTo>
                    <a:lnTo>
                      <a:pt x="4712" y="1433"/>
                    </a:lnTo>
                    <a:lnTo>
                      <a:pt x="4293" y="1245"/>
                    </a:lnTo>
                    <a:lnTo>
                      <a:pt x="3878" y="1069"/>
                    </a:lnTo>
                    <a:lnTo>
                      <a:pt x="3469" y="907"/>
                    </a:lnTo>
                    <a:lnTo>
                      <a:pt x="3064" y="756"/>
                    </a:lnTo>
                    <a:lnTo>
                      <a:pt x="2663" y="617"/>
                    </a:lnTo>
                    <a:lnTo>
                      <a:pt x="2265" y="491"/>
                    </a:lnTo>
                    <a:lnTo>
                      <a:pt x="1870" y="377"/>
                    </a:lnTo>
                    <a:lnTo>
                      <a:pt x="1478" y="275"/>
                    </a:lnTo>
                    <a:lnTo>
                      <a:pt x="1087" y="186"/>
                    </a:lnTo>
                    <a:lnTo>
                      <a:pt x="698" y="108"/>
                    </a:lnTo>
                    <a:lnTo>
                      <a:pt x="310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2"/>
            <p:cNvGrpSpPr/>
            <p:nvPr/>
          </p:nvGrpSpPr>
          <p:grpSpPr>
            <a:xfrm>
              <a:off x="231840" y="3910680"/>
              <a:ext cx="3085560" cy="878400"/>
              <a:chOff x="231840" y="3910680"/>
              <a:chExt cx="3085560" cy="878400"/>
            </a:xfrm>
          </p:grpSpPr>
          <p:sp>
            <p:nvSpPr>
              <p:cNvPr id="411" name="Freeform 116"/>
              <p:cNvSpPr/>
              <p:nvPr/>
            </p:nvSpPr>
            <p:spPr>
              <a:xfrm>
                <a:off x="231840" y="3910680"/>
                <a:ext cx="3085560" cy="878400"/>
              </a:xfrm>
              <a:custGeom>
                <a:avLst/>
                <a:gdLst/>
                <a:ahLst/>
                <a:rect l="l" t="t" r="r" b="b"/>
                <a:pathLst>
                  <a:path w="6458" h="2153">
                    <a:moveTo>
                      <a:pt x="0" y="0"/>
                    </a:moveTo>
                    <a:lnTo>
                      <a:pt x="0" y="18"/>
                    </a:lnTo>
                    <a:lnTo>
                      <a:pt x="27" y="19"/>
                    </a:lnTo>
                    <a:lnTo>
                      <a:pt x="361" y="46"/>
                    </a:lnTo>
                    <a:lnTo>
                      <a:pt x="696" y="84"/>
                    </a:lnTo>
                    <a:lnTo>
                      <a:pt x="1032" y="132"/>
                    </a:lnTo>
                    <a:lnTo>
                      <a:pt x="1369" y="192"/>
                    </a:lnTo>
                    <a:lnTo>
                      <a:pt x="1709" y="262"/>
                    </a:lnTo>
                    <a:lnTo>
                      <a:pt x="2050" y="342"/>
                    </a:lnTo>
                    <a:lnTo>
                      <a:pt x="2394" y="434"/>
                    </a:lnTo>
                    <a:lnTo>
                      <a:pt x="2742" y="536"/>
                    </a:lnTo>
                    <a:lnTo>
                      <a:pt x="3092" y="649"/>
                    </a:lnTo>
                    <a:lnTo>
                      <a:pt x="3446" y="773"/>
                    </a:lnTo>
                    <a:lnTo>
                      <a:pt x="3804" y="908"/>
                    </a:lnTo>
                    <a:lnTo>
                      <a:pt x="4167" y="1054"/>
                    </a:lnTo>
                    <a:lnTo>
                      <a:pt x="4533" y="1210"/>
                    </a:lnTo>
                    <a:lnTo>
                      <a:pt x="4905" y="1377"/>
                    </a:lnTo>
                    <a:lnTo>
                      <a:pt x="5283" y="1555"/>
                    </a:lnTo>
                    <a:lnTo>
                      <a:pt x="5666" y="1744"/>
                    </a:lnTo>
                    <a:lnTo>
                      <a:pt x="6054" y="1943"/>
                    </a:lnTo>
                    <a:lnTo>
                      <a:pt x="6450" y="2154"/>
                    </a:lnTo>
                    <a:lnTo>
                      <a:pt x="6458" y="2138"/>
                    </a:lnTo>
                    <a:lnTo>
                      <a:pt x="6063" y="1928"/>
                    </a:lnTo>
                    <a:lnTo>
                      <a:pt x="5673" y="1728"/>
                    </a:lnTo>
                    <a:lnTo>
                      <a:pt x="5290" y="1539"/>
                    </a:lnTo>
                    <a:lnTo>
                      <a:pt x="4913" y="1361"/>
                    </a:lnTo>
                    <a:lnTo>
                      <a:pt x="4541" y="1194"/>
                    </a:lnTo>
                    <a:lnTo>
                      <a:pt x="4173" y="1037"/>
                    </a:lnTo>
                    <a:lnTo>
                      <a:pt x="3811" y="892"/>
                    </a:lnTo>
                    <a:lnTo>
                      <a:pt x="3452" y="757"/>
                    </a:lnTo>
                    <a:lnTo>
                      <a:pt x="3098" y="633"/>
                    </a:lnTo>
                    <a:lnTo>
                      <a:pt x="2747" y="519"/>
                    </a:lnTo>
                    <a:lnTo>
                      <a:pt x="2399" y="417"/>
                    </a:lnTo>
                    <a:lnTo>
                      <a:pt x="2055" y="325"/>
                    </a:lnTo>
                    <a:lnTo>
                      <a:pt x="1712" y="244"/>
                    </a:lnTo>
                    <a:lnTo>
                      <a:pt x="1373" y="174"/>
                    </a:lnTo>
                    <a:lnTo>
                      <a:pt x="1035" y="115"/>
                    </a:lnTo>
                    <a:lnTo>
                      <a:pt x="698" y="66"/>
                    </a:lnTo>
                    <a:lnTo>
                      <a:pt x="363" y="29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3"/>
            <p:cNvGrpSpPr/>
            <p:nvPr/>
          </p:nvGrpSpPr>
          <p:grpSpPr>
            <a:xfrm>
              <a:off x="231840" y="3975120"/>
              <a:ext cx="3084840" cy="812880"/>
              <a:chOff x="231840" y="3975120"/>
              <a:chExt cx="3084840" cy="812880"/>
            </a:xfrm>
          </p:grpSpPr>
          <p:sp>
            <p:nvSpPr>
              <p:cNvPr id="413" name="Freeform 114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397" y="9"/>
                    </a:moveTo>
                    <a:lnTo>
                      <a:pt x="27" y="9"/>
                    </a:lnTo>
                    <a:lnTo>
                      <a:pt x="322" y="14"/>
                    </a:lnTo>
                    <a:lnTo>
                      <a:pt x="619" y="29"/>
                    </a:lnTo>
                    <a:lnTo>
                      <a:pt x="916" y="54"/>
                    </a:lnTo>
                    <a:lnTo>
                      <a:pt x="1216" y="89"/>
                    </a:lnTo>
                    <a:lnTo>
                      <a:pt x="1518" y="134"/>
                    </a:lnTo>
                    <a:lnTo>
                      <a:pt x="1822" y="188"/>
                    </a:lnTo>
                    <a:lnTo>
                      <a:pt x="2128" y="253"/>
                    </a:lnTo>
                    <a:lnTo>
                      <a:pt x="2437" y="328"/>
                    </a:lnTo>
                    <a:lnTo>
                      <a:pt x="2749" y="412"/>
                    </a:lnTo>
                    <a:lnTo>
                      <a:pt x="3065" y="507"/>
                    </a:lnTo>
                    <a:lnTo>
                      <a:pt x="3384" y="611"/>
                    </a:lnTo>
                    <a:lnTo>
                      <a:pt x="3706" y="725"/>
                    </a:lnTo>
                    <a:lnTo>
                      <a:pt x="4033" y="849"/>
                    </a:lnTo>
                    <a:lnTo>
                      <a:pt x="4364" y="983"/>
                    </a:lnTo>
                    <a:lnTo>
                      <a:pt x="4699" y="1127"/>
                    </a:lnTo>
                    <a:lnTo>
                      <a:pt x="5039" y="1280"/>
                    </a:lnTo>
                    <a:lnTo>
                      <a:pt x="5384" y="1443"/>
                    </a:lnTo>
                    <a:lnTo>
                      <a:pt x="5734" y="1616"/>
                    </a:lnTo>
                    <a:lnTo>
                      <a:pt x="6090" y="1799"/>
                    </a:lnTo>
                    <a:lnTo>
                      <a:pt x="6452" y="1992"/>
                    </a:lnTo>
                    <a:lnTo>
                      <a:pt x="6456" y="1984"/>
                    </a:lnTo>
                    <a:lnTo>
                      <a:pt x="6094" y="1791"/>
                    </a:lnTo>
                    <a:lnTo>
                      <a:pt x="5738" y="1609"/>
                    </a:lnTo>
                    <a:lnTo>
                      <a:pt x="5388" y="1436"/>
                    </a:lnTo>
                    <a:lnTo>
                      <a:pt x="5043" y="1272"/>
                    </a:lnTo>
                    <a:lnTo>
                      <a:pt x="4703" y="1119"/>
                    </a:lnTo>
                    <a:lnTo>
                      <a:pt x="4367" y="975"/>
                    </a:lnTo>
                    <a:lnTo>
                      <a:pt x="4036" y="841"/>
                    </a:lnTo>
                    <a:lnTo>
                      <a:pt x="3709" y="717"/>
                    </a:lnTo>
                    <a:lnTo>
                      <a:pt x="3386" y="603"/>
                    </a:lnTo>
                    <a:lnTo>
                      <a:pt x="3067" y="498"/>
                    </a:lnTo>
                    <a:lnTo>
                      <a:pt x="2752" y="404"/>
                    </a:lnTo>
                    <a:lnTo>
                      <a:pt x="2439" y="319"/>
                    </a:lnTo>
                    <a:lnTo>
                      <a:pt x="2130" y="245"/>
                    </a:lnTo>
                    <a:lnTo>
                      <a:pt x="1823" y="180"/>
                    </a:lnTo>
                    <a:lnTo>
                      <a:pt x="1519" y="125"/>
                    </a:lnTo>
                    <a:lnTo>
                      <a:pt x="1217" y="80"/>
                    </a:lnTo>
                    <a:lnTo>
                      <a:pt x="917" y="45"/>
                    </a:lnTo>
                    <a:lnTo>
                      <a:pt x="619" y="20"/>
                    </a:lnTo>
                    <a:lnTo>
                      <a:pt x="397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5"/>
              <p:cNvSpPr/>
              <p:nvPr/>
            </p:nvSpPr>
            <p:spPr>
              <a:xfrm>
                <a:off x="231840" y="3975120"/>
                <a:ext cx="3084840" cy="812880"/>
              </a:xfrm>
              <a:custGeom>
                <a:avLst/>
                <a:gdLst/>
                <a:ahLst/>
                <a:rect l="l" t="t" r="r" b="b"/>
                <a:pathLst>
                  <a:path w="6456" h="1992">
                    <a:moveTo>
                      <a:pt x="27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27" y="9"/>
                    </a:lnTo>
                    <a:lnTo>
                      <a:pt x="397" y="9"/>
                    </a:lnTo>
                    <a:lnTo>
                      <a:pt x="322" y="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4"/>
            <p:cNvGrpSpPr/>
            <p:nvPr/>
          </p:nvGrpSpPr>
          <p:grpSpPr>
            <a:xfrm>
              <a:off x="231840" y="4025880"/>
              <a:ext cx="3084840" cy="761760"/>
              <a:chOff x="231840" y="4025880"/>
              <a:chExt cx="3084840" cy="761760"/>
            </a:xfrm>
          </p:grpSpPr>
          <p:sp>
            <p:nvSpPr>
              <p:cNvPr id="416" name="Freeform 112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856" y="9"/>
                    </a:moveTo>
                    <a:lnTo>
                      <a:pt x="510" y="9"/>
                    </a:lnTo>
                    <a:lnTo>
                      <a:pt x="777" y="14"/>
                    </a:lnTo>
                    <a:lnTo>
                      <a:pt x="1047" y="28"/>
                    </a:lnTo>
                    <a:lnTo>
                      <a:pt x="1319" y="51"/>
                    </a:lnTo>
                    <a:lnTo>
                      <a:pt x="1593" y="84"/>
                    </a:lnTo>
                    <a:lnTo>
                      <a:pt x="1869" y="126"/>
                    </a:lnTo>
                    <a:lnTo>
                      <a:pt x="2149" y="178"/>
                    </a:lnTo>
                    <a:lnTo>
                      <a:pt x="2431" y="239"/>
                    </a:lnTo>
                    <a:lnTo>
                      <a:pt x="2716" y="309"/>
                    </a:lnTo>
                    <a:lnTo>
                      <a:pt x="3005" y="388"/>
                    </a:lnTo>
                    <a:lnTo>
                      <a:pt x="3297" y="477"/>
                    </a:lnTo>
                    <a:lnTo>
                      <a:pt x="3593" y="575"/>
                    </a:lnTo>
                    <a:lnTo>
                      <a:pt x="3892" y="682"/>
                    </a:lnTo>
                    <a:lnTo>
                      <a:pt x="4196" y="798"/>
                    </a:lnTo>
                    <a:lnTo>
                      <a:pt x="4504" y="924"/>
                    </a:lnTo>
                    <a:lnTo>
                      <a:pt x="4816" y="1058"/>
                    </a:lnTo>
                    <a:lnTo>
                      <a:pt x="5133" y="1202"/>
                    </a:lnTo>
                    <a:lnTo>
                      <a:pt x="5455" y="1354"/>
                    </a:lnTo>
                    <a:lnTo>
                      <a:pt x="5782" y="1516"/>
                    </a:lnTo>
                    <a:lnTo>
                      <a:pt x="6114" y="1687"/>
                    </a:lnTo>
                    <a:lnTo>
                      <a:pt x="6452" y="1867"/>
                    </a:lnTo>
                    <a:lnTo>
                      <a:pt x="6456" y="1859"/>
                    </a:lnTo>
                    <a:lnTo>
                      <a:pt x="6118" y="1679"/>
                    </a:lnTo>
                    <a:lnTo>
                      <a:pt x="5786" y="1508"/>
                    </a:lnTo>
                    <a:lnTo>
                      <a:pt x="5459" y="1346"/>
                    </a:lnTo>
                    <a:lnTo>
                      <a:pt x="5137" y="1194"/>
                    </a:lnTo>
                    <a:lnTo>
                      <a:pt x="4820" y="1050"/>
                    </a:lnTo>
                    <a:lnTo>
                      <a:pt x="4507" y="915"/>
                    </a:lnTo>
                    <a:lnTo>
                      <a:pt x="4199" y="790"/>
                    </a:lnTo>
                    <a:lnTo>
                      <a:pt x="3895" y="674"/>
                    </a:lnTo>
                    <a:lnTo>
                      <a:pt x="3595" y="567"/>
                    </a:lnTo>
                    <a:lnTo>
                      <a:pt x="3299" y="469"/>
                    </a:lnTo>
                    <a:lnTo>
                      <a:pt x="3007" y="380"/>
                    </a:lnTo>
                    <a:lnTo>
                      <a:pt x="2718" y="300"/>
                    </a:lnTo>
                    <a:lnTo>
                      <a:pt x="2433" y="230"/>
                    </a:lnTo>
                    <a:lnTo>
                      <a:pt x="2150" y="169"/>
                    </a:lnTo>
                    <a:lnTo>
                      <a:pt x="1871" y="118"/>
                    </a:lnTo>
                    <a:lnTo>
                      <a:pt x="1594" y="75"/>
                    </a:lnTo>
                    <a:lnTo>
                      <a:pt x="1320" y="43"/>
                    </a:lnTo>
                    <a:lnTo>
                      <a:pt x="1048" y="19"/>
                    </a:lnTo>
                    <a:lnTo>
                      <a:pt x="856" y="9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13"/>
              <p:cNvSpPr/>
              <p:nvPr/>
            </p:nvSpPr>
            <p:spPr>
              <a:xfrm>
                <a:off x="231840" y="4025880"/>
                <a:ext cx="3084840" cy="761760"/>
              </a:xfrm>
              <a:custGeom>
                <a:avLst/>
                <a:gdLst/>
                <a:ahLst/>
                <a:rect l="l" t="t" r="r" b="b"/>
                <a:pathLst>
                  <a:path w="6456" h="1867">
                    <a:moveTo>
                      <a:pt x="510" y="0"/>
                    </a:moveTo>
                    <a:lnTo>
                      <a:pt x="159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59" y="17"/>
                    </a:lnTo>
                    <a:lnTo>
                      <a:pt x="510" y="9"/>
                    </a:lnTo>
                    <a:lnTo>
                      <a:pt x="856" y="9"/>
                    </a:lnTo>
                    <a:lnTo>
                      <a:pt x="778" y="5"/>
                    </a:lnTo>
                    <a:lnTo>
                      <a:pt x="510" y="0"/>
                    </a:lnTo>
                  </a:path>
                </a:pathLst>
              </a:custGeom>
              <a:solidFill>
                <a:srgbClr val="aaa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35"/>
            <p:cNvGrpSpPr/>
            <p:nvPr/>
          </p:nvGrpSpPr>
          <p:grpSpPr>
            <a:xfrm>
              <a:off x="231840" y="3181320"/>
              <a:ext cx="3316320" cy="1164600"/>
              <a:chOff x="231840" y="3181320"/>
              <a:chExt cx="3316320" cy="1164600"/>
            </a:xfrm>
          </p:grpSpPr>
          <p:sp>
            <p:nvSpPr>
              <p:cNvPr id="419" name="Freeform 111"/>
              <p:cNvSpPr/>
              <p:nvPr/>
            </p:nvSpPr>
            <p:spPr>
              <a:xfrm>
                <a:off x="231840" y="3181320"/>
                <a:ext cx="3316320" cy="1164600"/>
              </a:xfrm>
              <a:custGeom>
                <a:avLst/>
                <a:gdLst/>
                <a:ahLst/>
                <a:rect l="l" t="t" r="r" b="b"/>
                <a:pathLst>
                  <a:path w="6941" h="2854">
                    <a:moveTo>
                      <a:pt x="0" y="0"/>
                    </a:moveTo>
                    <a:lnTo>
                      <a:pt x="0" y="10"/>
                    </a:lnTo>
                    <a:lnTo>
                      <a:pt x="261" y="134"/>
                    </a:lnTo>
                    <a:lnTo>
                      <a:pt x="940" y="447"/>
                    </a:lnTo>
                    <a:lnTo>
                      <a:pt x="1629" y="754"/>
                    </a:lnTo>
                    <a:lnTo>
                      <a:pt x="2330" y="1057"/>
                    </a:lnTo>
                    <a:lnTo>
                      <a:pt x="3046" y="1357"/>
                    </a:lnTo>
                    <a:lnTo>
                      <a:pt x="3779" y="1654"/>
                    </a:lnTo>
                    <a:lnTo>
                      <a:pt x="4532" y="1952"/>
                    </a:lnTo>
                    <a:lnTo>
                      <a:pt x="5308" y="2250"/>
                    </a:lnTo>
                    <a:lnTo>
                      <a:pt x="6938" y="2854"/>
                    </a:lnTo>
                    <a:lnTo>
                      <a:pt x="6941" y="2846"/>
                    </a:lnTo>
                    <a:lnTo>
                      <a:pt x="5311" y="2242"/>
                    </a:lnTo>
                    <a:lnTo>
                      <a:pt x="4535" y="1944"/>
                    </a:lnTo>
                    <a:lnTo>
                      <a:pt x="3782" y="1646"/>
                    </a:lnTo>
                    <a:lnTo>
                      <a:pt x="3049" y="1348"/>
                    </a:lnTo>
                    <a:lnTo>
                      <a:pt x="2334" y="1049"/>
                    </a:lnTo>
                    <a:lnTo>
                      <a:pt x="1633" y="746"/>
                    </a:lnTo>
                    <a:lnTo>
                      <a:pt x="944" y="439"/>
                    </a:lnTo>
                    <a:lnTo>
                      <a:pt x="265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36"/>
            <p:cNvGrpSpPr/>
            <p:nvPr/>
          </p:nvGrpSpPr>
          <p:grpSpPr>
            <a:xfrm>
              <a:off x="231840" y="3419280"/>
              <a:ext cx="3318840" cy="931680"/>
              <a:chOff x="231840" y="3419280"/>
              <a:chExt cx="3318840" cy="931680"/>
            </a:xfrm>
          </p:grpSpPr>
          <p:sp>
            <p:nvSpPr>
              <p:cNvPr id="421" name="Freeform 110"/>
              <p:cNvSpPr/>
              <p:nvPr/>
            </p:nvSpPr>
            <p:spPr>
              <a:xfrm>
                <a:off x="231840" y="3419280"/>
                <a:ext cx="3318840" cy="931680"/>
              </a:xfrm>
              <a:custGeom>
                <a:avLst/>
                <a:gdLst/>
                <a:ahLst/>
                <a:rect l="l" t="t" r="r" b="b"/>
                <a:pathLst>
                  <a:path w="6946" h="2283">
                    <a:moveTo>
                      <a:pt x="0" y="0"/>
                    </a:moveTo>
                    <a:lnTo>
                      <a:pt x="0" y="36"/>
                    </a:lnTo>
                    <a:lnTo>
                      <a:pt x="71" y="56"/>
                    </a:lnTo>
                    <a:lnTo>
                      <a:pt x="792" y="260"/>
                    </a:lnTo>
                    <a:lnTo>
                      <a:pt x="1516" y="473"/>
                    </a:lnTo>
                    <a:lnTo>
                      <a:pt x="2247" y="696"/>
                    </a:lnTo>
                    <a:lnTo>
                      <a:pt x="3741" y="1174"/>
                    </a:lnTo>
                    <a:lnTo>
                      <a:pt x="5295" y="1701"/>
                    </a:lnTo>
                    <a:lnTo>
                      <a:pt x="6934" y="2283"/>
                    </a:lnTo>
                    <a:lnTo>
                      <a:pt x="6946" y="2250"/>
                    </a:lnTo>
                    <a:lnTo>
                      <a:pt x="5307" y="1668"/>
                    </a:lnTo>
                    <a:lnTo>
                      <a:pt x="3752" y="1141"/>
                    </a:lnTo>
                    <a:lnTo>
                      <a:pt x="2258" y="662"/>
                    </a:lnTo>
                    <a:lnTo>
                      <a:pt x="1526" y="439"/>
                    </a:lnTo>
                    <a:lnTo>
                      <a:pt x="802" y="226"/>
                    </a:lnTo>
                    <a:lnTo>
                      <a:pt x="81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7"/>
            <p:cNvGrpSpPr/>
            <p:nvPr/>
          </p:nvGrpSpPr>
          <p:grpSpPr>
            <a:xfrm>
              <a:off x="231840" y="3604320"/>
              <a:ext cx="3316320" cy="741240"/>
              <a:chOff x="231840" y="3604320"/>
              <a:chExt cx="3316320" cy="741240"/>
            </a:xfrm>
          </p:grpSpPr>
          <p:sp>
            <p:nvSpPr>
              <p:cNvPr id="423" name="Freeform 109"/>
              <p:cNvSpPr/>
              <p:nvPr/>
            </p:nvSpPr>
            <p:spPr>
              <a:xfrm>
                <a:off x="231840" y="3604320"/>
                <a:ext cx="3316320" cy="741240"/>
              </a:xfrm>
              <a:custGeom>
                <a:avLst/>
                <a:gdLst/>
                <a:ahLst/>
                <a:rect l="l" t="t" r="r" b="b"/>
                <a:pathLst>
                  <a:path w="6941" h="1817">
                    <a:moveTo>
                      <a:pt x="0" y="0"/>
                    </a:moveTo>
                    <a:lnTo>
                      <a:pt x="0" y="9"/>
                    </a:lnTo>
                    <a:lnTo>
                      <a:pt x="134" y="26"/>
                    </a:lnTo>
                    <a:lnTo>
                      <a:pt x="629" y="100"/>
                    </a:lnTo>
                    <a:lnTo>
                      <a:pt x="1125" y="184"/>
                    </a:lnTo>
                    <a:lnTo>
                      <a:pt x="1624" y="279"/>
                    </a:lnTo>
                    <a:lnTo>
                      <a:pt x="2125" y="384"/>
                    </a:lnTo>
                    <a:lnTo>
                      <a:pt x="2631" y="500"/>
                    </a:lnTo>
                    <a:lnTo>
                      <a:pt x="3142" y="626"/>
                    </a:lnTo>
                    <a:lnTo>
                      <a:pt x="3659" y="763"/>
                    </a:lnTo>
                    <a:lnTo>
                      <a:pt x="4183" y="911"/>
                    </a:lnTo>
                    <a:lnTo>
                      <a:pt x="4715" y="1070"/>
                    </a:lnTo>
                    <a:lnTo>
                      <a:pt x="5255" y="1240"/>
                    </a:lnTo>
                    <a:lnTo>
                      <a:pt x="5805" y="1421"/>
                    </a:lnTo>
                    <a:lnTo>
                      <a:pt x="6366" y="1613"/>
                    </a:lnTo>
                    <a:lnTo>
                      <a:pt x="6938" y="1817"/>
                    </a:lnTo>
                    <a:lnTo>
                      <a:pt x="6941" y="1809"/>
                    </a:lnTo>
                    <a:lnTo>
                      <a:pt x="6369" y="1605"/>
                    </a:lnTo>
                    <a:lnTo>
                      <a:pt x="5808" y="1412"/>
                    </a:lnTo>
                    <a:lnTo>
                      <a:pt x="5258" y="1231"/>
                    </a:lnTo>
                    <a:lnTo>
                      <a:pt x="4717" y="1061"/>
                    </a:lnTo>
                    <a:lnTo>
                      <a:pt x="4185" y="902"/>
                    </a:lnTo>
                    <a:lnTo>
                      <a:pt x="3661" y="754"/>
                    </a:lnTo>
                    <a:lnTo>
                      <a:pt x="3144" y="617"/>
                    </a:lnTo>
                    <a:lnTo>
                      <a:pt x="2633" y="491"/>
                    </a:lnTo>
                    <a:lnTo>
                      <a:pt x="2127" y="375"/>
                    </a:lnTo>
                    <a:lnTo>
                      <a:pt x="1625" y="270"/>
                    </a:lnTo>
                    <a:lnTo>
                      <a:pt x="1127" y="176"/>
                    </a:lnTo>
                    <a:lnTo>
                      <a:pt x="630" y="92"/>
                    </a:lnTo>
                    <a:lnTo>
                      <a:pt x="135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38"/>
            <p:cNvGrpSpPr/>
            <p:nvPr/>
          </p:nvGrpSpPr>
          <p:grpSpPr>
            <a:xfrm>
              <a:off x="231840" y="3720600"/>
              <a:ext cx="3317400" cy="627120"/>
              <a:chOff x="231840" y="3720600"/>
              <a:chExt cx="3317400" cy="627120"/>
            </a:xfrm>
          </p:grpSpPr>
          <p:sp>
            <p:nvSpPr>
              <p:cNvPr id="425" name="Freeform 108"/>
              <p:cNvSpPr/>
              <p:nvPr/>
            </p:nvSpPr>
            <p:spPr>
              <a:xfrm>
                <a:off x="231840" y="3720600"/>
                <a:ext cx="3317400" cy="627120"/>
              </a:xfrm>
              <a:custGeom>
                <a:avLst/>
                <a:gdLst/>
                <a:ahLst/>
                <a:rect l="l" t="t" r="r" b="b"/>
                <a:pathLst>
                  <a:path w="6943" h="1537">
                    <a:moveTo>
                      <a:pt x="0" y="0"/>
                    </a:moveTo>
                    <a:lnTo>
                      <a:pt x="0" y="18"/>
                    </a:lnTo>
                    <a:lnTo>
                      <a:pt x="126" y="22"/>
                    </a:lnTo>
                    <a:lnTo>
                      <a:pt x="479" y="41"/>
                    </a:lnTo>
                    <a:lnTo>
                      <a:pt x="834" y="68"/>
                    </a:lnTo>
                    <a:lnTo>
                      <a:pt x="1189" y="102"/>
                    </a:lnTo>
                    <a:lnTo>
                      <a:pt x="1547" y="144"/>
                    </a:lnTo>
                    <a:lnTo>
                      <a:pt x="1907" y="194"/>
                    </a:lnTo>
                    <a:lnTo>
                      <a:pt x="2269" y="251"/>
                    </a:lnTo>
                    <a:lnTo>
                      <a:pt x="2634" y="316"/>
                    </a:lnTo>
                    <a:lnTo>
                      <a:pt x="3002" y="389"/>
                    </a:lnTo>
                    <a:lnTo>
                      <a:pt x="3374" y="469"/>
                    </a:lnTo>
                    <a:lnTo>
                      <a:pt x="3750" y="557"/>
                    </a:lnTo>
                    <a:lnTo>
                      <a:pt x="4130" y="653"/>
                    </a:lnTo>
                    <a:lnTo>
                      <a:pt x="4514" y="756"/>
                    </a:lnTo>
                    <a:lnTo>
                      <a:pt x="4903" y="867"/>
                    </a:lnTo>
                    <a:lnTo>
                      <a:pt x="5298" y="986"/>
                    </a:lnTo>
                    <a:lnTo>
                      <a:pt x="5699" y="1112"/>
                    </a:lnTo>
                    <a:lnTo>
                      <a:pt x="6105" y="1246"/>
                    </a:lnTo>
                    <a:lnTo>
                      <a:pt x="6518" y="1388"/>
                    </a:lnTo>
                    <a:lnTo>
                      <a:pt x="6937" y="1537"/>
                    </a:lnTo>
                    <a:lnTo>
                      <a:pt x="6943" y="1520"/>
                    </a:lnTo>
                    <a:lnTo>
                      <a:pt x="6523" y="1371"/>
                    </a:lnTo>
                    <a:lnTo>
                      <a:pt x="6110" y="1229"/>
                    </a:lnTo>
                    <a:lnTo>
                      <a:pt x="5704" y="1095"/>
                    </a:lnTo>
                    <a:lnTo>
                      <a:pt x="5303" y="969"/>
                    </a:lnTo>
                    <a:lnTo>
                      <a:pt x="4908" y="850"/>
                    </a:lnTo>
                    <a:lnTo>
                      <a:pt x="4519" y="739"/>
                    </a:lnTo>
                    <a:lnTo>
                      <a:pt x="4134" y="636"/>
                    </a:lnTo>
                    <a:lnTo>
                      <a:pt x="3754" y="540"/>
                    </a:lnTo>
                    <a:lnTo>
                      <a:pt x="3378" y="452"/>
                    </a:lnTo>
                    <a:lnTo>
                      <a:pt x="3006" y="372"/>
                    </a:lnTo>
                    <a:lnTo>
                      <a:pt x="2637" y="299"/>
                    </a:lnTo>
                    <a:lnTo>
                      <a:pt x="2272" y="234"/>
                    </a:lnTo>
                    <a:lnTo>
                      <a:pt x="1909" y="176"/>
                    </a:lnTo>
                    <a:lnTo>
                      <a:pt x="1549" y="127"/>
                    </a:lnTo>
                    <a:lnTo>
                      <a:pt x="1191" y="85"/>
                    </a:lnTo>
                    <a:lnTo>
                      <a:pt x="835" y="50"/>
                    </a:lnTo>
                    <a:lnTo>
                      <a:pt x="480" y="23"/>
                    </a:lnTo>
                    <a:lnTo>
                      <a:pt x="126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9"/>
            <p:cNvGrpSpPr/>
            <p:nvPr/>
          </p:nvGrpSpPr>
          <p:grpSpPr>
            <a:xfrm>
              <a:off x="231840" y="3795480"/>
              <a:ext cx="3316320" cy="550440"/>
              <a:chOff x="231840" y="3795480"/>
              <a:chExt cx="3316320" cy="550440"/>
            </a:xfrm>
          </p:grpSpPr>
          <p:sp>
            <p:nvSpPr>
              <p:cNvPr id="427" name="Freeform 106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879" y="8"/>
                    </a:moveTo>
                    <a:lnTo>
                      <a:pt x="419" y="8"/>
                    </a:lnTo>
                    <a:lnTo>
                      <a:pt x="719" y="12"/>
                    </a:lnTo>
                    <a:lnTo>
                      <a:pt x="1021" y="22"/>
                    </a:lnTo>
                    <a:lnTo>
                      <a:pt x="1324" y="39"/>
                    </a:lnTo>
                    <a:lnTo>
                      <a:pt x="1629" y="63"/>
                    </a:lnTo>
                    <a:lnTo>
                      <a:pt x="1936" y="93"/>
                    </a:lnTo>
                    <a:lnTo>
                      <a:pt x="2245" y="130"/>
                    </a:lnTo>
                    <a:lnTo>
                      <a:pt x="2557" y="174"/>
                    </a:lnTo>
                    <a:lnTo>
                      <a:pt x="2871" y="225"/>
                    </a:lnTo>
                    <a:lnTo>
                      <a:pt x="3189" y="282"/>
                    </a:lnTo>
                    <a:lnTo>
                      <a:pt x="3509" y="346"/>
                    </a:lnTo>
                    <a:lnTo>
                      <a:pt x="3833" y="417"/>
                    </a:lnTo>
                    <a:lnTo>
                      <a:pt x="4161" y="494"/>
                    </a:lnTo>
                    <a:lnTo>
                      <a:pt x="4492" y="578"/>
                    </a:lnTo>
                    <a:lnTo>
                      <a:pt x="4827" y="668"/>
                    </a:lnTo>
                    <a:lnTo>
                      <a:pt x="5167" y="765"/>
                    </a:lnTo>
                    <a:lnTo>
                      <a:pt x="5512" y="869"/>
                    </a:lnTo>
                    <a:lnTo>
                      <a:pt x="5861" y="979"/>
                    </a:lnTo>
                    <a:lnTo>
                      <a:pt x="6215" y="1096"/>
                    </a:lnTo>
                    <a:lnTo>
                      <a:pt x="6574" y="1219"/>
                    </a:lnTo>
                    <a:lnTo>
                      <a:pt x="6938" y="1349"/>
                    </a:lnTo>
                    <a:lnTo>
                      <a:pt x="6941" y="1341"/>
                    </a:lnTo>
                    <a:lnTo>
                      <a:pt x="6577" y="1211"/>
                    </a:lnTo>
                    <a:lnTo>
                      <a:pt x="6217" y="1087"/>
                    </a:lnTo>
                    <a:lnTo>
                      <a:pt x="5863" y="971"/>
                    </a:lnTo>
                    <a:lnTo>
                      <a:pt x="5514" y="860"/>
                    </a:lnTo>
                    <a:lnTo>
                      <a:pt x="5170" y="757"/>
                    </a:lnTo>
                    <a:lnTo>
                      <a:pt x="4830" y="660"/>
                    </a:lnTo>
                    <a:lnTo>
                      <a:pt x="4494" y="569"/>
                    </a:lnTo>
                    <a:lnTo>
                      <a:pt x="4163" y="485"/>
                    </a:lnTo>
                    <a:lnTo>
                      <a:pt x="3835" y="408"/>
                    </a:lnTo>
                    <a:lnTo>
                      <a:pt x="3511" y="337"/>
                    </a:lnTo>
                    <a:lnTo>
                      <a:pt x="3190" y="273"/>
                    </a:lnTo>
                    <a:lnTo>
                      <a:pt x="2873" y="216"/>
                    </a:lnTo>
                    <a:lnTo>
                      <a:pt x="2558" y="165"/>
                    </a:lnTo>
                    <a:lnTo>
                      <a:pt x="2246" y="122"/>
                    </a:lnTo>
                    <a:lnTo>
                      <a:pt x="1937" y="84"/>
                    </a:lnTo>
                    <a:lnTo>
                      <a:pt x="1630" y="54"/>
                    </a:lnTo>
                    <a:lnTo>
                      <a:pt x="1324" y="30"/>
                    </a:lnTo>
                    <a:lnTo>
                      <a:pt x="1021" y="13"/>
                    </a:lnTo>
                    <a:lnTo>
                      <a:pt x="879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07"/>
              <p:cNvSpPr/>
              <p:nvPr/>
            </p:nvSpPr>
            <p:spPr>
              <a:xfrm>
                <a:off x="231840" y="3795480"/>
                <a:ext cx="3316320" cy="550440"/>
              </a:xfrm>
              <a:custGeom>
                <a:avLst/>
                <a:gdLst/>
                <a:ahLst/>
                <a:rect l="l" t="t" r="r" b="b"/>
                <a:pathLst>
                  <a:path w="6941" h="1349">
                    <a:moveTo>
                      <a:pt x="419" y="0"/>
                    </a:moveTo>
                    <a:lnTo>
                      <a:pt x="31" y="5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1" y="14"/>
                    </a:lnTo>
                    <a:lnTo>
                      <a:pt x="419" y="8"/>
                    </a:lnTo>
                    <a:lnTo>
                      <a:pt x="879" y="8"/>
                    </a:lnTo>
                    <a:lnTo>
                      <a:pt x="719" y="3"/>
                    </a:lnTo>
                    <a:lnTo>
                      <a:pt x="41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40"/>
            <p:cNvGrpSpPr/>
            <p:nvPr/>
          </p:nvGrpSpPr>
          <p:grpSpPr>
            <a:xfrm>
              <a:off x="231840" y="3846240"/>
              <a:ext cx="3316320" cy="499320"/>
              <a:chOff x="231840" y="3846240"/>
              <a:chExt cx="3316320" cy="499320"/>
            </a:xfrm>
          </p:grpSpPr>
          <p:sp>
            <p:nvSpPr>
              <p:cNvPr id="430" name="Freeform 104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500" y="9"/>
                    </a:moveTo>
                    <a:lnTo>
                      <a:pt x="1069" y="9"/>
                    </a:lnTo>
                    <a:lnTo>
                      <a:pt x="1336" y="12"/>
                    </a:lnTo>
                    <a:lnTo>
                      <a:pt x="1604" y="22"/>
                    </a:lnTo>
                    <a:lnTo>
                      <a:pt x="1875" y="37"/>
                    </a:lnTo>
                    <a:lnTo>
                      <a:pt x="2147" y="59"/>
                    </a:lnTo>
                    <a:lnTo>
                      <a:pt x="2422" y="86"/>
                    </a:lnTo>
                    <a:lnTo>
                      <a:pt x="2700" y="120"/>
                    </a:lnTo>
                    <a:lnTo>
                      <a:pt x="2980" y="160"/>
                    </a:lnTo>
                    <a:lnTo>
                      <a:pt x="3263" y="206"/>
                    </a:lnTo>
                    <a:lnTo>
                      <a:pt x="3549" y="258"/>
                    </a:lnTo>
                    <a:lnTo>
                      <a:pt x="3838" y="317"/>
                    </a:lnTo>
                    <a:lnTo>
                      <a:pt x="4131" y="381"/>
                    </a:lnTo>
                    <a:lnTo>
                      <a:pt x="4427" y="451"/>
                    </a:lnTo>
                    <a:lnTo>
                      <a:pt x="4726" y="527"/>
                    </a:lnTo>
                    <a:lnTo>
                      <a:pt x="5030" y="609"/>
                    </a:lnTo>
                    <a:lnTo>
                      <a:pt x="5337" y="697"/>
                    </a:lnTo>
                    <a:lnTo>
                      <a:pt x="5649" y="791"/>
                    </a:lnTo>
                    <a:lnTo>
                      <a:pt x="5964" y="890"/>
                    </a:lnTo>
                    <a:lnTo>
                      <a:pt x="6284" y="996"/>
                    </a:lnTo>
                    <a:lnTo>
                      <a:pt x="6609" y="1108"/>
                    </a:lnTo>
                    <a:lnTo>
                      <a:pt x="6938" y="1225"/>
                    </a:lnTo>
                    <a:lnTo>
                      <a:pt x="6941" y="1217"/>
                    </a:lnTo>
                    <a:lnTo>
                      <a:pt x="6612" y="1099"/>
                    </a:lnTo>
                    <a:lnTo>
                      <a:pt x="6287" y="988"/>
                    </a:lnTo>
                    <a:lnTo>
                      <a:pt x="5967" y="882"/>
                    </a:lnTo>
                    <a:lnTo>
                      <a:pt x="5651" y="782"/>
                    </a:lnTo>
                    <a:lnTo>
                      <a:pt x="5340" y="688"/>
                    </a:lnTo>
                    <a:lnTo>
                      <a:pt x="5032" y="600"/>
                    </a:lnTo>
                    <a:lnTo>
                      <a:pt x="4729" y="518"/>
                    </a:lnTo>
                    <a:lnTo>
                      <a:pt x="4429" y="442"/>
                    </a:lnTo>
                    <a:lnTo>
                      <a:pt x="4133" y="372"/>
                    </a:lnTo>
                    <a:lnTo>
                      <a:pt x="3840" y="308"/>
                    </a:lnTo>
                    <a:lnTo>
                      <a:pt x="3551" y="250"/>
                    </a:lnTo>
                    <a:lnTo>
                      <a:pt x="3265" y="198"/>
                    </a:lnTo>
                    <a:lnTo>
                      <a:pt x="2982" y="152"/>
                    </a:lnTo>
                    <a:lnTo>
                      <a:pt x="2701" y="112"/>
                    </a:lnTo>
                    <a:lnTo>
                      <a:pt x="2423" y="78"/>
                    </a:lnTo>
                    <a:lnTo>
                      <a:pt x="2148" y="50"/>
                    </a:lnTo>
                    <a:lnTo>
                      <a:pt x="1875" y="28"/>
                    </a:lnTo>
                    <a:lnTo>
                      <a:pt x="1605" y="13"/>
                    </a:lnTo>
                    <a:lnTo>
                      <a:pt x="1500" y="9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05"/>
              <p:cNvSpPr/>
              <p:nvPr/>
            </p:nvSpPr>
            <p:spPr>
              <a:xfrm>
                <a:off x="231840" y="3846240"/>
                <a:ext cx="3316320" cy="499320"/>
              </a:xfrm>
              <a:custGeom>
                <a:avLst/>
                <a:gdLst/>
                <a:ahLst/>
                <a:rect l="l" t="t" r="r" b="b"/>
                <a:pathLst>
                  <a:path w="6941" h="1224">
                    <a:moveTo>
                      <a:pt x="1069" y="0"/>
                    </a:moveTo>
                    <a:lnTo>
                      <a:pt x="661" y="8"/>
                    </a:lnTo>
                    <a:lnTo>
                      <a:pt x="256" y="3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256" y="39"/>
                    </a:lnTo>
                    <a:lnTo>
                      <a:pt x="661" y="17"/>
                    </a:lnTo>
                    <a:lnTo>
                      <a:pt x="1069" y="9"/>
                    </a:lnTo>
                    <a:lnTo>
                      <a:pt x="1500" y="9"/>
                    </a:lnTo>
                    <a:lnTo>
                      <a:pt x="1336" y="4"/>
                    </a:lnTo>
                    <a:lnTo>
                      <a:pt x="1069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41"/>
            <p:cNvGrpSpPr/>
            <p:nvPr/>
          </p:nvGrpSpPr>
          <p:grpSpPr>
            <a:xfrm>
              <a:off x="231840" y="3882240"/>
              <a:ext cx="3316320" cy="463320"/>
              <a:chOff x="231840" y="3882240"/>
              <a:chExt cx="3316320" cy="463320"/>
            </a:xfrm>
          </p:grpSpPr>
          <p:sp>
            <p:nvSpPr>
              <p:cNvPr id="433" name="Freeform 102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941" y="8"/>
                    </a:moveTo>
                    <a:lnTo>
                      <a:pt x="1531" y="8"/>
                    </a:lnTo>
                    <a:lnTo>
                      <a:pt x="1774" y="11"/>
                    </a:lnTo>
                    <a:lnTo>
                      <a:pt x="2019" y="20"/>
                    </a:lnTo>
                    <a:lnTo>
                      <a:pt x="2266" y="34"/>
                    </a:lnTo>
                    <a:lnTo>
                      <a:pt x="2516" y="54"/>
                    </a:lnTo>
                    <a:lnTo>
                      <a:pt x="2768" y="80"/>
                    </a:lnTo>
                    <a:lnTo>
                      <a:pt x="3023" y="112"/>
                    </a:lnTo>
                    <a:lnTo>
                      <a:pt x="3280" y="149"/>
                    </a:lnTo>
                    <a:lnTo>
                      <a:pt x="3541" y="192"/>
                    </a:lnTo>
                    <a:lnTo>
                      <a:pt x="3805" y="240"/>
                    </a:lnTo>
                    <a:lnTo>
                      <a:pt x="4071" y="294"/>
                    </a:lnTo>
                    <a:lnTo>
                      <a:pt x="4341" y="354"/>
                    </a:lnTo>
                    <a:lnTo>
                      <a:pt x="4615" y="419"/>
                    </a:lnTo>
                    <a:lnTo>
                      <a:pt x="4892" y="489"/>
                    </a:lnTo>
                    <a:lnTo>
                      <a:pt x="5172" y="565"/>
                    </a:lnTo>
                    <a:lnTo>
                      <a:pt x="5456" y="647"/>
                    </a:lnTo>
                    <a:lnTo>
                      <a:pt x="5745" y="734"/>
                    </a:lnTo>
                    <a:lnTo>
                      <a:pt x="6037" y="826"/>
                    </a:lnTo>
                    <a:lnTo>
                      <a:pt x="6333" y="924"/>
                    </a:lnTo>
                    <a:lnTo>
                      <a:pt x="6634" y="1027"/>
                    </a:lnTo>
                    <a:lnTo>
                      <a:pt x="6938" y="1136"/>
                    </a:lnTo>
                    <a:lnTo>
                      <a:pt x="6941" y="1128"/>
                    </a:lnTo>
                    <a:lnTo>
                      <a:pt x="6636" y="1019"/>
                    </a:lnTo>
                    <a:lnTo>
                      <a:pt x="6336" y="916"/>
                    </a:lnTo>
                    <a:lnTo>
                      <a:pt x="6039" y="818"/>
                    </a:lnTo>
                    <a:lnTo>
                      <a:pt x="5747" y="725"/>
                    </a:lnTo>
                    <a:lnTo>
                      <a:pt x="5459" y="638"/>
                    </a:lnTo>
                    <a:lnTo>
                      <a:pt x="5174" y="557"/>
                    </a:lnTo>
                    <a:lnTo>
                      <a:pt x="4894" y="481"/>
                    </a:lnTo>
                    <a:lnTo>
                      <a:pt x="4617" y="410"/>
                    </a:lnTo>
                    <a:lnTo>
                      <a:pt x="4343" y="345"/>
                    </a:lnTo>
                    <a:lnTo>
                      <a:pt x="4073" y="285"/>
                    </a:lnTo>
                    <a:lnTo>
                      <a:pt x="3806" y="231"/>
                    </a:lnTo>
                    <a:lnTo>
                      <a:pt x="3543" y="183"/>
                    </a:lnTo>
                    <a:lnTo>
                      <a:pt x="3282" y="140"/>
                    </a:lnTo>
                    <a:lnTo>
                      <a:pt x="3024" y="103"/>
                    </a:lnTo>
                    <a:lnTo>
                      <a:pt x="2769" y="71"/>
                    </a:lnTo>
                    <a:lnTo>
                      <a:pt x="2517" y="46"/>
                    </a:lnTo>
                    <a:lnTo>
                      <a:pt x="2267" y="25"/>
                    </a:lnTo>
                    <a:lnTo>
                      <a:pt x="2019" y="11"/>
                    </a:lnTo>
                    <a:lnTo>
                      <a:pt x="1941" y="8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03"/>
              <p:cNvSpPr/>
              <p:nvPr/>
            </p:nvSpPr>
            <p:spPr>
              <a:xfrm>
                <a:off x="231840" y="3882240"/>
                <a:ext cx="3316320" cy="463320"/>
              </a:xfrm>
              <a:custGeom>
                <a:avLst/>
                <a:gdLst/>
                <a:ahLst/>
                <a:rect l="l" t="t" r="r" b="b"/>
                <a:pathLst>
                  <a:path w="6941" h="1136">
                    <a:moveTo>
                      <a:pt x="1531" y="0"/>
                    </a:moveTo>
                    <a:lnTo>
                      <a:pt x="1112" y="8"/>
                    </a:lnTo>
                    <a:lnTo>
                      <a:pt x="697" y="35"/>
                    </a:lnTo>
                    <a:lnTo>
                      <a:pt x="288" y="80"/>
                    </a:lnTo>
                    <a:lnTo>
                      <a:pt x="0" y="124"/>
                    </a:lnTo>
                    <a:lnTo>
                      <a:pt x="0" y="133"/>
                    </a:lnTo>
                    <a:lnTo>
                      <a:pt x="289" y="89"/>
                    </a:lnTo>
                    <a:lnTo>
                      <a:pt x="698" y="44"/>
                    </a:lnTo>
                    <a:lnTo>
                      <a:pt x="1112" y="17"/>
                    </a:lnTo>
                    <a:lnTo>
                      <a:pt x="1531" y="8"/>
                    </a:lnTo>
                    <a:lnTo>
                      <a:pt x="1941" y="8"/>
                    </a:lnTo>
                    <a:lnTo>
                      <a:pt x="1774" y="2"/>
                    </a:lnTo>
                    <a:lnTo>
                      <a:pt x="1531" y="0"/>
                    </a:lnTo>
                  </a:path>
                </a:pathLst>
              </a:custGeom>
              <a:solidFill>
                <a:srgbClr val="00a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42"/>
            <p:cNvGrpSpPr/>
            <p:nvPr/>
          </p:nvGrpSpPr>
          <p:grpSpPr>
            <a:xfrm>
              <a:off x="231840" y="2994120"/>
              <a:ext cx="3510360" cy="683640"/>
              <a:chOff x="231840" y="2994120"/>
              <a:chExt cx="3510360" cy="683640"/>
            </a:xfrm>
          </p:grpSpPr>
          <p:sp>
            <p:nvSpPr>
              <p:cNvPr id="436" name="Freeform 101"/>
              <p:cNvSpPr/>
              <p:nvPr/>
            </p:nvSpPr>
            <p:spPr>
              <a:xfrm>
                <a:off x="231840" y="2994120"/>
                <a:ext cx="3510360" cy="683640"/>
              </a:xfrm>
              <a:custGeom>
                <a:avLst/>
                <a:gdLst/>
                <a:ahLst/>
                <a:rect l="l" t="t" r="r" b="b"/>
                <a:pathLst>
                  <a:path w="7347" h="1676">
                    <a:moveTo>
                      <a:pt x="0" y="0"/>
                    </a:moveTo>
                    <a:lnTo>
                      <a:pt x="0" y="37"/>
                    </a:lnTo>
                    <a:lnTo>
                      <a:pt x="366" y="162"/>
                    </a:lnTo>
                    <a:lnTo>
                      <a:pt x="1068" y="384"/>
                    </a:lnTo>
                    <a:lnTo>
                      <a:pt x="1783" y="590"/>
                    </a:lnTo>
                    <a:lnTo>
                      <a:pt x="2511" y="781"/>
                    </a:lnTo>
                    <a:lnTo>
                      <a:pt x="3257" y="958"/>
                    </a:lnTo>
                    <a:lnTo>
                      <a:pt x="4023" y="1123"/>
                    </a:lnTo>
                    <a:lnTo>
                      <a:pt x="4812" y="1276"/>
                    </a:lnTo>
                    <a:lnTo>
                      <a:pt x="5626" y="1419"/>
                    </a:lnTo>
                    <a:lnTo>
                      <a:pt x="6469" y="1551"/>
                    </a:lnTo>
                    <a:lnTo>
                      <a:pt x="7343" y="1676"/>
                    </a:lnTo>
                    <a:lnTo>
                      <a:pt x="7347" y="1641"/>
                    </a:lnTo>
                    <a:lnTo>
                      <a:pt x="6474" y="1517"/>
                    </a:lnTo>
                    <a:lnTo>
                      <a:pt x="5632" y="1384"/>
                    </a:lnTo>
                    <a:lnTo>
                      <a:pt x="4818" y="1242"/>
                    </a:lnTo>
                    <a:lnTo>
                      <a:pt x="4030" y="1089"/>
                    </a:lnTo>
                    <a:lnTo>
                      <a:pt x="3265" y="924"/>
                    </a:lnTo>
                    <a:lnTo>
                      <a:pt x="2520" y="747"/>
                    </a:lnTo>
                    <a:lnTo>
                      <a:pt x="1792" y="556"/>
                    </a:lnTo>
                    <a:lnTo>
                      <a:pt x="1079" y="350"/>
                    </a:lnTo>
                    <a:lnTo>
                      <a:pt x="377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43"/>
            <p:cNvGrpSpPr/>
            <p:nvPr/>
          </p:nvGrpSpPr>
          <p:grpSpPr>
            <a:xfrm>
              <a:off x="231840" y="3234960"/>
              <a:ext cx="3510360" cy="442080"/>
              <a:chOff x="231840" y="3234960"/>
              <a:chExt cx="3510360" cy="442080"/>
            </a:xfrm>
          </p:grpSpPr>
          <p:sp>
            <p:nvSpPr>
              <p:cNvPr id="438" name="Freeform 100"/>
              <p:cNvSpPr/>
              <p:nvPr/>
            </p:nvSpPr>
            <p:spPr>
              <a:xfrm>
                <a:off x="231840" y="3234960"/>
                <a:ext cx="3510360" cy="442080"/>
              </a:xfrm>
              <a:custGeom>
                <a:avLst/>
                <a:gdLst/>
                <a:ahLst/>
                <a:rect l="l" t="t" r="r" b="b"/>
                <a:pathLst>
                  <a:path w="7347" h="1084">
                    <a:moveTo>
                      <a:pt x="0" y="0"/>
                    </a:moveTo>
                    <a:lnTo>
                      <a:pt x="0" y="36"/>
                    </a:lnTo>
                    <a:lnTo>
                      <a:pt x="182" y="64"/>
                    </a:lnTo>
                    <a:lnTo>
                      <a:pt x="7343" y="1085"/>
                    </a:lnTo>
                    <a:lnTo>
                      <a:pt x="7347" y="1050"/>
                    </a:lnTo>
                    <a:lnTo>
                      <a:pt x="187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44"/>
            <p:cNvGrpSpPr/>
            <p:nvPr/>
          </p:nvGrpSpPr>
          <p:grpSpPr>
            <a:xfrm>
              <a:off x="231840" y="3417120"/>
              <a:ext cx="3511440" cy="263880"/>
              <a:chOff x="231840" y="3417120"/>
              <a:chExt cx="3511440" cy="263880"/>
            </a:xfrm>
          </p:grpSpPr>
          <p:sp>
            <p:nvSpPr>
              <p:cNvPr id="440" name="Freeform 99"/>
              <p:cNvSpPr/>
              <p:nvPr/>
            </p:nvSpPr>
            <p:spPr>
              <a:xfrm>
                <a:off x="231840" y="3417120"/>
                <a:ext cx="3511440" cy="263880"/>
              </a:xfrm>
              <a:custGeom>
                <a:avLst/>
                <a:gdLst/>
                <a:ahLst/>
                <a:rect l="l" t="t" r="r" b="b"/>
                <a:pathLst>
                  <a:path w="7349" h="647">
                    <a:moveTo>
                      <a:pt x="0" y="0"/>
                    </a:moveTo>
                    <a:lnTo>
                      <a:pt x="0" y="53"/>
                    </a:lnTo>
                    <a:lnTo>
                      <a:pt x="571" y="63"/>
                    </a:lnTo>
                    <a:lnTo>
                      <a:pt x="1316" y="87"/>
                    </a:lnTo>
                    <a:lnTo>
                      <a:pt x="2068" y="123"/>
                    </a:lnTo>
                    <a:lnTo>
                      <a:pt x="2831" y="171"/>
                    </a:lnTo>
                    <a:lnTo>
                      <a:pt x="3607" y="230"/>
                    </a:lnTo>
                    <a:lnTo>
                      <a:pt x="4802" y="342"/>
                    </a:lnTo>
                    <a:lnTo>
                      <a:pt x="6043" y="481"/>
                    </a:lnTo>
                    <a:lnTo>
                      <a:pt x="7342" y="647"/>
                    </a:lnTo>
                    <a:lnTo>
                      <a:pt x="7349" y="595"/>
                    </a:lnTo>
                    <a:lnTo>
                      <a:pt x="6050" y="429"/>
                    </a:lnTo>
                    <a:lnTo>
                      <a:pt x="4807" y="290"/>
                    </a:lnTo>
                    <a:lnTo>
                      <a:pt x="3611" y="178"/>
                    </a:lnTo>
                    <a:lnTo>
                      <a:pt x="2834" y="118"/>
                    </a:lnTo>
                    <a:lnTo>
                      <a:pt x="2071" y="70"/>
                    </a:lnTo>
                    <a:lnTo>
                      <a:pt x="1318" y="34"/>
                    </a:lnTo>
                    <a:lnTo>
                      <a:pt x="573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5"/>
            <p:cNvGrpSpPr/>
            <p:nvPr/>
          </p:nvGrpSpPr>
          <p:grpSpPr>
            <a:xfrm>
              <a:off x="231840" y="3512520"/>
              <a:ext cx="3510000" cy="159840"/>
              <a:chOff x="231840" y="3512520"/>
              <a:chExt cx="3510000" cy="159840"/>
            </a:xfrm>
          </p:grpSpPr>
          <p:sp>
            <p:nvSpPr>
              <p:cNvPr id="442" name="Freeform 97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963" y="8"/>
                    </a:moveTo>
                    <a:lnTo>
                      <a:pt x="2252" y="8"/>
                    </a:lnTo>
                    <a:lnTo>
                      <a:pt x="2488" y="9"/>
                    </a:lnTo>
                    <a:lnTo>
                      <a:pt x="2966" y="17"/>
                    </a:lnTo>
                    <a:lnTo>
                      <a:pt x="3449" y="33"/>
                    </a:lnTo>
                    <a:lnTo>
                      <a:pt x="3939" y="56"/>
                    </a:lnTo>
                    <a:lnTo>
                      <a:pt x="4437" y="87"/>
                    </a:lnTo>
                    <a:lnTo>
                      <a:pt x="4944" y="126"/>
                    </a:lnTo>
                    <a:lnTo>
                      <a:pt x="5720" y="198"/>
                    </a:lnTo>
                    <a:lnTo>
                      <a:pt x="6520" y="287"/>
                    </a:lnTo>
                    <a:lnTo>
                      <a:pt x="7345" y="391"/>
                    </a:lnTo>
                    <a:lnTo>
                      <a:pt x="7346" y="383"/>
                    </a:lnTo>
                    <a:lnTo>
                      <a:pt x="6521" y="278"/>
                    </a:lnTo>
                    <a:lnTo>
                      <a:pt x="5721" y="189"/>
                    </a:lnTo>
                    <a:lnTo>
                      <a:pt x="4944" y="117"/>
                    </a:lnTo>
                    <a:lnTo>
                      <a:pt x="4438" y="79"/>
                    </a:lnTo>
                    <a:lnTo>
                      <a:pt x="3940" y="47"/>
                    </a:lnTo>
                    <a:lnTo>
                      <a:pt x="3449" y="24"/>
                    </a:lnTo>
                    <a:lnTo>
                      <a:pt x="2966" y="8"/>
                    </a:lnTo>
                    <a:lnTo>
                      <a:pt x="2963" y="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8"/>
              <p:cNvSpPr/>
              <p:nvPr/>
            </p:nvSpPr>
            <p:spPr>
              <a:xfrm>
                <a:off x="231840" y="3512520"/>
                <a:ext cx="3510000" cy="159840"/>
              </a:xfrm>
              <a:custGeom>
                <a:avLst/>
                <a:gdLst/>
                <a:ahLst/>
                <a:rect l="l" t="t" r="r" b="b"/>
                <a:pathLst>
                  <a:path w="7346" h="392">
                    <a:moveTo>
                      <a:pt x="2252" y="0"/>
                    </a:moveTo>
                    <a:lnTo>
                      <a:pt x="1739" y="4"/>
                    </a:lnTo>
                    <a:lnTo>
                      <a:pt x="1232" y="19"/>
                    </a:lnTo>
                    <a:lnTo>
                      <a:pt x="729" y="42"/>
                    </a:lnTo>
                    <a:lnTo>
                      <a:pt x="229" y="76"/>
                    </a:lnTo>
                    <a:lnTo>
                      <a:pt x="0" y="96"/>
                    </a:lnTo>
                    <a:lnTo>
                      <a:pt x="0" y="105"/>
                    </a:lnTo>
                    <a:lnTo>
                      <a:pt x="230" y="85"/>
                    </a:lnTo>
                    <a:lnTo>
                      <a:pt x="729" y="51"/>
                    </a:lnTo>
                    <a:lnTo>
                      <a:pt x="1232" y="27"/>
                    </a:lnTo>
                    <a:lnTo>
                      <a:pt x="1740" y="13"/>
                    </a:lnTo>
                    <a:lnTo>
                      <a:pt x="2963" y="8"/>
                    </a:lnTo>
                    <a:lnTo>
                      <a:pt x="2488" y="1"/>
                    </a:lnTo>
                    <a:lnTo>
                      <a:pt x="2252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6"/>
            <p:cNvGrpSpPr/>
            <p:nvPr/>
          </p:nvGrpSpPr>
          <p:grpSpPr>
            <a:xfrm>
              <a:off x="231840" y="3538080"/>
              <a:ext cx="3510000" cy="136080"/>
              <a:chOff x="231840" y="3538080"/>
              <a:chExt cx="3510000" cy="136080"/>
            </a:xfrm>
          </p:grpSpPr>
          <p:sp>
            <p:nvSpPr>
              <p:cNvPr id="445" name="Freeform 95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4039" y="18"/>
                    </a:moveTo>
                    <a:lnTo>
                      <a:pt x="3118" y="18"/>
                    </a:lnTo>
                    <a:lnTo>
                      <a:pt x="3314" y="19"/>
                    </a:lnTo>
                    <a:lnTo>
                      <a:pt x="3711" y="25"/>
                    </a:lnTo>
                    <a:lnTo>
                      <a:pt x="4113" y="38"/>
                    </a:lnTo>
                    <a:lnTo>
                      <a:pt x="4521" y="58"/>
                    </a:lnTo>
                    <a:lnTo>
                      <a:pt x="4936" y="83"/>
                    </a:lnTo>
                    <a:lnTo>
                      <a:pt x="5357" y="115"/>
                    </a:lnTo>
                    <a:lnTo>
                      <a:pt x="6002" y="174"/>
                    </a:lnTo>
                    <a:lnTo>
                      <a:pt x="6664" y="247"/>
                    </a:lnTo>
                    <a:lnTo>
                      <a:pt x="7344" y="334"/>
                    </a:lnTo>
                    <a:lnTo>
                      <a:pt x="7346" y="316"/>
                    </a:lnTo>
                    <a:lnTo>
                      <a:pt x="6666" y="230"/>
                    </a:lnTo>
                    <a:lnTo>
                      <a:pt x="6003" y="157"/>
                    </a:lnTo>
                    <a:lnTo>
                      <a:pt x="5358" y="97"/>
                    </a:lnTo>
                    <a:lnTo>
                      <a:pt x="4937" y="66"/>
                    </a:lnTo>
                    <a:lnTo>
                      <a:pt x="4522" y="40"/>
                    </a:lnTo>
                    <a:lnTo>
                      <a:pt x="4114" y="21"/>
                    </a:lnTo>
                    <a:lnTo>
                      <a:pt x="4039" y="18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6"/>
              <p:cNvSpPr/>
              <p:nvPr/>
            </p:nvSpPr>
            <p:spPr>
              <a:xfrm>
                <a:off x="231840" y="3538080"/>
                <a:ext cx="3510000" cy="136080"/>
              </a:xfrm>
              <a:custGeom>
                <a:avLst/>
                <a:gdLst/>
                <a:ahLst/>
                <a:rect l="l" t="t" r="r" b="b"/>
                <a:pathLst>
                  <a:path w="7346" h="334">
                    <a:moveTo>
                      <a:pt x="3118" y="0"/>
                    </a:moveTo>
                    <a:lnTo>
                      <a:pt x="2561" y="7"/>
                    </a:lnTo>
                    <a:lnTo>
                      <a:pt x="2013" y="28"/>
                    </a:lnTo>
                    <a:lnTo>
                      <a:pt x="1472" y="62"/>
                    </a:lnTo>
                    <a:lnTo>
                      <a:pt x="938" y="110"/>
                    </a:lnTo>
                    <a:lnTo>
                      <a:pt x="410" y="173"/>
                    </a:lnTo>
                    <a:lnTo>
                      <a:pt x="0" y="233"/>
                    </a:lnTo>
                    <a:lnTo>
                      <a:pt x="0" y="251"/>
                    </a:lnTo>
                    <a:lnTo>
                      <a:pt x="412" y="190"/>
                    </a:lnTo>
                    <a:lnTo>
                      <a:pt x="940" y="128"/>
                    </a:lnTo>
                    <a:lnTo>
                      <a:pt x="1473" y="79"/>
                    </a:lnTo>
                    <a:lnTo>
                      <a:pt x="2013" y="45"/>
                    </a:lnTo>
                    <a:lnTo>
                      <a:pt x="2561" y="25"/>
                    </a:lnTo>
                    <a:lnTo>
                      <a:pt x="3118" y="18"/>
                    </a:lnTo>
                    <a:lnTo>
                      <a:pt x="4039" y="18"/>
                    </a:lnTo>
                    <a:lnTo>
                      <a:pt x="3712" y="8"/>
                    </a:lnTo>
                    <a:lnTo>
                      <a:pt x="3315" y="1"/>
                    </a:lnTo>
                    <a:lnTo>
                      <a:pt x="3118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7"/>
            <p:cNvGrpSpPr/>
            <p:nvPr/>
          </p:nvGrpSpPr>
          <p:grpSpPr>
            <a:xfrm>
              <a:off x="231840" y="3556440"/>
              <a:ext cx="3510000" cy="159480"/>
              <a:chOff x="231840" y="3556440"/>
              <a:chExt cx="3510000" cy="159480"/>
            </a:xfrm>
          </p:grpSpPr>
          <p:sp>
            <p:nvSpPr>
              <p:cNvPr id="448" name="Freeform 93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3645" y="0"/>
                    </a:moveTo>
                    <a:lnTo>
                      <a:pt x="3062" y="9"/>
                    </a:lnTo>
                    <a:lnTo>
                      <a:pt x="2491" y="34"/>
                    </a:lnTo>
                    <a:lnTo>
                      <a:pt x="1932" y="77"/>
                    </a:lnTo>
                    <a:lnTo>
                      <a:pt x="1382" y="138"/>
                    </a:lnTo>
                    <a:lnTo>
                      <a:pt x="841" y="217"/>
                    </a:lnTo>
                    <a:lnTo>
                      <a:pt x="307" y="315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309" y="323"/>
                    </a:lnTo>
                    <a:lnTo>
                      <a:pt x="843" y="226"/>
                    </a:lnTo>
                    <a:lnTo>
                      <a:pt x="1383" y="147"/>
                    </a:lnTo>
                    <a:lnTo>
                      <a:pt x="1933" y="86"/>
                    </a:lnTo>
                    <a:lnTo>
                      <a:pt x="2492" y="43"/>
                    </a:lnTo>
                    <a:lnTo>
                      <a:pt x="3062" y="17"/>
                    </a:lnTo>
                    <a:lnTo>
                      <a:pt x="3645" y="9"/>
                    </a:lnTo>
                    <a:lnTo>
                      <a:pt x="4250" y="9"/>
                    </a:lnTo>
                    <a:lnTo>
                      <a:pt x="3990" y="3"/>
                    </a:lnTo>
                    <a:lnTo>
                      <a:pt x="3645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4"/>
              <p:cNvSpPr/>
              <p:nvPr/>
            </p:nvSpPr>
            <p:spPr>
              <a:xfrm>
                <a:off x="231840" y="3556440"/>
                <a:ext cx="3510000" cy="159480"/>
              </a:xfrm>
              <a:custGeom>
                <a:avLst/>
                <a:gdLst/>
                <a:ahLst/>
                <a:rect l="l" t="t" r="r" b="b"/>
                <a:pathLst>
                  <a:path w="7346" h="391">
                    <a:moveTo>
                      <a:pt x="4250" y="9"/>
                    </a:moveTo>
                    <a:lnTo>
                      <a:pt x="3645" y="9"/>
                    </a:lnTo>
                    <a:lnTo>
                      <a:pt x="3817" y="10"/>
                    </a:lnTo>
                    <a:lnTo>
                      <a:pt x="4164" y="15"/>
                    </a:lnTo>
                    <a:lnTo>
                      <a:pt x="4517" y="27"/>
                    </a:lnTo>
                    <a:lnTo>
                      <a:pt x="4875" y="43"/>
                    </a:lnTo>
                    <a:lnTo>
                      <a:pt x="5238" y="66"/>
                    </a:lnTo>
                    <a:lnTo>
                      <a:pt x="5607" y="94"/>
                    </a:lnTo>
                    <a:lnTo>
                      <a:pt x="6172" y="145"/>
                    </a:lnTo>
                    <a:lnTo>
                      <a:pt x="6751" y="209"/>
                    </a:lnTo>
                    <a:lnTo>
                      <a:pt x="7345" y="284"/>
                    </a:lnTo>
                    <a:lnTo>
                      <a:pt x="7346" y="276"/>
                    </a:lnTo>
                    <a:lnTo>
                      <a:pt x="6752" y="200"/>
                    </a:lnTo>
                    <a:lnTo>
                      <a:pt x="6172" y="137"/>
                    </a:lnTo>
                    <a:lnTo>
                      <a:pt x="5608" y="85"/>
                    </a:lnTo>
                    <a:lnTo>
                      <a:pt x="5239" y="57"/>
                    </a:lnTo>
                    <a:lnTo>
                      <a:pt x="4875" y="35"/>
                    </a:lnTo>
                    <a:lnTo>
                      <a:pt x="4517" y="18"/>
                    </a:lnTo>
                    <a:lnTo>
                      <a:pt x="4250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48"/>
            <p:cNvGrpSpPr/>
            <p:nvPr/>
          </p:nvGrpSpPr>
          <p:grpSpPr>
            <a:xfrm>
              <a:off x="231840" y="3567240"/>
              <a:ext cx="3510000" cy="221400"/>
              <a:chOff x="231840" y="3567240"/>
              <a:chExt cx="3510000" cy="221400"/>
            </a:xfrm>
          </p:grpSpPr>
          <p:sp>
            <p:nvSpPr>
              <p:cNvPr id="451" name="Freeform 91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000" y="0"/>
                    </a:moveTo>
                    <a:lnTo>
                      <a:pt x="3401" y="10"/>
                    </a:lnTo>
                    <a:lnTo>
                      <a:pt x="2819" y="40"/>
                    </a:lnTo>
                    <a:lnTo>
                      <a:pt x="2250" y="91"/>
                    </a:lnTo>
                    <a:lnTo>
                      <a:pt x="1694" y="162"/>
                    </a:lnTo>
                    <a:lnTo>
                      <a:pt x="1149" y="255"/>
                    </a:lnTo>
                    <a:lnTo>
                      <a:pt x="615" y="370"/>
                    </a:lnTo>
                    <a:lnTo>
                      <a:pt x="89" y="507"/>
                    </a:lnTo>
                    <a:lnTo>
                      <a:pt x="0" y="534"/>
                    </a:lnTo>
                    <a:lnTo>
                      <a:pt x="0" y="543"/>
                    </a:lnTo>
                    <a:lnTo>
                      <a:pt x="92" y="515"/>
                    </a:lnTo>
                    <a:lnTo>
                      <a:pt x="617" y="378"/>
                    </a:lnTo>
                    <a:lnTo>
                      <a:pt x="1151" y="264"/>
                    </a:lnTo>
                    <a:lnTo>
                      <a:pt x="1695" y="171"/>
                    </a:lnTo>
                    <a:lnTo>
                      <a:pt x="2251" y="99"/>
                    </a:lnTo>
                    <a:lnTo>
                      <a:pt x="2819" y="49"/>
                    </a:lnTo>
                    <a:lnTo>
                      <a:pt x="3402" y="19"/>
                    </a:lnTo>
                    <a:lnTo>
                      <a:pt x="4000" y="9"/>
                    </a:lnTo>
                    <a:lnTo>
                      <a:pt x="4577" y="9"/>
                    </a:lnTo>
                    <a:lnTo>
                      <a:pt x="4312" y="3"/>
                    </a:lnTo>
                    <a:lnTo>
                      <a:pt x="4000" y="0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92"/>
              <p:cNvSpPr/>
              <p:nvPr/>
            </p:nvSpPr>
            <p:spPr>
              <a:xfrm>
                <a:off x="231840" y="3567240"/>
                <a:ext cx="3510000" cy="221400"/>
              </a:xfrm>
              <a:custGeom>
                <a:avLst/>
                <a:gdLst/>
                <a:ahLst/>
                <a:rect l="l" t="t" r="r" b="b"/>
                <a:pathLst>
                  <a:path w="7346" h="543">
                    <a:moveTo>
                      <a:pt x="4577" y="9"/>
                    </a:moveTo>
                    <a:lnTo>
                      <a:pt x="4000" y="9"/>
                    </a:lnTo>
                    <a:lnTo>
                      <a:pt x="4155" y="9"/>
                    </a:lnTo>
                    <a:lnTo>
                      <a:pt x="4469" y="15"/>
                    </a:lnTo>
                    <a:lnTo>
                      <a:pt x="4788" y="25"/>
                    </a:lnTo>
                    <a:lnTo>
                      <a:pt x="5112" y="40"/>
                    </a:lnTo>
                    <a:lnTo>
                      <a:pt x="5440" y="60"/>
                    </a:lnTo>
                    <a:lnTo>
                      <a:pt x="5774" y="85"/>
                    </a:lnTo>
                    <a:lnTo>
                      <a:pt x="6285" y="132"/>
                    </a:lnTo>
                    <a:lnTo>
                      <a:pt x="6808" y="189"/>
                    </a:lnTo>
                    <a:lnTo>
                      <a:pt x="7345" y="257"/>
                    </a:lnTo>
                    <a:lnTo>
                      <a:pt x="7346" y="249"/>
                    </a:lnTo>
                    <a:lnTo>
                      <a:pt x="6809" y="181"/>
                    </a:lnTo>
                    <a:lnTo>
                      <a:pt x="6286" y="123"/>
                    </a:lnTo>
                    <a:lnTo>
                      <a:pt x="5775" y="76"/>
                    </a:lnTo>
                    <a:lnTo>
                      <a:pt x="5441" y="51"/>
                    </a:lnTo>
                    <a:lnTo>
                      <a:pt x="5112" y="31"/>
                    </a:lnTo>
                    <a:lnTo>
                      <a:pt x="4788" y="16"/>
                    </a:lnTo>
                    <a:lnTo>
                      <a:pt x="4577" y="9"/>
                    </a:lnTo>
                  </a:path>
                </a:pathLst>
              </a:custGeom>
              <a:solidFill>
                <a:srgbClr val="bc30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49"/>
            <p:cNvGrpSpPr/>
            <p:nvPr/>
          </p:nvGrpSpPr>
          <p:grpSpPr>
            <a:xfrm>
              <a:off x="231840" y="2679840"/>
              <a:ext cx="3492360" cy="193320"/>
              <a:chOff x="231840" y="2679840"/>
              <a:chExt cx="3492360" cy="193320"/>
            </a:xfrm>
          </p:grpSpPr>
          <p:sp>
            <p:nvSpPr>
              <p:cNvPr id="454" name="Freeform 89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0" y="184"/>
                    </a:moveTo>
                    <a:lnTo>
                      <a:pt x="0" y="240"/>
                    </a:lnTo>
                    <a:lnTo>
                      <a:pt x="8" y="241"/>
                    </a:lnTo>
                    <a:lnTo>
                      <a:pt x="259" y="282"/>
                    </a:lnTo>
                    <a:lnTo>
                      <a:pt x="511" y="319"/>
                    </a:lnTo>
                    <a:lnTo>
                      <a:pt x="765" y="352"/>
                    </a:lnTo>
                    <a:lnTo>
                      <a:pt x="1019" y="381"/>
                    </a:lnTo>
                    <a:lnTo>
                      <a:pt x="1276" y="406"/>
                    </a:lnTo>
                    <a:lnTo>
                      <a:pt x="1533" y="427"/>
                    </a:lnTo>
                    <a:lnTo>
                      <a:pt x="1793" y="444"/>
                    </a:lnTo>
                    <a:lnTo>
                      <a:pt x="2054" y="458"/>
                    </a:lnTo>
                    <a:lnTo>
                      <a:pt x="2318" y="467"/>
                    </a:lnTo>
                    <a:lnTo>
                      <a:pt x="2583" y="473"/>
                    </a:lnTo>
                    <a:lnTo>
                      <a:pt x="2851" y="475"/>
                    </a:lnTo>
                    <a:lnTo>
                      <a:pt x="3057" y="474"/>
                    </a:lnTo>
                    <a:lnTo>
                      <a:pt x="3264" y="470"/>
                    </a:lnTo>
                    <a:lnTo>
                      <a:pt x="3473" y="465"/>
                    </a:lnTo>
                    <a:lnTo>
                      <a:pt x="3895" y="448"/>
                    </a:lnTo>
                    <a:lnTo>
                      <a:pt x="4322" y="422"/>
                    </a:lnTo>
                    <a:lnTo>
                      <a:pt x="2851" y="422"/>
                    </a:lnTo>
                    <a:lnTo>
                      <a:pt x="2319" y="414"/>
                    </a:lnTo>
                    <a:lnTo>
                      <a:pt x="1796" y="392"/>
                    </a:lnTo>
                    <a:lnTo>
                      <a:pt x="1280" y="353"/>
                    </a:lnTo>
                    <a:lnTo>
                      <a:pt x="771" y="300"/>
                    </a:lnTo>
                    <a:lnTo>
                      <a:pt x="268" y="230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90"/>
              <p:cNvSpPr/>
              <p:nvPr/>
            </p:nvSpPr>
            <p:spPr>
              <a:xfrm>
                <a:off x="231840" y="2679840"/>
                <a:ext cx="3492360" cy="193320"/>
              </a:xfrm>
              <a:custGeom>
                <a:avLst/>
                <a:gdLst/>
                <a:ahLst/>
                <a:rect l="l" t="t" r="r" b="b"/>
                <a:pathLst>
                  <a:path w="7309" h="474">
                    <a:moveTo>
                      <a:pt x="7300" y="0"/>
                    </a:moveTo>
                    <a:lnTo>
                      <a:pt x="6579" y="116"/>
                    </a:lnTo>
                    <a:lnTo>
                      <a:pt x="6110" y="183"/>
                    </a:lnTo>
                    <a:lnTo>
                      <a:pt x="5650" y="242"/>
                    </a:lnTo>
                    <a:lnTo>
                      <a:pt x="5199" y="292"/>
                    </a:lnTo>
                    <a:lnTo>
                      <a:pt x="4756" y="335"/>
                    </a:lnTo>
                    <a:lnTo>
                      <a:pt x="4321" y="369"/>
                    </a:lnTo>
                    <a:lnTo>
                      <a:pt x="3893" y="395"/>
                    </a:lnTo>
                    <a:lnTo>
                      <a:pt x="3471" y="412"/>
                    </a:lnTo>
                    <a:lnTo>
                      <a:pt x="3263" y="418"/>
                    </a:lnTo>
                    <a:lnTo>
                      <a:pt x="3056" y="421"/>
                    </a:lnTo>
                    <a:lnTo>
                      <a:pt x="2851" y="422"/>
                    </a:lnTo>
                    <a:lnTo>
                      <a:pt x="4322" y="422"/>
                    </a:lnTo>
                    <a:lnTo>
                      <a:pt x="4760" y="388"/>
                    </a:lnTo>
                    <a:lnTo>
                      <a:pt x="5204" y="345"/>
                    </a:lnTo>
                    <a:lnTo>
                      <a:pt x="5656" y="294"/>
                    </a:lnTo>
                    <a:lnTo>
                      <a:pt x="6117" y="235"/>
                    </a:lnTo>
                    <a:lnTo>
                      <a:pt x="6586" y="168"/>
                    </a:lnTo>
                    <a:lnTo>
                      <a:pt x="7309" y="52"/>
                    </a:lnTo>
                    <a:lnTo>
                      <a:pt x="7300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50"/>
            <p:cNvGrpSpPr/>
            <p:nvPr/>
          </p:nvGrpSpPr>
          <p:grpSpPr>
            <a:xfrm>
              <a:off x="231840" y="2673000"/>
              <a:ext cx="3493800" cy="336960"/>
              <a:chOff x="231840" y="2673000"/>
              <a:chExt cx="3493800" cy="336960"/>
            </a:xfrm>
          </p:grpSpPr>
          <p:sp>
            <p:nvSpPr>
              <p:cNvPr id="457" name="Freeform 88"/>
              <p:cNvSpPr/>
              <p:nvPr/>
            </p:nvSpPr>
            <p:spPr>
              <a:xfrm>
                <a:off x="231840" y="2673000"/>
                <a:ext cx="3493800" cy="336960"/>
              </a:xfrm>
              <a:custGeom>
                <a:avLst/>
                <a:gdLst/>
                <a:ahLst/>
                <a:rect l="l" t="t" r="r" b="b"/>
                <a:pathLst>
                  <a:path w="7312" h="826">
                    <a:moveTo>
                      <a:pt x="7297" y="0"/>
                    </a:moveTo>
                    <a:lnTo>
                      <a:pt x="6017" y="206"/>
                    </a:lnTo>
                    <a:lnTo>
                      <a:pt x="5195" y="324"/>
                    </a:lnTo>
                    <a:lnTo>
                      <a:pt x="4394" y="428"/>
                    </a:lnTo>
                    <a:lnTo>
                      <a:pt x="3613" y="517"/>
                    </a:lnTo>
                    <a:lnTo>
                      <a:pt x="2847" y="591"/>
                    </a:lnTo>
                    <a:lnTo>
                      <a:pt x="2095" y="651"/>
                    </a:lnTo>
                    <a:lnTo>
                      <a:pt x="1354" y="695"/>
                    </a:lnTo>
                    <a:lnTo>
                      <a:pt x="619" y="725"/>
                    </a:lnTo>
                    <a:lnTo>
                      <a:pt x="254" y="734"/>
                    </a:lnTo>
                    <a:lnTo>
                      <a:pt x="0" y="738"/>
                    </a:lnTo>
                    <a:lnTo>
                      <a:pt x="0" y="826"/>
                    </a:lnTo>
                    <a:lnTo>
                      <a:pt x="256" y="822"/>
                    </a:lnTo>
                    <a:lnTo>
                      <a:pt x="622" y="813"/>
                    </a:lnTo>
                    <a:lnTo>
                      <a:pt x="1358" y="783"/>
                    </a:lnTo>
                    <a:lnTo>
                      <a:pt x="2101" y="739"/>
                    </a:lnTo>
                    <a:lnTo>
                      <a:pt x="2855" y="679"/>
                    </a:lnTo>
                    <a:lnTo>
                      <a:pt x="3622" y="605"/>
                    </a:lnTo>
                    <a:lnTo>
                      <a:pt x="4405" y="516"/>
                    </a:lnTo>
                    <a:lnTo>
                      <a:pt x="5207" y="412"/>
                    </a:lnTo>
                    <a:lnTo>
                      <a:pt x="6030" y="293"/>
                    </a:lnTo>
                    <a:lnTo>
                      <a:pt x="7312" y="87"/>
                    </a:lnTo>
                    <a:lnTo>
                      <a:pt x="7297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51"/>
            <p:cNvGrpSpPr/>
            <p:nvPr/>
          </p:nvGrpSpPr>
          <p:grpSpPr>
            <a:xfrm>
              <a:off x="231840" y="2683440"/>
              <a:ext cx="3491280" cy="499680"/>
              <a:chOff x="231840" y="2683440"/>
              <a:chExt cx="3491280" cy="499680"/>
            </a:xfrm>
          </p:grpSpPr>
          <p:sp>
            <p:nvSpPr>
              <p:cNvPr id="459" name="Freeform 87"/>
              <p:cNvSpPr/>
              <p:nvPr/>
            </p:nvSpPr>
            <p:spPr>
              <a:xfrm>
                <a:off x="231840" y="2683440"/>
                <a:ext cx="3491280" cy="499680"/>
              </a:xfrm>
              <a:custGeom>
                <a:avLst/>
                <a:gdLst/>
                <a:ahLst/>
                <a:rect l="l" t="t" r="r" b="b"/>
                <a:pathLst>
                  <a:path w="7307" h="1225">
                    <a:moveTo>
                      <a:pt x="7301" y="0"/>
                    </a:moveTo>
                    <a:lnTo>
                      <a:pt x="0" y="1190"/>
                    </a:lnTo>
                    <a:lnTo>
                      <a:pt x="0" y="1225"/>
                    </a:lnTo>
                    <a:lnTo>
                      <a:pt x="7307" y="35"/>
                    </a:lnTo>
                    <a:lnTo>
                      <a:pt x="7301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52"/>
            <p:cNvGrpSpPr/>
            <p:nvPr/>
          </p:nvGrpSpPr>
          <p:grpSpPr>
            <a:xfrm>
              <a:off x="231840" y="2687040"/>
              <a:ext cx="3490920" cy="623160"/>
              <a:chOff x="231840" y="2687040"/>
              <a:chExt cx="3490920" cy="623160"/>
            </a:xfrm>
          </p:grpSpPr>
          <p:sp>
            <p:nvSpPr>
              <p:cNvPr id="461" name="Freeform 86"/>
              <p:cNvSpPr/>
              <p:nvPr/>
            </p:nvSpPr>
            <p:spPr>
              <a:xfrm>
                <a:off x="231840" y="2687040"/>
                <a:ext cx="3490920" cy="623160"/>
              </a:xfrm>
              <a:custGeom>
                <a:avLst/>
                <a:gdLst/>
                <a:ahLst/>
                <a:rect l="l" t="t" r="r" b="b"/>
                <a:pathLst>
                  <a:path w="7306" h="1527">
                    <a:moveTo>
                      <a:pt x="7303" y="0"/>
                    </a:moveTo>
                    <a:lnTo>
                      <a:pt x="5590" y="301"/>
                    </a:lnTo>
                    <a:lnTo>
                      <a:pt x="3977" y="610"/>
                    </a:lnTo>
                    <a:lnTo>
                      <a:pt x="2442" y="931"/>
                    </a:lnTo>
                    <a:lnTo>
                      <a:pt x="1696" y="1098"/>
                    </a:lnTo>
                    <a:lnTo>
                      <a:pt x="961" y="1270"/>
                    </a:lnTo>
                    <a:lnTo>
                      <a:pt x="233" y="1449"/>
                    </a:lnTo>
                    <a:lnTo>
                      <a:pt x="0" y="1509"/>
                    </a:lnTo>
                    <a:lnTo>
                      <a:pt x="0" y="1527"/>
                    </a:lnTo>
                    <a:lnTo>
                      <a:pt x="238" y="1466"/>
                    </a:lnTo>
                    <a:lnTo>
                      <a:pt x="965" y="1287"/>
                    </a:lnTo>
                    <a:lnTo>
                      <a:pt x="1700" y="1115"/>
                    </a:lnTo>
                    <a:lnTo>
                      <a:pt x="2446" y="948"/>
                    </a:lnTo>
                    <a:lnTo>
                      <a:pt x="3981" y="627"/>
                    </a:lnTo>
                    <a:lnTo>
                      <a:pt x="5593" y="319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53"/>
            <p:cNvGrpSpPr/>
            <p:nvPr/>
          </p:nvGrpSpPr>
          <p:grpSpPr>
            <a:xfrm>
              <a:off x="231840" y="2688840"/>
              <a:ext cx="3490560" cy="708480"/>
              <a:chOff x="231840" y="2688840"/>
              <a:chExt cx="3490560" cy="708480"/>
            </a:xfrm>
          </p:grpSpPr>
          <p:sp>
            <p:nvSpPr>
              <p:cNvPr id="463" name="Freeform 85"/>
              <p:cNvSpPr/>
              <p:nvPr/>
            </p:nvSpPr>
            <p:spPr>
              <a:xfrm>
                <a:off x="231840" y="2688840"/>
                <a:ext cx="3490560" cy="708480"/>
              </a:xfrm>
              <a:custGeom>
                <a:avLst/>
                <a:gdLst/>
                <a:ahLst/>
                <a:rect l="l" t="t" r="r" b="b"/>
                <a:pathLst>
                  <a:path w="7305" h="1737">
                    <a:moveTo>
                      <a:pt x="7304" y="0"/>
                    </a:moveTo>
                    <a:lnTo>
                      <a:pt x="6434" y="152"/>
                    </a:lnTo>
                    <a:lnTo>
                      <a:pt x="5594" y="309"/>
                    </a:lnTo>
                    <a:lnTo>
                      <a:pt x="4781" y="472"/>
                    </a:lnTo>
                    <a:lnTo>
                      <a:pt x="3992" y="642"/>
                    </a:lnTo>
                    <a:lnTo>
                      <a:pt x="3225" y="820"/>
                    </a:lnTo>
                    <a:lnTo>
                      <a:pt x="2476" y="1006"/>
                    </a:lnTo>
                    <a:lnTo>
                      <a:pt x="1742" y="1201"/>
                    </a:lnTo>
                    <a:lnTo>
                      <a:pt x="1022" y="1408"/>
                    </a:lnTo>
                    <a:lnTo>
                      <a:pt x="312" y="1625"/>
                    </a:lnTo>
                    <a:lnTo>
                      <a:pt x="0" y="1728"/>
                    </a:lnTo>
                    <a:lnTo>
                      <a:pt x="0" y="1737"/>
                    </a:lnTo>
                    <a:lnTo>
                      <a:pt x="315" y="1634"/>
                    </a:lnTo>
                    <a:lnTo>
                      <a:pt x="1025" y="1416"/>
                    </a:lnTo>
                    <a:lnTo>
                      <a:pt x="1745" y="1210"/>
                    </a:lnTo>
                    <a:lnTo>
                      <a:pt x="2478" y="1014"/>
                    </a:lnTo>
                    <a:lnTo>
                      <a:pt x="3227" y="828"/>
                    </a:lnTo>
                    <a:lnTo>
                      <a:pt x="3994" y="651"/>
                    </a:lnTo>
                    <a:lnTo>
                      <a:pt x="4783" y="481"/>
                    </a:lnTo>
                    <a:lnTo>
                      <a:pt x="5596" y="318"/>
                    </a:lnTo>
                    <a:lnTo>
                      <a:pt x="6436" y="161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54"/>
            <p:cNvGrpSpPr/>
            <p:nvPr/>
          </p:nvGrpSpPr>
          <p:grpSpPr>
            <a:xfrm>
              <a:off x="231840" y="2688840"/>
              <a:ext cx="3490560" cy="874440"/>
              <a:chOff x="231840" y="2688840"/>
              <a:chExt cx="3490560" cy="874440"/>
            </a:xfrm>
          </p:grpSpPr>
          <p:sp>
            <p:nvSpPr>
              <p:cNvPr id="465" name="Freeform 84"/>
              <p:cNvSpPr/>
              <p:nvPr/>
            </p:nvSpPr>
            <p:spPr>
              <a:xfrm>
                <a:off x="231840" y="2688840"/>
                <a:ext cx="3490560" cy="874440"/>
              </a:xfrm>
              <a:custGeom>
                <a:avLst/>
                <a:gdLst/>
                <a:ahLst/>
                <a:rect l="l" t="t" r="r" b="b"/>
                <a:pathLst>
                  <a:path w="7305" h="2143">
                    <a:moveTo>
                      <a:pt x="7304" y="0"/>
                    </a:moveTo>
                    <a:lnTo>
                      <a:pt x="6436" y="155"/>
                    </a:lnTo>
                    <a:lnTo>
                      <a:pt x="5603" y="322"/>
                    </a:lnTo>
                    <a:lnTo>
                      <a:pt x="4800" y="501"/>
                    </a:lnTo>
                    <a:lnTo>
                      <a:pt x="4027" y="693"/>
                    </a:lnTo>
                    <a:lnTo>
                      <a:pt x="3280" y="900"/>
                    </a:lnTo>
                    <a:lnTo>
                      <a:pt x="2557" y="1123"/>
                    </a:lnTo>
                    <a:lnTo>
                      <a:pt x="1855" y="1364"/>
                    </a:lnTo>
                    <a:lnTo>
                      <a:pt x="1171" y="1623"/>
                    </a:lnTo>
                    <a:lnTo>
                      <a:pt x="503" y="1902"/>
                    </a:lnTo>
                    <a:lnTo>
                      <a:pt x="0" y="2133"/>
                    </a:lnTo>
                    <a:lnTo>
                      <a:pt x="0" y="2143"/>
                    </a:lnTo>
                    <a:lnTo>
                      <a:pt x="506" y="1910"/>
                    </a:lnTo>
                    <a:lnTo>
                      <a:pt x="1174" y="1632"/>
                    </a:lnTo>
                    <a:lnTo>
                      <a:pt x="1858" y="1372"/>
                    </a:lnTo>
                    <a:lnTo>
                      <a:pt x="2560" y="1132"/>
                    </a:lnTo>
                    <a:lnTo>
                      <a:pt x="3283" y="909"/>
                    </a:lnTo>
                    <a:lnTo>
                      <a:pt x="4029" y="701"/>
                    </a:lnTo>
                    <a:lnTo>
                      <a:pt x="4802" y="509"/>
                    </a:lnTo>
                    <a:lnTo>
                      <a:pt x="5604" y="330"/>
                    </a:lnTo>
                    <a:lnTo>
                      <a:pt x="6438" y="164"/>
                    </a:lnTo>
                    <a:lnTo>
                      <a:pt x="7305" y="9"/>
                    </a:lnTo>
                    <a:lnTo>
                      <a:pt x="7304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55"/>
            <p:cNvGrpSpPr/>
            <p:nvPr/>
          </p:nvGrpSpPr>
          <p:grpSpPr>
            <a:xfrm>
              <a:off x="231840" y="2687040"/>
              <a:ext cx="3490920" cy="796320"/>
              <a:chOff x="231840" y="2687040"/>
              <a:chExt cx="3490920" cy="796320"/>
            </a:xfrm>
          </p:grpSpPr>
          <p:sp>
            <p:nvSpPr>
              <p:cNvPr id="467" name="Freeform 83"/>
              <p:cNvSpPr/>
              <p:nvPr/>
            </p:nvSpPr>
            <p:spPr>
              <a:xfrm>
                <a:off x="231840" y="2687040"/>
                <a:ext cx="3490920" cy="796320"/>
              </a:xfrm>
              <a:custGeom>
                <a:avLst/>
                <a:gdLst/>
                <a:ahLst/>
                <a:rect l="l" t="t" r="r" b="b"/>
                <a:pathLst>
                  <a:path w="7306" h="1952">
                    <a:moveTo>
                      <a:pt x="7303" y="0"/>
                    </a:moveTo>
                    <a:lnTo>
                      <a:pt x="6434" y="154"/>
                    </a:lnTo>
                    <a:lnTo>
                      <a:pt x="5597" y="316"/>
                    </a:lnTo>
                    <a:lnTo>
                      <a:pt x="4789" y="487"/>
                    </a:lnTo>
                    <a:lnTo>
                      <a:pt x="4008" y="669"/>
                    </a:lnTo>
                    <a:lnTo>
                      <a:pt x="3250" y="863"/>
                    </a:lnTo>
                    <a:lnTo>
                      <a:pt x="2513" y="1069"/>
                    </a:lnTo>
                    <a:lnTo>
                      <a:pt x="1794" y="1289"/>
                    </a:lnTo>
                    <a:lnTo>
                      <a:pt x="1091" y="1524"/>
                    </a:lnTo>
                    <a:lnTo>
                      <a:pt x="401" y="1775"/>
                    </a:lnTo>
                    <a:lnTo>
                      <a:pt x="0" y="1933"/>
                    </a:lnTo>
                    <a:lnTo>
                      <a:pt x="0" y="1952"/>
                    </a:lnTo>
                    <a:lnTo>
                      <a:pt x="407" y="1791"/>
                    </a:lnTo>
                    <a:lnTo>
                      <a:pt x="1097" y="1541"/>
                    </a:lnTo>
                    <a:lnTo>
                      <a:pt x="1800" y="1306"/>
                    </a:lnTo>
                    <a:lnTo>
                      <a:pt x="2518" y="1086"/>
                    </a:lnTo>
                    <a:lnTo>
                      <a:pt x="3254" y="880"/>
                    </a:lnTo>
                    <a:lnTo>
                      <a:pt x="4012" y="686"/>
                    </a:lnTo>
                    <a:lnTo>
                      <a:pt x="4793" y="505"/>
                    </a:lnTo>
                    <a:lnTo>
                      <a:pt x="5601" y="333"/>
                    </a:lnTo>
                    <a:lnTo>
                      <a:pt x="6437" y="171"/>
                    </a:lnTo>
                    <a:lnTo>
                      <a:pt x="7306" y="17"/>
                    </a:lnTo>
                    <a:lnTo>
                      <a:pt x="7303" y="0"/>
                    </a:lnTo>
                  </a:path>
                </a:pathLst>
              </a:custGeom>
              <a:solidFill>
                <a:srgbClr val="fdb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56"/>
            <p:cNvGrpSpPr/>
            <p:nvPr/>
          </p:nvGrpSpPr>
          <p:grpSpPr>
            <a:xfrm>
              <a:off x="231840" y="1468440"/>
              <a:ext cx="2956680" cy="1017000"/>
              <a:chOff x="231840" y="1468440"/>
              <a:chExt cx="2956680" cy="1017000"/>
            </a:xfrm>
          </p:grpSpPr>
          <p:sp>
            <p:nvSpPr>
              <p:cNvPr id="469" name="Freeform 82"/>
              <p:cNvSpPr/>
              <p:nvPr/>
            </p:nvSpPr>
            <p:spPr>
              <a:xfrm>
                <a:off x="231840" y="1468440"/>
                <a:ext cx="2956680" cy="1017000"/>
              </a:xfrm>
              <a:custGeom>
                <a:avLst/>
                <a:gdLst/>
                <a:ahLst/>
                <a:rect l="l" t="t" r="r" b="b"/>
                <a:pathLst>
                  <a:path w="6188" h="2493">
                    <a:moveTo>
                      <a:pt x="6141" y="0"/>
                    </a:moveTo>
                    <a:lnTo>
                      <a:pt x="5951" y="121"/>
                    </a:lnTo>
                    <a:lnTo>
                      <a:pt x="5763" y="238"/>
                    </a:lnTo>
                    <a:lnTo>
                      <a:pt x="5576" y="352"/>
                    </a:lnTo>
                    <a:lnTo>
                      <a:pt x="5390" y="463"/>
                    </a:lnTo>
                    <a:lnTo>
                      <a:pt x="5206" y="571"/>
                    </a:lnTo>
                    <a:lnTo>
                      <a:pt x="5023" y="676"/>
                    </a:lnTo>
                    <a:lnTo>
                      <a:pt x="4842" y="778"/>
                    </a:lnTo>
                    <a:lnTo>
                      <a:pt x="4662" y="876"/>
                    </a:lnTo>
                    <a:lnTo>
                      <a:pt x="4483" y="972"/>
                    </a:lnTo>
                    <a:lnTo>
                      <a:pt x="4306" y="1065"/>
                    </a:lnTo>
                    <a:lnTo>
                      <a:pt x="4130" y="1154"/>
                    </a:lnTo>
                    <a:lnTo>
                      <a:pt x="3954" y="1241"/>
                    </a:lnTo>
                    <a:lnTo>
                      <a:pt x="3780" y="1324"/>
                    </a:lnTo>
                    <a:lnTo>
                      <a:pt x="3608" y="1405"/>
                    </a:lnTo>
                    <a:lnTo>
                      <a:pt x="3436" y="1482"/>
                    </a:lnTo>
                    <a:lnTo>
                      <a:pt x="3265" y="1557"/>
                    </a:lnTo>
                    <a:lnTo>
                      <a:pt x="3095" y="1628"/>
                    </a:lnTo>
                    <a:lnTo>
                      <a:pt x="2926" y="1696"/>
                    </a:lnTo>
                    <a:lnTo>
                      <a:pt x="2758" y="1762"/>
                    </a:lnTo>
                    <a:lnTo>
                      <a:pt x="2591" y="1824"/>
                    </a:lnTo>
                    <a:lnTo>
                      <a:pt x="2424" y="1883"/>
                    </a:lnTo>
                    <a:lnTo>
                      <a:pt x="2258" y="1939"/>
                    </a:lnTo>
                    <a:lnTo>
                      <a:pt x="2093" y="1992"/>
                    </a:lnTo>
                    <a:lnTo>
                      <a:pt x="1929" y="2042"/>
                    </a:lnTo>
                    <a:lnTo>
                      <a:pt x="1765" y="2089"/>
                    </a:lnTo>
                    <a:lnTo>
                      <a:pt x="1602" y="2133"/>
                    </a:lnTo>
                    <a:lnTo>
                      <a:pt x="1440" y="2174"/>
                    </a:lnTo>
                    <a:lnTo>
                      <a:pt x="1278" y="2212"/>
                    </a:lnTo>
                    <a:lnTo>
                      <a:pt x="1116" y="2247"/>
                    </a:lnTo>
                    <a:lnTo>
                      <a:pt x="955" y="2279"/>
                    </a:lnTo>
                    <a:lnTo>
                      <a:pt x="794" y="2307"/>
                    </a:lnTo>
                    <a:lnTo>
                      <a:pt x="634" y="2333"/>
                    </a:lnTo>
                    <a:lnTo>
                      <a:pt x="474" y="2356"/>
                    </a:lnTo>
                    <a:lnTo>
                      <a:pt x="314" y="2375"/>
                    </a:lnTo>
                    <a:lnTo>
                      <a:pt x="154" y="2392"/>
                    </a:lnTo>
                    <a:lnTo>
                      <a:pt x="0" y="2405"/>
                    </a:lnTo>
                    <a:lnTo>
                      <a:pt x="0" y="2494"/>
                    </a:lnTo>
                    <a:lnTo>
                      <a:pt x="162" y="2480"/>
                    </a:lnTo>
                    <a:lnTo>
                      <a:pt x="324" y="2463"/>
                    </a:lnTo>
                    <a:lnTo>
                      <a:pt x="485" y="2443"/>
                    </a:lnTo>
                    <a:lnTo>
                      <a:pt x="647" y="2420"/>
                    </a:lnTo>
                    <a:lnTo>
                      <a:pt x="809" y="2394"/>
                    </a:lnTo>
                    <a:lnTo>
                      <a:pt x="971" y="2365"/>
                    </a:lnTo>
                    <a:lnTo>
                      <a:pt x="1134" y="2333"/>
                    </a:lnTo>
                    <a:lnTo>
                      <a:pt x="1297" y="2298"/>
                    </a:lnTo>
                    <a:lnTo>
                      <a:pt x="1461" y="2260"/>
                    </a:lnTo>
                    <a:lnTo>
                      <a:pt x="1624" y="2218"/>
                    </a:lnTo>
                    <a:lnTo>
                      <a:pt x="1789" y="2174"/>
                    </a:lnTo>
                    <a:lnTo>
                      <a:pt x="1954" y="2127"/>
                    </a:lnTo>
                    <a:lnTo>
                      <a:pt x="2120" y="2076"/>
                    </a:lnTo>
                    <a:lnTo>
                      <a:pt x="2286" y="2023"/>
                    </a:lnTo>
                    <a:lnTo>
                      <a:pt x="2453" y="1966"/>
                    </a:lnTo>
                    <a:lnTo>
                      <a:pt x="2621" y="1907"/>
                    </a:lnTo>
                    <a:lnTo>
                      <a:pt x="2789" y="1844"/>
                    </a:lnTo>
                    <a:lnTo>
                      <a:pt x="2958" y="1778"/>
                    </a:lnTo>
                    <a:lnTo>
                      <a:pt x="3128" y="1709"/>
                    </a:lnTo>
                    <a:lnTo>
                      <a:pt x="3299" y="1638"/>
                    </a:lnTo>
                    <a:lnTo>
                      <a:pt x="3471" y="1563"/>
                    </a:lnTo>
                    <a:lnTo>
                      <a:pt x="3644" y="1485"/>
                    </a:lnTo>
                    <a:lnTo>
                      <a:pt x="3818" y="1404"/>
                    </a:lnTo>
                    <a:lnTo>
                      <a:pt x="3993" y="1320"/>
                    </a:lnTo>
                    <a:lnTo>
                      <a:pt x="4169" y="1233"/>
                    </a:lnTo>
                    <a:lnTo>
                      <a:pt x="4346" y="1143"/>
                    </a:lnTo>
                    <a:lnTo>
                      <a:pt x="4524" y="1050"/>
                    </a:lnTo>
                    <a:lnTo>
                      <a:pt x="4704" y="954"/>
                    </a:lnTo>
                    <a:lnTo>
                      <a:pt x="4885" y="854"/>
                    </a:lnTo>
                    <a:lnTo>
                      <a:pt x="5067" y="752"/>
                    </a:lnTo>
                    <a:lnTo>
                      <a:pt x="5250" y="647"/>
                    </a:lnTo>
                    <a:lnTo>
                      <a:pt x="5435" y="538"/>
                    </a:lnTo>
                    <a:lnTo>
                      <a:pt x="5621" y="427"/>
                    </a:lnTo>
                    <a:lnTo>
                      <a:pt x="5809" y="313"/>
                    </a:lnTo>
                    <a:lnTo>
                      <a:pt x="5998" y="195"/>
                    </a:lnTo>
                    <a:lnTo>
                      <a:pt x="6188" y="75"/>
                    </a:lnTo>
                    <a:lnTo>
                      <a:pt x="6141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7"/>
            <p:cNvGrpSpPr/>
            <p:nvPr/>
          </p:nvGrpSpPr>
          <p:grpSpPr>
            <a:xfrm>
              <a:off x="231840" y="1477800"/>
              <a:ext cx="2950200" cy="1182240"/>
              <a:chOff x="231840" y="1477800"/>
              <a:chExt cx="2950200" cy="1182240"/>
            </a:xfrm>
          </p:grpSpPr>
          <p:sp>
            <p:nvSpPr>
              <p:cNvPr id="471" name="Freeform 81"/>
              <p:cNvSpPr/>
              <p:nvPr/>
            </p:nvSpPr>
            <p:spPr>
              <a:xfrm>
                <a:off x="231840" y="1477800"/>
                <a:ext cx="2950200" cy="1182240"/>
              </a:xfrm>
              <a:custGeom>
                <a:avLst/>
                <a:gdLst/>
                <a:ahLst/>
                <a:rect l="l" t="t" r="r" b="b"/>
                <a:pathLst>
                  <a:path w="6174" h="2898">
                    <a:moveTo>
                      <a:pt x="6155" y="0"/>
                    </a:moveTo>
                    <a:lnTo>
                      <a:pt x="5613" y="339"/>
                    </a:lnTo>
                    <a:lnTo>
                      <a:pt x="5081" y="659"/>
                    </a:lnTo>
                    <a:lnTo>
                      <a:pt x="4558" y="959"/>
                    </a:lnTo>
                    <a:lnTo>
                      <a:pt x="4043" y="1241"/>
                    </a:lnTo>
                    <a:lnTo>
                      <a:pt x="3535" y="1505"/>
                    </a:lnTo>
                    <a:lnTo>
                      <a:pt x="3033" y="1749"/>
                    </a:lnTo>
                    <a:lnTo>
                      <a:pt x="2535" y="1976"/>
                    </a:lnTo>
                    <a:lnTo>
                      <a:pt x="2041" y="2184"/>
                    </a:lnTo>
                    <a:lnTo>
                      <a:pt x="1550" y="2374"/>
                    </a:lnTo>
                    <a:lnTo>
                      <a:pt x="1061" y="2547"/>
                    </a:lnTo>
                    <a:lnTo>
                      <a:pt x="572" y="2703"/>
                    </a:lnTo>
                    <a:lnTo>
                      <a:pt x="83" y="2841"/>
                    </a:lnTo>
                    <a:lnTo>
                      <a:pt x="0" y="2861"/>
                    </a:lnTo>
                    <a:lnTo>
                      <a:pt x="0" y="2897"/>
                    </a:lnTo>
                    <a:lnTo>
                      <a:pt x="92" y="2875"/>
                    </a:lnTo>
                    <a:lnTo>
                      <a:pt x="582" y="2736"/>
                    </a:lnTo>
                    <a:lnTo>
                      <a:pt x="1072" y="2581"/>
                    </a:lnTo>
                    <a:lnTo>
                      <a:pt x="1562" y="2407"/>
                    </a:lnTo>
                    <a:lnTo>
                      <a:pt x="2054" y="2217"/>
                    </a:lnTo>
                    <a:lnTo>
                      <a:pt x="2549" y="2008"/>
                    </a:lnTo>
                    <a:lnTo>
                      <a:pt x="3048" y="1781"/>
                    </a:lnTo>
                    <a:lnTo>
                      <a:pt x="3551" y="1536"/>
                    </a:lnTo>
                    <a:lnTo>
                      <a:pt x="4060" y="1272"/>
                    </a:lnTo>
                    <a:lnTo>
                      <a:pt x="4576" y="990"/>
                    </a:lnTo>
                    <a:lnTo>
                      <a:pt x="5099" y="689"/>
                    </a:lnTo>
                    <a:lnTo>
                      <a:pt x="5632" y="369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58"/>
            <p:cNvGrpSpPr/>
            <p:nvPr/>
          </p:nvGrpSpPr>
          <p:grpSpPr>
            <a:xfrm>
              <a:off x="231840" y="1477800"/>
              <a:ext cx="2950200" cy="1348200"/>
              <a:chOff x="231840" y="1477800"/>
              <a:chExt cx="2950200" cy="1348200"/>
            </a:xfrm>
          </p:grpSpPr>
          <p:sp>
            <p:nvSpPr>
              <p:cNvPr id="473" name="Freeform 80"/>
              <p:cNvSpPr/>
              <p:nvPr/>
            </p:nvSpPr>
            <p:spPr>
              <a:xfrm>
                <a:off x="231840" y="1477800"/>
                <a:ext cx="2950200" cy="1348200"/>
              </a:xfrm>
              <a:custGeom>
                <a:avLst/>
                <a:gdLst/>
                <a:ahLst/>
                <a:rect l="l" t="t" r="r" b="b"/>
                <a:pathLst>
                  <a:path w="6174" h="3304">
                    <a:moveTo>
                      <a:pt x="6155" y="0"/>
                    </a:moveTo>
                    <a:lnTo>
                      <a:pt x="5408" y="468"/>
                    </a:lnTo>
                    <a:lnTo>
                      <a:pt x="4679" y="910"/>
                    </a:lnTo>
                    <a:lnTo>
                      <a:pt x="3966" y="1325"/>
                    </a:lnTo>
                    <a:lnTo>
                      <a:pt x="3265" y="1716"/>
                    </a:lnTo>
                    <a:lnTo>
                      <a:pt x="2574" y="2082"/>
                    </a:lnTo>
                    <a:lnTo>
                      <a:pt x="1890" y="2425"/>
                    </a:lnTo>
                    <a:lnTo>
                      <a:pt x="1210" y="2746"/>
                    </a:lnTo>
                    <a:lnTo>
                      <a:pt x="532" y="3046"/>
                    </a:lnTo>
                    <a:lnTo>
                      <a:pt x="0" y="3265"/>
                    </a:lnTo>
                    <a:lnTo>
                      <a:pt x="0" y="3303"/>
                    </a:lnTo>
                    <a:lnTo>
                      <a:pt x="546" y="3078"/>
                    </a:lnTo>
                    <a:lnTo>
                      <a:pt x="1225" y="2778"/>
                    </a:lnTo>
                    <a:lnTo>
                      <a:pt x="1905" y="2457"/>
                    </a:lnTo>
                    <a:lnTo>
                      <a:pt x="2590" y="2113"/>
                    </a:lnTo>
                    <a:lnTo>
                      <a:pt x="3282" y="1747"/>
                    </a:lnTo>
                    <a:lnTo>
                      <a:pt x="3983" y="1356"/>
                    </a:lnTo>
                    <a:lnTo>
                      <a:pt x="4697" y="940"/>
                    </a:lnTo>
                    <a:lnTo>
                      <a:pt x="5427" y="498"/>
                    </a:lnTo>
                    <a:lnTo>
                      <a:pt x="6174" y="29"/>
                    </a:lnTo>
                    <a:lnTo>
                      <a:pt x="6155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59"/>
            <p:cNvGrpSpPr/>
            <p:nvPr/>
          </p:nvGrpSpPr>
          <p:grpSpPr>
            <a:xfrm>
              <a:off x="231840" y="1480680"/>
              <a:ext cx="2948040" cy="1465920"/>
              <a:chOff x="231840" y="1480680"/>
              <a:chExt cx="2948040" cy="1465920"/>
            </a:xfrm>
          </p:grpSpPr>
          <p:sp>
            <p:nvSpPr>
              <p:cNvPr id="475" name="Freeform 79"/>
              <p:cNvSpPr/>
              <p:nvPr/>
            </p:nvSpPr>
            <p:spPr>
              <a:xfrm>
                <a:off x="231840" y="1480680"/>
                <a:ext cx="2948040" cy="1465920"/>
              </a:xfrm>
              <a:custGeom>
                <a:avLst/>
                <a:gdLst/>
                <a:ahLst/>
                <a:rect l="l" t="t" r="r" b="b"/>
                <a:pathLst>
                  <a:path w="6170" h="3593">
                    <a:moveTo>
                      <a:pt x="6160" y="0"/>
                    </a:moveTo>
                    <a:lnTo>
                      <a:pt x="5414" y="472"/>
                    </a:lnTo>
                    <a:lnTo>
                      <a:pt x="4687" y="923"/>
                    </a:lnTo>
                    <a:lnTo>
                      <a:pt x="3977" y="1355"/>
                    </a:lnTo>
                    <a:lnTo>
                      <a:pt x="3282" y="1769"/>
                    </a:lnTo>
                    <a:lnTo>
                      <a:pt x="2598" y="2166"/>
                    </a:lnTo>
                    <a:lnTo>
                      <a:pt x="1923" y="2547"/>
                    </a:lnTo>
                    <a:lnTo>
                      <a:pt x="1255" y="2914"/>
                    </a:lnTo>
                    <a:lnTo>
                      <a:pt x="590" y="3269"/>
                    </a:lnTo>
                    <a:lnTo>
                      <a:pt x="0" y="3573"/>
                    </a:lnTo>
                    <a:lnTo>
                      <a:pt x="0" y="3593"/>
                    </a:lnTo>
                    <a:lnTo>
                      <a:pt x="598" y="3284"/>
                    </a:lnTo>
                    <a:lnTo>
                      <a:pt x="1263" y="2930"/>
                    </a:lnTo>
                    <a:lnTo>
                      <a:pt x="1932" y="2563"/>
                    </a:lnTo>
                    <a:lnTo>
                      <a:pt x="2607" y="2181"/>
                    </a:lnTo>
                    <a:lnTo>
                      <a:pt x="3291" y="1784"/>
                    </a:lnTo>
                    <a:lnTo>
                      <a:pt x="3986" y="1370"/>
                    </a:lnTo>
                    <a:lnTo>
                      <a:pt x="4696" y="938"/>
                    </a:lnTo>
                    <a:lnTo>
                      <a:pt x="5423" y="487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60"/>
            <p:cNvGrpSpPr/>
            <p:nvPr/>
          </p:nvGrpSpPr>
          <p:grpSpPr>
            <a:xfrm>
              <a:off x="231840" y="1482480"/>
              <a:ext cx="2946600" cy="1550880"/>
              <a:chOff x="231840" y="1482480"/>
              <a:chExt cx="2946600" cy="1550880"/>
            </a:xfrm>
          </p:grpSpPr>
          <p:sp>
            <p:nvSpPr>
              <p:cNvPr id="477" name="Freeform 78"/>
              <p:cNvSpPr/>
              <p:nvPr/>
            </p:nvSpPr>
            <p:spPr>
              <a:xfrm>
                <a:off x="231840" y="1482480"/>
                <a:ext cx="2946600" cy="1550880"/>
              </a:xfrm>
              <a:custGeom>
                <a:avLst/>
                <a:gdLst/>
                <a:ahLst/>
                <a:rect l="l" t="t" r="r" b="b"/>
                <a:pathLst>
                  <a:path w="6167" h="3801">
                    <a:moveTo>
                      <a:pt x="6162" y="0"/>
                    </a:moveTo>
                    <a:lnTo>
                      <a:pt x="3987" y="1373"/>
                    </a:lnTo>
                    <a:lnTo>
                      <a:pt x="1958" y="2622"/>
                    </a:lnTo>
                    <a:lnTo>
                      <a:pt x="0" y="3791"/>
                    </a:lnTo>
                    <a:lnTo>
                      <a:pt x="0" y="3801"/>
                    </a:lnTo>
                    <a:lnTo>
                      <a:pt x="1963" y="2630"/>
                    </a:lnTo>
                    <a:lnTo>
                      <a:pt x="3992" y="1380"/>
                    </a:lnTo>
                    <a:lnTo>
                      <a:pt x="6167" y="7"/>
                    </a:lnTo>
                    <a:lnTo>
                      <a:pt x="6162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61"/>
            <p:cNvGrpSpPr/>
            <p:nvPr/>
          </p:nvGrpSpPr>
          <p:grpSpPr>
            <a:xfrm>
              <a:off x="231840" y="1480680"/>
              <a:ext cx="2948040" cy="1640520"/>
              <a:chOff x="231840" y="1480680"/>
              <a:chExt cx="2948040" cy="1640520"/>
            </a:xfrm>
          </p:grpSpPr>
          <p:sp>
            <p:nvSpPr>
              <p:cNvPr id="479" name="Freeform 77"/>
              <p:cNvSpPr/>
              <p:nvPr/>
            </p:nvSpPr>
            <p:spPr>
              <a:xfrm>
                <a:off x="231840" y="1480680"/>
                <a:ext cx="2948040" cy="1640520"/>
              </a:xfrm>
              <a:custGeom>
                <a:avLst/>
                <a:gdLst/>
                <a:ahLst/>
                <a:rect l="l" t="t" r="r" b="b"/>
                <a:pathLst>
                  <a:path w="6170" h="4021">
                    <a:moveTo>
                      <a:pt x="6160" y="0"/>
                    </a:moveTo>
                    <a:lnTo>
                      <a:pt x="3994" y="1388"/>
                    </a:lnTo>
                    <a:lnTo>
                      <a:pt x="0" y="4000"/>
                    </a:lnTo>
                    <a:lnTo>
                      <a:pt x="0" y="4021"/>
                    </a:lnTo>
                    <a:lnTo>
                      <a:pt x="4004" y="1403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231840" y="1480680"/>
              <a:ext cx="2948040" cy="1726920"/>
              <a:chOff x="231840" y="1480680"/>
              <a:chExt cx="2948040" cy="1726920"/>
            </a:xfrm>
          </p:grpSpPr>
          <p:sp>
            <p:nvSpPr>
              <p:cNvPr id="481" name="Freeform 76"/>
              <p:cNvSpPr/>
              <p:nvPr/>
            </p:nvSpPr>
            <p:spPr>
              <a:xfrm>
                <a:off x="231840" y="1480680"/>
                <a:ext cx="2948040" cy="1726920"/>
              </a:xfrm>
              <a:custGeom>
                <a:avLst/>
                <a:gdLst/>
                <a:ahLst/>
                <a:rect l="l" t="t" r="r" b="b"/>
                <a:pathLst>
                  <a:path w="6170" h="4232">
                    <a:moveTo>
                      <a:pt x="6160" y="0"/>
                    </a:moveTo>
                    <a:lnTo>
                      <a:pt x="5417" y="477"/>
                    </a:lnTo>
                    <a:lnTo>
                      <a:pt x="4004" y="1401"/>
                    </a:lnTo>
                    <a:lnTo>
                      <a:pt x="3331" y="1852"/>
                    </a:lnTo>
                    <a:lnTo>
                      <a:pt x="2676" y="2298"/>
                    </a:lnTo>
                    <a:lnTo>
                      <a:pt x="2037" y="2740"/>
                    </a:lnTo>
                    <a:lnTo>
                      <a:pt x="1412" y="3181"/>
                    </a:lnTo>
                    <a:lnTo>
                      <a:pt x="798" y="3622"/>
                    </a:lnTo>
                    <a:lnTo>
                      <a:pt x="193" y="4066"/>
                    </a:lnTo>
                    <a:lnTo>
                      <a:pt x="0" y="4210"/>
                    </a:lnTo>
                    <a:lnTo>
                      <a:pt x="0" y="4232"/>
                    </a:lnTo>
                    <a:lnTo>
                      <a:pt x="204" y="4080"/>
                    </a:lnTo>
                    <a:lnTo>
                      <a:pt x="808" y="3637"/>
                    </a:lnTo>
                    <a:lnTo>
                      <a:pt x="1422" y="3195"/>
                    </a:lnTo>
                    <a:lnTo>
                      <a:pt x="2047" y="2755"/>
                    </a:lnTo>
                    <a:lnTo>
                      <a:pt x="2686" y="2312"/>
                    </a:lnTo>
                    <a:lnTo>
                      <a:pt x="3340" y="1867"/>
                    </a:lnTo>
                    <a:lnTo>
                      <a:pt x="4014" y="1416"/>
                    </a:lnTo>
                    <a:lnTo>
                      <a:pt x="5426" y="492"/>
                    </a:lnTo>
                    <a:lnTo>
                      <a:pt x="6170" y="15"/>
                    </a:lnTo>
                    <a:lnTo>
                      <a:pt x="6160" y="0"/>
                    </a:lnTo>
                  </a:path>
                </a:pathLst>
              </a:custGeom>
              <a:solidFill>
                <a:srgbClr val="009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63"/>
            <p:cNvGrpSpPr/>
            <p:nvPr/>
          </p:nvGrpSpPr>
          <p:grpSpPr>
            <a:xfrm>
              <a:off x="2219040" y="601560"/>
              <a:ext cx="9000" cy="4320"/>
              <a:chOff x="2219040" y="601560"/>
              <a:chExt cx="9000" cy="4320"/>
            </a:xfrm>
          </p:grpSpPr>
          <p:sp>
            <p:nvSpPr>
              <p:cNvPr id="483" name="Freeform 75"/>
              <p:cNvSpPr/>
              <p:nvPr/>
            </p:nvSpPr>
            <p:spPr>
              <a:xfrm>
                <a:off x="2219040" y="6015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8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64"/>
            <p:cNvGrpSpPr/>
            <p:nvPr/>
          </p:nvGrpSpPr>
          <p:grpSpPr>
            <a:xfrm>
              <a:off x="2232360" y="607320"/>
              <a:ext cx="9360" cy="7200"/>
              <a:chOff x="2232360" y="607320"/>
              <a:chExt cx="9360" cy="7200"/>
            </a:xfrm>
          </p:grpSpPr>
          <p:sp>
            <p:nvSpPr>
              <p:cNvPr id="485" name="Freeform 74"/>
              <p:cNvSpPr/>
              <p:nvPr/>
            </p:nvSpPr>
            <p:spPr>
              <a:xfrm>
                <a:off x="2232360" y="60732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2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65"/>
            <p:cNvGrpSpPr/>
            <p:nvPr/>
          </p:nvGrpSpPr>
          <p:grpSpPr>
            <a:xfrm>
              <a:off x="2248200" y="619200"/>
              <a:ext cx="6840" cy="3600"/>
              <a:chOff x="2248200" y="619200"/>
              <a:chExt cx="6840" cy="3600"/>
            </a:xfrm>
          </p:grpSpPr>
          <p:sp>
            <p:nvSpPr>
              <p:cNvPr id="487" name="Freeform 73"/>
              <p:cNvSpPr/>
              <p:nvPr/>
            </p:nvSpPr>
            <p:spPr>
              <a:xfrm>
                <a:off x="2248200" y="619200"/>
                <a:ext cx="6840" cy="36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0"/>
                    </a:moveTo>
                    <a:lnTo>
                      <a:pt x="5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5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6"/>
            <p:cNvGrpSpPr/>
            <p:nvPr/>
          </p:nvGrpSpPr>
          <p:grpSpPr>
            <a:xfrm>
              <a:off x="2245680" y="615960"/>
              <a:ext cx="9360" cy="6120"/>
              <a:chOff x="2245680" y="615960"/>
              <a:chExt cx="9360" cy="6120"/>
            </a:xfrm>
          </p:grpSpPr>
          <p:sp>
            <p:nvSpPr>
              <p:cNvPr id="489" name="Freeform 72"/>
              <p:cNvSpPr/>
              <p:nvPr/>
            </p:nvSpPr>
            <p:spPr>
              <a:xfrm>
                <a:off x="2245680" y="6159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5" y="15"/>
                    </a:lnTo>
                    <a:lnTo>
                      <a:pt x="10" y="8"/>
                    </a:lnTo>
                    <a:lnTo>
                      <a:pt x="20" y="8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67"/>
            <p:cNvGrpSpPr/>
            <p:nvPr/>
          </p:nvGrpSpPr>
          <p:grpSpPr>
            <a:xfrm>
              <a:off x="2259000" y="624600"/>
              <a:ext cx="9360" cy="7200"/>
              <a:chOff x="2259000" y="624600"/>
              <a:chExt cx="9360" cy="7200"/>
            </a:xfrm>
          </p:grpSpPr>
          <p:sp>
            <p:nvSpPr>
              <p:cNvPr id="491" name="Freeform 71"/>
              <p:cNvSpPr/>
              <p:nvPr/>
            </p:nvSpPr>
            <p:spPr>
              <a:xfrm>
                <a:off x="2259000" y="6246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68"/>
            <p:cNvGrpSpPr/>
            <p:nvPr/>
          </p:nvGrpSpPr>
          <p:grpSpPr>
            <a:xfrm>
              <a:off x="227160" y="633240"/>
              <a:ext cx="3561480" cy="5851800"/>
              <a:chOff x="227160" y="633240"/>
              <a:chExt cx="3561480" cy="5851800"/>
            </a:xfrm>
          </p:grpSpPr>
          <p:sp>
            <p:nvSpPr>
              <p:cNvPr id="493" name="Freeform 69"/>
              <p:cNvSpPr/>
              <p:nvPr/>
            </p:nvSpPr>
            <p:spPr>
              <a:xfrm>
                <a:off x="2273400" y="63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2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20" y="10"/>
                    </a:lnTo>
                    <a:lnTo>
                      <a:pt x="19" y="5"/>
                    </a:lnTo>
                    <a:lnTo>
                      <a:pt x="14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6d6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4" name="Picture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160" y="637560"/>
                <a:ext cx="3561480" cy="584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5" name="TextBox 142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43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44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Global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1"/>
          <p:cNvSpPr/>
          <p:nvPr/>
        </p:nvSpPr>
        <p:spPr>
          <a:xfrm>
            <a:off x="5006880" y="919080"/>
            <a:ext cx="34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lobal Mark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"/>
          <p:cNvSpPr/>
          <p:nvPr/>
        </p:nvSpPr>
        <p:spPr>
          <a:xfrm>
            <a:off x="5192640" y="3114720"/>
            <a:ext cx="34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arren J. Keegan   Mark C.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5192640" y="4351320"/>
            <a:ext cx="32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&amp; Cultur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orld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major religions include Buddhism, Christianity, Hinduism, Islam, and Judaism and are an important source of beliefs, attitudes, and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us tenets, practices, holidays, and history impact global marketing activ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esth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nse of what is beautiful and what is not beauti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represents good taste as opposed to tastelessness or even obsce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sual–embodied in the color or shape of a product, label, or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yles–various degrees of complexity, for example, are perceived differently around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esthetics and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–associated with blood, wine-making, activity, heat, and vibrancy in many countries but is poorly received in some African count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te–identified with purity and cleanliness in the West, with death in parts of As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y–means inexpensive in Japan and China, but high quality and expensive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tary P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mino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Pizza pulled out of Italy because its products were seen as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o America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ith bold tomato sauce and heavy topp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way had to educate Indians about the benefits of sandwiches because they do not normally eat bre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nguage and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60240" y="1600200"/>
          <a:ext cx="7772400" cy="4816440"/>
        </p:xfrm>
        <a:graphic>
          <a:graphicData uri="http://schemas.openxmlformats.org/drawingml/2006/table">
            <a:tbl>
              <a:tblPr/>
              <a:tblGrid>
                <a:gridCol w="3505320"/>
                <a:gridCol w="4267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inguistic Categ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anguage Examp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ntax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ules of sentence 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English has relatively fixed word order; Russian has relatively free word ord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emantics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stem of 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Japanese words convey nuances of feeling for which other languages lack exact correlations;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yes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no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can be interpreted differently than in other languag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Phonology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system of sound patte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Japanese does not distinguish between the sounds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; English and Russian both have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and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 soun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Morphology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word 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Russian is a highly inflected language, with six different case endings for nouns and adjectives; English has fewer infle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7" name="Rectangle 23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’s Impact on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versal aspects of the cultural environment represent opportunities to standardize elements of a marketing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ing travel and improved communications have contributed to a convergence of tastes and preferences in a number of product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 and Low-Context Cul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resides in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s on background, basic values, societal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s emphasis on legal paper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 on personal rep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udi Arabia, Jap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ssages are explicit and specif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ds carry al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ance on legal paper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cus on non-personal documentation of cred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, U.S., 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-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-Context Cul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0" y="1603440"/>
            <a:ext cx="8962920" cy="48895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fsted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Cultur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wer D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ividualism/Collectiv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cul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certainty Avoi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ng-term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Reference Criter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Perce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conscious reference to on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own cultural values; creates cultural myo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Reduce Cultural Myop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he problem or goal in terms of home country cultural tra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he problem in terms of host-country cultural traits; make no value jud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olate the SRC influence and examin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efine the problem without the SRC influence and solve for the host country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599840"/>
            <a:ext cx="53848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chapter inclu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Consumer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l’s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fsted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Cultural Ty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thnocentricity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Reference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lo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Hierar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5"/>
          <p:cNvSpPr/>
          <p:nvPr/>
        </p:nvSpPr>
        <p:spPr>
          <a:xfrm>
            <a:off x="5842080" y="599112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rican V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doption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457200" y="15048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mental stages through which an individual passes from the time of his or her first knowledge of an innovation to the time of product adoption or purc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acteristics of Innov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novation is something new; five factors that affect the rate at which innovations are adopted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ve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vi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Theo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er Categ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Content Placeholder 3" descr="K&amp;G.tiff"/>
          <p:cNvPicPr/>
          <p:nvPr/>
        </p:nvPicPr>
        <p:blipFill>
          <a:blip r:embed="rId1"/>
          <a:srcRect l="0" t="-7433" r="0" b="-743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keting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al factors must be considered when marketing consumer and industrial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 reflects the extent to which products must be adapted to the culture-specific needs of different national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Content Placeholder 3" descr="K&amp;G4.tiff"/>
          <p:cNvPicPr/>
          <p:nvPr/>
        </p:nvPicPr>
        <p:blipFill>
          <a:blip r:embed="rId1"/>
          <a:srcRect l="-8221" t="0" r="-822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ironmental Sensi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pendent of social class and income, culture is a significant influence on consumption and purch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od is the most culturally-sensitive category of consumer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hydrated Knorr Soups did not gain popularity in the U.S. market that preferred canned s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rbucks overcame cultural barriers in Great Britain and had 466 outlets by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ing Ahead to Chapt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2776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olitical, Legal, and Regulatory Environments of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 of Global Mark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udy and understand the cultures of countries in which they will be doing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derstand how an unconscious reference to their own cultural values, or self-reference criterion, may influence their perception of the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orporate this understanding into the marketing plann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y, Cultur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–ways of living, built up by a group of human beings, that are transmitted from one generation to an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has both conscious and unconscious values, ideas, attitudes, and symb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acted out in social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both physical (clothing and tools) and nonphysical (religion, attitudes, beliefs, and valu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Instit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se institu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ction to reinforce cultural n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terial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Nonmaterial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599840"/>
            <a:ext cx="28954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al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th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corative 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dy ado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960880" y="1599840"/>
            <a:ext cx="27255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bstract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lie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lture is the collective programming of the mind that distinguishes the members of one category of people from those of another.</a:t>
            </a:r>
            <a:r>
              <a:rPr b="1" i="1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rt Hofste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nation, an ethic group, a gender group, an organization, or a family may be considered as a categ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ety, Culture,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consumer cultures are emer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sons who share meaningful sets of consumption-related symb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 culture, coffee culture, fast-food culture, credit card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ily the product of a technologically  interconnected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tellit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ll ph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s, Beliefs,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titude–learned tendency to respond in a consistent way to a given object or 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lief–an organized pattern of knowledge that an individual holds to be true about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–enduring belief or feeling that a specific mode of conduct is personally or socially preferable to another mode of con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798280" y="63010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2013, Pearson Education Inc., Publishing as Prentice-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5:29:12Z</dcterms:created>
  <dc:creator>Jill Solomon</dc:creator>
  <dc:description/>
  <dc:language>en-US</dc:language>
  <cp:lastModifiedBy>User</cp:lastModifiedBy>
  <dcterms:modified xsi:type="dcterms:W3CDTF">2014-02-05T10:32:00Z</dcterms:modified>
  <cp:revision>45</cp:revision>
  <dc:subject/>
  <dc:title>PowerPoint Presentation</dc:title>
</cp:coreProperties>
</file>