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ACB-B594-4359-B963-B5A1636D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E63-D839-4C5A-AC6F-7B18B562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C5C-43CC-48FA-922E-363055A1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DFF-6EB4-42D6-A401-208EA348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6361-05C5-4189-B4F5-4D55184D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4076-B98D-4EE6-BD23-5ABB5807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EEFA-F2C2-4C71-8BF1-4314B73B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691B-8081-4A84-9DF2-1192B6B5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D910-F49F-48B7-B9AE-A41C0A38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191C-BF88-420E-9298-FFE9AE09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F70B-9F02-4E5F-BAA7-F5BF016F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422-162D-4CD2-81A9-D5965D81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1C92-BC5F-4CCE-B284-28CA3119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0ABC-99C8-44B0-80DD-0FB31A4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3A2E-E2AD-4A4C-B39C-73CB39C3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D8E1-F7AF-4D87-AED5-FE3F213E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B9A3-2230-47FE-87E0-AAE77431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16C37-7897-4BA7-884C-054A5680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DE4DA-7113-442B-A929-8FE054F6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CA4AD-1D5F-49C2-805D-3D2D7AF1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DAAE1-7E25-4F6B-A3B5-E25D9B67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320E1-43E7-47D5-B06E-E5686AFC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5C4-47CB-44D6-9681-6C8B14F4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D903F-1DFC-4893-924A-9B6DF7EA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EBA97-C424-4CC0-ADCD-41E5F89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7DAC3-A61A-45A2-AFCC-ECA2B8AF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45821-4274-4F90-969A-7E47BF46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CF3EC-C47F-4F84-BEE8-CE4A24ED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5872F-BAC4-4E34-BE49-48CCFCD1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4AC8C-2C12-48CB-908F-F8E6855A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06DAE-ACFF-4065-8337-EC2B1BCA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DE867-A54D-465B-992A-B5DD0BDE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7EB0E-3B9D-4029-9818-EC434561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F13-4DA5-465C-B076-CB9D6537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FDAC4-B340-4375-BB72-5B0DE3A0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419B4-4D64-4718-82E3-359B01D5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86CD7-A05F-457D-8915-35CE4C85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60256-3E04-4FF9-B6B1-9B33B487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D7098-1476-4DDF-BD33-FBCF183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4653D-D9ED-406C-9629-AAF9A34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AB65F-885C-4A48-8FAA-5740A0F0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A3823-FD7C-4358-9D9B-22E759E8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280AD-3D6E-4A85-9EFF-C4F91659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2214E-B0A8-4290-BC4C-6D943401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A47-5CDA-48CE-BB46-EEB34D4A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D12B7-64AF-41E9-A676-40CEF5DF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59613-77BD-491E-979C-2D1858E5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0BDC8-B8E4-4812-B4D3-ABDF2234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82ED4-7FCC-4B2F-86C6-B2059523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136B4-61C0-4F78-AF54-3B5E2DE8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4356F-B152-486B-8BCE-9F530ADF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53CB4-49E3-45AF-9366-34712734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6C3D9-B46D-402A-B0D2-C653434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393A5-C61C-4961-8D6A-4C961C79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FEBC1-0129-471E-BF90-C9F628A7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CC6-7928-45E4-BFC0-468986E8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2BE30-895D-4E11-BCA1-AE6B89AC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49F0-C76B-4511-B9FB-FDCF3E48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16CD-FE81-4E2D-AF12-493DFF3C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4BBAC-123D-4B57-8506-AC85440A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32276-9A17-4F49-B3B0-16C26E8D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4994-D978-40F2-974E-1B232AF8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60A76-F95B-4C0B-9615-6B849E8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8A316-2757-4D12-B42F-AC916BB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B913-4022-40F2-BCEF-53FD41DD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E37A7-9B17-4EB3-A413-1C59F5D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A5F-25F6-4774-951D-878774B4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7FFB7-DAEC-4301-9195-A35968DB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FC33B-B0C4-4CE3-B414-5D6CD5C4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0B87-B325-45B3-84DE-E997AF50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44859-4AC8-4A09-A1D0-7E6367F9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0939A-82DB-47E5-B967-95BE70E9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7ED80-9877-47EC-B19F-F60084C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F596F-1B3E-4BA2-8172-DE92AB59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741A5-B972-43E5-8E86-02226783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6E91F-7B58-4C41-8BB1-89E965D4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E2453-4646-4AA8-B3C2-FD4C837F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5E7-6CE5-4883-BDE5-36E30A6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412B6-0D85-4314-BD5C-1836975E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27036-F056-4E23-AFCC-1C4C5152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64185-3CDC-4D2C-9E65-53C2E8F6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06A3D-43E9-4825-A342-8E4EAF99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43127-5822-4096-840D-E811473E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0149-DBAF-4CA9-A689-ED93745D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27DA2-68A5-459B-BC65-FD6213BC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EABD7-F3EA-43A9-8352-6A71A46B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A235F-4AF1-4B00-BAD8-8BBD9C80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88C89-0B61-4B2C-A048-0DFC20DA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450-A20F-4915-B5D7-FCE71EC0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2F01A-5E89-4FDF-9FE1-6F49AA7F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4CDE-1799-4037-902C-06876CBA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9BCCE-F031-4276-91B6-CED25509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19EC6-2C4A-43E2-AD5F-58852274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BA2A1-1EB7-4404-AE78-2A9918E7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56104-B06D-435A-95A5-CAB2C05C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AB2F2-4567-4D1E-9B66-F2FBA288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711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AA4AA-5296-41DC-9DD7-AED887DDB0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121921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12600" y="6053040"/>
            <a:ext cx="300024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3144960" y="6043680"/>
            <a:ext cx="904716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1520" y="60685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81000" y="236520"/>
            <a:ext cx="782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0667520" y="228600"/>
            <a:ext cx="1117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36D38-C7BE-4312-80B0-3C547B00B24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12192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727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828800" y="1600200"/>
            <a:ext cx="1036332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727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3ACEC-32B6-4773-9DF6-E020659F397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711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502C1-88E2-4A4B-BEE9-C621536F83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711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6D151-2B0C-43DD-A431-46664012C1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665D0-E9DD-4C6D-8F7C-0E150C21FDE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12600" y="4572000"/>
            <a:ext cx="1219176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12600" y="4664160"/>
            <a:ext cx="195084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2060640" y="4654440"/>
            <a:ext cx="1013148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ستطيل 14"/>
          <p:cNvSpPr/>
          <p:nvPr/>
        </p:nvSpPr>
        <p:spPr>
          <a:xfrm>
            <a:off x="1930320" y="0"/>
            <a:ext cx="13356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833112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9303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7DB35-798A-4F7E-9884-04FB25F53BF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2133360" y="6248520"/>
            <a:ext cx="609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8128080" y="0"/>
            <a:ext cx="426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8190000" y="609480"/>
            <a:ext cx="30456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8190000" y="0"/>
            <a:ext cx="30456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8737200" y="6248520"/>
            <a:ext cx="294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743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8074800" y="103680"/>
            <a:ext cx="5335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93961-8BC6-4ED0-A9F6-0B80B0047C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49280" y="4038480"/>
            <a:ext cx="8636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كافيات التدريس 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149280" y="6049440"/>
            <a:ext cx="8940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9656640" y="1647720"/>
            <a:ext cx="2535480" cy="5054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2"/>
          <a:srcRect l="0" t="0" r="47326" b="8618"/>
          <a:stretch/>
        </p:blipFill>
        <p:spPr>
          <a:xfrm>
            <a:off x="11221920" y="1878120"/>
            <a:ext cx="970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انفجار 1 9" descr=""/>
          <p:cNvPicPr/>
          <p:nvPr/>
        </p:nvPicPr>
        <p:blipFill>
          <a:blip r:embed="rId1"/>
          <a:stretch/>
        </p:blipFill>
        <p:spPr>
          <a:xfrm>
            <a:off x="2309760" y="1620720"/>
            <a:ext cx="9796680" cy="4084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" descr=""/>
          <p:cNvPicPr/>
          <p:nvPr/>
        </p:nvPicPr>
        <p:blipFill>
          <a:blip r:embed="rId2"/>
          <a:stretch/>
        </p:blipFill>
        <p:spPr>
          <a:xfrm>
            <a:off x="571680" y="4651200"/>
            <a:ext cx="26668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أسس إعداد المعلم القائم على الكفايات 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165240" y="1600200"/>
            <a:ext cx="1185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مكن لأي طالب إتقان المهام المختلفة للتدريب على التدريس (الوقت الكافي-التدريب الجي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سبب الفروق الفردية بين المعلمين الطلاب ترجع إلى أخطاء في نظام التدريب لا خصائصهم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فير إمكانات مناسبة للتعليم يلغي الاعتقاد بسرعة أو بطء التعلم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كثر العناصر أهمية في عملية التدريس والتعلم نوعية خبرات التعلم التي تتوفر للطالب المعلم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3" name="Content Placeholder 4" descr=""/>
          <p:cNvPicPr/>
          <p:nvPr/>
        </p:nvPicPr>
        <p:blipFill>
          <a:blip r:embed="rId1"/>
          <a:stretch/>
        </p:blipFill>
        <p:spPr>
          <a:xfrm>
            <a:off x="817560" y="1596960"/>
            <a:ext cx="108680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ما هي فوائد استخدام الاسس السابقة على حركة اعداد المعلمين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71440" y="1674360"/>
            <a:ext cx="10871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عايير لاعداد المواد التعليم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ديد أدوار الطلاب المعلمين في التدريب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2349360" y="1943280"/>
            <a:ext cx="2654280" cy="2036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6642000" y="2103480"/>
            <a:ext cx="2514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5b22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w Cen MT"/>
              </a:rPr>
              <a:t>النقد الموجه لحركة إعداد المعلم القائم على الكفايات  !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أن المدرسة منظمة اجتماعية معقدة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اعتماد على الكفايات كأساس للتدريب يحول المعلم إلى آلة ميكانيكية   ؟؟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Tw Cen MT"/>
              </a:rPr>
              <a:t>الرد عليه  ؟؟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تركز على موضوعات غير اساسة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لاتستند على أسس علمية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95b22"/>
                </a:solidFill>
                <a:latin typeface="Tw Cen MT"/>
              </a:rPr>
              <a:t>مجالات كفاية المعلم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17560" y="121932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Diagram 3" descr=""/>
          <p:cNvPicPr/>
          <p:nvPr/>
        </p:nvPicPr>
        <p:blipFill>
          <a:blip r:embed="rId1"/>
          <a:stretch/>
        </p:blipFill>
        <p:spPr>
          <a:xfrm>
            <a:off x="420840" y="1847880"/>
            <a:ext cx="94723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95b22"/>
                </a:solidFill>
                <a:latin typeface="Tw Cen MT"/>
              </a:rPr>
              <a:t>مجالات كفاية المعلم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39960" y="2455920"/>
            <a:ext cx="1082016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مكن من المعلومات النظرية حول التعلم والسلوك الإنساني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مكن من المعلومات في مجال التخصص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متلاك الاتجاهات التي تسهم في إسراع التعلم واقامة العلاقات الانسانية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مكن من المهارات الخاصة بالتدريس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كفايات المطلوبة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Content Placeholder 12" descr=""/>
          <p:cNvPicPr/>
          <p:nvPr/>
        </p:nvPicPr>
        <p:blipFill>
          <a:blip r:embed="rId1"/>
          <a:stretch/>
        </p:blipFill>
        <p:spPr>
          <a:xfrm>
            <a:off x="9802800" y="1630440"/>
            <a:ext cx="1943280" cy="133344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4"/>
          <p:cNvGrpSpPr/>
          <p:nvPr/>
        </p:nvGrpSpPr>
        <p:grpSpPr>
          <a:xfrm>
            <a:off x="5060880" y="1847880"/>
            <a:ext cx="4299120" cy="1116000"/>
            <a:chOff x="5060880" y="1847880"/>
            <a:chExt cx="4299120" cy="1116000"/>
          </a:xfrm>
        </p:grpSpPr>
        <p:sp>
          <p:nvSpPr>
            <p:cNvPr id="408" name="Rounded Rectangle 8"/>
            <p:cNvSpPr/>
            <p:nvPr/>
          </p:nvSpPr>
          <p:spPr>
            <a:xfrm>
              <a:off x="5060880" y="1847880"/>
              <a:ext cx="4299120" cy="111600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ounded Rectangle 6"/>
            <p:cNvSpPr/>
            <p:nvPr/>
          </p:nvSpPr>
          <p:spPr>
            <a:xfrm>
              <a:off x="5454360" y="1881000"/>
              <a:ext cx="387216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w Cen MT"/>
                </a:rPr>
                <a:t>1- </a:t>
              </a:r>
              <a:r>
                <a:rPr b="1" lang="ar-SA" sz="2800" spc="-1" strike="noStrike">
                  <a:solidFill>
                    <a:srgbClr val="000000"/>
                  </a:solidFill>
                  <a:latin typeface="Tw Cen MT"/>
                </a:rPr>
                <a:t>المعرفية والبحثية للتدريس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3"/>
          <p:cNvSpPr/>
          <p:nvPr/>
        </p:nvSpPr>
        <p:spPr>
          <a:xfrm>
            <a:off x="5168880" y="3352680"/>
            <a:ext cx="4318200" cy="1650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r" rtl="1">
              <a:lnSpc>
                <a:spcPct val="90000"/>
              </a:lnSpc>
              <a:spcAft>
                <a:spcPts val="1400"/>
              </a:spcAft>
              <a:buClr>
                <a:srgbClr val="ff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w Cen MT"/>
              </a:rPr>
              <a:t>في مجال تخصصه الاكادي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90000"/>
              </a:lnSpc>
              <a:spcAft>
                <a:spcPts val="1400"/>
              </a:spcAft>
              <a:buClr>
                <a:srgbClr val="ff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w Cen MT"/>
              </a:rPr>
              <a:t>الفكر الترب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كفايات المطلوبة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3819600" y="2716200"/>
            <a:ext cx="6289560" cy="3565440"/>
            <a:chOff x="3819600" y="2716200"/>
            <a:chExt cx="6289560" cy="3565440"/>
          </a:xfrm>
        </p:grpSpPr>
        <p:sp>
          <p:nvSpPr>
            <p:cNvPr id="414" name="Rounded Rectangle 4"/>
            <p:cNvSpPr/>
            <p:nvPr/>
          </p:nvSpPr>
          <p:spPr>
            <a:xfrm>
              <a:off x="3819600" y="2716200"/>
              <a:ext cx="6289560" cy="356544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ounded Rectangle 8"/>
            <p:cNvSpPr/>
            <p:nvPr/>
          </p:nvSpPr>
          <p:spPr>
            <a:xfrm>
              <a:off x="3921120" y="2820960"/>
              <a:ext cx="6086520" cy="33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400" spc="-1" strike="noStrike">
                  <a:solidFill>
                    <a:srgbClr val="00b050"/>
                  </a:solidFill>
                  <a:latin typeface="Tw Cen MT"/>
                </a:rPr>
                <a:t>1</a:t>
              </a:r>
              <a:r>
                <a:rPr b="1" lang="ar-SA" sz="2400" spc="-1" strike="noStrike">
                  <a:solidFill>
                    <a:srgbClr val="00b050"/>
                  </a:solidFill>
                  <a:latin typeface="Tw Cen MT"/>
                </a:rPr>
                <a:t>- مهارات التفاعل الصفي 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التهيئة والاثارة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استخدام الأسئلة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w Cen MT"/>
                </a:rPr>
                <a:t>مراحل استخدام الأسئلة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w Cen MT"/>
                </a:rPr>
                <a:t>قواعد طرح الأسئلة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استخدام المواد و الأجهزة التعليمية </a:t>
              </a:r>
              <a:r>
                <a:rPr b="1" lang="ar-SA" sz="2000" spc="-1" strike="noStrike">
                  <a:solidFill>
                    <a:srgbClr val="ff0000"/>
                  </a:solidFill>
                  <a:latin typeface="Tw Cen MT"/>
                </a:rPr>
                <a:t>أمثلة ؟ وفوائد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 حيوية المعلم </a:t>
              </a:r>
              <a:r>
                <a:rPr b="1" lang="ar-SA" sz="2000" spc="-1" strike="noStrike">
                  <a:solidFill>
                    <a:srgbClr val="ff0000"/>
                  </a:solidFill>
                  <a:latin typeface="Tw Cen MT"/>
                </a:rPr>
                <a:t>؟أمثلة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 إنهاء الدر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6"/>
          <p:cNvSpPr/>
          <p:nvPr/>
        </p:nvSpPr>
        <p:spPr>
          <a:xfrm>
            <a:off x="6540480" y="1785960"/>
            <a:ext cx="3263760" cy="6476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w Cen MT"/>
              </a:rPr>
              <a:t>التدريسية الأدائي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كفايات المطلوبة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2</a:t>
            </a: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-مهارات إدارة الصف 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لإنتباه للأحداث الجارية (ضبط النظام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 معاملة الطلاب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3</a:t>
            </a: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- مهارات التقويم 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تخطيط – تنفيذ – تنظيم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85440" y="317160"/>
            <a:ext cx="1082052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b95b22"/>
                </a:solidFill>
                <a:uFillTx/>
                <a:latin typeface="Tw Cen MT"/>
              </a:rPr>
              <a:t>الأهداف :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1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مفهوم الكفاية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2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التربية القائمة على الكفاي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3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مبادئ فكرة إعداد المعلم القائم على الكفايا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4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الكفاية التدريسية الأدائية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5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مجالات كفاية المعلم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فصل الراب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5ab81"/>
                </a:solidFill>
                <a:latin typeface="Tw Cen MT"/>
              </a:rPr>
              <a:t>معايير اعداد المعلم الناجح وجودة التدريس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أهمية معرفة معايير إعداد المعلم الناجح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الانضمام: </a:t>
            </a: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تشجيع الأفراد دخول مجال التدريس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التحديد: </a:t>
            </a: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أكيد على أن الأفراد اللذين يسمح لهم بممارسة مهنة التدريس لهم مؤهلات محددة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جودة الأداء: </a:t>
            </a: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طبيعة الاعداد الذي يتلقاه من يلتحق بمهنة التدريس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الشرعية: </a:t>
            </a: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أكيد على أن المعلم كفء ومدرب ويمكن الاعتماد علي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4000680" y="5465880"/>
            <a:ext cx="4498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جب أن يكون المعلم على وعي بالمفاهيم وأدوات الاستقصاء ويستطيع توفير خبرات تعلم تجعل المادة ذات معنى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جب أن يكون المعلم على معرفة بكيفية تعلم الطلاب ويوفر لهم فرص تعلم تدعم نموهم العقلي والاجتماعي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علم على معرفة باختلاف مداخل التعلم لدى طلابه ويوفر لهم مناخا يناسب الاختلاف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ستخدم المعلم استراتيجيات تدريسية تنمي التفكير الناقد وحل المشكلات ومهارات الأداء لدى الطلاب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علم متفهم لكيفية اثارة دافعية الطلاب ليوفر بيئة تشجع التفاعل الاجتماعي الايجابي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5ab81"/>
                </a:solidFill>
                <a:latin typeface="Tw Cen MT"/>
              </a:rPr>
              <a:t>معايير اعداد المعلم الناجح وجودة التدريس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0" y="4978440"/>
            <a:ext cx="1577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 يستخدم المعلم معرفته بالاتصال اللفظي وغير اللفظي لينمي الاستقصاء النشط والعمل الجماعي والتفاعل داخل الصف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 يخطط للدرس معتمدا على المعرفة المتضمنه بالمادة والمتعلمين والمجتمع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 يعرف استراتيجيات التقييم الرسمة وغير الرسمية ويوظفها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9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 يتأمل المعلم اختياراته ويقومها ويسعى دائما الى النمو المهني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يحرص على اقامة علاقات جيدة مع الزملاء داخل المدرسة والأباء والهيئات داخل المجتمع بهدف دعم تعلم الطلاب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5ab81"/>
                </a:solidFill>
                <a:latin typeface="Tw Cen MT"/>
              </a:rPr>
              <a:t>معايير اعداد المعلم الناجح وجودة التدريس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228600" y="4997520"/>
            <a:ext cx="18604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5257800" y="2577960"/>
            <a:ext cx="1990800" cy="3241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8445600" y="1714680"/>
            <a:ext cx="1879560" cy="1358640"/>
          </a:xfrm>
          <a:prstGeom prst="rect">
            <a:avLst/>
          </a:prstGeom>
          <a:ln w="0">
            <a:noFill/>
          </a:ln>
        </p:spPr>
      </p:pic>
      <p:sp>
        <p:nvSpPr>
          <p:cNvPr id="358" name="Oval 5"/>
          <p:cNvSpPr/>
          <p:nvPr/>
        </p:nvSpPr>
        <p:spPr>
          <a:xfrm>
            <a:off x="1957320" y="996840"/>
            <a:ext cx="1752840" cy="1231920"/>
          </a:xfrm>
          <a:prstGeom prst="ellipse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أثناء الدرا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8356680" y="1098720"/>
            <a:ext cx="1752480" cy="1231560"/>
          </a:xfrm>
          <a:prstGeom prst="ellipse">
            <a:avLst/>
          </a:prstGeom>
          <a:solidFill>
            <a:srgbClr val="968c8c"/>
          </a:solidFill>
          <a:ln w="19080">
            <a:solidFill>
              <a:srgbClr val="6d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بعد التخر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831 0.1463 L -0.37331 0.1463 C -0.36172 0.1463 -0.34857 0.13241 -0.33672 0.13033 C -0.32786 0.13033 -0.31185 0.14329 -0.30443 0.14329 C -0.29427 0.14329 -0.28398 0.13936 -0.26484 0.13936 L -0.25169 -0.01574 L -0.23698 0.1713 L -0.2194 0.1463 L -0.20469 0.13936 L -0.16953 0.14537 C -0.15338 0.14237 -0.14023 0.1294 -0.12409 0.12431 C -0.11823 0.12338 -0.10508 0.12223 -0.09622 0.12431 C -0.0875 0.12639 -0.08008 0.14028 -0.07721 0.14121 C -0.07278 0.14537 -0.0625 0.14121 -0.05677 0.14329 L -0.04778 0.1463 L -0.03164 0.1463 E">
                                      <p:cBhvr>
                                        <p:cTn id="6" dur="2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1" name="Content Placeholder 4" descr=""/>
          <p:cNvPicPr/>
          <p:nvPr/>
        </p:nvPicPr>
        <p:blipFill>
          <a:blip r:embed="rId1"/>
          <a:stretch/>
        </p:blipFill>
        <p:spPr>
          <a:xfrm>
            <a:off x="500040" y="34290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362" name="Rounded Rectangle 4"/>
          <p:cNvSpPr/>
          <p:nvPr/>
        </p:nvSpPr>
        <p:spPr>
          <a:xfrm>
            <a:off x="3568680" y="2070000"/>
            <a:ext cx="6527880" cy="18417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أنا يارا طالبة في كلية التربية وأريد أن أكون معلمه مؤثرة ومتمكنة وقرأت مصطلح الكفاية التدريسية ولم اعرف معنى هذا المصطلح ساعدوني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0200" y="0"/>
            <a:ext cx="62355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bfd3e4"/>
                </a:solidFill>
                <a:latin typeface="Tw Cen MT"/>
              </a:rPr>
              <a:t>مفهوم الكفاية</a:t>
            </a:r>
            <a:r>
              <a:rPr b="0" lang="ar-SA" sz="5400" spc="-1" strike="noStrike">
                <a:solidFill>
                  <a:srgbClr val="775f55"/>
                </a:solidFill>
                <a:latin typeface="Tw Cen MT"/>
              </a:rPr>
              <a:t>  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مربع نص 5"/>
          <p:cNvSpPr/>
          <p:nvPr/>
        </p:nvSpPr>
        <p:spPr>
          <a:xfrm>
            <a:off x="5156280" y="2451240"/>
            <a:ext cx="67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عرفة المادة العلمية أو اكتساب المهارات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كما تعني قدرة الفرد على ترجمة ما تعلمه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في مواقف حياتيه فعلية بعد انتهاء الدراسة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شكل بيضاوي 7"/>
          <p:cNvSpPr/>
          <p:nvPr/>
        </p:nvSpPr>
        <p:spPr>
          <a:xfrm>
            <a:off x="2755800" y="3886200"/>
            <a:ext cx="8051760" cy="20574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w Cen MT"/>
              </a:rPr>
              <a:t>الكفاية التعليمية الأدائية :  هي المقدرة على شيء، وعمله بكفاءة  وفعالية ، وبمستوى معين  من الأد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كفاية في مجال التدريس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Content Placeholder 3" descr=""/>
          <p:cNvPicPr/>
          <p:nvPr/>
        </p:nvPicPr>
        <p:blipFill>
          <a:blip r:embed="rId1"/>
          <a:stretch/>
        </p:blipFill>
        <p:spPr>
          <a:xfrm>
            <a:off x="798480" y="1603440"/>
            <a:ext cx="10917360" cy="449244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8707320" y="2930400"/>
            <a:ext cx="3200400" cy="179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2"/>
          <a:stretch/>
        </p:blipFill>
        <p:spPr>
          <a:xfrm>
            <a:off x="8985240" y="2584440"/>
            <a:ext cx="22860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أثر مفهوم الكفاية على إعداد المعلم ؟؟</a:t>
            </a:r>
            <a:br>
              <a:rPr sz="4000"/>
            </a:b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نظرة تاريخية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c00000"/>
                </a:solidFill>
                <a:latin typeface="Tw Cen MT"/>
              </a:rPr>
              <a:t>برأيك ما هو سبب ادخال مفهوم الكفاية على مجال التربية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b050"/>
                </a:solidFill>
                <a:latin typeface="Tw Cen MT"/>
              </a:rPr>
              <a:t>تحسين  البرامج التعليمية لكافة المستويات في المؤسسات التربوية بصفة عام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c00000"/>
                </a:solidFill>
                <a:uFillTx/>
                <a:latin typeface="Tw Cen MT"/>
              </a:rPr>
              <a:t>عوامل ظهور حركة التربية القائمة على الكفايات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إنتقادات التي وجهت من قبل المجتمع الأمريكي الى المدرس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تركيز على الكيف في التربية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إتفاق مبادئها مع الكثير من أفكار البحوث الحديثة في التربية ونتائج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752400" y="2610000"/>
            <a:ext cx="21430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خصائص المتفق عليها من المؤسسات المسؤولة عن إعداد المعلم 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4913280" y="2216160"/>
            <a:ext cx="6923160" cy="9237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لتأكيد على تحديد نتائج التعليم في صورة أهداف سلوكية</a:t>
            </a: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4937040" y="3271680"/>
            <a:ext cx="6923160" cy="924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لتأكيد الشديد على توفير الخبرات الميدا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925880" y="4313160"/>
            <a:ext cx="6923160" cy="924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ستخدام مصادر و موارد التعلم المتنوعة بمؤسسات الأ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4911840" y="5481720"/>
            <a:ext cx="6922800" cy="9237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لتركيز على تقويم الطلاب المعلمين أثناء التدريب وبعد</a:t>
            </a: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" descr=""/>
          <p:cNvPicPr/>
          <p:nvPr/>
        </p:nvPicPr>
        <p:blipFill>
          <a:blip r:embed="rId1"/>
          <a:stretch/>
        </p:blipFill>
        <p:spPr>
          <a:xfrm>
            <a:off x="3745080" y="5459400"/>
            <a:ext cx="995040" cy="1039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3459240" y="4413240"/>
            <a:ext cx="1280880" cy="824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rcRect l="15150" t="0" r="0" b="0"/>
          <a:stretch/>
        </p:blipFill>
        <p:spPr>
          <a:xfrm>
            <a:off x="3772080" y="3271680"/>
            <a:ext cx="969840" cy="1047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4"/>
          <a:stretch/>
        </p:blipFill>
        <p:spPr>
          <a:xfrm>
            <a:off x="3679920" y="2300400"/>
            <a:ext cx="1060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ا لمقصود بإعداد المعلم القائم على الكفايات  ؟؟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برنامج إعداد المعلم المؤسس على الفلسفة التربوية التي تحدد كفايات المعلم ، وفي ذلك  التحديد فإنها تقدم الطالب المعلم إلى خبرات لإتقان تلك الكفايات ، وتقوم بالتعرف على تقدمه من خلال أدائه لها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ح شهادة التخرج للعمل بالتدريس للأكفاء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2:30:31Z</dcterms:created>
  <dc:creator>sony laptop</dc:creator>
  <dc:description/>
  <dc:language>en-US</dc:language>
  <cp:lastModifiedBy>RoRo</cp:lastModifiedBy>
  <dcterms:modified xsi:type="dcterms:W3CDTF">2014-02-23T19:13:31Z</dcterms:modified>
  <cp:revision>56</cp:revision>
  <dc:subject/>
  <dc:title>المعلم الناجح والتدريس الفعال</dc:title>
</cp:coreProperties>
</file>