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B31-89D3-48E8-8385-453DE6A9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2408-8003-4F0E-83D9-A942604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1B03-35D3-4A88-A50D-959B1F9B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E9D-BAA2-426D-9B9C-AC69701F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6BF2-1B3B-4982-A30B-845CDFB7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247C-C1FB-470E-B00A-004428BE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209C-98A1-4CE1-A42D-D55DAFD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CA9-BA7E-4515-AEF4-D564C931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6C21-E55A-4164-AB3E-B814A3F6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4056-4FE4-4DC8-91A4-E58C0127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8F52-3F25-4FC0-A8B1-EFE3B3D7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78D-36A9-471C-A264-9DD67396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D3A8-C076-46A6-8F67-304502A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12D4-026B-4E67-BE07-8B74346B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4343-116C-48D0-9F9A-FFB0CEF6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E0AF-5FC3-4492-92B1-BF6EAD3C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EDFB-BA87-4854-86D6-3E956E82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A523B-F62C-4627-B12F-1993DBCA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E610A0-3C84-4746-8E9B-D0076BB5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1AF97-1753-43C0-A30C-55EACC73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A01E-83DB-453F-9D61-1EB8D31A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8F055-E6CA-4738-B16D-7AB4BFC2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24E-5AAE-402E-854F-0543CD4F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B85E5-8E4B-42D0-86F9-764C33C2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886AF-30EF-452B-A16A-31CE3D3D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0B452-FE1B-42DF-9A5B-7A84E256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5628F-97E8-421D-B7EC-1BD0F16A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FCB5A-825B-4D55-AF70-BE5ABA9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C4A00-94AE-458B-A585-FD73ABDA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387FD-D3CD-4FB2-90E7-24B68DE2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54F4D-4324-4C7E-9434-DE00A5B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79D54-8A8A-4F07-88D2-7519F2B7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0ED116-F27C-4777-AD65-36182C33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890-A19D-446F-9DDF-DBDD9FA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8BDF4E-B9B3-4466-86DC-AACBAC6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E7B839-A0A5-4BD6-A554-D3F04CE8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A5B63C-0985-4232-8616-9CB4F68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66C9A-2B0D-4CCE-9BE2-C943F95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2E5A22-BAE5-4AF5-9619-336B5257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0D072A-7F27-4039-872C-4728FB6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528545-FB54-43AB-ADBE-3AB5FC99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CCC92A-6434-4105-950A-445E5875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4354D-6D3A-4798-8598-E5868AC3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8BAC5-3E5A-4E47-A04C-38DD508E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272-B9AB-4825-94AA-AA4FCE0F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A297DA-119F-4B87-820F-834DB6AD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4AC6B-877F-4EB7-8E6D-FB1F6C49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F09F9A-48E6-46CC-8516-234C5CA4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32DA47-0B8C-432F-946F-BC066C88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D27E7-4939-4900-910F-6B903A0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F6B85-4F67-4089-8698-A590D4D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06414E-1D51-406B-9B2F-CCF6FA63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5B32A-C857-421D-A2D5-FAD5126C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E363F-CDF0-4622-876D-6BEE72E5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BD2F1A-5913-438D-BE69-E315854C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A90B-A32E-49AD-B1DF-F3239D44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1FBB4-66A2-4111-90DE-563A60CD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2F1D8-B6CD-4E9C-B91A-42A58D1C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57BB9-C781-407D-80AF-C2770D37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09D42-A486-436F-9539-4E89DC71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C16E1-A638-43A0-8D8E-E55C75D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F2AE3-5EB3-4299-8390-B1D29A67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D180-C5A9-487D-A1A0-D833379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63F46-CFD1-4912-BBDF-BE92585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D9085-5D57-4ED2-9248-03446F63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1A007-5F01-47FA-B8E9-1FB11EF7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62D-5DD4-4289-ACCC-7225CE47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D4B32-765B-4EAE-85A7-172F1867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12DC-BB57-4B2F-B73D-6CCDE32C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2BE5A-1CA5-460A-BA10-B32757A5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FDA77-B8FE-422C-A845-04E2101E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252999-A1A6-4482-A3E7-30355FBB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475A6-DFBC-4A2F-B9AF-FAAFF35A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7195B-6B4E-4CB0-BF19-2DD77D6D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5191DA-F6EA-49CE-A598-BAE931D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1E2DD-1FE5-48E9-9507-48CC3FA0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7016E9-A7E3-488B-8B73-CE36AA96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92F-67E1-4DCD-9EED-7BBF12A5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991F8-508D-4FF0-8020-C9FCF0FD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B6E7F-A157-4C6C-897B-892FAF30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18D88-4237-4612-BFE1-0998607A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600E6-16D5-49ED-A776-9CF01127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90F8CF-55B3-4A9B-8F1C-CDEE50C1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04979-0192-4D2E-8CC9-4EC514F1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0BD5-21F9-4573-AED6-C5A4614C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FF3B3-4870-4D57-BF6C-1FBC1C0F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E7491-B990-4BE2-8FE7-C591BC9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C0342-27CF-4C63-8AF7-FA5C7A12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912-553B-43EA-B57B-BE2E4AD6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812880" y="228600"/>
            <a:ext cx="108712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2F02-A6C3-40D9-8FE2-8C56D845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AD917-41B7-42EE-9E98-611225B4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6016A-50E2-4009-9D13-96BC9D4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4D8B6-C8C6-4413-982B-656C030F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817560" y="3964320"/>
            <a:ext cx="10871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EA07-D8CF-4BE1-8142-4E9B3BCE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388200" y="160020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1756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388200" y="3964320"/>
            <a:ext cx="5304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979D-7F8B-45C3-B4BB-D5B9A70D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175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931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168760" y="160020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8175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4931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168760" y="3964320"/>
            <a:ext cx="350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9DEB5-D590-4A15-800B-3D55D645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5F375-65EC-4F2D-B279-B7E93ECA5A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121921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12600" y="6053040"/>
            <a:ext cx="30002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3144960" y="6043680"/>
            <a:ext cx="904716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1520" y="60685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81000" y="236520"/>
            <a:ext cx="782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0667520" y="228600"/>
            <a:ext cx="1117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584CDE-4305-4071-A624-14C84B3F7044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12192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727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828800" y="1600200"/>
            <a:ext cx="1036332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727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83212-7110-4300-956B-3E879A6D790A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560001-B958-4A12-9A7F-3F6C1C9706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12192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71136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787320" y="1279440"/>
            <a:ext cx="114048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711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6ADA4-B94B-45EE-B70B-5C3232B3E4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12808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812520" y="6248520"/>
            <a:ext cx="7227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711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AB2AE-5B9B-438F-A5F0-5154B54D1AE0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12600" y="4572000"/>
            <a:ext cx="1219176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12600" y="4664160"/>
            <a:ext cx="195084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2060640" y="4654440"/>
            <a:ext cx="1013148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4"/>
          <p:cNvSpPr/>
          <p:nvPr/>
        </p:nvSpPr>
        <p:spPr>
          <a:xfrm>
            <a:off x="1930320" y="0"/>
            <a:ext cx="13356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8331120" y="6248520"/>
            <a:ext cx="355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9303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4C290-0004-4339-BF7F-A93749AAAA2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2133360" y="6248520"/>
            <a:ext cx="6095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8128080" y="0"/>
            <a:ext cx="4269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8190000" y="609480"/>
            <a:ext cx="30456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8190000" y="0"/>
            <a:ext cx="30456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1288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17560" y="1600200"/>
            <a:ext cx="1087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8737200" y="6248520"/>
            <a:ext cx="294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743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8074800" y="103680"/>
            <a:ext cx="5335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7F377-9BEE-4E5F-9106-505A268A5B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9280" y="4038480"/>
            <a:ext cx="8636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كافيات التدريس 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149280" y="6049440"/>
            <a:ext cx="8940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9656640" y="1647720"/>
            <a:ext cx="2535480" cy="50547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"/>
          <p:cNvPicPr/>
          <p:nvPr/>
        </p:nvPicPr>
        <p:blipFill>
          <a:blip r:embed="rId2"/>
          <a:srcRect l="0" t="0" r="47326" b="8618"/>
          <a:stretch/>
        </p:blipFill>
        <p:spPr>
          <a:xfrm>
            <a:off x="11221920" y="1878120"/>
            <a:ext cx="9702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انفجار 1 9" descr=""/>
          <p:cNvPicPr/>
          <p:nvPr/>
        </p:nvPicPr>
        <p:blipFill>
          <a:blip r:embed="rId1"/>
          <a:stretch/>
        </p:blipFill>
        <p:spPr>
          <a:xfrm>
            <a:off x="2309760" y="1620720"/>
            <a:ext cx="9796680" cy="4084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" descr=""/>
          <p:cNvPicPr/>
          <p:nvPr/>
        </p:nvPicPr>
        <p:blipFill>
          <a:blip r:embed="rId2"/>
          <a:stretch/>
        </p:blipFill>
        <p:spPr>
          <a:xfrm>
            <a:off x="571680" y="4651200"/>
            <a:ext cx="26668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أسس إعداد المعلم القائم على الكفايات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165240" y="1600200"/>
            <a:ext cx="1185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يمكن لأي طالب إتقان المهام المختلفة للتدريب على التدريس (الوقت الكافي-التدريب الجيد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سبب الفروق الفردية بين المعلمين الطلاب ترجع إلى أخطاء في نظام التدريب لا خصائصه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وفير إمكانات مناسبة للتعليم يلغي الاعتقاد بسرعة أو بطء التعل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أكثر العناصر أهمية في عملية التدريس والتعلم نوعية خبرات التعلم التي تتوفر للطالب المعلم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3" name="Content Placeholder 4" descr=""/>
          <p:cNvPicPr/>
          <p:nvPr/>
        </p:nvPicPr>
        <p:blipFill>
          <a:blip r:embed="rId1"/>
          <a:stretch/>
        </p:blipFill>
        <p:spPr>
          <a:xfrm>
            <a:off x="817560" y="1596960"/>
            <a:ext cx="108680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ما هي فوائد استخدام الاسس السابقة على حركة اعداد المعلمين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71440" y="1674360"/>
            <a:ext cx="10871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عايير لاعداد المواد التعليمي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حديد أدوار الطلاب المعلمين في التدريب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2349360" y="1943280"/>
            <a:ext cx="2654280" cy="2036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6642000" y="210348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95b22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w Cen MT"/>
              </a:rPr>
              <a:t>النقد الموجه لحركة إعداد المعلم القائم على الكفايات  !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أن المدرسة منظمة اجتماعية معقد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اعتماد على الكفايات كأساس للتدريب يحول المعلم إلى آلة ميكانيكية   ؟؟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50"/>
                </a:solidFill>
                <a:latin typeface="Tw Cen MT"/>
              </a:rPr>
              <a:t>الرد عليه  ؟؟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تركز على موضوعات غير اساس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لاتستند على أسس علمية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95b22"/>
                </a:solidFill>
                <a:latin typeface="Tw Cen MT"/>
              </a:rPr>
              <a:t>مجالات كفاية المعلم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17560" y="121932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Diagram 3" descr=""/>
          <p:cNvPicPr/>
          <p:nvPr/>
        </p:nvPicPr>
        <p:blipFill>
          <a:blip r:embed="rId1"/>
          <a:stretch/>
        </p:blipFill>
        <p:spPr>
          <a:xfrm>
            <a:off x="420840" y="1847880"/>
            <a:ext cx="947232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95b22"/>
                </a:solidFill>
                <a:latin typeface="Tw Cen MT"/>
              </a:rPr>
              <a:t>مجالات كفاية المعلم: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39960" y="2455920"/>
            <a:ext cx="1082016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علومات النظرية حول التعلم والسلوك الإنساني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علومات في مجال التخصص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متلاك الاتجاهات التي تسهم في إسراع التعلم واقامة العلاقات الانسانية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مكن من المهارات الخاصة بالتدريس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Content Placeholder 12" descr=""/>
          <p:cNvPicPr/>
          <p:nvPr/>
        </p:nvPicPr>
        <p:blipFill>
          <a:blip r:embed="rId1"/>
          <a:stretch/>
        </p:blipFill>
        <p:spPr>
          <a:xfrm>
            <a:off x="9802800" y="1630440"/>
            <a:ext cx="1943280" cy="13334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4"/>
          <p:cNvGrpSpPr/>
          <p:nvPr/>
        </p:nvGrpSpPr>
        <p:grpSpPr>
          <a:xfrm>
            <a:off x="5060880" y="1847880"/>
            <a:ext cx="4299120" cy="1116000"/>
            <a:chOff x="5060880" y="1847880"/>
            <a:chExt cx="4299120" cy="1116000"/>
          </a:xfrm>
        </p:grpSpPr>
        <p:sp>
          <p:nvSpPr>
            <p:cNvPr id="408" name="Rounded Rectangle 8"/>
            <p:cNvSpPr/>
            <p:nvPr/>
          </p:nvSpPr>
          <p:spPr>
            <a:xfrm>
              <a:off x="5060880" y="1847880"/>
              <a:ext cx="4299120" cy="11160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ounded Rectangle 6"/>
            <p:cNvSpPr/>
            <p:nvPr/>
          </p:nvSpPr>
          <p:spPr>
            <a:xfrm>
              <a:off x="5454360" y="1881000"/>
              <a:ext cx="3872160" cy="10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Tw Cen MT"/>
                </a:rPr>
                <a:t>1- </a:t>
              </a:r>
              <a:r>
                <a:rPr b="1" lang="ar-SA" sz="2800" spc="-1" strike="noStrike">
                  <a:solidFill>
                    <a:srgbClr val="000000"/>
                  </a:solidFill>
                  <a:latin typeface="Tw Cen MT"/>
                </a:rPr>
                <a:t>المعرفية والبحثية للتدريس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13"/>
          <p:cNvSpPr/>
          <p:nvPr/>
        </p:nvSpPr>
        <p:spPr>
          <a:xfrm>
            <a:off x="5168880" y="3352680"/>
            <a:ext cx="4318200" cy="1650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r" rtl="1">
              <a:lnSpc>
                <a:spcPct val="90000"/>
              </a:lnSpc>
              <a:spcAft>
                <a:spcPts val="1400"/>
              </a:spcAft>
              <a:buClr>
                <a:srgbClr val="ff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w Cen MT"/>
              </a:rPr>
              <a:t>في مجال تخصصه الاكادي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90000"/>
              </a:lnSpc>
              <a:spcAft>
                <a:spcPts val="1400"/>
              </a:spcAft>
              <a:buClr>
                <a:srgbClr val="ff0000"/>
              </a:buClr>
              <a:buFont typeface="Arial"/>
              <a:buChar char="•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w Cen MT"/>
              </a:rPr>
              <a:t>الفكر الترب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3819600" y="2716200"/>
            <a:ext cx="6289560" cy="3565440"/>
            <a:chOff x="3819600" y="2716200"/>
            <a:chExt cx="6289560" cy="3565440"/>
          </a:xfrm>
        </p:grpSpPr>
        <p:sp>
          <p:nvSpPr>
            <p:cNvPr id="414" name="Rounded Rectangle 4"/>
            <p:cNvSpPr/>
            <p:nvPr/>
          </p:nvSpPr>
          <p:spPr>
            <a:xfrm>
              <a:off x="3819600" y="2716200"/>
              <a:ext cx="6289560" cy="356544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19080">
              <a:solidFill>
                <a:srgbClr val="94b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ounded Rectangle 8"/>
            <p:cNvSpPr/>
            <p:nvPr/>
          </p:nvSpPr>
          <p:spPr>
            <a:xfrm>
              <a:off x="3921120" y="2820960"/>
              <a:ext cx="6086520" cy="33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400" spc="-1" strike="noStrike">
                  <a:solidFill>
                    <a:srgbClr val="00b050"/>
                  </a:solidFill>
                  <a:latin typeface="Tw Cen MT"/>
                </a:rPr>
                <a:t>1</a:t>
              </a:r>
              <a:r>
                <a:rPr b="1" lang="ar-SA" sz="2400" spc="-1" strike="noStrike">
                  <a:solidFill>
                    <a:srgbClr val="00b050"/>
                  </a:solidFill>
                  <a:latin typeface="Tw Cen MT"/>
                </a:rPr>
                <a:t>- مهارات التفاعل الصفي  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لتهيئة والاثارة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ستخدام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مراحل استخدام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قواعد طرح الأسئ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استخدام المواد و الأجهزة التعليمية </a:t>
              </a: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أمثلة ؟ وفوائد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حيوية المعلم </a:t>
              </a:r>
              <a:r>
                <a:rPr b="1" lang="ar-SA" sz="2000" spc="-1" strike="noStrike">
                  <a:solidFill>
                    <a:srgbClr val="ff0000"/>
                  </a:solidFill>
                  <a:latin typeface="Tw Cen MT"/>
                </a:rPr>
                <a:t>؟أمثلة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buClr>
                  <a:srgbClr val="000000"/>
                </a:buClr>
                <a:buFont typeface="Arial"/>
                <a:buChar char="•"/>
                <a:tabLst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إنهاء الدر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6540480" y="1785960"/>
            <a:ext cx="3263760" cy="647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w Cen MT"/>
              </a:rPr>
              <a:t>التدريسية الأدائي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ات المطلوبة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2</a:t>
            </a: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-مهارات إدارة الصف 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الإنتباه للأحداث الجارية (ضبط النظام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 معاملة الطلاب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3</a:t>
            </a: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- مهارات التقويم 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ar-SA" sz="3200" spc="-1" strike="noStrike">
                <a:solidFill>
                  <a:srgbClr val="00b050"/>
                </a:solidFill>
                <a:latin typeface="Tw Cen MT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w Cen MT"/>
              </a:rPr>
              <a:t>تخطيط – تنفيذ – تنظيم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85440" y="317160"/>
            <a:ext cx="10820520" cy="59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b95b22"/>
                </a:solidFill>
                <a:uFillTx/>
                <a:latin typeface="Tw Cen MT"/>
              </a:rPr>
              <a:t>الأهداف 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1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فهوم الكفاية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2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التربية القائمة على الكفايات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3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بادئ فكرة إعداد المعلم القائم على الكفايات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4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الكفاية التدريسية الأدائ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5</a:t>
            </a: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.مجالات كفاية المعلم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9474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 الفصل الراب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أهمية معرفة معايير إعداد المعلم الناجح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انضمام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تشجيع الأفراد دخول مجال التدريس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تحديد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أكيد على أن الأفراد اللذين يسمح لهم بممارسة مهنة التدريس لهم مؤهلات محددة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جودة الأداء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طبيعة الاعداد الذي يتلقاه من يلتحق بمهنة التدريس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buClr>
                <a:srgbClr val="94b6d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a5ab81"/>
                </a:solidFill>
                <a:latin typeface="Tw Cen MT"/>
              </a:rPr>
              <a:t>الشرعية: </a:t>
            </a:r>
            <a:r>
              <a:rPr b="0" lang="ar-SA" sz="3200" spc="-1" strike="noStrike">
                <a:solidFill>
                  <a:srgbClr val="000000"/>
                </a:solidFill>
                <a:latin typeface="Tw Cen MT"/>
              </a:rPr>
              <a:t>التأكيد على أن المعلم كفء ومدرب ويمكن الاعتماد علي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Picture 5" descr=""/>
          <p:cNvPicPr/>
          <p:nvPr/>
        </p:nvPicPr>
        <p:blipFill>
          <a:blip r:embed="rId1"/>
          <a:stretch/>
        </p:blipFill>
        <p:spPr>
          <a:xfrm>
            <a:off x="4000680" y="5465880"/>
            <a:ext cx="44989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جب أن يكون المعلم على وعي بالمفاهيم وأدوات الاستقصاء ويستطيع توفير خبرات تعلم تجعل المادة ذات معنى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جب أن يكون المعلم على معرفة بكيفية تعلم الطلاب ويوفر لهم فرص تعلم تدعم نموهم العقلي والاجتماع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علم على معرفة باختلاف مداخل التعلم لدى طلابه ويوفر لهم مناخا يناسب الاختلاف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يستخدم المعلم استراتيجيات تدريسية تنمي التفكير الناقد وحل المشكلات ومهارات الأداء لدى الطلاب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434160" indent="-43416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معلم متفهم لكيفية اثارة دافعية الطلاب ليوفر بيئة تشجع التفاعل الاجتماعي الايجاب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6" name="Picture 1" descr=""/>
          <p:cNvPicPr/>
          <p:nvPr/>
        </p:nvPicPr>
        <p:blipFill>
          <a:blip r:embed="rId1"/>
          <a:stretch/>
        </p:blipFill>
        <p:spPr>
          <a:xfrm>
            <a:off x="0" y="4978440"/>
            <a:ext cx="1577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ستخدم المعلم معرفته بالاتصال اللفظي وغير اللفظي لينمي الاستقصاء النشط والعمل الجماعي والتفاعل داخل الصف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خطط للدرس معتمدا على المعرفة المتضمنه بالمادة والمتعلمين والمجتمع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8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عرف استراتيجيات التقييم الرسمة وغير الرسمية ويوظفها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9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 يتأمل المعلم اختياراته ويقومها ويسعى دائما الى النمو المهني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10</a:t>
            </a: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)يحرص على اقامة علاقات جيدة مع الزملاء داخل المدرسة والأباء والهيئات داخل المجتمع بهدف دعم تعلم الطلاب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a5ab81"/>
                </a:solidFill>
                <a:latin typeface="Tw Cen MT"/>
              </a:rPr>
              <a:t>معايير اعداد المعلم الناجح وجودة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9" name="Picture 5" descr=""/>
          <p:cNvPicPr/>
          <p:nvPr/>
        </p:nvPicPr>
        <p:blipFill>
          <a:blip r:embed="rId1"/>
          <a:stretch/>
        </p:blipFill>
        <p:spPr>
          <a:xfrm>
            <a:off x="228600" y="4997520"/>
            <a:ext cx="18604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6" name="Content Placeholder 3" descr=""/>
          <p:cNvPicPr/>
          <p:nvPr/>
        </p:nvPicPr>
        <p:blipFill>
          <a:blip r:embed="rId1"/>
          <a:stretch/>
        </p:blipFill>
        <p:spPr>
          <a:xfrm>
            <a:off x="5257800" y="2577960"/>
            <a:ext cx="1990800" cy="32418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2"/>
          <a:stretch/>
        </p:blipFill>
        <p:spPr>
          <a:xfrm>
            <a:off x="8445600" y="1714680"/>
            <a:ext cx="1879560" cy="135864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1957320" y="996840"/>
            <a:ext cx="1752840" cy="1231920"/>
          </a:xfrm>
          <a:prstGeom prst="ellipse">
            <a:avLst/>
          </a:prstGeom>
          <a:solidFill>
            <a:srgbClr val="dd8047"/>
          </a:solidFill>
          <a:ln w="19080">
            <a:solidFill>
              <a:srgbClr val="a25c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أثناء الدرا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8356680" y="1098720"/>
            <a:ext cx="1752480" cy="1231560"/>
          </a:xfrm>
          <a:prstGeom prst="ellipse">
            <a:avLst/>
          </a:prstGeom>
          <a:solidFill>
            <a:srgbClr val="968c8c"/>
          </a:solidFill>
          <a:ln w="19080">
            <a:solidFill>
              <a:srgbClr val="6d65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بعد التخر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5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831 0.1463 L -0.37331 0.1463 C -0.36172 0.1463 -0.34857 0.13241 -0.33672 0.13033 C -0.32786 0.13033 -0.31185 0.14329 -0.30443 0.14329 C -0.29427 0.14329 -0.28398 0.13936 -0.26484 0.13936 L -0.25169 -0.01574 L -0.23698 0.1713 L -0.2194 0.1463 L -0.20469 0.13936 L -0.16953 0.14537 C -0.15338 0.14237 -0.14023 0.1294 -0.12409 0.12431 C -0.11823 0.12338 -0.10508 0.12223 -0.09622 0.12431 C -0.0875 0.12639 -0.08008 0.14028 -0.07721 0.14121 C -0.07278 0.14537 -0.0625 0.14121 -0.05677 0.14329 L -0.04778 0.1463 L -0.03164 0.1463 E">
                                      <p:cBhvr>
                                        <p:cTn id="6" dur="2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1" name="Content Placeholder 4" descr=""/>
          <p:cNvPicPr/>
          <p:nvPr/>
        </p:nvPicPr>
        <p:blipFill>
          <a:blip r:embed="rId1"/>
          <a:stretch/>
        </p:blipFill>
        <p:spPr>
          <a:xfrm>
            <a:off x="500040" y="34290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362" name="Rounded Rectangle 4"/>
          <p:cNvSpPr/>
          <p:nvPr/>
        </p:nvSpPr>
        <p:spPr>
          <a:xfrm>
            <a:off x="3568680" y="2070000"/>
            <a:ext cx="6527880" cy="1841760"/>
          </a:xfrm>
          <a:prstGeom prst="roundRect">
            <a:avLst>
              <a:gd name="adj" fmla="val 1666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أنا يارا طالبة في كلية التربية وأريد أن أكون معلمه مؤثرة ومتمكنة وقرأت مصطلح الكفاية التدريسية ولم اعرف معنى هذا المصطلح ساعدوني ؟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740200" y="0"/>
            <a:ext cx="623556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bfd3e4"/>
                </a:solidFill>
                <a:latin typeface="Tw Cen MT"/>
              </a:rPr>
              <a:t>مفهوم الكفاية</a:t>
            </a:r>
            <a:r>
              <a:rPr b="0" lang="ar-SA" sz="5400" spc="-1" strike="noStrike">
                <a:solidFill>
                  <a:srgbClr val="775f55"/>
                </a:solidFill>
                <a:latin typeface="Tw Cen MT"/>
              </a:rPr>
              <a:t>  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مربع نص 5"/>
          <p:cNvSpPr/>
          <p:nvPr/>
        </p:nvSpPr>
        <p:spPr>
          <a:xfrm>
            <a:off x="5156280" y="2451240"/>
            <a:ext cx="67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معرفة المادة العلمية أو اكتساب المهارات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كما تعني قدرة الفرد على ترجمة ما تعلمه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في مواقف حياتيه فعلية بعد انتهاء الدراسة</a:t>
            </a:r>
            <a:r>
              <a:rPr b="0" lang="ar-SA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شكل بيضاوي 7"/>
          <p:cNvSpPr/>
          <p:nvPr/>
        </p:nvSpPr>
        <p:spPr>
          <a:xfrm>
            <a:off x="2755800" y="3886200"/>
            <a:ext cx="8051760" cy="205740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w Cen MT"/>
              </a:rPr>
              <a:t>الكفاية التعليمية الأدائية :  هي المقدرة على شيء، وعمله بكفاءة  وفعالية ، وبمستوى معين  من الأد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كفاية في مجال التدريس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Content Placeholder 3" descr=""/>
          <p:cNvPicPr/>
          <p:nvPr/>
        </p:nvPicPr>
        <p:blipFill>
          <a:blip r:embed="rId1"/>
          <a:stretch/>
        </p:blipFill>
        <p:spPr>
          <a:xfrm>
            <a:off x="798480" y="1603440"/>
            <a:ext cx="10917360" cy="449244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8707320" y="2930400"/>
            <a:ext cx="3200400" cy="179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2"/>
          <a:stretch/>
        </p:blipFill>
        <p:spPr>
          <a:xfrm>
            <a:off x="8985240" y="2584440"/>
            <a:ext cx="2286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أثر مفهوم الكفاية على إعداد المعلم ؟؟</a:t>
            </a:r>
            <a:br>
              <a:rPr sz="4000"/>
            </a:b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نظرة تاريخية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c00000"/>
                </a:solidFill>
                <a:latin typeface="Tw Cen MT"/>
              </a:rPr>
              <a:t>برأيك ما هو سبب ادخال مفهوم الكفاية على مجال التربية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b050"/>
                </a:solidFill>
                <a:latin typeface="Tw Cen MT"/>
              </a:rPr>
              <a:t>تحسين  البرامج التعليمية لكافة المستويات في المؤسسات التربوية بصفة عام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 u="sng">
                <a:solidFill>
                  <a:srgbClr val="c00000"/>
                </a:solidFill>
                <a:uFillTx/>
                <a:latin typeface="Tw Cen MT"/>
              </a:rPr>
              <a:t>عوامل ظهور حركة التربية القائمة على الكفايات 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إنتقادات التي وجهت من قبل المجتمع الأمريكي الى المدرس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تركيز على الكيف في التربية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إتفاق مبادئها مع الكثير من أفكار البحوث الحديثة في التربية ونتائجها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752400" y="2610000"/>
            <a:ext cx="21430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خصائص المتفق عليها من المؤسسات المسؤولة عن إعداد المعلم 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4913280" y="2216160"/>
            <a:ext cx="6923160" cy="9237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أكيد على تحديد نتائج التعليم في صورة أهداف سلوكية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4937040" y="3271680"/>
            <a:ext cx="6923160" cy="924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أكيد الشديد على توفير الخبرات الميدان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925880" y="4313160"/>
            <a:ext cx="6923160" cy="924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ستخدام مصادر و موارد التعلم المتنوعة بمؤسسات الأعد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911840" y="5481720"/>
            <a:ext cx="6922800" cy="9237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لتركيز على تقويم الطلاب المعلمين أثناء التدريب وبعد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3745080" y="5459400"/>
            <a:ext cx="995040" cy="1039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3459240" y="4413240"/>
            <a:ext cx="1280880" cy="824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rcRect l="15150" t="0" r="0" b="0"/>
          <a:stretch/>
        </p:blipFill>
        <p:spPr>
          <a:xfrm>
            <a:off x="3772080" y="3271680"/>
            <a:ext cx="969840" cy="10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4"/>
          <a:stretch/>
        </p:blipFill>
        <p:spPr>
          <a:xfrm>
            <a:off x="3679920" y="2300400"/>
            <a:ext cx="10602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17560" y="228600"/>
            <a:ext cx="10871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Tw Cen MT"/>
              </a:rPr>
              <a:t>ما لمقصود بإعداد المعلم القائم على الكفايات  ؟؟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17560" y="1600200"/>
            <a:ext cx="10871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برنامج إعداد المعلم المؤسس على الفلسفة التربوية التي تحدد كفايات المعلم ، وفي ذلك  التحديد فإنها تقدم الطالب المعلم إلى خبرات لإتقان تلك الكفايات ، وتقوم بالتعرف على تقدمه من خلال أدائه لها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نح شهادة التخرج للعمل بالتدريس للأكفاء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12:30:31Z</dcterms:created>
  <dc:creator>sony laptop</dc:creator>
  <dc:description/>
  <dc:language>en-US</dc:language>
  <cp:lastModifiedBy>RoRo</cp:lastModifiedBy>
  <dcterms:modified xsi:type="dcterms:W3CDTF">2014-02-23T19:13:31Z</dcterms:modified>
  <cp:revision>56</cp:revision>
  <dc:subject/>
  <dc:title>المعلم الناجح والتدريس الفعال</dc:title>
</cp:coreProperties>
</file>