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5A7-82CB-4CB0-A328-D1215728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73A-7EF9-4226-A9A6-230557E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303-7BC2-4734-83FA-F368A2E3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836-BEB3-4108-B30D-5BA1935D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DBE6-6B47-4516-A330-D59251E7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5049-CC4C-4B9C-B9FF-47483051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2611-4F5F-4839-B113-355B50D5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28B8-D585-4C0B-BD4D-DFA6C189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4112-13E8-4212-A174-FBBB677C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88C0-A6BE-4BCA-B778-795FF996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2C6B-712F-4C0C-9407-EBAAD3D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286-81EE-497C-B24D-311F1310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1394-53BE-43F8-9B9A-A77E938E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5494-2717-431E-9FB5-1F5C0111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5CED-8353-41A5-939A-183B56BC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46E8-E439-4CE7-9F6D-5A012F12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9344-C0EE-409B-A21C-262CD858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5606-1437-4AAE-8004-D8C7C0BE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F75E-B63A-4211-B8C8-BDF3D517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BEE1-57DE-4EBD-BDDA-3450DECF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2CAB-45E7-45BF-A6F3-03F3DCEB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4ADC-5B6C-4D65-81B1-A8297F93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B2A-83A9-4211-A7AC-4C2A829E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55FD-ABF7-4BBD-8644-2AAA69D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5841-234C-42C4-AD6D-9272531F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8FFF-2F82-47A3-8AD3-624FAC79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6F6C-8978-4111-9E4D-A427CB6F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ED9F-A9FA-43A6-90A0-0A5D3AB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D8D2-0D50-4901-90D9-FD5C1D6A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2A0B-6DCB-43E8-A062-1846086C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1E1C-C88F-4DAE-AF83-21928650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B090-06B2-401A-B82E-9E7DDC13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A765-E548-4B16-8F18-0DB92472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340-8001-43C4-9147-3FF563C8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9F00D-983F-44B7-8427-9D742DB8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18AD4-FF2E-40DA-A1F6-ACFA1D8E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788D2-58D6-4D63-B84B-3B14FBD3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FE5DE-F603-4532-91BA-CE36BA6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8DAB-3D6B-4AFB-AACC-0E714A2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78B8C-DCA0-4A42-AE90-AF93DCC1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5544D-1805-48C2-92CC-7BC9E9FE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6C4C-DC38-4F78-810E-E26630F2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FA08-F4AD-4E61-941A-4E7672E5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65F-E1CD-404B-85D4-8A7DABA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D09-27CE-4B59-B54C-3E8CDEFF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3D0-B30E-49E1-B600-7EFA8778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826-2F4D-4622-9147-FED9D0C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5C1-092C-41AE-BF63-DDC8F057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9EBB-DD3E-4C61-A922-A1477471AB7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2340-FB25-41C9-8935-86A17F8382B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BAB7-8303-4560-924C-3DBF25038F6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367B-8C57-400B-A1D1-B2FB0A8E1A1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1042920" y="620640"/>
            <a:ext cx="68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Arial"/>
                <a:cs typeface="DecoType Naskh Swashes"/>
              </a:rPr>
              <a:t>بسم الله الرحمن الرحي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4427640" y="33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3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-القدرات اللغو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47640" y="1197000"/>
          <a:ext cx="6840720" cy="3338640"/>
        </p:xfrm>
        <a:graphic>
          <a:graphicData uri="http://schemas.openxmlformats.org/drawingml/2006/table">
            <a:tbl>
              <a:tblPr/>
              <a:tblGrid>
                <a:gridCol w="1208160"/>
                <a:gridCol w="1016280"/>
                <a:gridCol w="1015920"/>
                <a:gridCol w="1015920"/>
                <a:gridCol w="1015920"/>
                <a:gridCol w="156852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د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طق والكل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ة الاستقب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ة التعبي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1" name="Text Box 43"/>
          <p:cNvSpPr/>
          <p:nvPr/>
        </p:nvSpPr>
        <p:spPr>
          <a:xfrm>
            <a:off x="1692360" y="4869000"/>
            <a:ext cx="6624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قد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3348000" y="26028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ahoma"/>
                <a:ea typeface="Tahoma"/>
              </a:rPr>
              <a:t>4</a:t>
            </a:r>
            <a:r>
              <a:rPr b="1" lang="ar-SA" sz="2400" spc="-1" strike="noStrike">
                <a:solidFill>
                  <a:srgbClr val="cc0000"/>
                </a:solidFill>
                <a:latin typeface="Tahoma"/>
                <a:ea typeface="Tahoma"/>
              </a:rPr>
              <a:t>- القدرات الجسمية والحرك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47640" y="1052640"/>
          <a:ext cx="6624720" cy="38066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544400"/>
              </a:tblGrid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درات الجس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الحرك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ستخدام العضلات الصغي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ستخدام العضل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بي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ناسق الحر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آزر الحركي البص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4" name="Text Box 71"/>
          <p:cNvSpPr/>
          <p:nvPr/>
        </p:nvSpPr>
        <p:spPr>
          <a:xfrm>
            <a:off x="1619280" y="5157720"/>
            <a:ext cx="6624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قد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2916360" y="404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5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-مهارات السلوك التكيف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47640" y="1052640"/>
          <a:ext cx="6624720" cy="37656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544400"/>
              </a:tblGrid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هارات السلوك التكيف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ناية بالنف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قلا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شخص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لاقة مع الأق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تصال مع الآخ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" name="Text Box 56"/>
          <p:cNvSpPr/>
          <p:nvPr/>
        </p:nvSpPr>
        <p:spPr>
          <a:xfrm>
            <a:off x="1258920" y="5157720"/>
            <a:ext cx="6985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مها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635280" y="40464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6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- مهارات الحياة اليوم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619280" y="1125360"/>
          <a:ext cx="6624720" cy="30816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544760"/>
              </a:tblGrid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هارات الحياة اليو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فة الشخص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كل والشر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ب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0" name="Text Box 53"/>
          <p:cNvSpPr/>
          <p:nvPr/>
        </p:nvSpPr>
        <p:spPr>
          <a:xfrm>
            <a:off x="1258920" y="5157720"/>
            <a:ext cx="6985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مها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2"/>
          <p:cNvSpPr/>
          <p:nvPr/>
        </p:nvSpPr>
        <p:spPr>
          <a:xfrm>
            <a:off x="3708360" y="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7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- المهارات الأكاديمية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03280" y="692280"/>
          <a:ext cx="7056360" cy="496224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  <a:gridCol w="1116000"/>
                <a:gridCol w="1116000"/>
                <a:gridCol w="1116000"/>
                <a:gridCol w="147636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ها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كادي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اء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تا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يا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ر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إسلا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جتماع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هارات التواص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3" name="Text Box 142"/>
          <p:cNvSpPr/>
          <p:nvPr/>
        </p:nvSpPr>
        <p:spPr>
          <a:xfrm>
            <a:off x="1403280" y="5734080"/>
            <a:ext cx="727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مهارات أخرى: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340000" y="1125360"/>
          <a:ext cx="4876920" cy="3678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598760"/>
                <a:gridCol w="839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ؤه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خص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سلس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5" name="Text Box 108"/>
          <p:cNvSpPr/>
          <p:nvPr/>
        </p:nvSpPr>
        <p:spPr>
          <a:xfrm>
            <a:off x="611280" y="4941720"/>
            <a:ext cx="741528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e2d700"/>
                </a:solidFill>
                <a:latin typeface="Arial"/>
              </a:rPr>
              <a:t>-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تاريخ بداية الخطة التربوية الفردية :     /     /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الفصل الدراسي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2d7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اريخ المتوقع لإنهاء الخطة التربوية الفردية:      /     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e2d700"/>
                </a:solidFill>
                <a:latin typeface="Arial"/>
              </a:rPr>
              <a:t>-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مكان تنفيذ الخطة التربوية الفردية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7"/>
          <p:cNvSpPr/>
          <p:nvPr/>
        </p:nvSpPr>
        <p:spPr>
          <a:xfrm>
            <a:off x="2627280" y="54936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Arial"/>
              </a:rPr>
              <a:t>أعضاء فريق الخطة الترب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3635280" y="620640"/>
            <a:ext cx="36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Arial"/>
              </a:rPr>
              <a:t>موقع الطالبة في الفص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987640" y="3500280"/>
            <a:ext cx="108108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2987640" y="4581360"/>
            <a:ext cx="1081080" cy="649440"/>
          </a:xfrm>
          <a:prstGeom prst="rect">
            <a:avLst/>
          </a:prstGeom>
          <a:blipFill rotWithShape="0">
            <a:blip r:embed="rId1">
              <a:alphaModFix amt="4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 rot="20601600">
            <a:off x="4500720" y="4365360"/>
            <a:ext cx="1079280" cy="64908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 rot="1032600">
            <a:off x="1258920" y="4292640"/>
            <a:ext cx="1079640" cy="649080"/>
          </a:xfrm>
          <a:prstGeom prst="rect">
            <a:avLst/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 rot="20047200">
            <a:off x="4500720" y="3284640"/>
            <a:ext cx="1079280" cy="649080"/>
          </a:xfrm>
          <a:prstGeom prst="rect">
            <a:avLst/>
          </a:prstGeom>
          <a:solidFill>
            <a:srgbClr val="ffff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 rot="1189800">
            <a:off x="1476360" y="3357720"/>
            <a:ext cx="1079640" cy="649080"/>
          </a:xfrm>
          <a:prstGeom prst="rect">
            <a:avLst/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2268360" y="2349360"/>
            <a:ext cx="2303640" cy="503280"/>
          </a:xfrm>
          <a:prstGeom prst="rect">
            <a:avLst/>
          </a:prstGeom>
          <a:solidFill>
            <a:srgbClr val="dbf5f9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411280" y="23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سب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755640" y="1557360"/>
            <a:ext cx="5184720" cy="403236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6443640" y="285264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أ- قبل تنفيذ الخطة الفر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3132000" y="47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ال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2987640" y="3213000"/>
            <a:ext cx="1081080" cy="720720"/>
          </a:xfrm>
          <a:prstGeom prst="rect">
            <a:avLst/>
          </a:prstGeom>
          <a:blipFill rotWithShape="0">
            <a:blip r:embed="rId1">
              <a:alphaModFix amt="9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987640" y="4581360"/>
            <a:ext cx="1081080" cy="649440"/>
          </a:xfrm>
          <a:prstGeom prst="rect">
            <a:avLst/>
          </a:prstGeom>
          <a:solidFill>
            <a:srgbClr val="ffff99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 rot="20601600">
            <a:off x="4500720" y="4365360"/>
            <a:ext cx="1079280" cy="649080"/>
          </a:xfrm>
          <a:prstGeom prst="rect">
            <a:avLst/>
          </a:prstGeom>
          <a:solidFill>
            <a:srgbClr val="ffffcc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 rot="1032600">
            <a:off x="1258920" y="4292640"/>
            <a:ext cx="1079640" cy="649080"/>
          </a:xfrm>
          <a:prstGeom prst="rect">
            <a:avLst/>
          </a:prstGeom>
          <a:solidFill>
            <a:srgbClr val="ffff99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 rot="20047200">
            <a:off x="4427640" y="3284640"/>
            <a:ext cx="1079280" cy="64908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 rot="1189800">
            <a:off x="1476360" y="3213000"/>
            <a:ext cx="1079640" cy="649440"/>
          </a:xfrm>
          <a:prstGeom prst="rect">
            <a:avLst/>
          </a:prstGeom>
          <a:solidFill>
            <a:srgbClr val="ffff99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2268360" y="2349360"/>
            <a:ext cx="2303640" cy="503280"/>
          </a:xfrm>
          <a:prstGeom prst="rect">
            <a:avLst/>
          </a:prstGeom>
          <a:solidFill>
            <a:srgbClr val="dbf5f9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2411280" y="23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سب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900000" y="1484280"/>
            <a:ext cx="5184720" cy="403236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443640" y="242100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ب – أثناء تنفيذ الخطة الفر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3132000" y="335772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طالب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6"/>
          <p:cNvSpPr/>
          <p:nvPr/>
        </p:nvSpPr>
        <p:spPr>
          <a:xfrm>
            <a:off x="900000" y="1268280"/>
            <a:ext cx="73440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في حالة تغيير أوعدم تغيير موقع الطالبة  ماهي المبررات التربوية لذلك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684360" y="404640"/>
            <a:ext cx="7991280" cy="69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Arial"/>
              </a:rPr>
              <a:t>نموذج الاختبار القبلي  لمهارة الج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أو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ثان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+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ــــــــــــ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                      السؤال الثال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: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+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ــــــــــــ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987640" y="907920"/>
            <a:ext cx="3888000" cy="45972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900000" y="692280"/>
            <a:ext cx="2303640" cy="1152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f5f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1116000" y="981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يصحح  كل السؤال  من  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در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324000" y="577800"/>
            <a:ext cx="82087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3300"/>
                </a:solidFill>
                <a:latin typeface="Arial"/>
              </a:rPr>
              <a:t>جمع البيانات الأ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c0000"/>
                </a:solidFill>
                <a:uFillTx/>
                <a:latin typeface="Arial"/>
              </a:rPr>
              <a:t>أ/بيانات عن الطالبة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سم الطالبة...................الجنسية............معهد/مدرسة دمج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اريخ الميلاد:    /    /     مكان الميلاد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درجة الذكاء.............. تاريخ اختبار الذكاء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درجة السمع: في الأذن اليمنى............. في الأذن اليسرى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اريخ اختبار السمع:      /    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تشخيص: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إعاقات أخرى: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c0000"/>
                </a:solidFill>
                <a:uFillTx/>
                <a:latin typeface="Arial"/>
              </a:rPr>
              <a:t>ب/بيانات عن ولي أمر الطالبة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اسم...................... الجنسية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وظيفة....................رقم الحفيظة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نوان العمل:................... الهاتف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نوان المنزل................... الهاتف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971640" y="333360"/>
            <a:ext cx="748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راب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ــــــــــــ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                السؤال الخامس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+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ـــــــــــــــــــــ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771640" y="472428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979640" y="692280"/>
          <a:ext cx="5040360" cy="4144680"/>
        </p:xfrm>
        <a:graphic>
          <a:graphicData uri="http://schemas.openxmlformats.org/drawingml/2006/table">
            <a:tbl>
              <a:tblPr/>
              <a:tblGrid>
                <a:gridCol w="1679400"/>
                <a:gridCol w="1681200"/>
                <a:gridCol w="16797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جة كتا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جة رقم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ؤ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ل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اب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خام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8" name="Rectangle 50"/>
          <p:cNvSpPr/>
          <p:nvPr/>
        </p:nvSpPr>
        <p:spPr>
          <a:xfrm>
            <a:off x="4788000" y="5877000"/>
            <a:ext cx="1368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1"/>
          <p:cNvSpPr/>
          <p:nvPr/>
        </p:nvSpPr>
        <p:spPr>
          <a:xfrm>
            <a:off x="4788000" y="616572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3"/>
          <p:cNvSpPr/>
          <p:nvPr/>
        </p:nvSpPr>
        <p:spPr>
          <a:xfrm>
            <a:off x="514836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3492360" y="59500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1979640" y="549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نموذج الاختبار القبلي للنط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348000" y="1413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أو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انطقي الحروف من (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أ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 إلى   (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ص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195640" y="1989000"/>
          <a:ext cx="609588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طريقة النط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ر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195640" y="476280"/>
          <a:ext cx="6095880" cy="46450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050920" y="5445000"/>
          <a:ext cx="1152720" cy="103680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2987640" y="404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الثان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انطقي الحروف من (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ض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 إلى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(   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050920" y="1125360"/>
          <a:ext cx="6096240" cy="4645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طريقة النط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ر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692360" y="1052640"/>
          <a:ext cx="6095880" cy="3627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ه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332000" y="5157720"/>
          <a:ext cx="1079280" cy="103680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176364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 الثال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: انطقي الحروف من (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أ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 إلى   (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ص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ar-SA" sz="1800" spc="-1" strike="noStrike">
                <a:solidFill>
                  <a:srgbClr val="009900"/>
                </a:solidFill>
                <a:latin typeface="Arial"/>
              </a:rPr>
              <a:t>في  المقاطع الصوت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050920" y="765000"/>
          <a:ext cx="6096240" cy="4664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 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أ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 ِ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 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Text Box 48"/>
          <p:cNvSpPr/>
          <p:nvPr/>
        </p:nvSpPr>
        <p:spPr>
          <a:xfrm>
            <a:off x="1547640" y="5589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  إلى نهاية حرف (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68360" y="5589720"/>
          <a:ext cx="1079280" cy="10364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76364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  الرابع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نطقي الحروف من (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ض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 إلى   (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ar-SA" sz="1800" spc="-1" strike="noStrike">
                <a:solidFill>
                  <a:srgbClr val="009900"/>
                </a:solidFill>
                <a:latin typeface="Arial"/>
              </a:rPr>
              <a:t>في  المقاطع الصوت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050920" y="765000"/>
          <a:ext cx="6096240" cy="4664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 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ض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ط ِ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ظ 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ظ 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ظ 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5"/>
          <p:cNvSpPr/>
          <p:nvPr/>
        </p:nvSpPr>
        <p:spPr>
          <a:xfrm>
            <a:off x="1908000" y="55897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  إلى نهاية حرف ( 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68360" y="5589720"/>
          <a:ext cx="1079280" cy="10364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5"/>
          <p:cNvSpPr/>
          <p:nvPr/>
        </p:nvSpPr>
        <p:spPr>
          <a:xfrm>
            <a:off x="1763640" y="189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سؤال  الخام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: انطقي الكلمات التالية المشتملة على جميع الحروف  من(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أ    ـ   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63640" y="765000"/>
          <a:ext cx="6624720" cy="5115240"/>
        </p:xfrm>
        <a:graphic>
          <a:graphicData uri="http://schemas.openxmlformats.org/drawingml/2006/table">
            <a:tbl>
              <a:tblPr/>
              <a:tblGrid>
                <a:gridCol w="2298600"/>
                <a:gridCol w="2076480"/>
                <a:gridCol w="2249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طريقة النط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ر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أ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ن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ط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ت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ا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ث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ب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ج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ح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خ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و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د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ذ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68360" y="5589720"/>
          <a:ext cx="1079280" cy="10364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67"/>
          <p:cNvSpPr/>
          <p:nvPr/>
        </p:nvSpPr>
        <p:spPr>
          <a:xfrm>
            <a:off x="2987640" y="6093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لى كلمة يد مثلا ً المشتملة على حرف الي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979640" y="692280"/>
          <a:ext cx="5040360" cy="4144680"/>
        </p:xfrm>
        <a:graphic>
          <a:graphicData uri="http://schemas.openxmlformats.org/drawingml/2006/table">
            <a:tbl>
              <a:tblPr/>
              <a:tblGrid>
                <a:gridCol w="1679400"/>
                <a:gridCol w="1681200"/>
                <a:gridCol w="16797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جة كتا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جة رقم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ؤ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ل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اب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خام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84" name="Rectangle 41"/>
          <p:cNvSpPr/>
          <p:nvPr/>
        </p:nvSpPr>
        <p:spPr>
          <a:xfrm>
            <a:off x="4788000" y="5877000"/>
            <a:ext cx="1368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2"/>
          <p:cNvSpPr/>
          <p:nvPr/>
        </p:nvSpPr>
        <p:spPr>
          <a:xfrm>
            <a:off x="4788000" y="616572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3"/>
          <p:cNvSpPr/>
          <p:nvPr/>
        </p:nvSpPr>
        <p:spPr>
          <a:xfrm>
            <a:off x="514836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3492360" y="59500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6"/>
          <p:cNvSpPr/>
          <p:nvPr/>
        </p:nvSpPr>
        <p:spPr>
          <a:xfrm>
            <a:off x="1042920" y="765000"/>
            <a:ext cx="734400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  <a:cs typeface="Tahoma"/>
              </a:rPr>
              <a:t>جـ/بيانات اجتماعية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 عدد أفراد الأسرة (    ) عدد الذكور (    )     عدد الإناث 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 ترتيب الطالبة في الأسرة 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ل الأب على قيد الحياة  (          )   مستوى تعليم الأب .............وظيفته..............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هل الأم على قيد الحياة    (         )    مستوى تعليم الأم ..............وظيفتها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ع من تسكن الطالبة: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نوع السكن: (فيلا, شقة)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(ايجار – ملك)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  <a:cs typeface="Tahoma"/>
              </a:rPr>
              <a:t>د</a:t>
            </a: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  <a:ea typeface="Tahoma"/>
              </a:rPr>
              <a:t>/ بيانات صح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طالبة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أب 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أم 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إخوة والأخوات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692280"/>
            <a:ext cx="9144000" cy="64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    - وصف مستوى أداء الطالبة بعد الاختبار القب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539640" y="1125360"/>
            <a:ext cx="7848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نقاط القوة والضع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لتعرف على نقاط القوة والضعف من خلال الاختبارات والمقاييس التي تم تطبيقها على الطالبة بالإضافة إلى ما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لاحظة الطالبة داخل الفصل وخارج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اختبارات الأكاديمية التي طبقت على الطا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استبيانات التي تمت تعبئتها من قبل ولي أمر الطا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رجوع إلى المعلومات السابقة في المل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468360" y="836640"/>
          <a:ext cx="8136000" cy="4464000"/>
        </p:xfrm>
        <a:graphic>
          <a:graphicData uri="http://schemas.openxmlformats.org/drawingml/2006/table">
            <a:tbl>
              <a:tblPr/>
              <a:tblGrid>
                <a:gridCol w="6624720"/>
                <a:gridCol w="15112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قاط القوة لدى الطال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سلس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39640" y="836640"/>
          <a:ext cx="8136000" cy="4464000"/>
        </p:xfrm>
        <a:graphic>
          <a:graphicData uri="http://schemas.openxmlformats.org/drawingml/2006/table">
            <a:tbl>
              <a:tblPr/>
              <a:tblGrid>
                <a:gridCol w="6624720"/>
                <a:gridCol w="15112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قاط الضعف لدى الطال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سلس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324000" y="0"/>
            <a:ext cx="8820000" cy="10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Arial"/>
              </a:rPr>
              <a:t>الهدف العام للخطة(الهدف طويل المدى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أن تنطق الطالبة حرف الثاء بشكل متكر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 بنسبة نجاح (</a:t>
            </a: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لمدة لاتتجاوز </a:t>
            </a: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أسابيع بمعدل جلسة إلى جلستين في الأسبو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الأهداف الخاصة ( الأهداف القصيرة المدى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(ث) مجردا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5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 في جلسة واحدة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( ث) في مقاطع الصوت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89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(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ث ) في بداية الكلمة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3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( ث ) في وسط الكلمة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3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ث ) في آخر الكلمة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2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نطق الطالبة حرف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( ث ) بشكل متكرر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دما يطلب منها ذلك بنسبة نجاح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تي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324000" y="0"/>
            <a:ext cx="8820000" cy="81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Arial"/>
              </a:rPr>
              <a:t>الهدف العام للخطة(الهدف طويل المدى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أن تجمع الطالبة عدد مكون من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منزلتين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مع عدد مكون من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منزلتين بالح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بنسبة نجاح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%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   لمدة لاتتجاوز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أسابيع بمعدل جلسة إلى جلستين في الأسبوع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الأهداف الخاصة ( الأهداف القصيرة المدى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2000" spc="-1" strike="noStrike">
                <a:solidFill>
                  <a:srgbClr val="009900"/>
                </a:solidFill>
                <a:latin typeface="Arial"/>
              </a:rPr>
              <a:t>منزلة واحدة</a:t>
            </a:r>
            <a:r>
              <a:rPr b="1" lang="ar-SA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2000" spc="-1" strike="noStrike">
                <a:solidFill>
                  <a:srgbClr val="009900"/>
                </a:solidFill>
                <a:latin typeface="Arial"/>
              </a:rPr>
              <a:t>منزلة واحدة</a:t>
            </a:r>
            <a:r>
              <a:rPr b="1" lang="ar-SA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نما يطلب منها ذلك بنسبة نجاح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 % في جلسة واحد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ة واحدة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ما يطلب منها ذلك بنسبة نجاح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2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 في جلسة واحد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ما يطلب منها ذلك بنسبة نجاح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2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%في جلسة واحد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826920" y="1125360"/>
            <a:ext cx="794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- 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ة واحدة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بالحمل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ما يطلب منها ذل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بنسبة نجاح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 % في جلس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أن تجمع الطالبة عدد مكون 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مع عدد مكون من </a:t>
            </a:r>
            <a:r>
              <a:rPr b="1" lang="ar-SA" sz="1800" spc="-1" strike="noStrike">
                <a:solidFill>
                  <a:srgbClr val="009900"/>
                </a:solidFill>
                <a:latin typeface="Arial"/>
              </a:rPr>
              <a:t>منزلتين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بالحمل 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عنما يطلب منها ذل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 بنسبة نجاح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90</a:t>
            </a:r>
            <a:r>
              <a:rPr b="1" lang="ar-SA" sz="1800" spc="-1" strike="noStrike">
                <a:solidFill>
                  <a:srgbClr val="0d0d0d"/>
                </a:solidFill>
                <a:latin typeface="Arial"/>
              </a:rPr>
              <a:t> %في جلس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d0d0d"/>
                </a:solidFill>
                <a:latin typeface="Calibri"/>
              </a:rPr>
              <a:t>*نموذج لمحتويات الجلسة* </a:t>
            </a:r>
            <a:br>
              <a:rPr sz="3500"/>
            </a:br>
            <a:r>
              <a:rPr b="0" lang="ar-SA" sz="3500" spc="-1" strike="noStrike">
                <a:solidFill>
                  <a:srgbClr val="0d0d0d"/>
                </a:solidFill>
                <a:latin typeface="Calibri"/>
              </a:rPr>
              <a:t>حرف ” </a:t>
            </a:r>
            <a:r>
              <a:rPr b="0" lang="ar-SA" sz="3500" spc="-1" strike="noStrike">
                <a:solidFill>
                  <a:srgbClr val="cc0000"/>
                </a:solidFill>
                <a:latin typeface="Calibri"/>
              </a:rPr>
              <a:t>ث “</a:t>
            </a:r>
            <a:br>
              <a:rPr sz="3500"/>
            </a:b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الجلسة رقم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تاريخها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دتها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كان تنفيذ الجلسة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وضوع الجلسة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: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Constantia"/>
              </a:rPr>
              <a:t>الهدف قصير المدى: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   أن تنطق الطالبة حرف (ث) مجردا عندما يطلب منها ذلك بنسبة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0" lang="ar-SA" sz="2400" spc="-1" strike="noStrike">
                <a:solidFill>
                  <a:srgbClr val="0d0d0d"/>
                </a:solidFill>
                <a:latin typeface="Constanti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في جلسة واحد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cc0000"/>
                </a:solidFill>
                <a:latin typeface="Calibri"/>
              </a:rPr>
              <a:t>الأهداف السلوكية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تختار الطالبة حرف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(ث)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من بين مجموعة من الحروف باستخدام البطاقات بنسبة نجاح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تكتب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الطالبة حرف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( ث )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مجردا عندما يطلب منها ذلك بنسبة نجاح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90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تتعرف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الطالبة على مخرج حرف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( ث )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بعد التوضيح بنسبة نجاح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90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تنطق</a:t>
            </a:r>
            <a:r>
              <a:rPr b="1" lang="ar-SA" sz="2600" spc="-1" strike="noStrike">
                <a:solidFill>
                  <a:srgbClr val="003300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الطالبة حرف </a:t>
            </a:r>
            <a:r>
              <a:rPr b="1" lang="ar-SA" sz="2600" spc="-1" strike="noStrike">
                <a:solidFill>
                  <a:srgbClr val="008000"/>
                </a:solidFill>
                <a:latin typeface="Constantia"/>
              </a:rPr>
              <a:t>( ث )</a:t>
            </a:r>
            <a:r>
              <a:rPr b="1" lang="ar-SA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عندما يطلب منها ذلك بنسبة نجاح 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600" spc="-1" strike="noStrike">
                <a:solidFill>
                  <a:srgbClr val="0d0d0d"/>
                </a:solidFill>
                <a:latin typeface="Constantia"/>
              </a:rPr>
              <a:t>%. في أربع محاولات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755640" y="189000"/>
            <a:ext cx="7775640" cy="72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الوسا ئ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التمهي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العرض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التعزي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99"/>
                </a:solidFill>
                <a:latin typeface="Arial"/>
              </a:rPr>
              <a:t>لفظي: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99"/>
                </a:solidFill>
                <a:latin typeface="Arial"/>
              </a:rPr>
              <a:t> مادي: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7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0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6"/>
          <p:cNvSpPr/>
          <p:nvPr/>
        </p:nvSpPr>
        <p:spPr>
          <a:xfrm>
            <a:off x="755640" y="333360"/>
            <a:ext cx="7885080" cy="69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ظروف الحم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أم عند الحمل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الة الصحية للأم عند الولادة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كان الولادة: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إعاقة الطالب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سببها............................ وقت اكتشافها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نوع الإعاقة السمعية:........................       درجة الإعاقة السمعية: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ل أحد أفراد الأسرة لديه إعاقة سمعية ؟                     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ل هناك أي إعاقة غير الإعاقة السمعية في الأسرة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علومات أخرى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2771640" y="333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جدول التعزي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4427640" y="105264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4427640" y="306864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 flipV="1">
            <a:off x="493236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 flipV="1">
            <a:off x="5435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 flipV="1">
            <a:off x="594036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 flipV="1">
            <a:off x="637236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 flipV="1">
            <a:off x="680400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7236000" y="3068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284720" y="3141720"/>
            <a:ext cx="7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5292720" y="31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514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5867280" y="31417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6372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442764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4427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3419640" y="2276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لفظ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3492360" y="1341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م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1187280" y="3933720"/>
            <a:ext cx="69850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التعليق على التعزيز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الأول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أولى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لفظي ممتاز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الثاني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ثالثة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لفظي أحسنت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ا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لثالث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رابعة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لفظي ممتاز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الرابع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ثانية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لفظي ممتاز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الخامس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عززت الطالبة في المحاولة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أولى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تعزيز مادي..حلوى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11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11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0" y="26028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جدول الاستجابات: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عدد الاستجابات لايزيد عن أربعة استجابات(المحاولات) وكل استجابة لها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درجتين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84360" y="6206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4920" y="1268280"/>
          <a:ext cx="8858160" cy="3349800"/>
        </p:xfrm>
        <a:graphic>
          <a:graphicData uri="http://schemas.openxmlformats.org/drawingml/2006/table">
            <a:tbl>
              <a:tblPr/>
              <a:tblGrid>
                <a:gridCol w="3529080"/>
                <a:gridCol w="863640"/>
                <a:gridCol w="865080"/>
                <a:gridCol w="863640"/>
                <a:gridCol w="844560"/>
                <a:gridCol w="1892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سبة تحقق الأهدا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أهد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(عدد استجابات الطالبة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)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8</a:t>
                      </a: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ar-SA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(العدد الكلي للاستجابات)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lang="ar-SA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5</a:t>
                      </a:r>
                      <a:r>
                        <a:rPr b="1" lang="ar-SA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%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8258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r>
                        <a:rPr b="1" lang="ar-S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lang="ar-SA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و</a:t>
                      </a:r>
                      <a:r>
                        <a:rPr b="1" lang="ar-SA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2</a:t>
                      </a:r>
                      <a:r>
                        <a:rPr b="1" lang="ar-SA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22" name="Line 52"/>
          <p:cNvSpPr/>
          <p:nvPr/>
        </p:nvSpPr>
        <p:spPr>
          <a:xfrm flipV="1">
            <a:off x="7020000" y="1268280"/>
            <a:ext cx="187308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2"/>
          <p:cNvSpPr/>
          <p:nvPr/>
        </p:nvSpPr>
        <p:spPr>
          <a:xfrm>
            <a:off x="6804000" y="1341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الاستجاب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8"/>
          <p:cNvSpPr/>
          <p:nvPr/>
        </p:nvSpPr>
        <p:spPr>
          <a:xfrm>
            <a:off x="179280" y="4967280"/>
            <a:ext cx="860436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التعليق على الاستجاب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 في الهدف الأول توقعت من الطالبة الحصول على نسبة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95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%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ولكنها حصلت على نسبة 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100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الثاني توقعت من الطالبة الحصول على نسبة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80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%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ولكنها حصلت على نسبة 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75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 %</a:t>
            </a:r>
            <a:r>
              <a:rPr b="1" lang="ar-SA" sz="2000" spc="-1" strike="noStrike">
                <a:solidFill>
                  <a:srgbClr val="04617b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في الهدف  الثالث توقعت من الطالبة الحصول على نسبة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90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%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Arial"/>
              </a:rPr>
              <a:t>ولكنها حصلت على نسبة 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و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62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c0000"/>
                </a:solidFill>
                <a:latin typeface="Calibri"/>
              </a:rPr>
              <a:t>*</a:t>
            </a:r>
            <a:r>
              <a:rPr b="0" lang="ar-SA" sz="3500" spc="-1" strike="noStrike">
                <a:solidFill>
                  <a:srgbClr val="0d0d0d"/>
                </a:solidFill>
                <a:latin typeface="Calibri"/>
              </a:rPr>
              <a:t>نموذج لمحتويات الجلسة</a:t>
            </a:r>
            <a:r>
              <a:rPr b="0" lang="ar-SA" sz="3500" spc="-1" strike="noStrike">
                <a:solidFill>
                  <a:srgbClr val="cc0000"/>
                </a:solidFill>
                <a:latin typeface="Calibri"/>
              </a:rPr>
              <a:t>* </a:t>
            </a:r>
            <a:br>
              <a:rPr sz="3500"/>
            </a:br>
            <a:r>
              <a:rPr b="0" lang="ar-SA" sz="3500" spc="-1" strike="noStrike">
                <a:solidFill>
                  <a:srgbClr val="009900"/>
                </a:solidFill>
                <a:latin typeface="Calibri"/>
              </a:rPr>
              <a:t>(</a:t>
            </a:r>
            <a:r>
              <a:rPr b="0" lang="ar-SA" sz="3500" spc="-1" strike="noStrike">
                <a:solidFill>
                  <a:srgbClr val="cc0000"/>
                </a:solidFill>
                <a:latin typeface="Calibri"/>
              </a:rPr>
              <a:t> مهارة الجمع بالحمل</a:t>
            </a:r>
            <a:r>
              <a:rPr b="0" lang="ar-SA" sz="3500" spc="-1" strike="noStrike">
                <a:solidFill>
                  <a:srgbClr val="009900"/>
                </a:solidFill>
                <a:latin typeface="Calibri"/>
              </a:rPr>
              <a:t>)</a:t>
            </a:r>
            <a:br>
              <a:rPr sz="3500"/>
            </a:b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الجلسة رقم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تاريخها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دتها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كان تنفيذ الجلسة: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c0000"/>
                </a:solidFill>
                <a:latin typeface="Constantia"/>
              </a:rPr>
              <a:t>موضوع الجلسة</a:t>
            </a:r>
            <a:r>
              <a:rPr b="0" lang="ar-SA" sz="2600" spc="-1" strike="noStrike">
                <a:solidFill>
                  <a:srgbClr val="0033cc"/>
                </a:solidFill>
                <a:latin typeface="Constantia"/>
              </a:rPr>
              <a:t> :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Constantia"/>
              </a:rPr>
              <a:t>الهدف قصير المدى: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أن تجمع الطالبة عدد مكون  من </a:t>
            </a:r>
            <a:r>
              <a:rPr b="1" lang="ar-SA" sz="2400" spc="-1" strike="noStrike">
                <a:solidFill>
                  <a:srgbClr val="009900"/>
                </a:solidFill>
                <a:latin typeface="Constantia"/>
              </a:rPr>
              <a:t>منزلة واحدة</a:t>
            </a:r>
            <a:r>
              <a:rPr b="1" lang="ar-SA" sz="24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مع عدد مكون من </a:t>
            </a:r>
            <a:r>
              <a:rPr b="1" lang="ar-SA" sz="2400" spc="-1" strike="noStrike">
                <a:solidFill>
                  <a:srgbClr val="009900"/>
                </a:solidFill>
                <a:latin typeface="Constantia"/>
              </a:rPr>
              <a:t>منزلة واحدة</a:t>
            </a:r>
            <a:r>
              <a:rPr b="1" lang="ar-SA" sz="24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ذلك    بنسبة نجاح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90</a:t>
            </a:r>
            <a:r>
              <a:rPr b="1" lang="ar-SA" sz="2400" spc="-1" strike="noStrike">
                <a:solidFill>
                  <a:srgbClr val="0d0d0d"/>
                </a:solidFill>
                <a:latin typeface="Constantia"/>
              </a:rPr>
              <a:t> % في جلسة واحدة.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cc0000"/>
                </a:solidFill>
                <a:latin typeface="Calibri"/>
              </a:rPr>
              <a:t>الأهداف السلوكية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8000"/>
                </a:solidFill>
                <a:latin typeface="Constantia"/>
              </a:rPr>
              <a:t> تتعرف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 على مفهوم </a:t>
            </a:r>
            <a:r>
              <a:rPr b="1" lang="ar-SA" sz="2000" spc="-1" strike="noStrike">
                <a:solidFill>
                  <a:srgbClr val="008000"/>
                </a:solidFill>
                <a:latin typeface="Constantia"/>
              </a:rPr>
              <a:t>( الجمع)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بعد الشرح بنسبة نجاح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9900"/>
                </a:solidFill>
                <a:latin typeface="Constantia"/>
              </a:rPr>
              <a:t>تميز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إشارة </a:t>
            </a:r>
            <a:r>
              <a:rPr b="1" lang="ar-SA" sz="2000" spc="-1" strike="noStrike">
                <a:solidFill>
                  <a:srgbClr val="008000"/>
                </a:solidFill>
                <a:latin typeface="Constantia"/>
              </a:rPr>
              <a:t>( +  )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من بين  الإشارات  المعروضة عندما يطلب منها ذلك بنسبة نجاح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% في أربع محاولات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9900"/>
                </a:solidFill>
                <a:latin typeface="Constantia"/>
              </a:rPr>
              <a:t>تلو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إشارة لجمع بعد عرضها بنسبة نجاح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100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% في محاولة واحد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9900"/>
                </a:solidFill>
                <a:latin typeface="Constantia"/>
              </a:rPr>
              <a:t>تقراء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مسألة الجمع بعد قراءة المعلمة بنسبة نجاح 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95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%. في أربع محاولات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أن</a:t>
            </a:r>
            <a:r>
              <a:rPr b="1" lang="ar-SA" sz="20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9900"/>
                </a:solidFill>
                <a:latin typeface="Constantia"/>
              </a:rPr>
              <a:t>تجمع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الطالبة عدد مكون  من منزلتين مع عدد مكون من منزلتين  بالحمل  عنما يطلب منها ذلك بنسبة نجاح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90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 % في أربع محاولات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4"/>
          <p:cNvSpPr/>
          <p:nvPr/>
        </p:nvSpPr>
        <p:spPr>
          <a:xfrm>
            <a:off x="615636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6156360" y="443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6156360" y="36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6156360" y="321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6156360" y="2852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6156360" y="2060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6156360" y="24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6156360" y="162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6156360" y="119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6156360" y="400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658800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 flipV="1">
            <a:off x="694836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 flipV="1">
            <a:off x="738036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9"/>
          <p:cNvSpPr/>
          <p:nvPr/>
        </p:nvSpPr>
        <p:spPr>
          <a:xfrm flipV="1">
            <a:off x="774072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0"/>
          <p:cNvSpPr/>
          <p:nvPr/>
        </p:nvSpPr>
        <p:spPr>
          <a:xfrm flipV="1">
            <a:off x="810108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1"/>
          <p:cNvSpPr/>
          <p:nvPr/>
        </p:nvSpPr>
        <p:spPr>
          <a:xfrm flipV="1">
            <a:off x="8459640" y="5373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6156360" y="566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6156360" y="56610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 flipV="1">
            <a:off x="6156360" y="83628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5435640" y="1052640"/>
            <a:ext cx="6332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468360" y="981000"/>
            <a:ext cx="3527280" cy="6820920"/>
          </a:xfrm>
          <a:prstGeom prst="rect">
            <a:avLst/>
          </a:pr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cc0000"/>
                </a:solidFill>
                <a:uFillTx/>
                <a:latin typeface="Arial"/>
              </a:rPr>
              <a:t>الرسم البياني قبل الاختبار البعدي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نضع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نسبة الهدف القصير المدى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من جدول الاستجابات ويكون الهدف السلوكي الأخير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الهدف الأول: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حصلت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طالبة على نسبة نجاح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% مثلا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هدف الثاني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صلت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البة على نسبة نجاح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% مثلا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............... وهكذا حتى انتهاء جميع الأهداف القصيرة ثم نقوم بتوضيحها  على الرسم البياني التا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4643280" y="189000"/>
            <a:ext cx="14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99"/>
                </a:solidFill>
                <a:latin typeface="Arial"/>
              </a:rPr>
              <a:t>النسبة المئوية لمدى تحقق الهدف قصير المد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8244000" y="6021360"/>
            <a:ext cx="9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c0000"/>
                </a:solidFill>
                <a:latin typeface="Arial"/>
              </a:rPr>
              <a:t>الأهداف القصي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 u="sng">
                <a:solidFill>
                  <a:srgbClr val="cc0000"/>
                </a:solidFill>
                <a:uFillTx/>
                <a:latin typeface="Calibri"/>
              </a:rPr>
              <a:t>جلسة تثبيت المهارة</a:t>
            </a:r>
            <a:r>
              <a:rPr b="1" lang="ar-SA" sz="3800" spc="-1" strike="noStrike" u="sng">
                <a:solidFill>
                  <a:srgbClr val="003300"/>
                </a:solidFill>
                <a:uFillTx/>
                <a:latin typeface="Calibri"/>
              </a:rPr>
              <a:t>(( </a:t>
            </a:r>
            <a:r>
              <a:rPr b="1" lang="ar-SA" sz="3800" spc="-1" strike="noStrike" u="sng">
                <a:solidFill>
                  <a:srgbClr val="cc0000"/>
                </a:solidFill>
                <a:uFillTx/>
                <a:latin typeface="Calibri"/>
              </a:rPr>
              <a:t>الاختبار البعدي</a:t>
            </a:r>
            <a:r>
              <a:rPr b="1" lang="ar-SA" sz="3800" spc="-1" strike="noStrike" u="sng">
                <a:solidFill>
                  <a:srgbClr val="003300"/>
                </a:solidFill>
                <a:uFillTx/>
                <a:latin typeface="Calibri"/>
              </a:rPr>
              <a:t>)):</a:t>
            </a:r>
            <a:br>
              <a:rPr sz="3800"/>
            </a:b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هذه الجلسة نتبع فيها نفس خطوات الجلسات السابقة..ولكن لا نضع فيها الرسم البياني للتعزيز ولا جدول استجابات ولا التعليق على الاستجابات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بداية الجلسة تكون بالهدف طويل المدى ثم الأهداف القصيرة المدى( تكون هي الأهداف السلوكية) ثم الوسائل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تعليمية ثم التمهيد ثم العرض فالتعزيز وأخيرا التعليق على التعزي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                  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يعرض في هذه الجلسة أسئلة الامتحان البعدي.. ويكون هذا الاختبار مكون من أسئلة شاملة لجميع الأهداف القصير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بحيث تكون درجة كل سؤال 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(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) درجات</a:t>
            </a:r>
            <a:r>
              <a:rPr b="1" lang="ar-SA" sz="2000" spc="-1" strike="noStrike">
                <a:solidFill>
                  <a:srgbClr val="003300"/>
                </a:solidFill>
                <a:latin typeface="Constantia"/>
              </a:rPr>
              <a:t>.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فإذا أخذت الطالبة 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(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م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0033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فأحسبها بالشكل التالي: 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÷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×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=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..وهكذ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فإذا أخذت الطالبة 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(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5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من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)</a:t>
            </a:r>
            <a:r>
              <a:rPr b="1" lang="ar-SA" sz="2000" spc="-1" strike="noStrike">
                <a:solidFill>
                  <a:srgbClr val="0033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فأحسبها بالشكل التالي: 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÷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</a:t>
            </a:r>
            <a:r>
              <a:rPr b="1" lang="ar-SA" sz="2000" spc="-1" strike="noStrike">
                <a:solidFill>
                  <a:srgbClr val="0033cc"/>
                </a:solidFill>
                <a:latin typeface="Constantia"/>
              </a:rPr>
              <a:t>×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10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 = 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50</a:t>
            </a:r>
            <a:r>
              <a:rPr b="1" lang="ar-SA" sz="2000" spc="-1" strike="noStrike">
                <a:solidFill>
                  <a:srgbClr val="cc0000"/>
                </a:solidFill>
                <a:latin typeface="Constantia"/>
              </a:rPr>
              <a:t>..وهكذا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onstantia"/>
              </a:rPr>
              <a:t>ثم أضع النسب في الرسم البياني التالي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8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3635280" y="260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"/>
          <p:cNvSpPr/>
          <p:nvPr/>
        </p:nvSpPr>
        <p:spPr>
          <a:xfrm>
            <a:off x="234000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2340000" y="5589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"/>
          <p:cNvSpPr/>
          <p:nvPr/>
        </p:nvSpPr>
        <p:spPr>
          <a:xfrm>
            <a:off x="284328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 flipV="1">
            <a:off x="320364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 flipV="1">
            <a:off x="356400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8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 flipV="1">
            <a:off x="428472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0"/>
          <p:cNvSpPr/>
          <p:nvPr/>
        </p:nvSpPr>
        <p:spPr>
          <a:xfrm flipV="1">
            <a:off x="4716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611280" y="5661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                               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1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7524720" y="537372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cc"/>
                </a:solidFill>
                <a:latin typeface="Arial"/>
              </a:rPr>
              <a:t>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234000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234000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>
            <a:off x="2340000" y="4076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2"/>
          <p:cNvSpPr/>
          <p:nvPr/>
        </p:nvSpPr>
        <p:spPr>
          <a:xfrm>
            <a:off x="2340000" y="3573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"/>
          <p:cNvSpPr/>
          <p:nvPr/>
        </p:nvSpPr>
        <p:spPr>
          <a:xfrm>
            <a:off x="2340000" y="321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2340000" y="2852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2340000" y="198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>
            <a:off x="2340000" y="24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>
            <a:off x="2340000" y="162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>
            <a:off x="2340000" y="119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9"/>
          <p:cNvSpPr/>
          <p:nvPr/>
        </p:nvSpPr>
        <p:spPr>
          <a:xfrm>
            <a:off x="1332000" y="981000"/>
            <a:ext cx="9205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684360" y="33336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8000"/>
                </a:solidFill>
                <a:latin typeface="Arial"/>
              </a:rPr>
              <a:t>الن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3780000" y="1052640"/>
            <a:ext cx="4537080" cy="1224000"/>
          </a:xfrm>
          <a:prstGeom prst="rect">
            <a:avLst/>
          </a:prstGeom>
          <a:solidFill>
            <a:srgbClr val="ffff00">
              <a:alpha val="25000"/>
            </a:srgbClr>
          </a:solidFill>
          <a:ln w="41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الرسم البياني لمدى تحقق الأ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Arial"/>
              </a:rPr>
              <a:t> قصيرة المدى بعد الاختبار الب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"/>
          <p:cNvSpPr/>
          <p:nvPr/>
        </p:nvSpPr>
        <p:spPr>
          <a:xfrm>
            <a:off x="611280" y="620640"/>
            <a:ext cx="74898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cc0000"/>
                </a:solidFill>
                <a:uFillTx/>
                <a:latin typeface="Arial"/>
              </a:rPr>
              <a:t>التوصي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cc0000"/>
                </a:solidFill>
                <a:uFillTx/>
                <a:latin typeface="Arial"/>
              </a:rPr>
              <a:t>التقرير النه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م الطالبة........................... الصف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دد الجلسات خلال الشهر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دد مرات غياب الطالبة (        )    مبررات ذلك :      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5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1547640" y="60480"/>
            <a:ext cx="7129800" cy="64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- عدد مرات عدم إحضار المعينات السمعية: (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بررات ذل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- درجة استجابة الطالبة خلال الجلسات :(   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بررات ذل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**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ماتم تحقيقة من الخطة الفردية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**</a:t>
            </a: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معوقات الخطة</a:t>
            </a:r>
            <a:r>
              <a:rPr b="1" lang="ar-SA" sz="2000" spc="-1" strike="noStrike">
                <a:solidFill>
                  <a:srgbClr val="0033cc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7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7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7"/>
          <p:cNvSpPr txBox="1"/>
          <p:nvPr/>
        </p:nvSpPr>
        <p:spPr>
          <a:xfrm>
            <a:off x="3059280" y="2708280"/>
            <a:ext cx="3227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Arial"/>
              </a:rPr>
              <a:t>تمت بحمد الله وتوفيق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2627280" y="549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47640" y="1341360"/>
            <a:ext cx="604872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هـ/الحالة التعليمية للطالب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اريخ الالتحاق بــ (المعهد , المدرسة):     /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مر عند الالتحاق: 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ستواها الدراسي: 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طريقة التواصل المفضلة: 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علومات أخرى: 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1428840" y="571680"/>
            <a:ext cx="7272360" cy="5997600"/>
          </a:xfrm>
          <a:prstGeom prst="rect">
            <a:avLst/>
          </a:prstGeom>
          <a:solidFill>
            <a:srgbClr val="0f6fc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ختبارات والمقاييس</a:t>
            </a:r>
            <a:r>
              <a:rPr b="0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أ)الرسم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ثل: (متاهات بور تيوس – لوحة جودا رد – رسم الرجل – بينيه )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</a:rPr>
              <a:t>ب)غير الرسم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071720" y="117360"/>
            <a:ext cx="7713360" cy="6643800"/>
          </a:xfrm>
          <a:prstGeom prst="rect">
            <a:avLst/>
          </a:prstGeom>
          <a:solidFill>
            <a:srgbClr val="dde3bb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* </a:t>
            </a: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المادة المختارة:  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المهارة المطلوب تحسينها:  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معلمة المادة: 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معلمة الفصل: ....................................... 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معلمة النطق:  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الأخصائية النفسية: 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2303e"/>
                </a:solidFill>
                <a:latin typeface="Arial"/>
              </a:rPr>
              <a:t>* رأي الأخصائية الاجتماعية: </a:t>
            </a:r>
            <a:r>
              <a:rPr b="1" lang="ar-SA" sz="1800" spc="-1" strike="noStrike">
                <a:solidFill>
                  <a:srgbClr val="0000cc"/>
                </a:solidFill>
                <a:latin typeface="Arial"/>
              </a:rPr>
              <a:t>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- سبب اختيارك للطالبة لتطبيق الخطة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فردية :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1800" spc="-1" strike="noStrike">
                <a:solidFill>
                  <a:srgbClr val="0000cc"/>
                </a:solidFill>
                <a:latin typeface="Arial"/>
              </a:rPr>
              <a:t>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cc"/>
                </a:solidFill>
                <a:latin typeface="Arial"/>
              </a:rPr>
              <a:t>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cc"/>
                </a:solidFill>
                <a:latin typeface="Arial"/>
              </a:rPr>
              <a:t>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1187280" y="260280"/>
            <a:ext cx="67694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Arial"/>
              </a:rPr>
              <a:t>تقييم مستوى الأداء الح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مكن التعرف على مستوى الأداء الحالي من خلال العديد من المحاور  أهمها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cs typeface="Tahoma"/>
              </a:rPr>
              <a:t>القدرات العـقل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L-Bsher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87280" y="1989000"/>
          <a:ext cx="6913800" cy="3629160"/>
        </p:xfrm>
        <a:graphic>
          <a:graphicData uri="http://schemas.openxmlformats.org/drawingml/2006/table">
            <a:tbl>
              <a:tblPr/>
              <a:tblGrid>
                <a:gridCol w="1662120"/>
                <a:gridCol w="997200"/>
                <a:gridCol w="930240"/>
                <a:gridCol w="1063440"/>
                <a:gridCol w="1033560"/>
                <a:gridCol w="12272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در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ق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ذ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نتبا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إدر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ميي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فك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خي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5" name="Text Box 77"/>
          <p:cNvSpPr/>
          <p:nvPr/>
        </p:nvSpPr>
        <p:spPr>
          <a:xfrm>
            <a:off x="1187280" y="5877000"/>
            <a:ext cx="691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Arial"/>
              </a:rPr>
              <a:t> قدرات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660033"/>
                </a:solidFill>
                <a:latin typeface="Arial"/>
              </a:rPr>
              <a:t>أخرى: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140360" y="2602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cc0000"/>
                </a:solidFill>
                <a:latin typeface="Tahoma"/>
                <a:cs typeface="Tahoma"/>
              </a:rPr>
              <a:t>القدرات</a:t>
            </a:r>
            <a:r>
              <a:rPr b="1" lang="ar-SA" sz="2800" spc="-1" strike="noStrike">
                <a:solidFill>
                  <a:srgbClr val="cc0000"/>
                </a:solidFill>
                <a:latin typeface="Tahoma"/>
                <a:ea typeface="Tahoma"/>
              </a:rPr>
              <a:t> الحسية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58920" y="907920"/>
          <a:ext cx="6840360" cy="2538720"/>
        </p:xfrm>
        <a:graphic>
          <a:graphicData uri="http://schemas.openxmlformats.org/drawingml/2006/table">
            <a:tbl>
              <a:tblPr/>
              <a:tblGrid>
                <a:gridCol w="1208160"/>
                <a:gridCol w="1015920"/>
                <a:gridCol w="1015920"/>
                <a:gridCol w="1015920"/>
                <a:gridCol w="1016280"/>
                <a:gridCol w="156816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احظ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ير قاد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د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س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مع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ص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f5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8" name="Text Box 59"/>
          <p:cNvSpPr/>
          <p:nvPr/>
        </p:nvSpPr>
        <p:spPr>
          <a:xfrm>
            <a:off x="1042920" y="4869000"/>
            <a:ext cx="6624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قدرات أخرى: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Arial"/>
              </a:rPr>
              <a:t>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6:36:19Z</dcterms:created>
  <dc:creator>**</dc:creator>
  <dc:description/>
  <dc:language>en-US</dc:language>
  <cp:lastModifiedBy>N al_dajani</cp:lastModifiedBy>
  <dcterms:modified xsi:type="dcterms:W3CDTF">2016-11-24T03:49:03Z</dcterms:modified>
  <cp:revision>88</cp:revision>
  <dc:subject/>
  <dc:title>الشريحة 1</dc:title>
</cp:coreProperties>
</file>