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C32-CF5B-4FBF-8EAC-039E274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2A3-4D0E-40B4-9C4B-A0A38C82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4B7-0389-4328-8F32-7BCCCF31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56E-0E34-4EEB-BBFA-A8ECF0A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96E-D422-478F-9A15-073EC21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E9A2-76EE-4593-8126-BD996FC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10E-4478-41A6-8915-E2D859B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3E2D-EA0C-4654-B10C-E9EA35DB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0090-F5FB-4D40-AE7D-B0AF5FA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59B-97B3-4B1D-B897-24AE33F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D3D-A0B2-4112-BC55-AE60A9E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72F-0E41-41CE-8AAA-A578058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8CBE-4BE5-4DBA-9662-FE29A63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66A3-C9BD-4340-92A9-2F2EA93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D7E-D5D0-49A8-B9FD-C27F579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BEDE-BCA4-4865-BE80-F146E8C3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53D1-395C-4B3A-B02D-A2ACAC7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41F2-EF87-46FB-B680-B1D14DAC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083E-E783-41FF-8800-D3E52A76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661E-9911-461D-8F0B-79861049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A3A7-C815-4F1D-9CB1-74D8F9EE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91A7-EE75-4010-AAE3-CBA89E2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7AC-46B5-42EB-9C09-A3BFD42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A27B-1AEB-402E-BEDD-045F33F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6EE8-8DEE-4FC8-B01F-B8332E7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7FF5-1C19-4216-84BE-F567C51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6949-D3E3-4A5F-BFB4-010E7A2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A0FA-B0AD-4130-A976-04A9608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AF1F-6C12-4FDD-9E69-741EA0A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1BE8-069D-42BF-ACA8-55AFB2C0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21DF-096E-464A-A025-502C9096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2E51-386D-4854-8B7B-95A59631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5553-A3AB-4F51-A0B0-67246AB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A4D-8073-4C15-AD24-4289997C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CF56-9D50-45B9-81A5-75D3442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C42A-DE52-42D9-A08C-530F256C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C6D3-D48F-4C2B-92BA-F3701AE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FC17-C0CE-411F-A351-ED6D579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C7C6-A089-4E90-8A86-A9F471C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580B-C6EE-4D4B-8853-6174E07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A6A61-5872-42C8-8411-6065BE78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4A17-639C-4C62-B520-00AC808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826F-554E-488A-8B7B-09E32160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7E4-033C-4EAB-8666-4B6F702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0ED-7661-40A7-8D55-48BB48D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7CB-3BB1-4EFF-BBBE-C815058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898-94B7-4EB5-B709-51E96DC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66D-E861-4BD1-8503-9B4581F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6085-58E8-4285-AFCA-20168281323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29A-9443-450A-AB74-3FD50E0093B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81A-5BE7-4ECF-B507-69FBA420F7C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921D-935A-45E1-950C-1AA70F08313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1042920" y="620640"/>
            <a:ext cx="68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Arial"/>
                <a:cs typeface="DecoType Naskh Swashes"/>
              </a:rPr>
              <a:t>بسم الله الرحمن الرحي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4427640" y="33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القدرات اللغ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47640" y="1197000"/>
          <a:ext cx="6840720" cy="3338640"/>
        </p:xfrm>
        <a:graphic>
          <a:graphicData uri="http://schemas.openxmlformats.org/drawingml/2006/table">
            <a:tbl>
              <a:tblPr/>
              <a:tblGrid>
                <a:gridCol w="1208160"/>
                <a:gridCol w="1016280"/>
                <a:gridCol w="1015920"/>
                <a:gridCol w="1015920"/>
                <a:gridCol w="1015920"/>
                <a:gridCol w="156852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طق والكل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ة الاستقب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ة التعبي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1" name="Text Box 43"/>
          <p:cNvSpPr/>
          <p:nvPr/>
        </p:nvSpPr>
        <p:spPr>
          <a:xfrm>
            <a:off x="1692360" y="4869000"/>
            <a:ext cx="662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348000" y="2602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ahoma"/>
                <a:ea typeface="Tahoma"/>
              </a:rPr>
              <a:t>4</a:t>
            </a:r>
            <a:r>
              <a:rPr b="1" lang="ar-SA" sz="2400" spc="-1" strike="noStrike">
                <a:solidFill>
                  <a:srgbClr val="cc0000"/>
                </a:solidFill>
                <a:latin typeface="Tahoma"/>
                <a:ea typeface="Tahoma"/>
              </a:rPr>
              <a:t>- القدرات الجسمية والحرك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47640" y="1052640"/>
          <a:ext cx="6624720" cy="38066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54440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 الجس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الحر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تخدام العضلات الصغ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تخدام العضل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ب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ناسق الحر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آزر الحركي البص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Text Box 71"/>
          <p:cNvSpPr/>
          <p:nvPr/>
        </p:nvSpPr>
        <p:spPr>
          <a:xfrm>
            <a:off x="1619280" y="5157720"/>
            <a:ext cx="662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2916360" y="404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5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مهارات السلوك التكي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47640" y="1052640"/>
          <a:ext cx="6624720" cy="3765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54440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سلوك التكيف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ناية بالن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قلا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شخص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لاقة مع الأ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تصال مع الآخ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" name="Text Box 56"/>
          <p:cNvSpPr/>
          <p:nvPr/>
        </p:nvSpPr>
        <p:spPr>
          <a:xfrm>
            <a:off x="1258920" y="5157720"/>
            <a:ext cx="6985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635280" y="404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6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 مهارات الحياة اليوم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19280" y="1125360"/>
          <a:ext cx="6624720" cy="3081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54476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حياة اليو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فة الشخص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كل والشر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ب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Text Box 53"/>
          <p:cNvSpPr/>
          <p:nvPr/>
        </p:nvSpPr>
        <p:spPr>
          <a:xfrm>
            <a:off x="1258920" y="5157720"/>
            <a:ext cx="6985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2"/>
          <p:cNvSpPr/>
          <p:nvPr/>
        </p:nvSpPr>
        <p:spPr>
          <a:xfrm>
            <a:off x="3708360" y="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7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 المهارات الأكاديمية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692280"/>
          <a:ext cx="7056360" cy="49622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  <a:gridCol w="1116000"/>
                <a:gridCol w="1116000"/>
                <a:gridCol w="147636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ه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كادي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اء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تا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يا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ر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لا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جتماع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توا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42"/>
          <p:cNvSpPr/>
          <p:nvPr/>
        </p:nvSpPr>
        <p:spPr>
          <a:xfrm>
            <a:off x="1403280" y="5734080"/>
            <a:ext cx="727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340000" y="1125360"/>
          <a:ext cx="4876920" cy="3678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598760"/>
                <a:gridCol w="839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ؤه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خص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Text Box 108"/>
          <p:cNvSpPr/>
          <p:nvPr/>
        </p:nvSpPr>
        <p:spPr>
          <a:xfrm>
            <a:off x="611280" y="4941720"/>
            <a:ext cx="741528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تاريخ بداية الخطة التربوية الفردية :     /     /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فصل الدراسي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اريخ المتوقع لإنهاء الخطة التربوية الفردية:      /  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كان تنفيذ الخطة التربوية الفردية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7"/>
          <p:cNvSpPr/>
          <p:nvPr/>
        </p:nvSpPr>
        <p:spPr>
          <a:xfrm>
            <a:off x="2627280" y="54936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</a:rPr>
              <a:t>أعضاء فريق الخطة الترب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635280" y="62064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موقع الطالبة في الفص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987640" y="3500280"/>
            <a:ext cx="108108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987640" y="4581360"/>
            <a:ext cx="1081080" cy="649440"/>
          </a:xfrm>
          <a:prstGeom prst="rect">
            <a:avLst/>
          </a:prstGeom>
          <a:blipFill rotWithShape="0">
            <a:blip r:embed="rId1">
              <a:alphaModFix amt="4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 rot="20601600">
            <a:off x="4500720" y="4365360"/>
            <a:ext cx="1079280" cy="64908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 rot="1032600">
            <a:off x="1258920" y="4292640"/>
            <a:ext cx="1079640" cy="649080"/>
          </a:xfrm>
          <a:prstGeom prst="rect">
            <a:avLst/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 rot="20047200">
            <a:off x="4500720" y="3284640"/>
            <a:ext cx="1079280" cy="649080"/>
          </a:xfrm>
          <a:prstGeom prst="rect">
            <a:avLst/>
          </a:prstGeom>
          <a:solidFill>
            <a:srgbClr val="ffff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 rot="1189800">
            <a:off x="1476360" y="3357720"/>
            <a:ext cx="1079640" cy="649080"/>
          </a:xfrm>
          <a:prstGeom prst="rect">
            <a:avLst/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2268360" y="2349360"/>
            <a:ext cx="2303640" cy="503280"/>
          </a:xfrm>
          <a:prstGeom prst="rect">
            <a:avLst/>
          </a:prstGeom>
          <a:solidFill>
            <a:srgbClr val="dbf5f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41128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ب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55640" y="1557360"/>
            <a:ext cx="5184720" cy="403236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6443640" y="285264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أ- قبل تنفيذ الخطة الفر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13200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ال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2987640" y="3213000"/>
            <a:ext cx="1081080" cy="720720"/>
          </a:xfrm>
          <a:prstGeom prst="rect">
            <a:avLst/>
          </a:prstGeom>
          <a:blipFill rotWithShape="0">
            <a:blip r:embed="rId1">
              <a:alphaModFix amt="9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987640" y="4581360"/>
            <a:ext cx="1081080" cy="649440"/>
          </a:xfrm>
          <a:prstGeom prst="rect">
            <a:avLst/>
          </a:prstGeom>
          <a:solidFill>
            <a:srgbClr val="ffff99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 rot="20601600">
            <a:off x="4500720" y="4365360"/>
            <a:ext cx="1079280" cy="649080"/>
          </a:xfrm>
          <a:prstGeom prst="rect">
            <a:avLst/>
          </a:prstGeom>
          <a:solidFill>
            <a:srgbClr val="ffffcc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 rot="1032600">
            <a:off x="1258920" y="4292640"/>
            <a:ext cx="1079640" cy="649080"/>
          </a:xfrm>
          <a:prstGeom prst="rect">
            <a:avLst/>
          </a:prstGeom>
          <a:solidFill>
            <a:srgbClr val="ffff99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 rot="20047200">
            <a:off x="4427640" y="3284640"/>
            <a:ext cx="1079280" cy="64908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 rot="1189800">
            <a:off x="1476360" y="3213000"/>
            <a:ext cx="1079640" cy="649440"/>
          </a:xfrm>
          <a:prstGeom prst="rect">
            <a:avLst/>
          </a:prstGeom>
          <a:solidFill>
            <a:srgbClr val="ffff99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268360" y="2349360"/>
            <a:ext cx="2303640" cy="503280"/>
          </a:xfrm>
          <a:prstGeom prst="rect">
            <a:avLst/>
          </a:prstGeom>
          <a:solidFill>
            <a:srgbClr val="dbf5f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241128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ب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900000" y="1484280"/>
            <a:ext cx="5184720" cy="403236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443640" y="242100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ب – أثناء تنفيذ الخطة الفر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132000" y="335772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طالب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6"/>
          <p:cNvSpPr/>
          <p:nvPr/>
        </p:nvSpPr>
        <p:spPr>
          <a:xfrm>
            <a:off x="900000" y="1268280"/>
            <a:ext cx="7344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في حالة تغيير أوعدم تغيير موقع الطالبة  ماهي المبررات التربوية لذلك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84360" y="404640"/>
            <a:ext cx="7991280" cy="69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Arial"/>
              </a:rPr>
              <a:t>نموذج الاختبار القبلي  لمهارة الج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أو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ثان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                     السؤال الثال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+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987640" y="907920"/>
            <a:ext cx="3888000" cy="4597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900000" y="692280"/>
            <a:ext cx="2303640" cy="1152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f5f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16000" y="98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يصحح  كل السؤال  من  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د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324000" y="577800"/>
            <a:ext cx="82087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3300"/>
                </a:solidFill>
                <a:latin typeface="Arial"/>
              </a:rPr>
              <a:t>جمع البيانات الأ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c0000"/>
                </a:solidFill>
                <a:uFillTx/>
                <a:latin typeface="Arial"/>
              </a:rPr>
              <a:t>أ/بيانات عن الطالبة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سم الطالبة...................الجنسية............معهد/مدرسة دمج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اريخ الميلاد:    /    /     مكان الميلاد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درجة الذكاء.............. تاريخ اختبار الذكاء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درجة السمع: في الأذن اليمنى............. في الأذن اليسرى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اريخ اختبار السمع:      / 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شخيص: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إعاقات أخرى: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c0000"/>
                </a:solidFill>
                <a:uFillTx/>
                <a:latin typeface="Arial"/>
              </a:rPr>
              <a:t>ب/بيانات عن ولي أمر الطالبة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م...................... الجنسية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وظيفة....................رقم الحفيظة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وان العمل:................... الهاتف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وان المنزل................... الهاتف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971640" y="33336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راب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               السؤال الخامس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+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ـــــــــــــــــــــ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771640" y="472428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979640" y="692280"/>
          <a:ext cx="5040360" cy="4144680"/>
        </p:xfrm>
        <a:graphic>
          <a:graphicData uri="http://schemas.openxmlformats.org/drawingml/2006/table">
            <a:tbl>
              <a:tblPr/>
              <a:tblGrid>
                <a:gridCol w="1679400"/>
                <a:gridCol w="1681200"/>
                <a:gridCol w="167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كتا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رقم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ؤ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ل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ا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ام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8" name="Rectangle 50"/>
          <p:cNvSpPr/>
          <p:nvPr/>
        </p:nvSpPr>
        <p:spPr>
          <a:xfrm>
            <a:off x="4788000" y="587700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1"/>
          <p:cNvSpPr/>
          <p:nvPr/>
        </p:nvSpPr>
        <p:spPr>
          <a:xfrm>
            <a:off x="4788000" y="616572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514836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492360" y="59500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979640" y="549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نموذج الاختبار القبلي للنط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348000" y="1413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أو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ص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9564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195640" y="476280"/>
          <a:ext cx="6095880" cy="46450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50920" y="5445000"/>
          <a:ext cx="1152720" cy="10368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2987640" y="40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ثان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ض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(   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0920" y="1125360"/>
          <a:ext cx="6096240" cy="4645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92360" y="1052640"/>
          <a:ext cx="6095880" cy="3627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ه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332000" y="5157720"/>
          <a:ext cx="1079280" cy="103680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176364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الثال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ص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في  المقاطع الصوت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050920" y="765000"/>
          <a:ext cx="6096240" cy="4664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أ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ِ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 Box 48"/>
          <p:cNvSpPr/>
          <p:nvPr/>
        </p:nvSpPr>
        <p:spPr>
          <a:xfrm>
            <a:off x="154764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  إلى نهاية حرف (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76364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 الرابع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طقي الحروف من (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ض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في  المقاطع الصوت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050920" y="765000"/>
          <a:ext cx="6096240" cy="4664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ض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ط ِ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5"/>
          <p:cNvSpPr/>
          <p:nvPr/>
        </p:nvSpPr>
        <p:spPr>
          <a:xfrm>
            <a:off x="1908000" y="5589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  إلى نهاية حرف ( 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176364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الخام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: انطقي الكلمات التالية المشتملة على جميع الحروف  من(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أ    ـ   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765000"/>
          <a:ext cx="6624720" cy="5115240"/>
        </p:xfrm>
        <a:graphic>
          <a:graphicData uri="http://schemas.openxmlformats.org/drawingml/2006/table">
            <a:tbl>
              <a:tblPr/>
              <a:tblGrid>
                <a:gridCol w="2298600"/>
                <a:gridCol w="2076480"/>
                <a:gridCol w="2249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أ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ن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ت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ا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ث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ب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ج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ح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خ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و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د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ذ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67"/>
          <p:cNvSpPr/>
          <p:nvPr/>
        </p:nvSpPr>
        <p:spPr>
          <a:xfrm>
            <a:off x="2987640" y="609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لى كلمة يد مثلا ً المشتملة على حرف الي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979640" y="692280"/>
          <a:ext cx="5040360" cy="4144680"/>
        </p:xfrm>
        <a:graphic>
          <a:graphicData uri="http://schemas.openxmlformats.org/drawingml/2006/table">
            <a:tbl>
              <a:tblPr/>
              <a:tblGrid>
                <a:gridCol w="1679400"/>
                <a:gridCol w="1681200"/>
                <a:gridCol w="167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كتا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رقم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ؤ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ل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ا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ام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4" name="Rectangle 41"/>
          <p:cNvSpPr/>
          <p:nvPr/>
        </p:nvSpPr>
        <p:spPr>
          <a:xfrm>
            <a:off x="4788000" y="587700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>
            <a:off x="4788000" y="616572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514836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3492360" y="59500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1042920" y="765000"/>
            <a:ext cx="734400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  <a:cs typeface="Tahoma"/>
              </a:rPr>
              <a:t>جـ/بيانات اجتماعية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عدد أفراد الأسرة (    ) عدد الذكور (    )     عدد الإناث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ترتيب الطالبة في الأسرة 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الأب على قيد الحياة  (          )   مستوى تعليم الأب .............وظيفته.............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هل الأم على قيد الحياة    (         )    مستوى تعليم الأم ..............وظيفتها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 من تسكن الطالبة: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وع السكن: (فيلا, شقة)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(ايجار – ملك)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  <a:cs typeface="Tahoma"/>
              </a:rPr>
              <a:t>د</a:t>
            </a: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  <a:ea typeface="Tahoma"/>
              </a:rPr>
              <a:t>/ بيانات صح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طالبة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ب 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إخوة والأخوات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692280"/>
            <a:ext cx="9144000" cy="64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    - وصف مستوى أداء الطالبة بعد الاختبار القب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539640" y="1125360"/>
            <a:ext cx="7848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نقاط القوة والضع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لتعرف على نقاط القوة والضعف من خلال الاختبارات والمقاييس التي تم تطبيقها على الطالبة بالإضافة إلى ما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احظة الطالبة داخل الفصل وخارج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ختبارات الأكاديمية التي طبقت على الطا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ستبيانات التي تمت تعبئتها من قبل ولي أمر الطا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رجوع إلى المعلومات السابقة في ال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68360" y="836640"/>
          <a:ext cx="8136000" cy="4464000"/>
        </p:xfrm>
        <a:graphic>
          <a:graphicData uri="http://schemas.openxmlformats.org/drawingml/2006/table">
            <a:tbl>
              <a:tblPr/>
              <a:tblGrid>
                <a:gridCol w="6624720"/>
                <a:gridCol w="15112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قاط القوة لدى الطال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39640" y="836640"/>
          <a:ext cx="8136000" cy="4464000"/>
        </p:xfrm>
        <a:graphic>
          <a:graphicData uri="http://schemas.openxmlformats.org/drawingml/2006/table">
            <a:tbl>
              <a:tblPr/>
              <a:tblGrid>
                <a:gridCol w="6624720"/>
                <a:gridCol w="15112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قاط الضعف لدى الطال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24000" y="0"/>
            <a:ext cx="8820000" cy="10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الهدف العام للخطة(الهدف طويل المدى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أن تنطق الطالبة حرف الثاء بشكل متكر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 بنسبة نجاح (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لمدة لاتتجاوز 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أسابيع بمعدل جلسة إلى جلستين في الأسب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أهداف الخاصة ( الأهداف القصيرة المدى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ث) مجردا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5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 في جلسة واحد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) في مقاطع الصوت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89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(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ث ) في بداية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3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 ) في وسط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3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ث ) في آخر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 ) بشكل متكرر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ت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324000" y="0"/>
            <a:ext cx="8820000" cy="81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الهدف العام للخطة(الهدف طويل المدى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ن تجمع الطالبة عدد مكون م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نزلتي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ع عدد مكون م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نزلتين بالح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%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  لمدة لاتتجاوز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سابيع بمعدل جلسة إلى جلستين في الأسبوع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أهداف الخاصة ( الأهداف القصيرة المدى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20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20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% في جلسة واح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826920" y="1125360"/>
            <a:ext cx="794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بالحمل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% في جلس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بالحمل 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%في جلس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*نموذج لمحتويات الجلسة* </a:t>
            </a:r>
            <a:br>
              <a:rPr sz="3500"/>
            </a:b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حرف ” 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ث “</a:t>
            </a:r>
            <a:br>
              <a:rPr sz="3500"/>
            </a:b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الجلسة رقم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تاريخ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دت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كان تنفيذ الجلسة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وضوع الجلسة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: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Constantia"/>
              </a:rPr>
              <a:t>الهدف قصير المدى: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   أن تنطق الطالبة حرف (ث) مجردا عندما يطلب منها ذلك بنسبة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في جلسة واحد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cc0000"/>
                </a:solidFill>
                <a:latin typeface="Calibri"/>
              </a:rPr>
              <a:t>الأهداف السلوك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تختار 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ث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من بين مجموعة من الحروف باستخدام البطاقات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كتب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مجردا عندما يطلب منها ذلك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تعرف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على مخرج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بعد التوضيح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نطق</a:t>
            </a:r>
            <a:r>
              <a:rPr b="1" lang="ar-SA" sz="26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عندما يطلب منها ذلك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. في أربع محاولات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755640" y="189000"/>
            <a:ext cx="777564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وسا ئ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تمهي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عر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تعزي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99"/>
                </a:solidFill>
                <a:latin typeface="Arial"/>
              </a:rPr>
              <a:t>لفظي: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99"/>
                </a:solidFill>
                <a:latin typeface="Arial"/>
              </a:rPr>
              <a:t> مادي: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7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6"/>
          <p:cNvSpPr/>
          <p:nvPr/>
        </p:nvSpPr>
        <p:spPr>
          <a:xfrm>
            <a:off x="755640" y="333360"/>
            <a:ext cx="7885080" cy="69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ظروف الحم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عند الحمل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عند الولادة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كان الولادة: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إعاقة الطالب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سببها............................ وقت اكتشافها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وع الإعاقة السمعية:........................       درجة الإعاقة السمعية: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أحد أفراد الأسرة لديه إعاقة سمعية ؟                     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هناك أي إعاقة غير الإعاقة السمعية في الأسرة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لومات أخرى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2771640" y="333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جدول التعزي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4427640" y="105264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4427640" y="306864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 flipV="1">
            <a:off x="4932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 flipV="1">
            <a:off x="543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 flipV="1">
            <a:off x="5940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 flipV="1">
            <a:off x="6372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 flipV="1">
            <a:off x="680400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7236000" y="306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84720" y="314172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529272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514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5867280" y="31417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372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4427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3419640" y="2276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لفظ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3492360" y="1341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م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1187280" y="3933720"/>
            <a:ext cx="69850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تعليق على التعزيز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أول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أولى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ثاني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ثالث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أحسنت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ا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لثالث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رابع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رابع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ثانية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خامس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أولى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مادي..حلوى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1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11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0" y="26028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جدول الاستجابات: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دد الاستجابات لايزيد عن أربعة استجابات(المحاولات) وكل استجابة لها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درجتين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84360" y="620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4920" y="1268280"/>
          <a:ext cx="8858160" cy="3349800"/>
        </p:xfrm>
        <a:graphic>
          <a:graphicData uri="http://schemas.openxmlformats.org/drawingml/2006/table">
            <a:tbl>
              <a:tblPr/>
              <a:tblGrid>
                <a:gridCol w="3529080"/>
                <a:gridCol w="863640"/>
                <a:gridCol w="865080"/>
                <a:gridCol w="863640"/>
                <a:gridCol w="844560"/>
                <a:gridCol w="1892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سبة تحقق الأهدا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أ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(عدد استجابات الطالب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(العدد الكلي للاستجابات)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5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%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825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و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2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2" name="Line 52"/>
          <p:cNvSpPr/>
          <p:nvPr/>
        </p:nvSpPr>
        <p:spPr>
          <a:xfrm flipV="1">
            <a:off x="7020000" y="1268280"/>
            <a:ext cx="187308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2"/>
          <p:cNvSpPr/>
          <p:nvPr/>
        </p:nvSpPr>
        <p:spPr>
          <a:xfrm>
            <a:off x="6804000" y="1341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الاستجاب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179280" y="4967280"/>
            <a:ext cx="860436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تعليق على الاستجاب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في الهدف الأول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95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الثاني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80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75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%</a:t>
            </a:r>
            <a:r>
              <a:rPr b="1" lang="ar-SA" sz="2000" spc="-1" strike="noStrike">
                <a:solidFill>
                  <a:srgbClr val="04617b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 الثالث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و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62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*</a:t>
            </a: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نموذج لمحتويات الجلسة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* </a:t>
            </a:r>
            <a:br>
              <a:rPr sz="3500"/>
            </a:br>
            <a:r>
              <a:rPr b="0" lang="ar-SA" sz="35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 مهارة الجمع بالحمل</a:t>
            </a:r>
            <a:r>
              <a:rPr b="0" lang="ar-SA" sz="3500" spc="-1" strike="noStrike">
                <a:solidFill>
                  <a:srgbClr val="009900"/>
                </a:solidFill>
                <a:latin typeface="Calibri"/>
              </a:rPr>
              <a:t>)</a:t>
            </a:r>
            <a:br>
              <a:rPr sz="3500"/>
            </a:b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الجلسة رقم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تاريخ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دت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كان تنفيذ الجلسة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وضوع الجلسة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: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Constantia"/>
              </a:rPr>
              <a:t>الهدف قصير المدى: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أن تجمع الطالبة عدد مكون  من </a:t>
            </a:r>
            <a:r>
              <a:rPr b="1" lang="ar-SA" sz="2400" spc="-1" strike="noStrike">
                <a:solidFill>
                  <a:srgbClr val="009900"/>
                </a:solidFill>
                <a:latin typeface="Constantia"/>
              </a:rPr>
              <a:t>منزلة واحدة</a:t>
            </a:r>
            <a:r>
              <a:rPr b="1" lang="ar-SA" sz="24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مع عدد مكون من </a:t>
            </a:r>
            <a:r>
              <a:rPr b="1" lang="ar-SA" sz="2400" spc="-1" strike="noStrike">
                <a:solidFill>
                  <a:srgbClr val="009900"/>
                </a:solidFill>
                <a:latin typeface="Constantia"/>
              </a:rPr>
              <a:t>منزلة واحدة</a:t>
            </a:r>
            <a:r>
              <a:rPr b="1" lang="ar-SA" sz="24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ذلك    بنسبة نجاح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 % في جلسة واحدة.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cc0000"/>
                </a:solidFill>
                <a:latin typeface="Calibri"/>
              </a:rPr>
              <a:t>الأهداف السلوك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 تتعرف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 على مفهوم 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( الجمع)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عد الشرح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ميز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إشارة 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( +  )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من بين  الإشارات  المعروضة عندما يطلب منها ذلك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لو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إشارة لجمع بعد عرضها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محاولة واحد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قراء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مسألة الجمع بعد قراءة المعلمة بنسبة نجاح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.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جمع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عدد مكون  من منزلتين مع عدد مكون من منزلتين  بالحمل  عنما يطلب منها ذلك بنسبة نجاح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 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4"/>
          <p:cNvSpPr/>
          <p:nvPr/>
        </p:nvSpPr>
        <p:spPr>
          <a:xfrm>
            <a:off x="615636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156360" y="44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615636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15636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15636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156360" y="20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615636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6156360" y="162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6156360" y="119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6156360" y="40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58800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 flipV="1">
            <a:off x="694836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 flipV="1">
            <a:off x="738036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9"/>
          <p:cNvSpPr/>
          <p:nvPr/>
        </p:nvSpPr>
        <p:spPr>
          <a:xfrm flipV="1">
            <a:off x="774072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0"/>
          <p:cNvSpPr/>
          <p:nvPr/>
        </p:nvSpPr>
        <p:spPr>
          <a:xfrm flipV="1">
            <a:off x="810108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1"/>
          <p:cNvSpPr/>
          <p:nvPr/>
        </p:nvSpPr>
        <p:spPr>
          <a:xfrm flipV="1">
            <a:off x="845964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156360" y="566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6156360" y="5661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 flipV="1">
            <a:off x="6156360" y="8362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5435640" y="1052640"/>
            <a:ext cx="6332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468360" y="981000"/>
            <a:ext cx="3527280" cy="682092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رسم البياني قبل الاختبار البعدي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نضع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سبة الهدف القصير المدى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من جدول الاستجابات ويكون الهدف السلوكي الأخير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الهدف الأول: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صلت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طالبة على نسبة نجاح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% مثلا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هدف الثاني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صلت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البة على نسبة نجاح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% مثلا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............... وهكذا حتى انتهاء جميع الأهداف القصيرة ثم نقوم بتوضيحها  على الرسم البياني 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4643280" y="189000"/>
            <a:ext cx="14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99"/>
                </a:solidFill>
                <a:latin typeface="Arial"/>
              </a:rPr>
              <a:t>النسبة المئوية لمدى تحقق الهدف قصير المد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8244000" y="6021360"/>
            <a:ext cx="9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c0000"/>
                </a:solidFill>
                <a:latin typeface="Arial"/>
              </a:rPr>
              <a:t>الأهداف القصي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 u="sng">
                <a:solidFill>
                  <a:srgbClr val="cc0000"/>
                </a:solidFill>
                <a:uFillTx/>
                <a:latin typeface="Calibri"/>
              </a:rPr>
              <a:t>جلسة تثبيت المهارة</a:t>
            </a:r>
            <a:r>
              <a:rPr b="1" lang="ar-SA" sz="3800" spc="-1" strike="noStrike" u="sng">
                <a:solidFill>
                  <a:srgbClr val="003300"/>
                </a:solidFill>
                <a:uFillTx/>
                <a:latin typeface="Calibri"/>
              </a:rPr>
              <a:t>(( </a:t>
            </a:r>
            <a:r>
              <a:rPr b="1" lang="ar-SA" sz="3800" spc="-1" strike="noStrike" u="sng">
                <a:solidFill>
                  <a:srgbClr val="cc0000"/>
                </a:solidFill>
                <a:uFillTx/>
                <a:latin typeface="Calibri"/>
              </a:rPr>
              <a:t>الاختبار البعدي</a:t>
            </a:r>
            <a:r>
              <a:rPr b="1" lang="ar-SA" sz="3800" spc="-1" strike="noStrike" u="sng">
                <a:solidFill>
                  <a:srgbClr val="003300"/>
                </a:solidFill>
                <a:uFillTx/>
                <a:latin typeface="Calibri"/>
              </a:rPr>
              <a:t>)):</a:t>
            </a:r>
            <a:br>
              <a:rPr sz="3800"/>
            </a:b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هذه الجلسة نتبع فيها نفس خطوات الجلسات السابقة..ولكن لا نضع فيها الرسم البياني للتعزيز ولا جدول استجابات ولا التعليق على الاستجابات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داية الجلسة تكون بالهدف طويل المدى ثم الأهداف القصيرة المدى( تكون هي الأهداف السلوكية) ثم الوسائل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تعليمية ثم التمهيد ثم العرض فالتعزيز وأخيرا التعليق على التعزي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                  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يعرض في هذه الجلسة أسئلة الامتحان البعدي.. ويكون هذا الاختبار مكون من أسئلة شاملة لجميع الأهداف القصير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حيث تكون درجة كل سؤال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 درجات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إذا أخذت الطالبة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م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أحسبها بالشكل التالي: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÷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×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=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..وهكذ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إذا أخذت الطالبة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5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م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أحسبها بالشكل التالي: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÷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×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 =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5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..وهكذ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ثم أضع النسب في الرسم البياني التالي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8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635280" y="260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>
            <a:off x="234000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2340000" y="5589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28432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 flipV="1">
            <a:off x="320364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 flipV="1">
            <a:off x="356400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428472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4716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611280" y="5661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                               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7524720" y="5373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Arial"/>
              </a:rPr>
              <a:t>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234000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34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2340000" y="4076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2340000" y="35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234000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234000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234000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234000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2340000" y="162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2340000" y="119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1332000" y="981000"/>
            <a:ext cx="9205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84360" y="33336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Arial"/>
              </a:rPr>
              <a:t>الن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3780000" y="1052640"/>
            <a:ext cx="4537080" cy="1224000"/>
          </a:xfrm>
          <a:prstGeom prst="rect">
            <a:avLst/>
          </a:prstGeom>
          <a:solidFill>
            <a:srgbClr val="ffff00">
              <a:alpha val="25000"/>
            </a:srgbClr>
          </a:soli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الرسم البياني لمدى تحقق الأ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 قصيرة المدى بعد الاختبار ال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611280" y="620640"/>
            <a:ext cx="74898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توصي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تقرير النه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م الطالبة........................... الصف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جلسات خلال الشهر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دد مرات غياب الطالبة (        )    مبررات ذلك :      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1547640" y="60480"/>
            <a:ext cx="712980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- عدد مرات عدم إحضار المعينات السمعية: (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بررات ذل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- درجة استجابة الطالبة خلال الجلسات :( 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بررات ذل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ماتم تحقيقة من الخطة الفردي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معوقات الخط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7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7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7"/>
          <p:cNvSpPr txBox="1"/>
          <p:nvPr/>
        </p:nvSpPr>
        <p:spPr>
          <a:xfrm>
            <a:off x="3059280" y="2708280"/>
            <a:ext cx="3227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"/>
              </a:rPr>
              <a:t>تمت بحمد الله وتوفيق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2627280" y="549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47640" y="1341360"/>
            <a:ext cx="604872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هـ/الحالة التعليمية للطالب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اريخ الالتحاق بــ (المعهد , المدرسة):     /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مر عند الالتحاق: 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ستواها الدراسي: 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طريقة التواصل المفضلة: 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لومات أخرى: 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428840" y="571680"/>
            <a:ext cx="7272360" cy="5997600"/>
          </a:xfrm>
          <a:prstGeom prst="rect">
            <a:avLst/>
          </a:prstGeom>
          <a:solidFill>
            <a:srgbClr val="0f6fc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ختبارات والمقاييس</a:t>
            </a:r>
            <a:r>
              <a:rPr b="0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أ)الرس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ثل: (متاهات بور تيوس – لوحة جودا رد – رسم الرجل – بينيه )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ب)غير الرس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071720" y="117360"/>
            <a:ext cx="7713360" cy="6643800"/>
          </a:xfrm>
          <a:prstGeom prst="rect">
            <a:avLst/>
          </a:prstGeom>
          <a:solidFill>
            <a:srgbClr val="dde3bb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* </a:t>
            </a: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المادة المختارة:  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المهارة المطلوب تحسينها:  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مادة: 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فصل: ....................................... 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نطق:  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الأخصائية النفسية: 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الأخصائية الاجتماعية: </a:t>
            </a: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- سبب اختيارك للطالبة لتطبيق الخطة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فردية :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187280" y="260280"/>
            <a:ext cx="67694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تقييم مستوى الأداء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مكن التعرف على مستوى الأداء الحالي من خلال العديد من المحاور  أهمه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Tahoma"/>
              </a:rPr>
              <a:t>القدرات العـق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Bsher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7280" y="1989000"/>
          <a:ext cx="6913800" cy="3629160"/>
        </p:xfrm>
        <a:graphic>
          <a:graphicData uri="http://schemas.openxmlformats.org/drawingml/2006/table">
            <a:tbl>
              <a:tblPr/>
              <a:tblGrid>
                <a:gridCol w="1662120"/>
                <a:gridCol w="997200"/>
                <a:gridCol w="930240"/>
                <a:gridCol w="1063440"/>
                <a:gridCol w="1033560"/>
                <a:gridCol w="1227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ق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ذ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تبا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در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مي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ك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خي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5" name="Text Box 77"/>
          <p:cNvSpPr/>
          <p:nvPr/>
        </p:nvSpPr>
        <p:spPr>
          <a:xfrm>
            <a:off x="1187280" y="5877000"/>
            <a:ext cx="69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 قدرات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أخرى: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140360" y="260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cc0000"/>
                </a:solidFill>
                <a:latin typeface="Tahoma"/>
                <a:cs typeface="Tahoma"/>
              </a:rPr>
              <a:t>القدرات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 الحسية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907920"/>
          <a:ext cx="6840360" cy="2538720"/>
        </p:xfrm>
        <a:graphic>
          <a:graphicData uri="http://schemas.openxmlformats.org/drawingml/2006/table">
            <a:tbl>
              <a:tblPr/>
              <a:tblGrid>
                <a:gridCol w="1208160"/>
                <a:gridCol w="1015920"/>
                <a:gridCol w="1015920"/>
                <a:gridCol w="1015920"/>
                <a:gridCol w="1016280"/>
                <a:gridCol w="156816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س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م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ص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8" name="Text Box 59"/>
          <p:cNvSpPr/>
          <p:nvPr/>
        </p:nvSpPr>
        <p:spPr>
          <a:xfrm>
            <a:off x="1042920" y="4869000"/>
            <a:ext cx="662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36:19Z</dcterms:created>
  <dc:creator>**</dc:creator>
  <dc:description/>
  <dc:language>en-US</dc:language>
  <cp:lastModifiedBy>N al_dajani</cp:lastModifiedBy>
  <dcterms:modified xsi:type="dcterms:W3CDTF">2016-11-24T03:49:03Z</dcterms:modified>
  <cp:revision>88</cp:revision>
  <dc:subject/>
  <dc:title>الشريحة 1</dc:title>
</cp:coreProperties>
</file>