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DD30-640A-4BA8-8D8D-3DE3AB4184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0B02-2DAB-495C-B644-62A105DC34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279-D030-49DD-A7E3-AC2C389D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0A6-0595-49CC-916C-26EA63EF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02E-32F4-4A77-8B3E-1608B3D0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89D-F59B-47CB-9EEF-5EFB3A48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3FE5-DEA3-45AB-8592-8DACFC0F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B94F-90FF-4365-8D4E-9CE82FB3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6409-CAE9-4AAB-A0A4-36FB2E30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6BD2-D452-47BA-87A0-8CE42A93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F7EF-D07A-4676-85CA-400D2B48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5F94-23B0-47DB-B26C-A14AA90A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1C91-5B45-458E-A07A-0C983BC8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CCF-D774-4473-A92F-F4EDE413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C46D-3AD3-43BA-B9E6-5909FC98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3A4A-9AAA-4FEF-88C0-50E33A16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933F-D91F-40ED-88BE-050E44E1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5171-4569-4141-B346-7A71B1BD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2708-AB5C-4C9B-85DA-17CAE8D6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40A18-8C44-413E-9A21-B8D814BE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343D-1341-4917-9D04-7F4BFE11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BD72-681D-4BA3-8E6E-B3964AC6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79D5-E965-4DAE-B774-42B16F9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5E51-58B1-4FBC-81CE-0F35729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6A6-E9CA-440C-84AE-EC06B96A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6168-92A8-4D29-AE4C-84305E7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A273-F426-4450-925D-07526E4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DA57-2759-4FD2-8C0D-479B0533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30DC-17AD-4760-9180-AA77A93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D2F5-8F02-483B-BC1C-8C8CD803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2207-7F65-4805-88EF-FE2129B2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A4FD-9505-4D5D-991A-278ED862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46335-74E4-4F40-A4E2-8F8F69AB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1CBC-BA73-4DA8-8FA8-AE81A1DA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F897D-EF82-44C9-BECF-4D5F3FC8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9FE-C9E2-4520-8B3A-913CC804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E20A-76BA-4842-B687-4DF240D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8BE9-DA8E-4A09-9DF2-089D4D6E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EBB82-67BF-41F5-9415-EDD0622B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B57F-FA47-4E57-9023-EA123A60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4E05-6757-437A-AB0B-482BBF87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DD4C-F7EE-4AE2-ACB0-73B0FFF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8332-402A-4A0C-9C6E-1F836CE6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B82A-B91F-4578-9A1D-48066223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2B1F-DCD5-4897-AF8E-6EB0B069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36198-2146-4872-AC3B-072E641C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76F-1380-4672-B3AB-2FFAFE4B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BD63-10C3-4647-9861-51678347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55E8-C23C-4D87-A535-95A549E2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5BA6-463C-4D0D-B527-2562077D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0583-178A-4A9B-900B-CD6FAD12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E664-136F-4718-90C9-D207E6CB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3A1B7-60A0-48C9-894C-E8DEE79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10ED-7F69-499B-98BB-D7226196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D424-F61A-443B-897F-E418BFCC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18BE9-5FAD-4E10-80CC-1322A60C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BA9B7-676A-4F54-B4A0-2CE58A8D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293-776A-4E70-B9D8-01302C2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CBA7E-C496-4470-8D23-AFED3BEC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B774-28FE-48B4-88B0-ED9A69AB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F63D8-E8F6-497E-A4CC-EDDF627A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B204-5F3E-4E9B-AD03-DEED7B44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FB11-8ED2-4F17-A9FF-AF256BCE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8A4B4-4CE3-4F06-9CF8-33B49285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5B54-0940-4225-9B37-65A221F5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73877-405F-4E7F-9012-7D8C24EA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96702-67F5-4581-8A52-D1EC0828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B08C2-B652-489B-8F2B-ABDFAE0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9DE-5AE5-4A07-992F-7466F52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287D5-15AC-45CC-BB2E-AB0C7F9A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00C1-C506-49D1-94A4-946A0297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F2D74-DCA8-4CFB-B7D9-3EA00DCC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C925A-58A1-48B5-98E7-50A8EAA6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B1424-19D4-490C-B559-E9C6FC19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55F12-AFFB-46C5-B034-A75BB1A1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3B2C1-1F88-4C69-A566-DE1481D5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77204-F4DE-4AA5-B587-E7C731D1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70BF1-DE5D-441F-8F84-0DAB08DE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13637-9749-4368-9962-4D94434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9C3-F78A-47DD-836B-FF5C956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ABEC2-5B92-4320-8E0E-8CE59242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3873-536F-4F0C-93F4-4734276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A16F9-53D0-46C7-9E6C-3C342AA9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35F6D-CB15-497A-A8C4-A68A95D3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C759-C56D-46DD-A550-187EBC0C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CB8F4-1AE9-47A2-BA42-8A4DD75F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3AFCA-EB1D-4AD8-822D-6CD53D98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BA7BD-2ED4-46CB-9734-9667EE8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4D393-A956-4BA8-9619-A6A1F0B4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74AA3-2335-4142-AC0E-F326BE7B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D8C-3A39-4BBD-BB14-BA7E7607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12C0-12A9-45D9-8DB5-A7F061E8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9EAAC-98D0-492F-A7A5-76CD1BDF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72282-5D0D-4DEE-8DAA-C1BAD568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4C85E-448E-4E92-B540-FB5BCE0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CDAD-CE11-4EA1-94B3-10D87633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8A5F9-035E-45AE-A4CD-CFFDC276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E838-68BA-4C95-987C-F5730586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D2F-CBF9-496F-8866-DE5E0FBEDC4E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6C3A-6755-430F-8FF5-4977DAEE40CF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eded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98F7-6CF5-467D-934F-BF4C405C42BF}" type="slidenum">
              <a:rPr b="0" lang="ar-SA" sz="1400" spc="-1" strike="noStrike">
                <a:solidFill>
                  <a:srgbClr val="dede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E826-35B5-4CBA-AB8F-C4E511CE1269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D85C-A07F-45B4-B7FD-76D169637A8A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C071-2D20-42D0-9B19-A20CDD6057B3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eded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8286-095D-4742-9984-543A5F2B5A10}" type="slidenum">
              <a:rPr b="0" lang="ar-SA" sz="1400" spc="-1" strike="noStrike">
                <a:solidFill>
                  <a:srgbClr val="dede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0B70-B2A4-40D4-8242-A3B7BEFB549E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38086"/>
                </a:solidFill>
                <a:latin typeface="Century Schoolbook"/>
              </a:rPr>
              <a:t>مقاييس ذكاء عملي - المحاضرة الثان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مستطيل 3"/>
          <p:cNvSpPr/>
          <p:nvPr/>
        </p:nvSpPr>
        <p:spPr>
          <a:xfrm>
            <a:off x="1357200" y="385776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3548a"/>
                </a:solidFill>
                <a:latin typeface="Monotype Koufi"/>
                <a:cs typeface="Monotype Koufi"/>
              </a:rPr>
              <a:t>اختبار المصفوفات المتت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صورة 7" descr="تنزيل (1).jpg"/>
          <p:cNvPicPr/>
          <p:nvPr/>
        </p:nvPicPr>
        <p:blipFill>
          <a:blip r:embed="rId1"/>
          <a:stretch/>
        </p:blipFill>
        <p:spPr>
          <a:xfrm>
            <a:off x="1785960" y="571680"/>
            <a:ext cx="5715000" cy="2928600"/>
          </a:xfrm>
          <a:prstGeom prst="rect">
            <a:avLst/>
          </a:prstGeom>
          <a:ln w="9360">
            <a:solidFill>
              <a:srgbClr val="53548a"/>
            </a:solidFill>
            <a:miter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Last Need\Pictures\1433-03-26 r1\r1 001.jpg"/>
          <p:cNvPicPr/>
          <p:nvPr/>
        </p:nvPicPr>
        <p:blipFill>
          <a:blip r:embed="rId1"/>
          <a:stretch/>
        </p:blipFill>
        <p:spPr>
          <a:xfrm>
            <a:off x="878040" y="1706400"/>
            <a:ext cx="6949800" cy="3670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Last Need\Pictures\1433-03-26 i8\i8 001.jpg"/>
          <p:cNvPicPr/>
          <p:nvPr/>
        </p:nvPicPr>
        <p:blipFill>
          <a:blip r:embed="rId1"/>
          <a:stretch/>
        </p:blipFill>
        <p:spPr>
          <a:xfrm>
            <a:off x="1328760" y="1438200"/>
            <a:ext cx="5913360" cy="4140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Users\Last Need\Pictures\1433-03-26 lk\lk 001.jpg"/>
          <p:cNvPicPr/>
          <p:nvPr/>
        </p:nvPicPr>
        <p:blipFill>
          <a:blip r:embed="rId1"/>
          <a:stretch/>
        </p:blipFill>
        <p:spPr>
          <a:xfrm>
            <a:off x="768240" y="476280"/>
            <a:ext cx="675972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1714680" y="2357280"/>
          <a:ext cx="6095880" cy="29671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7152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9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فما فو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متاز عقلي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37008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75-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فوق ال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7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90-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26-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25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50-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6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اقل من ال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6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11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 فأق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تخلف عقلي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  <p:sp>
        <p:nvSpPr>
          <p:cNvPr id="379" name="مستطيل 4"/>
          <p:cNvSpPr/>
          <p:nvPr/>
        </p:nvSpPr>
        <p:spPr>
          <a:xfrm>
            <a:off x="2428920" y="42876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38086"/>
                </a:solidFill>
                <a:latin typeface="Arial"/>
                <a:cs typeface="PT Bold Heading"/>
              </a:rPr>
              <a:t>يتم تصنيف على النحو التالي</a:t>
            </a:r>
            <a:r>
              <a:rPr b="0" lang="ar-SA" sz="1800" spc="-1" strike="noStrike">
                <a:solidFill>
                  <a:srgbClr val="438086"/>
                </a:solidFill>
                <a:latin typeface="Arial"/>
                <a:ea typeface="PT Bold Heading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ctr"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28760" y="571320"/>
            <a:ext cx="8229600" cy="34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Century Schoolbook"/>
                <a:cs typeface="PT Bold Heading"/>
              </a:rPr>
              <a:t>يتم تصنيف على النحو التالي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09440" algn="ct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428840" y="1928880"/>
          <a:ext cx="6643440" cy="3643200"/>
        </p:xfrm>
        <a:graphic>
          <a:graphicData uri="http://schemas.openxmlformats.org/drawingml/2006/table">
            <a:tbl>
              <a:tblPr/>
              <a:tblGrid>
                <a:gridCol w="4429080"/>
                <a:gridCol w="221436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95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 فما فو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متاز عقلي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85896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75-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فوق المتوس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84780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26-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توس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84780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6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اقل من المتوس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5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 فأق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تخلف عقلي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85840" y="285480"/>
            <a:ext cx="5257800" cy="785880"/>
          </a:xfrm>
          <a:prstGeom prst="rect">
            <a:avLst/>
          </a:prstGeom>
          <a:solidFill>
            <a:srgbClr val="dee9f0"/>
          </a:solidFill>
          <a:ln w="9360">
            <a:solidFill>
              <a:srgbClr val="53548a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marL="318960"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24456"/>
                </a:solidFill>
                <a:latin typeface="Monotype Koufi"/>
                <a:cs typeface="Monotype Koufi"/>
              </a:rPr>
              <a:t>اختبار المصفوفات المتتابعة ( رافن )</a:t>
            </a:r>
            <a:endParaRPr b="0" lang="en-US" sz="2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1785960"/>
            <a:ext cx="822960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Monotype Koufi"/>
                <a:cs typeface="Monotype Koufi"/>
              </a:rPr>
              <a:t>أنواع المصفوفات المتتابعة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buClr>
                <a:srgbClr val="a04d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entury Schoolbook"/>
              </a:rPr>
              <a:t>اختبار المصفوفات المتتابعة الملون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buClr>
                <a:srgbClr val="a04d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entury Schoolbook"/>
              </a:rPr>
              <a:t>اختبار المصفوفات المتتابعة المتقدم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buClr>
                <a:srgbClr val="a04d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entury Schoolbook"/>
              </a:rPr>
              <a:t>اختبار المصفوفات المتتابعة العادي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3bcc1"/>
                </a:solidFill>
                <a:latin typeface="Monotype Koufi"/>
                <a:cs typeface="Monotype Koufi"/>
              </a:rPr>
              <a:t>اختبار المصفوفات المتتابعة العادي ( </a:t>
            </a:r>
            <a:r>
              <a:rPr b="0" lang="ar-SA" sz="2400" spc="-1" strike="noStrike">
                <a:solidFill>
                  <a:srgbClr val="83bcc1"/>
                </a:solidFill>
                <a:latin typeface="Monotype Koufi"/>
                <a:ea typeface="Monotype Koufi"/>
              </a:rPr>
              <a:t>6</a:t>
            </a:r>
            <a:r>
              <a:rPr b="0" lang="ar-SA" sz="2400" spc="-1" strike="noStrike">
                <a:solidFill>
                  <a:srgbClr val="83bcc1"/>
                </a:solidFill>
                <a:latin typeface="Monotype Koufi"/>
                <a:ea typeface="Monotype Koufi"/>
              </a:rPr>
              <a:t>-</a:t>
            </a:r>
            <a:r>
              <a:rPr b="0" lang="ar-SA" sz="2400" spc="-1" strike="noStrike">
                <a:solidFill>
                  <a:srgbClr val="83bcc1"/>
                </a:solidFill>
                <a:latin typeface="Monotype Koufi"/>
                <a:ea typeface="Monotype Koufi"/>
              </a:rPr>
              <a:t>12</a:t>
            </a:r>
            <a:r>
              <a:rPr b="0" lang="ar-SA" sz="2400" spc="-1" strike="noStrike">
                <a:solidFill>
                  <a:srgbClr val="83bcc1"/>
                </a:solidFill>
                <a:latin typeface="Monotype Koufi"/>
                <a:ea typeface="Monotype Koufi"/>
              </a:rPr>
              <a:t> سنة ) </a:t>
            </a:r>
            <a:endParaRPr b="0" lang="en-US" sz="24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Monotype Koufi"/>
                <a:cs typeface="Monotype Koufi"/>
              </a:rPr>
              <a:t>وصف الاختبار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يعتمد رافن للمصفوفات على الأداء العملي في قياس الذكاء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ويتكون الاختبار من 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60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مصفوفة مقسمة إلى خمس مجموعات كل مجموعة تحتوي على 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12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مصفوفة متدرجة في الصعوبة من دقة الملاحظة حتى الوصول إلى قياس إدراك العلاقات العامة التي تتصل بالجوانب العقلية المجرد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تتكون كل مصفوفة من شكل كبير حذف جزء  منه وعلى المفحوص أن يحدد الجزء الناقص من بين ( 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6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) أو  ( 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8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) أشكال معروضة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1428480"/>
            <a:ext cx="82296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99160" indent="-209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Century Schoolbook"/>
                <a:cs typeface="PT Bold Heading"/>
              </a:rPr>
              <a:t>مميزات الاختبار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أنه غير متأثر بالجوانب الثقافي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أنه من أفضل المقاييس التي تستخدم في التصفية المبدئي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أنه اختبار قوة وليس سرع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أنه من أفضل المقاييس في الوقت الحاضر لقياس الذكاء العام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يقيس مكونات عوامل الاستدلال – استنتاج العلاقات – لعوامل المكانية في بعض وحداته كما كشف عن ذلك دراسات في التحليل العاملي لهذا الاختبار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إن معاملات الارتباط بين هذا الاختبار والاختبارات اللفظية مرتفع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39640" y="1356840"/>
            <a:ext cx="822960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Century Schoolbook"/>
                <a:cs typeface="PT Bold Heading"/>
              </a:rPr>
              <a:t>تعليمات تطبيق الاختبار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ترك مسافة بين المقاعد حتى يستطيع الفاحص التجول بين المفحوصين لمتابعة أداءهم ولعدم إتاحة فرصة التعاون بين المفحوصين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طلب من المفحوصين رفع أي شيء عن الدرج عدا القلم الرصا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وضح للمفحوصين بأن الاختبار يتكون من ورقة أسئلة وورقة إجابة منفصل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توزع أوراق الإجابة ويطلب من المفحوصين كتابة البيانات المطلوب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 بعد ذلك توزع كراسات الاختبار ويطلب من المفحوصين عدم فتحها قبل أن يؤذن لهم وعدم كتابة أي شيء عليها لأن الإجابة ستسجل على ورقة الإجابة فقط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بدأ الاختبار بقول المفحوص افتحوا الكراسات على الصفحة الأولى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39640" y="112500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Century Schoolbook"/>
                <a:cs typeface="PT Bold Heading"/>
              </a:rPr>
              <a:t>تعليمات تطبيق الاختبار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ترك مسافة بين المقاعد حتى يستطيع الفاحص التجول بين المفحوصين لمتابعة أداءهم ولعدم إتاحة فرصة التعاون بين المفحوصين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طلب من المفحوصين رفع أي شيء عن الدرج عدا القلم الرصا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وضح للمفحوصين بأن الاختبار يتكون من ورقة أسئلة وورقة إجابة منفصل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توزع أوراق الإجابة ويطلب من المفحوصين كتابة البيانات المطلوب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 بعد ذلك توزع كراسات الاختبار ويطلب من المفحوصين عدم فتحها قبل أن يؤذن لهم وعدم كتابة أي شيء عليها لأن الإجابة ستسجل على ورقة الإجابة فقط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بدأ الاختبار بقول المفحوص افتحوا الكراسات على الصفحة الأولى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C:\Users\Last Need\Pictures\1433-03-26 kkj\kkj 001.jpg"/>
          <p:cNvPicPr/>
          <p:nvPr/>
        </p:nvPicPr>
        <p:blipFill>
          <a:blip r:embed="rId1"/>
          <a:srcRect l="13673" t="12030" r="18314" b="24481"/>
          <a:stretch/>
        </p:blipFill>
        <p:spPr>
          <a:xfrm>
            <a:off x="214200" y="71280"/>
            <a:ext cx="8143920" cy="6786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C:\Users\Last Need\Pictures\1433-03-26 ghg\ghg 001.jpg"/>
          <p:cNvPicPr/>
          <p:nvPr/>
        </p:nvPicPr>
        <p:blipFill>
          <a:blip r:embed="rId1"/>
          <a:srcRect l="19819" t="16280" r="12348" b="16027"/>
          <a:stretch/>
        </p:blipFill>
        <p:spPr>
          <a:xfrm>
            <a:off x="1908000" y="765000"/>
            <a:ext cx="5567400" cy="464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14680" y="500040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69b7e"/>
                </a:solidFill>
                <a:latin typeface="Arial Black"/>
                <a:cs typeface="DecoType Naskh Variants"/>
              </a:rPr>
              <a:t>مفتاح التصحيح </a:t>
            </a:r>
            <a:r>
              <a:rPr b="0" lang="ar-SA" sz="4800" spc="-1" strike="noStrike">
                <a:solidFill>
                  <a:srgbClr val="c69b7e"/>
                </a:solidFill>
                <a:latin typeface="Wingdings"/>
                <a:ea typeface="Wingdings"/>
              </a:rPr>
              <a:t></a:t>
            </a:r>
            <a:endParaRPr b="0" lang="en-US" sz="48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374" name="Picture 2" descr="C:\Users\Last Need\Pictures\1433-03-26 ق\ق 001.jpg"/>
          <p:cNvPicPr/>
          <p:nvPr/>
        </p:nvPicPr>
        <p:blipFill>
          <a:blip r:embed="rId1"/>
          <a:srcRect l="19398" t="12589" r="19847" b="36093"/>
          <a:stretch/>
        </p:blipFill>
        <p:spPr>
          <a:xfrm>
            <a:off x="642960" y="571680"/>
            <a:ext cx="748980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21:37:17Z</dcterms:created>
  <dc:creator>Micro</dc:creator>
  <dc:description/>
  <dc:language>en-US</dc:language>
  <cp:lastModifiedBy>المستخدم</cp:lastModifiedBy>
  <dcterms:modified xsi:type="dcterms:W3CDTF">2016-10-04T20:01:35Z</dcterms:modified>
  <cp:revision>24</cp:revision>
  <dc:subject/>
  <dc:title>مقياسي المخاوف للأطفال والرشادين</dc:title>
</cp:coreProperties>
</file>