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D47-4E35-45B9-B841-49EE76D45E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AD40-B9C9-48F4-9ECF-D83E350C0E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671-F5A2-4537-A2D5-EA43123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FD3-D2DB-4CC9-B333-FDDEEDA1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A49-31C4-4008-BF58-2847E5C6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A99-DF10-4045-B18A-129680CD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A9C-DFFA-4EB0-9C05-BEA5E6DB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E8F9-2760-4747-802F-E9BF6A7F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5F2-9A50-43E1-8195-C92AA926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234-4B1F-43A3-BFD1-F9F4DE5F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13EB-6AA7-4175-B6C9-60E0A9F9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B9B-689A-497F-8946-1FC860EA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17DE-930A-4016-AFD7-E89E7CF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660-BB6C-4F96-A462-14A886B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E59-9E07-4C2F-AC12-162C4620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5F92-C9BB-4B60-AD86-FD5821A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16EE-564D-4A38-BF1D-65B8136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2AA7-8F60-4A7E-9A02-409A2577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3AB-6DB8-4865-86CE-6145962A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2FD7-91A8-4A98-8A5A-EDE6EE29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72A3-19AA-4625-86DD-03A4D6F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551A-CA2F-4FE0-AB63-CD77B1CC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19B3-385F-453F-A76D-0A0A3B0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C2EB-4DDE-4396-9396-63E113DA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AA4-78FF-4940-8CD4-C59D2FDA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0758-BBDA-4CEA-9060-F5963D7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83B6-D718-4801-938C-904B222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4577-9EE8-4FF8-A427-54B0900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6D2D-E647-4BCF-AA6A-271488A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3E25-6B30-41AE-A83A-6FA1320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7670-B831-4866-B84A-5D26147D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04A1-5D43-40EE-9B1D-9EDDFD3E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24DD-8AE0-4799-92E5-AD4A00B5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C9EE-6F39-4A21-9895-607237FB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87F6-998C-4C7D-B62D-5A36FC0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008-3CF9-4EC1-A7F7-FC1945C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2F04-BE15-43CF-BA9A-0FC20217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1C31-B80E-4217-A325-112588F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F09E-5F59-441F-9119-39F9691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517C-FDD7-4FD0-AE48-8B813B9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5B25-3318-4ED2-806C-2D0FF48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DDEE-D476-43F5-943A-0E6CC15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516C-B927-44E2-96FB-63921B8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5902-13A0-4F31-BC33-828DBC6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0A1B-591B-4495-9F13-B5D19416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A53C-E172-44EE-8C9A-390618E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780-908A-414D-B213-05953250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D34B-BE06-47AB-8DBB-2616DBC7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7671-EA1D-44C0-A4F7-377A2A7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6B08-24D6-4C2B-8030-AAE6D9F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5F69A-0D1C-4864-A655-5DE9FF8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5F09-D44D-4F02-A968-F0587C7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EF0D-F870-41FA-9F77-20BB3B9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B587-8B72-4DF2-826F-5F814B2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67D1E-465E-4843-86EA-CDF6993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9E43E-46AE-49D4-8010-68344C41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12EB-44F7-4EB3-8B6E-B2D1F2AC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7F2-2652-4F2D-AA33-AB2B090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3C34C-8019-4BA5-A349-7AC111C9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0CF5-F54A-42FB-A1AB-0A3DC0BB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E4C0-D869-44F3-BC1B-046BE2F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76625-256A-441F-98B3-396545FE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DA1E-F816-4704-A399-2AE7C9E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B5A2-20CF-4247-9324-5F70C37B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07CE-9105-475A-94AD-3E93DA6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FBD7-E648-4C68-B605-919DDAC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618A-67BB-4498-93B2-CCF25A3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DE0C4-BFDC-4AC8-A7E5-D2F84B01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21F-C95F-4689-ADE2-38096B6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50450-DA88-47B1-B3BA-96BA8B0F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569F-167D-4D03-9C93-81F49611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D0BB-D56D-4408-9213-19A4E6B2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328B-D1A5-41AA-B71F-76CA5D7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9EB82-B9A8-48DA-B24C-49DB48D1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3A08-14E1-4713-9019-F473EDF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EF85-1687-4D0A-B5AD-2BE7C64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B9FBF-04FE-4D57-A2B6-FCDF29F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6884-58D1-482B-8996-EF3F2DC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FA6C7-F405-4778-B2A3-29E3DB41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1A4-9DAC-4D0D-9C93-8DF52F90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AAF1-1FD5-41C2-85DD-25ECB8E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9B6E-FE02-4873-BFDB-62F4381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D79B-C35B-434D-A743-5B8D7C6D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678CF-DD57-43E7-BBA1-B6920D01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C718-BC08-4406-B933-2D2C964A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9DBF-08CF-4948-B5E7-470F0AAE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78CEC-73EF-4712-98CC-AFA6C434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FDE7-BC56-4350-B437-6C50976E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4613-32DF-4BDE-A179-0668321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58CD-7E6C-4479-ACEF-3FA7714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D67-4116-412D-8012-650BDD0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5C3D-1EF6-4C09-9B82-4DDD2E8B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9FD3-81EC-45E5-84C0-512682F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39F41-6B74-4803-A5B8-D866100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AD8E-F012-44BB-8CAD-C3418C20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695A-D411-4EE4-BA5F-4DB24209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3589-697B-4BF1-93DF-57CA5F93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32809-F9EB-47A5-ACFB-7724D870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542-5A4B-43A1-BDF6-B92A25EFB506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920-9EAB-421A-B6F6-0E9909FC081D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5B9E-469E-43A8-AC67-D67AF67451D5}" type="slidenum"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FBC-E966-485F-9F76-E2E873DEFF5A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139-14CD-433C-8A98-2ABFC7BD9853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C8D1-66B1-4A58-84FF-A848BA306042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3C61-D051-41D8-8A7E-107749ECD17D}" type="slidenum">
              <a:rPr b="0" lang="ar-SA" sz="1400" spc="-1" strike="noStrike">
                <a:solidFill>
                  <a:srgbClr val="dede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43808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43808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3a7075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43808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463-75D9-491E-BF1F-E8D2681BC2F3}" type="slidenum">
              <a:rPr b="0" lang="ar-SA" sz="1400" spc="-1" strike="noStrike">
                <a:solidFill>
                  <a:srgbClr val="42445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38086"/>
                </a:solidFill>
                <a:latin typeface="Century Schoolbook"/>
              </a:rPr>
              <a:t>مقاييس ذكاء عملي - المحاضرة الثا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مستطيل 3"/>
          <p:cNvSpPr/>
          <p:nvPr/>
        </p:nvSpPr>
        <p:spPr>
          <a:xfrm>
            <a:off x="1357200" y="38577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3548a"/>
                </a:solidFill>
                <a:latin typeface="Monotype Koufi"/>
                <a:cs typeface="Monotype Koufi"/>
              </a:rPr>
              <a:t>اختبار المصفوفات المت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صورة 7" descr="تنزيل (1).jpg"/>
          <p:cNvPicPr/>
          <p:nvPr/>
        </p:nvPicPr>
        <p:blipFill>
          <a:blip r:embed="rId1"/>
          <a:stretch/>
        </p:blipFill>
        <p:spPr>
          <a:xfrm>
            <a:off x="1785960" y="571680"/>
            <a:ext cx="5715000" cy="2928600"/>
          </a:xfrm>
          <a:prstGeom prst="rect">
            <a:avLst/>
          </a:prstGeom>
          <a:ln w="9360">
            <a:solidFill>
              <a:srgbClr val="53548a"/>
            </a:solidFill>
            <a:miter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Last Need\Pictures\1433-03-26 r1\r1 001.jpg"/>
          <p:cNvPicPr/>
          <p:nvPr/>
        </p:nvPicPr>
        <p:blipFill>
          <a:blip r:embed="rId1"/>
          <a:stretch/>
        </p:blipFill>
        <p:spPr>
          <a:xfrm>
            <a:off x="878040" y="1706400"/>
            <a:ext cx="6949800" cy="3670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C:\Users\Last Need\Pictures\1433-03-26 i8\i8 001.jpg"/>
          <p:cNvPicPr/>
          <p:nvPr/>
        </p:nvPicPr>
        <p:blipFill>
          <a:blip r:embed="rId1"/>
          <a:stretch/>
        </p:blipFill>
        <p:spPr>
          <a:xfrm>
            <a:off x="1328760" y="1438200"/>
            <a:ext cx="5913360" cy="414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C:\Users\Last Need\Pictures\1433-03-26 lk\lk 001.jpg"/>
          <p:cNvPicPr/>
          <p:nvPr/>
        </p:nvPicPr>
        <p:blipFill>
          <a:blip r:embed="rId1"/>
          <a:stretch/>
        </p:blipFill>
        <p:spPr>
          <a:xfrm>
            <a:off x="768240" y="476280"/>
            <a:ext cx="675972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714680" y="2357280"/>
          <a:ext cx="6095880" cy="29671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ما فو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متاز عقلي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008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وق ال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0-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6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وس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715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5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0-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اقل من المتوس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3697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11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2"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أق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خلف عقلي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379" name="مستطيل 4"/>
          <p:cNvSpPr/>
          <p:nvPr/>
        </p:nvSpPr>
        <p:spPr>
          <a:xfrm>
            <a:off x="2428920" y="42876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38086"/>
                </a:solidFill>
                <a:latin typeface="Arial"/>
                <a:cs typeface="PT Bold Heading"/>
              </a:rPr>
              <a:t>يتم تصنيف على النحو التالي</a:t>
            </a:r>
            <a:r>
              <a:rPr b="0" lang="ar-SA" sz="1800" spc="-1" strike="noStrike">
                <a:solidFill>
                  <a:srgbClr val="438086"/>
                </a:solidFill>
                <a:latin typeface="Arial"/>
                <a:ea typeface="PT Bold Heading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28760" y="571320"/>
            <a:ext cx="8229600" cy="34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يتم تصنيف على النحو التالي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109440" algn="ct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28840" y="1928880"/>
          <a:ext cx="6643440" cy="3643200"/>
        </p:xfrm>
        <a:graphic>
          <a:graphicData uri="http://schemas.openxmlformats.org/drawingml/2006/table">
            <a:tbl>
              <a:tblPr/>
              <a:tblGrid>
                <a:gridCol w="4429080"/>
                <a:gridCol w="221436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9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ما فو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متاز عقلي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5896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75-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فوق المتوس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478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26-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وس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8478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6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اقل من المتوس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5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khbar MT"/>
                        </a:rPr>
                        <a:t> فأق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entury Schoolbook"/>
                          <a:cs typeface="Akhbar MT"/>
                        </a:rPr>
                        <a:t>متخلف عقلي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85840" y="285480"/>
            <a:ext cx="5257800" cy="785880"/>
          </a:xfrm>
          <a:prstGeom prst="rect">
            <a:avLst/>
          </a:prstGeom>
          <a:solidFill>
            <a:srgbClr val="dee9f0"/>
          </a:solidFill>
          <a:ln w="9360">
            <a:solidFill>
              <a:srgbClr val="53548a"/>
            </a:solidFill>
            <a:prstDash val="dash"/>
            <a:miter/>
          </a:ln>
        </p:spPr>
        <p:txBody>
          <a:bodyPr lIns="90000" rIns="90000" tIns="46800" bIns="46800" anchor="ctr">
            <a:noAutofit/>
          </a:bodyPr>
          <a:p>
            <a:pPr marL="318960"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24456"/>
                </a:solidFill>
                <a:latin typeface="Monotype Koufi"/>
                <a:cs typeface="Monotype Koufi"/>
              </a:rPr>
              <a:t>اختبار المصفوفات المتتابعة ( رافن )</a:t>
            </a:r>
            <a:endParaRPr b="0" lang="en-US" sz="2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1785960"/>
            <a:ext cx="822960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أنواع المصفوفات المتتابعة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ملو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متقد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buClr>
                <a:srgbClr val="a04d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entury Schoolbook"/>
              </a:rPr>
              <a:t>اختبار المصفوفات المتتابعة العاد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3bcc1"/>
                </a:solidFill>
                <a:latin typeface="Monotype Koufi"/>
                <a:cs typeface="Monotype Koufi"/>
              </a:rPr>
              <a:t>اختبار المصفوفات المتتابعة العادي ( 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6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-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12</a:t>
            </a:r>
            <a:r>
              <a:rPr b="0" lang="ar-SA" sz="2400" spc="-1" strike="noStrike">
                <a:solidFill>
                  <a:srgbClr val="83bcc1"/>
                </a:solidFill>
                <a:latin typeface="Monotype Koufi"/>
                <a:ea typeface="Monotype Koufi"/>
              </a:rPr>
              <a:t> سنة ) </a:t>
            </a:r>
            <a:endParaRPr b="0" lang="en-US" sz="2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Monotype Koufi"/>
                <a:cs typeface="Monotype Koufi"/>
              </a:rPr>
              <a:t>وصف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يعتمد رافن للمصفوفات على الأداء العملي في قياس الذكاء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ويتكون الاختبار من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60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مصفوفة مقسمة إلى خمس مجموعات كل مجموعة تحتوي على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12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مصفوفة متدرجة في الصعوبة من دقة الملاحظة حتى الوصول إلى قياس إدراك العلاقات العامة التي تتصل بالجوانب العقلية المجرد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تتكون كل مصفوفة من شكل كبير حذف جزء  منه وعلى المفحوص أن يحدد الجزء الناقص من بين (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6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) أو  ( 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8</a:t>
            </a: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 ) أشكال معروضة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668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1428480"/>
            <a:ext cx="82296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مميزات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غير متأثر بالجوانب الثقاف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من أفضل المقاييس التي تستخدم في التصفية المبدئي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اختبار قوة وليس سرع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أنه من أفضل المقاييس في الوقت الحاضر لقياس الذكاء العا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يقيس مكونات عوامل الاستدلال – استنتاج العلاقات – لعوامل المكانية في بعض وحداته كما كشف عن ذلك دراسات في التحليل العاملي لهذا الاختبار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buClr>
                <a:srgbClr val="a04da3"/>
              </a:buClr>
              <a:buSzPct val="76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إن معاملات الارتباط بين هذا الاختبار والاختبارات اللفظية مرتفع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99160" indent="-209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539640" y="1356840"/>
            <a:ext cx="822960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تعليمات تطبيق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ترك مسافة بين المقاعد حتى يستطيع الفاحص التجول بين المفحوصين لمتابعة أداءهم ولعدم إتاحة فرصة التعاون بين المفحوصي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طلب من المفحوصين رفع أي شيء عن الدرج عدا القلم الرصا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وضح للمفحوصين بأن الاختبار يتكون من ورقة أسئلة وورقة إجابة منفصل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توزع أوراق الإجابة ويطلب من المفحوصين كتابة البيانات المطلوب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 بعد ذلك توزع كراسات الاختبار ويطلب من المفحوصين عدم فتحها قبل أن يؤذن لهم وعدم كتابة أي شيء عليها لأن الإجابة ستسجل على ورقة الإجابة فقط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بدأ الاختبار بقول المفحوص افتحوا الكراسات على الصفحة الأولى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151200" algn="r" rtl="1">
              <a:lnSpc>
                <a:spcPct val="90000"/>
              </a:lnSpc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640" y="112500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38086"/>
                </a:solidFill>
                <a:latin typeface="Century Schoolbook"/>
                <a:cs typeface="PT Bold Heading"/>
              </a:rPr>
              <a:t>تعليمات تطبيق الاختبار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24456"/>
                </a:solidFill>
                <a:latin typeface="Century Schoolbook"/>
              </a:rPr>
              <a:t>ترك مسافة بين المقاعد حتى يستطيع الفاحص التجول بين المفحوصين لمتابعة أداءهم ولعدم إتاحة فرصة التعاون بين المفحوصين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طلب من المفحوصين رفع أي شيء عن الدرج عدا القلم الرصا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وضح للمفحوصين بأن الاختبار يتكون من ورقة أسئلة وورقة إجابة منفصل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توزع أوراق الإجابة ويطلب من المفحوصين كتابة البيانات المطلوبة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 بعد ذلك توزع كراسات الاختبار ويطلب من المفحوصين عدم فتحها قبل أن يؤذن لهم وعدم كتابة أي شيء عليها لأن الإجابة ستسجل على ورقة الإجابة فقط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4040"/>
                </a:solidFill>
                <a:latin typeface="Century Schoolbook"/>
              </a:rPr>
              <a:t>يبدأ الاختبار بقول المفحوص افتحوا الكراسات على الصفحة الأولى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147600" algn="r" rtl="1">
              <a:spcBef>
                <a:spcPts val="601"/>
              </a:spcBef>
              <a:buClr>
                <a:srgbClr val="406f8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C:\Users\Last Need\Pictures\1433-03-26 kkj\kkj 001.jpg"/>
          <p:cNvPicPr/>
          <p:nvPr/>
        </p:nvPicPr>
        <p:blipFill>
          <a:blip r:embed="rId1"/>
          <a:srcRect l="13673" t="12030" r="18314" b="24481"/>
          <a:stretch/>
        </p:blipFill>
        <p:spPr>
          <a:xfrm>
            <a:off x="214200" y="71280"/>
            <a:ext cx="8143920" cy="6786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C:\Users\Last Need\Pictures\1433-03-26 ghg\ghg 001.jpg"/>
          <p:cNvPicPr/>
          <p:nvPr/>
        </p:nvPicPr>
        <p:blipFill>
          <a:blip r:embed="rId1"/>
          <a:srcRect l="19819" t="16280" r="12348" b="16027"/>
          <a:stretch/>
        </p:blipFill>
        <p:spPr>
          <a:xfrm>
            <a:off x="1908000" y="765000"/>
            <a:ext cx="5567400" cy="4640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14680" y="500040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69b7e"/>
                </a:solidFill>
                <a:latin typeface="Arial Black"/>
                <a:cs typeface="DecoType Naskh Variants"/>
              </a:rPr>
              <a:t>مفتاح التصحيح </a:t>
            </a:r>
            <a:r>
              <a:rPr b="0" lang="ar-SA" sz="4800" spc="-1" strike="noStrike">
                <a:solidFill>
                  <a:srgbClr val="c69b7e"/>
                </a:solidFill>
                <a:latin typeface="Wingdings"/>
                <a:ea typeface="Wingdings"/>
              </a:rPr>
              <a:t></a:t>
            </a:r>
            <a:endParaRPr b="0" lang="en-US" sz="48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374" name="Picture 2" descr="C:\Users\Last Need\Pictures\1433-03-26 ق\ق 001.jpg"/>
          <p:cNvPicPr/>
          <p:nvPr/>
        </p:nvPicPr>
        <p:blipFill>
          <a:blip r:embed="rId1"/>
          <a:srcRect l="19398" t="12589" r="19847" b="36093"/>
          <a:stretch/>
        </p:blipFill>
        <p:spPr>
          <a:xfrm>
            <a:off x="642960" y="571680"/>
            <a:ext cx="748980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21:37:17Z</dcterms:created>
  <dc:creator>Micro</dc:creator>
  <dc:description/>
  <dc:language>en-US</dc:language>
  <cp:lastModifiedBy>المستخدم</cp:lastModifiedBy>
  <dcterms:modified xsi:type="dcterms:W3CDTF">2016-10-04T20:01:35Z</dcterms:modified>
  <cp:revision>24</cp:revision>
  <dc:subject/>
  <dc:title>مقياسي المخاوف للأطفال والرشادين</dc:title>
</cp:coreProperties>
</file>