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BD9AE-E3F2-4598-A1CC-053365D6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F8300-E347-4D2C-8F9F-D8F887C9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0F45F5-A368-480E-96CD-1F95692F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BC4048-7AB8-4056-BC8D-33DB7217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DECD57-CCA6-470C-A250-2A1C4EB5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78EEED-78CA-4AC3-8AB0-43B9B0E7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C37379-8763-4BCC-95D2-1B5964EE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929294-E41B-4C60-9003-B0105501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71245E-A8B7-48ED-9EE3-6CA4D870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ED2123-B84A-46DF-B335-0935FFF6F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339E77-068D-4116-AAD2-C23FD5EFA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FF49C2-FCEF-46F0-AB21-6A7962DF1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1D20A-D143-4A9D-8E8B-639B6CB9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8993B7-9F45-4A02-A681-07E39D45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025047-AD21-4BD5-BCD9-FEAA6944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575DD4-014C-4496-95D6-D03207CD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1D90BB-19F7-4AD9-A1EA-1DC9B299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9F2A0B-F4F8-40AA-BABD-1024E52A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E2D26A-7EAE-46A1-A2F0-71734F76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F2BEF3-81E4-4A93-A6DA-5037D6C9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6558DE-A0AE-4790-9148-9AF98066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2C966A-B2D9-43EE-8CDE-EF1D2D27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1C0D10-1683-464A-9955-726208642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39A1A-A223-4E80-AC6F-5E6329493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06ABD0-0D51-4DD1-B29D-21070C8C6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D81D18-ED70-4D53-855A-BDC258AC1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502FDC-4B0A-44E2-91F4-01C94407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43CCF6-BC6F-40D5-8EB0-C67F9745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507416-90C8-40A3-892A-4C03D2B0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9102E7-5B62-4766-ABC3-DE3CF192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5929663-4440-40D9-A753-080066F2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855C72-1E3C-457C-AB10-1BF5DAED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C0D840-0E23-4637-ADF0-7400FDFD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6F42CB-BEFE-48E5-AC6C-BA1118BC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2FA66-EAA3-43A2-807F-4C672594E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71C913-CA5B-48F0-93FF-4CB99830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DE1F4A-CFEF-459C-9DA1-30AA69C01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416DB6-0421-461B-BA61-C026E6AD1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1DF965B-9152-4FE3-972E-5B9704559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272D489-487F-45FA-BC08-1D0F2C90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7F7ED8-3BA2-43F7-86FE-2013EEDB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AC9DA80-FC8A-4DC5-A6A2-FFC8D1AB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5577F6-7BEB-4A9C-87E2-7C6CE35E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744049B-F04D-478A-AB9A-7E9A724A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3473D0-4905-4C3B-925F-5ECB559F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9B967-1817-4E91-BF31-3A4FB97B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3CEE4C-2BD6-41AA-9EAD-6811EE46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F5034F6-E958-4031-89A1-4C680E9C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22654FE-D3D8-4B7F-89B0-D440C9F6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BF2DE1-0D5E-40DE-B67E-A89CCDAD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448C67-728C-4660-8B20-6A22C8B54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2E03B2-8954-450E-B8F2-BFC44DFA0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0A3647-DB0D-4359-AC38-44D56886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91EB3B-3E83-43F4-8437-FCAED5C5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C36145-4F59-49D7-82EF-538C0DAB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F95A91-1B01-4071-95AD-A1E67F11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CCE8C-1D80-473F-B725-85FF10E0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2B9576-66D4-4456-9C73-7F8AD43F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AEA6DE-5CCF-4AD6-8674-9732A808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8891C6-649C-4B59-8BD6-DE60EDC4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9E5881-974F-43CF-AEDE-F2FE7FF6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1DFBC5-91B7-4E20-8F6E-08511759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4BBB6A-93DA-405B-846A-0F3B357B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B9E445-E2F0-4A26-9098-361909A77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09B2D-B975-412C-9285-F316272E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034A5-2E18-4AD2-9EA8-CEB456C6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7A602-2B94-48E5-9F8B-7A9115BC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99A3F-FAE0-4DFA-B2F3-EE1A4FFD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9FCEE-0B00-48E8-BCEF-9C4624A5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43725-79A6-488D-8BAC-06F8FFFD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44411-7E5F-443A-80DD-75F4645B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75661-950B-4826-9B72-ECA3A1D3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058AB-3C4F-426F-969F-49A9C33E5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5B8C1-6381-4C48-B5F5-CEAD2A733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F949ED-746F-4C79-BB74-F8D268FE4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A9DDE4-C24A-47FE-9869-EEF78AED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3FF4F8-7F19-41AA-A11E-1FB26185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AD3159-8F3B-4253-A520-503D57E8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1CDBD5-9264-4A95-BE72-77D2FDDD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1182E-7955-4631-80D7-917C18F7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815D1F-1BCF-4215-B5BB-892BC649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90D31C-2983-4884-B36F-88BEA18B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9D62B8-ABE2-4606-A3E2-072E9E32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387D76-6EC4-4098-AF8C-F92FC959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80D538-F421-415A-9CC0-1B836847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364463-72BB-4713-816E-FBE54CA41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6BC72A-62EE-4E41-84EA-BC4BB862B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F9CCAF-480F-46CC-A22A-3F7EDF94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A3D2ED-BC82-499D-9E55-A5CCC5C6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5D4CA9-9EF6-41CA-9103-8614A85B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11916-D4EF-4B3E-8ED7-A5C562ED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169C76-2A42-4AF2-8330-2BEDCD4A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31696D-BD4A-4BF5-AF8A-546D9CAA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93D5F4-DE3B-4A29-AEB8-62124943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2EDEE5-BB58-420B-B64A-0EA1252A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E76A6D-01B0-42CB-A678-7AF4619B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844644-1E30-4400-ABDF-1AF54D42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10DEC0-5EF7-4F74-95D8-2AED0879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9DE7CB-9F29-44AF-9909-8C5A4128D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65575C-DC2F-4E24-99E5-B02E8044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F2EA36-5F7B-4381-9448-2E2B67D61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A92B2-65A0-4F54-BE1B-CAB77D01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42F4DA-7DE0-4E42-A6ED-414641E4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D55A25-A8E1-4719-9D76-7A8C1356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7864ED-1BE2-4787-B353-476C3334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261D4D-09F0-46DA-9E22-9D9B70C3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64D630-2C6C-48E3-9560-5E2E5453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FEB074-CF81-4C8B-9BC8-34C857E2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2CF214-1902-4D96-B50F-3C400050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26C8D5-CD00-47FC-A44E-C351C11B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03EC26-C421-49B8-B057-78FC1BC9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1A423A-9209-4EB3-A7E3-E3F48727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14E93-D371-4B3C-8207-47D028FF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B21641-3097-4CB3-9222-26F498E09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022112-8745-4954-BD80-3BB26EA9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809DA9-744A-4FE5-BB50-1846AD25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06CBE7-B385-4B18-9C54-EFB6CC16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BFFECD-5B8A-4110-9DAA-04A3DA0D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2FA066-5DD6-4C1B-B1A4-99E913A8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D2E402-ED43-4B1C-87B6-DDCCCB27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C95478-C93F-44DE-972C-EC63EDEC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96C8A3-28C1-4144-BF4C-4064A072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95776D-391B-4BF4-BADC-AC8C560E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07555-A308-4CA0-A1B8-50D673BE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7AB77D-A21D-4F00-A08A-07175E2C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6A2527-360E-47A8-845D-FD56B03B3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653F72-48A1-449C-9D2B-E5B1B7236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F67224-C163-4FA8-8025-410F7A725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3E5A88-6DEA-45EE-8946-60718338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24366B-3B7F-4172-9C00-9E977A42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2AD476-CC97-4F98-9439-0E21E5A5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FAAC74-2AAF-427E-974F-3E3EE1EA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C8CC74-98C3-4678-8490-0D8D9010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C3C71F-E926-4141-9602-F58E7683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38D1F-C267-47B1-9A55-B107680B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7D8C73-0AC1-4BD5-A4EF-A17456AF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C3FF50-DB4A-40A9-9841-3E8BEAF3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CF4C0A-831B-4A71-8637-CC75E123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45FF1E-835B-4239-9886-3D2A4AFE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3331A2-2FD5-4527-B7E8-647082733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8D2509-1BF4-49FA-9B95-8919BC0CE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B2306F-C828-4BC1-A356-2E58F4CD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BE681B-AF48-4EC2-B183-99DD8589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140802-DEF6-42A4-A471-CAC06ECB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447AE1-992A-45A6-AC77-B68C4F53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E3EE5-F080-4666-A4C9-DF40EF81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DFE826-F236-495D-AFD6-42551F0E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76ADF4-8C55-4500-B976-382DA270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3D6E93-BA56-43AC-A3BB-AAE6CC26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545160-9454-4018-9756-0EF2945A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3D2291-823F-43FD-AB2C-94028574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C7485D-69EB-40C7-99DB-BD27CDAF0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EC4278-9DEA-44DE-BFC2-F980F924A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C02704-FF15-4DD6-A1B2-610C1089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A4FDD7-805A-4AB0-A3D9-F4382C6B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E3D9F9-E8CC-4B6C-8FFC-2D190E5E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2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9BAF-D6EA-42D3-B145-4E8C4C272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8" name="Group 11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409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ftr" idx="28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sldNum" idx="29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2CB0-DDD4-4BE2-AB97-B0273518C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dt" idx="30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3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454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ftr" idx="31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sldNum" idx="32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F13F-F736-4618-BB70-2650325BA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dt" idx="33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8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499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ftr" idx="34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sldNum" idx="35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A25D-A319-4863-8C26-AE7BC2657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dt" idx="36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3" name="Group 11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544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ftr" idx="37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sldNum" idx="38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799D-4B9D-467E-A8C7-F5F0AA70BE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dt" idx="39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0" y="0"/>
            <a:ext cx="10285200" cy="6858000"/>
            <a:chOff x="0" y="0"/>
            <a:chExt cx="10285200" cy="6858000"/>
          </a:xfrm>
        </p:grpSpPr>
        <p:sp>
          <p:nvSpPr>
            <p:cNvPr id="46" name="Rectangle 2"/>
            <p:cNvSpPr/>
            <p:nvPr/>
          </p:nvSpPr>
          <p:spPr>
            <a:xfrm>
              <a:off x="0" y="0"/>
              <a:ext cx="162504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Group 12"/>
            <p:cNvGrpSpPr/>
            <p:nvPr/>
          </p:nvGrpSpPr>
          <p:grpSpPr>
            <a:xfrm>
              <a:off x="680400" y="3619440"/>
              <a:ext cx="9588240" cy="76320"/>
              <a:chOff x="680400" y="3619440"/>
              <a:chExt cx="9588240" cy="76320"/>
            </a:xfrm>
          </p:grpSpPr>
          <p:sp>
            <p:nvSpPr>
              <p:cNvPr id="48" name="Line 3"/>
              <p:cNvSpPr/>
              <p:nvPr/>
            </p:nvSpPr>
            <p:spPr>
              <a:xfrm>
                <a:off x="680400" y="3695760"/>
                <a:ext cx="958824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Line 4"/>
              <p:cNvSpPr/>
              <p:nvPr/>
            </p:nvSpPr>
            <p:spPr>
              <a:xfrm>
                <a:off x="680400" y="3619440"/>
                <a:ext cx="958824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Rectangle 13"/>
            <p:cNvSpPr/>
            <p:nvPr/>
          </p:nvSpPr>
          <p:spPr>
            <a:xfrm>
              <a:off x="685440" y="1523880"/>
              <a:ext cx="9599760" cy="609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7439-CFEB-4497-B173-4DEC6E430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94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7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50E7-195D-432A-A4C4-E1951B50F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dt" idx="9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139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10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D890-7ADC-47B6-AC83-405CCAD81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dt" idx="12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Group 11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184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13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14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9106-FCBC-4E36-8C00-0D91EDDD0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dt" idx="15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229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6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sldNum" idx="17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B2DF-E6A3-4363-98D1-4E1405556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dt" idx="18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0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274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ftr" idx="19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sldNum" idx="20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CB51-9CD9-488F-BADF-70F5308A0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dt" idx="21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319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22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23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7EB5-92EB-445E-BC6B-7BDC8C487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dt" idx="24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3" name="Group 11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364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25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sldNum" idx="26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91A0-183B-43F6-85D1-C2C324218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dt" idx="27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812960" y="1143000"/>
            <a:ext cx="7873920" cy="1316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Kidney Stones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019400" y="3733560"/>
            <a:ext cx="3181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 rtl="1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nal B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 rtl="1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 Box 1028"/>
          <p:cNvSpPr/>
          <p:nvPr/>
        </p:nvSpPr>
        <p:spPr>
          <a:xfrm>
            <a:off x="1812960" y="5526000"/>
            <a:ext cx="176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Calcium salt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52560" y="1905120"/>
            <a:ext cx="8572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lvl="1" marL="393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80% of kidney stones contain calciu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93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ddeff"/>
                </a:solidFill>
                <a:latin typeface="Book Antiqua"/>
                <a:ea typeface="Book Antiqua"/>
              </a:rPr>
              <a:t>   </a:t>
            </a:r>
            <a:r>
              <a:rPr b="0" lang="en-GB" sz="2400" spc="-1" strike="noStrike">
                <a:solidFill>
                  <a:srgbClr val="7ddeff"/>
                </a:solidFill>
                <a:latin typeface="Book Antiqua"/>
              </a:rPr>
              <a:t>Mostly Ca-Oxalate and less often Ca-Phosph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type of salt depends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931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rine 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931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vailability of oxa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eneral appearanc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931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ite, hard, radio-opa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931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lcium oxalate: present in ureter (sma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931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lcium 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staghorn in renal pelvis (lar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Picture 5" descr="C:\Documents and Settings\bms292\My Documents\My Pictures\Kidney\Kidney%20cross%20section.jpg"/>
          <p:cNvPicPr/>
          <p:nvPr/>
        </p:nvPicPr>
        <p:blipFill>
          <a:blip r:embed="rId1"/>
          <a:stretch/>
        </p:blipFill>
        <p:spPr>
          <a:xfrm>
            <a:off x="0" y="0"/>
            <a:ext cx="105408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6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6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6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Calcium salt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876240" y="1981080"/>
            <a:ext cx="86486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Causes of calcium salt st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Hypercalciur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ncreased urinary calcium excr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Men: &gt; 7.5 mmols/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Women &gt; 6.2 mmols/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Due to hypercalcemia (most often due to 1</a:t>
            </a:r>
            <a:r>
              <a:rPr b="0" lang="en-GB" sz="2800" spc="-1" strike="noStrike" baseline="30000">
                <a:solidFill>
                  <a:srgbClr val="ffffff"/>
                </a:solidFill>
                <a:latin typeface="Calibri"/>
              </a:rPr>
              <a:t>ary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 hyperparathyrois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Calibri"/>
              </a:rPr>
              <a:t>sometimes, Ca</a:t>
            </a:r>
            <a:r>
              <a:rPr b="0" lang="en-GB" sz="2800" spc="-1" strike="noStrike" baseline="30000">
                <a:solidFill>
                  <a:srgbClr val="ffffff"/>
                </a:solidFill>
                <a:latin typeface="Calibri"/>
                <a:ea typeface="Calibri"/>
              </a:rPr>
              <a:t>++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Calibri"/>
              </a:rPr>
              <a:t> salts stones are found with no hypercalce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1" name="Picture 5" descr="C:\Documents and Settings\bms292\My Documents\My Pictures\Kidney\Kidney%20cross%20section.jpg"/>
          <p:cNvPicPr/>
          <p:nvPr/>
        </p:nvPicPr>
        <p:blipFill>
          <a:blip r:embed="rId1"/>
          <a:stretch/>
        </p:blipFill>
        <p:spPr>
          <a:xfrm>
            <a:off x="0" y="0"/>
            <a:ext cx="105408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Calcium salt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95256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Hyperoxalur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uses the formation of calcium oxalates without hypercalciu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et rich in oxal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creased oxalate absorption in fat malabsor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Primary hyperoxalur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ue to inborn err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rinary oxalate excretion: &gt; 400 µmol/24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4" name="Picture 5" descr="C:\Documents and Settings\bms292\My Documents\My Pictures\Kidney\Kidney%20cross%20section.jpg"/>
          <p:cNvPicPr/>
          <p:nvPr/>
        </p:nvPicPr>
        <p:blipFill>
          <a:blip r:embed="rId1"/>
          <a:stretch/>
        </p:blipFill>
        <p:spPr>
          <a:xfrm>
            <a:off x="0" y="0"/>
            <a:ext cx="105408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6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6" descr="01_calcium_oxalate"/>
          <p:cNvPicPr/>
          <p:nvPr/>
        </p:nvPicPr>
        <p:blipFill>
          <a:blip r:embed="rId1"/>
          <a:stretch/>
        </p:blipFill>
        <p:spPr>
          <a:xfrm>
            <a:off x="647640" y="1447920"/>
            <a:ext cx="4496040" cy="2970000"/>
          </a:xfrm>
          <a:prstGeom prst="rect">
            <a:avLst/>
          </a:prstGeom>
          <a:ln w="0">
            <a:noFill/>
          </a:ln>
        </p:spPr>
      </p:pic>
      <p:sp>
        <p:nvSpPr>
          <p:cNvPr id="626" name="Text Box 7"/>
          <p:cNvSpPr/>
          <p:nvPr/>
        </p:nvSpPr>
        <p:spPr>
          <a:xfrm>
            <a:off x="4365720" y="5450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Text Box 10"/>
          <p:cNvSpPr/>
          <p:nvPr/>
        </p:nvSpPr>
        <p:spPr>
          <a:xfrm>
            <a:off x="2693520" y="557532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Calcium oxalate 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8" name="Picture 11" descr="Calcium oxalate"/>
          <p:cNvPicPr/>
          <p:nvPr/>
        </p:nvPicPr>
        <p:blipFill>
          <a:blip r:embed="rId2"/>
          <a:stretch/>
        </p:blipFill>
        <p:spPr>
          <a:xfrm>
            <a:off x="5143680" y="1447920"/>
            <a:ext cx="4495680" cy="2970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Calcium salt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952560" y="2133720"/>
            <a:ext cx="8572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reatment of primary causes such as infection, hypercalcemia, hyperoxalu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xalate-restricted di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creased fluid intake (if no glomerular failu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cidification of urine (by dietary chang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lcium salt stones are formed in alkaline u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1" name="Picture 5" descr="C:\Documents and Settings\bms292\My Documents\My Pictures\Kidney\Kidney%20cross%20section.jpg"/>
          <p:cNvPicPr/>
          <p:nvPr/>
        </p:nvPicPr>
        <p:blipFill>
          <a:blip r:embed="rId1"/>
          <a:stretch/>
        </p:blipFill>
        <p:spPr>
          <a:xfrm>
            <a:off x="0" y="0"/>
            <a:ext cx="105408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Uric acid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76240" y="2133720"/>
            <a:ext cx="86486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bout 8% of renal stones contain ur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y be associated with hyperuricemia (with or without gou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rm in acidic u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General appearanc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mall, friable, yellow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y form staghorn (if bi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adiolucent (plain x-rays cannot detec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isualized by ultrasound or i.v. pyel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4" name="Picture 5" descr="C:\Documents and Settings\bms292\My Documents\My Pictures\Kidney\Kidney%20cross%20section.jpg"/>
          <p:cNvPicPr/>
          <p:nvPr/>
        </p:nvPicPr>
        <p:blipFill>
          <a:blip r:embed="rId1"/>
          <a:stretch/>
        </p:blipFill>
        <p:spPr>
          <a:xfrm>
            <a:off x="0" y="0"/>
            <a:ext cx="105408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6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6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02_uric_acid"/>
          <p:cNvPicPr/>
          <p:nvPr/>
        </p:nvPicPr>
        <p:blipFill>
          <a:blip r:embed="rId1"/>
          <a:stretch/>
        </p:blipFill>
        <p:spPr>
          <a:xfrm>
            <a:off x="495360" y="1752480"/>
            <a:ext cx="4495680" cy="2970360"/>
          </a:xfrm>
          <a:prstGeom prst="rect">
            <a:avLst/>
          </a:prstGeom>
          <a:ln w="0">
            <a:noFill/>
          </a:ln>
        </p:spPr>
      </p:pic>
      <p:sp>
        <p:nvSpPr>
          <p:cNvPr id="636" name="Text Box 3"/>
          <p:cNvSpPr/>
          <p:nvPr/>
        </p:nvSpPr>
        <p:spPr>
          <a:xfrm>
            <a:off x="3329640" y="557532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Uric acid 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7" name="Picture 4" descr="06_uric_acid"/>
          <p:cNvPicPr/>
          <p:nvPr/>
        </p:nvPicPr>
        <p:blipFill>
          <a:blip r:embed="rId2"/>
          <a:stretch/>
        </p:blipFill>
        <p:spPr>
          <a:xfrm>
            <a:off x="5295960" y="1752480"/>
            <a:ext cx="4495680" cy="297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Uric acid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76240" y="2209680"/>
            <a:ext cx="86486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reatment of cause of hyperuricem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urine-restricted di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lkalinization of urine (by dietary chang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creased fluid int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0" name="Picture 5" descr="C:\Documents and Settings\bms292\My Documents\My Pictures\Kidney\Kidney%20cross%20section.jpg"/>
          <p:cNvPicPr/>
          <p:nvPr/>
        </p:nvPicPr>
        <p:blipFill>
          <a:blip r:embed="rId1"/>
          <a:stretch/>
        </p:blipFill>
        <p:spPr>
          <a:xfrm>
            <a:off x="0" y="0"/>
            <a:ext cx="105408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Mg ammonium PO</a:t>
            </a:r>
            <a:r>
              <a:rPr b="1" lang="en-US" sz="3500" spc="-1" strike="noStrike" baseline="-25000">
                <a:solidFill>
                  <a:srgbClr val="ffcc66"/>
                </a:solidFill>
                <a:latin typeface="Garamond"/>
              </a:rPr>
              <a:t>4</a:t>
            </a: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52560" y="1905120"/>
            <a:ext cx="8572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bout 10% of all renal stones contain Mg amm. 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  <a:ea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lso called struvite kidney 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ssociated with chronic urinary tract inf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Microorganisms (such as from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Proteu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 genus) that metabolize urea into ammo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ausing urine pH to become alkaline leading to stone 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mmonly associated with staghorn calcu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75% of staghorn stones are of struvite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3" name="Picture 5" descr="C:\Documents and Settings\bms292\My Documents\My Pictures\Kidney\Kidney%20cross%20section.jpg"/>
          <p:cNvPicPr/>
          <p:nvPr/>
        </p:nvPicPr>
        <p:blipFill>
          <a:blip r:embed="rId1"/>
          <a:stretch/>
        </p:blipFill>
        <p:spPr>
          <a:xfrm>
            <a:off x="0" y="0"/>
            <a:ext cx="105408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 Box 2"/>
          <p:cNvSpPr/>
          <p:nvPr/>
        </p:nvSpPr>
        <p:spPr>
          <a:xfrm>
            <a:off x="1515600" y="556272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g ammonium phosphate (struvite) sto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5" name="Picture 3" descr="08_struvite"/>
          <p:cNvPicPr/>
          <p:nvPr/>
        </p:nvPicPr>
        <p:blipFill>
          <a:blip r:embed="rId1"/>
          <a:stretch/>
        </p:blipFill>
        <p:spPr>
          <a:xfrm>
            <a:off x="1638360" y="762120"/>
            <a:ext cx="6705720" cy="4430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50760" y="515520"/>
            <a:ext cx="83044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Objectiv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23600" y="198072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y the end of this lecture, the students will be able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scuss the general physiological and pathological factors that favor kidney stones 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ist the types of kidney stones, their chemical constituents and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dentify the etiological causes of each type of kidney st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scuss the diagnosis, treatment and prevention of kidney 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2" name="Picture 5" descr="C:\Documents and Settings\bms292\My Documents\My Pictures\Kidney\Kidney%20cross%20section.jpg"/>
          <p:cNvPicPr/>
          <p:nvPr/>
        </p:nvPicPr>
        <p:blipFill>
          <a:blip r:embed="rId1"/>
          <a:stretch/>
        </p:blipFill>
        <p:spPr>
          <a:xfrm>
            <a:off x="0" y="0"/>
            <a:ext cx="105408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Mg ammonium PO</a:t>
            </a:r>
            <a:r>
              <a:rPr b="1" lang="en-US" sz="3500" spc="-1" strike="noStrike" baseline="-25000">
                <a:solidFill>
                  <a:srgbClr val="ffcc66"/>
                </a:solidFill>
                <a:latin typeface="Garamond"/>
              </a:rPr>
              <a:t>4</a:t>
            </a: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52560" y="2133360"/>
            <a:ext cx="8572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reatment of inf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rine acid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creased fluid int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n some cases, it may require complete stone removal (percutaneous nephrolithotom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8" name="Picture 5" descr="C:\Documents and Settings\bms292\My Documents\My Pictures\Kidney\Kidney%20cross%20section.jpg"/>
          <p:cNvPicPr/>
          <p:nvPr/>
        </p:nvPicPr>
        <p:blipFill>
          <a:blip r:embed="rId1"/>
          <a:stretch/>
        </p:blipFill>
        <p:spPr>
          <a:xfrm>
            <a:off x="0" y="0"/>
            <a:ext cx="105408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Cystine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76240" y="2133720"/>
            <a:ext cx="864864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rare type of kidney st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ue to homozygous cystinu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rm in acidic u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uble in alkaline u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aint radio-opa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1" name="Picture 5" descr="C:\Documents and Settings\bms292\My Documents\My Pictures\Kidney\Kidney%20cross%20section.jpg"/>
          <p:cNvPicPr/>
          <p:nvPr/>
        </p:nvPicPr>
        <p:blipFill>
          <a:blip r:embed="rId1"/>
          <a:stretch/>
        </p:blipFill>
        <p:spPr>
          <a:xfrm>
            <a:off x="0" y="0"/>
            <a:ext cx="105408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2" descr="09_cystine"/>
          <p:cNvPicPr/>
          <p:nvPr/>
        </p:nvPicPr>
        <p:blipFill>
          <a:blip r:embed="rId1"/>
          <a:stretch/>
        </p:blipFill>
        <p:spPr>
          <a:xfrm>
            <a:off x="1790640" y="1066680"/>
            <a:ext cx="6296040" cy="4159440"/>
          </a:xfrm>
          <a:prstGeom prst="rect">
            <a:avLst/>
          </a:prstGeom>
          <a:ln w="0">
            <a:noFill/>
          </a:ln>
        </p:spPr>
      </p:pic>
      <p:sp>
        <p:nvSpPr>
          <p:cNvPr id="653" name="Text Box 3"/>
          <p:cNvSpPr/>
          <p:nvPr/>
        </p:nvSpPr>
        <p:spPr>
          <a:xfrm>
            <a:off x="3724920" y="557532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ystine st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Cystine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76240" y="2209680"/>
            <a:ext cx="864864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creased fluid int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lkalinization of urine (by dietary chang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enicillamine (binds to cysteine to form a compound more soluble than cysti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6" name="Picture 5" descr="C:\Documents and Settings\bms292\My Documents\My Pictures\Kidney\Kidney%20cross%20section.jpg"/>
          <p:cNvPicPr/>
          <p:nvPr/>
        </p:nvPicPr>
        <p:blipFill>
          <a:blip r:embed="rId1"/>
          <a:stretch/>
        </p:blipFill>
        <p:spPr>
          <a:xfrm>
            <a:off x="0" y="0"/>
            <a:ext cx="105408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Laboratory investigations</a:t>
            </a:r>
            <a:br>
              <a:rPr sz="3500"/>
            </a:b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of kidney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876240" y="2209680"/>
            <a:ext cx="864864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If stone has formed and remov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hemical analysis of stone helps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dentify the ca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dvise patient on prevention and future recur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9" name="Picture 5" descr="C:\Documents and Settings\bms292\My Documents\My Pictures\Kidney\Kidney%20cross%20section.jpg"/>
          <p:cNvPicPr/>
          <p:nvPr/>
        </p:nvPicPr>
        <p:blipFill>
          <a:blip r:embed="rId1"/>
          <a:stretch/>
        </p:blipFill>
        <p:spPr>
          <a:xfrm>
            <a:off x="0" y="0"/>
            <a:ext cx="105408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Laboratory investigations</a:t>
            </a:r>
            <a:br>
              <a:rPr sz="3500"/>
            </a:b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of kidney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799920" y="1752120"/>
            <a:ext cx="8724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If stone has not form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This type of investigation identifies causes that may contribute to stone form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rum calcium, uric acid and PTH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rinalysis: volume, calcium, oxalates and cystine lev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rine pH &gt; 8 suggests urinary tract infection (Mg amm. 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Urinary tract imag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T, ultrasound and i.v. pyel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2" name="Picture 5" descr="C:\Documents and Settings\bms292\My Documents\My Pictures\Kidney\Kidney%20cross%20section.jpg"/>
          <p:cNvPicPr/>
          <p:nvPr/>
        </p:nvPicPr>
        <p:blipFill>
          <a:blip r:embed="rId1"/>
          <a:stretch/>
        </p:blipFill>
        <p:spPr>
          <a:xfrm>
            <a:off x="0" y="0"/>
            <a:ext cx="105408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Referenc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142640" y="3123720"/>
            <a:ext cx="857268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linical Chemistry and metabolic Medicine 7</a:t>
            </a:r>
            <a:r>
              <a:rPr b="0" lang="en-US" sz="2800" spc="-1" strike="noStrike" baseline="30000">
                <a:solidFill>
                  <a:srgbClr val="ffffff"/>
                </a:solidFill>
                <a:latin typeface="Book Antiqua"/>
                <a:ea typeface="Book Antiqu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 Edition, pp. 3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National Kidney Foundation, USA (www.kidney.or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5" name="Picture 5" descr="C:\Documents and Settings\bms292\My Documents\My Pictures\Kidney\Kidney%20cross%20section.jpg"/>
          <p:cNvPicPr/>
          <p:nvPr/>
        </p:nvPicPr>
        <p:blipFill>
          <a:blip r:embed="rId1"/>
          <a:stretch/>
        </p:blipFill>
        <p:spPr>
          <a:xfrm>
            <a:off x="0" y="0"/>
            <a:ext cx="105408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50760" y="515520"/>
            <a:ext cx="83044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Overview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99920" y="1980720"/>
            <a:ext cx="87627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nditions causing kidney stone 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ypes of kidney 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lcium sa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r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g ammonium 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yst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ther (xanthine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aboratory investig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5" descr="C:\Documents and Settings\bms292\My Documents\My Pictures\Kidney\Kidney%20cross%20section.jpg"/>
          <p:cNvPicPr/>
          <p:nvPr/>
        </p:nvPicPr>
        <p:blipFill>
          <a:blip r:embed="rId1"/>
          <a:stretch/>
        </p:blipFill>
        <p:spPr>
          <a:xfrm>
            <a:off x="0" y="0"/>
            <a:ext cx="105408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50760" y="515520"/>
            <a:ext cx="83044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What are kidney stones?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723960" y="213336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nal calculi (kidney stones) are formed in renal tubules, ureter or blad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mposed of metabolic products present in glomerular filt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se products are in high con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ear or above maximum solu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8" name="Picture 5" descr="C:\Documents and Settings\bms292\My Documents\My Pictures\Kidney\Kidney%20cross%20section.jpg"/>
          <p:cNvPicPr/>
          <p:nvPr/>
        </p:nvPicPr>
        <p:blipFill>
          <a:blip r:embed="rId1"/>
          <a:stretch/>
        </p:blipFill>
        <p:spPr>
          <a:xfrm>
            <a:off x="0" y="0"/>
            <a:ext cx="105408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Conditions causing</a:t>
            </a:r>
            <a:br>
              <a:rPr sz="3500"/>
            </a:b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kidney stone formation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75880" y="2133720"/>
            <a:ext cx="8543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igh conc. of metabolic products in glomerular filt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anges in urine 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rinary stag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ficiency of stone-forming inhibitors in u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1" name="Picture 5" descr="C:\Documents and Settings\bms292\My Documents\My Pictures\Kidney\Kidney%20cross%20section.jpg"/>
          <p:cNvPicPr/>
          <p:nvPr/>
        </p:nvPicPr>
        <p:blipFill>
          <a:blip r:embed="rId1"/>
          <a:stretch/>
        </p:blipFill>
        <p:spPr>
          <a:xfrm>
            <a:off x="0" y="0"/>
            <a:ext cx="105408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Conditions causing</a:t>
            </a:r>
            <a:br>
              <a:rPr sz="3500"/>
            </a:b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kidney stone formation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23960" y="2057400"/>
            <a:ext cx="8696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igh conc. of metabolic products in glomerular filtrate is due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ow urinary volume (with normal renal function) due to restricted fluid int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creased fluid loss from the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creased excretion of metabolic products forming 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igh plasma volume (high filtrate lev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ow tubular reabsorption from filt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Picture 5" descr="C:\Documents and Settings\bms292\My Documents\My Pictures\Kidney\Kidney%20cross%20section.jpg"/>
          <p:cNvPicPr/>
          <p:nvPr/>
        </p:nvPicPr>
        <p:blipFill>
          <a:blip r:embed="rId1"/>
          <a:stretch/>
        </p:blipFill>
        <p:spPr>
          <a:xfrm>
            <a:off x="0" y="0"/>
            <a:ext cx="105408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Conditions causing</a:t>
            </a:r>
            <a:br>
              <a:rPr sz="3500"/>
            </a:b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kidney stone formation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875880" y="1981080"/>
            <a:ext cx="8543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hanges in urine pH due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Bacterial inf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Precipitation of salts at different 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persistently</a:t>
            </a: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cidic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rine 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romotes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ric acid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cip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persistently </a:t>
            </a:r>
            <a:r>
              <a:rPr b="1" lang="en-GB" sz="2800" spc="-1" strike="noStrike">
                <a:solidFill>
                  <a:srgbClr val="7ddeff"/>
                </a:solidFill>
                <a:latin typeface="Arial"/>
              </a:rPr>
              <a:t>alkali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urine (due to upper urinary tract infection)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romotes </a:t>
            </a:r>
            <a:r>
              <a:rPr b="1" lang="en-GB" sz="2800" spc="-1" strike="noStrike">
                <a:solidFill>
                  <a:srgbClr val="7ddeff"/>
                </a:solidFill>
                <a:latin typeface="Arial"/>
              </a:rPr>
              <a:t>Mg Ammonium Phosphate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rystals (Struvite ston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Urinary stagnation is due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Obstruction of urinary flo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7" name="Picture 5" descr="C:\Documents and Settings\bms292\My Documents\My Pictures\Kidney\Kidney%20cross%20section.jpg"/>
          <p:cNvPicPr/>
          <p:nvPr/>
        </p:nvPicPr>
        <p:blipFill>
          <a:blip r:embed="rId1"/>
          <a:stretch/>
        </p:blipFill>
        <p:spPr>
          <a:xfrm>
            <a:off x="0" y="0"/>
            <a:ext cx="105408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Conditions causing</a:t>
            </a:r>
            <a:br>
              <a:rPr sz="3500"/>
            </a:b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kidney stone formation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75880" y="2133720"/>
            <a:ext cx="8543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ficiency of stone-forming inhibito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itrate, pyrophosphate, glycoproteins inhibit growth of calcium phosphate and calcium oxalate crys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type I renal tubular acidosis, hypocitraturia leads to renal 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0" name="Picture 5" descr="C:\Documents and Settings\bms292\My Documents\My Pictures\Kidney\Kidney%20cross%20section.jpg"/>
          <p:cNvPicPr/>
          <p:nvPr/>
        </p:nvPicPr>
        <p:blipFill>
          <a:blip r:embed="rId1"/>
          <a:stretch/>
        </p:blipFill>
        <p:spPr>
          <a:xfrm>
            <a:off x="0" y="0"/>
            <a:ext cx="105408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69640" y="761760"/>
            <a:ext cx="7869240" cy="57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</a:rPr>
              <a:t>Types of kidney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028520" y="2285640"/>
            <a:ext cx="83055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alcium sa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Ur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Mg ammonium 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  <a:ea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yst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Other (xanthine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Rectangle 4"/>
          <p:cNvSpPr/>
          <p:nvPr/>
        </p:nvSpPr>
        <p:spPr>
          <a:xfrm>
            <a:off x="3200400" y="41911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5"/>
          <p:cNvSpPr/>
          <p:nvPr/>
        </p:nvSpPr>
        <p:spPr>
          <a:xfrm>
            <a:off x="3200400" y="4495680"/>
            <a:ext cx="5943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5" name="Picture 5" descr="C:\Documents and Settings\bms292\My Documents\My Pictures\Kidney\Kidney%20cross%20section.jpg"/>
          <p:cNvPicPr/>
          <p:nvPr/>
        </p:nvPicPr>
        <p:blipFill>
          <a:blip r:embed="rId1"/>
          <a:stretch/>
        </p:blipFill>
        <p:spPr>
          <a:xfrm>
            <a:off x="0" y="0"/>
            <a:ext cx="105408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2T23:32:10Z</dcterms:created>
  <dc:creator>Usman Ghani</dc:creator>
  <dc:description/>
  <dc:language>en-US</dc:language>
  <cp:lastModifiedBy>Microsoft Office User</cp:lastModifiedBy>
  <dcterms:modified xsi:type="dcterms:W3CDTF">2017-05-01T07:02:46Z</dcterms:modified>
  <cp:revision>208</cp:revision>
  <dc:subject/>
  <dc:title> [Project Name] Post-Mortem</dc:title>
</cp:coreProperties>
</file>