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EA607-30B7-40E1-9AD6-26F2838E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9C634-C839-4D62-A4DA-AA4D8A66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14A5D3-01FE-4318-9848-1876E112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B5C78F-2883-4E73-A561-136AA2F2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09CB9B-C541-4FE0-A8CB-F7DB22F5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EA0943-3387-4E0D-9287-0A23B973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063C5D-832A-45CA-B886-7FBD854E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EFF001-1EA0-4F83-9CB6-A7E1E98C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E95B30-0374-4B34-826A-3B6738FC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81869C-3B03-4F20-B18E-C8D1790F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D1560B-CB40-45E9-B275-C1AD28BF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38312D-F4BF-40C2-9F75-B953E236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B5D0A-8B6E-422E-9E81-B5DB0DB1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296C57-556F-4E5F-8660-4C0BCD71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F462AE-0882-4B6E-8EDD-4E864857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C05B8E-ED92-4963-96AB-510A903F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C4627D-2E1B-46BA-90E4-383C2797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8776BC-9DB1-464E-BC34-2411D1BA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582B85-4E4D-409D-9874-C7F5454E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1FAAD6-3488-4B10-A694-8B9737EA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96025A-2A1F-44F2-B2AE-C3655C1A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53BD1D-D2D6-45E5-AA5D-2ED80CE5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182AAE-2AC4-4734-9A3D-A1906377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3FC5A-F295-42B8-8D70-766B248A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0DC3B4-A4F0-4219-AEFB-968A003C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2BB4D2-173D-4E45-8FC1-47F768D9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8AE693-5A7D-4072-9BE4-2CE0F4BD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9A2A8A-B68E-464A-9B65-D88D3598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4DF68A-77CB-4219-9C75-EAC307D7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E73692-8003-4356-AB60-A953522F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78BF82-697B-43B4-A420-A663BC83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A5B80F-3475-4EBE-99E4-54458512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9A6F32-8AA7-4455-B4A1-F81BF1DE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9A3465-E1CA-44C0-BEE2-C2446005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5F345-9A87-4D72-B0EF-9DA2FDFC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A213A6-B7EE-4151-9038-3FA2953B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F150B8-85C3-4067-B330-0FA54219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8BB0DE-5294-450C-8FE8-974573DC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7CEDFE-7928-4255-8076-149D35E3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9EFA21-F8D3-4F89-AD45-0DC5B006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B8DC27-E858-4904-8938-A4ED6CF1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61E369-80CC-47C1-8EE4-7AB5293F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C7F54C-6AE7-439A-A7BF-EBAD57A7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AF6811-5666-475C-93A7-3B6C5D40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A68C75-2762-404C-A733-D3531725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54DC7-5657-4A3F-A9DB-48876F68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9182A7-FA26-4CC1-B6D0-3C35F1F1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6C4EE9-29E8-4788-94E7-D03ED820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029FDC-F13C-46B0-8BEB-94C608D9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B9AA7B-3356-4C09-B6FA-B8E788E2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BBB417-F9BE-4B8E-AC17-3E3D65D2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058891-995B-40FE-8DE9-45A06604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DA599A-756E-4ACF-A5A7-8C76C92B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296FB7-D5B2-407A-8379-D0A7AFC2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D06E41-C261-4777-91FA-2B6F49A6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D86744-B6B8-422B-8C16-0F0604CE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FA2CA-E9FD-4B70-B44D-F6F088FB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E6C881-2B99-4011-A0CA-24974ADE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6952C4-8619-4EDC-BA8A-4D4570A3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C28037-B043-4AC1-8C59-33F98E46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C4AE2C-AEF7-4B2D-B64D-E69EDEC9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4C5BDC-7897-4BD6-B511-B57E7017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E05E1A-6F98-4AEA-8155-30125AE9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D833C0-BF21-44EA-9518-17DFBC5D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9975B-A76C-4D36-B7A9-B0B5826B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227B1-4B27-4C4E-B885-007B9E54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CC175-F6DE-4438-9F59-761AD2CC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DF386-8B3E-4C9B-8586-7B6F9BA2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48EBA-33BC-4B35-B719-3E83F9C4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81CAE-1CB9-4C6F-B064-497CE0BC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D37BC-C095-480C-96BE-EFA711E6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4D116-8B8D-49E7-B87E-49459FB0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D133E-6872-42ED-8FEA-CCB265F5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1AE65-F6F6-4EC3-96BC-23CDA76B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EC3F7-E2A6-4CA6-8EAF-F4E5B4FA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3E4F3-CC9D-41D8-B47F-25647AAF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C8640-344B-4A2A-9AE0-F982E0BF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7835B0-356E-4608-9F94-2129AD52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3C9AFB-7051-4C64-AD6E-FA07B337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57B4A-C6DC-4CB5-A7C1-24FCAE77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7395E9-2A83-424C-9334-3CC058D7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273B40-A63A-49CC-B921-64CFC17A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13E11-2D75-4477-A01F-1F4F9A3C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ADA9C4-CCA6-4C93-AB45-8287DD75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102392-F78B-4CAE-A224-2AD88E6D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BB40BA-D563-4E57-8B16-59936437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9B78FE-11B9-4A65-B47F-FEAC3135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9E1A76-E2A2-4A17-8266-5CF639C7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5EDE59-5F8D-45D5-A7DA-E5A18E0A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4619E4-840F-4B4F-8DE2-BB591F58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3DD7E-98FA-4486-93E7-7DDFF133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67500F-1E6E-467B-872E-23969384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5274AA-9E27-4F54-A9A8-93DA90DF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E352A1-5D17-4F67-8E7D-CEA5503D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67C080-825C-42F4-A00E-68F0A937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053EEF-2A88-4176-8EC0-A776B753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F16F00-0561-4029-B6F2-F052D35E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DA4832-C8AE-4F52-92A5-E64F89E9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A7DAD2-3863-411D-9AE7-8D97971F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A2739A-5818-46C7-9C44-EC2360923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CF3A2A-BBB1-4167-A9D3-0E6F1A5F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0E53D-B1FA-4CA0-81C8-D2D5BEB1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39D4AC-76B0-4468-97A7-2FEEAAB4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78E096-2E67-4B73-B91B-BC653F00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98FE8C-035F-4769-8F67-FFFB9443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B726B8-0364-4A48-A45B-A353C9F4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34F1DE-92D7-49CA-BB0E-11E2A0F2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A8EB43-46D2-4E97-81D5-E47383C6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51D412-60DA-49B8-8F46-628D3DE9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E9F311-8864-4850-AD15-E2255F7E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3C8743-2BB9-4E8C-89E8-E114B81A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583161-DEAB-4D69-B855-789526B6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E42DE-0026-4C26-A4C3-2278F4C3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509666-AE82-4DE1-8800-58CBD2D6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2D797D-2252-4C68-BB91-BDDAC7F5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1B6349-2009-463A-9B85-0DE4F1F0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1CBB15-5877-466D-8FD9-5FDB147C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AB219A-BD6A-46AC-ADB0-FED27786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03503D-8426-497C-B302-BA9478F7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D5B758-4A65-416E-97E8-38507B06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F9E583-B3C8-45D5-999D-60E40552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D46F1D-9D87-4653-A29B-E0EFF3B9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321E2C-EB65-47DD-8534-4ABABA18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62FE7-905B-4182-BED5-B79FB35C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461A0B-C670-4F0A-B082-8F5E7370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01DF34-9CA9-47DE-B854-386B1AA6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E426B3-FC9D-40B4-A5A7-40046776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7DA18A-3B7B-4794-B759-C34590A7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CAD70F-95AE-4D7C-8D99-40F9D2F5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E5B073-8303-4500-A0BD-B7D512A1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1E10DA-DDB3-4306-9FF2-D5E266FA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0973D0-FB8D-420A-913A-5C0853F7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C53CBF-ED8D-4EDE-9907-B549FF15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9F4B3B-B84C-4ECC-890C-885E0363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6AC02-2A9F-43EE-B29A-1F155079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D3628C-FFF1-4FA6-BDB1-BB9B724F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2F3213-CED3-4B22-9FC0-9C6F7E8B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93721E-7591-46F4-83CE-9B82626D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12F43A-7E4F-4412-95E4-0DABC024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8657E4-26AD-4DB3-A75B-F36F481F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C85622-19F4-4C94-847A-39D77A34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846B40-D920-4442-AE32-B82BDFBF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B2F7F9-D392-41B6-8962-70344855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4EF482-44F3-4C41-A493-77586A57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1D799F-29AA-425E-811D-0F29470C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75BD7-FE42-4E00-9F45-8394BF38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D6AEA4-C15B-4A6B-AE73-81D35C1C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A7BDDC-A291-4A92-AD18-5A9D3FE9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EF7567-10B9-48FA-828B-DD3BB294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CF317D-07D2-4A31-B834-020DAA4D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383877-DB3F-48EF-BD83-B70B7FCB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D1ADC3-1E54-4D50-B06E-496C5D99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50BBCB-FA4C-4D44-8346-5EEF319E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52B129-F395-4288-8EC2-71CFB592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84B1A2-D0B5-444A-90BA-7929B27D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E1F48E-982B-4842-844B-52FCFBEB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2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6ECB-85BA-4A87-B484-0D25277E2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Group 11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409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28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29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E9B0-D1E2-487D-AA10-759881A01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dt" idx="30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45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ftr" idx="31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sldNum" idx="32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09A2-D216-4A91-BF3B-8EEB2A8BA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dt" idx="33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8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499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ftr" idx="34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sldNum" idx="35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5543-1D6F-4764-86FF-6330204DD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dt" idx="36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3" name="Group 11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54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ftr" idx="37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sldNum" idx="38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1A0B-0DC5-4F3F-AE11-5ACB37E8B3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dt" idx="39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0" y="0"/>
            <a:ext cx="10285200" cy="6858000"/>
            <a:chOff x="0" y="0"/>
            <a:chExt cx="10285200" cy="6858000"/>
          </a:xfrm>
        </p:grpSpPr>
        <p:sp>
          <p:nvSpPr>
            <p:cNvPr id="46" name="Rectangle 2"/>
            <p:cNvSpPr/>
            <p:nvPr/>
          </p:nvSpPr>
          <p:spPr>
            <a:xfrm>
              <a:off x="0" y="0"/>
              <a:ext cx="162504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12"/>
            <p:cNvGrpSpPr/>
            <p:nvPr/>
          </p:nvGrpSpPr>
          <p:grpSpPr>
            <a:xfrm>
              <a:off x="680400" y="3619440"/>
              <a:ext cx="9588240" cy="76320"/>
              <a:chOff x="680400" y="3619440"/>
              <a:chExt cx="9588240" cy="76320"/>
            </a:xfrm>
          </p:grpSpPr>
          <p:sp>
            <p:nvSpPr>
              <p:cNvPr id="48" name="Line 3"/>
              <p:cNvSpPr/>
              <p:nvPr/>
            </p:nvSpPr>
            <p:spPr>
              <a:xfrm>
                <a:off x="680400" y="3695760"/>
                <a:ext cx="958824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4"/>
              <p:cNvSpPr/>
              <p:nvPr/>
            </p:nvSpPr>
            <p:spPr>
              <a:xfrm>
                <a:off x="680400" y="3619440"/>
                <a:ext cx="958824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13"/>
            <p:cNvSpPr/>
            <p:nvPr/>
          </p:nvSpPr>
          <p:spPr>
            <a:xfrm>
              <a:off x="685440" y="1523880"/>
              <a:ext cx="959976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C00A-6F38-4C44-87D1-1004F9B8A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9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C473-6F09-4D7B-A9D1-1292B852B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dt" idx="9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139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0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10B9-4291-472C-9224-1537AD87B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dt" idx="12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11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18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13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4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D20C-A942-4413-8B3E-1BA3730F4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dt" idx="15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229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6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sldNum" idx="17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1FBA-E67B-45C8-812A-35078A73D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dt" idx="18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0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27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ftr" idx="19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sldNum" idx="20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F570-B9F0-48C0-9C48-D5C1845C5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dt" idx="21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319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22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3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1B3C-9A75-4677-972C-1F75D4DD6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dt" idx="24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Group 11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36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25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26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6B6E-C808-4835-8C22-344E374E7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dt" idx="27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812960" y="1143000"/>
            <a:ext cx="7873920" cy="131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Kidney Stones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019400" y="3733560"/>
            <a:ext cx="3181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 rtl="1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nal B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 rtl="1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1028"/>
          <p:cNvSpPr/>
          <p:nvPr/>
        </p:nvSpPr>
        <p:spPr>
          <a:xfrm>
            <a:off x="1812960" y="5526000"/>
            <a:ext cx="176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Calcium salt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52560" y="1905120"/>
            <a:ext cx="8572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lvl="1" marL="393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80% of kidney stones contain calciu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93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ddeff"/>
                </a:solidFill>
                <a:latin typeface="Book Antiqua"/>
                <a:ea typeface="Book Antiqua"/>
              </a:rPr>
              <a:t>   </a:t>
            </a:r>
            <a:r>
              <a:rPr b="0" lang="en-GB" sz="2400" spc="-1" strike="noStrike">
                <a:solidFill>
                  <a:srgbClr val="7ddeff"/>
                </a:solidFill>
                <a:latin typeface="Book Antiqua"/>
              </a:rPr>
              <a:t>Mostly Ca-Oxalate and less often Ca-Phosph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type of salt depends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931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rine 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931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vailability of oxa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eneral appearan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931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ite, hard, radio-opa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931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lcium oxalate: present in ureter (sma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931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lcium 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staghorn in renal pelvis (lar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6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Calcium salt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876240" y="1981080"/>
            <a:ext cx="86486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Causes of calcium salt st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Hypercalciur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urinary calcium excr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en: &gt; 7.5 mmols/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Women &gt; 6.2 mmols/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Due to hypercalcemia (most often due to 1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alibri"/>
              </a:rPr>
              <a:t>ary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hyperparathyrois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Calibri"/>
              </a:rPr>
              <a:t>sometimes, Ca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++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Calibri"/>
              </a:rPr>
              <a:t> salts stones are found with no hypercalc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Calcium salt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5256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Hyperoxalur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uses the formation of calcium oxalates without hypercalciu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et rich in oxa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creased oxalate absorption in fat malabsor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Primary hyperoxalur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ue to inborn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rinary oxalate excretion: &gt; 400 µmol/24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4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6" descr="01_calcium_oxalate"/>
          <p:cNvPicPr/>
          <p:nvPr/>
        </p:nvPicPr>
        <p:blipFill>
          <a:blip r:embed="rId1"/>
          <a:stretch/>
        </p:blipFill>
        <p:spPr>
          <a:xfrm>
            <a:off x="647640" y="1447920"/>
            <a:ext cx="4496040" cy="297000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7"/>
          <p:cNvSpPr/>
          <p:nvPr/>
        </p:nvSpPr>
        <p:spPr>
          <a:xfrm>
            <a:off x="4365720" y="545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10"/>
          <p:cNvSpPr/>
          <p:nvPr/>
        </p:nvSpPr>
        <p:spPr>
          <a:xfrm>
            <a:off x="2693520" y="557532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Calcium oxalate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8" name="Picture 11" descr="Calcium oxalate"/>
          <p:cNvPicPr/>
          <p:nvPr/>
        </p:nvPicPr>
        <p:blipFill>
          <a:blip r:embed="rId2"/>
          <a:stretch/>
        </p:blipFill>
        <p:spPr>
          <a:xfrm>
            <a:off x="5143680" y="1447920"/>
            <a:ext cx="4495680" cy="297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Calcium salt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52560" y="2133720"/>
            <a:ext cx="8572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eatment of primary causes such as infection, hypercalcemia, hyperoxalu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xalate-restricted di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creased fluid intake (if no glomerular failu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cidification of urine (by dietary chang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lcium salt stones are formed in alkaline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Uric acid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76240" y="2133720"/>
            <a:ext cx="86486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bout 8% of renal stones contain ur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y be associated with hyperuricemia (with or without gou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rm in acidic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General appearan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mall, friable, yellow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y form staghorn (if bi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adiolucent (plain x-rays cannot detec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isualized by ultrasound or i.v. pyel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4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6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6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02_uric_acid"/>
          <p:cNvPicPr/>
          <p:nvPr/>
        </p:nvPicPr>
        <p:blipFill>
          <a:blip r:embed="rId1"/>
          <a:stretch/>
        </p:blipFill>
        <p:spPr>
          <a:xfrm>
            <a:off x="495360" y="1752480"/>
            <a:ext cx="4495680" cy="2970360"/>
          </a:xfrm>
          <a:prstGeom prst="rect">
            <a:avLst/>
          </a:prstGeom>
          <a:ln w="0">
            <a:noFill/>
          </a:ln>
        </p:spPr>
      </p:pic>
      <p:sp>
        <p:nvSpPr>
          <p:cNvPr id="636" name="Text Box 3"/>
          <p:cNvSpPr/>
          <p:nvPr/>
        </p:nvSpPr>
        <p:spPr>
          <a:xfrm>
            <a:off x="3329640" y="557532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Uric acid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7" name="Picture 4" descr="06_uric_acid"/>
          <p:cNvPicPr/>
          <p:nvPr/>
        </p:nvPicPr>
        <p:blipFill>
          <a:blip r:embed="rId2"/>
          <a:stretch/>
        </p:blipFill>
        <p:spPr>
          <a:xfrm>
            <a:off x="5295960" y="1752480"/>
            <a:ext cx="4495680" cy="297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Uric acid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76240" y="2209680"/>
            <a:ext cx="86486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eatment of cause of hyperuricem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urine-restricted di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lkalinization of urine (by dietary chang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creased fluid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0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Mg ammonium PO</a:t>
            </a:r>
            <a:r>
              <a:rPr b="1" lang="en-US" sz="3500" spc="-1" strike="noStrike" baseline="-25000">
                <a:solidFill>
                  <a:srgbClr val="ffcc66"/>
                </a:solidFill>
                <a:latin typeface="Garamond"/>
              </a:rPr>
              <a:t>4</a:t>
            </a: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52560" y="1905120"/>
            <a:ext cx="8572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bout 10% of all renal stones contain Mg amm. 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lso called struvite kidney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ssociated with chronic urinary tract 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icroorganisms (such as from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Proteu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 genus) that metabolize urea into ammo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using urine pH to become alkaline leading to stone 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monly associated with staghorn calcu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75% of staghorn stones are of struvite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3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2"/>
          <p:cNvSpPr/>
          <p:nvPr/>
        </p:nvSpPr>
        <p:spPr>
          <a:xfrm>
            <a:off x="1515600" y="556272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g ammonium phosphate (struvite) sto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5" name="Picture 3" descr="08_struvite"/>
          <p:cNvPicPr/>
          <p:nvPr/>
        </p:nvPicPr>
        <p:blipFill>
          <a:blip r:embed="rId1"/>
          <a:stretch/>
        </p:blipFill>
        <p:spPr>
          <a:xfrm>
            <a:off x="1638360" y="762120"/>
            <a:ext cx="6705720" cy="4430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50760" y="515520"/>
            <a:ext cx="83044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Objectiv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23600" y="198072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y the end of this lecture, the students will be abl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scuss the general physiological and pathological factors that favor kidney stones 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ist the types of kidney stones, their chemical constituents and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dentify the etiological causes of each type of kidney s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scuss the diagnosis, treatment and prevention of kidney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2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Mg ammonium PO</a:t>
            </a:r>
            <a:r>
              <a:rPr b="1" lang="en-US" sz="3500" spc="-1" strike="noStrike" baseline="-25000">
                <a:solidFill>
                  <a:srgbClr val="ffcc66"/>
                </a:solidFill>
                <a:latin typeface="Garamond"/>
              </a:rPr>
              <a:t>4</a:t>
            </a: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52560" y="2133360"/>
            <a:ext cx="8572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eatment of 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rine acid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creased fluid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n some cases, it may require complete stone removal (percutaneous nephrolithotom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Cystine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76240" y="2133720"/>
            <a:ext cx="864864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rare type of kidney s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ue to homozygous cystinu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rm in acidic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ble in alkaline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aint radio-opa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1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2" descr="09_cystine"/>
          <p:cNvPicPr/>
          <p:nvPr/>
        </p:nvPicPr>
        <p:blipFill>
          <a:blip r:embed="rId1"/>
          <a:stretch/>
        </p:blipFill>
        <p:spPr>
          <a:xfrm>
            <a:off x="1790640" y="1066680"/>
            <a:ext cx="6296040" cy="4159440"/>
          </a:xfrm>
          <a:prstGeom prst="rect">
            <a:avLst/>
          </a:prstGeom>
          <a:ln w="0">
            <a:noFill/>
          </a:ln>
        </p:spPr>
      </p:pic>
      <p:sp>
        <p:nvSpPr>
          <p:cNvPr id="653" name="Text Box 3"/>
          <p:cNvSpPr/>
          <p:nvPr/>
        </p:nvSpPr>
        <p:spPr>
          <a:xfrm>
            <a:off x="3724920" y="557532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ystine s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Cystine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76240" y="2209680"/>
            <a:ext cx="864864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creased fluid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lkalinization of urine (by dietary chang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enicillamine (binds to cysteine to form a compound more soluble than cysti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Laboratory investigations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of kidney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876240" y="2209680"/>
            <a:ext cx="864864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If stone has formed and remov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hemical analysis of stone helps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dentify the 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dvise patient on prevention and future recur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9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Laboratory investigations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of kidney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799920" y="1752120"/>
            <a:ext cx="8724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If stone has not form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This type of investigation identifies causes that may contribute to stone form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rum calcium, uric acid and PTH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rinalysis: volume, calcium, oxalates and cystine lev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rine pH &gt; 8 suggests urinary tract infection (Mg amm. 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Urinary tract imag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T, ultrasound and i.v. pyel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Referenc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142640" y="3123720"/>
            <a:ext cx="857268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linical Chemistry and metabolic Medicine 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ook Antiqua"/>
                <a:ea typeface="Book Antiqu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Edition, pp. 3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National Kidney Foundation, USA (www.kidney.or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5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50760" y="515520"/>
            <a:ext cx="83044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Overview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99920" y="1980720"/>
            <a:ext cx="87627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ditions causing kidney stone 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ypes of kidney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lcium sa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r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g ammonium 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yst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ther (xanthine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aboratory investig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50760" y="515520"/>
            <a:ext cx="83044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What are kidney stones?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723960" y="213336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nal calculi (kidney stones) are formed in renal tubules, ureter or 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posed of metabolic products present in glomerular filt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se products are in high con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ar or above maximum solu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Conditions causing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kidney stone formation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75880" y="2133720"/>
            <a:ext cx="8543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igh conc. of metabolic products in glomerular filt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anges in urine 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rinary stag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ficiency of stone-forming inhibitors in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Conditions causing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kidney stone formation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23960" y="2057400"/>
            <a:ext cx="869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igh conc. of metabolic products in glomerular filtrate is du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w urinary volume (with normal renal function) due to restricted fluid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creased fluid loss from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creased excretion of metabolic products forming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igh plasma volume (high filtrate lev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w tubular reabsorption from filt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Conditions causing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kidney stone formation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8543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hanges in urine pH du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Bacterial 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Precipitation of salts at different 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ersistently</a:t>
            </a: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cidic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rine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romotes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ric acid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cip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ersistently </a:t>
            </a:r>
            <a:r>
              <a:rPr b="1" lang="en-GB" sz="2800" spc="-1" strike="noStrike">
                <a:solidFill>
                  <a:srgbClr val="7ddeff"/>
                </a:solidFill>
                <a:latin typeface="Arial"/>
              </a:rPr>
              <a:t>alkali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urine (due to upper urinary tract infection)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romotes </a:t>
            </a:r>
            <a:r>
              <a:rPr b="1" lang="en-GB" sz="2800" spc="-1" strike="noStrike">
                <a:solidFill>
                  <a:srgbClr val="7ddeff"/>
                </a:solidFill>
                <a:latin typeface="Arial"/>
              </a:rPr>
              <a:t>Mg Ammonium Phosphate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rystals (Struvite st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Urinary stagnation is du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Obstruction of urinary fl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Conditions causing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kidney stone formation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75880" y="2133720"/>
            <a:ext cx="8543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ficiency of stone-forming inhibito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itrate, pyrophosphate, glycoproteins inhibit growth of calcium phosphate and calcium oxalate crys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type I renal tubular acidosis, hypocitraturia leads to renal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0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69640" y="761760"/>
            <a:ext cx="7869240" cy="57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Types of kidney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28520" y="2285640"/>
            <a:ext cx="83055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lcium sa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Ur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g ammonium 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yst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Other (xanthine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3200400" y="41911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3200400" y="4495680"/>
            <a:ext cx="594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5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2T23:32:10Z</dcterms:created>
  <dc:creator>Usman Ghani</dc:creator>
  <dc:description/>
  <dc:language>en-US</dc:language>
  <cp:lastModifiedBy>Microsoft Office User</cp:lastModifiedBy>
  <dcterms:modified xsi:type="dcterms:W3CDTF">2017-05-01T07:02:46Z</dcterms:modified>
  <cp:revision>208</cp:revision>
  <dc:subject/>
  <dc:title> [Project Name] Post-Mortem</dc:title>
</cp:coreProperties>
</file>