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6584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250920" y="6524640"/>
            <a:ext cx="8642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Jashapara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Management: An Integrated Approac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2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Edition, © Pearson Education Limited 2011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3.</a:t>
            </a:r>
            <a:fld id="{768AD5B2-5CA4-4C02-8526-BA4AD7ECCE7E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www.google.com.sa/url?q=http://www.strat-pro.com/Diagrams/Business-Results-34/BalancedScorecard-444.aspx&amp;sa=U&amp;ei=I1xpU5LTFOmU0AX0uYGYDw&amp;ved=0CC4Q9QEwAQ&amp;usg=AFQjCNGjS7PwuGI-KUxZgtJYr6-7jsXwsw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1640" y="576360"/>
            <a:ext cx="774072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00000" y="2238480"/>
            <a:ext cx="7128000" cy="2921040"/>
          </a:xfrm>
          <a:prstGeom prst="rect">
            <a:avLst/>
          </a:prstGeom>
          <a:solidFill>
            <a:srgbClr val="47ffd1"/>
          </a:solidFill>
          <a:ln w="12600">
            <a:solidFill>
              <a:srgbClr val="00cc99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TELLE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cture (10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uman Capital   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2920" y="1341360"/>
            <a:ext cx="8858160" cy="48261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the knowledge, skills and experience that employees take with them when they le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is knowledge is unique to the individual; some may be gene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capacity, creativity, know-how , past experience, employee flexibility, tolerance for ambiguity, motivation, satisf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apacity, loyalty, formal train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65280"/>
            <a:ext cx="7772400" cy="48880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“ The knowledge that stays within the firm”. I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ises organisational routines, procedures, systems, cultures and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sa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, a documentation service, the existence of a knowledge centre, the general use of information technolog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organisational learning capa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m may be legally protected and become intellectual property rights, legally owned by the fi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lation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3720" y="1565280"/>
            <a:ext cx="7772400" cy="47433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d as “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linked to the external relationships of the firm’' – with customers, suppliers or partners in research and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 comprises that part of human and structural capital involved the company’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ons with stakeholders (investor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ors, customers, suppliers), plus the perceptions that they hold about the company.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 loyalty, customer satisf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with suppliers, commercial power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gotiating capacity with financial entities and environmental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lectual capital classific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595520"/>
          <a:ext cx="9828360" cy="4464000"/>
        </p:xfrm>
        <a:graphic>
          <a:graphicData uri="http://schemas.openxmlformats.org/drawingml/2006/table">
            <a:tbl>
              <a:tblPr/>
              <a:tblGrid>
                <a:gridCol w="3724200"/>
                <a:gridCol w="2608200"/>
                <a:gridCol w="1859040"/>
                <a:gridCol w="1636920"/>
              </a:tblGrid>
              <a:tr h="945720">
                <a:tc rowSpan="2"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capital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elational (customer) capita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Organisational (structural) capital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tellectual property</a:t>
                      </a:r>
                      <a:r>
                        <a:rPr b="0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rastructure Assets</a:t>
                      </a:r>
                      <a:r>
                        <a:rPr b="0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Paten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hilosophy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fication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s loyalty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Copyrigh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lture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related knowledge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mpany name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Design righ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cesse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 assessment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ribution channel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Trademark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stem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related competence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censing agreemen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service mark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etwork system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-how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rand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Trade secret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ales system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racteristics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of Intellectu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280" y="1773360"/>
            <a:ext cx="9126360" cy="4876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Intellectual Capital is similar to tangible assets in its potential for generating futur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ash flow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t is radically different from tangible capital in the following respects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rs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asset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val ass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physical assets which can only be used for doing one thing at a time, intellectual assets can be multiplex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 customer support system can provide support to thousands of custom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-360"/>
            <a:ext cx="8964720" cy="5157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econ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apital and Relational Capital cannot be 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have to be shared with employees and suppliers and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ing this kind of capital requires careful supporting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7640" y="444240"/>
            <a:ext cx="8350200" cy="57927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ir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capital is an intangible asset that can be owned and controlled by managers. 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not be traded easily since no markets exist for this purp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over ,customers do not care about the structural capital of their suppliers since every one likes dealing directly with real human beings rather than with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7640" y="-360"/>
            <a:ext cx="8961480" cy="6095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ourth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 capital, in the form of some systems as such just-in-time ,management  processes, inventory control. Can be substituted for expensive capital expenditure such as storage wareho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466560"/>
            <a:ext cx="9144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Fifth: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s that leverage their intellectual capital to do knowledge work are able to generate higher margin of profits than those who provide mass-produced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3480" y="3330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-360"/>
            <a:ext cx="9144000" cy="5373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xth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, Structural and Relational Capital often work together in combinations to give rise to core competenci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it is not enough to invest in people, systems and customers separately, but in combinations that produce en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3812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4400" y="1528560"/>
            <a:ext cx="8373960" cy="35686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describe the development of the concept of intellectual capital from a historic persp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discuss commonalities between different intellectual frameworks as a mixture of human capital, social capital, organisational capital and customer capi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outline issues related to the notion of intellectual capital as a narr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DO SHOULD MEASURE INTELLECTUAL CAPITA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5373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review of over 700 papers that studied Intellectual Capital measurement related issues found five generic reasons as the purpose of measuring Intellectual Capital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organizations formulate and evaluate their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improve management prac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ist in the firm’s diversification and expansion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se as a basis for management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municate with external sharehold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 external analysts, bankers, brokers, customers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2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458280"/>
            <a:ext cx="896472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hods Of Measuring The Intellectual Capital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1981080"/>
            <a:ext cx="896472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group of methods of measuring the Intellectual Capital, which can be used in order to evaluate this ass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methods were attempts made by different companies for their internal use rather than the development of a universal measuring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thods can be divided into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9000" y="137880"/>
            <a:ext cx="8496360" cy="212076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st 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irect Intellectual Capital Methods (DIC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9000" y="2259000"/>
            <a:ext cx="849636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 the dollar /value of intangible assets by identifying its various compon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 these components are identified, they can be directly evaluated, either individually or as an aggregated coefficient 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120600"/>
            <a:ext cx="8569080" cy="212112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ond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 Capitalization Methods (MC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4960" y="2492280"/>
            <a:ext cx="855504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difference between a company’s market value and its stockholders’ equity as the value of its intellectual capital or intangible ass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25200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rd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urn on Assets Methods (RO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560600"/>
            <a:ext cx="9144000" cy="45352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re-tax earnings of a company and divide them by the average tangible assets of the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is a company ROA that is then compared with its industry averag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th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ecard Methods (SC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various components of intangible assets or intellectual capital and indicators and reported in scorecard  as grap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Measurement Method as well as the most widely used of all nonfinancial measurement method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58280"/>
            <a:ext cx="9036000" cy="14446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981080"/>
            <a:ext cx="9036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anced Scorecard is a management tool that provides stakeholders with a comprehensive measure of how the organization is progressing towards the achievement of its strategic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76680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564920"/>
            <a:ext cx="9144000" cy="46004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financial reporting systems provide an indication of how a firm has performed in the past, but offer little information about how it might perform in the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al with this problem, Robert Kaplan and David Norton developed the Balanced Scorecard, a performance measurement system that considers not only financial measures, but also customer, business process, and learning measures. The Balanced Scorecard framework is depicted in the following dia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187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ALANCED SCORECARD (Kaplan and Norton, 199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90520" y="5884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balanced scorecard (from Kaplan and Norton 1992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Picture 8" descr="M03NF003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0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s://encrypted-tbn0.gstatic.com/images?q=tbn:ANd9GcSlXgwzI3ePoM-m9YndriMfE74RuUArZEpCxk_OaC5uL624E_zCOGeuQ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542880" y="1773360"/>
            <a:ext cx="1085760" cy="81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65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981080"/>
            <a:ext cx="9036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d Scorecard is the main management tool that has been used by successful  organizations in variou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ivate and Public S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 Profit and Not - Profit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indus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ccessful organizations placed their strategies at the centre of their opera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96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UZZ GROU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4120" y="1501920"/>
            <a:ext cx="8375760" cy="24904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you were asked to articulate your own personal capital in a job interview, How would you describe your personal capit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would you place a value on your personal capit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financial and non-financia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short and long-term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internal and external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objective measures and subjectiv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leading indicators with  lagging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d scorecard translates the organization's strategy into four  perspectiv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Perspecti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persp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&amp; growth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348400" cy="1295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560" y="1773360"/>
            <a:ext cx="8569080" cy="47052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inancial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cludes measures such as operating income, return on capital employed, and economic value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ustomer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customer satisfaction,   customer retention, and market share in target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siness process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cost, and   quality. These are for business processes such as purchasing and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earning &amp; growth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employee   satisfaction, employee retention, skill se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5280" y="765000"/>
            <a:ext cx="798984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ur perspectives are not simply a collection of independent perspecti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gical connection between them - learning and growth lead  to better business processes, which in turn lead to increased value to the  customer, which finally leads to improved financi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45864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, Measures, Targets, and Initi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052640"/>
            <a:ext cx="7772400" cy="5400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rspective of the Balanced Scorecard includes objectives, Measures of  those objectives, target values of those measures, and initi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  follo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ajor objectives to be achieved, for example, profitable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observable parameters that will be used to measure progress   toward reaching the objective. For example, the objective of profitable growth   might be measured by growth in ne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arg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he specific target values for the measures, for example, +2% growth  in net mar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iti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ction programs to be initiated in order to meet th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7000" y="756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se can be organized for each perspective in a table as show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3560" y="1916280"/>
          <a:ext cx="6840720" cy="2927160"/>
        </p:xfrm>
        <a:graphic>
          <a:graphicData uri="http://schemas.openxmlformats.org/drawingml/2006/table">
            <a:tbl>
              <a:tblPr/>
              <a:tblGrid>
                <a:gridCol w="1368720"/>
                <a:gridCol w="1368360"/>
                <a:gridCol w="1366920"/>
                <a:gridCol w="1368360"/>
                <a:gridCol w="136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tiv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inancial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cess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earning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 step process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easureme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strategic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trategic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implement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of strategy into measurable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of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individual goals with strategic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of implement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332000" y="1268280"/>
            <a:ext cx="6480000" cy="2376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360" y="1268280"/>
            <a:ext cx="77724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is Intellectual Capital?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why it should be measure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0960" cy="6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llectual capital definition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2320" y="936360"/>
            <a:ext cx="8375400" cy="58021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plenty of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s of intellectual capital as exampl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IC is defined as -------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The difference between the market value and the book value ( the value of its intangible assets)’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IC is defined as----------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Th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intellectual material – knowledge, information, intellectual property, experience – that can be put to create wealth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C is defined as-------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angible assets, such as patents, trademarks and copyrights, that can b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d in traditional financial statements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’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255600"/>
            <a:ext cx="84582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EPTUAL ROOTS OF INTELLECTUAL CAPITAL (Roos et al., 199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90520" y="5884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nceptual roots of intellectual capital (Roo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1997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Picture 8" descr="M03NF001"/>
          <p:cNvPicPr/>
          <p:nvPr/>
        </p:nvPicPr>
        <p:blipFill>
          <a:blip r:embed="rId1"/>
          <a:stretch/>
        </p:blipFill>
        <p:spPr>
          <a:xfrm>
            <a:off x="1042920" y="1392120"/>
            <a:ext cx="7058160" cy="443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78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STORICAL HIGHLIGHTS OF INTELLECTUAL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90520" y="6153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istory of intellectual capital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4" name="Picture 10" descr="M03NT001A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480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8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STORICAL HIGHLIGHTS OF INTELLECTUAL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90520" y="6153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istory of intellectual capital (Continued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7" name="Picture 5" descr="M03NT001B"/>
          <p:cNvPicPr/>
          <p:nvPr/>
        </p:nvPicPr>
        <p:blipFill>
          <a:blip r:embed="rId1"/>
          <a:stretch/>
        </p:blipFill>
        <p:spPr>
          <a:xfrm>
            <a:off x="468360" y="1346040"/>
            <a:ext cx="8424720" cy="477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llectual capital classification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0720"/>
            <a:ext cx="7772400" cy="3751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mas Ste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ioneer in the study of such intangible assets, who coined the ter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‘Intellectual Capital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Capital :  itself is composed of three distinct type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tructural Cap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elational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9T13:51:40Z</dcterms:created>
  <dc:creator>Dr Ashok Jashapara</dc:creator>
  <dc:description/>
  <cp:keywords/>
  <dc:language>en-US</dc:language>
  <cp:lastModifiedBy>elham elshafie</cp:lastModifiedBy>
  <cp:lastPrinted>1998-01-20T11:07:24Z</cp:lastPrinted>
  <dcterms:modified xsi:type="dcterms:W3CDTF">2015-04-29T06:04:33Z</dcterms:modified>
  <cp:revision>3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5F5A111-A51D-4F37-8909-C4E2244E95E7</vt:lpwstr>
  </property>
  <property fmtid="{D5CDD505-2E9C-101B-9397-08002B2CF9AE}" pid="3" name="ArticulatePath">
    <vt:lpwstr>km_10</vt:lpwstr>
  </property>
</Properties>
</file>