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465840"/>
            <a:ext cx="7772400" cy="662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0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5840"/>
            <a:ext cx="7772400" cy="14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250920" y="6524640"/>
            <a:ext cx="86421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Jashapara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Knowledge Management: An Integrated Approac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, 2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Edition, © Pearson Education Limited 2011</a:t>
            </a:r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Text Box 8"/>
          <p:cNvSpPr/>
          <p:nvPr/>
        </p:nvSpPr>
        <p:spPr>
          <a:xfrm>
            <a:off x="0" y="0"/>
            <a:ext cx="8064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lide 3.</a:t>
            </a:r>
            <a:fld id="{CFA907D4-C0E8-4CEF-B679-903180A540CB}" type="slidenum">
              <a:rPr b="0" lang="en-GB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s://www.google.com.sa/url?q=http://www.strat-pro.com/Diagrams/Business-Results-34/BalancedScorecard-444.aspx&amp;sa=U&amp;ei=I1xpU5LTFOmU0AX0uYGYDw&amp;ved=0CC4Q9QEwAQ&amp;usg=AFQjCNGjS7PwuGI-KUxZgtJYr6-7jsXwsw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01640" y="576360"/>
            <a:ext cx="774072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00000" y="2238480"/>
            <a:ext cx="7128000" cy="2921040"/>
          </a:xfrm>
          <a:prstGeom prst="rect">
            <a:avLst/>
          </a:prstGeom>
          <a:solidFill>
            <a:srgbClr val="47ffd1"/>
          </a:solidFill>
          <a:ln w="12600">
            <a:solidFill>
              <a:srgbClr val="00cc99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INTELLECT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ecture (10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8280"/>
            <a:ext cx="7772400" cy="144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Human Capital    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42920" y="1341360"/>
            <a:ext cx="8858160" cy="48261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as the knowledge, skills and experience that employees take with them when they lea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this knowledge is unique to the individual; some may be gener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on capacity, creativity, know-how , past experience, employee flexibility, tolerance for ambiguity, motivation, satisfac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capacity, loyalty, formal training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Structural capit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565280"/>
            <a:ext cx="7772400" cy="48880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as “ The knowledge that stays within the firm”. I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rises organisational routines, procedures, systems, cultures and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Exampl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ganisat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y, a documentation service, the existence of a knowledge centre, the general use of information technologie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organisational learning capac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them may be legally protected and become intellectual property rights, legally owned by the fir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Relational capit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93720" y="1565280"/>
            <a:ext cx="7772400" cy="47433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ed as “Al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 linked to the external relationships of the firm’' – with customers, suppliers or partners in research and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 comprises that part of human and structural capital involved the company’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ations with stakeholders (investors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ors, customers, suppliers), plus the perceptions that they hold about the company.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xamp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stomer loyalty, customer satisfaction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s with suppliers, commercial power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gotiating capacity with financial entities and environmental activit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ble o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lectual capital classifica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1595520"/>
          <a:ext cx="9828360" cy="4464000"/>
        </p:xfrm>
        <a:graphic>
          <a:graphicData uri="http://schemas.openxmlformats.org/drawingml/2006/table">
            <a:tbl>
              <a:tblPr/>
              <a:tblGrid>
                <a:gridCol w="3724200"/>
                <a:gridCol w="2608200"/>
                <a:gridCol w="1859040"/>
                <a:gridCol w="1636920"/>
              </a:tblGrid>
              <a:tr h="945720">
                <a:tc rowSpan="2">
                  <a:txBody>
                    <a:bodyPr tIns="42840" bIns="4284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 capital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rowSpan="2">
                  <a:txBody>
                    <a:bodyPr tIns="42840" bIns="4284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ff"/>
                          </a:solidFill>
                          <a:latin typeface="Arial"/>
                        </a:rPr>
                        <a:t>Relational (customer) capital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gridSpan="2">
                  <a:txBody>
                    <a:bodyPr tIns="42840" bIns="4284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ff4747"/>
                          </a:solidFill>
                          <a:latin typeface="Arial"/>
                        </a:rPr>
                        <a:t>Organisational (structural) capital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tellectual property</a:t>
                      </a:r>
                      <a:r>
                        <a:rPr b="0" lang="en-GB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nfrastructure Assets</a:t>
                      </a:r>
                      <a:r>
                        <a:rPr b="0" lang="en-GB" sz="1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45240"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ustomer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Patent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hilosophy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45240"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fication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ustomers loyalty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Copyright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ulture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45240"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related knowledge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mpany name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Design right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cesses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04440"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pational  assessment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ribution channel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Trademark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ystems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04440"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related competence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icensing agreement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service marks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etwork system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04440">
                <a:tc>
                  <a:txBody>
                    <a:bodyPr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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-how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5ffe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Wingdings" charset="2"/>
                        <a:buChar char="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rands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Trade secrets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tIns="42840" bIns="4284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ales system </a:t>
                      </a:r>
                      <a:endParaRPr b="0" lang="en-US" sz="17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haracteristics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of Intellectual Capit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280" y="1773360"/>
            <a:ext cx="9126360" cy="48765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hough Intellectual Capital is similar to tangible assets in its potential for generating future 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cash flow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t is radically different from tangible capital in the following respects: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irst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ectual assets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ival asse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ike physical assets which can only be used for doing one thing at a time, intellectual assets can be multiplex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a customer support system can provide support to thousands of customers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662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0" y="-360"/>
            <a:ext cx="8964720" cy="51577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econd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Capital and Relational Capital cannot be ow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have to be shared with employees and suppliers and custo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ing this kind of capital requires careful supporting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662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7640" y="444240"/>
            <a:ext cx="8350200" cy="57927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hird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 capital is an intangible asset that can be owned and controlled by managers. Howeve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annot be traded easily since no markets exist for this purpo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over ,customers do not care about the structural capital of their suppliers since every one likes dealing directly with real human beings rather than with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662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07640" y="-360"/>
            <a:ext cx="8961480" cy="60958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Fourth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al capital, in the form of some systems as such just-in-time ,management  processes, inventory control. Can be substituted for expensive capital expenditure such as storage warehou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662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466560"/>
            <a:ext cx="914400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Fifth:-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ms that leverage their intellectual capital to do knowledge work are able to generate higher margin of profits than those who provide mass-produced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63480" y="3330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-360"/>
            <a:ext cx="9144000" cy="53737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Sixth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, Structural and Relational Capital often work together in combinations to give rise to core competencies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 it is not enough to invest in people, systems and customers separately, but in combinations that produce end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3812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74400" y="1528560"/>
            <a:ext cx="8373960" cy="35686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describe the development of the concept of intellectual capital from a historic perspec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discuss commonalities between different intellectual frameworks as a mixture of human capital, social capital, organisational capital and customer capi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outline issues related to the notion of intellectual capital as a narrati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WHY DO SHOULD MEASURE INTELLECTUAL CAPITAL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504440"/>
            <a:ext cx="9144000" cy="53737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review of over 700 papers that studied Intellectual Capital measurement related issues found five generic reasons as the purpose of measuring Intellectual Capital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organizations formulate and evaluate their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improve management pract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ssist in the firm’s diversification and expansion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use as a basis for management compen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municate with external shareholde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; external analysts, bankers, brokers, customers, etc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7" dur="2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80" y="458280"/>
            <a:ext cx="8964720" cy="144468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hods Of Measuring The Intellectual Capital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79280" y="1981080"/>
            <a:ext cx="8964720" cy="411480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several group of methods of measuring the Intellectual Capital, which can be used in order to evaluate this asse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se methods were attempts made by different companies for their internal use rather than the development of a universal measuring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methods can be divided into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Arial"/>
              </a:rPr>
              <a:t>Fou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in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79000" y="137880"/>
            <a:ext cx="8496360" cy="212076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rst :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Direct Intellectual Capital Methods (DICM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79000" y="2259000"/>
            <a:ext cx="8496360" cy="411480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imate the dollar /value of intangible assets by identifying its various compon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ce these components are identified, they can be directly evaluated, either individually or as an aggregated coefficient (co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120600"/>
            <a:ext cx="8569080" cy="212112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ond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ket Capitalization Methods (MCM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64960" y="2492280"/>
            <a:ext cx="8555040" cy="411480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difference between a company’s market value and its stockholders’ equity as the value of its intellectual capital or intangible asse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252000" cy="144468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ird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turn on Assets Methods (ROA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560600"/>
            <a:ext cx="9144000" cy="453528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pre-tax earnings of a company and divide them by the average tangible assets of the compa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 is a company ROA that is then compared with its industry average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8280"/>
            <a:ext cx="7772400" cy="144468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urth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orecard Methods (SC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c2c2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various components of intangible assets or intellectual capital and indicators and reported in scorecard  as graph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popular Measurement Method as well as the most widely used of all nonfinancial measurement methods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58280"/>
            <a:ext cx="9036000" cy="144468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alanced Scorecard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1981080"/>
            <a:ext cx="903600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lanced Scorecard is a management tool that provides stakeholders with a comprehensive measure of how the organization is progressing towards the achievement of its strategic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8280360" cy="76680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alanced Scoreca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1564920"/>
            <a:ext cx="9144000" cy="460044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financial reporting systems provide an indication of how a firm has performed in the past, but offer little information about how it might perform in the fu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al with this problem, Robert Kaplan and David Norton developed the Balanced Scorecard, a performance measurement system that considers not only financial measures, but also customer, business process, and learning measures. The Balanced Scorecard framework is depicted in the following diagr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30240"/>
            <a:ext cx="9144000" cy="118728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HE BALANCED SCORECARD (Kaplan and Norton, 199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90520" y="58849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balanced scorecard (from Kaplan and Norton 1992)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8" name="Picture 8" descr="M03NF003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402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https://encrypted-tbn0.gstatic.com/images?q=tbn:ANd9GcSlXgwzI3ePoM-m9YndriMfE74RuUArZEpCxk_OaC5uL624E_zCOGeuQ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-542880" y="1773360"/>
            <a:ext cx="1085760" cy="81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6528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alanced Scoreca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1981080"/>
            <a:ext cx="903600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lanced Scorecard is the main management tool that has been used by successful  organizations in various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rivate and Public S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- Profit and Not - Profit organ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indus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ccessful organizations placed their strategies at the centre of their operation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960"/>
            <a:ext cx="77724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BUZZ GROU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4120" y="1501920"/>
            <a:ext cx="8375760" cy="249048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If you were asked to articulate your own personal capital in a job interview, How would you describe your personal capit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ow would you place a value on your personal capital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alanced Scoreca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981080"/>
            <a:ext cx="914400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s between the financial and non-financial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s between the short and long-term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s between the internal and external m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s between objective measures and subjective m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s between leading indicators with  lagging indic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alanced Scoreca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lanced scorecard translates the organization's strategy into four  perspectiv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Perspectiv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perspec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 &amp; growth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348400" cy="129528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alanced Scorecar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50560" y="1773360"/>
            <a:ext cx="8569080" cy="47052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inancial Perspec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cludes measures such as operating income, return on capital employed, and economic value ad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Customer perspec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cludes measures such as customer satisfaction,   customer retention, and market share in target seg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Business process perspec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cludes measures such as cost, and   quality. These are for business processes such as purchasing and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earning &amp; growth perspec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cludes measures such as employee   satisfaction, employee retention, skill set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95280" y="765000"/>
            <a:ext cx="798984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four perspectives are not simply a collection of independent perspectiv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 logical connection between them - learning and growth lead  to better business processes, which in turn lead to increased value to the  customer, which finally leads to improved financia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772400" cy="458640"/>
          </a:xfrm>
          <a:prstGeom prst="rect">
            <a:avLst/>
          </a:prstGeom>
          <a:solidFill>
            <a:srgbClr val="60c99c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s, Measures, Targets, and Initiativ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052640"/>
            <a:ext cx="7772400" cy="54007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erspective of the Balanced Scorecard includes objectives, Measures of  those objectives, target values of those measures, and initia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s  follow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Objec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major objectives to be achieved, for example, profitable grow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asur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he observable parameters that will be used to measure progress   toward reaching the objective. For example, the objective of profitable growth   might be measured by growth in net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arg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the specific target values for the measures, for example, +2% growth  in net mar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itia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action programs to be initiated in order to meet the 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7000" y="756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hese can be organized for each perspective in a table as shown be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93560" y="1916280"/>
          <a:ext cx="6840720" cy="2927160"/>
        </p:xfrm>
        <a:graphic>
          <a:graphicData uri="http://schemas.openxmlformats.org/drawingml/2006/table">
            <a:tbl>
              <a:tblPr/>
              <a:tblGrid>
                <a:gridCol w="1368720"/>
                <a:gridCol w="1368360"/>
                <a:gridCol w="1366920"/>
                <a:gridCol w="1368360"/>
                <a:gridCol w="1368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cc98"/>
                      </a:solidFill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jective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asure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rget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itiative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cc98"/>
                      </a:solidFill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inancial 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cc98"/>
                      </a:solidFill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cc98"/>
                      </a:solidFill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ustomer 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cc98"/>
                      </a:solidFill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cc98"/>
                      </a:solidFill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rocess 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cc98"/>
                      </a:solidFill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cc98"/>
                      </a:solidFill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earning 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cc98"/>
                      </a:solidFill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2ff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ffc2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cc98"/>
                      </a:solidFill>
                    </a:lnR>
                    <a:lnT w="4320">
                      <a:solidFill>
                        <a:srgbClr val="00cc98"/>
                      </a:solidFill>
                    </a:lnT>
                    <a:lnB w="4320">
                      <a:solidFill>
                        <a:srgbClr val="00cc98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 step process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measurement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strategic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strategic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implement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47ffd1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lation of strategy into measurable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of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gnment of individual goals with strategic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of implementation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332000" y="1268280"/>
            <a:ext cx="6480000" cy="2376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The End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4360" y="1268280"/>
            <a:ext cx="7772400" cy="411480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What is Intellectual Capital?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why it should be measured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0960" cy="64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tellectual capital definition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2320" y="936360"/>
            <a:ext cx="8375400" cy="580212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plenty of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s of intellectual capital as example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IC is defined as -------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‘The difference between the market value and the book value ( the value of its intangible assets)’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0000"/>
                </a:solidFill>
                <a:latin typeface="Arial"/>
              </a:rPr>
              <a:t>IC is defined as-----------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'Th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intellectual material – knowledge, information, intellectual property, experience – that can be put to create wealth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IC is defined as--------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The intangible assets, such as patents, trademarks and copyrights, that can b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d in traditional financial statements.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’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255600"/>
            <a:ext cx="84582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CEPTUAL ROOTS OF INTELLECTUAL CAPITAL (Roos et al., 1997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90520" y="58849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gure 3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onceptual roots of intellectual capital (Roo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1997)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1" name="Picture 8" descr="M03NF001"/>
          <p:cNvPicPr/>
          <p:nvPr/>
        </p:nvPicPr>
        <p:blipFill>
          <a:blip r:embed="rId1"/>
          <a:stretch/>
        </p:blipFill>
        <p:spPr>
          <a:xfrm>
            <a:off x="1042920" y="1392120"/>
            <a:ext cx="7058160" cy="443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67840"/>
            <a:ext cx="77724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STORICAL HIGHLIGHTS OF INTELLECTUAL CA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290520" y="61531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3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istory of intellectual capital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4" name="Picture 10" descr="M03NT001A"/>
          <p:cNvPicPr/>
          <p:nvPr/>
        </p:nvPicPr>
        <p:blipFill>
          <a:blip r:embed="rId1"/>
          <a:stretch/>
        </p:blipFill>
        <p:spPr>
          <a:xfrm>
            <a:off x="179280" y="1341360"/>
            <a:ext cx="8713800" cy="480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7840"/>
            <a:ext cx="7772400" cy="10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ISTORICAL HIGHLIGHTS OF INTELLECTUAL CAPI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90520" y="61531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3.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istory of intellectual capital (Continued)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7" name="Picture 5" descr="M03NT001B"/>
          <p:cNvPicPr/>
          <p:nvPr/>
        </p:nvPicPr>
        <p:blipFill>
          <a:blip r:embed="rId1"/>
          <a:stretch/>
        </p:blipFill>
        <p:spPr>
          <a:xfrm>
            <a:off x="468360" y="1346040"/>
            <a:ext cx="8424720" cy="4772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4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llectual capital classification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0720"/>
            <a:ext cx="7772400" cy="3751560"/>
          </a:xfrm>
          <a:prstGeom prst="rect">
            <a:avLst/>
          </a:prstGeom>
          <a:solidFill>
            <a:srgbClr val="85ffe0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omas Stew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pioneer in the study of such intangible assets, who coined the term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‘Intellectual Capital’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ectual Capital :  itself is composed of three distinct type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Human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Structural Cap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Relational </a:t>
            </a:r>
            <a:r>
              <a:rPr b="1" lang="en-GB" sz="2400" spc="-1" strike="noStrike">
                <a:solidFill>
                  <a:srgbClr val="3333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9T13:51:40Z</dcterms:created>
  <dc:creator>Dr Ashok Jashapara</dc:creator>
  <dc:description/>
  <cp:keywords/>
  <dc:language>en-US</dc:language>
  <cp:lastModifiedBy>elham elshafie</cp:lastModifiedBy>
  <cp:lastPrinted>1998-01-20T11:07:24Z</cp:lastPrinted>
  <dcterms:modified xsi:type="dcterms:W3CDTF">2015-04-29T06:04:33Z</dcterms:modified>
  <cp:revision>36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15F5A111-A51D-4F37-8909-C4E2244E95E7</vt:lpwstr>
  </property>
  <property fmtid="{D5CDD505-2E9C-101B-9397-08002B2CF9AE}" pid="3" name="ArticulatePath">
    <vt:lpwstr>km_10</vt:lpwstr>
  </property>
</Properties>
</file>