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0870-6913-4853-B5BB-AE9C1E57AB8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13FC-F2E7-4E36-83CD-7D7FAF0F20C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540-AE0A-45DD-B950-9C0C8F881E2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273A-9BF0-413D-A1C0-82D78AF15BC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E6B5-DD44-4619-A2C0-B75F59204DE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A7B4-DE0C-4E6A-AB94-D8923ED33A7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2874-B4B4-4503-9888-C9C40040108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AEB6-8B78-4E02-BC38-C6110B49324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8DCD-D932-42B6-AA82-0E45D05E664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E5EC-30CE-428E-BEF6-99182E8B409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4829-C8FF-4768-B76D-ED2F05D07A2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0F86-267B-4C59-8D28-D306C79C8B8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A55A-4911-4734-81F1-CBB9E939F8F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3830-17E1-4C55-9865-339849A3B50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F484-D028-4F3A-ACBB-B79794EED1D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DD87-F6B0-455C-A11F-03C79885E65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ECCB-253B-4A56-A588-6EEAE10BC31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3EC9-D9C5-4DF7-BA71-015FE011CF2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B777-BD41-4698-9D80-97F7B15CB8F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1829-F81D-4BAA-8D3D-D2D42971B99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7024-B0D3-4779-98DE-CB590E3F677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A6B4-4E11-4581-BA7B-F7A8B6F65F8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B953-E10E-4332-9390-DB55F59A264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728A-16D5-40B8-A737-C3CE69E8D28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FB39-0511-485A-B813-FF4EDC33A82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4C09-F388-4F7B-A153-32F9FE3DE67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1718-C40B-4418-A941-358DA1FF566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106F-D2BE-4118-9580-F87124C5481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4ED1-F6E1-4758-8910-0289A433F04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FEA0-15B9-4371-9194-D40E89375E4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92BB-C112-4657-AAB0-FD438DBBA64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C1BE-0AFC-4733-916E-E0E323D8C12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6349-1997-43F0-9AE6-E5B5C4A375D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0592-4A08-4722-8099-02D4CB84121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8A65-D9C5-4E53-B723-50C8A9AD1F0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5DF6-F9B0-4402-9C52-653280DFB1F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D674-7EC3-4F8D-8EC3-75D41A695FB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A20A9BCD-6243-455D-83D1-BF2D473FF0BA}"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866FA24B-916A-4416-AAF0-3C56748C7CFC}"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50800"/>
            <a:ext cx="4651560" cy="44928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0" y="2590920"/>
            <a:ext cx="556560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38" name="Picture 6"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0760" cy="258444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65200"/>
            <a:ext cx="6164280" cy="40593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62" name="Picture 7"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304920" y="1676520"/>
            <a:ext cx="8003880" cy="480348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ksu</cp:lastModifiedBy>
  <dcterms:modified xsi:type="dcterms:W3CDTF">2015-03-01T05:00:05Z</dcterms:modified>
  <cp:revision>125</cp:revision>
  <dc:subject/>
  <dc:title>Slide 1</dc:title>
</cp:coreProperties>
</file>