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157-4A00-42E0-AB27-B1B6933A93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87C-5FA1-4ADF-89D7-22B91CB5FD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687-5B17-441B-B78C-476BAB1AF1E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0BCF-727F-41A9-9282-6E315D00103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7C3F-2697-4D28-B554-307C05A21F1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69A-5C98-4E09-A483-524DD0A857E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CB6C-7DD8-427F-8045-E9D54873893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55D2-FF4B-462A-BFB2-D377C0E1962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6F5B-E8D9-4F2E-85C1-357EC54028F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AA56-DF5D-483A-B04D-4FA28D8EF3A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07B-9522-4F67-A66F-286CB6CA88D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FBA7-D10F-4FA8-A089-F70766CE4B7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E482-DDAF-4196-9207-EF0C4F70B43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4D9-1E14-4347-AACC-20F2219CA24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F70-127A-4968-B083-28ECA8CDBFE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8BF-C7C9-4FEA-AADE-D2C1BBFFB7A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76FD-16E1-45EA-BA98-8ABF0BA38BA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5FB-75A7-4BEB-91AB-0EC49259369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CB79-1268-4F8F-9F53-86E5A916EEA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0BE-B9B3-4EEB-BB5E-A33959CFBD8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44D3-BA23-450D-883D-A17924DFA06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D1B4-D197-4751-8D4B-0B0784C35EF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3C2D-534E-4F7F-BB0E-6D4FB09B448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1468-47A3-425B-BE91-8C48696E9C5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60D5-C706-4042-AE51-4E3FCE58D1E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2D63-F596-4F9D-83F2-BD8015127EB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56A9-C4B8-4493-96DF-5334E5E732F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F80C-6C1F-4C75-BED4-97E6E832C97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19A0-74BE-4981-8A38-E67E60390EF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9CEC-862B-4E51-81AD-D4673B83791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CEFB-4F04-401E-AAAB-ABF6B63BE30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02C2-C376-45CB-B279-4DC570D7231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B394-469E-40F3-9BA0-139AC6AC9BD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F98F-9F61-4110-93CA-53CE04F6DC4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377-D45E-4882-B8D3-AF6AEE0B7F2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75F-A73A-4F22-8788-447DDB39019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08A8-5BF2-462E-B49D-BA49517381A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1303-9C46-4EE7-8F39-6E19AFA0459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D97-2F54-458E-A9BD-1EFA968DDCA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5E6-C4AB-4E6A-9EF6-8E616CEF5B8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7B26-AF6E-41BF-A039-F3BCD1B2ECB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5EF-E760-4188-9931-6D6F59530ED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273-C8E6-4EA6-A6C2-C2B66FE17A0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D1C-ACA7-4E93-88BA-B57B2427CA8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D00A91EE-CE28-4B38-85B7-3D5C9C858538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7E8ED3D1-50D9-44DA-AB09-BED8F7F28869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xo.com/s-21-good-grips.aspx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E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, Services, and Brands:  Build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cialty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with unique characteristics or brand identification for which a significant group of buyers is willing to make a special purchase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c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r clot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-end electron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666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that the consumer does not know about or knows about but does not normally think of buy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er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 don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ustri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s purchased for further processing or for use in conducting a busi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the purpose for which the product is purch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and p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tal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lies and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23880" y="21337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par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aw materials and manufactured materials and parts usually sold directly to industrial us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it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industrial products that aid in the buyer’s production or op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s and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 operating supplies, repair and maintenance items, and business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Produ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nd Service Classif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ganizati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rs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lac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use of commercial marketing concepts and tools in programs designed to influence individuals’ behavior to improve their well-being and that of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7" name="Picture 4" descr="fig08_02wo.jpg"/>
          <p:cNvPicPr/>
          <p:nvPr/>
        </p:nvPicPr>
        <p:blipFill>
          <a:blip r:embed="rId1"/>
          <a:stretch/>
        </p:blipFill>
        <p:spPr>
          <a:xfrm>
            <a:off x="304920" y="2863800"/>
            <a:ext cx="8229600" cy="1271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4756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or service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e and deliver the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yle and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Quality 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level of quality that supports the product’s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Conforman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product’s freedom from defects and consistency in delivering a targeted level of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, Services, and Branding Strateg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, Services, and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and Services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s Mark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nding Strategy: Building Strong Br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 competitive tool for differentiating a product from competitors’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ssessed based on the value to the customer versus the cost to the comp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1148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scribes the appearan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ibutes to a product’s usefulness as well as to its loo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8_06"/>
          <p:cNvPicPr/>
          <p:nvPr/>
        </p:nvPicPr>
        <p:blipFill>
          <a:blip r:embed="rId3"/>
          <a:stretch/>
        </p:blipFill>
        <p:spPr>
          <a:xfrm>
            <a:off x="1295280" y="1828800"/>
            <a:ext cx="2444760" cy="3011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ame, term, sign, or design—or a combination of these—that identifies the maker or seller of a product or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0720" y="22856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volves designing and producing the container or wrapper for a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abel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dentify the product or brand, describe attributes, and provide pro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274840" cy="167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support services augment actu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9" name="Picture 7" descr="ph08_09"/>
          <p:cNvPicPr/>
          <p:nvPr/>
        </p:nvPicPr>
        <p:blipFill>
          <a:blip r:embed="rId1"/>
          <a:stretch/>
        </p:blipFill>
        <p:spPr>
          <a:xfrm>
            <a:off x="2209680" y="2922480"/>
            <a:ext cx="4419720" cy="3326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group of products that are closely related because they function in a similar manner, are sold to the same customer groups, are marketed through the same types of outlets, or fall within given price 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ngt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umber of items in the product 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stret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fill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mix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ll the products and items that a particular seller offers for s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Mix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8" descr="ph08_10"/>
          <p:cNvPicPr/>
          <p:nvPr/>
        </p:nvPicPr>
        <p:blipFill>
          <a:blip r:embed="rId1"/>
          <a:stretch/>
        </p:blipFill>
        <p:spPr>
          <a:xfrm>
            <a:off x="5638680" y="4267080"/>
            <a:ext cx="3009960" cy="18860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not-for-profit organiz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Service Indus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Nature and Characteristics of a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Picture 4" descr="fig08_05wo.jpg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807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nything that can be offered in a market for attention, acquisition, use, or consumption that might satisfy a need or w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rvic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product that consists of activities, benefits or satisfaction that is essentially intangible and does not result in the ownership of any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3392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 traditional marketing strategies, service firms often require additional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iv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5" name="Picture 7" descr="ph08_18"/>
          <p:cNvPicPr/>
          <p:nvPr/>
        </p:nvPicPr>
        <p:blipFill>
          <a:blip r:embed="rId1"/>
          <a:stretch/>
        </p:blipFill>
        <p:spPr>
          <a:xfrm>
            <a:off x="990720" y="2452680"/>
            <a:ext cx="2666880" cy="20034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inks service firm profits with employee and customer satisfa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l service qu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productive service employe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reater service val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loyal custom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althy service profits and growt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209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the service firm must orient and motivate its customer contact employees and supporting service people to work as a team to provide customer satisf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 must precede ex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ctiv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service quality depends heavily on the quality of the buyer-seller interaction during the service encou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pro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differenti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reates a competitive advantage from the offer, delivery, and image of th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distinctiv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live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more able and reliable customer contact people, environment, or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m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symbols and br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Picture 7" descr="ph08_19"/>
          <p:cNvPicPr/>
          <p:nvPr/>
        </p:nvPicPr>
        <p:blipFill>
          <a:blip r:embed="rId1"/>
          <a:stretch/>
        </p:blipFill>
        <p:spPr>
          <a:xfrm>
            <a:off x="6786720" y="27432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38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vides a competitive advantage by delivering consistently higher quality than its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 always varies depending on interactions between employees and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aging service productivity refers to the cost side of 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loyee recruiting, hiring, and train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ntity and quality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218960" y="22096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equ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fferential effect that knowing th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name has on customer response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 or its market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Content Placeholder 4" descr="fig08_03wo.jpg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1279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ph08_12"/>
          <p:cNvPicPr/>
          <p:nvPr/>
        </p:nvPicPr>
        <p:blipFill>
          <a:blip r:embed="rId1"/>
          <a:stretch/>
        </p:blipFill>
        <p:spPr>
          <a:xfrm>
            <a:off x="6248520" y="2362320"/>
            <a:ext cx="2286000" cy="2408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22860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strategy decisions includ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liefs and 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erien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present what buying the product or service will do for the custom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nies may now focus on creating and managing customer experiences with their brands or compan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rable qualit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ggest benefits and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y to pronounce, recognize, and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in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latable for the global econ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able of registration and legal prot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Nam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ufacturer’s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vate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censed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-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Sponso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0" name="Picture 9" descr="ph08_14"/>
          <p:cNvPicPr/>
          <p:nvPr/>
        </p:nvPicPr>
        <p:blipFill>
          <a:blip r:embed="rId1"/>
          <a:stretch/>
        </p:blipFill>
        <p:spPr>
          <a:xfrm>
            <a:off x="6095880" y="2438280"/>
            <a:ext cx="2057400" cy="27669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Brand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4" name="Picture 5" descr="fig08_04wo.jpg"/>
          <p:cNvPicPr/>
          <p:nvPr/>
        </p:nvPicPr>
        <p:blipFill>
          <a:blip r:embed="rId1"/>
          <a:stretch/>
        </p:blipFill>
        <p:spPr>
          <a:xfrm>
            <a:off x="1905120" y="22860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fig08_01wo.jpg"/>
          <p:cNvPicPr/>
          <p:nvPr/>
        </p:nvPicPr>
        <p:blipFill>
          <a:blip r:embed="rId1"/>
          <a:stretch/>
        </p:blipFill>
        <p:spPr>
          <a:xfrm>
            <a:off x="1981080" y="1600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Levels of Product and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Content Placeholder 7" descr=""/>
          <p:cNvPicPr/>
          <p:nvPr/>
        </p:nvPicPr>
        <p:blipFill>
          <a:blip r:embed="rId1"/>
          <a:stretch/>
        </p:blipFill>
        <p:spPr>
          <a:xfrm>
            <a:off x="2120760" y="1822320"/>
            <a:ext cx="5207040" cy="3969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828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re products and services for personal consum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how consumers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ience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pping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cialty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60948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7524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venience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usually buys frequently, immediately, and with a minimum comparison and buying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pap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st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hopping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compares carefully on suitability, quality, price, and sty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47:46Z</dcterms:created>
  <dc:creator>utter</dc:creator>
  <dc:description/>
  <dc:language>en-US</dc:language>
  <cp:lastModifiedBy>ksu</cp:lastModifiedBy>
  <dcterms:modified xsi:type="dcterms:W3CDTF">2015-03-01T04:56:54Z</dcterms:modified>
  <cp:revision>157</cp:revision>
  <dc:subject/>
  <dc:title>Slide 1</dc:title>
</cp:coreProperties>
</file>