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974C-5822-4031-BAA1-16A6C31B10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ECC4-7730-47D2-B3A6-E14E35570B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46C0-C394-4E13-A115-C1E231755BD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F9D8-FDA1-46A7-B552-DBD137CDFE9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3184-3BC6-40A7-A396-F3951557B9F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9296-F68F-40D4-B5C0-E59318DC438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AEB4-90E2-4599-842E-9A1271F9834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18FB-CB20-4C8D-A7FA-537943C43D6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CD56-BFAB-4359-8A57-6423175346B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AA03-D777-431C-A126-062E636E643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CDF1-D4B1-4337-B11B-9054F14A0ED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8D6-6781-4921-BFB1-05C91FCE439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C90C-3566-42A5-89C4-72E04136459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4632-A98E-499B-8F31-D1E17DAA559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E2AE-C75A-4090-908C-E9962A5E738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ADE0-709A-4518-82B9-BC960222F79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A7BE-B0E5-454A-89DE-63D4C95E902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3548-BF2C-4C64-B9C4-A0471CFFAC1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4AE8-5C29-4448-86D0-3BF5CEE0BD4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A79-7999-4AD9-BF34-861CB00D1E5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5E09-376D-488B-8540-DC191A45A6D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B35F-D89F-4F0B-9BF7-D8E426A4797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32FE-7E69-4E3E-B687-487B550F045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C63E-C173-4F71-9D31-1A9E4840364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92B5-3D77-475B-BA30-B22C9088F22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8BFE-675F-46A2-9D22-67D0B5DD5C1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3FEE-9273-4AF8-88CA-3E46A0B9D50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35CB-84E9-46A2-9600-7B13D8302BA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E6D9-8B23-4570-9B66-8D741347248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B46E-5688-425F-8FBC-10FE4A1FE0B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FACA-1F11-4B6C-8E88-1261C310060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30E9-3951-4B40-8FEC-60D4C850010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B623-459A-4BB8-BEEF-749582A83C5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4510-F711-4246-82E1-F1653ABB25B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29E7-5E6E-4DF0-BA4A-63604A40C8F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A8AE-558D-4F02-902A-B0F367EBD80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732C-574D-42CD-BC74-B59EB73B743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A5E8-5DDB-43C9-AC62-757C4EF8DB4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E71F-8D5A-4E36-8DD9-59F06BF137A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31DD-9F6E-47FF-99B4-AF0CA791441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0850-D3DC-4A41-9F5A-339D8E230A1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11AE-2FF6-4144-8220-86462994D06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25A7-7FCF-4E74-8821-50BBE7BA160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D673-426E-4952-A8D9-8BFE6CA2080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8A31725A-A6E6-427A-8CC5-A44A4AB9B122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25E0D59C-2277-4F66-97FC-1D48FE988612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xo.com/s-21-good-grips.aspx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E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, Services, and Brands:  Build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ecialty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with unique characteristics or brand identification for which a significant group of buyers is willing to make a special purchase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dic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r cloth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-end electron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666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that the consumer does not know about or knows about but does not normally think of buy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fe insu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er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lood don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dustri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s purchased for further processing or for use in conducting a busi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the purpose for which the product is purcha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and p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pital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lies and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23880" y="21337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s and par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raw materials and manufactured materials and parts usually sold directly to industrial us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ital item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industrial products that aid in the buyer’s production or ope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s and ser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lude operating supplies, repair and maintenance items, and business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Produ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nd Service Classific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rganizati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an organ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2133360"/>
            <a:ext cx="7391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ers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44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lac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l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ci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use of commercial marketing concepts and tools in programs designed to influence individuals’ behavior to improve their well-being and that of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7" name="Picture 4" descr="fig08_02wo.jpg"/>
          <p:cNvPicPr/>
          <p:nvPr/>
        </p:nvPicPr>
        <p:blipFill>
          <a:blip r:embed="rId1"/>
          <a:stretch/>
        </p:blipFill>
        <p:spPr>
          <a:xfrm>
            <a:off x="304920" y="2863800"/>
            <a:ext cx="8229600" cy="12715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4756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or service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unicate and deliver the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yle and desig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6212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Quality Leve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level of quality that supports the product’s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Conforman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product’s freedom from defects and consistency in delivering a targeted level of perform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duct, Services, and Branding Strategy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294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, Services, and Experi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 and Services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vices Marke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nding Strategy: Building Strong Bran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featur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 competitive tool for differentiating a product from competitors’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ssessed based on the value to the customer versus the cost to the compan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114800" y="2438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escribes the appearan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sig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ibutes to a product’s usefulness as well as to its loo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4" name="Picture 2" descr="http://upload.wikimedia.org/wikipedia/commons/thumb/f/fa/Globe.svg/600px-Glob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571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ph08_06"/>
          <p:cNvPicPr/>
          <p:nvPr/>
        </p:nvPicPr>
        <p:blipFill>
          <a:blip r:embed="rId3"/>
          <a:stretch/>
        </p:blipFill>
        <p:spPr>
          <a:xfrm>
            <a:off x="1295280" y="1828800"/>
            <a:ext cx="2444760" cy="30114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2743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ame, term, sign, or design—or a combination of these—that identifies the maker or seller of a product or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90720" y="228564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volves designing and producing the container or wrapper for a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abel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dentify the product or brand, describe attributes, and provide promo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274840" cy="167328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support services augment actu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9" name="Picture 7" descr="ph08_09"/>
          <p:cNvPicPr/>
          <p:nvPr/>
        </p:nvPicPr>
        <p:blipFill>
          <a:blip r:embed="rId1"/>
          <a:stretch/>
        </p:blipFill>
        <p:spPr>
          <a:xfrm>
            <a:off x="2209680" y="2922480"/>
            <a:ext cx="4419720" cy="3326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group of products that are closely related because they function in a similar manner, are sold to the same customer groups, are marketed through the same types of outlets, or fall within given price ran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ngt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umber of items in the product 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stretc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fill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mix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ll the products and items that a particular seller offers for sa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p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en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Mix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2" name="Picture 8" descr="ph08_10"/>
          <p:cNvPicPr/>
          <p:nvPr/>
        </p:nvPicPr>
        <p:blipFill>
          <a:blip r:embed="rId1"/>
          <a:stretch/>
        </p:blipFill>
        <p:spPr>
          <a:xfrm>
            <a:off x="5638680" y="4267080"/>
            <a:ext cx="3009960" cy="18860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vate not-for-profit organiz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Service Indus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0000"/>
          </a:bodyPr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Nature and Characteristics of a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0" name="Picture 4" descr="fig08_05wo.jpg"/>
          <p:cNvPicPr/>
          <p:nvPr/>
        </p:nvPicPr>
        <p:blipFill>
          <a:blip r:embed="rId1"/>
          <a:stretch/>
        </p:blipFill>
        <p:spPr>
          <a:xfrm>
            <a:off x="762120" y="2438280"/>
            <a:ext cx="7315200" cy="318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7720" y="19807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nything that can be offered in a market for attention, acquisition, use, or consumption that might satisfy a need or w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ervic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product that consists of activities, benefits or satisfaction that is essentially intangible and does not result in the ownership of any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73392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 traditional marketing strategies, service firms often require additional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activ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5" name="Picture 7" descr="ph08_18"/>
          <p:cNvPicPr/>
          <p:nvPr/>
        </p:nvPicPr>
        <p:blipFill>
          <a:blip r:embed="rId1"/>
          <a:stretch/>
        </p:blipFill>
        <p:spPr>
          <a:xfrm>
            <a:off x="990720" y="2452680"/>
            <a:ext cx="2666880" cy="20034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links service firm profits with employee and customer satisfa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l service qualit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productive service employe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reater service valu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loyal custom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althy service profits and growt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22093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the service firm must orient and motivate its customer contact employees and supporting service people to work as a team to provide customer satisf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 must precede ex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666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activ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service quality depends heavily on the quality of the buyer-seller interaction during the service encou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differenti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productiv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44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differenti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reates a competitive advantage from the offer, delivery, and image of the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ff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distinctive 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live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more able and reliable customer contact people, environment, or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mag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symbols and bran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2" name="Picture 7" descr="ph08_19"/>
          <p:cNvPicPr/>
          <p:nvPr/>
        </p:nvPicPr>
        <p:blipFill>
          <a:blip r:embed="rId1"/>
          <a:stretch/>
        </p:blipFill>
        <p:spPr>
          <a:xfrm>
            <a:off x="6786720" y="27432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238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rovides a competitive advantage by delivering consistently higher quality than its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 always varies depending on interactions between employees and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aging service productivity refers to the cost side of 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ployee recruiting, hiring, and train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ntity and quality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218960" y="22096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equ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ifferential effect that knowing th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name has on customer response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 or its market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Content Placeholder 4" descr="fig08_03wo.jpg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12798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7" descr="ph08_12"/>
          <p:cNvPicPr/>
          <p:nvPr/>
        </p:nvPicPr>
        <p:blipFill>
          <a:blip r:embed="rId1"/>
          <a:stretch/>
        </p:blipFill>
        <p:spPr>
          <a:xfrm>
            <a:off x="6248520" y="2362320"/>
            <a:ext cx="2286000" cy="2408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71600" y="22860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strategy decisions includ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liefs and val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23623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erien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present what buying the product or service will do for the custom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nies may now focus on creating and managing customer experiences with their brands or compan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rable qualit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ggest benefits and qual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y to pronounce, recognize, and reme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tinc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end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latable for the global econom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able of registration and legal prot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Name Sel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ufacturer’s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vate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censed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-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Sponso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0" name="Picture 9" descr="ph08_14"/>
          <p:cNvPicPr/>
          <p:nvPr/>
        </p:nvPicPr>
        <p:blipFill>
          <a:blip r:embed="rId1"/>
          <a:stretch/>
        </p:blipFill>
        <p:spPr>
          <a:xfrm>
            <a:off x="6095880" y="2438280"/>
            <a:ext cx="2057400" cy="276696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Brand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4" name="Picture 5" descr="fig08_04wo.jpg"/>
          <p:cNvPicPr/>
          <p:nvPr/>
        </p:nvPicPr>
        <p:blipFill>
          <a:blip r:embed="rId1"/>
          <a:stretch/>
        </p:blipFill>
        <p:spPr>
          <a:xfrm>
            <a:off x="1905120" y="2286000"/>
            <a:ext cx="5638680" cy="34146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fig08_01wo.jpg"/>
          <p:cNvPicPr/>
          <p:nvPr/>
        </p:nvPicPr>
        <p:blipFill>
          <a:blip r:embed="rId1"/>
          <a:stretch/>
        </p:blipFill>
        <p:spPr>
          <a:xfrm>
            <a:off x="1981080" y="1600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Levels of Product and Serv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Content Placeholder 7" descr=""/>
          <p:cNvPicPr/>
          <p:nvPr/>
        </p:nvPicPr>
        <p:blipFill>
          <a:blip r:embed="rId1"/>
          <a:stretch/>
        </p:blipFill>
        <p:spPr>
          <a:xfrm>
            <a:off x="2120760" y="1822320"/>
            <a:ext cx="5207040" cy="39690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828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re products and services for personal consump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how consumers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ience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pping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cialty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609480" y="66294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7524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venience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usually buys frequently, immediately, and with a minimum comparison and buying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wspap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st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hopping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compares carefully on suitability, quality, price, and sty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lia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47:46Z</dcterms:created>
  <dc:creator>utter</dc:creator>
  <dc:description/>
  <dc:language>en-US</dc:language>
  <cp:lastModifiedBy>ksu</cp:lastModifiedBy>
  <dcterms:modified xsi:type="dcterms:W3CDTF">2015-03-01T04:56:54Z</dcterms:modified>
  <cp:revision>157</cp:revision>
  <dc:subject/>
  <dc:title>Slide 1</dc:title>
</cp:coreProperties>
</file>