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60E9-6FE5-4811-984B-AD47406169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9450-7138-4856-9BE1-EC3ABF81F83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4991-B28F-4021-BDFE-64AD81ED4474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7E3B-84F9-4014-81CE-61A9EE060AC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6E72-F381-467B-BBE2-772D8F7B26A4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E3D9-30CF-4E45-B5EC-450A5715CE7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9674-C777-4AB3-B7B3-1485FD98689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CA48-5423-4F2C-8F6B-C4386780ED4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0127-3F4F-44FB-BB2A-AD4D63556730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3AA2-6E49-45AC-9C70-989438B13F9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0710-8002-443F-AA6D-90038F67D55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E709-D0F1-44FA-9AFA-6650D924705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732E-4916-4BEA-80D7-B464756D4697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9BA8-996E-4990-8205-A7ED9971B96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D733-516C-4F5B-A84D-997C36BEB56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D950-B676-4A1D-A769-2AF2610140D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914B-2CD8-460F-B9D9-F2502167C8B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C9E8-8909-49B1-88A9-EB7665E42067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6942-C438-4527-8434-C879F04E0760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7D12-164D-4E66-9512-19DB227C3B9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EE3E-76C4-4594-87FD-3B377E30F558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13AE-0D4E-4715-B87D-53070552A695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C378-349F-4E19-8B30-BDE1FBE7F8E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6F57-725A-41B2-908E-77E5D5A60D0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C52D-CCE4-4F45-886D-D0310EB8A1B4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FD9C-853F-4DF5-B097-B52C6A0CAA1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9C76-1E9C-4202-AB3E-05751B64E92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31BE-168A-49DC-A8E5-3CCA80BB44D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77BE-2889-4A3A-8DFF-82CF95ABA607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FAFB-0596-4293-8217-FC2D6A8B18B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C6B7-B58C-4C25-99FA-E2F058553B7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3DED-64B3-4188-89F5-0C7E8A038DC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F0C8-2754-45AB-8142-465BBE4C113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DCD3-D651-4BAE-9FC0-E03D59490CF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FDD6-0D65-4A16-AFCA-5E77BD7E41C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AFA3-A3B2-4B95-B08A-7C09E59A3B3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1881-2291-4A1D-9212-E93E2083F85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C791-DAC5-49CD-B1CE-B8A35334849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610C-D022-4F7A-BD61-46477DD77AA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6C6B-04CD-4174-A123-19409BF83EE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2CA1-8028-4A72-BEA3-E8CF36E8EEC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3728-FABD-4A55-B7AF-82564AF7370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5542-4804-49A4-9414-1CED0A6344F0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4260-3EF2-4C43-B8A2-FB16DC0599D0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6248520" y="6477120"/>
            <a:ext cx="19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8-</a:t>
            </a:r>
            <a:fld id="{1B553AF5-CA35-4F88-BB12-62CD8172F7D3}" type="slidenum"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20" y="640080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Copyright © 2012 Pearson Education, Inc.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Publishing as Prentice H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1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6248520" y="6477120"/>
            <a:ext cx="19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8-</a:t>
            </a:r>
            <a:fld id="{033A9448-2D72-4938-BFBE-8302ACDF470C}" type="slidenum"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5"/>
          <p:cNvSpPr/>
          <p:nvPr/>
        </p:nvSpPr>
        <p:spPr>
          <a:xfrm>
            <a:off x="76320" y="640080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Copyright © 2012 Pearson Education, Inc.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Publishing as Prentice H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0"/>
          </p:nvPr>
        </p:nvSpPr>
        <p:spPr>
          <a:xfrm>
            <a:off x="60958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oxo.com/s-21-good-grips.aspx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162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Eigh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29528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oduct, Services, and Brands:  Building Customer Val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pecialty product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products and services with unique characteristics or brand identification for which a significant group of buyers is willing to make a special purchase effor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dical servi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igner cloth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igh-end electronic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and Service Classif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06668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Unsought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products that the consumer does not know about or knows about but does not normally think of buy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fe insura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uneral servi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lood don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and Service Classif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dustrial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ducts purchased for further processing or for use in conducting a busine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assified by the purpose for which the product is purchas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terials and par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pital item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pplies and servi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and Service Classif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523880" y="213372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terials and part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 raw materials and manufactured materials and parts usually sold directly to industrial us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pital item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industrial products that aid in the buyer’s production or oper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lies and servic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clude operating supplies, repair and maintenance items, and business servi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alibri"/>
              </a:rPr>
              <a:t>Produc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and Service Classific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68580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Organization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ists of activities undertaken to create, maintain, or change attitudes and behavior of target consumers toward an organiza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0000"/>
          </a:bodyPr>
          <a:p>
            <a:pPr marL="17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Organizations, Persons, Places, and Ide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838080" y="2133360"/>
            <a:ext cx="73915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erson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ists of activities undertaken to create, maintain, or change attitudes and behavior of target consumers toward particular peop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0000"/>
          </a:bodyPr>
          <a:p>
            <a:pPr marL="17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Organizations, Persons, Places, and Ide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a Produc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685440" y="22096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lace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ists of activities undertaken to create, maintain, or change attitudes and behavior of target consumers toward particular pla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ocial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the use of commercial marketing concepts and tools in programs designed to influence individuals’ behavior to improve their well-being and that of socie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4000"/>
          </a:bodyPr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Organizations, Persons, Places, and Ide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7" name="Picture 4" descr="fig08_02wo.jpg"/>
          <p:cNvPicPr/>
          <p:nvPr/>
        </p:nvPicPr>
        <p:blipFill>
          <a:blip r:embed="rId1"/>
          <a:stretch/>
        </p:blipFill>
        <p:spPr>
          <a:xfrm>
            <a:off x="304920" y="2863800"/>
            <a:ext cx="8229600" cy="127152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447560" y="19051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 or service attribut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municate and deliver the benefi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eatur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yle and desig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marL="294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762120" y="2362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 Quality Level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the level of quality that supports the product’s position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 Conformance Quality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the product’s freedom from defects and consistency in delivering a targeted level of performa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duct, Services, and Branding Strategy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2949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duct, Services, and Experien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duct and Services Decis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rvices Market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randing Strategy: Building Strong Bran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Topic Outl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 featur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re a competitive tool for differentiating a product from competitors’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re assessed based on the value to the customer versus the cost to the compan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114800" y="24382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yl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describes the appearance of the produ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esign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tributes to a product’s usefulness as well as to its look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4" name="Picture 2" descr="http://upload.wikimedia.org/wikipedia/commons/thumb/f/fa/Globe.svg/600px-Globe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571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8" descr="ph08_06"/>
          <p:cNvPicPr/>
          <p:nvPr/>
        </p:nvPicPr>
        <p:blipFill>
          <a:blip r:embed="rId3"/>
          <a:stretch/>
        </p:blipFill>
        <p:spPr>
          <a:xfrm>
            <a:off x="1295280" y="1828800"/>
            <a:ext cx="2444760" cy="301140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685800" y="2743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rand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the name, term, sign, or design—or a combination of these—that identifies the maker or seller of a product or serv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990720" y="2285640"/>
            <a:ext cx="7315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ackaging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nvolves designing and producing the container or wrapper for a produ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abel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dentify the product or brand, describe attributes, and provide promo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5943600" y="4419720"/>
            <a:ext cx="2274840" cy="167328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duct support services augment actual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9" name="Picture 7" descr="ph08_09"/>
          <p:cNvPicPr/>
          <p:nvPr/>
        </p:nvPicPr>
        <p:blipFill>
          <a:blip r:embed="rId1"/>
          <a:stretch/>
        </p:blipFill>
        <p:spPr>
          <a:xfrm>
            <a:off x="2209680" y="2922480"/>
            <a:ext cx="4419720" cy="332604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 lin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a group of products that are closely related because they function in a similar manner, are sold to the same customer groups, are marketed through the same types of outlets, or fall within given price rang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Product Lin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 lin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ngth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the number of items in the product l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ne stretch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ne fill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Product Line Decis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8544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 mix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ists of all the products and items that a particular seller offers for sa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247840" indent="-533160">
              <a:spcBef>
                <a:spcPts val="700"/>
              </a:spcBef>
              <a:buClr>
                <a:srgbClr val="ffffff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idt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247840" indent="-533160">
              <a:spcBef>
                <a:spcPts val="700"/>
              </a:spcBef>
              <a:buClr>
                <a:srgbClr val="ffffff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ngt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247840" indent="-533160">
              <a:spcBef>
                <a:spcPts val="700"/>
              </a:spcBef>
              <a:buClr>
                <a:srgbClr val="ffffff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pt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247840" indent="-533160">
              <a:spcBef>
                <a:spcPts val="700"/>
              </a:spcBef>
              <a:buClr>
                <a:srgbClr val="ffffff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istenc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Product Mix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2" name="Picture 8" descr="ph08_10"/>
          <p:cNvPicPr/>
          <p:nvPr/>
        </p:nvPicPr>
        <p:blipFill>
          <a:blip r:embed="rId1"/>
          <a:stretch/>
        </p:blipFill>
        <p:spPr>
          <a:xfrm>
            <a:off x="5638680" y="4267080"/>
            <a:ext cx="3009960" cy="188604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vern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vate not-for-profit organiza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siness servi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Types of Service Indust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30000"/>
          </a:bodyPr>
          <a:p>
            <a:pPr marL="102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102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Nature and Characteristics of a Serv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102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0" name="Picture 4" descr="fig08_05wo.jpg"/>
          <p:cNvPicPr/>
          <p:nvPr/>
        </p:nvPicPr>
        <p:blipFill>
          <a:blip r:embed="rId1"/>
          <a:stretch/>
        </p:blipFill>
        <p:spPr>
          <a:xfrm>
            <a:off x="762120" y="2438280"/>
            <a:ext cx="7315200" cy="318924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837720" y="19807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anything that can be offered in a market for attention, acquisition, use, or consumption that might satisfy a need or wa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ervic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a product that consists of activities, benefits or satisfaction that is essentially intangible and does not result in the ownership of anyth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s, Services, and Experi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733920" y="22860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 addition to traditional marketing strategies, service firms often require additional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rvice-profit cha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nal marke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active marke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5" name="Picture 7" descr="ph08_18"/>
          <p:cNvPicPr/>
          <p:nvPr/>
        </p:nvPicPr>
        <p:blipFill>
          <a:blip r:embed="rId1"/>
          <a:stretch/>
        </p:blipFill>
        <p:spPr>
          <a:xfrm>
            <a:off x="990720" y="2452680"/>
            <a:ext cx="2666880" cy="200340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2057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Service-profit chai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links service firm profits with employee and customer satisfact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ternal service quality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atisfied and productive service employee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reater service valu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atisfied and loyal customer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Healthy service profits and growth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914400" y="2209320"/>
            <a:ext cx="7315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-479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ternal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ans that the service firm must orient and motivate its customer contact employees and supporting service people to work as a team to provide customer satisfa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9880" indent="-479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9880" indent="-479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nal marketing must precede external marke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106668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teractive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ans that service quality depends heavily on the quality of the buyer-seller interaction during the service encoun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rvice differenti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rvice qual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rvice productiv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685440" y="205740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anaging service differentiatio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reates a competitive advantage from the offer, delivery, and image of the serv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Offer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an include distinctive featur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elivery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an include more able and reliable customer contact people, environment, or proce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mag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an include symbols and brand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2" name="Picture 7" descr="ph08_19"/>
          <p:cNvPicPr/>
          <p:nvPr/>
        </p:nvPicPr>
        <p:blipFill>
          <a:blip r:embed="rId1"/>
          <a:stretch/>
        </p:blipFill>
        <p:spPr>
          <a:xfrm>
            <a:off x="6786720" y="2743200"/>
            <a:ext cx="2057400" cy="266688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523880" y="19810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anaging service quality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provides a competitive advantage by delivering consistently higher quality than its competito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rvice quality always varies depending on interactions between employees and custom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naging service productivity refers to the cost side of 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mployee recruiting, hiring, and training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rvice quantity and quality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1218960" y="2209680"/>
            <a:ext cx="6629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rand equ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differential effect that knowing th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rand name has on customer response t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product or its marketing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anding Strategy: Building Strong Br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anding Strategy: Building Strong Br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Content Placeholder 4" descr="fig08_03wo.jpg"/>
          <p:cNvPicPr/>
          <p:nvPr/>
        </p:nvPicPr>
        <p:blipFill>
          <a:blip r:embed="rId1"/>
          <a:stretch/>
        </p:blipFill>
        <p:spPr>
          <a:xfrm>
            <a:off x="838080" y="2209680"/>
            <a:ext cx="7772400" cy="127980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7" descr="ph08_12"/>
          <p:cNvPicPr/>
          <p:nvPr/>
        </p:nvPicPr>
        <p:blipFill>
          <a:blip r:embed="rId1"/>
          <a:stretch/>
        </p:blipFill>
        <p:spPr>
          <a:xfrm>
            <a:off x="6248520" y="2362320"/>
            <a:ext cx="2286000" cy="240804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anding Strategy: Building Strong Br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371600" y="22860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rand strategy decisions include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duct attribut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duct benefi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duct beliefs and valu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Brand Position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762120" y="236232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Experienc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represent what buying the product or service will do for the customer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anies may now focus on creating and managing customer experiences with their brands or company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s, Services, and Experi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anding Strategy: Building Strong Br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sirable qualitie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ggest benefits and qualit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asy to pronounce, recognize, and rememb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stinctiv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tendab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ranslatable for the global econom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pable of registration and legal prote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Brand Name Sele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anding Strategy: Building Strong Br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2285640" y="19810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nufacturer’s bran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ivate bran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censed bran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-bran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Brand Sponsorshi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0" name="Picture 9" descr="ph08_14"/>
          <p:cNvPicPr/>
          <p:nvPr/>
        </p:nvPicPr>
        <p:blipFill>
          <a:blip r:embed="rId1"/>
          <a:stretch/>
        </p:blipFill>
        <p:spPr>
          <a:xfrm>
            <a:off x="6095880" y="2438280"/>
            <a:ext cx="2057400" cy="2766960"/>
          </a:xfrm>
          <a:prstGeom prst="rect">
            <a:avLst/>
          </a:prstGeom>
          <a:ln w="0">
            <a:noFill/>
          </a:ln>
        </p:spPr>
      </p:pic>
      <p:sp>
        <p:nvSpPr>
          <p:cNvPr id="571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anding Strategy: Building Strong Br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1629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Brand Development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4" name="Picture 5" descr="fig08_04wo.jpg"/>
          <p:cNvPicPr/>
          <p:nvPr/>
        </p:nvPicPr>
        <p:blipFill>
          <a:blip r:embed="rId1"/>
          <a:stretch/>
        </p:blipFill>
        <p:spPr>
          <a:xfrm>
            <a:off x="1905120" y="2286000"/>
            <a:ext cx="5638680" cy="341460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4" descr="fig08_01wo.jpg"/>
          <p:cNvPicPr/>
          <p:nvPr/>
        </p:nvPicPr>
        <p:blipFill>
          <a:blip r:embed="rId1"/>
          <a:stretch/>
        </p:blipFill>
        <p:spPr>
          <a:xfrm>
            <a:off x="1981080" y="16002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1629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Levels of Product and Servi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Content Placeholder 7" descr=""/>
          <p:cNvPicPr/>
          <p:nvPr/>
        </p:nvPicPr>
        <p:blipFill>
          <a:blip r:embed="rId1"/>
          <a:stretch/>
        </p:blipFill>
        <p:spPr>
          <a:xfrm>
            <a:off x="2120760" y="1822320"/>
            <a:ext cx="5207040" cy="396900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and Service Classif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8288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products are products and services for personal consump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assified by how consumers buy 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venience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hopping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pecialty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sought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and Service Classif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609480" y="662940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75248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nvenience product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products and services that the customer usually buys frequently, immediately, and with a minimum comparison and buying effor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ewspap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nd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ast foo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and Service Classif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828440" y="2209320"/>
            <a:ext cx="6248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hopping product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products and services that the customer compares carefully on suitability, quality, price, and sty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urnitu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plia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and Service Classif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22:47:46Z</dcterms:created>
  <dc:creator>utter</dc:creator>
  <dc:description/>
  <dc:language>en-US</dc:language>
  <cp:lastModifiedBy>ksu</cp:lastModifiedBy>
  <dcterms:modified xsi:type="dcterms:W3CDTF">2015-03-01T04:56:54Z</dcterms:modified>
  <cp:revision>157</cp:revision>
  <dc:subject/>
  <dc:title>Slide 1</dc:title>
</cp:coreProperties>
</file>