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5873-B99E-43E8-9570-7AE5B3F61D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D31A-529A-46D7-9042-3EBB3ACECC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6FC-93A1-4E52-BA14-195A9AF8DB0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FFE4-D8F8-4DF4-91FF-7C22742EB0F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1B3A-49CF-4F51-B902-DBF87B24F89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4CAE-9B19-4E95-B5CF-C8189BDFAB5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3829-863C-4F6C-9946-A5356F9A94D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9DD2-A9EB-4AF3-9401-0C543D106BB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8DF6-A05F-4C26-9352-E2D90478DB1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4AFF-F9A4-4086-9A22-989D7C29F5D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9D25-11DD-43FC-BEC0-E6E3A310809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961C-06CA-4D2E-A669-11C4EE43501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D630-4314-4D23-8048-9469F942CCB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BEC0-7A77-433C-A649-28C574FACF8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897A-21BF-47B4-B6F3-999C935D35C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E9D5-D4E7-4E79-BC77-3021833D6DA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625E-13C1-4B7A-8815-8ECBB771054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9673-DA99-4286-8C47-27AA5FB45BE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0973-0DDD-4220-9E0C-98FF67D5A78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DC60-620E-4956-B7BA-F542754067C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B75D-4E54-42EA-ABD7-2DF8F961B70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796D-07CF-4276-B2B4-465E320430C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ACB7-6547-4B99-AE42-7E6B421A542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CE9E-B76A-436E-AC96-400515B103A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AA97-C13D-4399-9F1F-70CDF8BFABD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2F39-0833-4B8F-84B9-31A1BEC58EF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9B9B-7632-4136-A9EF-EB7A3F083EE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69E0-8912-41FE-8063-8DC33437B9D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365E-38D3-47D7-AB6D-0A8F3D912A9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CC36-5FDC-4E95-BED7-A53C633A7F3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CEB7-6823-4D77-AEA1-BB7CE97C4AD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28E8-51E4-438A-890F-96AC69F9B0A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DD6A-5EE2-4D4B-A2E5-8A97D3187E9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5527-B105-4532-AD5E-F4C9C971470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6B66-50C3-4D60-8EB9-81AEDCB6AFF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5264-FD51-4B5F-AB94-DE5115DD587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99A5-5402-417D-8BAF-DBC1352E36F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4AF7-F5D7-41A3-83DD-C35542BE4D6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C20-4E0D-4942-A02B-310C678736D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2C7A-0130-40F5-965D-4C6FF23AC4A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9BB1-192A-4EA1-BD28-AA03BAB6F98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C5A8-1879-4726-844A-DAEEAA05AF1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BE9-15EE-465E-A0AC-BF619070AC8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E633-9C92-4FF9-8DE0-28893CEA237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AC9BF314-08E2-4C83-8D70-F7AB5E1634DC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33E9FC5C-157C-4E10-9A52-0F27C53DAA06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xo.com/s-21-good-grips.aspx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E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, Services, and Brands:  Build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pecialty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with unique characteristics or brand identification for which a significant group of buyers is willing to make a special purchase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dic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r cloth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-end electron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666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that the consumer does not know about or knows about but does not normally think of buy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fe insu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er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lood don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dustri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s purchased for further processing or for use in conducting a busi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the purpose for which the product is purcha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and pa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pital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lies and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23880" y="21337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s and par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raw materials and manufactured materials and parts usually sold directly to industrial us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ital item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industrial products that aid in the buyer’s production or ope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s and ser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lude operating supplies, repair and maintenance items, and business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Produ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nd Service Classific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rganizati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an organ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2133360"/>
            <a:ext cx="7391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ers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85440" y="2209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lac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l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oci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use of commercial marketing concepts and tools in programs designed to influence individuals’ behavior to improve their well-being and that of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7" name="Picture 4" descr="fig08_02wo.jpg"/>
          <p:cNvPicPr/>
          <p:nvPr/>
        </p:nvPicPr>
        <p:blipFill>
          <a:blip r:embed="rId1"/>
          <a:stretch/>
        </p:blipFill>
        <p:spPr>
          <a:xfrm>
            <a:off x="304920" y="2863800"/>
            <a:ext cx="8229600" cy="12715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4756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or service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unicate and deliver the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yle and desig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6212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Quality Leve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level of quality that supports the product’s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Conforman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product’s freedom from defects and consistency in delivering a targeted level of perform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duct, Services, and Branding Strategy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294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, Services, and Experi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 and Services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vices Marke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nding Strategy: Building Strong Bran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featur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 competitive tool for differentiating a product from competitors’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ssessed based on the value to the customer versus the cost to the compan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114800" y="2438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escribes the appearan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sig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ibutes to a product’s usefulness as well as to its look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4" name="Picture 2" descr="http://upload.wikimedia.org/wikipedia/commons/thumb/f/fa/Globe.svg/600px-Glob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571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ph08_06"/>
          <p:cNvPicPr/>
          <p:nvPr/>
        </p:nvPicPr>
        <p:blipFill>
          <a:blip r:embed="rId3"/>
          <a:stretch/>
        </p:blipFill>
        <p:spPr>
          <a:xfrm>
            <a:off x="1295280" y="1828800"/>
            <a:ext cx="2444760" cy="30114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2743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ame, term, sign, or design—or a combination of these—that identifies the maker or seller of a product or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90720" y="228564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volves designing and producing the container or wrapper for a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abel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dentify the product or brand, describe attributes, and provide promo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274840" cy="167328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support services augment actu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9" name="Picture 7" descr="ph08_09"/>
          <p:cNvPicPr/>
          <p:nvPr/>
        </p:nvPicPr>
        <p:blipFill>
          <a:blip r:embed="rId1"/>
          <a:stretch/>
        </p:blipFill>
        <p:spPr>
          <a:xfrm>
            <a:off x="2209680" y="2922480"/>
            <a:ext cx="4419720" cy="3326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group of products that are closely related because they function in a similar manner, are sold to the same customer groups, are marketed through the same types of outlets, or fall within given price ran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ngt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umber of items in the product 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stretc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fill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mix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ll the products and items that a particular seller offers for sa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d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ng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p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en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Mix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2" name="Picture 8" descr="ph08_10"/>
          <p:cNvPicPr/>
          <p:nvPr/>
        </p:nvPicPr>
        <p:blipFill>
          <a:blip r:embed="rId1"/>
          <a:stretch/>
        </p:blipFill>
        <p:spPr>
          <a:xfrm>
            <a:off x="5638680" y="4267080"/>
            <a:ext cx="3009960" cy="18860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vate not-for-profit organiz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Service Indus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0000"/>
          </a:bodyPr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Nature and Characteristics of a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0" name="Picture 4" descr="fig08_05wo.jpg"/>
          <p:cNvPicPr/>
          <p:nvPr/>
        </p:nvPicPr>
        <p:blipFill>
          <a:blip r:embed="rId1"/>
          <a:stretch/>
        </p:blipFill>
        <p:spPr>
          <a:xfrm>
            <a:off x="762120" y="2438280"/>
            <a:ext cx="7315200" cy="318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7720" y="19807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nything that can be offered in a market for attention, acquisition, use, or consumption that might satisfy a need or wa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ervic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product that consists of activities, benefits or satisfaction that is essentially intangible and does not result in the ownership of any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73392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 traditional marketing strategies, service firms often require additional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activ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5" name="Picture 7" descr="ph08_18"/>
          <p:cNvPicPr/>
          <p:nvPr/>
        </p:nvPicPr>
        <p:blipFill>
          <a:blip r:embed="rId1"/>
          <a:stretch/>
        </p:blipFill>
        <p:spPr>
          <a:xfrm>
            <a:off x="990720" y="2452680"/>
            <a:ext cx="2666880" cy="20034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links service firm profits with employee and customer satisfa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l service qualit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productive service employe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reater service valu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loyal custom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althy service profits and growt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14400" y="22093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the service firm must orient and motivate its customer contact employees and supporting service people to work as a team to provide customer satisf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 must precede ex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666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activ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service quality depends heavily on the quality of the buyer-seller interaction during the service encou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differenti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productiv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44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differenti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reates a competitive advantage from the offer, delivery, and image of the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ff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distinctive 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live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more able and reliable customer contact people, environment, or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mag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symbols and bran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2" name="Picture 7" descr="ph08_19"/>
          <p:cNvPicPr/>
          <p:nvPr/>
        </p:nvPicPr>
        <p:blipFill>
          <a:blip r:embed="rId1"/>
          <a:stretch/>
        </p:blipFill>
        <p:spPr>
          <a:xfrm>
            <a:off x="6786720" y="27432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5238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rovides a competitive advantage by delivering consistently higher quality than its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 always varies depending on interactions between employees and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aging service productivity refers to the cost side of 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ployee recruiting, hiring, and train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ntity and quality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218960" y="22096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equ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ifferential effect that knowing th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name has on customer response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 or its market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Content Placeholder 4" descr="fig08_03wo.jpg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12798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7" descr="ph08_12"/>
          <p:cNvPicPr/>
          <p:nvPr/>
        </p:nvPicPr>
        <p:blipFill>
          <a:blip r:embed="rId1"/>
          <a:stretch/>
        </p:blipFill>
        <p:spPr>
          <a:xfrm>
            <a:off x="6248520" y="2362320"/>
            <a:ext cx="2286000" cy="2408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71600" y="22860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strategy decisions includ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liefs and val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23623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perien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present what buying the product or service will do for the custom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nies may now focus on creating and managing customer experiences with their brands or compan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rable qualit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ggest benefits and qual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sy to pronounce, recognize, and reme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tinc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end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latable for the global econom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able of registration and legal prot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Name Sel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ufacturer’s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vate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censed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-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Sponso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0" name="Picture 9" descr="ph08_14"/>
          <p:cNvPicPr/>
          <p:nvPr/>
        </p:nvPicPr>
        <p:blipFill>
          <a:blip r:embed="rId1"/>
          <a:stretch/>
        </p:blipFill>
        <p:spPr>
          <a:xfrm>
            <a:off x="6095880" y="2438280"/>
            <a:ext cx="2057400" cy="276696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Brand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4" name="Picture 5" descr="fig08_04wo.jpg"/>
          <p:cNvPicPr/>
          <p:nvPr/>
        </p:nvPicPr>
        <p:blipFill>
          <a:blip r:embed="rId1"/>
          <a:stretch/>
        </p:blipFill>
        <p:spPr>
          <a:xfrm>
            <a:off x="1905120" y="2286000"/>
            <a:ext cx="5638680" cy="34146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fig08_01wo.jpg"/>
          <p:cNvPicPr/>
          <p:nvPr/>
        </p:nvPicPr>
        <p:blipFill>
          <a:blip r:embed="rId1"/>
          <a:stretch/>
        </p:blipFill>
        <p:spPr>
          <a:xfrm>
            <a:off x="1981080" y="1600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Levels of Product and Serv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Content Placeholder 7" descr=""/>
          <p:cNvPicPr/>
          <p:nvPr/>
        </p:nvPicPr>
        <p:blipFill>
          <a:blip r:embed="rId1"/>
          <a:stretch/>
        </p:blipFill>
        <p:spPr>
          <a:xfrm>
            <a:off x="2120760" y="1822320"/>
            <a:ext cx="5207040" cy="39690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828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re products and services for personal consump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how consumers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ience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pping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cialty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609480" y="66294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7524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venience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usually buys frequently, immediately, and with a minimum comparison and buying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wspap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st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hopping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compares carefully on suitability, quality, price, and sty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lia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47:46Z</dcterms:created>
  <dc:creator>utter</dc:creator>
  <dc:description/>
  <dc:language>en-US</dc:language>
  <cp:lastModifiedBy>ksu</cp:lastModifiedBy>
  <dcterms:modified xsi:type="dcterms:W3CDTF">2015-03-01T04:56:54Z</dcterms:modified>
  <cp:revision>157</cp:revision>
  <dc:subject/>
  <dc:title>Slide 1</dc:title>
</cp:coreProperties>
</file>