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AE29B-FF3E-4176-9C47-86D8B827931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4CB31-C398-44D1-A202-C20688B5BE7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0D142-BF67-4C89-9395-25059A236BC3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1A571-1F1A-4EDD-BEE4-8BF7D6C9537F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78F8B-3965-44F2-B265-9F6A7F4E4ACB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75425-54C2-45CB-9720-7F6600633A92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3EB53-985A-4933-A7F0-297F696B67D9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C793A-6E60-4BFE-A033-876AD6FE1279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F1C95-7F06-478D-AF05-F44F5247506A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6A5BB-D502-4707-9ED3-C8922F93840F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F514A-EB9B-4C10-B3C3-34B9792AFD66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D9CD2-2428-4B73-838E-60C4ABC1FB64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08F2D-044E-4535-8CA9-296E1E379CB1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9905B-E44C-489E-9576-114A1977CA96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56C3B-88D1-43E0-91CB-9AC3823E818D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9FCF3-E629-43C8-86B6-258BB848358E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6A314-68EB-44C9-A495-EC538559B763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9C042-A93D-4903-AC4A-C1C97E9DD0D3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5BF92-F608-4684-B35B-08E28C4CCCB0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4865E-0BA1-4BBC-8F33-A1E04D3E6A8E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A614C-FBC0-4413-B421-5DE6DA6CD24A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D5808-793F-48F2-A7D1-8A2BC91FB80E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34E16-7191-4332-961F-86889ED4C781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E087E-60E9-4013-B9A3-A8B1BB2D0CBB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7BD01-185E-4B45-A9CE-5883786223B7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6CDBD-2A3B-4634-9761-CE862DD30C69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835EF-E5DB-4FC1-B190-0CB4CD9BE153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A769A-1F62-4E1B-9A35-F09E27F3ECFE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DB03F-DF4D-4619-96FA-222AADCD9501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8158C-346F-4E8C-9A0E-C37C7505923A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03F19-A6F2-4ED0-80B0-0888BF6FAB85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A4D6B-9436-481D-83F9-DA2F942B6DBC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7109E-20F5-40CE-A4DB-5720873436D5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B9F0A-5052-4679-8EE4-52A803845222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E6C8D-F410-49F1-961F-940213045A91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942AA-ABE7-4DFD-B7F6-9B0D48F54A0C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A6EE1-62F1-4D07-A795-40A56F7B41A3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B1401-714D-4CB6-BA57-973B08329613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43E51-E230-4B1E-9B01-017E90163D2D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46EF5-CC88-4B10-BECC-48CF00CCB1F9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FAB46-167C-444B-8BF6-31D6EECADBAA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91051-9730-4DCE-9BD0-24438494E8A0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C00C-28EC-4D4B-A67F-683BBFE87411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64895-AEE6-4183-AF6D-8308335D3DA7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6248520" y="6477120"/>
            <a:ext cx="1965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  <a:ea typeface="Tahom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ahoma"/>
              </a:rPr>
              <a:t>8-</a:t>
            </a:r>
            <a:fld id="{51DAB15F-BB64-4697-81C4-2FFFAE981C70}" type="slidenum">
              <a:rPr b="1" lang="en-US" sz="1600" spc="-1" strike="noStrike">
                <a:solidFill>
                  <a:srgbClr val="ffffff"/>
                </a:solidFill>
                <a:latin typeface="Arial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320" y="6400800"/>
            <a:ext cx="4495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6a6a6"/>
                </a:solidFill>
                <a:latin typeface="Arial"/>
                <a:ea typeface="Tahoma"/>
              </a:rPr>
              <a:t>Copyright © 2012 Pearson Education, Inc. 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6a6a6"/>
                </a:solidFill>
                <a:latin typeface="Arial"/>
                <a:ea typeface="Tahoma"/>
              </a:rPr>
              <a:t>Publishing as Prentice Ha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1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1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6248520" y="6477120"/>
            <a:ext cx="1965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ahoma"/>
              </a:rPr>
              <a:t>8-</a:t>
            </a:r>
            <a:fld id="{381C2AB2-DC21-4BD0-B720-18B9DAE4FD3D}" type="slidenum">
              <a:rPr b="1" lang="en-US" sz="1600" spc="-1" strike="noStrike">
                <a:solidFill>
                  <a:srgbClr val="ffffff"/>
                </a:solidFill>
                <a:latin typeface="Arial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Rectangle 5"/>
          <p:cNvSpPr/>
          <p:nvPr/>
        </p:nvSpPr>
        <p:spPr>
          <a:xfrm>
            <a:off x="76320" y="6400800"/>
            <a:ext cx="4495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6a6a6"/>
                </a:solidFill>
                <a:latin typeface="Arial"/>
                <a:ea typeface="Tahoma"/>
              </a:rPr>
              <a:t>Copyright © 2012 Pearson Education, Inc. 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6a6a6"/>
                </a:solidFill>
                <a:latin typeface="Arial"/>
                <a:ea typeface="Tahoma"/>
              </a:rPr>
              <a:t>Publishing as Prentice Ha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10"/>
          </p:nvPr>
        </p:nvSpPr>
        <p:spPr>
          <a:xfrm>
            <a:off x="6095880" y="632412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oxo.com/s-21-good-grips.aspx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1625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Eigh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129528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Product, Services, and Brands:  Building Customer Valu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Is a Product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pecialty products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sumer products and services with unique characteristics or brand identification for which a significant group of buyers is willing to make a special purchase effor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edical servic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signer cloth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igh-end electronic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Product and Service Classifica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Is a Product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1066680" y="21337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Unsought produc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sumer products that the consumer does not know about or knows about but does not normally think of buy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ife insuran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uneral servic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lood donat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Product and Service Classifica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5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Is a Product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ndustrial produc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ducts purchased for further processing or for use in conducting a busines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assified by the purpose for which the product is purchase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terials and par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apital item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pplies and servic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Product and Service Classifica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9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Is a Product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1523880" y="213372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terials and part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lude raw materials and manufactured materials and parts usually sold directly to industrial use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pital item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industrial products that aid in the buyer’s production or operat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pplies and servic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clude operating supplies, repair and maintenance items, and business servic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alibri"/>
              </a:rPr>
              <a:t>Produc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and Service Classificat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3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Is a Product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68580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Organization marketing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sists of activities undertaken to create, maintain, or change attitudes and behavior of target consumers toward an organization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0000"/>
          </a:bodyPr>
          <a:p>
            <a:pPr marL="171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Organizations, Persons, Places, and Idea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Is a Product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838080" y="2133360"/>
            <a:ext cx="73915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erson marketing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sists of activities undertaken to create, maintain, or change attitudes and behavior of target consumers toward particular peopl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0000"/>
          </a:bodyPr>
          <a:p>
            <a:pPr marL="171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Organizations, Persons, Places, and Idea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0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Is a Produc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685440" y="22096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lace marketing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sists of activities undertaken to create, maintain, or change attitudes and behavior of target consumers toward particular pla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ocial marketing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s the use of commercial marketing concepts and tools in programs designed to influence individuals’ behavior to improve their well-being and that of societ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4000"/>
          </a:bodyPr>
          <a:p>
            <a:pPr marL="253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Organizations, Persons, Places, and Idea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duct and Service Decis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Individual Product and Service Decis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67" name="Picture 4" descr="fig08_02wo.jpg"/>
          <p:cNvPicPr/>
          <p:nvPr/>
        </p:nvPicPr>
        <p:blipFill>
          <a:blip r:embed="rId1"/>
          <a:stretch/>
        </p:blipFill>
        <p:spPr>
          <a:xfrm>
            <a:off x="304920" y="2863800"/>
            <a:ext cx="8229600" cy="1271520"/>
          </a:xfrm>
          <a:prstGeom prst="rect">
            <a:avLst/>
          </a:prstGeom>
          <a:ln w="0">
            <a:noFill/>
          </a:ln>
        </p:spPr>
      </p:pic>
      <p:sp>
        <p:nvSpPr>
          <p:cNvPr id="468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duct and Service Deci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1447560" y="190512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roduct or service attribut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mmunicate and deliver the benefi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Qualit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eatur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tyle and desig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5345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marL="294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Individual Product and Service Decis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duct and Service Deci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762120" y="23623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roduct Quality Level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is the level of quality that supports the product’s position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roduct Conformance Quality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is the product’s freedom from defects and consistency in delivering a targeted level of performan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5000"/>
          </a:bodyPr>
          <a:p>
            <a:pPr marL="257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Individual Product and Service Decis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6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oduct, Services, and Branding Strategy</a:t>
            </a: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1294920" y="198108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duct, Services, and Experienc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duct and Services Decisi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rvices Market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randing Strategy: Building Strong Brand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Topic Outlin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duct and Service Deci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roduct feature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re a competitive tool for differentiating a product from competitors’ produc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re assessed based on the value to the customer versus the cost to the compan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5000"/>
          </a:bodyPr>
          <a:p>
            <a:pPr marL="257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Individual Product and Service Decis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0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duct and Service Deci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4114800" y="24382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tyle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describes the appearance of the produc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Design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tributes to a product’s usefulness as well as to its look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5000"/>
          </a:bodyPr>
          <a:p>
            <a:pPr marL="257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Individual Product and Service Decis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84" name="Picture 2" descr="http://upload.wikimedia.org/wikipedia/commons/thumb/f/fa/Globe.svg/600px-Globe.svg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91520" y="5715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8" descr="ph08_06"/>
          <p:cNvPicPr/>
          <p:nvPr/>
        </p:nvPicPr>
        <p:blipFill>
          <a:blip r:embed="rId3"/>
          <a:stretch/>
        </p:blipFill>
        <p:spPr>
          <a:xfrm>
            <a:off x="1295280" y="1828800"/>
            <a:ext cx="2444760" cy="3011400"/>
          </a:xfrm>
          <a:prstGeom prst="rect">
            <a:avLst/>
          </a:prstGeom>
          <a:ln w="0">
            <a:noFill/>
          </a:ln>
        </p:spPr>
      </p:pic>
      <p:sp>
        <p:nvSpPr>
          <p:cNvPr id="486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duct and Service Deci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685800" y="2743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Brand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s the name, term, sign, or design—or a combination of these—that identifies the maker or seller of a product or servi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5000"/>
          </a:bodyPr>
          <a:p>
            <a:pPr marL="257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Individual Product and Service Decis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duct and Service Deci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990720" y="2285640"/>
            <a:ext cx="73152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ackaging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involves designing and producing the container or wrapper for a produc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abel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identify the product or brand, describe attributes, and provide promo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Individual Product and Service Decis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4" name="Picture 2" descr=""/>
          <p:cNvPicPr/>
          <p:nvPr/>
        </p:nvPicPr>
        <p:blipFill>
          <a:blip r:embed="rId1"/>
          <a:stretch/>
        </p:blipFill>
        <p:spPr>
          <a:xfrm>
            <a:off x="5943600" y="4419720"/>
            <a:ext cx="2274840" cy="1673280"/>
          </a:xfrm>
          <a:prstGeom prst="rect">
            <a:avLst/>
          </a:prstGeom>
          <a:ln w="0">
            <a:noFill/>
          </a:ln>
        </p:spPr>
      </p:pic>
      <p:sp>
        <p:nvSpPr>
          <p:cNvPr id="495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duct and Service Deci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duct support services augment actual produc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Individual Product and Service Decis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9" name="Picture 7" descr="ph08_09"/>
          <p:cNvPicPr/>
          <p:nvPr/>
        </p:nvPicPr>
        <p:blipFill>
          <a:blip r:embed="rId1"/>
          <a:stretch/>
        </p:blipFill>
        <p:spPr>
          <a:xfrm>
            <a:off x="2209680" y="2922480"/>
            <a:ext cx="4419720" cy="3326040"/>
          </a:xfrm>
          <a:prstGeom prst="rect">
            <a:avLst/>
          </a:prstGeom>
          <a:ln w="0">
            <a:noFill/>
          </a:ln>
        </p:spPr>
      </p:pic>
      <p:sp>
        <p:nvSpPr>
          <p:cNvPr id="500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duct and Service Deci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roduct line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is a group of products that are closely related because they function in a similar manner, are sold to the same customer groups, are marketed through the same types of outlets, or fall within given price rang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5000"/>
          </a:bodyPr>
          <a:p>
            <a:pPr marL="257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Product Line Decis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duct and Service Deci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roduct line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ength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s the number of items in the product lin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ine stretch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ine fill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Product Line Decisi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8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duct and Service Deci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685440" y="15238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roduct mix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sists of all the products and items that a particular seller offers for sal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247840" indent="-533160">
              <a:spcBef>
                <a:spcPts val="700"/>
              </a:spcBef>
              <a:buClr>
                <a:srgbClr val="ffffff"/>
              </a:buClr>
              <a:buFont typeface="Calibri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idth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247840" indent="-533160">
              <a:spcBef>
                <a:spcPts val="700"/>
              </a:spcBef>
              <a:buClr>
                <a:srgbClr val="ffffff"/>
              </a:buClr>
              <a:buFont typeface="Calibri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ength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247840" indent="-533160">
              <a:spcBef>
                <a:spcPts val="700"/>
              </a:spcBef>
              <a:buClr>
                <a:srgbClr val="ffffff"/>
              </a:buClr>
              <a:buFont typeface="Calibri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epth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247840" indent="-533160">
              <a:spcBef>
                <a:spcPts val="700"/>
              </a:spcBef>
              <a:buClr>
                <a:srgbClr val="ffffff"/>
              </a:buClr>
              <a:buFont typeface="Calibri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sistenc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Product Mix Decis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12" name="Picture 8" descr="ph08_10"/>
          <p:cNvPicPr/>
          <p:nvPr/>
        </p:nvPicPr>
        <p:blipFill>
          <a:blip r:embed="rId1"/>
          <a:stretch/>
        </p:blipFill>
        <p:spPr>
          <a:xfrm>
            <a:off x="5638680" y="4267080"/>
            <a:ext cx="3009960" cy="1886040"/>
          </a:xfrm>
          <a:prstGeom prst="rect">
            <a:avLst/>
          </a:prstGeom>
          <a:ln w="0">
            <a:noFill/>
          </a:ln>
        </p:spPr>
      </p:pic>
      <p:sp>
        <p:nvSpPr>
          <p:cNvPr id="513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rvices Market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overnme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ivate not-for-profit organizati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usiness servic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Types of Service Industr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rvices Market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30000"/>
          </a:bodyPr>
          <a:p>
            <a:pPr marL="102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102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Nature and Characteristics of a Servi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102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0" name="Picture 4" descr="fig08_05wo.jpg"/>
          <p:cNvPicPr/>
          <p:nvPr/>
        </p:nvPicPr>
        <p:blipFill>
          <a:blip r:embed="rId1"/>
          <a:stretch/>
        </p:blipFill>
        <p:spPr>
          <a:xfrm>
            <a:off x="762120" y="2438280"/>
            <a:ext cx="7315200" cy="3189240"/>
          </a:xfrm>
          <a:prstGeom prst="rect">
            <a:avLst/>
          </a:prstGeom>
          <a:ln w="0">
            <a:noFill/>
          </a:ln>
        </p:spPr>
      </p:pic>
      <p:sp>
        <p:nvSpPr>
          <p:cNvPr id="521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Is a Product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837720" y="19807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roduct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is anything that can be offered in a market for attention, acquisition, use, or consumption that might satisfy a need or wa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ervice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is a product that consists of activities, benefits or satisfaction that is essentially intangible and does not result in the ownership of anyth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Products, Services, and Experien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rvices Marke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733920" y="228600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 addition to traditional marketing strategies, service firms often require additional strateg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rvice-profit chai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ternal market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teractive market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Marketing Strategies for Service Firm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5" name="Picture 7" descr="ph08_18"/>
          <p:cNvPicPr/>
          <p:nvPr/>
        </p:nvPicPr>
        <p:blipFill>
          <a:blip r:embed="rId1"/>
          <a:stretch/>
        </p:blipFill>
        <p:spPr>
          <a:xfrm>
            <a:off x="990720" y="2452680"/>
            <a:ext cx="2666880" cy="2003400"/>
          </a:xfrm>
          <a:prstGeom prst="rect">
            <a:avLst/>
          </a:prstGeom>
          <a:ln w="0">
            <a:noFill/>
          </a:ln>
        </p:spPr>
      </p:pic>
      <p:sp>
        <p:nvSpPr>
          <p:cNvPr id="526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rvices Marke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20574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22720" indent="-522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Service-profit chain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links service firm profits with employee and customer satisfactio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522720" indent="-522720">
              <a:spcBef>
                <a:spcPts val="64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ternal service quality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522720" indent="-522720">
              <a:spcBef>
                <a:spcPts val="64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atisfied and productive service employee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522720" indent="-522720">
              <a:spcBef>
                <a:spcPts val="64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reater service value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522720" indent="-522720">
              <a:spcBef>
                <a:spcPts val="64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atisfied and loyal customer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522720" indent="-522720">
              <a:spcBef>
                <a:spcPts val="64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Healthy service profits and growth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Marketing Strategies for Service Firm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0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rvices Marke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914400" y="2209320"/>
            <a:ext cx="73152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79880" indent="-479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nternal marketing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ans that the service firm must orient and motivate its customer contact employees and supporting service people to work as a team to provide customer satisfac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79880" indent="-479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79880" indent="-479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ternal marketing must precede external market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Marketing Strategies for Service Firm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rvices Marke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106668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nteractive marketing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ans that service quality depends heavily on the quality of the buyer-seller interaction during the service encount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rvice differenti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rvice qualit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rvice productivit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Marketing Strategies for Service Firm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rvices Marke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685440" y="205740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Managing service differentiation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creates a competitive advantage from the offer, delivery, and image of the servi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Offer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can include distinctive featur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Delivery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can include more able and reliable customer contact people, environment, or proces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mage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can include symbols and brand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914040" y="11426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Marketing Strategies for Service Firm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2" name="Picture 7" descr="ph08_19"/>
          <p:cNvPicPr/>
          <p:nvPr/>
        </p:nvPicPr>
        <p:blipFill>
          <a:blip r:embed="rId1"/>
          <a:stretch/>
        </p:blipFill>
        <p:spPr>
          <a:xfrm>
            <a:off x="6786720" y="2743200"/>
            <a:ext cx="2057400" cy="2666880"/>
          </a:xfrm>
          <a:prstGeom prst="rect">
            <a:avLst/>
          </a:prstGeom>
          <a:ln w="0">
            <a:noFill/>
          </a:ln>
        </p:spPr>
      </p:pic>
      <p:sp>
        <p:nvSpPr>
          <p:cNvPr id="543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rvices Marke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1523880" y="198108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Managing service quality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provides a competitive advantage by delivering consistently higher quality than its competito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rvice quality always varies depending on interactions between employees and custome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14040" y="11426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Marketing Strategies for Service Firm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7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rvices Marke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naging service productivity refers to the cost side of marketing strategies for service firm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mployee recruiting, hiring, and training strateg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rvice quantity and quality strateg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Marketing Strategies for Service Firm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1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 txBox="1"/>
          <p:nvPr/>
        </p:nvSpPr>
        <p:spPr>
          <a:xfrm>
            <a:off x="1218960" y="2209680"/>
            <a:ext cx="6629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Brand equit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differential effect that knowing th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rand name has on customer response to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product or its marketing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randing Strategy: Building Strong Bran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randing Strategy: Building Strong Bran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6" name="Content Placeholder 4" descr="fig08_03wo.jpg"/>
          <p:cNvPicPr/>
          <p:nvPr/>
        </p:nvPicPr>
        <p:blipFill>
          <a:blip r:embed="rId1"/>
          <a:stretch/>
        </p:blipFill>
        <p:spPr>
          <a:xfrm>
            <a:off x="838080" y="2209680"/>
            <a:ext cx="7772400" cy="1279800"/>
          </a:xfrm>
          <a:prstGeom prst="rect">
            <a:avLst/>
          </a:prstGeom>
          <a:ln w="0">
            <a:noFill/>
          </a:ln>
        </p:spPr>
      </p:pic>
      <p:sp>
        <p:nvSpPr>
          <p:cNvPr id="557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7" descr="ph08_12"/>
          <p:cNvPicPr/>
          <p:nvPr/>
        </p:nvPicPr>
        <p:blipFill>
          <a:blip r:embed="rId1"/>
          <a:stretch/>
        </p:blipFill>
        <p:spPr>
          <a:xfrm>
            <a:off x="6248520" y="2362320"/>
            <a:ext cx="2286000" cy="2408040"/>
          </a:xfrm>
          <a:prstGeom prst="rect">
            <a:avLst/>
          </a:prstGeom>
          <a:ln w="0">
            <a:noFill/>
          </a:ln>
        </p:spPr>
      </p:pic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randing Strategy: Building Strong Bran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1371600" y="228600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rand strategy decisions include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duct attribut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duct benefi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duct beliefs and valu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Brand Position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2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Is a Product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762120" y="236232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Experience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represent what buying the product or service will do for the customer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mpanies may now focus on creating and managing customer experiences with their brands or company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Products, Services, and Experien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7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randing Strategy: Building Strong Bran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5331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esirable qualities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uggest benefits and qualit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asy to pronounce, recognize, and rememb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stinctiv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xtendabl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ranslatable for the global econom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apable of registration and legal protec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Brand Name Selec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6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randing Strategy: Building Strong Bran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2285640" y="198108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nufacturer’s bran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ivate bran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icensed bran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-bran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8000"/>
          </a:bodyPr>
          <a:p>
            <a:pPr marL="233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Brand Sponsorship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70" name="Picture 9" descr="ph08_14"/>
          <p:cNvPicPr/>
          <p:nvPr/>
        </p:nvPicPr>
        <p:blipFill>
          <a:blip r:embed="rId1"/>
          <a:stretch/>
        </p:blipFill>
        <p:spPr>
          <a:xfrm>
            <a:off x="6095880" y="2438280"/>
            <a:ext cx="2057400" cy="2766960"/>
          </a:xfrm>
          <a:prstGeom prst="rect">
            <a:avLst/>
          </a:prstGeom>
          <a:ln w="0">
            <a:noFill/>
          </a:ln>
        </p:spPr>
      </p:pic>
      <p:sp>
        <p:nvSpPr>
          <p:cNvPr id="571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randing Strategy: Building Strong Bran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716292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Brand Development Strateg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74" name="Picture 5" descr="fig08_04wo.jpg"/>
          <p:cNvPicPr/>
          <p:nvPr/>
        </p:nvPicPr>
        <p:blipFill>
          <a:blip r:embed="rId1"/>
          <a:stretch/>
        </p:blipFill>
        <p:spPr>
          <a:xfrm>
            <a:off x="1905120" y="2286000"/>
            <a:ext cx="5638680" cy="3414600"/>
          </a:xfrm>
          <a:prstGeom prst="rect">
            <a:avLst/>
          </a:prstGeom>
          <a:ln w="0">
            <a:noFill/>
          </a:ln>
        </p:spPr>
      </p:pic>
      <p:sp>
        <p:nvSpPr>
          <p:cNvPr id="575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4" descr="fig08_01wo.jpg"/>
          <p:cNvPicPr/>
          <p:nvPr/>
        </p:nvPicPr>
        <p:blipFill>
          <a:blip r:embed="rId1"/>
          <a:stretch/>
        </p:blipFill>
        <p:spPr>
          <a:xfrm>
            <a:off x="1981080" y="160020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Is a Product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716292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Levels of Product and Servi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a Product?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Content Placeholder 7" descr=""/>
          <p:cNvPicPr/>
          <p:nvPr/>
        </p:nvPicPr>
        <p:blipFill>
          <a:blip r:embed="rId1"/>
          <a:stretch/>
        </p:blipFill>
        <p:spPr>
          <a:xfrm>
            <a:off x="2120760" y="1822320"/>
            <a:ext cx="5207040" cy="396900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Product and Service Classifica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Is a Product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18288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sumer products are products and services for personal consump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assified by how consumers buy the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venience produc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hopping produc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pecialty produc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Unsought produc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Product and Service Classifica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Rectangle 3"/>
          <p:cNvSpPr/>
          <p:nvPr/>
        </p:nvSpPr>
        <p:spPr>
          <a:xfrm>
            <a:off x="609480" y="662940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Is a Product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175248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onvenience products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sumer products and services that the customer usually buys frequently, immediately, and with a minimum comparison and buying effor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ewspape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and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ast foo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Product and Service Classifica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Is a Product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1828440" y="2209320"/>
            <a:ext cx="62485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hopping products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sumer products and services that the customer compares carefully on suitability, quality, price, and styl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urnitur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a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plianc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Product and Service Classifica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22:47:46Z</dcterms:created>
  <dc:creator>utter</dc:creator>
  <dc:description/>
  <dc:language>en-US</dc:language>
  <cp:lastModifiedBy>ksu</cp:lastModifiedBy>
  <dcterms:modified xsi:type="dcterms:W3CDTF">2015-03-01T04:56:54Z</dcterms:modified>
  <cp:revision>157</cp:revision>
  <dc:subject/>
  <dc:title>Slide 1</dc:title>
</cp:coreProperties>
</file>