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B5E3-B71D-4296-A3A0-FA3B87999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C450-A127-4858-85E3-21CAD5EAD9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F756-19D1-4137-9B78-82B2424F598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B0D4-A7E7-486F-B5E9-32C6335FB72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9A0B-EB0B-4516-874E-7FED9F7D905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9B64-4FEF-4607-8304-D1327F583D6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D912-704E-4452-A6C1-1A79D032D99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6E2-BB50-452A-9BEA-84B2122F380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26C4-1F30-49CB-979C-D6669A5B8CF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0337-81C2-4B46-AEBF-5C09CCD996A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CD8-6B43-499E-BDF3-B2CCC45FB69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86FC-3E98-4026-935D-4D9344C040C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7BC2-8E7B-4927-BBE1-8F87AC8A00B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ADC-EB7A-4526-A6CD-F4B286695C5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AAF1-B470-4539-AE36-9D1DD1D6E90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B216-5BC6-4473-8941-7108EFC5074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E8E5-0475-4082-9997-5614BD6AD98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134D-ED44-4C3E-B87E-BF341389D87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BF0E-C0FA-4F99-92AA-AF211BB702A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3BF8-08A2-4B53-8EFC-91533962DF1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8D6F-98AB-4CFA-A118-1ED14FA7B33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E6D7-91CB-464B-8EAA-762CCC7FC84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229E-7793-491D-BBDE-4BD662D7B04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800-CD4F-4A09-8E3B-057A9ECCB4E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EBA9-1918-42FF-9EF6-A1CB613F09E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1536-6241-4020-9854-E21433CC07A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BE6C-81FC-489E-9CF6-3827FEB0AE3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2F3A-AD67-4E2E-B50E-42D8EA53843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B9D0-D0E3-429D-A980-3A14AD94708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7CF8-CDE5-4157-9230-A6248EB1D45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B35-F5F1-4E69-87B2-211A7DA2C3E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CB9A-6A4F-4B1C-8461-91AEC7BFFF9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8267-7358-4FA3-A57F-1BB0C79432F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F6C-DA3B-4684-871C-87D5FCBFDAB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 </a:t>
            </a:r>
            <a:fld id="{F77A5E72-F2FF-4A9A-9AB4-FE162286F789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</a:t>
            </a:r>
            <a:fld id="{683C0A93-D4E2-4996-915B-26048D6870FF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ecisioninsight.com/content/index.php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1000uses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9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N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ew-Product Development and Product Life-Cycle Strateg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’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7" name="Diagram 6" descr=""/>
          <p:cNvPicPr/>
          <p:nvPr/>
        </p:nvPicPr>
        <p:blipFill>
          <a:blip r:embed="rId1"/>
          <a:stretch/>
        </p:blipFill>
        <p:spPr>
          <a:xfrm>
            <a:off x="1468440" y="1878120"/>
            <a:ext cx="6164280" cy="40892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Test Marke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1" name="Diagram 3" descr=""/>
          <p:cNvPicPr/>
          <p:nvPr/>
        </p:nvPicPr>
        <p:blipFill>
          <a:blip r:embed="rId1"/>
          <a:stretch/>
        </p:blipFill>
        <p:spPr>
          <a:xfrm>
            <a:off x="1822320" y="1852560"/>
            <a:ext cx="5353200" cy="2158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09_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038480"/>
            <a:ext cx="6172200" cy="22748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antages of simulated test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expensive than other test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s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s access by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considered as reliable and accurate due to the controlled s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rcializ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new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ed mark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132440" cy="36288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7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ful new-product development should b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 cente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am-ba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stema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and 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71600" y="21333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Strateg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naging New-Product Develop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duct Life-Cycle Strateg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dditional Product and Service Consider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240" y="243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stomer-centered 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ew ways to solve customer problems and create more customer satisfying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9" name="Picture 7" descr="ph09_11"/>
          <p:cNvPicPr/>
          <p:nvPr/>
        </p:nvPicPr>
        <p:blipFill>
          <a:blip r:embed="rId1"/>
          <a:stretch/>
        </p:blipFill>
        <p:spPr>
          <a:xfrm>
            <a:off x="4724280" y="2590920"/>
            <a:ext cx="3733920" cy="24876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am-based new-product develop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Company departments work closely together in cross-functional teams, overlapping in the product-development process to save time and increase effective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040" y="21333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ystematic new-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novative development approach that collects, reviews, evaluates, and manages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s an innovation-oriented cul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ields a large number of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Life Cyc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1" name="Picture 6" descr="fig09_02wo"/>
          <p:cNvPicPr/>
          <p:nvPr/>
        </p:nvPicPr>
        <p:blipFill>
          <a:blip r:embed="rId1"/>
          <a:stretch/>
        </p:blipFill>
        <p:spPr>
          <a:xfrm>
            <a:off x="1676520" y="2057400"/>
            <a:ext cx="6324480" cy="35305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295280" y="11430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are zero and investment costs mou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 sales growth and profits are nonexisten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pid market acceptance and increasing profi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tur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down in sales growth and profits level off or decl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fall off and profits drop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5" descr="fig09_03wo"/>
          <p:cNvPicPr/>
          <p:nvPr/>
        </p:nvPicPr>
        <p:blipFill>
          <a:blip r:embed="rId1"/>
          <a:stretch/>
        </p:blipFill>
        <p:spPr>
          <a:xfrm>
            <a:off x="228600" y="2362320"/>
            <a:ext cx="8153280" cy="2425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 sales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tle or no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distribution and promotion expen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troduction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295280" y="20574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e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 competitors enter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stability or decline to increase 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educ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motion and manufacturing costs gain economies of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Growth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down in sa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suppl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itute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capacity leads to compet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motion and R&amp;D to support sales and pro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440" y="22096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mix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 Modify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943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9_15"/>
          <p:cNvPicPr/>
          <p:nvPr/>
        </p:nvPicPr>
        <p:blipFill>
          <a:blip r:embed="rId3"/>
          <a:stretch/>
        </p:blipFill>
        <p:spPr>
          <a:xfrm>
            <a:off x="4267080" y="2209680"/>
            <a:ext cx="4191120" cy="33991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quisi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the buying of a whole company, a patent, or a license to produce someone else’s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original products, product improvements, product modifications, and new brands developed from the firm’s own research and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Two ways to obtain new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362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ntain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rvest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op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Decline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144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policy and regulations regarding developing and dropping products, patents, quality, and safe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Decisions and Social Responsib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18960" y="23623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ing what products and services to introduce in which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ndardization versus custom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 and label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stoms, values, la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International Product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Service Marketing—Challen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8" name="Picture 7" descr="ph09_16"/>
          <p:cNvPicPr/>
          <p:nvPr/>
        </p:nvPicPr>
        <p:blipFill>
          <a:blip r:embed="rId1"/>
          <a:stretch/>
        </p:blipFill>
        <p:spPr>
          <a:xfrm>
            <a:off x="5334120" y="3429000"/>
            <a:ext cx="3236760" cy="2286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71600" y="160020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Major Stages in New-Produ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7" descr="fig09_01wo"/>
          <p:cNvPicPr/>
          <p:nvPr/>
        </p:nvPicPr>
        <p:blipFill>
          <a:blip r:embed="rId1"/>
          <a:stretch/>
        </p:blipFill>
        <p:spPr>
          <a:xfrm>
            <a:off x="380880" y="2743200"/>
            <a:ext cx="8305920" cy="2211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ea gener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ystematic search for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 of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2" name="Picture 7" descr="ph09_04"/>
          <p:cNvPicPr/>
          <p:nvPr/>
        </p:nvPicPr>
        <p:blipFill>
          <a:blip r:embed="rId1"/>
          <a:stretch/>
        </p:blipFill>
        <p:spPr>
          <a:xfrm>
            <a:off x="4191120" y="365760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828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the company’s own formal research and development, management and staff, and intrapreneurial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sources outside the company such as customers, competitors, distributors, suppliers, and outside design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7" descr="ph09_05"/>
          <p:cNvPicPr/>
          <p:nvPr/>
        </p:nvPicPr>
        <p:blipFill>
          <a:blip r:embed="rId1"/>
          <a:stretch/>
        </p:blipFill>
        <p:spPr>
          <a:xfrm>
            <a:off x="5865840" y="3581280"/>
            <a:ext cx="3278160" cy="21812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iting broad communities of people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s, employees, indepen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and researchers, and even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at large—into the new-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nova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rowdsour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ksu</cp:lastModifiedBy>
  <dcterms:modified xsi:type="dcterms:W3CDTF">2015-02-19T08:37:42Z</dcterms:modified>
  <cp:revision>117</cp:revision>
  <dc:subject/>
  <dc:title>Slide 1</dc:title>
</cp:coreProperties>
</file>