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7A2-55E8-4557-BD8E-2D158E4A7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38A-F573-40DF-BBF5-7BAC6D51F3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9DF-442B-4DDB-A68A-A54FCBE4C69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7BB-386D-43F1-8755-FF94F358487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DEA-346B-4926-9520-1DDB5CA5018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0EB-AD6B-49AA-ADAD-BC7BFA40312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30B5-C72E-458E-A4BE-01C69461E16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6EBC-EC61-47A8-A72E-90602400AF5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6D8-8194-47A8-8AD1-6BB1812BF24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2AD-999D-4A81-90FC-8707BEB9F27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0596-503F-41C1-B29D-BC2740E3351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02B8-5B43-4CF2-BEC4-06672FA0D8C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3210-BB57-4301-8613-1A93E5CDC3A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950-4382-4350-97FB-5C578FB4539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FF6-C451-43A5-9CAA-B94E28FC933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7C5B-7FCC-49BE-8498-3E2FC33571E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66E3-8419-4A1A-9CCC-84DECEDAF19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49D9-E214-4CC9-8F01-EEFB4772A35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5CA-9560-4B47-9DA3-DAD019B0B09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420A-960A-454F-AFB3-D5B91BEFB17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7989-B6F7-48F2-8947-4D4AD5B376F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A66-91CD-4279-A953-1952A34447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9B0C-98DA-439C-8256-681A3B758CC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6B4-0AAF-4CAC-BD2E-6DC2915A486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B2D3-8B97-41D8-9D6C-DE66E102B71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684-2DF6-4848-B4A7-21CC91AFEAB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B370-20BE-42B2-88CF-A8DA7490D4A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1A26-9B6A-40B8-8F6E-52BB9429136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E8D-2D40-4A87-847E-B91EFBC49E1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63F-A713-4462-AFA5-9527CD7D6CA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464-3BE4-45EF-9413-A0C199B2479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3614-9F3A-49BC-86C6-F73AAFED04E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F56-52C6-4BE8-A8A5-6C094B8ED63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E7F-2014-40D6-9E53-18EF6A54F3C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 </a:t>
            </a:r>
            <a:fld id="{E02F2254-343F-4DB9-B2E6-5C93B8117263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9- </a:t>
            </a:r>
            <a:fld id="{A96164F3-1FDC-4D33-9216-8196341B0253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1000uses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96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N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676160" y="46483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ew-Product Development and Product Life-Cycle Strateg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’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7" name="Diagram 6" descr=""/>
          <p:cNvPicPr/>
          <p:nvPr/>
        </p:nvPicPr>
        <p:blipFill>
          <a:blip r:embed="rId1"/>
          <a:stretch/>
        </p:blipFill>
        <p:spPr>
          <a:xfrm>
            <a:off x="1468440" y="1878120"/>
            <a:ext cx="6164280" cy="40892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1" name="Diagram 3" descr=""/>
          <p:cNvPicPr/>
          <p:nvPr/>
        </p:nvPicPr>
        <p:blipFill>
          <a:blip r:embed="rId1"/>
          <a:stretch/>
        </p:blipFill>
        <p:spPr>
          <a:xfrm>
            <a:off x="1822320" y="1852560"/>
            <a:ext cx="5353200" cy="2158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7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ful new-product development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 cente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am-bas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stema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stomer-centered 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new ways to solve customer problems and create more customer satisfying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9" name="Picture 7" descr="ph09_11"/>
          <p:cNvPicPr/>
          <p:nvPr/>
        </p:nvPicPr>
        <p:blipFill>
          <a:blip r:embed="rId1"/>
          <a:stretch/>
        </p:blipFill>
        <p:spPr>
          <a:xfrm>
            <a:off x="4724280" y="2590920"/>
            <a:ext cx="3733920" cy="24876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am-based new-product developme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Company departments work closely together in cross-functional teams, overlapping in the product-development process to save time and increase effective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ing New-Product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040" y="2133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ystematic new-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novative development approach that collects, reviews, evaluates, and manages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s an innovation-oriented cul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8640" indent="-45864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ields a large number of new-product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ew-Product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1" name="Picture 6" descr="fig09_02wo"/>
          <p:cNvPicPr/>
          <p:nvPr/>
        </p:nvPicPr>
        <p:blipFill>
          <a:blip r:embed="rId1"/>
          <a:stretch/>
        </p:blipFill>
        <p:spPr>
          <a:xfrm>
            <a:off x="1676520" y="2057400"/>
            <a:ext cx="6324480" cy="35305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295280" y="11430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are zero and investment costs mou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 sales growth and profits are nonexisten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apid market acceptance and increasing profi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tur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lowdown in sales growth and profits level off or declin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c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les fall off and profits dro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5" descr="fig09_03wo"/>
          <p:cNvPicPr/>
          <p:nvPr/>
        </p:nvPicPr>
        <p:blipFill>
          <a:blip r:embed="rId1"/>
          <a:stretch/>
        </p:blipFill>
        <p:spPr>
          <a:xfrm>
            <a:off x="228600" y="2362320"/>
            <a:ext cx="8153280" cy="2425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 sales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ttle or no prof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distribution and promotion expen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troduction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295280" y="20574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e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w competitors enter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stability or decline to increase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educ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fits incr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motion and manufacturing costs gain economies of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Growth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owdown in s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suppl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itute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capacity leads to compet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motion and R&amp;D to support sales and pro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440" y="22096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mix modif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turity Stage Modify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943600"/>
            <a:ext cx="484200" cy="4842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9_15"/>
          <p:cNvPicPr/>
          <p:nvPr/>
        </p:nvPicPr>
        <p:blipFill>
          <a:blip r:embed="rId3"/>
          <a:stretch/>
        </p:blipFill>
        <p:spPr>
          <a:xfrm>
            <a:off x="4267080" y="2209680"/>
            <a:ext cx="4191120" cy="33991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’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’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3623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tain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rvest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op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Decline Sta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policy and regulations regarding developing and dropping products, patents, quality, and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Decisions and Social Responsibi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9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Product and Service Consider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18960" y="23623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at products and services to introduce in which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ndardization versus custom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 and label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stoms, values, la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International Product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Service Marketing—Challen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50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8" name="Picture 7" descr="ph09_16"/>
          <p:cNvPicPr/>
          <p:nvPr/>
        </p:nvPicPr>
        <p:blipFill>
          <a:blip r:embed="rId1"/>
          <a:stretch/>
        </p:blipFill>
        <p:spPr>
          <a:xfrm>
            <a:off x="5334120" y="3429000"/>
            <a:ext cx="3236760" cy="2286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2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’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ksu</cp:lastModifiedBy>
  <dcterms:modified xsi:type="dcterms:W3CDTF">2015-02-19T08:37:42Z</dcterms:modified>
  <cp:revision>117</cp:revision>
  <dc:subject/>
  <dc:title>Slide 1</dc:title>
</cp:coreProperties>
</file>