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975D-B0D4-4682-A5CA-9D3F723CAD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8743-85CF-4E20-8E43-1050178263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B4DE-DAF3-4F9C-92A9-86BCA66B546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55D-7BF1-4CE6-B0EF-B31F059A909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122-5A9D-4DC6-A5D0-8696A3A2932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E55-FBD0-42B3-B2E2-46D4C45DD9D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8449-2CF5-4272-AD27-7F27AE306A5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5A5C-22A6-4ECC-A224-453DE7BBD27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D22-07F6-4079-ABCF-081B1C97275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3805-62AC-4595-8776-0D04BC7F325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3585-237E-440E-9E8E-DD34C9B0F02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616-B8A2-4BF6-B6C5-D9873E380A5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FD7D-6C19-4B7C-9E0E-BF0E995E489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3F0-021D-4315-B8C2-E4156C19833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A9C-9237-4A9A-84BE-9FE3F073678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594A-EEDD-4884-9162-36098DFEAE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DC6-C91E-418E-9CD9-5EAE3F09DA4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C66-6D37-4605-BD16-AEC6969342B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6BE5-A5D5-498C-9DA9-68042A86740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BF1-0B14-4732-B72E-F6E9381C5A9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393-B603-458C-9797-EB0A17CFA9C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9A9-8779-4960-9CDC-F70EEF6442D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ECAB-668A-40A8-A138-06AF07CAEBA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5A2-076D-4F81-97F2-99B51E7CB50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B3DB-3872-4430-AA9C-51ACAB64A31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CA8-5D11-4EAA-BBA0-A2BC3B9433E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33CA-D6BE-42C1-BD0F-C1D5BB62AFF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0540-32D3-493C-B3A2-09E72A11453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2FCF-7D92-47BE-9C6A-590C43349DF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E860-6831-49DF-90CC-1896B18D4E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7744-DC48-4BA0-AD0A-9EBD23BE238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04A3-E59D-4349-92ED-B8C3B6AA8B6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232D-A4F4-4CAF-A845-92F605DF031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849-A119-4AAA-AEA5-1CCBCE9F923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 </a:t>
            </a:r>
            <a:fld id="{8366FDC7-21F9-49D1-8E15-5DFEC5246071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</a:t>
            </a:r>
            <a:fld id="{905F8238-ADD3-446E-B756-1DA51BC44AA3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1000uses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9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N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w-Product Development and Product Life-Cycle Strateg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’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Diagram 6" descr=""/>
          <p:cNvPicPr/>
          <p:nvPr/>
        </p:nvPicPr>
        <p:blipFill>
          <a:blip r:embed="rId1"/>
          <a:stretch/>
        </p:blipFill>
        <p:spPr>
          <a:xfrm>
            <a:off x="1468440" y="1878120"/>
            <a:ext cx="6164280" cy="40892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1" name="Diagram 3" descr=""/>
          <p:cNvPicPr/>
          <p:nvPr/>
        </p:nvPicPr>
        <p:blipFill>
          <a:blip r:embed="rId1"/>
          <a:stretch/>
        </p:blipFill>
        <p:spPr>
          <a:xfrm>
            <a:off x="1822320" y="1852560"/>
            <a:ext cx="5353200" cy="2158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7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ful new-product development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 cente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am-b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stomer-centered 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ew ways to solve customer problems and create more customer satisfying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9" name="Picture 7" descr="ph09_11"/>
          <p:cNvPicPr/>
          <p:nvPr/>
        </p:nvPicPr>
        <p:blipFill>
          <a:blip r:embed="rId1"/>
          <a:stretch/>
        </p:blipFill>
        <p:spPr>
          <a:xfrm>
            <a:off x="4724280" y="2590920"/>
            <a:ext cx="3733920" cy="2487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m-based new-product develop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Company departments work closely together in cross-functional teams, overlapping in the product-development process to save time and increase effectiv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040" y="2133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ystematic new-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novative development approach that collects, reviews, evaluates, and manages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s an innovation-oriented cul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ields a large number of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1" name="Picture 6" descr="fig09_02wo"/>
          <p:cNvPicPr/>
          <p:nvPr/>
        </p:nvPicPr>
        <p:blipFill>
          <a:blip r:embed="rId1"/>
          <a:stretch/>
        </p:blipFill>
        <p:spPr>
          <a:xfrm>
            <a:off x="1676520" y="2057400"/>
            <a:ext cx="6324480" cy="35305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295280" y="11430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are zero and investment costs mou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 sales growth and profits are nonexisten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pid market acceptance and increasing profi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t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down in sales growth and profits level off or decl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fall off and profits dro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5" descr="fig09_03wo"/>
          <p:cNvPicPr/>
          <p:nvPr/>
        </p:nvPicPr>
        <p:blipFill>
          <a:blip r:embed="rId1"/>
          <a:stretch/>
        </p:blipFill>
        <p:spPr>
          <a:xfrm>
            <a:off x="228600" y="2362320"/>
            <a:ext cx="8153280" cy="2425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 sales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tle or no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distribution and promotion expen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troduction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5280" y="20574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e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competitors enter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stability or decline to increase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educ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motion and manufacturing costs gain economies of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Growth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down in s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supp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itute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capacity leads to compet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motion and R&amp;D to support sales and pro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440" y="22096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mix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 Modify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943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9_15"/>
          <p:cNvPicPr/>
          <p:nvPr/>
        </p:nvPicPr>
        <p:blipFill>
          <a:blip r:embed="rId3"/>
          <a:stretch/>
        </p:blipFill>
        <p:spPr>
          <a:xfrm>
            <a:off x="4267080" y="2209680"/>
            <a:ext cx="4191120" cy="33991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’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’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362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tain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rvest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op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Declin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policy and regulations regarding developing and dropping products, patents, quality, and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Decisions and Social Responsi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18960" y="23623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at products and services to introduce in which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ndardization versus custom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 and label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stoms, values,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International Product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Service Marketing—Challen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8" name="Picture 7" descr="ph09_16"/>
          <p:cNvPicPr/>
          <p:nvPr/>
        </p:nvPicPr>
        <p:blipFill>
          <a:blip r:embed="rId1"/>
          <a:stretch/>
        </p:blipFill>
        <p:spPr>
          <a:xfrm>
            <a:off x="5334120" y="3429000"/>
            <a:ext cx="3236760" cy="2286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2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’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ksu</cp:lastModifiedBy>
  <dcterms:modified xsi:type="dcterms:W3CDTF">2015-02-19T08:37:42Z</dcterms:modified>
  <cp:revision>117</cp:revision>
  <dc:subject/>
  <dc:title>Slide 1</dc:title>
</cp:coreProperties>
</file>