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205E-3C41-4DA7-8285-8607E05B18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5A3E-6819-46A7-BCAA-802105C229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1202-4845-4019-93A4-9771261A523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A5EF-6E6E-4D1C-AB01-D847AC64965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371F-6263-429B-AC74-C6A1C9DA486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CAA2-57D9-450A-B9E3-8F1573B8931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125F-71FC-4898-8032-73B1BA0BBA3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191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5AF7-3903-4ED6-B842-9A2648FA464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6733-9F31-43DF-9B1C-25E90450138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B99E-32D6-40ED-A4A1-BFF8AF13599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24A2-4BE2-4FF7-B24F-9B667419BE4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316F-7C01-46B3-A9E2-D92847D98AC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A62A-FE7D-48BB-A5B4-E05A3A420D8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7EC5-FA5F-4797-A99C-F709F8920FA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B83D-3BB9-45E5-9CDD-3BB113F0C58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A61B-D190-4CAA-B9A3-DA9491B99FA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7CBF-087D-44C7-8198-27661E9C2F1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6BF2-B5B5-4178-B78A-B4020EB862B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C4AB-58A7-4BC6-A7E1-18AB0BC2831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6B15-18E3-46A0-A6D4-6685331A3A5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F080-3ACE-4D0E-928C-93DE32A81C3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2FD5-4987-423A-AB39-0A4E0EF4A42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0E13-EC29-406C-85B4-A813811B1C9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B9F0-0A72-4977-9132-2242BACB2AC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8651-16A1-4F86-B5B6-9418CF1232B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77D9-AE75-4E47-9079-0AD30A57165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E054-D90B-4D11-B101-9C336A1D7E5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9C58-36D5-421C-BA2D-0C55F928474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B0C2-BA81-4DE8-980F-99B2BBF960F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5035-BD48-4B30-912A-D296CCF1D42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72DC-7360-41AF-A4B7-BDB4E5DEAFD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4BE5-1DEC-4BBD-9D6C-82E2BD5123C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A3B3-CE7D-4F07-B176-AA4D49454CE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87C4-B568-4F0D-B57D-116F73038A3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9-  </a:t>
            </a:r>
            <a:fld id="{86F348D5-CF75-4E4F-B635-273E468F18AF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9- </a:t>
            </a:r>
            <a:fld id="{84748BB0-5C54-4037-855F-3182B47A3EB9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decisioninsight.com/content/index.php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1000uses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796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N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676160" y="464832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ew-Product Development and Product Life-Cycle Strateg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pt testing refers to testing new-product concepts with groups of target consu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200480" cy="2800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development refers to the initial marketing strategy for introducing the product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statement includ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cription of the target mark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 propos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es and profit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usiness analysi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volves a review of the sales, costs, and profit projections to find out whether they satisfy the company’s obj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90360" y="2209320"/>
            <a:ext cx="7086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s the creation and testing of one or more physical versions by the R&amp;D or engineering depart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quires an increase in invest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whether the product idea can be turned into a workable produ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6708600" y="4952880"/>
            <a:ext cx="2156040" cy="142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0912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st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stage at which the product and marketing program are introduced into more realistic marketing sett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s the marketer with experience in testing the product and entire marketing program before full int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09960" cy="37432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7" name="Diagram 6" descr=""/>
          <p:cNvPicPr/>
          <p:nvPr/>
        </p:nvPicPr>
        <p:blipFill>
          <a:blip r:embed="rId1"/>
          <a:stretch/>
        </p:blipFill>
        <p:spPr>
          <a:xfrm>
            <a:off x="1468440" y="1878120"/>
            <a:ext cx="6164280" cy="40892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Test Marke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1" name="Diagram 3" descr=""/>
          <p:cNvPicPr/>
          <p:nvPr/>
        </p:nvPicPr>
        <p:blipFill>
          <a:blip r:embed="rId1"/>
          <a:stretch/>
        </p:blipFill>
        <p:spPr>
          <a:xfrm>
            <a:off x="1822320" y="1852560"/>
            <a:ext cx="5353200" cy="2158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ph09_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4038480"/>
            <a:ext cx="6172200" cy="22748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903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antages of simulated test mark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expensive than other test meth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s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s access by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considered as reliable and accurate due to the controlled set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rcializ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introduc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the new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lanned mark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ll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132440" cy="36288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907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ful new-product development should b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stomer cente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am-ba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stemat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and 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371600" y="21333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Strateg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naging New-Product Developme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duct Life-Cycle Strateg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dditional Product and Service Considera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28240" y="24382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stomer-centered new 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new ways to solve customer problems and create more customer satisfying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9" name="Picture 7" descr="ph09_11"/>
          <p:cNvPicPr/>
          <p:nvPr/>
        </p:nvPicPr>
        <p:blipFill>
          <a:blip r:embed="rId1"/>
          <a:stretch/>
        </p:blipFill>
        <p:spPr>
          <a:xfrm>
            <a:off x="4724280" y="2590920"/>
            <a:ext cx="3733920" cy="24876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am-based new-product develop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Company departments work closely together in cross-functional teams, overlapping in the product-development process to save time and increase effective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040" y="21333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ystematic new-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novative development approach that collects, reviews, evaluates, and manages new-product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s an innovation-oriented cul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ields a large number of new-product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Life Cyc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1" name="Picture 6" descr="fig09_02wo"/>
          <p:cNvPicPr/>
          <p:nvPr/>
        </p:nvPicPr>
        <p:blipFill>
          <a:blip r:embed="rId1"/>
          <a:stretch/>
        </p:blipFill>
        <p:spPr>
          <a:xfrm>
            <a:off x="1676520" y="2057400"/>
            <a:ext cx="6324480" cy="35305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295280" y="114300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les are zero and investment costs mou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low sales growth and profits are nonexisten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apid market acceptance and increasing profit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turi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lowdown in sales growth and profits level off or declin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les fall off and profits drop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5" descr="fig09_03wo"/>
          <p:cNvPicPr/>
          <p:nvPr/>
        </p:nvPicPr>
        <p:blipFill>
          <a:blip r:embed="rId1"/>
          <a:stretch/>
        </p:blipFill>
        <p:spPr>
          <a:xfrm>
            <a:off x="228600" y="2362320"/>
            <a:ext cx="8153280" cy="24256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ow sales grow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ttle or no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distribution and promotion expen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troduction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295280" y="20574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es incr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w competitors enter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 stability or decline to increase vol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educa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s incr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motion and manufacturing costs gain economies of sca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Growth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666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owdown in sa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suppli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itute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capacity leads to compet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motion and R&amp;D to support sales and prof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turity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440" y="2209680"/>
            <a:ext cx="350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mix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turity Stage Modify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4" name="Picture 2" descr="http://upload.wikimedia.org/wikipedia/commons/thumb/f/fa/Globe.svg/600px-Glob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9436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ph09_15"/>
          <p:cNvPicPr/>
          <p:nvPr/>
        </p:nvPicPr>
        <p:blipFill>
          <a:blip r:embed="rId3"/>
          <a:stretch/>
        </p:blipFill>
        <p:spPr>
          <a:xfrm>
            <a:off x="4267080" y="2209680"/>
            <a:ext cx="4191120" cy="339912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Strate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quisi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the buying of a whole company, a patent, or a license to produce someone else’s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ew 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original products, product improvements, product modifications, and new brands developed from the firm’s own research and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Two ways to obtain new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3623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intain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rvest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op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Decline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tional Product and Service Conside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144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blic policy and regulations regarding developing and dropping products, patents, quality, and safe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Decisions and Social Responsibi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9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Product and Service Consider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218960" y="23623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termining what products and services to introduce in which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ndardization versus custom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kaging and labelin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stoms, values, la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International Product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Service Marketing—Challeng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8" name="Picture 7" descr="ph09_16"/>
          <p:cNvPicPr/>
          <p:nvPr/>
        </p:nvPicPr>
        <p:blipFill>
          <a:blip r:embed="rId1"/>
          <a:stretch/>
        </p:blipFill>
        <p:spPr>
          <a:xfrm>
            <a:off x="5334120" y="3429000"/>
            <a:ext cx="3236760" cy="2286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371600" y="1600200"/>
            <a:ext cx="63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Major Stages in New-Product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7" descr="fig09_01wo"/>
          <p:cNvPicPr/>
          <p:nvPr/>
        </p:nvPicPr>
        <p:blipFill>
          <a:blip r:embed="rId1"/>
          <a:stretch/>
        </p:blipFill>
        <p:spPr>
          <a:xfrm>
            <a:off x="380880" y="2743200"/>
            <a:ext cx="8305920" cy="22114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dea gener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ystematic search for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rces of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2" name="Picture 7" descr="ph09_04"/>
          <p:cNvPicPr/>
          <p:nvPr/>
        </p:nvPicPr>
        <p:blipFill>
          <a:blip r:embed="rId1"/>
          <a:stretch/>
        </p:blipFill>
        <p:spPr>
          <a:xfrm>
            <a:off x="4191120" y="3657600"/>
            <a:ext cx="3809880" cy="25383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160" y="18288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the company’s own formal research and development, management and staff, and intrapreneurial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sources outside the company such as customers, competitors, distributors, suppliers, and outside design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Picture 7" descr="ph09_05"/>
          <p:cNvPicPr/>
          <p:nvPr/>
        </p:nvPicPr>
        <p:blipFill>
          <a:blip r:embed="rId1"/>
          <a:stretch/>
        </p:blipFill>
        <p:spPr>
          <a:xfrm>
            <a:off x="5865840" y="3581280"/>
            <a:ext cx="3278160" cy="21812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iting broad communities of people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stomers, employees, independ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ientists and researchers, and even 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blic at large—into the new-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novation proc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rowdsour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dentify good ideas and drop poor ide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-W-W Screening Framework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we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i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or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dea Scre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de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dea for a possible product that the company can see itself offering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concep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detailed version of the idea stated in meaningful consumer ter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mag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way consumers perceive an actual or potential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58:01Z</dcterms:created>
  <dc:creator>utter</dc:creator>
  <dc:description/>
  <dc:language>en-US</dc:language>
  <cp:lastModifiedBy>ksu</cp:lastModifiedBy>
  <dcterms:modified xsi:type="dcterms:W3CDTF">2015-02-19T08:37:42Z</dcterms:modified>
  <cp:revision>117</cp:revision>
  <dc:subject/>
  <dc:title>Slide 1</dc:title>
</cp:coreProperties>
</file>