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49A6-F73C-4570-8974-2CE6EC2014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4D77-8DD0-49E8-B911-2A46492634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4064-7320-4852-A51B-E932582B12F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F51F-39F8-4D2E-BC49-15409ED4EC5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339C-9F28-48ED-BF3B-7A12D36EB8B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6D5F-BC99-4694-B0F5-371016090A3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467C-CD77-48D2-B29D-0863BA1E64D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3446-6CC6-4C7A-B60C-25FDEF8E70D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0813-0ABE-40FE-AFE7-B43526A4A75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F74A-D61A-4007-BE44-966FB73F0C2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C8A0-14F3-487E-9BA6-93729B9393F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34A4-CBC1-4BD8-B6D7-D06FCC81853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E2CE-673D-44E5-8EAB-F9DC057C300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326-0132-493A-A29C-35808A2C74E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2146-9993-4AB5-9C99-9DE39DEF710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71E5-31B8-4AD6-B027-638D7C93CF2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04FF-D848-4BC3-B731-9277B27AEF1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9B30-D93F-4DD1-BB91-1E002D5261D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5B3C-FC75-4B86-80F3-02DB9916FC2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987C-4311-48FB-919B-7241DF557D3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CD97-7FCE-4B29-A22D-67F247787E6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E2C9-F8A7-492D-992F-FE3B8DFCDC8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78E6-4F4B-4747-9ED9-29AE5B2ACDF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EAB7-68EF-41AA-B2AA-84789C6BD4B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EAC-BB05-4EEE-A773-4819EC20603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742E-1F66-4D71-BA5B-B3E961B1854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A0C2-B55E-4E3C-8E73-2A5C3FACC77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ADFD-8DA0-47BF-B8EA-4D44A5FD3D8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2719-2349-4DF1-949C-011AFFED641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4A072-674E-42CD-BC28-38F3C495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7C160-43C0-42C4-817B-A6237EE5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D60B4-4EB0-4AA0-8FDB-44C4214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E60FB-B9C3-4EC7-8061-DA159F6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14E17-6458-478B-A78E-E20DC5DF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67A3-DD09-4DA3-946B-3D37FB5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3020-6C2A-4EFC-AE29-B0267D80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2F7B6-D060-4625-9DE5-5971406E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89726-BC03-4356-9630-563EB9FB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719B-76F1-492B-BA4F-AADFAD71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3D9AF-EFF3-4DAC-A5E8-0314177C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FF1A-F104-44FA-819F-1A0E1692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D0A3D-7C9D-445C-B9ED-7E7144DB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E3F5B-E15A-4008-AC51-B2BCBD24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0BB84-A786-43A1-951A-847DAA0E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0BCC-8BDA-46F9-A964-BD41C77C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AA013-0014-414A-A435-403A3F36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ECB1C-DD18-4A1F-8BF6-68D39271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D49F8-D60D-4FFF-957F-7526D1B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8B3E9-23F1-458D-92F5-B265E5C8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FF1BA-B04C-4AE4-AD4A-7DC1CCB1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024EE-4713-4915-9EEC-70013A92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D3CFF-6B43-4E2D-BF09-AACADE02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ACC6-A4D7-42FB-9ED4-2BF0019C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1B680-2E03-43E6-BD22-A2FFA612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935F1-F0A6-40E2-B328-C8527247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55F4C-9B28-4FBB-B1A3-65D0F32D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E9272-CEDB-4470-9E93-4B18912C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D017-F63F-4317-8FD1-94BAAF18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3557A-4550-40E4-80D3-12FFA924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287AC-59E5-4347-9784-A4678B7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BF3CC-D390-4504-A533-307D71D5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D2FCE-9ED3-4994-A726-7AC047E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04178-C930-40C9-AF9E-58E1CA79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7E48-BECF-4937-9515-F6FF5940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EEAF1-89C2-4B64-A053-E228033E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B7E1C739-F68D-4183-A5CB-DAE3538C5186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3521-882E-450F-9E7F-077F9F20C3D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4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5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3DC6-97DB-49E4-B2C8-A964D911C59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25E6-5E80-4760-8D38-A5C3CFC579D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03ED-4967-4FDF-AB3F-997CC76F38E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A644-FA3D-48BC-B238-3BF0D87E23DD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E139-E5ED-45DB-B7D6-1AB3F72B3A0C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29503EB5-A54D-4A21-8DEC-FBD1597E4DB9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ing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derstanding and Captur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lue-add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aches value-added features and services to differentiate offers, support higher prices, and build pricing po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st-bas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etting prices based on the costs for producing, distributing, and selling the product plus a fair rate of return for effort and ris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based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5238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xed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do not vary with production or sales lev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ecutive sala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riable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vary with the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w materi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tal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sum of the fixed and variable costs for any given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s as a Function of Production Experi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3" name="Picture 7" descr="fig10_03wo"/>
          <p:cNvPicPr/>
          <p:nvPr/>
        </p:nvPicPr>
        <p:blipFill>
          <a:blip r:embed="rId1"/>
          <a:stretch/>
        </p:blipFill>
        <p:spPr>
          <a:xfrm>
            <a:off x="1143000" y="2133720"/>
            <a:ext cx="7116840" cy="29638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erience or learning curve is when average cost falls as production increases because fixed costs are spread over more un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66200" y="114300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s as a Function of Production Experienc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7" descr="fig10_04wo"/>
          <p:cNvPicPr/>
          <p:nvPr/>
        </p:nvPicPr>
        <p:blipFill>
          <a:blip r:embed="rId1"/>
          <a:stretch/>
        </p:blipFill>
        <p:spPr>
          <a:xfrm>
            <a:off x="2133720" y="3200400"/>
            <a:ext cx="4647960" cy="31338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219320" y="18284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plus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lers are certain about co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ces are similar in industry and price competition is minimiz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yers feel it is fai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gnores demand and competitor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217680" y="12193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-Plus Pric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419720" y="19051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eak-eve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otal costs are equal to total revenue and there is no prof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rget retur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he firm will break even or make the profi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’s seek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Break-Even Analysis and Target Profit Pric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148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142640" y="20570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ting prices based on competitors’ strategies, costs, prices, and market offering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will base their judgments of a product’s value on the prices that competitors charge for similar produc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alibri"/>
              </a:rPr>
              <a:t>Competition-based pric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derstanding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pturing Customer Valu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599840" y="2361960"/>
            <a:ext cx="6629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a Pric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jor Pric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914040" y="17521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arget cost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tarts with an ideal selling price based on consumer value considerations and then targets costs that will ensure that the price is m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ganizational considerations includ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should set the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can influence the pr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37720" y="236232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fore setting prices, the marketer must understand the relationship between price and demand for its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he Market and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Picture 7" descr="ph10_08"/>
          <p:cNvPicPr/>
          <p:nvPr/>
        </p:nvPicPr>
        <p:blipFill>
          <a:blip r:embed="rId1"/>
          <a:stretch/>
        </p:blipFill>
        <p:spPr>
          <a:xfrm>
            <a:off x="5562720" y="2590920"/>
            <a:ext cx="2593800" cy="304776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Content Placeholder 6" descr=""/>
          <p:cNvPicPr/>
          <p:nvPr/>
        </p:nvPicPr>
        <p:blipFill>
          <a:blip r:embed="rId1"/>
          <a:stretch/>
        </p:blipFill>
        <p:spPr>
          <a:xfrm>
            <a:off x="1785960" y="2798640"/>
            <a:ext cx="5413320" cy="3132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143000" y="1904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demand cur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the number of units the market will buy in a given period at different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rmally, demand and price are inversely rel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er price = lower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prestige (luxury) goods, higher price can equal higher demand when consumers perceive higher prices as higher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ig10_06wo"/>
          <p:cNvPicPr/>
          <p:nvPr/>
        </p:nvPicPr>
        <p:blipFill>
          <a:blip r:embed="rId1"/>
          <a:stretch/>
        </p:blipFill>
        <p:spPr>
          <a:xfrm>
            <a:off x="228600" y="2286000"/>
            <a:ext cx="8153280" cy="4114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ice elasticity of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llustrates the response of demand to a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hardly changes when there is a small change in pri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changes greatly for a small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0" y="4495680"/>
            <a:ext cx="9144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rice elasticity of dem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=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alibri"/>
                <a:ea typeface="ヒラギノ角ゴ Pro W3"/>
              </a:rPr>
              <a:t>% change in quantity de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% change in pri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Content Placeholder 7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254560" cy="41943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762120" y="24379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amount of money charged for a product or service. It is the sum of all the values that consumers give up in order to gain the benefits of having or using a product or servi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only element in the marketing mix that produces revenue; all other elements represent co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ic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52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800" spc="-1" strike="noStrike">
              <a:solidFill>
                <a:srgbClr val="ffff99"/>
              </a:solidFill>
              <a:latin typeface="Calibri"/>
            </a:endParaRPr>
          </a:p>
        </p:txBody>
      </p:sp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560" y="15238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Value-based pric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ses the buyers’ perceptions of value, not the sellers cost, as the key to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-based pricing is customer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st-based pricing is product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ce is considered before the marketing program is s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8" descr="ph10_02"/>
          <p:cNvPicPr/>
          <p:nvPr/>
        </p:nvPicPr>
        <p:blipFill>
          <a:blip r:embed="rId1"/>
          <a:stretch/>
        </p:blipFill>
        <p:spPr>
          <a:xfrm>
            <a:off x="5562720" y="2743200"/>
            <a:ext cx="28954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7" name="Picture 6" descr="fig10_02wo"/>
          <p:cNvPicPr/>
          <p:nvPr/>
        </p:nvPicPr>
        <p:blipFill>
          <a:blip r:embed="rId1"/>
          <a:stretch/>
        </p:blipFill>
        <p:spPr>
          <a:xfrm>
            <a:off x="838080" y="2266920"/>
            <a:ext cx="7543800" cy="2610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990360" y="19807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od-value pric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fers the right combination of quality and good service at a fair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veryday low pricing (EDLP)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a constant everyday low price with few or no temporary price discou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igh-low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higher prices on an everyday basis but running frequent promotions to lower prices temporarily on selected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3:13:28Z</dcterms:created>
  <dc:creator>utter</dc:creator>
  <dc:description/>
  <dc:language>en-US</dc:language>
  <cp:lastModifiedBy>ksu</cp:lastModifiedBy>
  <cp:lastPrinted>2009-02-10T23:49:25Z</cp:lastPrinted>
  <dcterms:modified xsi:type="dcterms:W3CDTF">2015-02-19T08:28:24Z</dcterms:modified>
  <cp:revision>125</cp:revision>
  <dc:subject/>
  <dc:title>Slide 1</dc:title>
</cp:coreProperties>
</file>