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0FE3-FB16-447F-8BE8-05EE618A04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AE06-9231-43D6-AA16-3BEA096608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3EB-0C08-4286-AB82-2807D87905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C527-8D53-4EAD-AE00-9CB6D1DC6D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C4CE-58A0-4268-88EB-57D286443A2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917-BEC9-4261-9055-0D6CB08DB06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C35-A52B-4F8E-AEF2-34C717B7E22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1D9E-F29E-49E4-AC87-6254823D403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FF3-5381-43D7-A18C-2488CC0ADC6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EAC9-5EAA-4179-A61C-54E76CB8CDC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920-7C4F-4398-966F-291E3DC5E92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B2AF-174A-4D25-A736-DD61DCC4718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FDD-7E8A-47AD-BC5C-74FC4EA36DD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AD27-B44B-4B2B-8D21-3038C8B4036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278-A2C5-4CBE-B3DD-21768FCF5A5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D59D-DA19-41B7-AACF-1FF48A23FD6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CD12-510A-45E4-B851-1490E156DBD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3515-966C-4198-B3B7-193D7336D0A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C0A7-7ACD-4283-B9CC-78DEBE87359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599D-3206-49BD-8EE0-943B14F336F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BBD-CC79-4513-9B34-846DD8C2E60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A95-30C1-4413-8AC8-CBE29EAFE80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093-3AB9-4CA5-B87B-251D42E6871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0254-106B-4173-8B5A-748B9985DE8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074-5894-4F33-8AD5-9182DFBF397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EC23-EBF8-41C8-AF25-D89EDBD825C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48D-B54E-4F66-B316-A3646F05218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35DC-C0BE-44B3-BEBC-6E0D1F11E92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6155-3E46-4321-8DE1-32751ECD778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AFC9-C729-49E4-9E44-5D03BB8F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D96F-64B9-49F1-9258-3EEA4D4F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2064A-005F-4BC9-BC40-EF25D6BC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748F5-5A2E-4637-8766-2BF0F8D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2C38E-6FF3-4AA3-AA92-0BD30C66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DF83C-BC59-4B5A-9858-DA3D7B64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7B8E-0623-4697-8F24-38BADA3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C3365-A265-4A49-B0C6-546B8A1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3C284-1B51-44B6-9DFC-E227553C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3E7E-F54C-4834-A2D6-5E43570B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15CB-A5D7-40A1-B81D-AEA14CE8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130D2-C277-4F0C-BD6D-E05762DB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6796-2AE9-44E0-B5FB-CB4A22CB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F955-AA19-4BE3-B1DD-D702F6A4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7E3FC-666B-4A05-A17C-AB80D6F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54E1-9425-402C-80A1-325488A1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C67C-9470-452F-B297-773C7F0D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39E0-E2D3-4D64-B325-F080D436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E7CC-6AE4-4538-AF20-D830044D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31C7A-1970-4DE9-8231-DBEA0B0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17C9C-9C97-4A47-8FD7-1B02ACA1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AF02-37B6-495F-8791-7164449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19BE-779F-46CB-BC47-5468C482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B3572-3BB8-467F-BCE6-0A8A8932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F44E-29B2-4AF3-BEF3-D99BBD4C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DF5E-E81C-4791-89C8-06FE7A72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F869-AC5A-4B47-92BA-3F0056FE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FE4CB-F1C7-432F-B9E9-7127C6D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1A8C1-1568-4263-A7DD-AF8FB00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24F6E-71D2-4E2D-84DC-25DCB2C5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6595-DC4B-461C-B0C5-0D0CC067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B698-43E3-4680-97A6-04DF03C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BE95C-D4EA-4C88-9ED0-FC5CCC0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AB291-A78E-4724-91CE-4B35E61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E86D-05C6-4329-892A-6AE73809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744E4-31A2-41D2-A534-A61B2546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22C3B581-3E60-4B10-ACE7-05E3C024F5C5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6AE-DD4E-4D05-AE95-9DC4C687743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158-4E84-479D-A980-4658F023470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B8D2-3241-42B0-A33F-6062B25372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7951-6E1E-46D8-95C3-548AF576306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0BBE-04F9-4A8A-871D-2271CE10809B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3B38-6427-4D51-B50B-8569026B9957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5AB3571F-F033-4E03-B310-AE0123EAD852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and Captur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e-add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aches value-added features and services to differentiate offers, support higher prices, and build pricing po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st-bas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tting prices based on the costs for producing, distributing, and selling the product plus a fair rate of return for effort and ri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based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5238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xed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do not vary with production or sales lev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ve sal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riable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vary with the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w mate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tal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sum of the fixed and variable costs for any given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s as a Function of Production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3" name="Picture 7" descr="fig10_03wo"/>
          <p:cNvPicPr/>
          <p:nvPr/>
        </p:nvPicPr>
        <p:blipFill>
          <a:blip r:embed="rId1"/>
          <a:stretch/>
        </p:blipFill>
        <p:spPr>
          <a:xfrm>
            <a:off x="1143000" y="2133720"/>
            <a:ext cx="7116840" cy="29638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ence or learning curve is when average cost falls as production increases because fixed costs are spread over more un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6200" y="114300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s as a Function of Production Experien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7" descr="fig10_04wo"/>
          <p:cNvPicPr/>
          <p:nvPr/>
        </p:nvPicPr>
        <p:blipFill>
          <a:blip r:embed="rId1"/>
          <a:stretch/>
        </p:blipFill>
        <p:spPr>
          <a:xfrm>
            <a:off x="2133720" y="3200400"/>
            <a:ext cx="4647960" cy="3133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193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plus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lers are certain about co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s are similar in industry and price competition is minimiz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yers feel it is fai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gnores demand and competitor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217680" y="12193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-Plus Pric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9720" y="19051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eak-eve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otal costs are equal to total revenue and there is no prof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rget retur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he firm will break even or make the prof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’s see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eak-Even Analysis and Target Profit Pric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ting prices based on competitors’ strategies, costs, prices, and market offering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will base their judgments of a product’s value on the prices that competitors charge for similar produ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alibri"/>
              </a:rPr>
              <a:t>Competition-based pric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turing Customer Va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599840" y="236196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a Pri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Pric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040" y="17521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rget cost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rts with an ideal selling price based on consumer value considerations and then targets costs that will ensure that the price is m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al consideration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should set the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can influence the pr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7720" y="236232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fore setting prices, the marketer must understand the relationship between price and demand for its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he Market and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7" descr="ph10_08"/>
          <p:cNvPicPr/>
          <p:nvPr/>
        </p:nvPicPr>
        <p:blipFill>
          <a:blip r:embed="rId1"/>
          <a:stretch/>
        </p:blipFill>
        <p:spPr>
          <a:xfrm>
            <a:off x="5562720" y="2590920"/>
            <a:ext cx="2593800" cy="30477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Content Placeholder 6" descr=""/>
          <p:cNvPicPr/>
          <p:nvPr/>
        </p:nvPicPr>
        <p:blipFill>
          <a:blip r:embed="rId1"/>
          <a:stretch/>
        </p:blipFill>
        <p:spPr>
          <a:xfrm>
            <a:off x="1785960" y="2798640"/>
            <a:ext cx="5413320" cy="3132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4300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mand cur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the number of units the market will buy in a given period at different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ly, demand and price are inversely re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price = lower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prestige (luxury) goods, higher price can equal higher demand when consumers perceive higher prices as high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ig10_06wo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114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ce elasticity of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llustrates the response of demand to a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hardly changes when there is a small change in pr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changes greatly for a small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0" y="4495680"/>
            <a:ext cx="91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ice elasticity of dem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=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  <a:ea typeface="ヒラギノ角ゴ Pro W3"/>
              </a:rPr>
              <a:t>% change in quantity de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% change in pri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Content Placeholder 7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254560" cy="4194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62120" y="24379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amount of money charged for a product or service. It is the sum of all the values that consumers give up in order to gain the benefits of having or using a product or serv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only element in the marketing mix that produces revenue; all other elements represent co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ic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5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8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560" y="15238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Value-based pric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s the buyers’ perceptions of value, not the sellers cost, as the key to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-based pricing is customer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st-based pricing is product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is considered before the marketing program is s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8" descr="ph10_02"/>
          <p:cNvPicPr/>
          <p:nvPr/>
        </p:nvPicPr>
        <p:blipFill>
          <a:blip r:embed="rId1"/>
          <a:stretch/>
        </p:blipFill>
        <p:spPr>
          <a:xfrm>
            <a:off x="5562720" y="2743200"/>
            <a:ext cx="28954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7" name="Picture 6" descr="fig10_02wo"/>
          <p:cNvPicPr/>
          <p:nvPr/>
        </p:nvPicPr>
        <p:blipFill>
          <a:blip r:embed="rId1"/>
          <a:stretch/>
        </p:blipFill>
        <p:spPr>
          <a:xfrm>
            <a:off x="838080" y="2266920"/>
            <a:ext cx="7543800" cy="2610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90360" y="19807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od-value pric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fers the right combination of quality and good service at a fair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veryday low pricing (EDLP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a constant everyday low price with few or no temporary price discou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gh-low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higher prices on an everyday basis but running frequent promotions to lower prices temporarily on selected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3:13:28Z</dcterms:created>
  <dc:creator>utter</dc:creator>
  <dc:description/>
  <dc:language>en-US</dc:language>
  <cp:lastModifiedBy>ksu</cp:lastModifiedBy>
  <cp:lastPrinted>2009-02-10T23:49:25Z</cp:lastPrinted>
  <dcterms:modified xsi:type="dcterms:W3CDTF">2015-02-19T08:28:24Z</dcterms:modified>
  <cp:revision>125</cp:revision>
  <dc:subject/>
  <dc:title>Slide 1</dc:title>
</cp:coreProperties>
</file>