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F61B-6287-4FBE-B7CF-E6ADF153F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83E7-FB35-4362-8D2D-EA08C16DE6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2EE7-33F1-454A-A09C-96B9A7D1C86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F0C-22AA-4108-9739-07737FD58FD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EC9D-66BD-404E-AE55-4498CE17D94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1F8-5052-44EE-B53E-CB87388C6A0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C33D-7CCB-4A94-9E52-57D73A5E1A2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6578-FD49-4E28-B352-AC0BA78B7D8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3EE-D8FE-406B-B422-B00CB93A02D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004A-18C7-49FF-96AA-E65BCA16B71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1F62-1E81-4653-B583-386097FCEE2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A0AB-FABF-458D-9D2F-48E9752DAEF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A6CE-F963-4161-9A59-8F2A93B924B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D6A8-0CEC-448F-B149-883DF7F9622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65A6-C642-4C07-9F01-56B21BF2628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93A4-6780-4B33-850A-55B1DFF9201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8990-A3C8-4035-9529-9B5CF4FD783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FEDA-563E-4383-B22B-8E5E443FDBB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1134-0A4A-443E-A334-1D726DC4A7B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6083-B00E-4D1E-A702-C55FBA43DD0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963C-D102-44F2-A74F-61538FC54E0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0B5D-9134-4837-BB50-4E85BAC15F0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94F8-CDF5-4397-B3CC-3D6AE62AEC5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E6A4-0AA2-40A2-93C6-DE4CCFCE825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0DC8-C5AC-4A12-B945-FD423F9A33D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93AF-0D40-4DC8-8974-FD4F9117D7F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5819-4E09-4A37-9D51-D3DC463FC21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A765-0ADA-42F7-9ED2-7BF67AD09AE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6EEB-C3A0-43B1-BA92-5089D70D3C6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F9C30-EA39-47BB-B9BA-96D96B74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41DBB-2D7C-4E6F-B365-2113C5DF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EE19-70BD-4619-A783-02B98491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4F4D-96B4-401F-BAAE-102347F5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B5641-8ED5-4478-8604-6DE1C9A6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39A14-BD99-4B5C-BE90-43A77110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CA825-E770-4BD1-8D79-F2E8EC07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B8CB2-8849-4344-94F8-01D7B6E1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547C8-4D7A-4DE5-BD47-837921B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B739-0934-45AC-A26A-45275973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0C97D-1DA7-4433-BB13-FBDAC461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5DD6-2F8C-4459-AA4C-B255841A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FEFB2-35EB-4365-A943-34667383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23FD-E80C-4613-A548-DA6AC0CE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60BEA-F256-4D6E-8D03-B8476FBE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DE5B4-17E2-445A-90D1-5F72A982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A393-47F4-4B21-A0D3-E4BA48E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8E94-D79D-4D33-8E8C-C8B4D9AF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E774E-2E06-47D0-962E-00E4C33C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926B7-016F-48D9-99A2-AA7C7289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4B850-D63E-4B75-8441-4F380671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28C46-E373-48FA-984E-EB76D22C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5D451-4BEF-4B2C-9B94-5BC2C5BF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12F70-A428-4B28-993C-B106244F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874FE-68C6-4194-A75C-FE717C0C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2BF21-1CC9-4F12-BBE9-71405277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47CBE-25D0-4A93-8586-0683FBF0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C902B-C277-430D-928D-EAC9CD37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73543-ABF1-4595-A214-6D611244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93B2-BD7D-4D2D-BEAD-4B9ECD77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4975-1D88-4FE4-B363-FC12F4B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64802-EF61-4130-A9F3-D014FC95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9867-D70C-4802-AD5F-18A869A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9485D-457C-414A-AABE-BC382FF9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527A4-E9F0-446F-877D-69748697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6F512-2004-4B0E-A424-B5920672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3CFD8619-C5A5-44EE-89AF-1B6EC39F456D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E90C-B69D-460A-8FCC-DF764AB45D5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4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5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2C37-3538-44E1-BFE6-243F673E68D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72CD-CFD7-43EB-B2C7-A48522A2AD3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323E-EC4B-4D6A-B8E6-FE82DA0D02F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376F-4550-4AC7-B096-6AF1FB54EE33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71FB-9FA9-4F34-B115-21A0532A1459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A25613F8-14F0-4FA7-B6C0-3BEF2B4ED73D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ing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derstanding and Captur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lue-add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aches value-added features and services to differentiate offers, support higher prices, and build pricing po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st-bas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etting prices based on the costs for producing, distributing, and selling the product plus a fair rate of return for effort and ris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based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5238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xed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do not vary with production or sales lev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ecutive sala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riable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vary with the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w materi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tal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sum of the fixed and variable costs for any given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s as a Function of Production Experi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3" name="Picture 7" descr="fig10_03wo"/>
          <p:cNvPicPr/>
          <p:nvPr/>
        </p:nvPicPr>
        <p:blipFill>
          <a:blip r:embed="rId1"/>
          <a:stretch/>
        </p:blipFill>
        <p:spPr>
          <a:xfrm>
            <a:off x="1143000" y="2133720"/>
            <a:ext cx="7116840" cy="29638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erience or learning curve is when average cost falls as production increases because fixed costs are spread over more un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66200" y="114300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s as a Function of Production Experienc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7" descr="fig10_04wo"/>
          <p:cNvPicPr/>
          <p:nvPr/>
        </p:nvPicPr>
        <p:blipFill>
          <a:blip r:embed="rId1"/>
          <a:stretch/>
        </p:blipFill>
        <p:spPr>
          <a:xfrm>
            <a:off x="2133720" y="3200400"/>
            <a:ext cx="4647960" cy="31338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219320" y="18284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plus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lers are certain about co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ces are similar in industry and price competition is minimiz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yers feel it is fai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gnores demand and competitor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217680" y="12193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-Plus Pric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419720" y="19051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eak-eve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otal costs are equal to total revenue and there is no prof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rget retur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he firm will break even or make the profi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’s seek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Break-Even Analysis and Target Profit Pric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148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142640" y="20570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ting prices based on competitors’ strategies, costs, prices, and market offering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will base their judgments of a product’s value on the prices that competitors charge for similar produc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alibri"/>
              </a:rPr>
              <a:t>Competition-based pric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derstanding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pturing Customer Valu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599840" y="2361960"/>
            <a:ext cx="6629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a Pric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jor Pric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914040" y="17521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arget cost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tarts with an ideal selling price based on consumer value considerations and then targets costs that will ensure that the price is m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ganizational considerations includ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should set the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can influence the pr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37720" y="236232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fore setting prices, the marketer must understand the relationship between price and demand for its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he Market and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Picture 7" descr="ph10_08"/>
          <p:cNvPicPr/>
          <p:nvPr/>
        </p:nvPicPr>
        <p:blipFill>
          <a:blip r:embed="rId1"/>
          <a:stretch/>
        </p:blipFill>
        <p:spPr>
          <a:xfrm>
            <a:off x="5562720" y="2590920"/>
            <a:ext cx="2593800" cy="304776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Content Placeholder 6" descr=""/>
          <p:cNvPicPr/>
          <p:nvPr/>
        </p:nvPicPr>
        <p:blipFill>
          <a:blip r:embed="rId1"/>
          <a:stretch/>
        </p:blipFill>
        <p:spPr>
          <a:xfrm>
            <a:off x="1785960" y="2798640"/>
            <a:ext cx="5413320" cy="3132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143000" y="1904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demand cur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the number of units the market will buy in a given period at different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rmally, demand and price are inversely rel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er price = lower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prestige (luxury) goods, higher price can equal higher demand when consumers perceive higher prices as higher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ig10_06wo"/>
          <p:cNvPicPr/>
          <p:nvPr/>
        </p:nvPicPr>
        <p:blipFill>
          <a:blip r:embed="rId1"/>
          <a:stretch/>
        </p:blipFill>
        <p:spPr>
          <a:xfrm>
            <a:off x="228600" y="2286000"/>
            <a:ext cx="8153280" cy="4114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ice elasticity of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llustrates the response of demand to a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hardly changes when there is a small change in pri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changes greatly for a small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0" y="4495680"/>
            <a:ext cx="9144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rice elasticity of dem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=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alibri"/>
                <a:ea typeface="ヒラギノ角ゴ Pro W3"/>
              </a:rPr>
              <a:t>% change in quantity de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% change in pri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Content Placeholder 7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254560" cy="41943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762120" y="24379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amount of money charged for a product or service. It is the sum of all the values that consumers give up in order to gain the benefits of having or using a product or servi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only element in the marketing mix that produces revenue; all other elements represent co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ic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52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800" spc="-1" strike="noStrike">
              <a:solidFill>
                <a:srgbClr val="ffff99"/>
              </a:solidFill>
              <a:latin typeface="Calibri"/>
            </a:endParaRPr>
          </a:p>
        </p:txBody>
      </p:sp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560" y="15238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Value-based pric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ses the buyers’ perceptions of value, not the sellers cost, as the key to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-based pricing is customer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st-based pricing is product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ce is considered before the marketing program is s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8" descr="ph10_02"/>
          <p:cNvPicPr/>
          <p:nvPr/>
        </p:nvPicPr>
        <p:blipFill>
          <a:blip r:embed="rId1"/>
          <a:stretch/>
        </p:blipFill>
        <p:spPr>
          <a:xfrm>
            <a:off x="5562720" y="2743200"/>
            <a:ext cx="28954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7" name="Picture 6" descr="fig10_02wo"/>
          <p:cNvPicPr/>
          <p:nvPr/>
        </p:nvPicPr>
        <p:blipFill>
          <a:blip r:embed="rId1"/>
          <a:stretch/>
        </p:blipFill>
        <p:spPr>
          <a:xfrm>
            <a:off x="838080" y="2266920"/>
            <a:ext cx="7543800" cy="2610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990360" y="19807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od-value pric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fers the right combination of quality and good service at a fair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veryday low pricing (EDLP)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a constant everyday low price with few or no temporary price discou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igh-low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higher prices on an everyday basis but running frequent promotions to lower prices temporarily on selected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3:13:28Z</dcterms:created>
  <dc:creator>utter</dc:creator>
  <dc:description/>
  <dc:language>en-US</dc:language>
  <cp:lastModifiedBy>ksu</cp:lastModifiedBy>
  <cp:lastPrinted>2009-02-10T23:49:25Z</cp:lastPrinted>
  <dcterms:modified xsi:type="dcterms:W3CDTF">2015-02-19T08:28:24Z</dcterms:modified>
  <cp:revision>125</cp:revision>
  <dc:subject/>
  <dc:title>Slide 1</dc:title>
</cp:coreProperties>
</file>