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CBE7-D6F1-46B7-8F9B-2A2C7137BE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117E-0DAE-42C4-9DB7-200C31148D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2F46-680F-43C2-B316-5622B4357A4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3618-2187-4A21-AAFB-FBFFFC68365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FFA7-3F64-4303-812D-5E21A496534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A749-3269-465A-A187-88FA52B6EB9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EDCA-A0F9-400E-877F-BD8068551E8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9B90-2577-4225-8576-EED733C6905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D8AE-C1EB-4101-8A9B-2C732F86DA9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86A1-D325-4A76-857E-95CA71F4E66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0D0B-D4A6-4D8C-9B7B-9927F07586F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ECF0-5578-476B-89F5-37846F261CF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A467-1EFB-4307-A830-16F5927BF1F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3914-F7D3-4167-801A-11BB17F5DCD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C160-242A-4024-8305-11F4D5518DC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8847-1F7B-4BF3-94EF-652C35FAACD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3F89-6DB8-4A87-B264-57814F08A51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088F-33B6-407D-BD6F-CE1D31A2910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096C-9140-41E1-AE03-F64C32D1568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E7E8-CDBA-430F-8BDA-64E0B9A15F0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19E3-A90D-4481-A784-CC33E079BA3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33B2-A263-421F-A0E4-88D22EC3DD9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EAA5-54B3-46FC-A1BF-060DE4DC792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4911-CFFA-4D18-890A-B6FEBBA7ABD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ADA5-60AB-425D-93EA-E269DCF7080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A896-5D44-449A-AC96-6F2A3271AE0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485-B8BD-48E9-8329-28343C2BE7F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DB51-B206-47BD-8FBE-AB0A80E51AE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15F1-BAF8-4B1C-9112-B85750783F5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18A5-314F-4051-9417-EF06F05E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7138-30C0-46C8-99A4-B17FFB9C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8B0CD-B858-4BCF-973A-154D623D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3B569-7403-4331-8053-688C7CFC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854A-BD3C-4DBE-BD2B-CBDF219D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3DC9-B63E-4D3F-8C82-3E91F82C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664A-749E-4AD2-A10F-E7D9D7B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23EB4-1E76-4895-A924-E137669D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C3F8-4979-4DCE-9A14-FE0C636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E981-D62C-46B7-9932-F63DAB15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4337B-1CE4-4BEC-8746-D78FC119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A7F0E-C9BE-4DF6-9047-3E70A174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D5EE-C2E1-4E59-A21A-CA6580CB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5D28B-86DF-40B7-8B80-EDC04AA6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24AE-B21F-46EC-959F-EB483718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C9583-5DBF-4E5B-B201-ADCEA7CB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9D35E-4DEE-4905-92D3-414147F0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17B76-54C5-4F28-84F9-F200A93E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2E345-12CE-4896-9A18-7E241A36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3B1C-FC65-432C-AE97-15BC4F9B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C3D31-7322-441B-9F43-9B2A8E9B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53EBC-43B6-40D3-9C84-82D7E121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FF1F9-35A6-4D17-832B-5CB57832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A3FBF-7141-470D-A9D4-DF85E109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90278-4EA0-4835-8633-CB07013F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BCF19-DB11-4027-B6F4-DDFF6BFB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3A64-8DF9-4620-88ED-F6C2D87C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0AE3D-E754-478A-B7E4-17917B04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683A9-8789-4C60-908F-F513988C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E7DF4-A453-47CF-B4B6-F21A0E9D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227C5-FA76-4A98-9530-0477C984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CFC3A-5FF2-40AB-BBCA-989912CF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44E25-2CA0-48DA-81E5-20E5105B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4581C-CFD7-4484-BA98-6EC0278F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2C2A3-8C69-4918-8C12-1CC67783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D74E0-B002-4372-8539-3CD50F16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F0CB0196-285D-4C79-B632-B711189F5CB4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C3CF-E674-4D73-B50E-97850DEA6E3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4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5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D5E3-711A-463E-BDE3-CBDCFD82CD7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C447-81EB-4CF9-8EB0-E2C8E410C70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1FB7-7098-42C2-AA63-EF176B96DE2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0FE-EA6C-42DC-B5D0-5585B2EB2B9E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pter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33523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24BD-CA66-4D6D-85CE-F13D65AE5D1E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10-</a:t>
            </a:r>
            <a:fld id="{E18F7175-1CBB-4604-91D4-1EE187060F2D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ing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derstanding and Captur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lue-add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aches value-added features and services to differentiate offers, support higher prices, and build pricing po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st-based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etting prices based on the costs for producing, distributing, and selling the product plus a fair rate of return for effort and ris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based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5238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xed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do not vary with production or sales leve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ecutive sala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ariable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costs that vary with the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3480" indent="-53352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w materi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666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tal cost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the sum of the fixed and variable costs for any given level of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st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sts as a Function of Production Experi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3" name="Picture 7" descr="fig10_03wo"/>
          <p:cNvPicPr/>
          <p:nvPr/>
        </p:nvPicPr>
        <p:blipFill>
          <a:blip r:embed="rId1"/>
          <a:stretch/>
        </p:blipFill>
        <p:spPr>
          <a:xfrm>
            <a:off x="1143000" y="2133720"/>
            <a:ext cx="7116840" cy="29638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752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erience or learning curve is when average cost falls as production increases because fixed costs are spread over more un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66200" y="114300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s as a Function of Production Experienc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7" descr="fig10_04wo"/>
          <p:cNvPicPr/>
          <p:nvPr/>
        </p:nvPicPr>
        <p:blipFill>
          <a:blip r:embed="rId1"/>
          <a:stretch/>
        </p:blipFill>
        <p:spPr>
          <a:xfrm>
            <a:off x="2133720" y="3200400"/>
            <a:ext cx="4647960" cy="31338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219320" y="1828440"/>
            <a:ext cx="7162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-plus pricing adds a standard markup to the cost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llers are certain about cos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ces are similar in industry and price competition is minimiz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yers feel it is fai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gnores demand and competitor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217680" y="12193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Cost-Plus Pric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419720" y="19051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eak-eve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otal costs are equal to total revenue and there is no prof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arget return pric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price at which the firm will break even or make the profi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’s seek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Break-Even Analysis and Target Profit Pric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148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142640" y="20570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tting prices based on competitors’ strategies, costs, prices, and market offering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will base their judgments of a product’s value on the prices that competitors charge for similar produc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alibri"/>
              </a:rPr>
              <a:t>Competition-based pric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cing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derstanding an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pturing Customer Valu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599840" y="2361960"/>
            <a:ext cx="6629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a Pric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jor Pric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914040" y="175212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arget cost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tarts with an ideal selling price based on consumer value considerations and then targets costs that will ensure that the price is m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143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ganizational considerations includ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should set the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o can influence the pr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37720" y="236232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fore setting prices, the marketer must understand the relationship between price and demand for its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he Market and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Picture 7" descr="ph10_08"/>
          <p:cNvPicPr/>
          <p:nvPr/>
        </p:nvPicPr>
        <p:blipFill>
          <a:blip r:embed="rId1"/>
          <a:stretch/>
        </p:blipFill>
        <p:spPr>
          <a:xfrm>
            <a:off x="5562720" y="2590920"/>
            <a:ext cx="2593800" cy="304776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Content Placeholder 6" descr=""/>
          <p:cNvPicPr/>
          <p:nvPr/>
        </p:nvPicPr>
        <p:blipFill>
          <a:blip r:embed="rId1"/>
          <a:stretch/>
        </p:blipFill>
        <p:spPr>
          <a:xfrm>
            <a:off x="1785960" y="2798640"/>
            <a:ext cx="5413320" cy="3132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143000" y="1904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demand cur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the number of units the market will buy in a given period at different pr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rmally, demand and price are inversely rela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gher price = lower dem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prestige (luxury) goods, higher price can equal higher demand when consumers perceive higher prices as higher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ther Internal and External Considerations Affecting Price Decision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ig10_06wo"/>
          <p:cNvPicPr/>
          <p:nvPr/>
        </p:nvPicPr>
        <p:blipFill>
          <a:blip r:embed="rId1"/>
          <a:stretch/>
        </p:blipFill>
        <p:spPr>
          <a:xfrm>
            <a:off x="228600" y="2286000"/>
            <a:ext cx="8153280" cy="4114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s Affecting Price Decisions</a:t>
            </a:r>
            <a:br>
              <a:rPr sz="3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ice elasticity of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llustrates the response of demand to a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hardly changes when there is a small change in pri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astic deman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occurs when demand changes greatly for a small change in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0" y="4495680"/>
            <a:ext cx="9144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Price elasticity of demand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=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alibri"/>
                <a:ea typeface="ヒラギノ角ゴ Pro W3"/>
              </a:rPr>
              <a:t>% change in quantity deman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% change in pric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ernal and External Consideration Affecting Price Decision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Content Placeholder 7" descr=""/>
          <p:cNvPicPr/>
          <p:nvPr/>
        </p:nvPicPr>
        <p:blipFill>
          <a:blip r:embed="rId1"/>
          <a:stretch/>
        </p:blipFill>
        <p:spPr>
          <a:xfrm>
            <a:off x="2030400" y="1981080"/>
            <a:ext cx="5254560" cy="41943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762120" y="24379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amount of money charged for a product or service. It is the sum of all the values that consumers give up in order to gain the benefits of having or using a product or servi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only element in the marketing mix that produces revenue; all other elements represent co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ic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152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800" spc="-1" strike="noStrike">
              <a:solidFill>
                <a:srgbClr val="ffff99"/>
              </a:solidFill>
              <a:latin typeface="Calibri"/>
            </a:endParaRPr>
          </a:p>
        </p:txBody>
      </p:sp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772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560" y="15238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Value-based pric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ses the buyers’ perceptions of value, not the sellers cost, as the key to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-based pricing is customer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st-based pricing is product driv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ce is considered before the marketing program is s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8" descr="ph10_02"/>
          <p:cNvPicPr/>
          <p:nvPr/>
        </p:nvPicPr>
        <p:blipFill>
          <a:blip r:embed="rId1"/>
          <a:stretch/>
        </p:blipFill>
        <p:spPr>
          <a:xfrm>
            <a:off x="5562720" y="2743200"/>
            <a:ext cx="28954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7" name="Picture 6" descr="fig10_02wo"/>
          <p:cNvPicPr/>
          <p:nvPr/>
        </p:nvPicPr>
        <p:blipFill>
          <a:blip r:embed="rId1"/>
          <a:stretch/>
        </p:blipFill>
        <p:spPr>
          <a:xfrm>
            <a:off x="838080" y="2266920"/>
            <a:ext cx="7543800" cy="2610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990360" y="19807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od-value pricing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fers the right combination of quality and good service at a fair pr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veryday low pricing (EDLP)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a constant everyday low price with few or no temporary price discou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 Pricing Strate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igh-low pric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ing higher prices on an everyday basis but running frequent promotions to lower prices temporarily on selected i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ustomer Value-Based Pri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3:13:28Z</dcterms:created>
  <dc:creator>utter</dc:creator>
  <dc:description/>
  <dc:language>en-US</dc:language>
  <cp:lastModifiedBy>ksu</cp:lastModifiedBy>
  <cp:lastPrinted>2009-02-10T23:49:25Z</cp:lastPrinted>
  <dcterms:modified xsi:type="dcterms:W3CDTF">2015-02-19T08:28:24Z</dcterms:modified>
  <cp:revision>125</cp:revision>
  <dc:subject/>
  <dc:title>Slide 1</dc:title>
</cp:coreProperties>
</file>