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CB588-08E7-41F7-8656-A27E0BA8E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E7BAB-DBC5-4753-AF32-E0C8217F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49FD-DB6F-44AA-A8AA-1260C2D0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A64F4-48A9-4CDD-AEF0-238194C4E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E949E-5FB2-498C-810C-F2574249C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48E1E-335B-4219-8BDC-F0CE4ACE4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27445-FDFF-4A1F-ADEF-3D375885E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352D0-689D-4238-92B5-87D3E49F1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E1698-5E8B-4B5C-842E-3E0E159E1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C347-7BD7-402B-BE48-A13406E1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DDF88-266A-493B-90DD-60809234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388D-DF2D-4A41-B21F-C1FCB3FF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E042B-144F-4517-94F0-6E08CF6C9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441E1-1012-48D6-A252-BB5F92A80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44ADC-E7C7-4EFA-8B1B-069CD3E00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9E0EC-ED61-49C7-99C8-FDC5E2334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FC2E6-2195-4F8B-95B5-48183DC34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8BF4-ADA4-488F-BF28-E0726117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6BD26-E2B7-400C-A1FC-EABFC1FF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4F8D-EEA9-45B3-8ED5-89782885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6044-EB9F-4051-8915-71E3585A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85E7-DF76-4CC0-BD51-55A28B05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CC62-C2F7-4322-BCF9-9B171AF4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8CFA-4DEC-4BFD-9B03-4BCCE1DEE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AB6B-1339-4E5F-9E25-3C937EFB51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3EAC-6BDF-49BD-8B0A-D48DEA5361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ar-SA" sz="3900" spc="-1" strike="noStrike">
                <a:solidFill>
                  <a:srgbClr val="669999"/>
                </a:solidFill>
                <a:latin typeface="Arial"/>
              </a:rPr>
              <a:t>وكالات التنشئة الاجتماعية</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5138640"/>
          </a:xfrm>
          <a:prstGeom prst="rect">
            <a:avLst/>
          </a:prstGeom>
          <a:noFill/>
          <a:ln w="0">
            <a:noFill/>
          </a:ln>
        </p:spPr>
        <p:txBody>
          <a:bodyPr lIns="90000" rIns="90000" tIns="46800" bIns="46800" anchor="t">
            <a:normAutofit fontScale="77000"/>
          </a:bodyPr>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وكالات هي تنظيمات او مؤسسات او هيئات اجتماعية او جماعات او وسائط,,وسميت بذلك لان المجتمع يوكل اليها أمر التنشئة الاجتماعية.</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ذه الوكالات خاضعة للمراقبة ومعرضه للتقويم ويوجه اليها الإثابة والنقد.</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ناك العديد من الوكالات مثل:الاسرة ,الحضانة ,الروضة ,المدرسة ,جماعة الرفاق ,دور العبادة .....وغيرها</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قد أشارت البحوث الى أنه عندما توجد تباينات تولد صراعات بين أفكار الطفل , فإن التنشئة تميل الى أن تصبح بطيئة وغير مؤكدة , والعكس.</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وهناك اربع أركان للوكالات هي: المكافآت والتسامح والقبول والعقاب.</a:t>
            </a:r>
            <a:endParaRPr b="0" lang="en-US" sz="2600" spc="-1" strike="noStrike">
              <a:solidFill>
                <a:srgbClr val="000000"/>
              </a:solidFill>
              <a:latin typeface="Arial"/>
            </a:endParaRPr>
          </a:p>
          <a:p>
            <a:pPr marL="263880" indent="-26388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ن التنشئة لا تعلم الطفل الخوف من الاشياء المحسوسة كي يقول الطفل لنسفه لابد ان تكون ذا سلوك حسن حتى تبتعد عن العقاب ويكون الضبط هنا من خلال الشعور بالعار ولكن التنشئة تعلم الطفل ان يضبط نفسه من خلال الشعور بالذن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5</a:t>
            </a:r>
            <a:r>
              <a:rPr b="1" lang="ar-SA" sz="3000" spc="-1" strike="noStrike">
                <a:solidFill>
                  <a:srgbClr val="800080"/>
                </a:solidFill>
                <a:latin typeface="Arial"/>
              </a:rPr>
              <a:t>/نماذج لعلاقة بين المدرس والتلميذ أثناء تنشئته:</a:t>
            </a:r>
            <a:endParaRPr b="0" lang="en-US" sz="3000" spc="-1" strike="noStrike">
              <a:solidFill>
                <a:srgbClr val="000000"/>
              </a:solidFill>
              <a:latin typeface="Arial"/>
            </a:endParaRPr>
          </a:p>
          <a:p>
            <a:pPr marL="537120" indent="-537120" algn="r" rtl="1">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الفتور</a:t>
            </a:r>
            <a:endParaRPr b="0" lang="en-US" sz="3000" spc="-1" strike="noStrike">
              <a:solidFill>
                <a:srgbClr val="000000"/>
              </a:solidFill>
              <a:latin typeface="Arial"/>
            </a:endParaRPr>
          </a:p>
          <a:p>
            <a:pPr marL="537120" indent="-537120" algn="r" rtl="1">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المبالغة في حب التلميذ </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جـ- الاعتراف بشخصية الطفل</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6</a:t>
            </a:r>
            <a:r>
              <a:rPr b="1" lang="ar-SA" sz="3000" spc="-1" strike="noStrike">
                <a:solidFill>
                  <a:srgbClr val="800080"/>
                </a:solidFill>
                <a:latin typeface="Arial"/>
              </a:rPr>
              <a:t>/معالجة ما يصيب المدرس من إحباط أثناء قيامه بالتنشئة:</a:t>
            </a:r>
            <a:endParaRPr b="0" lang="en-US" sz="3000" spc="-1" strike="noStrike">
              <a:solidFill>
                <a:srgbClr val="000000"/>
              </a:solidFill>
              <a:latin typeface="Arial"/>
            </a:endParaRPr>
          </a:p>
          <a:p>
            <a:pPr marL="5371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00080"/>
                </a:solidFill>
                <a:latin typeface="Arial"/>
              </a:rPr>
              <a:t>7</a:t>
            </a:r>
            <a:r>
              <a:rPr b="1" lang="ar-SA" sz="3000" spc="-1" strike="noStrike">
                <a:solidFill>
                  <a:srgbClr val="800080"/>
                </a:solidFill>
                <a:latin typeface="Arial"/>
              </a:rPr>
              <a:t>/ رؤية الآباء لدور المدرسة في تنشئة الأطفا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5000"/>
          </a:bodyPr>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يبدي الأطفال بعض مظاهر المشاركة الوجدانية مع بعضهم البعض من سن مبكرة تبدأ من العام الأول للميلاد , ويزداد تأثير الاقران في سن المدرسة وقبلها بقليل.</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فيتحول نمط لعب الأطفال من اللعب الانعزالي الى اللعب الاجتماعي.</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الجماعة جملة أفراد او اشخاص تربط بينهم علاقات متبادلة ومتداخلة ويضمهم وعى,ولا يمثل دخول فرد فيها زيادة عددية فحسب بل تتغيرا كيفيا فيما يخص تأثيراتها الوظيفية السلوكية فيه</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تقوم جماعة الرفاق او الصحبة او الاقران او الشلة بدور هام في عملية التنشئة الاجتماعية.</a:t>
            </a:r>
            <a:endParaRPr b="0" lang="en-US" sz="2600" spc="-1" strike="noStrike">
              <a:solidFill>
                <a:srgbClr val="000000"/>
              </a:solidFill>
              <a:latin typeface="Arial"/>
            </a:endParaRPr>
          </a:p>
          <a:p>
            <a:pPr marL="291600" indent="-291600" algn="r" rtl="1">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ويحرص الفرد في أي مرحلة عمرية يصل أليها على الانتماء الى جماعة من الأصدقاء يتقاربون معه في العم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71" name="PlaceHolder 2"/>
          <p:cNvSpPr>
            <a:spLocks noGrp="1"/>
          </p:cNvSpPr>
          <p:nvPr>
            <p:ph/>
          </p:nvPr>
        </p:nvSpPr>
        <p:spPr>
          <a:xfrm>
            <a:off x="457200" y="1719000"/>
            <a:ext cx="8229600" cy="4949640"/>
          </a:xfrm>
          <a:prstGeom prst="rect">
            <a:avLst/>
          </a:prstGeom>
          <a:noFill/>
          <a:ln w="0">
            <a:noFill/>
          </a:ln>
        </p:spPr>
        <p:txBody>
          <a:bodyPr lIns="90000" rIns="90000" tIns="46800" bIns="46800" anchor="t">
            <a:normAutofit fontScale="92000"/>
          </a:bodyPr>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1</a:t>
            </a:r>
            <a:r>
              <a:rPr b="1" lang="ar-SA" sz="2100" spc="-1" strike="noStrike">
                <a:solidFill>
                  <a:srgbClr val="ff0066"/>
                </a:solidFill>
                <a:latin typeface="Arial"/>
              </a:rPr>
              <a:t>/البنية الاجتماعية لجماعة الرفاق وأثرها على التنشئة الاجتماعية للأطفال:</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حجم جماعة الرفاق.</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ستمرارية جماعة الرفاق. </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ـ- التجانس العمري والجنسي.</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ة اللعب:</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ة اللعبه:</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شلة (العصبة):</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عصابة:</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ماعات تلقائية النشأة ورسمية التكوين:</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2</a:t>
            </a:r>
            <a:r>
              <a:rPr b="1" lang="ar-SA" sz="2100" spc="-1" strike="noStrike">
                <a:solidFill>
                  <a:srgbClr val="ff0066"/>
                </a:solidFill>
                <a:latin typeface="Arial"/>
              </a:rPr>
              <a:t>/ موقع الأساليب المقصودة والغير مقصودة للتنشئة في جماعة الأقران.</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ثواب والعقاب.</a:t>
            </a:r>
            <a:endParaRPr b="0" lang="en-US" sz="2100" spc="-1" strike="noStrike">
              <a:solidFill>
                <a:srgbClr val="000000"/>
              </a:solidFill>
              <a:latin typeface="Arial"/>
            </a:endParaRPr>
          </a:p>
          <a:p>
            <a:pPr marL="525600" indent="-525600" algn="r" rtl="1">
              <a:lnSpc>
                <a:spcPct val="8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النماذج</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66"/>
                </a:solidFill>
                <a:latin typeface="Arial"/>
              </a:rPr>
              <a:t>ج- المشاركة في اللعب</a:t>
            </a:r>
            <a:endParaRPr b="0" lang="en-US" sz="2100" spc="-1" strike="noStrike">
              <a:solidFill>
                <a:srgbClr val="000000"/>
              </a:solidFill>
              <a:latin typeface="Arial"/>
            </a:endParaRPr>
          </a:p>
          <a:p>
            <a:pPr marL="5256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خامساً: جماعة الرفاق (الأقران – الأنداد )</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7000"/>
          </a:bodyPr>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Arial"/>
              </a:rPr>
              <a:t>3</a:t>
            </a:r>
            <a:r>
              <a:rPr b="1" lang="en-US" sz="3000" spc="-1" strike="noStrike">
                <a:solidFill>
                  <a:srgbClr val="ff0066"/>
                </a:solidFill>
                <a:latin typeface="Arial"/>
              </a:rPr>
              <a:t>/معالجة أثار الاحباط أثناء التنشئة داخل جماعة الأقران.</a:t>
            </a: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Arial"/>
              </a:rPr>
              <a:t>4</a:t>
            </a:r>
            <a:r>
              <a:rPr b="1" lang="en-US" sz="3000" spc="-1" strike="noStrike">
                <a:solidFill>
                  <a:srgbClr val="ff0066"/>
                </a:solidFill>
                <a:latin typeface="Arial"/>
              </a:rPr>
              <a:t>/رؤية الآباء لدور جماعة الأقران في تنشئة الطفل.</a:t>
            </a: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0066"/>
                </a:solidFill>
                <a:latin typeface="Arial"/>
              </a:rPr>
              <a:t>انته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أولاً : الأسرة</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6000"/>
          </a:bodyPr>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الأسرة نظام اجتماعي معقد يتضمن وظائف متداخلة بين أعضائها وهذه الوظائف متغيرة.</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والأسرة هي الخلية الاولى التي يحتك الطفل بها وهي المكان الاول الذي تبدأ فيه معالم التنشئة الاجتماعية للطفل ابتداءً من عامه الثاني</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كانت الاسر في القديم كبيره وممتدة اما الان فالشائع الان الاسرة النواة التي تشمل الأبوين والأولاد , ولا يعني تقلص الاسرة من حيث الامتداد تناقص تأثيرها من حيث العمق.</a:t>
            </a:r>
            <a:endParaRPr b="0" lang="en-US" sz="2600" spc="-1" strike="noStrike">
              <a:solidFill>
                <a:srgbClr val="000000"/>
              </a:solidFill>
              <a:latin typeface="Arial"/>
            </a:endParaRPr>
          </a:p>
          <a:p>
            <a:pPr marL="294840" indent="-29484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66"/>
                </a:solidFill>
                <a:latin typeface="Arial"/>
              </a:rPr>
              <a:t>ان التفاعل الاجتماعي داخل الاسرة لا يحدث بين الطفل ووالديه بل يحدث بين كل افراد الاسرة بالإضافة الى الظروف والمتغيرات المحيطة.</a:t>
            </a:r>
            <a:endParaRPr b="0" lang="en-US" sz="2600" spc="-1" strike="noStrike">
              <a:solidFill>
                <a:srgbClr val="000000"/>
              </a:solidFill>
              <a:latin typeface="Arial"/>
            </a:endParaRPr>
          </a:p>
          <a:p>
            <a:pPr marL="294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484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أسرة</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5138640"/>
          </a:xfrm>
          <a:prstGeom prst="rect">
            <a:avLst/>
          </a:prstGeom>
          <a:noFill/>
          <a:ln w="0">
            <a:noFill/>
          </a:ln>
        </p:spPr>
        <p:txBody>
          <a:bodyPr lIns="90000" rIns="90000" tIns="46800" bIns="46800" anchor="t">
            <a:normAutofit fontScale="91000"/>
          </a:bodyPr>
          <a:p>
            <a:pPr marL="312120" indent="-3121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أهمية الاسرة في تنشئة الأبناء:</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1</a:t>
            </a:r>
            <a:r>
              <a:rPr b="1" lang="en-US" sz="2100" spc="-1" strike="noStrike">
                <a:solidFill>
                  <a:srgbClr val="ff0066"/>
                </a:solidFill>
                <a:latin typeface="Arial"/>
              </a:rPr>
              <a:t>- هي المكان الاول الذي يتم فيه الاتصال الاجتماعي</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2</a:t>
            </a:r>
            <a:r>
              <a:rPr b="1" lang="en-US" sz="2100" spc="-1" strike="noStrike">
                <a:solidFill>
                  <a:srgbClr val="ff0066"/>
                </a:solidFill>
                <a:latin typeface="Arial"/>
              </a:rPr>
              <a:t>- ان القيم والعادات والتقاليد والاتجاهات تمر بعملية تنقية من خلال الوالدين , ويعتبر الاباء بمثابة مصفاة ونماذج امام الأطفال يقلدونه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3</a:t>
            </a:r>
            <a:r>
              <a:rPr b="1" lang="en-US" sz="2100" spc="-1" strike="noStrike">
                <a:solidFill>
                  <a:srgbClr val="ff0066"/>
                </a:solidFill>
                <a:latin typeface="Arial"/>
              </a:rPr>
              <a:t>- المكان الوحيد في مرحلة المهد وما بعدها </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4</a:t>
            </a:r>
            <a:r>
              <a:rPr b="1" lang="en-US" sz="2100" spc="-1" strike="noStrike">
                <a:solidFill>
                  <a:srgbClr val="ff0066"/>
                </a:solidFill>
                <a:latin typeface="Arial"/>
              </a:rPr>
              <a:t>- يزود الأطفال ببذور العواطف والاتجاهات اللازمة للحياة في المجتمع.</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5</a:t>
            </a:r>
            <a:r>
              <a:rPr b="1" lang="en-US" sz="2100" spc="-1" strike="noStrike">
                <a:solidFill>
                  <a:srgbClr val="ff0066"/>
                </a:solidFill>
                <a:latin typeface="Arial"/>
              </a:rPr>
              <a:t>- الاسرة أول موصل لثقافة المجتمع.</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6</a:t>
            </a:r>
            <a:r>
              <a:rPr b="1" lang="en-US" sz="2100" spc="-1" strike="noStrike">
                <a:solidFill>
                  <a:srgbClr val="ff0066"/>
                </a:solidFill>
                <a:latin typeface="Arial"/>
              </a:rPr>
              <a:t>-الاسرة أكثر دوما وأثقل وزنا من باقي الوكالات .</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7</a:t>
            </a:r>
            <a:r>
              <a:rPr b="1" lang="en-US" sz="2100" spc="-1" strike="noStrike">
                <a:solidFill>
                  <a:srgbClr val="ff0066"/>
                </a:solidFill>
                <a:latin typeface="Arial"/>
              </a:rPr>
              <a:t>- ان التفاعل بين الاسرة والطفل يكون مكثفاً وأطول زمني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Arial"/>
              </a:rPr>
              <a:t>8</a:t>
            </a:r>
            <a:r>
              <a:rPr b="1" lang="en-US" sz="2100" spc="-1" strike="noStrike">
                <a:solidFill>
                  <a:srgbClr val="ff0066"/>
                </a:solidFill>
                <a:latin typeface="Arial"/>
              </a:rPr>
              <a:t>-الاسرة هي الجماعة المرجعية التي يعتمد عليها الطفل.</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أن عملية التنشئة الاجتماعية تبدأ من السنة الأولى من حياة الإنسان إلا انها</a:t>
            </a:r>
            <a:endParaRPr b="0" lang="en-US" sz="2100" spc="-1" strike="noStrike">
              <a:solidFill>
                <a:srgbClr val="000000"/>
              </a:solidFill>
              <a:latin typeface="Arial"/>
            </a:endParaRPr>
          </a:p>
          <a:p>
            <a:pPr marL="3121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ff0066"/>
                </a:solidFill>
                <a:latin typeface="Arial"/>
              </a:rPr>
              <a:t>تصبح بطريقة واعية ومنظمة مع بداية التحرك ونشاط الأطفال وبدء اللغة.....</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أسرة</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3000"/>
          </a:bodyPr>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الطبقة التي تنتمي اليها الاسرة :</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حجم الاسر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0066"/>
                </a:solidFill>
                <a:latin typeface="Arial"/>
              </a:rPr>
              <a:t>الترتيب الميلادي للطفل: الطفل الاول , اواسط المواليد ,الطفل الاخير</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1</a:t>
            </a:r>
            <a:r>
              <a:rPr b="1" lang="en-US" sz="2600" spc="-1" strike="noStrike">
                <a:solidFill>
                  <a:srgbClr val="ff0066"/>
                </a:solidFill>
                <a:latin typeface="Arial"/>
              </a:rPr>
              <a:t>/الاساليب المقصودة والغير مقصودة للتنشئة الاجتماعية في الاسرة :أ-الاستجابة لأفعال الطفل ب- الثواب والعقاب للطفل ج-إشراك الطفل في بعض المواقف الاجتماعية د- التوجيه الصريح لسلوك الطفل.</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2</a:t>
            </a:r>
            <a:r>
              <a:rPr b="1" lang="en-US" sz="2600" spc="-1" strike="noStrike">
                <a:solidFill>
                  <a:srgbClr val="ff0066"/>
                </a:solidFill>
                <a:latin typeface="Arial"/>
              </a:rPr>
              <a:t>/معالجة اثار الاحباط على الأطفال أثناء تنشئتهم اجتماعياً داخل الاسر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3</a:t>
            </a:r>
            <a:r>
              <a:rPr b="1" lang="en-US" sz="2600" spc="-1" strike="noStrike">
                <a:solidFill>
                  <a:srgbClr val="ff0066"/>
                </a:solidFill>
                <a:latin typeface="Arial"/>
              </a:rPr>
              <a:t>/معالجة ما يصيب الوالدين من احباط اثناء قيامهم بالتنشئ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ثانياً: دار الحضانة</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fontScale="82000"/>
          </a:bodyPr>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بعض الاسر تلحق بأطفالها بين الثانيه والرابعة من العمر الى دار 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قيمه من إرسال الطفل الى الحضانة هي انها تهيئ له الفرصة للعب مع أطفال من نفس عمره تقريباً في جو تنظم فيه الالعاب والأدوات بما يتناسب مع عمرهم ودون قيود.</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فإذا كانت دار الحضانة مكانا جيدا وكان تكيف الطفل معها مناسبا فان الطفل سيقضي وقتا ممتعا بالإضافة انه سيكتسب خبره تزيد من تكيفه في حياته الاجتماعي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1</a:t>
            </a:r>
            <a:r>
              <a:rPr b="1" lang="ar-SA" sz="2100" spc="-1" strike="noStrike">
                <a:solidFill>
                  <a:srgbClr val="3333cc"/>
                </a:solidFill>
                <a:latin typeface="Arial"/>
              </a:rPr>
              <a:t>/ بنية الحضارة وأثرها في التنشئة الاجتماعية للأطفال:</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حجم سكان الروض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تفاوت العمري والجنسي لمجتمع الحضان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2</a:t>
            </a:r>
            <a:r>
              <a:rPr b="1" lang="ar-SA" sz="2100" spc="-1" strike="noStrike">
                <a:solidFill>
                  <a:srgbClr val="3333cc"/>
                </a:solidFill>
                <a:latin typeface="Arial"/>
              </a:rPr>
              <a:t>/الأساليب المقصودة والغير مقصودة للتنشئة الاجتماعية ب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برنامج الحضانة.</a:t>
            </a:r>
            <a:endParaRPr b="0" lang="en-US" sz="2100" spc="-1" strike="noStrike">
              <a:solidFill>
                <a:srgbClr val="000000"/>
              </a:solidFill>
              <a:latin typeface="Arial"/>
            </a:endParaRPr>
          </a:p>
          <a:p>
            <a:pPr marL="468720" indent="-468720" algn="r" rtl="1">
              <a:lnSpc>
                <a:spcPct val="90000"/>
              </a:lnSpc>
              <a:spcBef>
                <a:spcPts val="524"/>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المناشط الحر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3</a:t>
            </a:r>
            <a:r>
              <a:rPr b="1" lang="ar-SA" sz="2100" spc="-1" strike="noStrike">
                <a:solidFill>
                  <a:srgbClr val="3333cc"/>
                </a:solidFill>
                <a:latin typeface="Arial"/>
              </a:rPr>
              <a:t>/ المشرفة وعملية التنشئة الاجتماعية للطفل بالحضانة.</a:t>
            </a:r>
            <a:endParaRPr b="0" lang="en-US" sz="2100" spc="-1" strike="noStrike">
              <a:solidFill>
                <a:srgbClr val="000000"/>
              </a:solidFill>
              <a:latin typeface="Arial"/>
            </a:endParaRPr>
          </a:p>
          <a:p>
            <a:pPr marL="4687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3333cc"/>
                </a:solidFill>
                <a:latin typeface="Arial"/>
              </a:rPr>
              <a:t>4</a:t>
            </a:r>
            <a:r>
              <a:rPr b="1" lang="ar-SA" sz="2100" spc="-1" strike="noStrike">
                <a:solidFill>
                  <a:srgbClr val="3333cc"/>
                </a:solidFill>
                <a:latin typeface="Arial"/>
              </a:rPr>
              <a:t>/ رؤية الآباء لدور الحضانة في تنشئة الأطفال.</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ثالثاً: رياض الأطفال </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85000"/>
          </a:bodyPr>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يجب الأخذ بفكرة جعل روضة الأطفال جزءا معترفا به من كل مدرسة ابتدائية رسمية </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العوامل التي أدت الى انتشار رياض الأطفال:</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خروج المرأة للعمل,ظهور الاسرة قليلة الحجم او الاسرة النواة بالإضافة الى ان البيئة خارج المنزل أصبحت خطرة وصاخبة ولا تشبع حاجات الأطفال للانطلاق.</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من ابرز العلماء: *فروبل  * منتسوري</a:t>
            </a:r>
            <a:endParaRPr b="0" lang="en-US" sz="3000" spc="-1" strike="noStrike">
              <a:solidFill>
                <a:srgbClr val="000000"/>
              </a:solidFill>
              <a:latin typeface="Arial"/>
            </a:endParaRPr>
          </a:p>
          <a:p>
            <a:pPr marL="420840" indent="-42084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أهداف الروضة </a:t>
            </a:r>
            <a:endParaRPr b="0" lang="en-US" sz="3000" spc="-1" strike="noStrike">
              <a:solidFill>
                <a:srgbClr val="000000"/>
              </a:solidFill>
              <a:latin typeface="Arial"/>
            </a:endParaRPr>
          </a:p>
          <a:p>
            <a:pPr marL="420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9900"/>
                </a:solidFill>
                <a:latin typeface="Arial"/>
              </a:rPr>
              <a:t>1</a:t>
            </a:r>
            <a:r>
              <a:rPr b="1" lang="ar-SA" sz="3000" spc="-1" strike="noStrike">
                <a:solidFill>
                  <a:srgbClr val="009900"/>
                </a:solidFill>
                <a:latin typeface="Arial"/>
              </a:rPr>
              <a:t>/ بنية الروضة وأثرها في التنشئة الاجتماعية للأطفال.</a:t>
            </a:r>
            <a:endParaRPr b="0" lang="en-US" sz="3000" spc="-1" strike="noStrike">
              <a:solidFill>
                <a:srgbClr val="000000"/>
              </a:solidFill>
              <a:latin typeface="Arial"/>
            </a:endParaRPr>
          </a:p>
          <a:p>
            <a:pPr marL="420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رياض الأطفال</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2</a:t>
            </a:r>
            <a:r>
              <a:rPr b="1" lang="ar-SA" sz="2600" spc="-1" strike="noStrike">
                <a:solidFill>
                  <a:srgbClr val="009900"/>
                </a:solidFill>
                <a:latin typeface="Arial"/>
              </a:rPr>
              <a:t>/الأساليب المقصودة والغير مقصودة للتنشئة الاجتماعية في الروضة:</a:t>
            </a:r>
            <a:endParaRPr b="0" lang="en-US" sz="2600" spc="-1" strike="noStrike">
              <a:solidFill>
                <a:srgbClr val="000000"/>
              </a:solidFill>
              <a:latin typeface="Arial"/>
            </a:endParaRPr>
          </a:p>
          <a:p>
            <a:pPr marL="548640" indent="-548640" algn="r" rtl="1">
              <a:lnSpc>
                <a:spcPct val="90000"/>
              </a:lnSpc>
              <a:spcBef>
                <a:spcPts val="64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نظام برنامج الطفل في الروضة.</a:t>
            </a:r>
            <a:endParaRPr b="0" lang="en-US" sz="2600" spc="-1" strike="noStrike">
              <a:solidFill>
                <a:srgbClr val="000000"/>
              </a:solidFill>
              <a:latin typeface="Arial"/>
            </a:endParaRPr>
          </a:p>
          <a:p>
            <a:pPr marL="548640" indent="-548640" algn="r" rtl="1">
              <a:lnSpc>
                <a:spcPct val="90000"/>
              </a:lnSpc>
              <a:spcBef>
                <a:spcPts val="64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 المناشط الحرة المنضبطة</a:t>
            </a: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3</a:t>
            </a:r>
            <a:r>
              <a:rPr b="1" lang="ar-SA" sz="2600" spc="-1" strike="noStrike">
                <a:solidFill>
                  <a:srgbClr val="009900"/>
                </a:solidFill>
                <a:latin typeface="Arial"/>
              </a:rPr>
              <a:t>/المشرفة وعملية التنشئة للطفل في الروضة:</a:t>
            </a:r>
            <a:endParaRPr b="0" lang="en-US" sz="2600" spc="-1" strike="noStrike">
              <a:solidFill>
                <a:srgbClr val="000000"/>
              </a:solidFill>
              <a:latin typeface="Arial"/>
            </a:endParaRPr>
          </a:p>
          <a:p>
            <a:pPr marL="548640" indent="-548640" algn="r" rtl="1">
              <a:lnSpc>
                <a:spcPct val="90000"/>
              </a:lnSpc>
              <a:spcBef>
                <a:spcPts val="49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المشرفة كمنفذة للبرنامج.</a:t>
            </a:r>
            <a:endParaRPr b="0" lang="en-US" sz="2000" spc="-1" strike="noStrike">
              <a:solidFill>
                <a:srgbClr val="000000"/>
              </a:solidFill>
              <a:latin typeface="Arial"/>
            </a:endParaRPr>
          </a:p>
          <a:p>
            <a:pPr marL="548640" indent="-548640" algn="r" rtl="1">
              <a:lnSpc>
                <a:spcPct val="90000"/>
              </a:lnSpc>
              <a:spcBef>
                <a:spcPts val="499"/>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المشرفة كنموذج سلوك.</a:t>
            </a:r>
            <a:endParaRPr b="0" lang="en-US" sz="20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Arial"/>
              </a:rPr>
              <a:t>جـ- المشرفة كمنفذة للمكافأة ولتعزيز السلوك الايجابي</a:t>
            </a:r>
            <a:r>
              <a:rPr b="1" lang="ar-SA" sz="2600" spc="-1" strike="noStrike">
                <a:solidFill>
                  <a:srgbClr val="009900"/>
                </a:solidFill>
                <a:latin typeface="Arial"/>
              </a:rPr>
              <a:t>.</a:t>
            </a: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486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9900"/>
                </a:solidFill>
                <a:latin typeface="Arial"/>
              </a:rPr>
              <a:t>4</a:t>
            </a:r>
            <a:r>
              <a:rPr b="1" lang="ar-SA" sz="2600" spc="-1" strike="noStrike">
                <a:solidFill>
                  <a:srgbClr val="009900"/>
                </a:solidFill>
                <a:latin typeface="Arial"/>
              </a:rPr>
              <a:t>/رؤية الآباء لدور الروضة في تنشئة الأطف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84000"/>
          </a:bodyPr>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هو المجال التربوي المقصود الذي تحدث فيه الظواهر التربوية التعليمية وهو بالتالي مجال نفسي واجتماعي في نفس الوقت.</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الأسباب التي جعلت من المجال المدرسي مجالاً عاطفياً:</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أنه مجال معرفة ولا يمكن أن توجد آلية معرفية بدون عناصر وجدانية.</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انه من حيث هو مجال نفسي واجتماعي هو مجال علاقات انسانية وحينما تكون علاقات انسانية تكون هناك عواطف.</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1</a:t>
            </a:r>
            <a:r>
              <a:rPr b="1" lang="ar-SA" sz="2600" spc="-1" strike="noStrike">
                <a:solidFill>
                  <a:srgbClr val="800080"/>
                </a:solidFill>
                <a:latin typeface="Arial"/>
              </a:rPr>
              <a:t>/ بنية المدرسة الاجتماعية وأثرها في التنشئة الاجتماعية للأطفال:</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حجم سكان المدرسة.</a:t>
            </a:r>
            <a:endParaRPr b="0" lang="en-US" sz="2600" spc="-1" strike="noStrike">
              <a:solidFill>
                <a:srgbClr val="000000"/>
              </a:solidFill>
              <a:latin typeface="Arial"/>
            </a:endParaRPr>
          </a:p>
          <a:p>
            <a:pPr marL="479880" indent="-479880" algn="r" rtl="1">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حركة المجتمع المدرسي.</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جـ- التفاوت العمري والجنسي لمجتمع المدرسة.</a:t>
            </a:r>
            <a:endParaRPr b="0" lang="en-US" sz="2600" spc="-1" strike="noStrike">
              <a:solidFill>
                <a:srgbClr val="000000"/>
              </a:solidFill>
              <a:latin typeface="Arial"/>
            </a:endParaRPr>
          </a:p>
          <a:p>
            <a:pPr marL="4798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00080"/>
                </a:solidFill>
                <a:latin typeface="Arial"/>
              </a:rPr>
              <a:t>د- التفاوت الاجتماعي والاقتصادي لمجتمع المدرس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مدرسة</a:t>
            </a:r>
            <a:endParaRPr b="1" lang="en-US" sz="3900" spc="-1" strike="noStrike">
              <a:solidFill>
                <a:srgbClr val="330066"/>
              </a:solidFill>
              <a:latin typeface="Arial"/>
            </a:endParaRPr>
          </a:p>
        </p:txBody>
      </p:sp>
      <p:sp>
        <p:nvSpPr>
          <p:cNvPr id="165" name="PlaceHolder 2"/>
          <p:cNvSpPr>
            <a:spLocks noGrp="1"/>
          </p:cNvSpPr>
          <p:nvPr>
            <p:ph/>
          </p:nvPr>
        </p:nvSpPr>
        <p:spPr>
          <a:xfrm>
            <a:off x="457200" y="1719000"/>
            <a:ext cx="8229600" cy="4949640"/>
          </a:xfrm>
          <a:prstGeom prst="rect">
            <a:avLst/>
          </a:prstGeom>
          <a:noFill/>
          <a:ln w="0">
            <a:noFill/>
          </a:ln>
        </p:spPr>
        <p:txBody>
          <a:bodyPr lIns="90000" rIns="90000" tIns="46800" bIns="46800" anchor="t">
            <a:normAutofit fontScale="95000"/>
          </a:bodyPr>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2</a:t>
            </a:r>
            <a:r>
              <a:rPr b="1" lang="ar-SA" sz="2100" spc="-1" strike="noStrike">
                <a:solidFill>
                  <a:srgbClr val="800080"/>
                </a:solidFill>
                <a:latin typeface="Arial"/>
              </a:rPr>
              <a:t>/ الأساليب المقصودة والغير مقصودة للتنشئة الاجتماعية في المدرس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أ- عن طريق المقررات المدرسي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ب- الأنشطة المدرسي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جـ- الثواب والعقاب للتلميذ.</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د- تحقيق استقلالية الطفل عن الأسر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هـ- تقديم نماذج للسلوك.</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3</a:t>
            </a:r>
            <a:r>
              <a:rPr b="1" lang="ar-SA" sz="2100" spc="-1" strike="noStrike">
                <a:solidFill>
                  <a:srgbClr val="800080"/>
                </a:solidFill>
                <a:latin typeface="Arial"/>
              </a:rPr>
              <a:t>/ معالجة آثار الاحباط على  التلاميذ أثناء تنشئتهم داخل المدرس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4</a:t>
            </a:r>
            <a:r>
              <a:rPr b="1" lang="ar-SA" sz="2100" spc="-1" strike="noStrike">
                <a:solidFill>
                  <a:srgbClr val="800080"/>
                </a:solidFill>
                <a:latin typeface="Arial"/>
              </a:rPr>
              <a:t>/ المدرس وعملية التنشئة الاجتماعية:</a:t>
            </a:r>
            <a:endParaRPr b="0" lang="en-US" sz="2100" spc="-1" strike="noStrike">
              <a:solidFill>
                <a:srgbClr val="000000"/>
              </a:solidFill>
              <a:latin typeface="Arial"/>
            </a:endParaRPr>
          </a:p>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المدرس كمنفذ سياسة.</a:t>
            </a:r>
            <a:endParaRPr b="0" lang="en-US" sz="2100" spc="-1" strike="noStrike">
              <a:solidFill>
                <a:srgbClr val="000000"/>
              </a:solidFill>
              <a:latin typeface="Arial"/>
            </a:endParaRPr>
          </a:p>
          <a:p>
            <a:pPr marL="542880" indent="-542880" algn="r" rtl="1">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المدرس كممثل سلطة.</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جـ- المدرس كنموذج سلوك.</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د- المدرس كممثل قيم.</a:t>
            </a:r>
            <a:endParaRPr b="0" lang="en-US" sz="2100" spc="-1" strike="noStrike">
              <a:solidFill>
                <a:srgbClr val="000000"/>
              </a:solidFill>
              <a:latin typeface="Arial"/>
            </a:endParaRPr>
          </a:p>
          <a:p>
            <a:pPr marL="5428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80"/>
                </a:solidFill>
                <a:latin typeface="Arial"/>
              </a:rPr>
              <a:t>هـ- المدرس ككفيل أو معيل.</a:t>
            </a:r>
            <a:endParaRPr b="0" lang="en-US" sz="2100" spc="-1" strike="noStrike">
              <a:solidFill>
                <a:srgbClr val="000000"/>
              </a:solidFill>
              <a:latin typeface="Arial"/>
            </a:endParaRPr>
          </a:p>
          <a:p>
            <a:pPr marL="54288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3:39:10Z</dcterms:created>
  <dc:creator>ATIG</dc:creator>
  <dc:description/>
  <dc:language>en-US</dc:language>
  <cp:lastModifiedBy>ATIG</cp:lastModifiedBy>
  <dcterms:modified xsi:type="dcterms:W3CDTF">2011-04-05T13:28:59Z</dcterms:modified>
  <cp:revision>5</cp:revision>
  <dc:subject/>
  <dc:title> وكالات التنشئة الاجتماعية</dc:title>
</cp:coreProperties>
</file>