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7D6E-846D-431B-BA07-32DAD530B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7FDB-5E53-4C5F-B6F6-0432CDEC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3B2E2-5974-4AD2-8875-454C1B068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FE265-37A1-415B-95EE-05D137AD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0CA4F-4863-4C5F-BF91-79EBE07BE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3C7C-A4B9-40AD-A610-E7003602F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E01C-CD88-4948-B52B-346AF5FD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0EA33-5A51-411F-95EC-863637F62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9C037-D106-4D67-A400-55489560C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A3464-D624-4D39-90EA-1DC80A240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09E20-8AB0-48F0-8654-38C3F51B2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2B3BE-A3A1-4305-B378-11757624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23086-D65E-438C-A511-27D530A5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0BB4C-B307-46C4-99C3-AFD95ABA0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70495-6E3C-4A8A-A801-E8FDA8668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EE92D-7CBB-4695-9657-03206B808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AE8F0-04D3-4E5C-80BB-8BEEE0058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6688-48FB-4191-8514-A2CFB71C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FC19-62F8-4485-BE3B-2C7199AD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C5A7-E4E6-4D90-BDDF-C94E52DF5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F215-C613-4AD2-910F-088BF54F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FF62-3E33-4C1C-BC61-13051F55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7B5A-8712-4CAE-A154-0D300047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E7E9-0789-428D-B852-06E224915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DC0C-1FBC-49D7-A007-07EC02D8630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C709-C1D5-45E8-9BA3-193A2873013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2636640"/>
            <a:ext cx="7313400" cy="1152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وكالات التنشئة الاجتماعية (</a:t>
            </a:r>
            <a:r>
              <a:rPr b="1" lang="ar-SA" sz="3600" spc="-1" strike="noStrike">
                <a:solidFill>
                  <a:srgbClr val="006666"/>
                </a:solidFill>
                <a:latin typeface="Arial"/>
              </a:rPr>
              <a:t>2</a:t>
            </a:r>
            <a:r>
              <a:rPr b="1" lang="ar-SA" sz="3600" spc="-1" strike="noStrike">
                <a:solidFill>
                  <a:srgbClr val="006666"/>
                </a:solidFill>
                <a:latin typeface="Arial"/>
              </a:rPr>
              <a:t>)**</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08" name="PlaceHolder 2"/>
          <p:cNvSpPr>
            <a:spLocks noGrp="1"/>
          </p:cNvSpPr>
          <p:nvPr>
            <p:ph/>
          </p:nvPr>
        </p:nvSpPr>
        <p:spPr>
          <a:xfrm>
            <a:off x="1369800" y="1557360"/>
            <a:ext cx="7313400" cy="5300640"/>
          </a:xfrm>
          <a:prstGeom prst="rect">
            <a:avLst/>
          </a:prstGeom>
          <a:noFill/>
          <a:ln w="0">
            <a:noFill/>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2</a:t>
            </a:r>
            <a:r>
              <a:rPr b="1" lang="ar-SA" sz="3200" spc="-1" strike="noStrike">
                <a:solidFill>
                  <a:srgbClr val="000000"/>
                </a:solidFill>
                <a:latin typeface="Verdana"/>
              </a:rPr>
              <a:t>- الإذاعة:</a:t>
            </a:r>
            <a:endParaRPr b="0" lang="en-US" sz="32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أن الاذاعة لم تتغلغل الى عالم الطفل كما فعل التلفزيون.</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لإذاعة لا تجد لها مكاناً إلا عند اطفال القرى والبدو البعيدة عن الكهرباء وخلاف</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ذلك</a:t>
            </a:r>
            <a:r>
              <a:rPr b="1" lang="ar-SA" sz="2100" spc="-1" strike="noStrike">
                <a:solidFill>
                  <a:srgbClr val="008000"/>
                </a:solidFill>
                <a:latin typeface="Verdana"/>
              </a:rPr>
              <a:t> .</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وبالرغم من ذلك الا ان الاذاعة تدع خيال الطفل ينساب لتصور المشاهد والأحداث</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بعكس التلفزيون الذي يصر الاحداث فلا تدع خيال الطفل يعمل.</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a:t>
            </a:r>
            <a:r>
              <a:rPr b="1" lang="ar-SA" sz="2100" spc="-1" strike="noStrike">
                <a:solidFill>
                  <a:srgbClr val="000000"/>
                </a:solidFill>
                <a:latin typeface="Verdana"/>
              </a:rPr>
              <a:t>وان الاستماع الى المذياع لا يبدأ عند الكثير من الأطفال إلا بعد سن السادسة من</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العمر,فهو يشعره بالاستقلالية وخاصة اذا كان يمتلك جهازاً لنفسه نظرا لانخفاض</a:t>
            </a:r>
            <a:endParaRPr b="0" lang="en-US" sz="2100" spc="-1" strike="noStrike">
              <a:solidFill>
                <a:srgbClr val="000000"/>
              </a:solidFill>
              <a:latin typeface="Verdana"/>
            </a:endParaRPr>
          </a:p>
          <a:p>
            <a:pPr marL="30852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ثمن المذياع مقارنة بالثمن الباهظ للتلفزيون.</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912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10" name="PlaceHolder 2"/>
          <p:cNvSpPr>
            <a:spLocks noGrp="1"/>
          </p:cNvSpPr>
          <p:nvPr>
            <p:ph/>
          </p:nvPr>
        </p:nvSpPr>
        <p:spPr>
          <a:xfrm>
            <a:off x="1369800" y="1557360"/>
            <a:ext cx="7313400" cy="5616720"/>
          </a:xfrm>
          <a:prstGeom prst="rect">
            <a:avLst/>
          </a:prstGeom>
          <a:noFill/>
          <a:ln w="0">
            <a:noFill/>
          </a:ln>
        </p:spPr>
        <p:txBody>
          <a:bodyPr anchor="t">
            <a:normAutofit fontScale="86000"/>
          </a:bodyPr>
          <a:p>
            <a:pPr marL="2948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3</a:t>
            </a:r>
            <a:r>
              <a:rPr b="1" lang="ar-SA" sz="3200" spc="-1" strike="noStrike">
                <a:solidFill>
                  <a:srgbClr val="000000"/>
                </a:solidFill>
                <a:latin typeface="Verdana"/>
              </a:rPr>
              <a:t>- السينما وأفلام الفيديو :</a:t>
            </a:r>
            <a:endParaRPr b="0" lang="en-US" sz="32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سينما والفيديو تخاطب الطفل مثلها مثل التلفزيون حاستين للطفل ,وان كانت تتميز عليه بشعور جديد وهو الاحساس بالخصوص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في معظم الحالات يولع الأطفال بالسينما وشاشتها الكبيرة وهذا الجمهور الغفير الذي حضر للمشاهد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في سن الخامسة يكون ندرة من الأطفال قد شاهدوا فيلماً خاصاً بالأطفال على شاشة السينما نظرا لشيوع التلفزيون وانشغال الوالدين,ولكن بعض اطفال الطبقة الوسطى والمرتفعة قد يكونوا شاهدوا بالفيديو فلما للصغار.</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ما في سن الثامنة وما بعدها يطلب الكثير منهم الذهاب للسينما مرافقين لأحد الراشدين او شراء واحد من افلام الفيديو المخصص للأطفال.</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يفضل الأطفال أفلام الحيوانات والطيور والأفلام الراقصة والغنائية ,فغالبية الأطفال يكرهون القصص الغرام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حينما يصل الأطفال العاشرة من العمر فإنهم يفضلون افلام الحركة والحرب إذا كانوا ذكوراً , ويفضل الاناث أفلام الغناء والموسيقى , وكل من الذكور والإناث يفضلون افلام المغامرات الا انهم مازالوا يكرهون الافلام الغرامية.</a:t>
            </a:r>
            <a:endParaRPr b="0" lang="en-US" sz="2000" spc="-1" strike="noStrike">
              <a:solidFill>
                <a:srgbClr val="000000"/>
              </a:solidFill>
              <a:latin typeface="Verdana"/>
            </a:endParaRPr>
          </a:p>
          <a:p>
            <a:pPr marL="294840" indent="-29484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معظم الأطفال يتقبلون عدم سماح الوالدين لهم برؤية بعض الأفلام أو التردد على دور السينما .</a:t>
            </a:r>
            <a:endParaRPr b="0" lang="en-US" sz="2000" spc="-1" strike="noStrike">
              <a:solidFill>
                <a:srgbClr val="000000"/>
              </a:solidFill>
              <a:latin typeface="Verdana"/>
            </a:endParaRPr>
          </a:p>
          <a:p>
            <a:pPr marL="294840" indent="-29484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تشجع المشاهد السينمائية على تعزيز المفاهيم وامتصاص القيم وتعزيز الاتجاهات وتنمي لدى الأطفال المشاركة الوجدانية</a:t>
            </a:r>
            <a:r>
              <a:rPr b="1" lang="ar-SA"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12" name="PlaceHolder 2"/>
          <p:cNvSpPr>
            <a:spLocks noGrp="1"/>
          </p:cNvSpPr>
          <p:nvPr>
            <p:ph/>
          </p:nvPr>
        </p:nvSpPr>
        <p:spPr>
          <a:xfrm>
            <a:off x="1369800" y="1557360"/>
            <a:ext cx="7313400" cy="5300640"/>
          </a:xfrm>
          <a:prstGeom prst="rect">
            <a:avLst/>
          </a:prstGeom>
          <a:noFill/>
          <a:ln w="0">
            <a:noFill/>
          </a:ln>
        </p:spPr>
        <p:txBody>
          <a:bodyPr anchor="t">
            <a:normAutofit fontScale="72000"/>
          </a:bodyPr>
          <a:p>
            <a:pPr marL="246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Verdana"/>
              </a:rPr>
              <a:t>4</a:t>
            </a:r>
            <a:r>
              <a:rPr b="1" lang="ar-SA" sz="3200" spc="-1" strike="noStrike" u="sng">
                <a:solidFill>
                  <a:srgbClr val="000000"/>
                </a:solidFill>
                <a:uFillTx/>
                <a:latin typeface="Verdana"/>
              </a:rPr>
              <a:t>- المسرح والسيرك :</a:t>
            </a:r>
            <a:endParaRPr b="0" lang="en-US" sz="3200" spc="-1" strike="noStrike">
              <a:solidFill>
                <a:srgbClr val="000000"/>
              </a:solidFill>
              <a:latin typeface="Verdana"/>
            </a:endParaRPr>
          </a:p>
          <a:p>
            <a:pPr marL="246960" indent="-24696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يمثل المسرح بجوه ومقاعده مكانا غريبا وعجيبا بالنسبة ل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وتصبح الصورة التي كان يشاهدها في التلفزيون والسينما مجسمة</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بأناس يراهم يتحركون على مقربة منه والطفل مازال جالسا على مقعد</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متمتعا بالخصوصية والاستقلالية ومشاركا جمعا كبيرا من ا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46960" indent="-24696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ان الأطفال يثار بينهم الضحك في جرعات جماعية يسعد لها الأطفال</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عند سماعها وينفجرون اكثر بالضحك , مما يجعل البهجة تملأ النفوس</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في المواقف الدرامية والفاكهية التي تلقن الطفل قيما وسلوكيات لها</a:t>
            </a:r>
            <a:endParaRPr b="0" lang="en-US" sz="2500" spc="-1" strike="noStrike">
              <a:solidFill>
                <a:srgbClr val="000000"/>
              </a:solidFill>
              <a:latin typeface="Verdana"/>
            </a:endParaRPr>
          </a:p>
          <a:p>
            <a:pPr marL="24696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أهميتها في المجتمع الذي يعيش فيه.</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4" name="PlaceHolder 2"/>
          <p:cNvSpPr>
            <a:spLocks noGrp="1"/>
          </p:cNvSpPr>
          <p:nvPr>
            <p:ph/>
          </p:nvPr>
        </p:nvSpPr>
        <p:spPr>
          <a:xfrm>
            <a:off x="1369800" y="1557360"/>
            <a:ext cx="7313400" cy="5300640"/>
          </a:xfrm>
          <a:prstGeom prst="rect">
            <a:avLst/>
          </a:prstGeom>
          <a:noFill/>
          <a:ln w="0">
            <a:noFill/>
          </a:ln>
        </p:spPr>
        <p:txBody>
          <a:bodyPr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5</a:t>
            </a:r>
            <a:r>
              <a:rPr b="1" lang="ar-SA" sz="3200" spc="-1" strike="noStrike">
                <a:solidFill>
                  <a:srgbClr val="000000"/>
                </a:solidFill>
                <a:latin typeface="Verdana"/>
              </a:rPr>
              <a:t>- المطبوعات:</a:t>
            </a:r>
            <a:endParaRPr b="0" lang="en-US" sz="32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لا تزال كلمة المطبوعة والصور محتفظة بقوة تأثيرها على الأطفال والكبار على حد</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سواء , وتشمل المادة المطبوعة أنواع عديدة منها: المجلات والكتب والقصص ودوائر</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معارف والمعاجم المصور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تكتسب المادة المطبوعة جاذبية خاصة بها , فالطفل يستطيع قراءة ما يريد في أي</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قت يريد ويستطيع ان يسترجع قراءاته إذا أراد .</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تشير نتائج البحوث ان الأطفال المنحرفين أكثر إقبالاً على المجلات الفاكهية المتصل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بالجريمة والعنف عن الأطفال العاديين.</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عتبر المسلسلات الهزلية المصورة أكثر المواد المطبوعة قدرة على جذب الطفل إثارة</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هتمامه وميله للقراءة .</a:t>
            </a:r>
            <a:endParaRPr b="0" lang="en-US" sz="2000" spc="-1" strike="noStrike">
              <a:solidFill>
                <a:srgbClr val="000000"/>
              </a:solidFill>
              <a:latin typeface="Verdana"/>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4697280"/>
          </a:xfrm>
          <a:prstGeom prst="rect">
            <a:avLst/>
          </a:prstGeom>
          <a:noFill/>
          <a:ln w="0">
            <a:noFill/>
          </a:ln>
        </p:spPr>
        <p:txBody>
          <a:bodyPr anchor="t">
            <a:normAutofit fontScale="85000"/>
          </a:bodyPr>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لأطفال في سن الخامسة يهتمون بصور هذه الكتب والمجلات وبعضهم يطلب أن تقرأ له وان تشرح , وفي سن السابعة يكون كثير من الأطفال قادرين على شئ من القراءة البسيطة بأنفسهم , وعند الثامنة يقرؤون كتب المغامرات والعنف , وبسن التاسعة يقبل الاطفال على شراء واستعارة الكتب.</a:t>
            </a: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مع سن العاشرة والحادية عشر نجد الاهتمام بالكتب اصبح أشد و بدؤا ينظمونها ويصنفونها , والويل اذا نقص او اختفى كتاب او مجلة.</a:t>
            </a: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ن الأطفال المستقرين عاطفياً وفي بيوت وأسر عادية تكون قراءتهم للكتب مثلها مثل بقية أنواع التسلية ,حتى وان اكنت فيها من العنف والعاطفة الشديدة ولا تسبب الجنوح ولا حتى الاضطراب العاطفي.</a:t>
            </a:r>
            <a:endParaRPr b="0" lang="en-US" sz="2400" spc="-1" strike="noStrike">
              <a:solidFill>
                <a:srgbClr val="000000"/>
              </a:solidFill>
              <a:latin typeface="Verdana"/>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18" name="PlaceHolder 2"/>
          <p:cNvSpPr>
            <a:spLocks noGrp="1"/>
          </p:cNvSpPr>
          <p:nvPr>
            <p:ph/>
          </p:nvPr>
        </p:nvSpPr>
        <p:spPr>
          <a:xfrm>
            <a:off x="1369800" y="1484280"/>
            <a:ext cx="7313400" cy="5616720"/>
          </a:xfrm>
          <a:prstGeom prst="rect">
            <a:avLst/>
          </a:prstGeom>
          <a:noFill/>
          <a:ln w="0">
            <a:noFill/>
          </a:ln>
        </p:spPr>
        <p:txBody>
          <a:bodyPr anchor="t">
            <a:normAutofit fontScale="78000"/>
          </a:bodyPr>
          <a:p>
            <a:pPr marL="430920" indent="0" algn="r" rtl="1">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Verdana"/>
              </a:rPr>
              <a:t>6</a:t>
            </a:r>
            <a:r>
              <a:rPr b="1" lang="ar-SA" sz="2900" spc="-1" strike="noStrike">
                <a:solidFill>
                  <a:srgbClr val="000000"/>
                </a:solidFill>
                <a:latin typeface="Verdana"/>
              </a:rPr>
              <a:t>- وسائل التنشئة الاجتماعية في الوسائط الإعلامية:</a:t>
            </a:r>
            <a:endParaRPr b="0" lang="en-US" sz="29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كل وسائل الاعلام ماعدا المسرح والسيرك لا يحدث فيها تلاق مباشر بين الموجه والطفل ,الا ان</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هدافها خلف توسل واضعيها واستعانتهم بمضامين متنوعه من قصة او برنامج اذاعي اوتلفزيوني</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و رواية سينمائية.</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سائل موجهي وواضعي المضمون:</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أ-التكرار:</a:t>
            </a:r>
            <a:r>
              <a:rPr b="1" lang="ar-SA" sz="1800" spc="-1" strike="noStrike">
                <a:solidFill>
                  <a:srgbClr val="008000"/>
                </a:solidFill>
                <a:latin typeface="Verdana"/>
              </a:rPr>
              <a:t> تعتمد الوسيلة الى تكرار المضامين او مفاهيم او احداث معينة او شخصيات ,ومثل هذا</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كرار يعرف الأطفال لمجتمعهم والقيم والتقاليد السائدة فيه.</a:t>
            </a:r>
            <a:endParaRPr b="0" lang="en-US" sz="1800" spc="-1" strike="noStrike">
              <a:solidFill>
                <a:srgbClr val="000000"/>
              </a:solidFill>
              <a:latin typeface="Verdana"/>
            </a:endParaRPr>
          </a:p>
          <a:p>
            <a:pPr marL="4309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ب- الجاذبية.:</a:t>
            </a:r>
            <a:r>
              <a:rPr b="1" lang="ar-SA" sz="1800" spc="-1" strike="noStrike">
                <a:solidFill>
                  <a:srgbClr val="008000"/>
                </a:solidFill>
                <a:latin typeface="Verdana"/>
              </a:rPr>
              <a:t>اصبح اسلوب الجذب قوي يشد الأطفال حتى لو كانوا احياناً يرغبون في النوم.</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ج- الدعوة للاشتراك:</a:t>
            </a:r>
            <a:r>
              <a:rPr b="1" lang="ar-SA" sz="1800" spc="-1" strike="noStrike">
                <a:solidFill>
                  <a:srgbClr val="008000"/>
                </a:solidFill>
                <a:latin typeface="Verdana"/>
              </a:rPr>
              <a:t> تعتمد بعض وسائل الاعلام دعوة الأطفال للمشاركة الفعلية اما بالكتابة او</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رسم او بالتحدث عبر الهاتف لابداء ارائهم او حل مشكله .وربما استخدمت وسيلة الاعلام وسائل</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للتحفيز مثل المكافآت المادية والمعنوية.</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د- النموذج: </a:t>
            </a:r>
            <a:r>
              <a:rPr b="1" lang="ar-SA" sz="1800" spc="-1" strike="noStrike">
                <a:solidFill>
                  <a:srgbClr val="008000"/>
                </a:solidFill>
                <a:latin typeface="Verdana"/>
              </a:rPr>
              <a:t>النماذج قد تكون أشخاصاً لهم من المكانة الاجتماعية,وايأً كان نوع النموذج</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فإن المضمون فيه دعوة صريحة كي يفعل الطفل مثله او دعوه صريحة للابتعاد عن هذا</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سلوك.</a:t>
            </a:r>
            <a:endParaRPr b="0" lang="en-US" sz="1800" spc="-1" strike="noStrike">
              <a:solidFill>
                <a:srgbClr val="000000"/>
              </a:solidFill>
              <a:latin typeface="Verdana"/>
            </a:endParaRPr>
          </a:p>
          <a:p>
            <a:pPr marL="430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0" name="PlaceHolder 2"/>
          <p:cNvSpPr>
            <a:spLocks noGrp="1"/>
          </p:cNvSpPr>
          <p:nvPr>
            <p:ph/>
          </p:nvPr>
        </p:nvSpPr>
        <p:spPr>
          <a:xfrm>
            <a:off x="1369800" y="1557360"/>
            <a:ext cx="7313400" cy="5300640"/>
          </a:xfrm>
          <a:prstGeom prst="rect">
            <a:avLst/>
          </a:prstGeom>
          <a:noFill/>
          <a:ln w="0">
            <a:noFill/>
          </a:ln>
        </p:spPr>
        <p:txBody>
          <a:bodyPr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سائل مستقبلي المضمون (الأطفال):</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الامتصاص:</a:t>
            </a:r>
            <a:r>
              <a:rPr b="1" lang="ar-SA" sz="2400" spc="-1" strike="noStrike">
                <a:solidFill>
                  <a:srgbClr val="008000"/>
                </a:solidFill>
                <a:latin typeface="Verdana"/>
              </a:rPr>
              <a:t>أي استيعاب ما يعرض , وللتكرار والإعادة أهمية كبيرة في استيعاب الطفل للمفاهيم والمدركات.</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ب-التقليد:</a:t>
            </a:r>
            <a:r>
              <a:rPr b="1" lang="ar-SA" sz="2400" spc="-1" strike="noStrike">
                <a:solidFill>
                  <a:srgbClr val="008000"/>
                </a:solidFill>
                <a:latin typeface="Verdana"/>
              </a:rPr>
              <a:t>يميل الأطفال بطبيعتهم الى التقليد, وهذا التقليد يتوقف على سمات شخصية</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لطفل وحاجاته وردود افعال المحيطين به.</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ج- التقمص: </a:t>
            </a:r>
            <a:r>
              <a:rPr b="1" lang="ar-SA" sz="2400" spc="-1" strike="noStrike">
                <a:solidFill>
                  <a:srgbClr val="008000"/>
                </a:solidFill>
                <a:latin typeface="Verdana"/>
              </a:rPr>
              <a:t>وهنا يشعر الطفل او لا يشعر بأنه اصبح مثل النموذج وبذلك يكون قد توحد معه ,ويتوقف ذلك على شخصية الطفل وحاجاته ومدى تقبل البيئة المحيطة لسلوكياته المتقمصة.</a:t>
            </a:r>
            <a:endParaRPr b="0" lang="en-US" sz="2400" spc="-1" strike="noStrike">
              <a:solidFill>
                <a:srgbClr val="000000"/>
              </a:solidFill>
              <a:latin typeface="Verdan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فإن لوسائل الإعلام أثار جلية في التنشئة الاجتماعية للأطفال ومن ذلك:</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إشباع حاجات الأطفال للاستطلاع والترويح والتسلية.</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عرض مضمون يتناسب مع فئات الأعمار.</a:t>
            </a:r>
            <a:endParaRPr b="0" lang="en-US" sz="2400" spc="-1" strike="noStrike">
              <a:solidFill>
                <a:srgbClr val="000000"/>
              </a:solidFill>
              <a:latin typeface="Verdana"/>
            </a:endParaRPr>
          </a:p>
          <a:p>
            <a:pPr marL="294840" indent="-294840" algn="r" rtl="1">
              <a:lnSpc>
                <a:spcPct val="90000"/>
              </a:lnSpc>
              <a:spcBef>
                <a:spcPts val="60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ربط الآباء بوسائل الإعلام بالإجابة على استفساراتهم وتوجيه مشكلاتهم أثناء تربية الأطفال.</a:t>
            </a:r>
            <a:endParaRPr b="0" lang="en-US" sz="2400" spc="-1" strike="noStrike">
              <a:solidFill>
                <a:srgbClr val="000000"/>
              </a:solidFill>
              <a:latin typeface="Verdana"/>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22" name="PlaceHolder 2"/>
          <p:cNvSpPr>
            <a:spLocks noGrp="1"/>
          </p:cNvSpPr>
          <p:nvPr>
            <p:ph/>
          </p:nvPr>
        </p:nvSpPr>
        <p:spPr>
          <a:xfrm>
            <a:off x="1369800" y="1557360"/>
            <a:ext cx="7313400" cy="5300640"/>
          </a:xfrm>
          <a:prstGeom prst="rect">
            <a:avLst/>
          </a:prstGeom>
          <a:noFill/>
          <a:ln w="0">
            <a:noFill/>
          </a:ln>
        </p:spPr>
        <p:txBody>
          <a:bodyPr anchor="t">
            <a:normAutofit fontScale="82000"/>
          </a:bodyPr>
          <a:p>
            <a:pPr marL="28116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8000"/>
                </a:solidFill>
                <a:latin typeface="Verdana"/>
              </a:rPr>
              <a:t>7</a:t>
            </a:r>
            <a:r>
              <a:rPr b="1" lang="ar-SA" sz="2900" spc="-1" strike="noStrike">
                <a:solidFill>
                  <a:srgbClr val="008000"/>
                </a:solidFill>
                <a:latin typeface="Verdana"/>
              </a:rPr>
              <a:t>- رؤية الآباء لدور وسائل الاعلام في تنشئة الأطفال:</a:t>
            </a:r>
            <a:endParaRPr b="0" lang="en-US" sz="29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في الوقت الذي لا ينكر فيه الاباء دور وسائل الاعلام في تثقيف طفل اليوم وانهم افتقدوا ذلك حينما كانوا أطفالاً  ,فنجدهم يوجهون بعض اللوم لهذه الاجيال فنسمع بعض الاباء يقولون (جيل التلفزيون)او(جيل الفيديو) وتحمل هذه العبارات وغيرها نوعاً من عدم الرضا.</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على اعتباران ثقافة الطفل مجموعة من الخبرات الواجب اكتسابها , فان المنزل ودار الحضانة والمدرسة واجهزة الاعلام والكتب يجب ان تشارك معاً لاستغلال الكثير من طاقات الطفل المعطلة والتي يمكن عن طريقها إثراء ثقافتة ونموه العقلي في ضوء اعتبارات هامه هي:</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1</a:t>
            </a:r>
            <a:r>
              <a:rPr b="1" lang="ar-SA" sz="2000" spc="-1" strike="noStrike">
                <a:solidFill>
                  <a:srgbClr val="008000"/>
                </a:solidFill>
                <a:latin typeface="Verdana"/>
              </a:rPr>
              <a:t>- مشكلات الطفل اليوميه مصدر رائع للتثقيف والتنشئة.</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2</a:t>
            </a:r>
            <a:r>
              <a:rPr b="1" lang="ar-SA" sz="2000" spc="-1" strike="noStrike">
                <a:solidFill>
                  <a:srgbClr val="008000"/>
                </a:solidFill>
                <a:latin typeface="Verdana"/>
              </a:rPr>
              <a:t>- استغلال حواس الطفل في نموه العقلي وثقافته خير ضمان.</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3</a:t>
            </a:r>
            <a:r>
              <a:rPr b="1" lang="ar-SA" sz="2000" spc="-1" strike="noStrike">
                <a:solidFill>
                  <a:srgbClr val="008000"/>
                </a:solidFill>
                <a:latin typeface="Verdana"/>
              </a:rPr>
              <a:t>-حب الاستطلاع عند الطفل ثروة يجب استثمارها إيجابياً.</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4</a:t>
            </a:r>
            <a:r>
              <a:rPr b="1" lang="ar-SA" sz="2000" spc="-1" strike="noStrike">
                <a:solidFill>
                  <a:srgbClr val="008000"/>
                </a:solidFill>
                <a:latin typeface="Verdana"/>
              </a:rPr>
              <a:t>- إهمال حب الطفل للحركة واللعب في توجيهه خطأ سوف نعاقب عليه انفسنا .</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5</a:t>
            </a:r>
            <a:r>
              <a:rPr b="1" lang="ar-SA" sz="2000" spc="-1" strike="noStrike">
                <a:solidFill>
                  <a:srgbClr val="008000"/>
                </a:solidFill>
                <a:latin typeface="Verdana"/>
              </a:rPr>
              <a:t>-تستيقظ مدارك الأطفال على الغناء والموسيقا </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6</a:t>
            </a:r>
            <a:r>
              <a:rPr b="1" lang="ar-SA" sz="2000" spc="-1" strike="noStrike">
                <a:solidFill>
                  <a:srgbClr val="008000"/>
                </a:solidFill>
                <a:latin typeface="Verdana"/>
              </a:rPr>
              <a:t>- القدرة على التخيل إمكانية ذهنية للتثقيف والنمو العقلي ومن ثم التنشئة.</a:t>
            </a: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11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4" name="PlaceHolder 2"/>
          <p:cNvSpPr>
            <a:spLocks noGrp="1"/>
          </p:cNvSpPr>
          <p:nvPr>
            <p:ph/>
          </p:nvPr>
        </p:nvSpPr>
        <p:spPr>
          <a:xfrm>
            <a:off x="1369800" y="1557360"/>
            <a:ext cx="7313400" cy="5300640"/>
          </a:xfrm>
          <a:prstGeom prst="rect">
            <a:avLst/>
          </a:prstGeom>
          <a:noFill/>
          <a:ln w="0">
            <a:noFill/>
          </a:ln>
        </p:spPr>
        <p:txBody>
          <a:bodyPr anchor="t">
            <a:normAutofit fontScale="82000"/>
          </a:bodyPr>
          <a:p>
            <a:pPr marL="281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8000"/>
                </a:solidFill>
                <a:uFillTx/>
                <a:latin typeface="Verdana"/>
              </a:rPr>
              <a:t>8</a:t>
            </a:r>
            <a:r>
              <a:rPr b="1" lang="ar-SA" sz="2800" spc="-1" strike="noStrike" u="sng">
                <a:solidFill>
                  <a:srgbClr val="008000"/>
                </a:solidFill>
                <a:uFillTx/>
                <a:latin typeface="Verdana"/>
              </a:rPr>
              <a:t>- بعض البرامج في الميزان:</a:t>
            </a:r>
            <a:endParaRPr b="0" lang="en-US" sz="2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مع البرامج التي تشاهد بقصد الترفيه وتمضية الوقت واستهلاكه مع الطفل الزاخر بالإمكانيات,</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فهي ليست تثقيفية معرفية او تربوية وتبقى معها طاقات وإمكانيات الأطفال معطلة.</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ا ان البعض يأخذ في الاعتبار أفضل ما يمكن له واضعا في الاعتبار غايات تثقيفية ومعرفية</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تربوية الى حد كبير,ومن هذه المسلسلات مسلسل (سنان)</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ن هذه المسلسلات تحتاج الى توضيح للمشهد وإشارة لمحتوى الفكرة في أثناء متابعة الطفل</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مراقبته ومن المستحب توضيح الفائدة بنهاية العرض مباشرة حتى تكون القيمة في طريقها</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للتشكيل.</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في البرامج لا نرى تنمية للقدرات العقليه كالتذكر والتخيل والرسم والتلوين فانه من المفضل توافرها في البرامج التلفزيونية بدرجة اكبر مما هي عليه الان.</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a:t>
            </a:r>
            <a:r>
              <a:rPr b="1" lang="ar-SA" sz="1800" spc="-1" strike="noStrike">
                <a:solidFill>
                  <a:srgbClr val="008000"/>
                </a:solidFill>
                <a:latin typeface="Verdana"/>
              </a:rPr>
              <a:t>مسلسل سنان من المسلسلات الهادفة والتي لها مستوى مرتفع ثقافياً وعقلياً ولها مضمون تربوي عميق الا ان بها شخصيات بعيدة عن الطفل</a:t>
            </a:r>
            <a:r>
              <a:rPr b="1" lang="ar-SA" sz="1800" spc="-1" strike="noStrike">
                <a:solidFill>
                  <a:srgbClr val="000000"/>
                </a:solidFill>
                <a:latin typeface="Verdana"/>
              </a:rPr>
              <a:t>.</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في مسلسلات اخرى نجد جميع الحيوانات تأكل نفس الحلوى ونفس نوع الاكل وتعيش في نفس المكان ويصبح الطفل في حيرة من امره بين ما يشاهده وبين الواقعه .</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من الافلام المحببة للأطفال توم وجيري ونقار الخشب الا ان الملاحظ في معظم الحلقات كيفية تصميم المقالب والخبث والشر الى حد ما .</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وبرنامج افتح يا سمسم فيه من الافكار التربوية ويا حبذا اذا وجد ما يشد الاطفال كالمسابقات وأسئلة الذكاء والمفاجآت الهادفة في شتى الخبرات.</a:t>
            </a:r>
            <a:endParaRPr b="0" lang="en-US" sz="1800" spc="-1" strike="noStrike">
              <a:solidFill>
                <a:srgbClr val="000000"/>
              </a:solidFill>
              <a:latin typeface="Verdana"/>
            </a:endParaRPr>
          </a:p>
          <a:p>
            <a:pPr marL="2811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6" name="PlaceHolder 2"/>
          <p:cNvSpPr>
            <a:spLocks noGrp="1"/>
          </p:cNvSpPr>
          <p:nvPr>
            <p:ph/>
          </p:nvPr>
        </p:nvSpPr>
        <p:spPr>
          <a:xfrm>
            <a:off x="1369800" y="1557360"/>
            <a:ext cx="7313400" cy="53006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الكثير من الاغاني مفتقد بل نادر بصفة عامة في برامج الأطفال ويحتاج الى محتوى النفسي والتربوي الملائم للكلمة المنظومة الموجهة للصغير.</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الأطفال حتى الرابعة من عمرهم تستهويهم الحركة فيما يقدم ,وبعد ذلك العمر يحتاج الطفل الى الخيال لان لهم عالمهم الخاص الذي يجب ان ندع له ساعة في النهار يخرج فيها بعقله وفكره الى واقعنا المادي البحت فيصور لنفسه أشياء كالخاتم السحري ومصباح علاء الدين وبحار سندباد.</a:t>
            </a: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برنامج (ناشئ في رحاب القران) الاذاعي فهو برنامج رائع ومن المستحب ان يستضيف اكثر من طفل في الحلق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دساً: النوادي والساحات الشعبية والجمعيات</a:t>
            </a:r>
            <a:endParaRPr b="0" lang="en-US" sz="3600" spc="-1" strike="noStrike">
              <a:solidFill>
                <a:srgbClr val="006666"/>
              </a:solidFill>
              <a:latin typeface="Arial"/>
            </a:endParaRPr>
          </a:p>
        </p:txBody>
      </p:sp>
      <p:sp>
        <p:nvSpPr>
          <p:cNvPr id="92" name="PlaceHolder 2"/>
          <p:cNvSpPr>
            <a:spLocks noGrp="1"/>
          </p:cNvSpPr>
          <p:nvPr>
            <p:ph/>
          </p:nvPr>
        </p:nvSpPr>
        <p:spPr>
          <a:xfrm>
            <a:off x="1369800" y="1557360"/>
            <a:ext cx="7313400" cy="5300640"/>
          </a:xfrm>
          <a:prstGeom prst="rect">
            <a:avLst/>
          </a:prstGeom>
          <a:noFill/>
          <a:ln w="0">
            <a:noFill/>
          </a:ln>
        </p:spPr>
        <p:txBody>
          <a:bodyPr anchor="t">
            <a:normAutofit fontScale="78000"/>
          </a:bodyPr>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الغاية التربوية للنوادي والساحات والجمعيات هي تعويد الطفل الطاعة وتوزيع المسئوليات , وإسناد جزء من تربية الطفل الى الطفل نفسه تحت رعاية شخص أكبر.</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أن الملاعب والساحات الرياضية والنوادي تُرغب الأطفال وحتى الكبار الى ممارسة الرياضة والاستفادة من وقت الفراغ فهي تنمي الاجسام وتحافظ على البنية بل تكون واحدة من مجالات الترويح.</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 والهدف من ذلك تنشئة الأطفال وتنمية حصيلتهم العامة.وإكسابهم للمهارات عن طريق الممارسة وتنمية الاحساس بالتذوق الفني والتشكيلي والغنائي وتحقيق نوع من التعلم الذاتي واحترام شخصية الطفل واستقلاليته وتنمي فيه القدرة على العطاء ودافع الانجاز والروح الرياضية والابتعاد عن الانانية وتقبل وجهة نظر الغير.</a:t>
            </a:r>
            <a:endParaRPr b="0" lang="en-US" sz="2500" spc="-1" strike="noStrike">
              <a:solidFill>
                <a:srgbClr val="000000"/>
              </a:solidFill>
              <a:latin typeface="Verdana"/>
            </a:endParaRPr>
          </a:p>
          <a:p>
            <a:pPr marL="267480" indent="-267480" algn="r" rtl="1">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c3300"/>
                </a:solidFill>
                <a:latin typeface="Verdana"/>
              </a:rPr>
              <a:t>والنوادي والساحات الناجحة هي التي تزود الأطفال بما لا تزودهم به المدرسة,او تضيف على ما يمكن ان تزودهم به المدرسة.</a:t>
            </a:r>
            <a:endParaRPr b="0" lang="en-US" sz="2500" spc="-1" strike="noStrike">
              <a:solidFill>
                <a:srgbClr val="000000"/>
              </a:solidFill>
              <a:latin typeface="Verdana"/>
            </a:endParaRPr>
          </a:p>
          <a:p>
            <a:pPr marL="2674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28" name="PlaceHolder 2"/>
          <p:cNvSpPr>
            <a:spLocks noGrp="1"/>
          </p:cNvSpPr>
          <p:nvPr>
            <p:ph/>
          </p:nvPr>
        </p:nvSpPr>
        <p:spPr>
          <a:xfrm>
            <a:off x="1369800" y="1484280"/>
            <a:ext cx="7313400" cy="5184720"/>
          </a:xfrm>
          <a:prstGeom prst="rect">
            <a:avLst/>
          </a:prstGeom>
          <a:noFill/>
          <a:ln w="0">
            <a:noFill/>
          </a:ln>
        </p:spPr>
        <p:txBody>
          <a:bodyPr anchor="t">
            <a:normAutofit/>
          </a:bodyPr>
          <a:p>
            <a:pPr marL="34308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8000"/>
                </a:solidFill>
                <a:uFillTx/>
                <a:latin typeface="Verdana"/>
              </a:rPr>
              <a:t>9</a:t>
            </a:r>
            <a:r>
              <a:rPr b="1" lang="ar-SA" sz="2500" spc="-1" strike="noStrike" u="sng">
                <a:solidFill>
                  <a:srgbClr val="008000"/>
                </a:solidFill>
                <a:uFillTx/>
                <a:latin typeface="Verdana"/>
              </a:rPr>
              <a:t>- تصور الوسائل الثقافية المقروءة وتصور في الحلول:</a:t>
            </a:r>
            <a:endParaRPr b="0" lang="en-US" sz="25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من المعروف ان الكلمة المكتوبة هي وسيط ثقافي للإنسان ,والكتاب المقدم للطفل هو الذي يقدم الفكر والمعرفة ويترجم له كل التصورات والأفكار والخيالات مما يشد الطفل لإمتاع فكري ووجداني بنقل القيم الحضارية والمبادئ والتراث بأشكال فنية جذابة مبسطا له الخبرة في تهذيب ,وينمي له القدرة على التوافق مع البيئة التي ينتمي اليها.</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ن نسبة كبيرة من كتب الأطفال العربية تصور في باب القصة والموضوعات الدينية وبعض الموضوعات التاريخية وقلة منها تهتم بالجانب العلمي والفني او ما يتعلق بالمجتمع الحديث.</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والعرب يحتاجون الى كتب تهتم بالشكل والمضمون نظرا لان الكلمة المقروءة في ثقافة الطفل تلعب دورا هاما في التنشئة الاجتماعية وذلك بمساعدته على التعرف على اكبر قدر من ذلك الموجود في خبرته الحالية,وتقترح له دورا سلوكيا ,وتساعد هذه الكتب على معرفة الطفل بما هو ردئ وماهو جيد وتسهم في نمو القيم لديه مما يجعل دور المربي توجيها لما يقرا الأطفال</a:t>
            </a: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5030640"/>
          </a:xfrm>
          <a:prstGeom prst="rect">
            <a:avLst/>
          </a:prstGeom>
          <a:noFill/>
          <a:ln w="0">
            <a:noFill/>
          </a:ln>
        </p:spPr>
        <p:txBody>
          <a:bodyPr anchor="t">
            <a:normAutofit fontScale="75000"/>
          </a:bodyPr>
          <a:p>
            <a:pPr marL="2570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8000"/>
                </a:solidFill>
                <a:uFillTx/>
                <a:latin typeface="Verdana"/>
              </a:rPr>
              <a:t>المقترحات لحل القصور في المادة المقروءة:</a:t>
            </a:r>
            <a:endParaRPr b="0" lang="en-US" sz="3600" spc="-1" strike="noStrike">
              <a:solidFill>
                <a:srgbClr val="000000"/>
              </a:solidFill>
              <a:latin typeface="Verdana"/>
            </a:endParaRPr>
          </a:p>
          <a:p>
            <a:pPr marL="2570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تشكيل لجنة متابعة لكتب الأطفال لغرض الرقابة على ما يقدم لهم.</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وضع خطة عامة لاحتياجات الأطفال من المادة المطبوعة تحترم معايير النمو النفسي وتقوم على أسس نفسية تربوية.</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تخصيص جزء أكبر من صفحات الجرائد اليومية ليقدم للأطفال مادة مشوقة وذات جاذبية تعتمد على أسس نفسية وتربوية.</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تخريج متخصص جامعي يقدم للطفل في مجالات متعددة منها الكتابة والكلمة المطبوعة للطفل.</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زيادة التقدير المادي لما ينتجه كتاب الأطفال.</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8000"/>
                </a:solidFill>
                <a:latin typeface="Verdana"/>
              </a:rPr>
              <a:t>مشاركة الصغار بإيجابية فيما يقدم من مادة مطبوعة لإكسابهم الثقة بالنفس وتنمية القدرة على التعبير والطلاقة الفكرية بمساهمتهم في تزويد المجلات بالمادة المقروءة أو الصور.</a:t>
            </a:r>
            <a:endParaRPr b="0" lang="en-US" sz="2500" spc="-1" strike="noStrike">
              <a:solidFill>
                <a:srgbClr val="000000"/>
              </a:solidFill>
              <a:latin typeface="Verdana"/>
            </a:endParaRPr>
          </a:p>
          <a:p>
            <a:pPr marL="257040" indent="-257040" algn="r" rtl="1">
              <a:lnSpc>
                <a:spcPct val="80000"/>
              </a:lnSpc>
              <a:spcBef>
                <a:spcPts val="624"/>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rPr>
              <a:t>لفت نظر الاباء والمربين عما يجب ان يكون بالنسبة لأطفالهم وما يتوافر بالنسبة لأطفالهم بالسوق المحلية ويمكن الاستعانة به.</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2" name="PlaceHolder 2"/>
          <p:cNvSpPr>
            <a:spLocks noGrp="1"/>
          </p:cNvSpPr>
          <p:nvPr>
            <p:ph/>
          </p:nvPr>
        </p:nvSpPr>
        <p:spPr>
          <a:xfrm>
            <a:off x="1369800" y="1557360"/>
            <a:ext cx="7313400" cy="5300640"/>
          </a:xfrm>
          <a:prstGeom prst="rect">
            <a:avLst/>
          </a:prstGeom>
          <a:noFill/>
          <a:ln w="0">
            <a:noFill/>
          </a:ln>
        </p:spPr>
        <p:txBody>
          <a:bodyPr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10</a:t>
            </a:r>
            <a:r>
              <a:rPr b="1" lang="ar-SA" sz="2400" spc="-1" strike="noStrike" u="sng">
                <a:solidFill>
                  <a:srgbClr val="000000"/>
                </a:solidFill>
                <a:uFillTx/>
                <a:latin typeface="Verdana"/>
              </a:rPr>
              <a:t>- دعامات أساسية لبناء صرح ثقافة الطفل المسهمة في تنشئته:</a:t>
            </a:r>
            <a:endParaRPr b="0" lang="en-US" sz="2400" spc="-1" strike="noStrike">
              <a:solidFill>
                <a:srgbClr val="000000"/>
              </a:solidFill>
              <a:latin typeface="Verdana"/>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 أ- أسس التفاعل المباشر.</a:t>
            </a:r>
            <a:endParaRPr b="0" lang="en-US" sz="24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قيم الدينية محور أساسي في كل ما يقدم للطفل.</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طفل يحب المتعة والإبهار والحركة السريعة فيما يقدم والحوار الخفيف فيما يسمع.</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برامج الأطفال وكتبهم وأغانيهم وموسيقاهم صعبة في كل مرحل تكوينها وتنفيذها وتأليفها وأعدادها وتصويرها , لذا كان لابد من اختبار القائمين عليها على أساس الموهبة والمعرفة بسيكولوجية الطفل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طفل يرفض السذاجة التي تقترب من البلاهة ,فالمادة المحببة له هي المادة ذكية الحوار السهلة في غير انحطاط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يحب الأطفال الاشكال سريعة الايقاع خفيفة الأسلوب المشوقة الممتعة.</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سرعة التغير في الفقرات مع التنوع يلائم طبيعة الطفل, وهذا ما يعطي البرامج المنوعه للأطفال أولوية تليها القصص الخرافية والواقعية ثم المغامرات.</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إطلاق الخيال للطفل يوميا لنخرج بعقله عن الواقع المادي البحت في طريقه الى تنمية الابتكار</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مسرح الطفل يملأ نفوس الأطفال بهجة بعرض المواقف الدرامية والفاكهية بهدف بث قيم المجتمع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قصير في مجال افلام الطفل وخاصة الطفل العربي يدفع الأطفال لمشاهدة أفلام الكبار .</a:t>
            </a:r>
            <a:endParaRPr b="0" lang="en-US" sz="1800" spc="-1" strike="noStrike">
              <a:solidFill>
                <a:srgbClr val="000000"/>
              </a:solidFill>
              <a:latin typeface="Verdana"/>
            </a:endParaRPr>
          </a:p>
          <a:p>
            <a:pPr marL="291600" indent="-29160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هناك فروق كبيرة بين لغة الطفل ولغة الراشد ومن ثم معرفة لغة الطفل في مراحل النمو المختلفة شئ مهم لكل من يتعرض لعمل في وسائط ثقافة الطفل,ان هذا يحبذ وجود قاموس لغوي للأطفال.</a:t>
            </a:r>
            <a:endParaRPr b="0" lang="en-US" sz="1800" spc="-1" strike="noStrike">
              <a:solidFill>
                <a:srgbClr val="000000"/>
              </a:solidFill>
              <a:latin typeface="Verdana"/>
            </a:endParaRPr>
          </a:p>
          <a:p>
            <a:pPr marL="291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34" name="PlaceHolder 2"/>
          <p:cNvSpPr>
            <a:spLocks noGrp="1"/>
          </p:cNvSpPr>
          <p:nvPr>
            <p:ph/>
          </p:nvPr>
        </p:nvSpPr>
        <p:spPr>
          <a:xfrm>
            <a:off x="1369800" y="1483920"/>
            <a:ext cx="7313400" cy="5373720"/>
          </a:xfrm>
          <a:prstGeom prst="rect">
            <a:avLst/>
          </a:prstGeom>
          <a:noFill/>
          <a:ln w="0">
            <a:noFill/>
          </a:ln>
        </p:spPr>
        <p:txBody>
          <a:bodyPr anchor="t">
            <a:normAutofit fontScale="88000"/>
          </a:bodyPr>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8000"/>
                </a:solidFill>
                <a:uFillTx/>
                <a:latin typeface="Verdana"/>
              </a:rPr>
              <a:t>ب- أسس التفاعل غير المباشر</a:t>
            </a:r>
            <a:endParaRPr b="0" lang="en-US" sz="2400" spc="-1" strike="noStrike">
              <a:solidFill>
                <a:srgbClr val="000000"/>
              </a:solidFill>
              <a:latin typeface="Verdana"/>
            </a:endParaRPr>
          </a:p>
          <a:p>
            <a:pPr marL="301680" indent="-301680" algn="r" rtl="1">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جذب انتباه الآباء العرب عن طريق وسائل الاعلام المختلفة لبعض القضايا الهامة في حياة الطفل ونموه تفيد بطريقة غير مباشرة في تنمية ثقافة الطفل العربي وهذه القضايا هي:</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أكيد على أهمية السنوات الأولى من حياة الطفل</a:t>
            </a:r>
            <a:r>
              <a:rPr b="1" lang="ar-SA" sz="1800" spc="-1" strike="noStrike">
                <a:solidFill>
                  <a:srgbClr val="000000"/>
                </a:solidFill>
                <a:latin typeface="Verdana"/>
              </a:rPr>
              <a:t>.</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تأكيد على تنمية علاقات الاحترام المتبادل بين الطفل ووالديه</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وعية بضرورة أن يصبح الأب أكثر ارتباطاً بأسرته وأطفاله في بداية حياتهم وان لا يكون رمز للسلطة والتخويف بل رمز للثقة والحب</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تأكيد على ان كثرة العقاب البدني ليست وسيلة لإصلاح الصغار بل تولد الخلق المنخفض والرغبة في التمرد والارتياب.</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تأكيد العناية الطبية والغذائية وتقديم المساعدات الطبيعية للأم والتركيز على الأسر ذات المستوى الاقتصادي الاجتماعي الثقافي غير المرتفع كهدف </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بصير الامهات بأدوار أساسية في التنشئة كعملية الفطام والاندماج مع الأطفال وكيفيتها</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تأكيد كيفية التفاعل بين الطفل ووالديه وضرورة اشباع حاجاته الى العطف والحب والتقدير والتعود على المسؤولية واكتساب خبرات جديدة باستمرار وتأكيد حب المعرفة عنده من اجل احترامه لذاته.</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تبصير الوالدين بأنهم يسهمون دون وعي منهم في تحطيم ثقة الأطفال بأنفسهم عند الاستخفاف بهم وإذلالهم بتشبيههم بأشياء قبيحة.</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8000"/>
                </a:solidFill>
                <a:latin typeface="Verdana"/>
              </a:rPr>
              <a:t>التأكيد على الوالدين في التعود على التحدث مع أطفالهم بلغة البالغين وعدم ترويض أخطائهم.</a:t>
            </a:r>
            <a:endParaRPr b="0" lang="en-US" sz="1800" spc="-1" strike="noStrike">
              <a:solidFill>
                <a:srgbClr val="000000"/>
              </a:solidFill>
              <a:latin typeface="Verdana"/>
            </a:endParaRPr>
          </a:p>
          <a:p>
            <a:pPr marL="301680" indent="-301680" algn="r" rtl="1">
              <a:lnSpc>
                <a:spcPct val="80000"/>
              </a:lnSpc>
              <a:spcBef>
                <a:spcPts val="451"/>
              </a:spcBef>
              <a:buClr>
                <a:srgbClr val="0066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الايمان بأن اللعب جزء لا يتجزأ من عملية التعلم.</a:t>
            </a:r>
            <a:endParaRPr b="0" lang="en-US" sz="1800" spc="-1" strike="noStrike">
              <a:solidFill>
                <a:srgbClr val="000000"/>
              </a:solidFill>
              <a:latin typeface="Verdana"/>
            </a:endParaRPr>
          </a:p>
          <a:p>
            <a:pPr marL="3016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168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0168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تاسعاً: الخدم و البشكار والمربيات </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5030640"/>
          </a:xfrm>
          <a:prstGeom prst="rect">
            <a:avLst/>
          </a:prstGeom>
          <a:noFill/>
          <a:ln w="0">
            <a:noFill/>
          </a:ln>
        </p:spPr>
        <p:txBody>
          <a:bodyPr anchor="t">
            <a:normAutofit fontScale="84000"/>
          </a:bodyPr>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مما يلون الحياة العاطفية للأطفال داخل الأسرة وجود الخدم أو البشاكير والحاضنات والمربيات.</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مصطلح خادم قد انتشر في البلاد العربية الإفريقية حتى المغرب العربي وبعض دول آسيا إلا أن بعض دول الخليج مثل الإمارات تطلق مسمى بشكار على الخدم الإيرانيين.</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وكلمة بشكار من أصل فارسي وتنقسم الى (بيش) وتعني امام و(كار) وتعني عمل وتكون في مجملها ((داخل أو امام العمل))</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أما الحاضنة فهي الأم الاجتماعية للطفل , والمربية أنثى تأتي لتربية الطفل ومراعاة تقويم سلوكه.....</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وربما تتقارب هذه المفاهيم عندما تختلط أدوار هؤلاء .</a:t>
            </a:r>
            <a:endParaRPr b="0" lang="en-US" sz="2500" spc="-1" strike="noStrike">
              <a:solidFill>
                <a:srgbClr val="000000"/>
              </a:solidFill>
              <a:latin typeface="Verdana"/>
            </a:endParaRPr>
          </a:p>
          <a:p>
            <a:pPr marL="288000" indent="-288000" algn="r" rtl="1">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66"/>
                </a:solidFill>
                <a:latin typeface="Verdana"/>
              </a:rPr>
              <a:t>ان الطفل يدخل في علاقة ما مع الخادمة او المربية,ويتم ذلك يومياً سواء في غياب الام او في وجودها وعبر هذه العلاقة يحدث التأثير المرتقب في تنشئة الطفل ,وربما يصل الامر لان تأخذ الخادمة دور الأم البديلة</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تاسعاً: الخدم و البشكار والمربيات</a:t>
            </a:r>
            <a:endParaRPr b="0" lang="en-US" sz="3600" spc="-1" strike="noStrike">
              <a:solidFill>
                <a:srgbClr val="006666"/>
              </a:solidFill>
              <a:latin typeface="Arial"/>
            </a:endParaRPr>
          </a:p>
        </p:txBody>
      </p:sp>
      <p:sp>
        <p:nvSpPr>
          <p:cNvPr id="138" name="PlaceHolder 2"/>
          <p:cNvSpPr>
            <a:spLocks noGrp="1"/>
          </p:cNvSpPr>
          <p:nvPr>
            <p:ph/>
          </p:nvPr>
        </p:nvSpPr>
        <p:spPr>
          <a:xfrm>
            <a:off x="1369800" y="1557360"/>
            <a:ext cx="7313400" cy="5616720"/>
          </a:xfrm>
          <a:prstGeom prst="rect">
            <a:avLst/>
          </a:prstGeom>
          <a:noFill/>
          <a:ln w="0">
            <a:noFill/>
          </a:ln>
        </p:spPr>
        <p:txBody>
          <a:bodyPr anchor="t">
            <a:normAutofit fontScale="98000"/>
          </a:bodyPr>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العلاقة الحميمة التي نلاحظها أحياناً بين المربيات والأطفال إنما يرجع بعضها الى اعتماد أساليب تربوية خاطئة لدى المربية مثل التساهل والتراخي والتكتم على تصرفات الأطفال ....وحتى الحنان المفرط</a:t>
            </a:r>
            <a:r>
              <a:rPr b="1" lang="ar-SA" sz="2000" spc="-1" strike="noStrike">
                <a:solidFill>
                  <a:srgbClr val="ff0066"/>
                </a:solidFill>
                <a:latin typeface="Verdana"/>
              </a:rPr>
              <a:t>.</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واذا كانت هذه الفئة تتخذ من هذا العمل مهنه لها ,فإن تقلباتهم بين البيوت عبر السنوات يجمد حنانهم العاطفي , ويجعلهم عرضة للتذبذب في المشاركة الوجدانية.</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ن هذا لا يقلل من الجهد الكبير الذي يبذله بعض الخدم والمربيات في خدمة الأطفال بإخلاص ولكن يظل والدا الطفل أهم عاملين أوليين,ينطبق ذلك أيضاً على أي شخصيات اجتماعية يكون للطفل بها علاقة مثل المربيات او الخدم ,حيث يتوقع هنا شئ من التوحد يأخذ فيه الشخص اتجاهات وأنماط سلوك شخص اخر وينتهي الى تقليدها وهنا يكون قد حدث نوع من الاستدخال او النمذجة والاقتداء</a:t>
            </a:r>
            <a:endParaRPr b="0" lang="en-US" sz="2000" spc="-1" strike="noStrike">
              <a:solidFill>
                <a:srgbClr val="000000"/>
              </a:solidFill>
              <a:latin typeface="Verdana"/>
            </a:endParaRPr>
          </a:p>
          <a:p>
            <a:pPr marL="335880" indent="-335880" algn="r" rtl="1">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بعض الدول الغربية تشترط ان يتعلم المنتقلون اليها لغة البلد التي يعملون فيه ,وهذا ما يجب أن يأخذ في الاعتبار عند إحضار خدم أو مربيات أجنبيات.</a:t>
            </a:r>
            <a:endParaRPr b="0" lang="en-US" sz="2000" spc="-1" strike="noStrike">
              <a:solidFill>
                <a:srgbClr val="000000"/>
              </a:solidFill>
              <a:latin typeface="Verdana"/>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                                                                               </a:t>
            </a:r>
            <a:endParaRPr b="0" lang="en-US" sz="2000" spc="-1" strike="noStrike">
              <a:solidFill>
                <a:srgbClr val="000000"/>
              </a:solidFill>
              <a:latin typeface="Verdana"/>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Verdana"/>
              </a:rPr>
              <a:t>انتهـــــــــــى</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دساً: النوادي والساحات الشعبية والجمعيات</a:t>
            </a:r>
            <a:endParaRPr b="0" lang="en-US" sz="3600" spc="-1" strike="noStrike">
              <a:solidFill>
                <a:srgbClr val="006666"/>
              </a:solidFill>
              <a:latin typeface="Arial"/>
            </a:endParaRPr>
          </a:p>
        </p:txBody>
      </p:sp>
      <p:sp>
        <p:nvSpPr>
          <p:cNvPr id="94" name="PlaceHolder 2"/>
          <p:cNvSpPr>
            <a:spLocks noGrp="1"/>
          </p:cNvSpPr>
          <p:nvPr>
            <p:ph/>
          </p:nvPr>
        </p:nvSpPr>
        <p:spPr>
          <a:xfrm>
            <a:off x="1369800" y="1483920"/>
            <a:ext cx="7313400" cy="5373720"/>
          </a:xfrm>
          <a:prstGeom prst="rect">
            <a:avLst/>
          </a:prstGeom>
          <a:noFill/>
          <a:ln w="0">
            <a:noFill/>
          </a:ln>
        </p:spPr>
        <p:txBody>
          <a:bodyPr anchor="t">
            <a:normAutofit fontScale="91000"/>
          </a:bodyPr>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c3300"/>
                </a:solidFill>
                <a:latin typeface="Verdana"/>
              </a:rPr>
              <a:t>1</a:t>
            </a:r>
            <a:r>
              <a:rPr b="1" lang="ar-SA" sz="2100" spc="-1" strike="noStrike">
                <a:solidFill>
                  <a:srgbClr val="cc3300"/>
                </a:solidFill>
                <a:latin typeface="Verdana"/>
              </a:rPr>
              <a:t>/ </a:t>
            </a:r>
            <a:r>
              <a:rPr b="1" lang="ar-SA" sz="2100" spc="-1" strike="noStrike">
                <a:solidFill>
                  <a:srgbClr val="000000"/>
                </a:solidFill>
                <a:latin typeface="Verdana"/>
              </a:rPr>
              <a:t>الأساليب المقصودة والغير مقصودة للتنشئة الاجتماعية في الأندية والساحات والجمعيات:</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أ-  ممارسة الأنشطة:</a:t>
            </a:r>
            <a:r>
              <a:rPr b="1" lang="ar-SA" sz="2100" spc="-1" strike="noStrike">
                <a:solidFill>
                  <a:srgbClr val="cc3300"/>
                </a:solidFill>
                <a:latin typeface="Verdana"/>
              </a:rPr>
              <a:t> النوادي والساحات لها برامج وأنشطة محددة تنمي الاستقلالية والتعاون وإعطاء فرص لتفوق الأطفال في مجالات ثقافية ورياضية واجتماعية , مما يعزز ثقتهم بأنفسهم.</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ب- تقديم نماذج لسلوك:</a:t>
            </a:r>
            <a:r>
              <a:rPr b="1" lang="ar-SA" sz="2100" spc="-1" strike="noStrike">
                <a:solidFill>
                  <a:srgbClr val="cc3300"/>
                </a:solidFill>
                <a:latin typeface="Verdana"/>
              </a:rPr>
              <a:t>تقديم نماذج في صورة أشخاص لهم أداءات متميزة كالمتفوقين في مجالات الرياضة والثقافة وغيرها ,والنموذج المقدم لا يشترط انه يكون من بين أطفال النادي أنفسهم , فربما كان النموذج شخص يمارس عمله باحترام واقتدار داخل أي مؤسسة , وربما كان هذا الشخص رائدا من رواد الأندية أو رئيساً لنادي.</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2</a:t>
            </a:r>
            <a:r>
              <a:rPr b="1" lang="ar-SA" sz="2100" spc="-1" strike="noStrike">
                <a:solidFill>
                  <a:srgbClr val="000000"/>
                </a:solidFill>
                <a:latin typeface="Verdana"/>
              </a:rPr>
              <a:t>/ الرائد في النادي والمشرف في الجمعية ودورهما في التنشئة الاجتماعية للأطفال:</a:t>
            </a:r>
            <a:endParaRPr b="0" lang="en-US" sz="2100" spc="-1" strike="noStrike">
              <a:solidFill>
                <a:srgbClr val="000000"/>
              </a:solidFill>
              <a:latin typeface="Verdana"/>
            </a:endParaRPr>
          </a:p>
          <a:p>
            <a:pPr marL="50256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c3300"/>
                </a:solidFill>
                <a:latin typeface="Verdana"/>
              </a:rPr>
              <a:t>لرائد بالنادي عدد من الأدوار فهو ينظم العمل ويدير البرنامج المعمول به في النادي او يشارك في ادارته ويحافظ على انسجام هذا البرنامج ورغبات المترددين كما انه يتابع أماكن وأدوات النشاط والقائمين عليها ويكون علاقات مع الأطفال ومع أولياء أمورهم</a:t>
            </a:r>
            <a:r>
              <a:rPr b="0" lang="ar-SA"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بعاً:دور العبادة</a:t>
            </a:r>
            <a:endParaRPr b="0" lang="en-US" sz="3600" spc="-1" strike="noStrike">
              <a:solidFill>
                <a:srgbClr val="006666"/>
              </a:solidFill>
              <a:latin typeface="Arial"/>
            </a:endParaRPr>
          </a:p>
        </p:txBody>
      </p:sp>
      <p:sp>
        <p:nvSpPr>
          <p:cNvPr id="96" name="PlaceHolder 2"/>
          <p:cNvSpPr>
            <a:spLocks noGrp="1"/>
          </p:cNvSpPr>
          <p:nvPr>
            <p:ph/>
          </p:nvPr>
        </p:nvSpPr>
        <p:spPr>
          <a:xfrm>
            <a:off x="1369800" y="1557360"/>
            <a:ext cx="7313400" cy="5300640"/>
          </a:xfrm>
          <a:prstGeom prst="rect">
            <a:avLst/>
          </a:prstGeom>
          <a:noFill/>
          <a:ln w="0">
            <a:noFill/>
          </a:ln>
        </p:spPr>
        <p:txBody>
          <a:bodyPr anchor="t">
            <a:normAutofit fontScale="81000"/>
          </a:bodyPr>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ان دور العبادة تقوم بتنقية فكر البشر وتطهير قلوبهم وتصحيح نفوسهم وإيقاظ ضمائرهم وضبط سلوكياتهم وتصرفاتهم.</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ن دور المساجد لا يتجلى فقط في ربط المسلم بربه , وإعلان توبته ,وشكر الله ,بل وربط الفرد المسلم وإدراكه لقيمته والمحافظة عليه.</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وفي دور العبادة يتعلم الفرد التعاليم الدينية ومعايير السلوك وتنمى ضمير الانسان وتضع أسس التفاعل الاجتماعي بين الأفراد.</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توجه دور العبادة أساليبها الى الكبار والصغار وتحث الأديان على تنشئة الأطفال تنشئة دينية واصطحابهم مع الكبار الى هذه الدور.</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cc"/>
                </a:solidFill>
                <a:latin typeface="Verdana"/>
              </a:rPr>
              <a:t>ان دور العبادة لا يقف دورها فقط لأداء الصلوات , ففي بعض الدول مازال بعض القادة يتولون السلطة في بلادهم في هذه الدور,والبعض تعقد عقود الزواج داخل هذه الدور.</a:t>
            </a:r>
            <a:endParaRPr b="0" lang="en-US" sz="2400" spc="-1" strike="noStrike">
              <a:solidFill>
                <a:srgbClr val="000000"/>
              </a:solidFill>
              <a:latin typeface="Verdana"/>
            </a:endParaRPr>
          </a:p>
          <a:p>
            <a:pPr marL="385560" indent="-385560" algn="r" rtl="1">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يرتبط مفهوم دور العبادة ما يسمى بالأضرحة المقدسة وأولياء الله الصالحين وهذه ذات أثار قوية في بيئتنا العربية وخاصة ما يصاحبها من ضروب الشعوذة والخوارق والمعجزات وهذا ينافي قواعد وأسس ديننا الحني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ابعاً:دور العبادة</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744800"/>
          </a:xfrm>
          <a:prstGeom prst="rect">
            <a:avLst/>
          </a:prstGeom>
          <a:noFill/>
          <a:ln w="0">
            <a:noFill/>
          </a:ln>
        </p:spPr>
        <p:txBody>
          <a:bodyPr anchor="t">
            <a:normAutofit fontScale="87000"/>
          </a:bodyPr>
          <a:p>
            <a:pPr marL="480600" indent="-480600" algn="r" rtl="1">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ساليب دور العبادة في تنشئة الأطفال:</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 تحديد وتوضيح مسئولية الوالدين في تربية الطفل</a:t>
            </a:r>
            <a:r>
              <a:rPr b="1" lang="ar-SA" sz="2000" spc="-1" strike="noStrike">
                <a:solidFill>
                  <a:srgbClr val="0033cc"/>
                </a:solidFill>
                <a:latin typeface="Verdana"/>
              </a:rPr>
              <a:t>:</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ان مسئولية الوالدين لا تنحصر في ادارة الحياة المعيشية  لأبنائهم فقط بل تنشئتهم تنشئة ايمانية صالحة , ان تأديب الأطفال وتربيتهم أهم في نظر الاسلام من الاهتمام باحتياجاتهم الجسدية.</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ب- الترهيب والترغيب:</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تقدم في دور العبادة ما يصلح لناس عموما في الدنيا والآخرة فترغب في عمله وممارسته وتنهى عن الاشياء التي تجعل الناس على قرب من العذاب والنار في الاخرة وسوء العيش في الدنيا.</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ج- مخاطبة العقل بأمثلة ونماذج .</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cc"/>
                </a:solidFill>
                <a:latin typeface="Verdana"/>
              </a:rPr>
              <a:t>تقدم دور العبادة أمثالاُ حية ونماذج للسلوك من التراث او من الواقع , فالخشية التي يشاهدها في عيون الكبار ومنهم أبواه مثلاً والتضرع الى الله سبحانه وتعالى وسماعه للأدعية المختلفة كلها أمثال حية على طريق التطبيع الاجتماعي للأطفال فينشأ الطفل على التقوى والبر .</a:t>
            </a:r>
            <a:endParaRPr b="0" lang="en-US" sz="2000" spc="-1" strike="noStrike">
              <a:solidFill>
                <a:srgbClr val="000000"/>
              </a:solidFill>
              <a:latin typeface="Verdana"/>
            </a:endParaRPr>
          </a:p>
          <a:p>
            <a:pPr marL="480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r>
              <a:rPr b="0" lang="ar-SA" sz="3600" spc="-1" strike="noStrike">
                <a:solidFill>
                  <a:srgbClr val="006666"/>
                </a:solidFill>
                <a:latin typeface="Arial"/>
              </a:rPr>
              <a:t> </a:t>
            </a:r>
            <a:endParaRPr b="0" lang="en-US" sz="3600" spc="-1" strike="noStrike">
              <a:solidFill>
                <a:srgbClr val="006666"/>
              </a:solidFill>
              <a:latin typeface="Arial"/>
            </a:endParaRPr>
          </a:p>
        </p:txBody>
      </p:sp>
      <p:sp>
        <p:nvSpPr>
          <p:cNvPr id="100" name="PlaceHolder 2"/>
          <p:cNvSpPr>
            <a:spLocks noGrp="1"/>
          </p:cNvSpPr>
          <p:nvPr>
            <p:ph/>
          </p:nvPr>
        </p:nvSpPr>
        <p:spPr>
          <a:xfrm>
            <a:off x="1369800" y="1557360"/>
            <a:ext cx="7313400" cy="5300640"/>
          </a:xfrm>
          <a:prstGeom prst="rect">
            <a:avLst/>
          </a:prstGeom>
          <a:noFill/>
          <a:ln w="0">
            <a:noFill/>
          </a:ln>
        </p:spPr>
        <p:txBody>
          <a:bodyPr anchor="t">
            <a:normAutofit fontScale="83000"/>
          </a:bodyPr>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تعددت وسائل الاعلام التي أصبحت تشد الطفل من مجلات وكتب هزلية وتلفزيون وسينما ومسرح </a:t>
            </a:r>
            <a:endParaRPr b="0" lang="en-US" sz="2100" spc="-1" strike="noStrike">
              <a:solidFill>
                <a:srgbClr val="000000"/>
              </a:solidFill>
              <a:latin typeface="Verdana"/>
            </a:endParaRPr>
          </a:p>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لاستفادة من وسائل الاعلام في التنشئة الاجتماعية للطفل ليست حديثة فالحواديت والقصص والملاحم الشعبية كانت تستعمل قصدا وبغير قصد في إكساب الطفل كثيراً من عادات المجتمع وتقاليده.</a:t>
            </a:r>
            <a:endParaRPr b="0" lang="en-US" sz="2100" spc="-1" strike="noStrike">
              <a:solidFill>
                <a:srgbClr val="000000"/>
              </a:solidFill>
              <a:latin typeface="Verdana"/>
            </a:endParaRPr>
          </a:p>
          <a:p>
            <a:pPr marL="284400" indent="-284400" algn="r" rtl="1">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وأن كان تأثير وسائل الاعلام عموما على تنشئة الأطفال يتأثر بعدد من العوامل وهي:عمر الطفل ,سمات الطفل الشخصية ,المستوى الاجتماعي والثقافي الذي ينتمي اليه الطفل ,ردود فعل الأفراد بالبيئة المحيطة بالطفل إذا مارس فشل الرسالة,المجال الاجتماعي الذي يجرب به الطفل ما شاهده.</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a:t>
            </a:r>
            <a:r>
              <a:rPr b="1" lang="ar-SA" sz="2100" spc="-1" strike="noStrike">
                <a:solidFill>
                  <a:srgbClr val="000000"/>
                </a:solidFill>
                <a:latin typeface="Verdana"/>
              </a:rPr>
              <a:t>ويميل الكثيرون الى إرجاع ما يلاحظونه من تباينات وانحرافات في سلوك الطفل الى واحدة أو أكثر من وسائل الإعلام , والواقع انه لا يجب النظر الى الأمر بهذه البساطة , ويجب الحذر عند تحدثنا عن علاقة سببية بين التعرض لرسائل إعلامية معينة وانحراف سلوك الاطفال , ان الجريمة والعنف في وسائل الاعلام لا يحتمل ان تكون هي المحرك الأول والوحيد للنجاح.</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8000"/>
                </a:solidFill>
                <a:latin typeface="Verdana"/>
              </a:rPr>
              <a:t>*فيجب ان تتوافق هذه الرسائل الاعلامية مع ميول واستعدادات وظروف الطفل الاجتماعية والثقافية.</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ان لم تنبع الرسائل الإعلامية من ارضه وبيئته التي ينتمي اليها فان ذلك يعد مساهمة على الانسلاخ من هذه البيئة والتناقض معها في فترة ما.</a:t>
            </a:r>
            <a:endParaRPr b="0" lang="en-US" sz="2100" spc="-1" strike="noStrike">
              <a:solidFill>
                <a:srgbClr val="000000"/>
              </a:solidFill>
              <a:latin typeface="Verdana"/>
            </a:endParaRPr>
          </a:p>
          <a:p>
            <a:pPr marL="2844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2" name="PlaceHolder 2"/>
          <p:cNvSpPr>
            <a:spLocks noGrp="1"/>
          </p:cNvSpPr>
          <p:nvPr>
            <p:ph/>
          </p:nvPr>
        </p:nvSpPr>
        <p:spPr>
          <a:xfrm>
            <a:off x="1369800" y="1483920"/>
            <a:ext cx="7313400" cy="5373720"/>
          </a:xfrm>
          <a:prstGeom prst="rect">
            <a:avLst/>
          </a:prstGeom>
          <a:noFill/>
          <a:ln w="0">
            <a:noFill/>
          </a:ln>
        </p:spPr>
        <p:txBody>
          <a:bodyPr anchor="t">
            <a:normAutofit fontScale="89000"/>
          </a:bodyPr>
          <a:p>
            <a:pPr marL="305280" indent="-305280" algn="r" rtl="1">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سائل الاعلام للطفل تتمثل في</a:t>
            </a:r>
            <a:r>
              <a:rPr b="1" lang="ar-SA" sz="2400" spc="-1" strike="noStrike">
                <a:solidFill>
                  <a:srgbClr val="008000"/>
                </a:solidFill>
                <a:latin typeface="Verdana"/>
              </a:rPr>
              <a:t>:</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1</a:t>
            </a:r>
            <a:r>
              <a:rPr b="1" lang="ar-SA" sz="2800" spc="-1" strike="noStrike">
                <a:solidFill>
                  <a:srgbClr val="000000"/>
                </a:solidFill>
                <a:latin typeface="Verdana"/>
              </a:rPr>
              <a:t>- التلفزيون:</a:t>
            </a:r>
            <a:r>
              <a:rPr b="1" lang="ar-SA" sz="2400" spc="-1" strike="noStrike">
                <a:solidFill>
                  <a:srgbClr val="008000"/>
                </a:solidFill>
                <a:latin typeface="Verdana"/>
              </a:rPr>
              <a:t>, يعتبر التلفزيون جهازا يجمع بين الكلمة المسموعة والصورة المرئية مما يزيد قوة التأثير لاستغلاله حاستين من حواس الأطفال</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لقد أصبح التلفزيون هو المسيطر الأول على ميدان الاتصال بالأطفال بين وسائل الاعلام.</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تشير الإحصاءات الى ان اطفال المدرسة الابتدائية وما قبلها يشاهدون التلفاز اكثر من تلاميذ المرحلة الاعدادية.</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ان لتلفزيون قدرة على تحويل المجردات الى محسوسات مما يساعد على سهولة فهم الرسالة المقدمة.</a:t>
            </a:r>
            <a:endParaRPr b="0" lang="en-US" sz="2400" spc="-1" strike="noStrike">
              <a:solidFill>
                <a:srgbClr val="000000"/>
              </a:solidFill>
              <a:latin typeface="Verdan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Verdana"/>
              </a:rPr>
              <a:t>*ان مشاهدة الطفل للتلفزيون تحدث طواعية وان انتباهه الى برامجه يكون محاطا بتركيز أكثر من انتباهه الى دروس المدرس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4" name="PlaceHolder 2"/>
          <p:cNvSpPr>
            <a:spLocks noGrp="1"/>
          </p:cNvSpPr>
          <p:nvPr>
            <p:ph/>
          </p:nvPr>
        </p:nvSpPr>
        <p:spPr>
          <a:xfrm>
            <a:off x="1369800" y="1557360"/>
            <a:ext cx="7313400" cy="5300640"/>
          </a:xfrm>
          <a:prstGeom prst="rect">
            <a:avLst/>
          </a:prstGeom>
          <a:noFill/>
          <a:ln w="0">
            <a:noFill/>
          </a:ln>
        </p:spPr>
        <p:txBody>
          <a:bodyPr anchor="t">
            <a:normAutofit fontScale="87000"/>
          </a:bodyPr>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من ايجابيات التلفاز ينمي خيال الطفل وإدراكه , كما ان الاعتماد على الصوت والصورة يقوي القدرة التذكرية واسترجاع الأفكار والمشاهد وهذا ما يجعله وسيلة تعليمية مساعدة في نطاق استغلالها تربوياً,وهذا من شأنه أن ينمي عواطف ايجابية في الأطفال نحو البحث والاستطلاع والسعي وراء اكتشاف الغموض.</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ان التلفزيون ينمي السلوك الايجابي من التعاطف مع الغير , وتنمية روح التعاون والمشاركة .</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ن البرامج التلفزيونيه التي تحتوي على أدور عدوانية وادوار خيرة معاً , غالباً ما ينجذب الأطفال الى الدور العدواني ويفقدون الرسالة الاخرى الخيرة.</a:t>
            </a: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أيضا يوجد سلبيات للتلفاز ومنها :ما يثار فيهم من انفعالات الخوف والكره نتيجة بعض المشاهد للأفلام , وجعل الطفل يستمر لفترة طويلة بعد المشاهدة تحت تأثير هذه الانفعالات , وإحساس الطفل بالتناقض العاطفي بين الواقع وما يشاهده على التلفاز , وعندما يطغى حب بطل الشاشة يكون الطفل مهيأ بطبعه لتقليده .</a:t>
            </a: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نتيجة طول المدة التي يقضيها بعض الأطفال امام التلفزيون والتي تصل أحياناً الى أكثر من </a:t>
            </a:r>
            <a:r>
              <a:rPr b="1" lang="ar-SA" sz="2000" spc="-1" strike="noStrike">
                <a:solidFill>
                  <a:srgbClr val="008000"/>
                </a:solidFill>
                <a:latin typeface="Verdana"/>
              </a:rPr>
              <a:t>3</a:t>
            </a:r>
            <a:r>
              <a:rPr b="1" lang="ar-SA" sz="2000" spc="-1" strike="noStrike">
                <a:solidFill>
                  <a:srgbClr val="008000"/>
                </a:solidFill>
                <a:latin typeface="Verdana"/>
              </a:rPr>
              <a:t> ساعات يومياً, وانعدام رقابة الآباء يشعر الطفل بالكسل وإجهاد البصر والأعصاب.</a:t>
            </a: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ثامناً: وسائل الإعلام</a:t>
            </a:r>
            <a:endParaRPr b="0" lang="en-US" sz="3600" spc="-1" strike="noStrike">
              <a:solidFill>
                <a:srgbClr val="006666"/>
              </a:solidFill>
              <a:latin typeface="Arial"/>
            </a:endParaRPr>
          </a:p>
        </p:txBody>
      </p:sp>
      <p:sp>
        <p:nvSpPr>
          <p:cNvPr id="106" name="PlaceHolder 2"/>
          <p:cNvSpPr>
            <a:spLocks noGrp="1"/>
          </p:cNvSpPr>
          <p:nvPr>
            <p:ph/>
          </p:nvPr>
        </p:nvSpPr>
        <p:spPr>
          <a:xfrm>
            <a:off x="1369800" y="1557360"/>
            <a:ext cx="7313400" cy="5300640"/>
          </a:xfrm>
          <a:prstGeom prst="rect">
            <a:avLst/>
          </a:prstGeom>
          <a:noFill/>
          <a:ln w="0">
            <a:noFill/>
          </a:ln>
        </p:spPr>
        <p:txBody>
          <a:bodyPr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يتولد لديه شعور بالنفور من الأعمال والواجبات المدرسية باعتبارها معارضة للمتعة والراحة, وهذا ما يجعل البعض يرى ان التلفاز اداة او وسيلة ”إدمان كهربائية“</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نقص من الوقت الذي يقضيه الأطفال في الاعمال النافعة مثل القراءة ومشاركة الغير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وللتلفزيون إيجابيات كثيرة وأيضاً سلبيات,وبين الإيجابيات والسلبيات تجد بعض</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النظريات في ((علم النفس)).</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نظرية التحليل النفسي لفرويد ترى أن مشاهدة الأطفال للأفلام العنف وسيلة مفيدة للتنفيس عن الذات والتخلص من العدوانية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Verdana"/>
              </a:rPr>
              <a:t>*أما نظرية التعلم الاجتماعي لباندورا فتشير الى ان الاجرام والعنف في التلفاز قد يشجع الطفل على العدوان عن طريق التقليد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ما الدراسات الطولية أفادت أن هناك علاقة بين مشاهدة افلام العنف والعدوان في واقع الحياة , ولا تشير الى ان العنف الذي شاهده الطفل في التلفزيون كان السبب وراء ارتكابه أفعال اجرامية .</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a:t>
            </a:r>
            <a:r>
              <a:rPr b="1" lang="ar-SA" sz="2000" spc="-1" strike="noStrike">
                <a:solidFill>
                  <a:srgbClr val="008000"/>
                </a:solidFill>
                <a:latin typeface="Verdana"/>
              </a:rPr>
              <a:t>أن من أثار مشاهدة افلام العنف والعدوان وبرامج الجريمة فقدان الأطفال الحساسية ضد الإجرام أو يحجز العاطفة والفؤاد فتجعل الطفل يتقبل السلوك العدواني ولا يحس أنه شئ غريب</a:t>
            </a:r>
            <a:endParaRPr b="0" lang="en-US" sz="2000" spc="-1" strike="noStrike">
              <a:solidFill>
                <a:srgbClr val="000000"/>
              </a:solidFill>
              <a:latin typeface="Verdana"/>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إعطائه فكرة أن المجتمع ملئ بالإجرام والعنف . كما ان علاقة الوالدين بالأبناء التي تتسم بالنزاع والسلبية بالإضافة لوجود مشاكل أسرية بين الزوجين ترتبط بكمية ونوعية مشاهدة الأطفال للتلفاز</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3:39:49Z</dcterms:created>
  <dc:creator>ATIG</dc:creator>
  <dc:description/>
  <dc:language>en-US</dc:language>
  <cp:lastModifiedBy>user</cp:lastModifiedBy>
  <dcterms:modified xsi:type="dcterms:W3CDTF">2011-04-25T08:15:56Z</dcterms:modified>
  <cp:revision>36</cp:revision>
  <dc:subject/>
  <dc:title>وكالات التنشئة الاجتماعية</dc:title>
</cp:coreProperties>
</file>