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fafd00"/>
                </a:solidFill>
                <a:latin typeface="Times New Roman"/>
              </a:rPr>
              <a:t>Anatomy of Local Anesthesia 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776160"/>
            <a:ext cx="10287000" cy="530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10287000" cy="597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4400"/>
            <a:ext cx="9829800" cy="683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2576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2576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95160"/>
            <a:ext cx="10287000" cy="546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dibular (V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ior alve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 bra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sive bra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g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lohyo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riculotemp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8440"/>
            <a:ext cx="9219960" cy="679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igeminal Nerv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Mandibular (V3) division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s of Mast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lohyo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astric (anterior bel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or tympa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or veli palat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0760" y="0"/>
            <a:ext cx="49640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81360" y="0"/>
            <a:ext cx="4722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81360" y="0"/>
            <a:ext cx="4722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-7920"/>
            <a:ext cx="8229600" cy="681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dmarks - Maxil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ine eminence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ine fossa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erosity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atal process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dmarks - Maxill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sive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er palatine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17680" y="0"/>
            <a:ext cx="5649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dmarks - Mandi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ylar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ylar n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onoid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onoid no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moid (mandibular) no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dmarks - Mandi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dibular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g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lohyoid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0200" y="0"/>
            <a:ext cx="5284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igeminal Nerv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n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hthalmic (V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 (V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dibular (V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3520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601200" cy="6370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phthalmic (V1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ocili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ri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677160" cy="683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64040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xillary (V2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veo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erior superior alveolar (P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 superior alveolar (M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erior superior alveolar (A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opal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er pal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er pal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08:35:08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5T20:32:04Z</dcterms:modified>
  <cp:revision>10</cp:revision>
  <dc:subject/>
  <dc:title> Anatomy of Local Anesthesia </dc:title>
</cp:coreProperties>
</file>