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17440" y="228240"/>
            <a:ext cx="69091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17440" y="1828800"/>
            <a:ext cx="69091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17440" y="3978360"/>
            <a:ext cx="69091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17440" y="228240"/>
            <a:ext cx="69091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17440" y="182880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7680" y="182880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17440" y="397836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57680" y="397836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17440" y="228240"/>
            <a:ext cx="69091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17440" y="182880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53480" y="182880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89520" y="182880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17440" y="397836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53480" y="397836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789520" y="397836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17440" y="228240"/>
            <a:ext cx="69091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17440" y="182880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17440" y="228240"/>
            <a:ext cx="69091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17440" y="182880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17440" y="228240"/>
            <a:ext cx="69091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17440" y="182880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7680" y="182880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17440" y="228240"/>
            <a:ext cx="69091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117440" y="228240"/>
            <a:ext cx="69091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17440" y="228240"/>
            <a:ext cx="69091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17440" y="182880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7680" y="182880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17440" y="397836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17440" y="228240"/>
            <a:ext cx="69091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17440" y="182880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7680" y="182880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57680" y="397836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17440" y="228240"/>
            <a:ext cx="69091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17440" y="182880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7680" y="182880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17440" y="3978360"/>
            <a:ext cx="69091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240" cy="6173640"/>
            </a:xfrm>
            <a:custGeom>
              <a:avLst/>
              <a:gdLst/>
              <a:ahLst/>
              <a:rect l="l" t="t" r="r" b="b"/>
              <a:pathLst>
                <a:path w="4346" h="3889">
                  <a:moveTo>
                    <a:pt x="4345" y="3418"/>
                  </a:moveTo>
                  <a:lnTo>
                    <a:pt x="514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819" y="3888"/>
                  </a:lnTo>
                  <a:lnTo>
                    <a:pt x="4345" y="3418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840" y="0"/>
              <a:ext cx="5387040" cy="5116680"/>
            </a:xfrm>
            <a:custGeom>
              <a:avLst/>
              <a:gdLst/>
              <a:ahLst/>
              <a:rect l="l" t="t" r="r" b="b"/>
              <a:pathLst>
                <a:path w="3818" h="3223">
                  <a:moveTo>
                    <a:pt x="416" y="0"/>
                  </a:moveTo>
                  <a:lnTo>
                    <a:pt x="3817" y="3036"/>
                  </a:lnTo>
                  <a:lnTo>
                    <a:pt x="3609" y="3222"/>
                  </a:lnTo>
                  <a:lnTo>
                    <a:pt x="0" y="0"/>
                  </a:lnTo>
                  <a:lnTo>
                    <a:pt x="416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0760" y="0"/>
              <a:ext cx="4538880" cy="4057560"/>
            </a:xfrm>
            <a:custGeom>
              <a:avLst/>
              <a:gdLst/>
              <a:ahLst/>
              <a:rect l="l" t="t" r="r" b="b"/>
              <a:pathLst>
                <a:path w="3217" h="2556">
                  <a:moveTo>
                    <a:pt x="709" y="0"/>
                  </a:moveTo>
                  <a:lnTo>
                    <a:pt x="3216" y="2238"/>
                  </a:lnTo>
                  <a:lnTo>
                    <a:pt x="2861" y="2555"/>
                  </a:lnTo>
                  <a:lnTo>
                    <a:pt x="0" y="0"/>
                  </a:lnTo>
                  <a:lnTo>
                    <a:pt x="709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560" y="0"/>
              <a:ext cx="3629160" cy="3367080"/>
            </a:xfrm>
            <a:custGeom>
              <a:avLst/>
              <a:gdLst/>
              <a:ahLst/>
              <a:rect l="l" t="t" r="r" b="b"/>
              <a:pathLst>
                <a:path w="2572" h="2121">
                  <a:moveTo>
                    <a:pt x="0" y="0"/>
                  </a:moveTo>
                  <a:lnTo>
                    <a:pt x="2375" y="2120"/>
                  </a:lnTo>
                  <a:lnTo>
                    <a:pt x="2571" y="1945"/>
                  </a:lnTo>
                  <a:lnTo>
                    <a:pt x="392" y="0"/>
                  </a:lnTo>
                  <a:lnTo>
                    <a:pt x="0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17440" y="228240"/>
            <a:ext cx="69091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117440" y="182880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afd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Review of the Patient’s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edical History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17440" y="228240"/>
            <a:ext cx="69091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Using the Answer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17440" y="182880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leeding dyscrasi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avoid deep inje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may be on anticoagul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may use vasoconstric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17440" y="228240"/>
            <a:ext cx="69091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Using the Answer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17440" y="182880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orthopnea may limit chair pos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decreased liver perfu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within 6 months, postpone treat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17440" y="228240"/>
            <a:ext cx="69091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Using the Answer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17440" y="182880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B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200 / 115  immediate referral to M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gn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1st trimester - postp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2nd, 3rd trimester - short appoint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17440" y="228240"/>
            <a:ext cx="69091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Using the Answer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17440" y="182880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lignant Hyperthermia - amides 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ypical Plasma Cholinester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esters are contraindica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hemoglobinem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Articaine, Prilocaine contraindicat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17440" y="228240"/>
            <a:ext cx="69091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Vital Sig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17440" y="182880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P - below 140 /9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 - 60-100 b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 - 12-16 / m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 - 98.6 F, 37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.- should correlate with 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t. - obese is 20% above aver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17440" y="228240"/>
            <a:ext cx="69091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edical History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17440" y="182880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ief Complai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ntal probl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story of Present Ill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luding previous dental experi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17440" y="228240"/>
            <a:ext cx="69091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edical History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7440" y="182880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st Medical Hist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luding surgical &amp; anesthetic experi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d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erg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17440" y="228240"/>
            <a:ext cx="69091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edical History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17440" y="182880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mily Hist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cial Hist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oking, drinking, drug u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17440" y="228240"/>
            <a:ext cx="69091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pecific Questio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7440" y="182880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titu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ergies (anesthesia, latex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MJ probl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17440" y="228240"/>
            <a:ext cx="69091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pecific Questio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7440" y="182880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ent medical care (2 year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for? meds? statu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diovascular dise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art murmur, RF, HB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gna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17440" y="228240"/>
            <a:ext cx="69091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pecific Questio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17440" y="182880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leeding dyscrasias / anem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dn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docrine (diabet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17440" y="228240"/>
            <a:ext cx="69091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pecific Questio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17440" y="182880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iz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ung dise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nus probl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munocompromise (AID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17440" y="228240"/>
            <a:ext cx="69091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pecific Questio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7440" y="182880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there any other medical condition you have or have had in the pas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05T22:29:11Z</dcterms:created>
  <dc:creator>Ben Connaughton</dc:creator>
  <dc:description/>
  <dc:language>en-US</dc:language>
  <cp:lastModifiedBy>Ben Connaughton</cp:lastModifiedBy>
  <dcterms:modified xsi:type="dcterms:W3CDTF">1999-08-06T19:39:30Z</dcterms:modified>
  <cp:revision>4</cp:revision>
  <dc:subject/>
  <dc:title>Review of the Patient’s Medical History</dc:title>
</cp:coreProperties>
</file>