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E1A9A-A82D-4A69-8822-88946B302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46B4BD1-FBBD-42C6-9A5F-970A9568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2A2EC09-3681-4BF0-B5D3-4AC72C81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5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E637235-5A2E-46CF-9808-FDF50FD88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A94825-D6E9-4A47-A57D-2C2EB9C0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43B-ED3B-41A9-9C3C-68BC2B7D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252-0EFE-457B-8AB5-21FB5B1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F6E-2CF6-4538-A318-4A9D2B9E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EDC-9204-4699-BFC6-E985344E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9428-E916-4F72-BCA4-BC129233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8B93-1D29-4F76-896B-98FDAA7E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60BF-9BC3-4D43-8F44-788DDF08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910-BC95-4DA1-8ABF-09FFE560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CCB-9140-4DF4-9F97-042779F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3608-1534-4629-A21E-230FF5FC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09E0-3C71-4D5D-868C-DE5E662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2FA-DE64-49F2-9E26-B96A1F6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10D-44A8-4D05-9CDA-A5E4D6A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0ED3-AE8F-4884-AD4D-789C9D8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830B-4A80-4464-B8A4-45EB102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F056-1183-4EC7-BF18-D73C730C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A6D6-DEED-4E5A-970F-9E6DB955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6028-0A05-493B-95A3-FE950F42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E741-57A8-4D41-A9FB-9281825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C3E0-D1E9-4975-8E77-398C144B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A667-C7CC-4570-A6FB-BA6A477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A108-486C-4D69-A563-0257E3CC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138-5007-46FF-BCDA-3E467E2E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E4B2-4D2B-45AB-933E-891E7436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56C9-4DD3-4F55-9FA2-3F22216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D77B-301C-4B3B-858A-3A476F2D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91ED-5008-434A-B2AF-C91DADA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CD50-D8CD-4E91-8BB5-59DDA142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B65C-AE44-459F-805D-3A560F16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E5DC3-A828-4A4D-9294-AD3474AC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C1D-295D-426E-9099-18BF8AB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6FA-FEFE-4B63-B08C-63C3E7B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41E-7636-4137-814A-68E962C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244-59A2-4538-8A64-4C8AA67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A1E-674A-479A-BECE-91A37C91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46F-FA6F-4CDF-935D-85EE3406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e7f0f3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e7f0f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C17CD25-9D42-4904-B988-9DB5102EECC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9137477-8C8D-4D16-BCC9-E2C1BEFBF33D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C374D20-DB53-45F0-9247-4E2CF6A8D96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48A31D2-5BCD-4F57-B251-5034BEE3E41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E6DF513-5E20-4CD9-A347-EADBF98BDE64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F01AE39-C0EE-4E10-A5FE-A945B6E90C33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204CF46-E1A8-4035-9489-901CEE2512F3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305CDBC-54DC-48A1-A20C-9B4BE5AD5261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  <p:sp>
        <p:nvSpPr>
          <p:cNvPr id="190" name="PlaceHolder 3"/>
          <p:cNvSpPr>
            <a:spLocks noGrp="1"/>
          </p:cNvSpPr>
          <p:nvPr>
            <p:ph type="sldNum" idx="2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91D3176-6EFD-4BCC-ADC8-F378565346C0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F95EF6E-ED58-4804-87F4-B7D9344BA3C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7528DD7-C04D-41DD-BB39-1D69CEBC8C46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D99FE21-A015-40B6-9D05-4C4261AB590E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3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96A5531-F2CC-4A7A-821E-5D3450E05B2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3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1AED3B7-97F6-4A58-8A48-078ABB020FC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sldNum" idx="1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361D7D78-0F98-4148-ADCC-B3D42F2B68B4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3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6D8C3A8-F57E-4DB3-9E7B-418AFB359F0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 rtl="1">
              <a:buNone/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rcRect l="32599" t="47873" r="22037" b="21039"/>
          <a:stretch/>
        </p:blipFill>
        <p:spPr>
          <a:xfrm>
            <a:off x="755640" y="2853000"/>
            <a:ext cx="7659720" cy="2952000"/>
          </a:xfrm>
          <a:prstGeom prst="rect">
            <a:avLst/>
          </a:prstGeom>
          <a:ln w="9525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rcRect l="33544" t="42834" r="22982" b="54634"/>
          <a:stretch/>
        </p:blipFill>
        <p:spPr>
          <a:xfrm>
            <a:off x="755640" y="1989000"/>
            <a:ext cx="8832600" cy="287640"/>
          </a:xfrm>
          <a:prstGeom prst="rect">
            <a:avLst/>
          </a:prstGeom>
          <a:ln w="9525">
            <a:noFill/>
          </a:ln>
        </p:spPr>
      </p:pic>
      <p:sp>
        <p:nvSpPr>
          <p:cNvPr id="213" name="PlaceHolder 3"/>
          <p:cNvSpPr>
            <a:spLocks noGrp="1"/>
          </p:cNvSpPr>
          <p:nvPr>
            <p:ph type="sldNum" idx="3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86B78CA-BC1A-4E16-96B9-ECC1F367D6B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one copy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3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6461D9F-AD88-48DF-A1C5-437C28B7CBE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3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B5235AB-ACF9-4C34-A705-227FEA347470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2F7519D-8249-46D8-BAE0-85C083649CC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E190EB0-30A7-4165-BF28-87B32A258438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7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8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Num" idx="3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0334357-3FF2-417F-BB8E-8FB90BB380B6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8A56514-E83E-41EE-92EF-E526119A0B6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4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71265E1-B761-4BD5-97D0-D1ED3A249A76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4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46B6737-8BFD-42AB-86B7-A61F471983D1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2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BAE5AA52-DA31-4BF5-9F23-BC115EBFAC9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4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F83E516-98A3-45F7-810C-2E50A5B4944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4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D9780E8-F2B9-4EBA-86D3-B8AF2CB183B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4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2182F3E-9B23-460F-B8C0-7BC00C63833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4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6B4D7BB-71C4-4A83-8B55-6A79C1E4161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4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AE16E4C6-2D2E-438D-95D1-86A0E81E3277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4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122AEFE2-2074-42A1-9A40-5088112FB072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B01D3DC-36B2-45FA-8654-F6432DED4549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89D00FC-A1DF-4EA2-9820-00B56CDB619B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82A2259-A763-4243-86BC-F5225217C67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4206B0F-C4DE-4CBD-8690-888B2CA36F8A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A8DBC58-ABB1-4555-8894-6D51D05986C3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827E7AA-3980-4B10-9436-A2BB661F3612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  <Words>1513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sony</cp:lastModifiedBy>
  <dcterms:modified xsi:type="dcterms:W3CDTF">2015-09-09T01:48:11Z</dcterms:modified>
  <cp:revision>9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