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7CA0FA-4C9E-4CC3-86EA-0284AFE04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49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D69DFF4-E853-4930-B234-181A8CE48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5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4AC8E76-1B2C-471F-8552-97A75905F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51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3623E87-88FA-4088-87B4-FEC49D9A8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4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8C57D80-D398-48A1-9C69-B61E0200F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AFB-23D6-4192-A706-9CD522CD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745-2808-493A-9FEF-D5D0E214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D56-F713-4871-A96F-79E9F1A0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737-AAF3-4B2A-9C1C-D7D45549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3D0C-1ECE-45C6-82E0-B60FC78C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F95C-3B6C-40C0-B677-B1AC7DAD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E2F9-2CCB-418F-94D1-59E712CD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061A-385E-4F73-8E10-F1B952C0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3AC1-4A7F-48BB-9D5E-33310E67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A8CB-1028-49C0-B7AF-717D9EEC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B5CC-DA27-456C-A9F0-B9EB536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088-0AB2-4F1F-AE4A-B1E0B48A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FA2B-D74E-4CC8-A915-00B44EEB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1677-4143-4F48-9ABB-C790B943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6CD4-13AE-4889-9597-EFF3F43C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1726-A992-47AD-B2AF-450A9AEF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5A70-FDAD-45FD-9590-F8914063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4C41-5AE6-4F94-A4E2-0A38F39A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E7A6-9DBC-4B33-A60C-C221ACFC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2307-72C0-469A-B412-94F0071B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2EB0-5DF9-4026-83C4-C2A5A662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25F7-8DC6-48AC-87B0-D4473833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8EA-325D-4C34-8087-C007C95C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E9CA-58AC-47C1-8F03-1D5C45A8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6BA16-1130-4C41-A324-9F824877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CC4CD-66C6-42B8-B12F-F878D67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8E7B-8729-4586-ACE7-3FDB375F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2F6E5-21A6-49FD-AA75-14BBB3DB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0B01-4686-4DE8-87C3-7C0E442C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AA90-1195-4928-A2CB-1ADB9A69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B8D-8C87-433B-9BB7-155F9BCA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8C7-C17C-46BC-812C-F1991C8F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23A-B284-4055-8731-89E79801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38E-623E-42DF-A750-8209A3C6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47E-E920-4F5F-84FA-A08A3C1C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B90-6B63-4A0F-9437-D7AE4DE5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e7f0f3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e7f0f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1EBBD657-FB9A-41B2-BD3F-513E524D026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313C891A-57D6-4AC7-A5C5-3E6A2CAFB97E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A6AB1CB-DABD-47A8-A9D6-65985DC1C884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Object-Oriented Programming: Classes and Objects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BE3F05A-23A5-4739-A867-BF95CDF125F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8320" cy="5180400"/>
          </a:xfrm>
          <a:prstGeom prst="rect">
            <a:avLst/>
          </a:prstGeom>
          <a:ln w="9525">
            <a:noFill/>
          </a:ln>
        </p:spPr>
      </p:pic>
      <p:sp>
        <p:nvSpPr>
          <p:cNvPr id="175" name="PlaceHolder 3"/>
          <p:cNvSpPr>
            <a:spLocks noGrp="1"/>
          </p:cNvSpPr>
          <p:nvPr>
            <p:ph type="sldNum" idx="2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7C893A6-6E17-4525-AD18-D00CC5838289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you create an object of a class, the class’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called to initialize the ob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must be nam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re generally declar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are implemented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u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procedures, because they cannot return valu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914400" y="1219320"/>
            <a:ext cx="7162560" cy="2209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ber As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Public Sub New( ByVal  n As Integ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number = 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End Sub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CBBE5441-F4BB-49B4-A88C-68A3F6CDC7AE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onstructor call is required for every object that’s creat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ou can provide a parameterless constructor that contains code and takes no parameters, or that takes only Optional parameters so you can call it with no argumen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6CD3C22-389B-4A83-81CD-F9718754B5BD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reate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bject in Visual Basic is defined by a 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describes the variables, properties, procedures, and events of an o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are instances of classes; you can create as many objects you need once you have defined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so specify Public, Protected, Friend, Protected Friend, Private, Shared, or Static in the declaration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Rounded Rectangle 4"/>
          <p:cNvSpPr/>
          <p:nvPr/>
        </p:nvSpPr>
        <p:spPr>
          <a:xfrm>
            <a:off x="1371600" y="3733920"/>
            <a:ext cx="5943240" cy="1142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Dim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ariableName As [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] Class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1080CF32-DB56-456E-9315-979FC43DADE9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represents a bank account that has a balance, deposit and withdraw money transa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creates and uses an object of 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" name="Picture 1" descr="vbhtp5_09_ClassesAndObjectsImges_Page_04.png"/>
          <p:cNvPicPr/>
          <p:nvPr/>
        </p:nvPicPr>
        <p:blipFill>
          <a:blip r:embed="rId1"/>
          <a:srcRect l="4165" t="8240" r="24168" b="65147"/>
          <a:stretch/>
        </p:blipFill>
        <p:spPr>
          <a:xfrm>
            <a:off x="-36360" y="3573000"/>
            <a:ext cx="8940960" cy="2016000"/>
          </a:xfrm>
          <a:prstGeom prst="rect">
            <a:avLst/>
          </a:prstGeom>
          <a:ln w="9525">
            <a:noFill/>
          </a:ln>
        </p:spPr>
      </p:pic>
      <p:sp>
        <p:nvSpPr>
          <p:cNvPr id="190" name="PlaceHolder 3"/>
          <p:cNvSpPr>
            <a:spLocks noGrp="1"/>
          </p:cNvSpPr>
          <p:nvPr>
            <p:ph type="sldNum" idx="2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66ECB1B-CD45-4654-87EF-655A012031B8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can have references to objects of other classes as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is sometimes referred to as a </a:t>
            </a:r>
            <a:r>
              <a:rPr b="1" i="1" lang="en-US" sz="2600" spc="-1" strike="noStrike">
                <a:solidFill>
                  <a:srgbClr val="3380e6"/>
                </a:solidFill>
                <a:latin typeface="Times New Roman"/>
              </a:rPr>
              <a:t>has-a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 relationship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B923BEC7-D74D-451C-AB23-A0CF5F372080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Scop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instance variables and methods hav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cop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ithin this scope, a class’s members are accessible to all of the class’s other members and can be referenced simp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tside a class’s scope, class members cannot be referenced direct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ose class members that are visible (such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) can be accessed through a variable that refers to an object of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7F9FB652-029A-42C2-8943-B8229E756845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bject initializ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 the </a:t>
            </a:r>
            <a:r>
              <a:rPr b="0" lang="en-US" sz="2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allow you to create an object and initialize its properties in the same state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useful when a class does not provide an appropriate constructor to meet your nee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29A450A-22C0-40EE-94D2-4CAC520197C5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 object initializers, you follow the object creation expression with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keyword and an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object initializer li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—a comma-separated list in curly braces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of properties and their values as in the following statements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1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33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.Second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2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eyword indicates that the new object is used to access the properties specified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property name must be preceded by the dot separator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and can appear only once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3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1E70605-29A8-4A74-B143-9D976CFBFC8A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-initializer list cannot be empty and cannot contain properties that are declared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 initializer then executes the property initializers in the order in which they appea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3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421FD4DC-65FA-42A9-B1AD-DDE8E84B06CE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vbhtp5_09_ClassesAndObjectsImges_Page_02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sldNum" idx="1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73E359F5-F4C8-4EA2-A403-18FE3EB2BBA7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uto-Implemented Proper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properties that do not have any additional logic in thei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ors, there is a new feature in Visual Basic 2010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uto-implemented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llows you to write one line of code and have the compiler to generate the property’s code for yo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perty did not require validation in, we could have replaced line 5 and lines 29–41 wi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156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iler would then generate a Private instance variable of type Integer named _Hour and the following property co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G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_H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G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value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_Hour =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Set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Proper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3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32E684EA-6545-4FA8-B704-B438B8941378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buNone/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rcRect l="32599" t="47873" r="22037" b="21039"/>
          <a:stretch/>
        </p:blipFill>
        <p:spPr>
          <a:xfrm>
            <a:off x="755640" y="2853000"/>
            <a:ext cx="7659720" cy="2952000"/>
          </a:xfrm>
          <a:prstGeom prst="rect">
            <a:avLst/>
          </a:prstGeom>
          <a:ln w="9525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rcRect l="33544" t="42834" r="22982" b="54634"/>
          <a:stretch/>
        </p:blipFill>
        <p:spPr>
          <a:xfrm>
            <a:off x="755640" y="1989000"/>
            <a:ext cx="8832600" cy="287640"/>
          </a:xfrm>
          <a:prstGeom prst="rect">
            <a:avLst/>
          </a:prstGeom>
          <a:ln w="9525">
            <a:noFill/>
          </a:ln>
        </p:spPr>
      </p:pic>
      <p:sp>
        <p:nvSpPr>
          <p:cNvPr id="213" name="PlaceHolder 3"/>
          <p:cNvSpPr>
            <a:spLocks noGrp="1"/>
          </p:cNvSpPr>
          <p:nvPr>
            <p:ph type="sldNum" idx="3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BD27A21-F994-4375-8171-79345BF29CBF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object of a class shares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one copy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f the class’s method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bject’s methods can manipulate the object’s dat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t how do methods know which object’s instance variables to manipulate? Every object can access itself through it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Me referen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 every call to a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, the compiler passes an object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ence as an implicit argu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3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BAC6AAE-BBE9-4487-9881-83293FEEA1E1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Shadowed Instance Variables with M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en a method has a parameter or local variable with the same name as one of the class’s instance variables, the instance variable is “hidden” until the method terminates execution—this is called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shadow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 to access the shadowed instance variabl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ume that we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inu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eco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nstance variabl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3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A658C2E5-953A-430B-8185-00CE4EDB0A35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onstructor’s parameters shadow (have the same name as) the class’s instance variables, so we u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each shadowed instance variab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minute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second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hour = hour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h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minute = minute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 ' initialize instance var minu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second = second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seco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New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3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CC543097-9BA0-401D-9DB8-42B57C72FD2E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Shared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object has its own copy of the instance variables of its clas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certain cases, all objects of a class should share only one copy of a particular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 vari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epresent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wide inform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—all objects of the class share the same variable, no matter how many objects of the class have been instanti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gether, a class’s instance variables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are know as the class’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el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BE1652D5-EE67-47B8-9A4C-E3D64B30C587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vbhtp5_09_ClassesAndObjectsImges_Page_38.png"/>
          <p:cNvPicPr/>
          <p:nvPr/>
        </p:nvPicPr>
        <p:blipFill>
          <a:blip r:embed="rId1"/>
          <a:srcRect l="8263" t="14995" r="25987" b="24045"/>
          <a:stretch/>
        </p:blipFill>
        <p:spPr>
          <a:xfrm>
            <a:off x="1296000" y="404640"/>
            <a:ext cx="6011640" cy="3384000"/>
          </a:xfrm>
          <a:prstGeom prst="rect">
            <a:avLst/>
          </a:prstGeom>
          <a:ln w="9525">
            <a:noFill/>
          </a:ln>
        </p:spPr>
      </p:pic>
      <p:pic>
        <p:nvPicPr>
          <p:cNvPr id="227" name="Picture 1" descr="vbhtp5_09_ClassesAndObjectsImges_Page_39.png"/>
          <p:cNvPicPr/>
          <p:nvPr/>
        </p:nvPicPr>
        <p:blipFill>
          <a:blip r:embed="rId2"/>
          <a:srcRect l="8263" t="0" r="25200" b="46820"/>
          <a:stretch/>
        </p:blipFill>
        <p:spPr>
          <a:xfrm>
            <a:off x="1296000" y="3213000"/>
            <a:ext cx="6083640" cy="2952000"/>
          </a:xfrm>
          <a:prstGeom prst="rect">
            <a:avLst/>
          </a:prstGeom>
          <a:ln w="9525">
            <a:noFill/>
          </a:ln>
        </p:spPr>
      </p:pic>
      <p:sp>
        <p:nvSpPr>
          <p:cNvPr id="228" name="Title 1"/>
          <p:cNvSpPr/>
          <p:nvPr/>
        </p:nvSpPr>
        <p:spPr>
          <a:xfrm rot="16200000">
            <a:off x="-472680" y="553680"/>
            <a:ext cx="216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Num" idx="3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32234C64-8774-4976-AE00-73ECE705FF0B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 members have class scop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via the class name using the dot separato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by clients only indirectly through the class’s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s and propert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3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E41152D-5BD5-4750-90D9-433ECEF3477E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Members and the </a:t>
            </a: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thods and properties do not have access to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, which can be used to directly access only non-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member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4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46FA5AB8-ED83-4265-9F42-FA044F612405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s are often initialized to their default values or to other values in their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 requires initialization that cannot be accomplished in its declaration (such as complex calculations or constructor arguments), you can perform the initialization in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hared 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hared constructor preceded by the shared modifier and must be declared public, without paramete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4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A12D590-A490-4E52-A147-7F535720A239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applications consist of one or more classes, each containing one or more meth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become part of a development team in industry, you may work on applications that contain hundreds, or even thousands, of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chapter, we motivate the notion of classes with real-world examples and use complete working applications to demonstrate creating your own classes and manipulating objects of those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C39C1A52-280D-4422-8F5F-AB6E90242180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ath provides a collection of Shared methods that enable to perform common mathematical calcul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Math.Sqrt(900.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4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89DE376-F506-46C1-92F7-2D15DCA4C47E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fields whose values cannot change during program execu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constant in a class, declare an identifier as eithe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ither type of constant can be modified once initializ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4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93EE919-83C8-476B-BC1A-9F3365BE3069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dentifier must be initialized a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mpile tim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ts declaration and can be initialized only to constant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 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Private Const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NUMBER_OF_CARD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4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00E3DF3-D4AF-4253-8F70-873032AB791D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ome cases, a constant’s value is not known unti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ecution 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is initialized with a non-constant value (such as a vari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must be initialized with a (possibly) different value on a per-object basi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identifier declared a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ad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initialized either in its declaration or in the class’s constructor(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4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99A9D75-B164-46DE-BD8E-674E8ABDA869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ollowing declaration creates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I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onstant that might be part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	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rivate ReadOnly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employee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initialize the constant employee-by-employee, you can use the constructor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bf00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employeeID = ID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4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B0206604-BA69-4648-B205-3036E2CA1D5F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nstants from Client Cod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 are implicitl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value, client code can access it with the class name followed by the dot separator and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’s nam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object of a class with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has a separate copy of the constant, unless you explicitly declare the constant as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in your class, client code can access it via a reference to an object of that class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4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F6A5185-C0FB-47A9-985B-AB79C98B56D9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n abstract representation of someth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 usable example of the thing the class repres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 is a structure containing data and methods that manipulate the da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77A9612-4A8C-45D8-A326-0A4BE1373B35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Fields, Properties an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re mad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perties represent information that an object contai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are like variables in that they can be read or set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Car col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rieved and set like fields, but are implemented using property Get and property Set procedur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actions that an object can perfo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 "Car" object could have "StartEngine," "Drive," and "Stop" method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02846D5-0A61-4BBA-B779-0C3D7CBF492B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Declar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ccess modifi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es can be reused in other projec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 declaration contain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ollowed immediately by the class’s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’s body ends with the keyword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2362320" y="1447920"/>
            <a:ext cx="32000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3DF234F-F383-492F-979B-E2413F7FA4F8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ccess Level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 access level of a declared element is the extent of the ability to access it, that is, what code has permission to read it or write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from code anywhere within the same project, from other projects that reference the pro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class, or from a class derived from thi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module, class, or structure.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3CDD53F-23FE-4978-99BB-AE21F92B4157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Member Variable (Field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 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only within the class, which gives the class complete control over how those members are us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-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wherever the program has a reference to an Account objec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mber variables declared with Dim default to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cce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2362320" y="1447920"/>
            <a:ext cx="36572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or As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2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B121383D-E3A0-4EFF-80F0-07A85F5403AF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y procedure wh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control when and how a value is set or retriev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validat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the property causes changes to other internal variables or to the values of other propert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Basic provides for the following property procedur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returns the value of a property. It is called when you access the property in an expre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sets a property to a value, including an object reference. It is called when you assign a value to the prope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ually define property procedures in pairs, using the Get and Set statements, but you can define either procedure alone if the property is read-only (Get Statement) or write-only (Set Statement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86CA993-0453-44DE-94AD-A8F40D570DF2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  <Words>1513</Words>
  <Paragraphs>2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0:00:59Z</dcterms:created>
  <dc:creator>Nasser</dc:creator>
  <dc:description/>
  <dc:language>en-US</dc:language>
  <cp:lastModifiedBy>sony</cp:lastModifiedBy>
  <dcterms:modified xsi:type="dcterms:W3CDTF">2015-09-09T01:48:11Z</dcterms:modified>
  <cp:revision>9</cp:revision>
  <dc:subject/>
  <dc:title>Object-Oriented Programming: Classes and Ob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5</vt:r8>
  </property>
</Properties>
</file>