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A8F210-757D-4E4F-B1FF-05B45E08B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C482B2C-873D-4C18-B54C-992699797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9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665F739-9314-490C-8B88-D3BD28D9A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5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292DEB6-C875-4473-8256-19209F2CB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4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B9702A1-4662-4B70-9699-0C08BA2C7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5E8-C2E2-4C87-86CC-751794AB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EEF-5FA6-43F1-B070-CE35F78C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1A2-A768-40B5-9D6A-211A859A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691-30E3-4CEF-8A61-34E7CCCA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2D55-DC2A-4C39-AA2C-C03751ED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B12B-7E89-433F-AEA5-6DB09FAA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5893-C3E0-4B0A-86EE-F7142C7E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6C84-BCD8-4754-8BF7-700E982E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E283-74A8-473E-B25B-463DE3CB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4276-944F-40CA-94A3-FDDF266E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379D-EF4D-43C5-BBE4-FEB0CBE2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26CF-5445-4730-881C-CE7F38E8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0A40-7425-4E3E-A6EA-D435A18B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16AC-8F79-4D4A-AA53-5CEC2796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BC5-BDA5-4D8B-A8EA-2AB6260D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1040-E6C6-4359-98FC-AD1274E6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2FBD-9521-4873-B69D-0C7AAAD5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A7FD-73B8-434A-907D-94AA8974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3F8D-E6C9-4D4F-B8DD-7D7E9AF3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977F-0188-4D2B-843F-9460AA21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AF763-2DC1-4A1F-A8DC-A1848DA5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37E7-81F0-4FCD-A42C-191107DF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0E1-5C23-486C-BB0D-437A436B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534A1-F391-409A-9FAF-30FAC814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AA33-CBEE-419D-8144-3A70D252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AAC7-B44F-4A12-A672-736E908D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DAFF-3F76-49EE-94D9-402A12EF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927E-6F0E-4266-93B0-6BB69E1A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EAFB4-DD65-41D9-8C9B-4A3C67EF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9D4E-1DAD-4277-9858-572E2B57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4E9-8494-4712-A629-2E1E594D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D6F-FFA2-4A57-8BB0-B7DB46AA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35F-A164-4535-AFD8-79C2CD0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456-6E21-4159-8DC8-CAAB10F2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5BD-088F-4DF3-8FD4-547C22F6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B48-9BF4-4D16-9ED9-D3CD3E50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A8C4F1DC-703D-43CD-996E-C92DBA30A0E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E407F86-8008-4B42-AFE5-466739E90025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916ACEC-3988-4BEC-AE46-248E96E9AF79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Object-Oriented Programming: Classes and Objects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3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8320" cy="5180400"/>
          </a:xfrm>
          <a:prstGeom prst="rect">
            <a:avLst/>
          </a:prstGeom>
          <a:ln w="9525">
            <a:noFill/>
          </a:ln>
        </p:spPr>
      </p:pic>
      <p:sp>
        <p:nvSpPr>
          <p:cNvPr id="175" name="PlaceHolder 3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you create an object of a class, the class’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called to initialize the ob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must be nam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re generally declar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are implemented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u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procedures, because they cannot return valu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914400" y="1219320"/>
            <a:ext cx="7162560" cy="2209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ber As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Public Sub New( ByVal  n As Integ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number = 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End Sub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onstructor call is required for every object that’s creat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ou can provide a parameterless constructor that contains code and takes no parameters, or that takes only Optional parameters so you can call it with no argumen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reate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bject in Visual Basic is defined by a 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describes the variables, properties, procedures, and events of an o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are instances of classes; you can create as many objects you need once you have defined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so specify Public, Protected, Friend, Protected Friend, Private, Shared, or Static in the declaration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2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86" name="Rounded Rectangle 4"/>
          <p:cNvSpPr/>
          <p:nvPr/>
        </p:nvSpPr>
        <p:spPr>
          <a:xfrm>
            <a:off x="1371600" y="3733920"/>
            <a:ext cx="5943240" cy="1142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Dim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ariableName As [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] Class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represents a bank account that has a balance, deposit and withdraw money transa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creates and uses an object of 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190" name="Picture 1" descr="vbhtp5_09_ClassesAndObjectsImges_Page_04.png"/>
          <p:cNvPicPr/>
          <p:nvPr/>
        </p:nvPicPr>
        <p:blipFill>
          <a:blip r:embed="rId1"/>
          <a:srcRect l="4165" t="8240" r="24168" b="65147"/>
          <a:stretch/>
        </p:blipFill>
        <p:spPr>
          <a:xfrm>
            <a:off x="-36360" y="3573000"/>
            <a:ext cx="8940960" cy="20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can have references to objects of other classes as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is sometimes referred to as a </a:t>
            </a:r>
            <a:r>
              <a:rPr b="1" i="1" lang="en-US" sz="2600" spc="-1" strike="noStrike">
                <a:solidFill>
                  <a:srgbClr val="3380e6"/>
                </a:solidFill>
                <a:latin typeface="Times New Roman"/>
              </a:rPr>
              <a:t>has-a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 relationship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2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Scop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instance variables and methods hav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cop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ithin this scope, a class’s members are accessible to all of the class’s other members and can be referenced simp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tside a class’s scope, class members cannot be referenced direct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ose class members that are visible (such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) can be accessed through a variable that refers to an object of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2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bject initializ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 the </a:t>
            </a:r>
            <a:r>
              <a:rPr b="0" lang="en-US" sz="2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allow you to create an object and initialize its properties in the same state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useful when a class does not provide an appropriate constructor to meet your nee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2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 object initializers, you follow the object creation expression with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keyword and an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object initializer li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—a comma-separated list in curly braces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of properties and their values as in the following statements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1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33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.Second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2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eyword indicates that the new object is used to access the properties specified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property name must be preceded by the dot separator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and can appear only once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3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-initializer list cannot be empty and cannot contain properties that are declared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 initializer then executes the property initializers in the order in which they appea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3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vbhtp5_09_ClassesAndObjectsImges_Page_02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uto-Implemented Proper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properties that do not have any additional logic in thei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ors, there is a new feature in Visual Basic 2010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uto-implemented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llows you to write one line of code and have the compiler to generate the property’s code for yo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perty did not require validation in, we could have replaced line 5 and lines 29–41 wi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156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iler would then generate a Private instance variable of type Integer named _Hour and the following property co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G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_H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G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value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_Hour =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Set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Proper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3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object of a class shares one copy of the class’s method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bject’s methods can manipulate the object’s dat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t how do methods know which object’s instance variables to manipulate? Every object can access itself through it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Me referen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 every call to a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, the compiler passes an object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ence as an implicit argu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3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Shadowed Instance Variables with M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en a method has a parameter or local variable with the same name as one of the class’s instance variables, the instance variable is “hidden” until the method terminates execution—this is called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shadow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 to access the shadowed instance variabl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ume that we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inu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eco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nstance variabl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3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onstructor’s parameters shadow (have the same name as) the class’s instance variables, so we u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each shadowed instance variab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minute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second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hour = hour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h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minute = minute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 ' initialize instance var minu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second = second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seco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New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3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Shared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object has its own copy of the instance variables of its clas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certain cases, all objects of a class should share only one copy of a particular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 vari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epresent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wide inform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—all objects of the class share the same variable, no matter how many objects of the class have been instanti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gether, a class’s instance variables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are know as the class’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el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3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vbhtp5_09_ClassesAndObjectsImges_Page_38.png"/>
          <p:cNvPicPr/>
          <p:nvPr/>
        </p:nvPicPr>
        <p:blipFill>
          <a:blip r:embed="rId1"/>
          <a:srcRect l="8263" t="14995" r="25987" b="24045"/>
          <a:stretch/>
        </p:blipFill>
        <p:spPr>
          <a:xfrm>
            <a:off x="1296000" y="404640"/>
            <a:ext cx="6011640" cy="3384000"/>
          </a:xfrm>
          <a:prstGeom prst="rect">
            <a:avLst/>
          </a:prstGeom>
          <a:ln w="9525">
            <a:noFill/>
          </a:ln>
        </p:spPr>
      </p:pic>
      <p:pic>
        <p:nvPicPr>
          <p:cNvPr id="222" name="Picture 1" descr="vbhtp5_09_ClassesAndObjectsImges_Page_39.png"/>
          <p:cNvPicPr/>
          <p:nvPr/>
        </p:nvPicPr>
        <p:blipFill>
          <a:blip r:embed="rId2"/>
          <a:srcRect l="8263" t="0" r="25200" b="46820"/>
          <a:stretch/>
        </p:blipFill>
        <p:spPr>
          <a:xfrm>
            <a:off x="1296000" y="3213000"/>
            <a:ext cx="6083640" cy="2952000"/>
          </a:xfrm>
          <a:prstGeom prst="rect">
            <a:avLst/>
          </a:prstGeom>
          <a:ln w="9525">
            <a:noFill/>
          </a:ln>
        </p:spPr>
      </p:pic>
      <p:sp>
        <p:nvSpPr>
          <p:cNvPr id="223" name="Title 1"/>
          <p:cNvSpPr/>
          <p:nvPr/>
        </p:nvSpPr>
        <p:spPr>
          <a:xfrm rot="16200000">
            <a:off x="-472680" y="553680"/>
            <a:ext cx="216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ftr" idx="3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 members have class scop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via the class name using the dot separato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by clients only indirectly through the class’s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s and propert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Members and the </a:t>
            </a: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thods and properties do not have access to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, which can be used to directly access only non-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member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s are often initialized to their default values or to other values in their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 requires initialization that cannot be accomplished in its declaration (such as complex calculations or constructor arguments), you can perform the initialization in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hared 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hared constructor preceded by the shared modifier and must be declared public, without paramete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4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ath provides a collection of Shared methods that enable to perform common mathematical calcul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Math.Sqrt(900.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4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applications consist of one or more classes, each containing one or more meth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become part of a development team in industry, you may work on applications that contain hundreds, or even thousands, of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chapter, we motivate the notion of classes with real-world examples and use complete working applications to demonstrate creating your own classes and manipulating objects of those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fields whose values cannot change during program execu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constant in a class, declare an identifier as eithe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ither type of constant can be modified once initializ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4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dentifier must be initialized a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mpile tim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ts declaration and can be initialized only to constant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 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Private Const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NUMBER_OF_CARD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4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ome cases, a constant’s value is not known unti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ecution 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is initialized with a non-constant value (such as a vari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must be initialized with a (possibly) different value on a per-object basi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identifier declared a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ad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initialized either in its declaration or in the class’s constructor(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4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ollowing declaration creates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I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onstant that might be part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	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rivate ReadOnly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employee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initialize the constant employee-by-employee, you can use the constructor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bf00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employeeID = ID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4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nstants from Client Cod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 are implicitl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value, client code can access it with the class name followed by the dot separator and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’s nam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object of a class with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has a separate copy of the constant, unless you explicitly declare the constant as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in your class, client code can access it via a reference to an object of that class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4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n abstract representation of someth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 usable example of the thing the class repres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 is a structure containing data and methods that manipulate the da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Fields, Properties an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re mad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perties represent information that an object contai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are like variables in that they can be read or set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Car col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rieved and set like fields, but are implemented using property Get and property Set procedur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actions that an object can perfo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 "Car" object could have "StartEngine," "Drive," and "Stop" method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Declar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ccess modifi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es can be reused in other projec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 declaration contain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ollowed immediately by the class’s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’s body ends with the keyword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2362320" y="1447920"/>
            <a:ext cx="32000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ccess Level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 access level of a declared element is the extent of the ability to access it, that is, what code has permission to read it or write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from code anywhere within the same project, from other projects that reference the pro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class, or from a class derived from thi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module, class, or structure.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Member Variable (Field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 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only within the class, which gives the class complete control over how those members are us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-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wherever the program has a reference to an Account objec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mber variables declared with Dim default to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cce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2362320" y="1447920"/>
            <a:ext cx="36572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or As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y procedure wh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control when and how a value is set or retriev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validat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the property causes changes to other internal variables or to the values of other propert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Basic provides for the following property procedur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returns the value of a property. It is called when you access the property in an expre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sets a property to a value, including an object reference. It is called when you assign a value to the prope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ually define property procedures in pairs, using the Get and Set statements, but you can define either procedure alone if the property is read-only (Get Statement) or write-only (Set Statement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1478</Words>
  <Paragraphs>1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0:00:59Z</dcterms:created>
  <dc:creator>Nasser</dc:creator>
  <dc:description/>
  <dc:language>en-US</dc:language>
  <cp:lastModifiedBy>Aseel</cp:lastModifiedBy>
  <dcterms:modified xsi:type="dcterms:W3CDTF">2013-09-09T16:41:14Z</dcterms:modified>
  <cp:revision>5</cp:revision>
  <dc:subject/>
  <dc:title>Object-Oriented Programming: Classes and Ob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4</vt:r8>
  </property>
</Properties>
</file>