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WHOOSH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CC2F-93B7-4757-AC98-76022F44E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E78B-876F-4AAD-AAC3-5AD2D023C6E1}" type="slidenum">
              <a:rPr b="0" lang="en-GB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A48C-0EC1-4CF5-9A61-2CE3EF5CEDD0}" type="slidenum">
              <a:rPr b="0" lang="en-GB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ABE4-E5BF-476A-93AE-5569A1A16B3B}" type="slidenum">
              <a:rPr b="0" lang="en-GB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C70-04DE-4800-9372-EFCCDBBF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E6AD-61D8-4C12-BC54-5083D506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C41E-3F7B-472B-9B58-80EB3C8D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76B-DEF1-43F7-97A1-499C03CC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CBAE-EB32-4045-A3E9-DA781586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DFCB-B3B3-4C19-88C6-170749EB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DA2F-4313-4868-9622-7F01C507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2FAC-88D7-48DB-8A88-13618B2D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2802-5BBF-4F3C-A137-C0014E65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10972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067C-C069-4027-82C1-3C934F4F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5A23-EF1F-4719-814D-596B4CED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E1E-51C6-45E0-8252-7530AB68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3034-2616-47CA-8851-0C08D5A3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9E84-BF57-4780-A632-EF527747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B052-6E2F-4AAA-A6B7-AEF0A59A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632A-B501-4F9F-8A8D-9EAB16E8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1964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802980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E356-B3D6-4F1D-9C00-B2BC7A33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EFD75-636E-4BA1-A3DA-71B9D814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89572-8D36-4BC5-9F71-0FA3E219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BD2DD-93BA-4C3F-8192-9E064BE8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56E50-972A-4B50-B381-ED7C1851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4AB17-5CAB-450D-A689-F475D8B3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CB9-85B9-4C96-8877-71E6A6B5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10972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52774-EA05-40A8-838F-389D010C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22957-5322-43DF-A1F9-96E384BE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0002B-1804-432C-B11C-C83F4553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EFDEB-8888-4D00-8A93-9D656C6F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5D98D-0C97-4D72-B6B7-3666DBA2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3F34-0927-448E-B48E-1B508276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0948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1964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802980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D46B7-45BF-490B-954B-E190DFE1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DD2EE-8A2E-4153-A976-B3837092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948FA-7260-43D9-A41D-20818795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F5570-0D92-42D1-9221-BE0E1C34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82F6-A6F8-437F-991C-7075EE02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AF13D-5038-4147-B0B3-A16DFF2D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58366-D949-41F9-9E61-2BC4D7E3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10972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66B6D-479B-4501-88AA-57EAC18A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A5B65-37D1-4DA4-A447-6878689A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B0809-EDCB-4EB6-BBB0-013C960A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C3101-444D-4949-8508-92396963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5F56D-B676-4C3B-8FDC-1F08014C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352BA-9EB0-47D4-87EB-AD13F111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0948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1964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802980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8F65F-46B7-436B-90D8-21A3D2F6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253BD-A0CA-438E-96C3-96AA7EEA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51D-7C79-454D-8FD7-528D55FF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FFDB0-ACBA-453D-8F9F-8AC1B861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4D394-801C-45E0-BE1C-AC066DF6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407BC-FA0D-466D-933D-92B407E2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0B0DC-C4BF-42C8-9876-95A962A3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10972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6D806-11C4-4EFD-856A-554A0419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ED6DD-146E-4197-97FE-BB7C09B8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0BEF7-66DC-47BC-877E-EA656B80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11CD0-862F-478A-8A08-BBC9F45B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D5325-8305-4406-BFEC-3CFD8214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7E2A7-C045-446B-A0CF-D2073C0C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10972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1A1A-0EDD-415B-9262-88A297B0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48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1964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802980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C3398-9DD3-4D29-ABFA-579CB82F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ED2-FA2E-43A7-AA0B-2F6ED7DE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C3A-18FE-4C6E-A7B7-AA918FB1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C564-321B-4A52-8521-56ACAC8A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1219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1219212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18720"/>
            <a:ext cx="38610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72000" y="18720"/>
            <a:ext cx="54864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159560" y="18720"/>
            <a:ext cx="1422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BBDC-E40B-41AB-8578-4F339A38B7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1219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1219212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914400" y="3398760"/>
            <a:ext cx="1046484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09120" y="18720"/>
            <a:ext cx="38610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572000" y="18720"/>
            <a:ext cx="54864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159560" y="18720"/>
            <a:ext cx="1422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65AB-32A5-44F9-A05B-2DDF3E19DE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1219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1219212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974880" y="4599000"/>
            <a:ext cx="1046448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09120" y="18720"/>
            <a:ext cx="38610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572000" y="18720"/>
            <a:ext cx="54864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159560" y="18720"/>
            <a:ext cx="1422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E90B-BA26-4ADA-8941-8E39BA6E0AF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1219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1219212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6095520" y="1692360"/>
            <a:ext cx="180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09120" y="18720"/>
            <a:ext cx="38610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572000" y="18720"/>
            <a:ext cx="54864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159560" y="18720"/>
            <a:ext cx="1422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EBAB-1FFB-4101-A8A9-F6254865ED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1219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1219212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3700440" y="792000"/>
            <a:ext cx="144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09120" y="18720"/>
            <a:ext cx="38610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0" y="18720"/>
            <a:ext cx="54864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10159560" y="18720"/>
            <a:ext cx="1422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E8D6-73C5-4ED8-8911-2EEC0618F7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1701720"/>
            <a:ext cx="10464840" cy="192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GC 211:DATA STRUCTURES</a:t>
            </a:r>
            <a:br>
              <a:rPr sz="5400"/>
            </a:br>
            <a:br>
              <a:rPr sz="5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EK#1: OVERVIEW &amp; REVIEW</a:t>
            </a:r>
            <a:br>
              <a:rPr sz="5400"/>
            </a:b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14040" y="350532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76e"/>
                </a:solidFill>
                <a:latin typeface="Arial"/>
              </a:rPr>
              <a:t>Some slides are borrowed from Mr. Mohammad Alqahtani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10159920" y="19080"/>
            <a:ext cx="1422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0810-BCA3-40C4-8FE9-E490130E381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Data Types &amp; Data Structur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tructured Data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types: can be broken into component parts. E.g. an object, array, set, file, etc. Example: a student objec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267080" y="4267080"/>
          <a:ext cx="4343400" cy="1006560"/>
        </p:xfrm>
        <a:graphic>
          <a:graphicData uri="http://schemas.openxmlformats.org/drawingml/2006/table">
            <a:tbl>
              <a:tblPr/>
              <a:tblGrid>
                <a:gridCol w="868320"/>
                <a:gridCol w="868680"/>
                <a:gridCol w="869760"/>
                <a:gridCol w="868320"/>
                <a:gridCol w="868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>
                      <a:noFill/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9293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92934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Text Box 88"/>
          <p:cNvSpPr/>
          <p:nvPr/>
        </p:nvSpPr>
        <p:spPr>
          <a:xfrm>
            <a:off x="3510720" y="4267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Text Box 89"/>
          <p:cNvSpPr/>
          <p:nvPr/>
        </p:nvSpPr>
        <p:spPr>
          <a:xfrm>
            <a:off x="3585960" y="45720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Ag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5" name="Text Box 90"/>
          <p:cNvSpPr/>
          <p:nvPr/>
        </p:nvSpPr>
        <p:spPr>
          <a:xfrm>
            <a:off x="3511440" y="49528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Branc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Oval 91"/>
          <p:cNvSpPr/>
          <p:nvPr/>
        </p:nvSpPr>
        <p:spPr>
          <a:xfrm>
            <a:off x="4191120" y="4572000"/>
            <a:ext cx="1066680" cy="380880"/>
          </a:xfrm>
          <a:prstGeom prst="ellipse">
            <a:avLst/>
          </a:prstGeom>
          <a:noFill/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7" name="Line 93"/>
          <p:cNvSpPr/>
          <p:nvPr/>
        </p:nvSpPr>
        <p:spPr>
          <a:xfrm>
            <a:off x="4724280" y="4952880"/>
            <a:ext cx="533520" cy="533520"/>
          </a:xfrm>
          <a:prstGeom prst="line">
            <a:avLst/>
          </a:prstGeom>
          <a:ln w="9360">
            <a:solidFill>
              <a:srgbClr val="2929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8" name="Text Box 94"/>
          <p:cNvSpPr/>
          <p:nvPr/>
        </p:nvSpPr>
        <p:spPr>
          <a:xfrm>
            <a:off x="5248080" y="53197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A Component par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1752480" y="5735520"/>
            <a:ext cx="859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微軟正黑體"/>
              </a:rPr>
              <a:t>There are many, but we named a few. We’ll learn these data structures in great detail!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270" name="Group 49"/>
          <p:cNvGrpSpPr/>
          <p:nvPr/>
        </p:nvGrpSpPr>
        <p:grpSpPr>
          <a:xfrm>
            <a:off x="1905120" y="1279440"/>
            <a:ext cx="6705360" cy="533520"/>
            <a:chOff x="1905120" y="1279440"/>
            <a:chExt cx="6705360" cy="533520"/>
          </a:xfrm>
        </p:grpSpPr>
        <p:sp>
          <p:nvSpPr>
            <p:cNvPr id="271" name="Rectangle 3"/>
            <p:cNvSpPr/>
            <p:nvPr/>
          </p:nvSpPr>
          <p:spPr>
            <a:xfrm>
              <a:off x="190512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2" name="Rectangle 4"/>
            <p:cNvSpPr/>
            <p:nvPr/>
          </p:nvSpPr>
          <p:spPr>
            <a:xfrm>
              <a:off x="251460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3" name="Rectangle 5"/>
            <p:cNvSpPr/>
            <p:nvPr/>
          </p:nvSpPr>
          <p:spPr>
            <a:xfrm>
              <a:off x="312408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4" name="Rectangle 6"/>
            <p:cNvSpPr/>
            <p:nvPr/>
          </p:nvSpPr>
          <p:spPr>
            <a:xfrm>
              <a:off x="373392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5" name="Rectangle 7"/>
            <p:cNvSpPr/>
            <p:nvPr/>
          </p:nvSpPr>
          <p:spPr>
            <a:xfrm>
              <a:off x="434340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6" name="Rectangle 8"/>
            <p:cNvSpPr/>
            <p:nvPr/>
          </p:nvSpPr>
          <p:spPr>
            <a:xfrm>
              <a:off x="495288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7" name="Rectangle 9"/>
            <p:cNvSpPr/>
            <p:nvPr/>
          </p:nvSpPr>
          <p:spPr>
            <a:xfrm>
              <a:off x="556272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8" name="Rectangle 10"/>
            <p:cNvSpPr/>
            <p:nvPr/>
          </p:nvSpPr>
          <p:spPr>
            <a:xfrm>
              <a:off x="617220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9" name="Rectangle 11"/>
            <p:cNvSpPr/>
            <p:nvPr/>
          </p:nvSpPr>
          <p:spPr>
            <a:xfrm>
              <a:off x="678168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80" name="Rectangle 12"/>
            <p:cNvSpPr/>
            <p:nvPr/>
          </p:nvSpPr>
          <p:spPr>
            <a:xfrm>
              <a:off x="739152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81" name="Rectangle 13"/>
            <p:cNvSpPr/>
            <p:nvPr/>
          </p:nvSpPr>
          <p:spPr>
            <a:xfrm>
              <a:off x="800100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282" name="Group 50"/>
          <p:cNvGrpSpPr/>
          <p:nvPr/>
        </p:nvGrpSpPr>
        <p:grpSpPr>
          <a:xfrm>
            <a:off x="1981080" y="2346480"/>
            <a:ext cx="6553440" cy="533160"/>
            <a:chOff x="1981080" y="2346480"/>
            <a:chExt cx="6553440" cy="533160"/>
          </a:xfrm>
        </p:grpSpPr>
        <p:sp>
          <p:nvSpPr>
            <p:cNvPr id="283" name="Rectangle 14"/>
            <p:cNvSpPr/>
            <p:nvPr/>
          </p:nvSpPr>
          <p:spPr>
            <a:xfrm>
              <a:off x="198108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84" name="Line 15"/>
            <p:cNvSpPr/>
            <p:nvPr/>
          </p:nvSpPr>
          <p:spPr>
            <a:xfrm>
              <a:off x="259056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85" name="Rectangle 16"/>
            <p:cNvSpPr/>
            <p:nvPr/>
          </p:nvSpPr>
          <p:spPr>
            <a:xfrm>
              <a:off x="297144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86" name="Line 17"/>
            <p:cNvSpPr/>
            <p:nvPr/>
          </p:nvSpPr>
          <p:spPr>
            <a:xfrm>
              <a:off x="358128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87" name="Rectangle 18"/>
            <p:cNvSpPr/>
            <p:nvPr/>
          </p:nvSpPr>
          <p:spPr>
            <a:xfrm>
              <a:off x="396216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88" name="Line 19"/>
            <p:cNvSpPr/>
            <p:nvPr/>
          </p:nvSpPr>
          <p:spPr>
            <a:xfrm>
              <a:off x="457200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89" name="Rectangle 20"/>
            <p:cNvSpPr/>
            <p:nvPr/>
          </p:nvSpPr>
          <p:spPr>
            <a:xfrm>
              <a:off x="495288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90" name="Line 21"/>
            <p:cNvSpPr/>
            <p:nvPr/>
          </p:nvSpPr>
          <p:spPr>
            <a:xfrm>
              <a:off x="556272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91" name="Rectangle 22"/>
            <p:cNvSpPr/>
            <p:nvPr/>
          </p:nvSpPr>
          <p:spPr>
            <a:xfrm>
              <a:off x="594360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92" name="Line 23"/>
            <p:cNvSpPr/>
            <p:nvPr/>
          </p:nvSpPr>
          <p:spPr>
            <a:xfrm>
              <a:off x="655344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93" name="Rectangle 24"/>
            <p:cNvSpPr/>
            <p:nvPr/>
          </p:nvSpPr>
          <p:spPr>
            <a:xfrm>
              <a:off x="693432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>
              <a:off x="754416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95" name="Rectangle 26"/>
            <p:cNvSpPr/>
            <p:nvPr/>
          </p:nvSpPr>
          <p:spPr>
            <a:xfrm>
              <a:off x="792504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296" name="Group 51"/>
          <p:cNvGrpSpPr/>
          <p:nvPr/>
        </p:nvGrpSpPr>
        <p:grpSpPr>
          <a:xfrm>
            <a:off x="1828800" y="3413160"/>
            <a:ext cx="2133720" cy="1447920"/>
            <a:chOff x="1828800" y="3413160"/>
            <a:chExt cx="2133720" cy="1447920"/>
          </a:xfrm>
        </p:grpSpPr>
        <p:sp>
          <p:nvSpPr>
            <p:cNvPr id="297" name="Oval 27"/>
            <p:cNvSpPr/>
            <p:nvPr/>
          </p:nvSpPr>
          <p:spPr>
            <a:xfrm>
              <a:off x="2743200" y="341316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98" name="Oval 28"/>
            <p:cNvSpPr/>
            <p:nvPr/>
          </p:nvSpPr>
          <p:spPr>
            <a:xfrm>
              <a:off x="2286000" y="394668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99" name="Oval 29"/>
            <p:cNvSpPr/>
            <p:nvPr/>
          </p:nvSpPr>
          <p:spPr>
            <a:xfrm>
              <a:off x="1828800" y="448020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00" name="Line 30"/>
            <p:cNvSpPr/>
            <p:nvPr/>
          </p:nvSpPr>
          <p:spPr>
            <a:xfrm flipH="1">
              <a:off x="2514600" y="3641760"/>
              <a:ext cx="304560" cy="380880"/>
            </a:xfrm>
            <a:prstGeom prst="line">
              <a:avLst/>
            </a:prstGeom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01" name="Line 31"/>
            <p:cNvSpPr/>
            <p:nvPr/>
          </p:nvSpPr>
          <p:spPr>
            <a:xfrm flipH="1">
              <a:off x="2057400" y="4251600"/>
              <a:ext cx="304560" cy="304560"/>
            </a:xfrm>
            <a:prstGeom prst="line">
              <a:avLst/>
            </a:prstGeom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02" name="Oval 32"/>
            <p:cNvSpPr/>
            <p:nvPr/>
          </p:nvSpPr>
          <p:spPr>
            <a:xfrm>
              <a:off x="3200400" y="394668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03" name="Oval 33"/>
            <p:cNvSpPr/>
            <p:nvPr/>
          </p:nvSpPr>
          <p:spPr>
            <a:xfrm>
              <a:off x="3657960" y="448020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>
              <a:off x="3048120" y="3717720"/>
              <a:ext cx="228600" cy="228600"/>
            </a:xfrm>
            <a:prstGeom prst="line">
              <a:avLst/>
            </a:prstGeom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05" name="Line 35"/>
            <p:cNvSpPr/>
            <p:nvPr/>
          </p:nvSpPr>
          <p:spPr>
            <a:xfrm>
              <a:off x="3505320" y="4175280"/>
              <a:ext cx="228600" cy="380880"/>
            </a:xfrm>
            <a:prstGeom prst="line">
              <a:avLst/>
            </a:prstGeom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06" name="Oval 36"/>
            <p:cNvSpPr/>
            <p:nvPr/>
          </p:nvSpPr>
          <p:spPr>
            <a:xfrm>
              <a:off x="2514600" y="455652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07" name="Line 37"/>
            <p:cNvSpPr/>
            <p:nvPr/>
          </p:nvSpPr>
          <p:spPr>
            <a:xfrm>
              <a:off x="2514600" y="4251600"/>
              <a:ext cx="152280" cy="304560"/>
            </a:xfrm>
            <a:prstGeom prst="line">
              <a:avLst/>
            </a:prstGeom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08" name="Group 52"/>
          <p:cNvGrpSpPr/>
          <p:nvPr/>
        </p:nvGrpSpPr>
        <p:grpSpPr>
          <a:xfrm>
            <a:off x="4419720" y="3565440"/>
            <a:ext cx="3429000" cy="838440"/>
            <a:chOff x="4419720" y="3565440"/>
            <a:chExt cx="3429000" cy="838440"/>
          </a:xfrm>
        </p:grpSpPr>
        <p:sp>
          <p:nvSpPr>
            <p:cNvPr id="309" name="AutoShape 38"/>
            <p:cNvSpPr/>
            <p:nvPr/>
          </p:nvSpPr>
          <p:spPr>
            <a:xfrm>
              <a:off x="4952880" y="3565440"/>
              <a:ext cx="2362320" cy="838440"/>
            </a:xfrm>
            <a:prstGeom prst="flowChartMagneticDrum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10" name="Line 39"/>
            <p:cNvSpPr/>
            <p:nvPr/>
          </p:nvSpPr>
          <p:spPr>
            <a:xfrm>
              <a:off x="4419720" y="4022640"/>
              <a:ext cx="8380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11" name="Line 40"/>
            <p:cNvSpPr/>
            <p:nvPr/>
          </p:nvSpPr>
          <p:spPr>
            <a:xfrm>
              <a:off x="6934320" y="4022640"/>
              <a:ext cx="91440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12" name="Group 53"/>
          <p:cNvGrpSpPr/>
          <p:nvPr/>
        </p:nvGrpSpPr>
        <p:grpSpPr>
          <a:xfrm>
            <a:off x="8381880" y="3146400"/>
            <a:ext cx="1676520" cy="1638360"/>
            <a:chOff x="8381880" y="3146400"/>
            <a:chExt cx="1676520" cy="1638360"/>
          </a:xfrm>
        </p:grpSpPr>
        <p:sp>
          <p:nvSpPr>
            <p:cNvPr id="313" name="AutoShape 41"/>
            <p:cNvSpPr/>
            <p:nvPr/>
          </p:nvSpPr>
          <p:spPr>
            <a:xfrm>
              <a:off x="8686440" y="3580920"/>
              <a:ext cx="1219320" cy="1203840"/>
            </a:xfrm>
            <a:prstGeom prst="flowChartMagneticDisk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14" name="Freeform 42"/>
            <p:cNvSpPr/>
            <p:nvPr/>
          </p:nvSpPr>
          <p:spPr>
            <a:xfrm>
              <a:off x="8381880" y="3224160"/>
              <a:ext cx="723960" cy="5572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456" h="400">
                  <a:moveTo>
                    <a:pt x="0" y="16"/>
                  </a:moveTo>
                  <a:cubicBezTo>
                    <a:pt x="156" y="8"/>
                    <a:pt x="312" y="0"/>
                    <a:pt x="384" y="64"/>
                  </a:cubicBezTo>
                  <a:cubicBezTo>
                    <a:pt x="456" y="128"/>
                    <a:pt x="424" y="344"/>
                    <a:pt x="432" y="400"/>
                  </a:cubicBezTo>
                </a:path>
              </a:pathLst>
            </a:custGeom>
            <a:noFill/>
            <a:ln w="9360">
              <a:solidFill>
                <a:srgbClr val="292934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15" name="Freeform 43"/>
            <p:cNvSpPr/>
            <p:nvPr/>
          </p:nvSpPr>
          <p:spPr>
            <a:xfrm>
              <a:off x="9347040" y="3146400"/>
              <a:ext cx="711360" cy="63540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448" h="456">
                  <a:moveTo>
                    <a:pt x="64" y="456"/>
                  </a:moveTo>
                  <a:cubicBezTo>
                    <a:pt x="32" y="300"/>
                    <a:pt x="0" y="144"/>
                    <a:pt x="64" y="72"/>
                  </a:cubicBezTo>
                  <a:cubicBezTo>
                    <a:pt x="128" y="0"/>
                    <a:pt x="384" y="32"/>
                    <a:pt x="448" y="24"/>
                  </a:cubicBezTo>
                </a:path>
              </a:pathLst>
            </a:custGeom>
            <a:noFill/>
            <a:ln w="9360">
              <a:solidFill>
                <a:srgbClr val="292934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316" name="Text Box 44"/>
          <p:cNvSpPr/>
          <p:nvPr/>
        </p:nvSpPr>
        <p:spPr>
          <a:xfrm>
            <a:off x="8754480" y="1355760"/>
            <a:ext cx="101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Garamond"/>
                <a:ea typeface="微軟正黑體"/>
              </a:rPr>
              <a:t>Array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7" name="Text Box 45"/>
          <p:cNvSpPr/>
          <p:nvPr/>
        </p:nvSpPr>
        <p:spPr>
          <a:xfrm>
            <a:off x="8736480" y="2346480"/>
            <a:ext cx="176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Garamond"/>
                <a:ea typeface="微軟正黑體"/>
              </a:rPr>
              <a:t>Linked List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8" name="Text Box 46"/>
          <p:cNvSpPr/>
          <p:nvPr/>
        </p:nvSpPr>
        <p:spPr>
          <a:xfrm>
            <a:off x="2394000" y="5089680"/>
            <a:ext cx="82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Garamond"/>
                <a:ea typeface="微軟正黑體"/>
              </a:rPr>
              <a:t>Tree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9" name="Text Box 47"/>
          <p:cNvSpPr/>
          <p:nvPr/>
        </p:nvSpPr>
        <p:spPr>
          <a:xfrm>
            <a:off x="5241240" y="4861080"/>
            <a:ext cx="108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Garamond"/>
                <a:ea typeface="微軟正黑體"/>
              </a:rPr>
              <a:t>Queue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0" name="Text Box 48"/>
          <p:cNvSpPr/>
          <p:nvPr/>
        </p:nvSpPr>
        <p:spPr>
          <a:xfrm>
            <a:off x="8865720" y="4937040"/>
            <a:ext cx="947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Garamond"/>
                <a:ea typeface="微軟正黑體"/>
              </a:rPr>
              <a:t>Stack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1" name="Title 1"/>
          <p:cNvSpPr/>
          <p:nvPr/>
        </p:nvSpPr>
        <p:spPr>
          <a:xfrm>
            <a:off x="1981080" y="30780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Data Structures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639520" y="188640"/>
            <a:ext cx="7248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he Need for Data Structur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828440" y="126828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Goal: to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rganize data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riteria: to facilitate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fficient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torage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of da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etrieval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of data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anipulation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of data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ign Issue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elect and design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ppropriate data types  </a:t>
            </a:r>
            <a:br>
              <a:rPr sz="2000"/>
            </a:b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This is the main motivation to learn and understand data structures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98640" y="1155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ata Structure Oper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752480" y="114264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b7d72"/>
                </a:solidFill>
                <a:latin typeface="Times New Roman"/>
                <a:ea typeface="Times New Roman"/>
              </a:rPr>
              <a:t>(Demonstrate using class room example!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avigat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397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ccessing each data element exactly once so that certain items in the data may be processe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earch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39720" indent="-18252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inding the location of the data element (key) in the structu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nser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397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dding a new data element to the structu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98640" y="1155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ata Structure Oper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752480" y="114264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ele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emoving a data element from the structu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ort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rrange the data elements in a logical order (ascending/descending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erg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mbining data elements from two or more data structures into on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algorithm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55560" y="153324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finite set of instructions which accomplish a particular task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method or process to solve a proble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ransforms input of a problem to outpu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lgorithm = Input + Process + Outpu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Algorithm development is an art – it needs practice, practice and only practice!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A Good Algorithm?</a:t>
            </a:r>
            <a:endParaRPr b="0" lang="en-US" sz="4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92080" y="1499760"/>
            <a:ext cx="8136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must be correc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must be finite (in terms of time and size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must terminate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must be unambiguou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ich step is next?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must be space and time efficien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program is an instance of an algorithm, written in some specific programming languag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Simple Algorithm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96800" y="1499760"/>
            <a:ext cx="8786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oblem: Find maximum of </a:t>
            </a:r>
            <a:r>
              <a:rPr b="0" lang="en-GB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a, b, c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lgorith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nput = </a:t>
            </a:r>
            <a:r>
              <a:rPr b="0" lang="en-GB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a, b, c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utput = </a:t>
            </a:r>
            <a:r>
              <a:rPr b="0" lang="en-GB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max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oces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Let max = 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If b &gt; max then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max = b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If c &gt; max then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max = 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Display max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rder is very important!!!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85560" y="626760"/>
            <a:ext cx="87152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 DEVELOPMENT: BASIC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809360" y="1341000"/>
            <a:ext cx="853452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learly identify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is the input?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output is required?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steps are required to transform input into outpu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most crucial bi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eeds problem solving skil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problem can be solved in many different way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ich solution, amongst the different possible solutions is optimal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to express an algorithm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206360" y="1368360"/>
            <a:ext cx="8715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sequence of steps to solve a problem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need a way to express this sequence of step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atural language (NL) is an obvious choice, but not a good choice. Why?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Ls are notoriously ambiguous (unclear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ogramming language (PL) is another choice, but again not a good choice. Why?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lgorithm should be PL independe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need some balanc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need PL independe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need clarit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seudo-code provides the right bala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urse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bjectives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 familiar with problem solving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 able to develop (and implement) algorithms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 able to trace algorithms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 able to select appropriate data structures and algorithms for given problems</a:t>
            </a: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Pseudo-code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052280" y="1471320"/>
            <a:ext cx="1000908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seudo-code is a short hand way of describing a computer progra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ather than using the specific syntax of a computer language, more general wording is us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is a mixture of NL and PL expressions, in a systematic wa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Using pseudo-code, it is easier for a non-programmer to understand the general workings of the progra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seudo-code: General Guidelines</a:t>
            </a:r>
            <a:endParaRPr b="0" lang="en-US" sz="4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969840" y="2000160"/>
            <a:ext cx="8715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Use PLs construct that are consistent with modern high level languages, e.g. C++, Java, ..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Use appropriate comments for clarit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 simple and precis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000" y="1604880"/>
            <a:ext cx="8715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xpressi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tandard mathematical symbols are use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-246240" algn="just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eft arrow sign (←) as the assignment operator in assignment statements (equivalent to the = operator in Java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-246240" algn="just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qual sign (=) as the equality relation in Boolean expressions (equivalent to the "= =" relation in Java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-246240" algn="just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m ←  0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m ← Sum + 5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is the final value of sum?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733320" y="1499760"/>
            <a:ext cx="87156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ecision structures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(if-then-else logic)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-24624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condition 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then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true-actions [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false-actions]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-24624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use indentation to indicate what actions should be included in the true-actions and false-action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-24624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marks &gt; 50 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then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int “Congratulation, you are passed!”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int “Sorry, you are failed!”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end if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will be the output if marks are equal to 75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733320" y="1433160"/>
            <a:ext cx="87156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oops (Repetitio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e-condition loop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ile loops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while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condition </a:t>
            </a: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ctions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use indentation to indicate what actions should be included in the loop actions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while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counter &lt; 5 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int “Welcome to CS204!”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unter ← counter + 1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end whil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will be the output if counter is initialised to 0, 7?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oops (Repetitio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e-condition loop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loops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for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variable-increment-definition </a:t>
            </a: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ctions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counter ← 0; counter &lt; 5; counter ← counter + 2 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int “Welcome to CS204!”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end for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will be the output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oops (Repetitio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ost-condition loop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o loops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ctions </a:t>
            </a: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while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condition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int “Welcome to CS204!”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unter ← counter + 1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while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unter &lt; 5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will be the output, if counter was initialised to 10?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body of a post-condition loop must execute at least o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ethod declarati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eturn_type   method_name  (parameter_list)  method_bod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nteger </a:t>
            </a:r>
            <a:r>
              <a:rPr b="0" i="1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m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 integer num1, integer num2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tar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esult ←  num1 + num2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nd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ethod cal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bject.method (args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ycalculator.sum(num1, num2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ethod retur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return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valu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nteger </a:t>
            </a:r>
            <a:r>
              <a:rPr b="0" i="1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m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 integer num1, integer num2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tar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esult ←  num1 + num2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return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resul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nd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45252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mment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/* Multiple line comments go here. */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// Single line comments go he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ome people prefer braces {}, for comme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rray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[i]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represents the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 cell in the array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cells of an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-celled array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re indexed from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[0] to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[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− 1] (consistent with Java)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1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934"/>
                </a:solidFill>
                <a:latin typeface="Arial"/>
              </a:rPr>
              <a:t>Prerequisites: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Variables and expressions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Methods (functions or procedures )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Decision structures( like if-statements and switch-statements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Iteration structures (for-loops and while-loops)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Classes and object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 Design: Practice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 algn="just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xample 1: Determining even/odd numbe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number divisible by 2 is considered an even number, while a number which is not divisible by 2 is considered an odd number. Write pseudo-code to display first N odd/even numbers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566640" indent="-457200" algn="just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xample 2: Computing Weekly Wage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Gross pay depends on the pay rate and the number of hours worked per week. However, if you work more than 40 hours, you get paid time-and-a-half for all hours worked over 40. Write the pseudo-code to compute gross pay given pay rate and hours worke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en/ Odd Number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Input rang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for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 num←0; num&lt;=range; num←num+1 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if 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num % 2 = 0 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the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print num is eve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els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print num is odd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endif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endfo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uting weekly wag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Input hours_worked, pay_rat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if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 hours_worked &lt;= 40 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the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gross_pay ← pay_rate x hours_work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els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basic_pay ← pay_rate x 4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over_time ← hours_worked – 4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over_time_pay ← 1.5 x pay_rate x over_tim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gross_pay ← basic_pay + over_time_pa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endfo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print gross_pay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Java Programming Basic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65" name="Content Placeholder 3" descr=""/>
          <p:cNvPicPr/>
          <p:nvPr/>
        </p:nvPicPr>
        <p:blipFill>
          <a:blip r:embed="rId1"/>
          <a:stretch/>
        </p:blipFill>
        <p:spPr>
          <a:xfrm>
            <a:off x="1706400" y="1566720"/>
            <a:ext cx="906012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ase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oolea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Boolean value: true or false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ha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16-bit Unicode character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yt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8-bit signed two’s complement integer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hor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16-bit signed two’s complement integer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ase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32-bit signed two’s complement integer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Lo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64-bit signed two’s complement integer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lo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32-bit floating- point number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64-bit floating- point number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data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at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collection of facts from which conclusion may be drawn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.g. Data: Temperature 35°C;  Conclusion: It is hot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ypes of dat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extual: For example, your name (Alya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umeric: For example, your ID (090254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udio: For example, your voic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Video: For example, your voice and pictu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...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10159920" y="19080"/>
            <a:ext cx="1422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6FBF-B590-4907-AD09-66933159779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Data Types &amp; Data Structur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pplications/programs read data, store data temporarily, process it and finally output results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hat is data? Numbers, Characters, etc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237" name="Group 11"/>
          <p:cNvGrpSpPr/>
          <p:nvPr/>
        </p:nvGrpSpPr>
        <p:grpSpPr>
          <a:xfrm>
            <a:off x="3962520" y="4572000"/>
            <a:ext cx="4190760" cy="1371600"/>
            <a:chOff x="3962520" y="4572000"/>
            <a:chExt cx="4190760" cy="1371600"/>
          </a:xfrm>
        </p:grpSpPr>
        <p:sp>
          <p:nvSpPr>
            <p:cNvPr id="238" name="Rectangle 4"/>
            <p:cNvSpPr/>
            <p:nvPr/>
          </p:nvSpPr>
          <p:spPr>
            <a:xfrm>
              <a:off x="4952880" y="4572000"/>
              <a:ext cx="2286000" cy="1371600"/>
            </a:xfrm>
            <a:prstGeom prst="rect">
              <a:avLst/>
            </a:prstGeom>
            <a:noFill/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39" name="AutoShape 5"/>
            <p:cNvSpPr/>
            <p:nvPr/>
          </p:nvSpPr>
          <p:spPr>
            <a:xfrm>
              <a:off x="3962520" y="4800600"/>
              <a:ext cx="990360" cy="914400"/>
            </a:xfrm>
            <a:prstGeom prst="rightArrow">
              <a:avLst>
                <a:gd name="adj1" fmla="val 50000"/>
                <a:gd name="adj2" fmla="val 27077"/>
              </a:avLst>
            </a:prstGeom>
            <a:noFill/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0" name="AutoShape 6"/>
            <p:cNvSpPr/>
            <p:nvPr/>
          </p:nvSpPr>
          <p:spPr>
            <a:xfrm>
              <a:off x="7238880" y="4800600"/>
              <a:ext cx="914400" cy="91440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1" name="Text Box 7"/>
            <p:cNvSpPr/>
            <p:nvPr/>
          </p:nvSpPr>
          <p:spPr>
            <a:xfrm>
              <a:off x="5266440" y="4876920"/>
              <a:ext cx="192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2934"/>
                  </a:solidFill>
                  <a:latin typeface="Arial"/>
                </a:rPr>
                <a:t>Application/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2934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292934"/>
                  </a:solidFill>
                  <a:latin typeface="Arial"/>
                </a:rPr>
                <a:t>Program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3968280" y="50292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2934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7305120" y="499428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2934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10159920" y="19080"/>
            <a:ext cx="1422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5973-7ABB-48D2-BAE5-9A334A5C82B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Data Types &amp; Data Structur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Data is classified into </a:t>
            </a:r>
            <a:r>
              <a:rPr b="1" lang="en-US" sz="2800" spc="-1" strike="noStrike" u="sng">
                <a:solidFill>
                  <a:srgbClr val="292934"/>
                </a:solidFill>
                <a:uFillTx/>
                <a:latin typeface="Arial"/>
              </a:rPr>
              <a:t>data types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. e.g. char, float, int, etc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 data type is (i) a </a:t>
            </a: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domain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of allowed values and (ii) a set of </a:t>
            </a: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operations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on these value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ompiler signals an error if wrong operation is performed on data of a certain type. For example, 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char x,y,z; z = x*y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is not allowed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10159920" y="19080"/>
            <a:ext cx="1422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0D4A-31E3-4E11-B649-713B17734BE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Data Types &amp; Data Structur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200400" y="2971800"/>
          <a:ext cx="6095880" cy="22939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Data Type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Domain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Operations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boolean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and, or, =, etc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char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ASCII 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=, &lt;&gt;, &lt;, etc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integer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-maxint to +maxint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+, _, =, ==, &lt;&gt;, &lt;, etc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10159920" y="19080"/>
            <a:ext cx="1422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0002-134B-4BA1-8F41-54721214530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Data Types &amp; Data Structur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imple Data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types: also known as atomic data typ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have no component parts. E.g. int, char, float, etc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352680" y="4114800"/>
          <a:ext cx="609840" cy="51768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800600" y="4114800"/>
          <a:ext cx="914400" cy="5176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3.14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629400" y="4114800"/>
          <a:ext cx="685800" cy="5176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292934"/>
                          </a:solidFill>
                          <a:latin typeface="Times New Roman"/>
                          <a:ea typeface="Times New Roman"/>
                        </a:rPr>
                        <a:t>a’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data structure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particular way of storing and organizing data in a computer so that it can be used efficiently and effectively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ata structure is the logical or mathematical model of a particular organization of data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group of data elements grouped together under one name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just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, an array of integer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01:48:50Z</dcterms:created>
  <dc:creator>K AlSultan</dc:creator>
  <dc:description/>
  <dc:language>en-US</dc:language>
  <cp:lastModifiedBy>Sara Almudauh</cp:lastModifiedBy>
  <dcterms:modified xsi:type="dcterms:W3CDTF">2016-10-09T10:32:58Z</dcterms:modified>
  <cp:revision>27</cp:revision>
  <dc:subject/>
  <dc:title>Introduction</dc:title>
</cp:coreProperties>
</file>