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F969702-E261-43EA-AB12-3079802919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D97B9F-2C2D-42DA-A119-D6031BEB46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5430F3-095D-4C60-88F0-5F4C62B188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E00F6C-8396-44D9-ACEB-7EABB7F979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9CDFB6-F75C-4315-8621-8B0F8E63FA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8B2141-1C1A-4ED0-AB4A-BEDF1E1EEE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1188D6-76D5-476F-B602-458E778D1D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C37918E-B909-481E-86A4-17F9BAD37F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FA3186B-9D91-47F5-94B8-EF93770C31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359599-7B3B-4F8D-BE27-0408F12377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E3E81E-E1EB-4A5A-B0BC-07BEF3FDF3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D6DE774-52F2-4C96-87A1-EBDC29F8AC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749BB03-675F-4924-800D-50D6E9B780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6BEA5E-5A28-49DD-9E1A-036EBD606A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97CB87-A5B3-43BD-9A3C-20A0E53E35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88D7DCE-C813-4395-8376-761497F133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60F699-3387-4E06-9397-FAD370ADE8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325C00D-D3A8-4364-8508-1EF3CE2E61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7084EC2-6146-445E-82A4-BA64C96F48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E6E48C1-6E8E-48CD-A4A1-F901B3A250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54206A8-C621-4904-892B-787F150217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1AA8AE-44B3-4AAC-BC90-72BA1DFBE2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1CD879A-26E3-4217-A25B-44433889FC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3313C8-51F5-47E2-9918-E6C76D3A47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64305C2-B389-4B8D-8B73-17F98728C1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BF07A6-58E6-4BA3-A3A7-8F02A2A16A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ACCCCE-0BBD-4EB5-AB1B-AEEF7AC367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899CE6D-51B2-4452-AFDB-DEE6FC4DEA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7F93FE-542A-48A0-8671-C8BF970800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D1EFFE-D979-497C-A345-A50C067BCD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504-F493-4CBA-93D7-3EC31218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FD7-87C2-4BDF-ADE0-28F81256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BDB-78CF-48AA-89B5-3ACFE291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054-2E7E-4E92-83DA-7947FDE3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D6B-3093-4B28-82E5-366D90BD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38E-1764-442E-8591-B7ADFE4E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E0E-AAFD-4DA8-AA38-5EFBB9D7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BB3-EE9C-41F8-AAE9-ED3A8C13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5A0-EDF5-46F1-A995-4274D135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B20-0CBB-4A05-8593-FF7B4AE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F88-F5F2-4DFA-A180-39F9E54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2C6-4B97-4DF3-8214-94D13BF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F107-ADE4-4934-861E-6ADAF8A87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F483-8823-4C3C-ACF7-7E6C628DA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al Trees &amp; Binary Tre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C2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1DBB-BA08-4156-B324-04A779707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3"/>
          <p:cNvGrpSpPr/>
          <p:nvPr/>
        </p:nvGrpSpPr>
        <p:grpSpPr>
          <a:xfrm>
            <a:off x="605520" y="2286000"/>
            <a:ext cx="3813840" cy="3581280"/>
            <a:chOff x="605520" y="2286000"/>
            <a:chExt cx="3813840" cy="3581280"/>
          </a:xfrm>
        </p:grpSpPr>
        <p:sp>
          <p:nvSpPr>
            <p:cNvPr id="131" name="Oval 3"/>
            <p:cNvSpPr/>
            <p:nvPr/>
          </p:nvSpPr>
          <p:spPr>
            <a:xfrm>
              <a:off x="3124080" y="22860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4"/>
            <p:cNvSpPr/>
            <p:nvPr/>
          </p:nvSpPr>
          <p:spPr>
            <a:xfrm>
              <a:off x="167616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5"/>
            <p:cNvSpPr/>
            <p:nvPr/>
          </p:nvSpPr>
          <p:spPr>
            <a:xfrm>
              <a:off x="3886200" y="32004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6"/>
            <p:cNvSpPr/>
            <p:nvPr/>
          </p:nvSpPr>
          <p:spPr>
            <a:xfrm>
              <a:off x="2361960" y="32004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7"/>
            <p:cNvSpPr/>
            <p:nvPr/>
          </p:nvSpPr>
          <p:spPr>
            <a:xfrm>
              <a:off x="1066680" y="5334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8"/>
            <p:cNvSpPr/>
            <p:nvPr/>
          </p:nvSpPr>
          <p:spPr>
            <a:xfrm>
              <a:off x="29718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9"/>
            <p:cNvSpPr/>
            <p:nvPr/>
          </p:nvSpPr>
          <p:spPr>
            <a:xfrm>
              <a:off x="2361960" y="5334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 flipH="1">
              <a:off x="2666520" y="28195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3429000" y="281952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 flipH="1">
              <a:off x="1981080" y="37339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>
              <a:off x="2666880" y="37339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 flipH="1">
              <a:off x="1295280" y="48006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2057400" y="48006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30"/>
            <p:cNvSpPr/>
            <p:nvPr/>
          </p:nvSpPr>
          <p:spPr>
            <a:xfrm>
              <a:off x="605520" y="2743200"/>
              <a:ext cx="18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(a + b) * c] +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48"/>
          <p:cNvGrpSpPr/>
          <p:nvPr/>
        </p:nvGrpSpPr>
        <p:grpSpPr>
          <a:xfrm>
            <a:off x="4648320" y="2286000"/>
            <a:ext cx="3733200" cy="3232440"/>
            <a:chOff x="4648320" y="2286000"/>
            <a:chExt cx="3733200" cy="3232440"/>
          </a:xfrm>
        </p:grpSpPr>
        <p:sp>
          <p:nvSpPr>
            <p:cNvPr id="146" name="Oval 11"/>
            <p:cNvSpPr/>
            <p:nvPr/>
          </p:nvSpPr>
          <p:spPr>
            <a:xfrm>
              <a:off x="7238880" y="32004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6248160" y="22860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670536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5943600" y="4267080"/>
              <a:ext cx="532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464832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5333760" y="32004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784836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5638680" y="2743200"/>
              <a:ext cx="685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6705360" y="27432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 flipH="1">
              <a:off x="495252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571500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 flipH="1">
              <a:off x="6933960" y="365760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761976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5542200" y="5119560"/>
              <a:ext cx="18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 + b) * (c + 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B8D6-5375-4AA1-952D-BE77F12B6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nodes, each node contains the following data type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erarchical structure; each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ave two children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; there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 and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a binary tree is bounded; domain contains empty tree, trees with one element, two element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3650-3ADF-4AC9-AA65-9BF98EA86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rse (Order 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nary Tree (BT)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element in the tree is processed exactly once by a user supplied procedure. The order in which nodes are processed depends on the value of ord (Order = {preorder, postorder, inorder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order: each node processed before any node in either of its sub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rder: each node is processed after all its nodes in its left subtree and before any node in its right sub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order: each node is processed after all its nodes in both of its sub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066-7A11-4ECF-922B-BE86DF0E3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655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8B45-9B8C-4010-B835-B1EFAEEC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-685800" y="290520"/>
            <a:ext cx="1064268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562C-1004-4B7F-AEC1-9D1570E98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1053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CDA0-0F61-463B-8F57-183DFA8E0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10248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EB96-282A-48F0-BFC8-BA005D4B5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-1143000" y="17640"/>
            <a:ext cx="112125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4762-4A15-4F22-B6B3-C67DC5E72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380880" y="291960"/>
            <a:ext cx="109425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587F-E17C-40D2-9176-95F9DB1DA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Traver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verse a tree means to process (e.g. printing it) each element in the tr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traversals: n! ways of traversing a tree of n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order, in-order, post-ord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ee natural traversals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raversals: n! ways of traversing a list of n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-to-back or back-to-front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wo natural traversals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7A81-E8BC-46C3-AB2F-E99F5BF65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data structures (e.g. lists, stacks, queues) have a linear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structures represen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between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s have a nested or a hierarchical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structures represen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e-to-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between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EDB0-7081-42F2-97B5-D6BBD041E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ert (Type e, Relative rel, boolean inser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lative = {leftchild, rightchild, root, parent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(1) Full () is false and (2) either (a) rel = root and Empty() is true or (b) rel &lt;&gt; root and rel &lt;&gt; parent and Empty( ) is false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, r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se (1) rel = leftChild, current node has a left child, or (2) rel = rightChild, current node has a right child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erted is fals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node containing e is added as rel of the current node in the tree and becomes the current node and inserted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se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9A8C-1441-4B2D-93C2-663FCB360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eteSub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subtree whose root node was the current node is deleted from the tree. If the resulting tree is not empty, then the root node is the current nod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 (Type 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element in e is copied into the curren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8F4E-9CDF-438D-BBCA-1B29240DB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rieve 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lement in the current node is copied into 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67B2-DC1B-4416-B83F-A7E82720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(Relative rel, boolean f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current node of the tree is determined by the value of  rel and previous current node.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 (boolean emp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Binary tree is empty then empty is true; otherwise empty is fa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42EB-8A8F-45BA-9876-A0DF01402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ll (boolean fu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binary tree is full then full is true otherwise fals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504-7D52-4A00-A781-CC0215339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: BTNod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class BTNode &lt;T&gt;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T 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&lt;T&gt; left,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* Creates a new instance of BT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(T v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eft = right = null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(T val, BTNode&lt;T&gt; l, BTNode&lt;T&gt; r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eft = 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ight = r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01F-A118-433B-884F-90D071CB4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: Order &amp; Relativ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imSun"/>
              </a:rPr>
              <a:t>//These definitions are in separate files and de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imSun"/>
              </a:rPr>
              <a:t>// the Order and Relative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enum Order {preOrder, inOrder, postOrder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enum Relative {Root, Parent, LeftChild, RightChild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BA09-2C1D-48FC-8748-996C005E1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BT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BTNode&lt;T&gt; root, cur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B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oot = curren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empty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root == null ? true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D4CC-1BFF-44CC-A5C8-6F64889F5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Non-recursive version of findparen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 uses pre-order tra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rivate BTNode&lt;T&gt; findparent (BTNode&lt;T&gt;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Stack is used to store the right pointers of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inkStack&lt;BTNode&lt;T&gt;&gt; stack = new LinkStack&lt;BTNode&lt;T&gt;&gt;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TNode&lt;T&gt; q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while (q.right != p &amp;&amp; q.left != p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q.right != null) stack.push(q.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q.left !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q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stack.pop();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Go right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EA6C-A52F-4180-9BC7-AD753B4B4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 Recursive version of findparen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preorder traversal us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private BTNode&lt;T&gt; findparent (BTNode&lt;T&gt; p, BTNode&lt;T&gt; 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t == null) return null; /* empty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t.right == null &amp;&amp; t.left =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 if (t.right == p || t.left ==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t; /* parent is 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BTNode q = findparent(p, t.lef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q !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findparent(p, t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4011-7B02-452B-8388-1C97FE647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ituations were one-to-many relations exist… these can be represented as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parent and his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person and books he ow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basketball team and the players on the t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catalog in a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A466-83AC-456D-A31F-882F6C698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public boolean find (Relative re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switch (re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oot: //easy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Paren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 == root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findparent(current, roo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Lef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left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EC9A-78B2-4D3C-92B7-28FE20250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igh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right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44EC-F287-4A86-946C-1FFB821F0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public boolean insert (Relative rel, T v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switch (re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! empty()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root = new BTNode&lt;T&gt;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Parent: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This an impossible c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Lef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left !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.left = new BTNode&lt;T&gt;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D6BE-A9CC-405E-9D8B-7E64FA2CE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igh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right !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.right = new BTNode&lt;T&gt; 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806B-F70D-4E7C-837B-9A589C23C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T retrieve 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current.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void update (T va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7AF6-4B41-449C-A063-7F488BDAE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void delete_subtre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current == roo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roo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TNode&lt;T&gt; p = curr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find(Relative.Par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current.left ==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lef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righ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9505-E995-4BAD-9C02-611D488DD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ee is represented as a set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nected b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dge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1525320" y="3124080"/>
            <a:ext cx="4731840" cy="2424240"/>
            <a:chOff x="1525320" y="3124080"/>
            <a:chExt cx="4731840" cy="2424240"/>
          </a:xfrm>
        </p:grpSpPr>
        <p:sp>
          <p:nvSpPr>
            <p:cNvPr id="62" name="Oval 4"/>
            <p:cNvSpPr/>
            <p:nvPr/>
          </p:nvSpPr>
          <p:spPr>
            <a:xfrm>
              <a:off x="3673440" y="3490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3521160" y="5091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2606760" y="5091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3063960" y="42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4359240" y="42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 flipH="1">
              <a:off x="3292200" y="39481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902040" y="39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 flipH="1">
              <a:off x="2835360" y="470988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3292560" y="47098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5410440" y="358128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 flipH="1">
              <a:off x="4206960" y="37954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7"/>
            <p:cNvSpPr/>
            <p:nvPr/>
          </p:nvSpPr>
          <p:spPr>
            <a:xfrm flipH="1">
              <a:off x="4816080" y="37954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4283640" y="509112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 flipH="1" flipV="1">
              <a:off x="3673440" y="410040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2"/>
            <p:cNvSpPr/>
            <p:nvPr/>
          </p:nvSpPr>
          <p:spPr>
            <a:xfrm flipH="1" flipV="1">
              <a:off x="3597120" y="48621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4"/>
            <p:cNvSpPr/>
            <p:nvPr/>
          </p:nvSpPr>
          <p:spPr>
            <a:xfrm>
              <a:off x="1525320" y="3581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5"/>
            <p:cNvSpPr/>
            <p:nvPr/>
          </p:nvSpPr>
          <p:spPr>
            <a:xfrm>
              <a:off x="4419720" y="31240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6"/>
            <p:cNvSpPr/>
            <p:nvPr/>
          </p:nvSpPr>
          <p:spPr>
            <a:xfrm flipH="1">
              <a:off x="4130280" y="333828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28"/>
          <p:cNvSpPr/>
          <p:nvPr/>
        </p:nvSpPr>
        <p:spPr>
          <a:xfrm>
            <a:off x="1889640" y="5729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9"/>
          <p:cNvSpPr/>
          <p:nvPr/>
        </p:nvSpPr>
        <p:spPr>
          <a:xfrm flipV="1">
            <a:off x="2514600" y="5562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 flipV="1">
            <a:off x="2666880" y="5562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8A85-6F5E-40ED-AF0A-DA700E09D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Comparison with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call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call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, other than the first and the last, has a unique predecessor and a unique suc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first node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successors, called it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one predecessor,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ea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no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no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BEA6-740C-40A5-B50E-95C19328B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e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sequence of distinct nodes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th 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umber of nodes in a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bl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wo nodes that have the same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ces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a node A in a tree, the parent of the node A and the ancestors of the parent of A, are ancestors of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4D4-3B77-44C5-A0E4-D544C9C46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parent of a node is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de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child of a node is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c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unique node without any predeces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af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des without any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a node A in a tree, the children of A and all descendents of the children of A are descendents of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477A-D191-490F-81DF-391E46C18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54"/>
          <p:cNvGrpSpPr/>
          <p:nvPr/>
        </p:nvGrpSpPr>
        <p:grpSpPr>
          <a:xfrm>
            <a:off x="913680" y="2133720"/>
            <a:ext cx="7383600" cy="3765960"/>
            <a:chOff x="913680" y="2133720"/>
            <a:chExt cx="7383600" cy="3765960"/>
          </a:xfrm>
        </p:grpSpPr>
        <p:grpSp>
          <p:nvGrpSpPr>
            <p:cNvPr id="96" name="Group 40"/>
            <p:cNvGrpSpPr/>
            <p:nvPr/>
          </p:nvGrpSpPr>
          <p:grpSpPr>
            <a:xfrm>
              <a:off x="2301840" y="2133720"/>
              <a:ext cx="4419720" cy="3276360"/>
              <a:chOff x="2301840" y="2133720"/>
              <a:chExt cx="4419720" cy="3276360"/>
            </a:xfrm>
          </p:grpSpPr>
          <p:sp>
            <p:nvSpPr>
              <p:cNvPr id="97" name="Oval 3"/>
              <p:cNvSpPr/>
              <p:nvPr/>
            </p:nvSpPr>
            <p:spPr>
              <a:xfrm>
                <a:off x="4511520" y="2133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4"/>
              <p:cNvSpPr/>
              <p:nvPr/>
            </p:nvSpPr>
            <p:spPr>
              <a:xfrm>
                <a:off x="48164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5"/>
              <p:cNvSpPr/>
              <p:nvPr/>
            </p:nvSpPr>
            <p:spPr>
              <a:xfrm>
                <a:off x="36734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6"/>
              <p:cNvSpPr/>
              <p:nvPr/>
            </p:nvSpPr>
            <p:spPr>
              <a:xfrm>
                <a:off x="23018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7"/>
              <p:cNvSpPr/>
              <p:nvPr/>
            </p:nvSpPr>
            <p:spPr>
              <a:xfrm>
                <a:off x="29876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8"/>
              <p:cNvSpPr/>
              <p:nvPr/>
            </p:nvSpPr>
            <p:spPr>
              <a:xfrm>
                <a:off x="45878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9"/>
              <p:cNvSpPr/>
              <p:nvPr/>
            </p:nvSpPr>
            <p:spPr>
              <a:xfrm>
                <a:off x="4206960" y="4952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10"/>
              <p:cNvSpPr/>
              <p:nvPr/>
            </p:nvSpPr>
            <p:spPr>
              <a:xfrm>
                <a:off x="61880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11"/>
              <p:cNvSpPr/>
              <p:nvPr/>
            </p:nvSpPr>
            <p:spPr>
              <a:xfrm>
                <a:off x="626436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12"/>
              <p:cNvSpPr/>
              <p:nvPr/>
            </p:nvSpPr>
            <p:spPr>
              <a:xfrm>
                <a:off x="5425920" y="4952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31"/>
              <p:cNvSpPr/>
              <p:nvPr/>
            </p:nvSpPr>
            <p:spPr>
              <a:xfrm>
                <a:off x="4740120" y="259092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32"/>
              <p:cNvSpPr/>
              <p:nvPr/>
            </p:nvSpPr>
            <p:spPr>
              <a:xfrm flipH="1">
                <a:off x="3292200" y="2590920"/>
                <a:ext cx="14475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4740120" y="25909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 flipH="1">
                <a:off x="2530080" y="3505320"/>
                <a:ext cx="6858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3216240" y="3505320"/>
                <a:ext cx="6858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4816440" y="3505320"/>
                <a:ext cx="1522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7"/>
              <p:cNvSpPr/>
              <p:nvPr/>
            </p:nvSpPr>
            <p:spPr>
              <a:xfrm flipH="1">
                <a:off x="4511520" y="449568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8"/>
              <p:cNvSpPr/>
              <p:nvPr/>
            </p:nvSpPr>
            <p:spPr>
              <a:xfrm>
                <a:off x="5045040" y="4495680"/>
                <a:ext cx="609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9"/>
              <p:cNvSpPr/>
              <p:nvPr/>
            </p:nvSpPr>
            <p:spPr>
              <a:xfrm>
                <a:off x="6416640" y="350532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Oval 44"/>
            <p:cNvSpPr/>
            <p:nvPr/>
          </p:nvSpPr>
          <p:spPr>
            <a:xfrm>
              <a:off x="4054320" y="3733920"/>
              <a:ext cx="1981440" cy="213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5"/>
            <p:cNvSpPr/>
            <p:nvPr/>
          </p:nvSpPr>
          <p:spPr>
            <a:xfrm>
              <a:off x="6082200" y="5195880"/>
              <a:ext cx="15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b-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oted at 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6"/>
            <p:cNvSpPr/>
            <p:nvPr/>
          </p:nvSpPr>
          <p:spPr>
            <a:xfrm flipH="1" flipV="1">
              <a:off x="5959080" y="5257440"/>
              <a:ext cx="3049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47"/>
            <p:cNvSpPr/>
            <p:nvPr/>
          </p:nvSpPr>
          <p:spPr>
            <a:xfrm>
              <a:off x="1064520" y="4738680"/>
              <a:ext cx="186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-B-F is a 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7331760" y="216216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7331760" y="307656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1"/>
            <p:cNvSpPr/>
            <p:nvPr/>
          </p:nvSpPr>
          <p:spPr>
            <a:xfrm>
              <a:off x="7331760" y="406728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52"/>
            <p:cNvSpPr/>
            <p:nvPr/>
          </p:nvSpPr>
          <p:spPr>
            <a:xfrm>
              <a:off x="7315560" y="496728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913680" y="214812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igh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27E8-FEB9-4307-9AE5-664CD6EB7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 is a tree with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can ha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ubtrees and therefo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tree is identified as being either the left subtree or the right subtree of th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ay be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 in a binary tree may be composite e.g. of variable type ‘Typ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a Almudauh</cp:lastModifiedBy>
  <dcterms:modified xsi:type="dcterms:W3CDTF">2016-12-02T19:55:20Z</dcterms:modified>
  <cp:revision>75</cp:revision>
  <dc:subject/>
  <dc:title>Human-Machine Interaction and User-Interface Design</dc:title>
</cp:coreProperties>
</file>