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862634C-28DD-4913-AD8C-25A696FD36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D32041C-602A-49A8-A73A-3EDCE09D36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524C99C-BCFC-4257-A675-D7FF502AE8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EEC5464-3F7F-477B-A32B-51BC34BE2A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AB08E37-71CB-4AC8-8FBB-2D8FB402FA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D193292-D2E7-42A6-A658-F9F0F163B7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DC5312F-41C1-4666-B7A7-65882AF46E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06C3128-9E41-4614-AF8A-B6820F4204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EB68B9C-DB8C-4251-8426-137E53753C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5379F30-E35F-4D6A-B37D-955888BC2E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A7F1841-F70E-4A8D-AF5E-502D0E5A61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23B0301-EE89-4636-8740-2C0B513422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A5A8713-3AA6-49D5-BB7C-77E2AD7562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946654D-44E5-4BCB-A353-AEB393518F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F86AF11-CBCE-4318-AED7-27221EA29F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BE1CCA6-85C3-425D-AC3B-E578BD49EA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8E7E8E6-9B3E-46B0-AAA1-229B689E0A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948AFC1-EF55-4427-BC3E-E6FD059F72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D36BD2-525A-4BBC-8F50-DEEE7D14C4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549C2B0-B627-4F6A-8CFA-F1B993653C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648A65F-AFBA-4C40-A20D-811E39EE11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4EC12E7-5F45-4361-85A3-D5C6EE319E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53E0193-029D-43F1-99E9-198C74FB93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CF55297-F3F0-46FC-8A31-62D6CC5DCD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A42CE27-2974-4900-8EAA-477203F1EB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818FAD0-6263-4B98-9298-0E25543980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26ADE63-9B2F-4BBF-840A-6C4EE456F6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9216254-AD93-4A5E-9D8E-1462D049F4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8373DE2-4F76-4583-8946-40CFDE2ED2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5458E1A-6CC8-4D40-93D1-73A6ADA9E0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12F-FD14-42D4-83CA-C972083E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64E7-839F-4F39-8DC3-DB87E8CF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575-3AF8-4326-80D7-8643D6EC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7B1-DD3D-4996-91DD-45338EED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023C-74D2-41FA-B391-2D157575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1802-1ACB-4748-BB3A-FBAA96A5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216-AFDA-4066-B74E-AE735C22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CA6-15E4-4F53-875D-5AB734C1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33D-60B2-4830-A02F-0A218397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A7C-9D3D-4A25-A3FD-19B8BEBE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AAA-8533-4913-BBDC-13498887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9132-A2C1-4904-88DF-B9DAF66B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5A16-C7F5-4669-89E1-3BE473D68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E89D-972B-4801-8650-09A923281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neral Trees &amp; Binary Tre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C2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82DB-1364-4EA2-A6BC-63DD1BC7D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33"/>
          <p:cNvGrpSpPr/>
          <p:nvPr/>
        </p:nvGrpSpPr>
        <p:grpSpPr>
          <a:xfrm>
            <a:off x="605520" y="2286000"/>
            <a:ext cx="3813840" cy="3581280"/>
            <a:chOff x="605520" y="2286000"/>
            <a:chExt cx="3813840" cy="3581280"/>
          </a:xfrm>
        </p:grpSpPr>
        <p:sp>
          <p:nvSpPr>
            <p:cNvPr id="131" name="Oval 3"/>
            <p:cNvSpPr/>
            <p:nvPr/>
          </p:nvSpPr>
          <p:spPr>
            <a:xfrm>
              <a:off x="3124080" y="22860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4"/>
            <p:cNvSpPr/>
            <p:nvPr/>
          </p:nvSpPr>
          <p:spPr>
            <a:xfrm>
              <a:off x="1676160" y="42670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5"/>
            <p:cNvSpPr/>
            <p:nvPr/>
          </p:nvSpPr>
          <p:spPr>
            <a:xfrm>
              <a:off x="3886200" y="32004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6"/>
            <p:cNvSpPr/>
            <p:nvPr/>
          </p:nvSpPr>
          <p:spPr>
            <a:xfrm>
              <a:off x="2361960" y="32004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7"/>
            <p:cNvSpPr/>
            <p:nvPr/>
          </p:nvSpPr>
          <p:spPr>
            <a:xfrm>
              <a:off x="1066680" y="53341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8"/>
            <p:cNvSpPr/>
            <p:nvPr/>
          </p:nvSpPr>
          <p:spPr>
            <a:xfrm>
              <a:off x="297180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9"/>
            <p:cNvSpPr/>
            <p:nvPr/>
          </p:nvSpPr>
          <p:spPr>
            <a:xfrm>
              <a:off x="2361960" y="53341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 flipH="1">
              <a:off x="2666520" y="281952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>
              <a:off x="3429000" y="2819520"/>
              <a:ext cx="685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6"/>
            <p:cNvSpPr/>
            <p:nvPr/>
          </p:nvSpPr>
          <p:spPr>
            <a:xfrm flipH="1">
              <a:off x="1981080" y="37339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>
              <a:off x="2666880" y="37339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8"/>
            <p:cNvSpPr/>
            <p:nvPr/>
          </p:nvSpPr>
          <p:spPr>
            <a:xfrm flipH="1">
              <a:off x="1295280" y="480060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2057400" y="480060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30"/>
            <p:cNvSpPr/>
            <p:nvPr/>
          </p:nvSpPr>
          <p:spPr>
            <a:xfrm>
              <a:off x="605520" y="2743200"/>
              <a:ext cx="180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(a + b) * c] +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48"/>
          <p:cNvGrpSpPr/>
          <p:nvPr/>
        </p:nvGrpSpPr>
        <p:grpSpPr>
          <a:xfrm>
            <a:off x="4648320" y="2286000"/>
            <a:ext cx="3733200" cy="3232440"/>
            <a:chOff x="4648320" y="2286000"/>
            <a:chExt cx="3733200" cy="3232440"/>
          </a:xfrm>
        </p:grpSpPr>
        <p:sp>
          <p:nvSpPr>
            <p:cNvPr id="146" name="Oval 11"/>
            <p:cNvSpPr/>
            <p:nvPr/>
          </p:nvSpPr>
          <p:spPr>
            <a:xfrm>
              <a:off x="7238880" y="32004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12"/>
            <p:cNvSpPr/>
            <p:nvPr/>
          </p:nvSpPr>
          <p:spPr>
            <a:xfrm>
              <a:off x="6248160" y="22860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670536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5943600" y="4267080"/>
              <a:ext cx="532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464832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5333760" y="32004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784836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0"/>
            <p:cNvSpPr/>
            <p:nvPr/>
          </p:nvSpPr>
          <p:spPr>
            <a:xfrm flipH="1">
              <a:off x="5638680" y="2743200"/>
              <a:ext cx="685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1"/>
            <p:cNvSpPr/>
            <p:nvPr/>
          </p:nvSpPr>
          <p:spPr>
            <a:xfrm>
              <a:off x="6705360" y="27432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 flipH="1">
              <a:off x="4952520" y="3657600"/>
              <a:ext cx="456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5715000" y="3657600"/>
              <a:ext cx="456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 flipH="1">
              <a:off x="6933960" y="365760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7619760" y="3657600"/>
              <a:ext cx="456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47"/>
            <p:cNvSpPr/>
            <p:nvPr/>
          </p:nvSpPr>
          <p:spPr>
            <a:xfrm>
              <a:off x="5542200" y="5119560"/>
              <a:ext cx="180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a + b) * (c + 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FDF6-5247-4DD9-A42E-EE214C303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emen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lements are nodes, each node contains the following data type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a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ftCh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ightCh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uc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ierarchical structure; each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ave two children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ild; there is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o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 and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m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number of nodes in a binary tree is bounded; domain contains empty tree, trees with one element, two element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A299-23AB-4978-BC15-FC3E0AFF2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rse (Order 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nary Tree (BT)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ach element in the tree is processed exactly once by a user supplied procedure. The order in which nodes are processed depends on the value of ord (Order = {preorder, postorder, inorder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order: each node processed before any node in either of its subtre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order: each node is processed after all its nodes in its left subtree and before any node in its right sub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order: each node is processed after all its nodes in both of its subtre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ED7B-37B3-4CED-B2AD-5E9D1EA0A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655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F5EE-0B6E-4260-8268-9C198FB73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-685800" y="290520"/>
            <a:ext cx="1064268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5C72-A0F6-45BF-9508-6AD07284D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10534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70B9-6C54-415D-9701-7BD7B80F2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10248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4A5D-0521-4902-BE40-E5141B7A0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-1143000" y="17640"/>
            <a:ext cx="1121256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CAF9-E830-4A50-BE9F-7E37055A4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-380880" y="291960"/>
            <a:ext cx="109425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3044-B349-4ABC-9EA0-241C7DC6E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 Travers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raverse a tree means to process (e.g. printing it) each element in the tre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traversals: n! ways of traversing a tree of n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order, in-order, post-ord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ee natural traversals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raversals: n! ways of traversing a list of n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-to-back or back-to-front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wo natural traversals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6688-E5B9-4894-B3F9-E03320206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 data structures (e.g. lists, stacks, queues) have a linear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structures represen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e-to-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 between data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s have a nested or a hierarchical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 structures represen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e-to-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 between data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EB14-96E3-441C-BA4C-EB55E28B1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ert (Type e, Relative rel, boolean inser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lative = {leftchild, rightchild, root, parent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(1) Full () is false and (2) either (a) rel = root and Empty() is true or (b) rel &lt;&gt; root and rel &lt;&gt; parent and Empty( ) is false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, r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se (1) rel = leftChild, current node has a left child, or (2) rel = rightChild, current node has a right child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erted is false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node containing e is added as rel of the current node in the tree and becomes the current node and inserted is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nse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BCFF-76E1-426D-BD2C-490340055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eteSub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inary tree is not empty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subtree whose root node was the current node is deleted from the tree. If the resulting tree is not empty, then the root node is the current nod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pdate (Type 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inary tree is not empty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element in e is copied into the current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88F5-9CD6-44F8-80F7-8D149214C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rieve (Type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inary tree is not empty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lement in the current node is copied into 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B32C-9684-4370-9C9C-45F302D91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(Relative rel, boolean f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inary tree is not empty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current node of the tree is determined by the value of  rel and previous current node.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 (boolean empt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Binary tree is empty then empty is true; otherwise empty is fal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7DAE-76DE-4423-B2FF-CC336BD1F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ll (boolean fu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n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n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the binary tree is full then full is true otherwise fals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331E-F1D4-41B6-90BA-2B041D314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: BTNod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class BTNode &lt;T&gt;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T 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BTNode&lt;T&gt; left, 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/** Creates a new instance of BTN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BTNode(T va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data 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left = right = null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BTNode(T val, BTNode&lt;T&gt; l, BTNode&lt;T&gt; r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data 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left = 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ight = r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BA2C-7705-410A-ABBF-6F911FAB4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: Order &amp; Relativ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imSun"/>
              </a:rPr>
              <a:t>//These definitions are in separate files and def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imSun"/>
              </a:rPr>
              <a:t>// the Order and Relative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enum Order {preOrder, inOrder, postOrder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enum Relative {Root, Parent, LeftChild, RightChild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0FE3-5B10-46BC-B0F0-462B52936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class BT&lt;T&gt;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BTNode&lt;T&gt; root, curr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/** Creates a new instance of B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oot = current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oolean empty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root == null ? true: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33B5-C982-430D-BA0A-DC0F3E9C4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// Non-recursive version of findparent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 uses pre-order tra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rivate BTNode&lt;T&gt; findparent (BTNode&lt;T&gt; 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// Stack is used to store the right pointers of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LinkStack&lt;BTNode&lt;T&gt;&gt; stack = new LinkStack&lt;BTNode&lt;T&gt;&gt;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BTNode&lt;T&gt; q = 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while (q.right != p &amp;&amp; q.left != p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q.right != null) stack.push(q.r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q.left !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q = q.lef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q = stack.pop(); 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// Go right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eturn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C863-F665-4677-AB4D-EB0FAB136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/* Recursive version of findparen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preorder traversal use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private BTNode&lt;T&gt; findparent (BTNode&lt;T&gt; p, BTNode&lt;T&gt; t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if (t == null) return null; /* empty tre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if (t.right == null &amp;&amp; t.left ==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else if (t.right == p || t.left == 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return t; /* parent is 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BTNode q = findparent(p, t.lef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if (q !=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return 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return findparent(p, t.righ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8D58-EB83-4754-81A2-4DB920F48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situations were one-to-many relations exist… these can be represented as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between a parent and his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between a person and books he ow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between a basketball team and the players on the t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 catalog in a lib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6A94-FD48-4412-8A42-253271B22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public boolean find (Relative re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switch (re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Root: //easy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Paren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 == root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findparent(current, roo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Left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.left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current.lef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5F8E-5627-44BB-B44E-82D0D31A2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Right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.right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current.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defaul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9B8F-8B7C-4A4C-9C9A-65D91CC65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public boolean insert (Relative rel, T va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switch (re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! empty()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root = new BTNode&lt;T&gt;(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Parent: 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//This an impossible c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Left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.left !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.left = new BTNode&lt;T&gt;(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current.lef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D7D8-E0DB-4E62-A9F6-1C22BAF1B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Right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.right !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.right = new BTNode&lt;T&gt; (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current.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defaul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62EF-96A4-483E-9B3F-FCE50E23D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T retrieve 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eturn current.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void update (T va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data 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CDBE-4480-4925-B125-7CC0E2C41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void delete_subtree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current == roo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 = roo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BTNode&lt;T&gt; p = curr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find(Relative.Par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current.left == 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lef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righ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 = 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D29D-8F74-4FA3-A815-1517F9470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ee is represented as a set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nected b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edge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27"/>
          <p:cNvGrpSpPr/>
          <p:nvPr/>
        </p:nvGrpSpPr>
        <p:grpSpPr>
          <a:xfrm>
            <a:off x="1525320" y="3124080"/>
            <a:ext cx="4731840" cy="2424240"/>
            <a:chOff x="1525320" y="3124080"/>
            <a:chExt cx="4731840" cy="2424240"/>
          </a:xfrm>
        </p:grpSpPr>
        <p:sp>
          <p:nvSpPr>
            <p:cNvPr id="62" name="Oval 4"/>
            <p:cNvSpPr/>
            <p:nvPr/>
          </p:nvSpPr>
          <p:spPr>
            <a:xfrm>
              <a:off x="3673440" y="3490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3521160" y="5091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2606760" y="5091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3063960" y="4252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4359240" y="4252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0"/>
            <p:cNvSpPr/>
            <p:nvPr/>
          </p:nvSpPr>
          <p:spPr>
            <a:xfrm flipH="1">
              <a:off x="3292200" y="39481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3902040" y="3948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 flipH="1">
              <a:off x="2835360" y="470988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3292560" y="470988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4"/>
            <p:cNvSpPr/>
            <p:nvPr/>
          </p:nvSpPr>
          <p:spPr>
            <a:xfrm>
              <a:off x="5410440" y="358128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6"/>
            <p:cNvSpPr/>
            <p:nvPr/>
          </p:nvSpPr>
          <p:spPr>
            <a:xfrm flipH="1">
              <a:off x="4206960" y="37954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7"/>
            <p:cNvSpPr/>
            <p:nvPr/>
          </p:nvSpPr>
          <p:spPr>
            <a:xfrm flipH="1">
              <a:off x="4816080" y="37954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8"/>
            <p:cNvSpPr/>
            <p:nvPr/>
          </p:nvSpPr>
          <p:spPr>
            <a:xfrm>
              <a:off x="4283640" y="509112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d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1"/>
            <p:cNvSpPr/>
            <p:nvPr/>
          </p:nvSpPr>
          <p:spPr>
            <a:xfrm flipH="1" flipV="1">
              <a:off x="3673440" y="4100400"/>
              <a:ext cx="838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22"/>
            <p:cNvSpPr/>
            <p:nvPr/>
          </p:nvSpPr>
          <p:spPr>
            <a:xfrm flipH="1" flipV="1">
              <a:off x="3597120" y="486216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24"/>
            <p:cNvSpPr/>
            <p:nvPr/>
          </p:nvSpPr>
          <p:spPr>
            <a:xfrm>
              <a:off x="1525320" y="35812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T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5"/>
            <p:cNvSpPr/>
            <p:nvPr/>
          </p:nvSpPr>
          <p:spPr>
            <a:xfrm>
              <a:off x="4419720" y="31240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26"/>
            <p:cNvSpPr/>
            <p:nvPr/>
          </p:nvSpPr>
          <p:spPr>
            <a:xfrm flipH="1">
              <a:off x="4130280" y="333828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28"/>
          <p:cNvSpPr/>
          <p:nvPr/>
        </p:nvSpPr>
        <p:spPr>
          <a:xfrm>
            <a:off x="1889640" y="57294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9"/>
          <p:cNvSpPr/>
          <p:nvPr/>
        </p:nvSpPr>
        <p:spPr>
          <a:xfrm flipV="1">
            <a:off x="2514600" y="5562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0"/>
          <p:cNvSpPr/>
          <p:nvPr/>
        </p:nvSpPr>
        <p:spPr>
          <a:xfrm flipV="1">
            <a:off x="2666880" y="55627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AF5D-F1EC-4475-90E2-EA9D0E9FB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Comparison with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 call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 call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lement, other than the first and the last, has a unique predecessor and a unique suc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first node calle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has successors, called it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has one predecessor, calle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ea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no 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no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5B82-F129-43D5-A242-30E0B9243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Mor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mple 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sequence of distinct nodes in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th 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umber of nodes in a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blin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wo nodes that have the same pa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ces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iven a node A in a tree, the parent of the node A and the ancestors of the parent of A, are ancestors of 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30D1-EF20-4DD6-841D-6F93FCA0C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Mor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parent of a node is i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edeces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i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child of a node is i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ucces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unique node without any predecess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af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des without any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scend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iven a node A in a tree, the children of A and all descendents of the children of A are descendents of 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95FA-9856-46B4-8F7E-86F00D148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Mor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54"/>
          <p:cNvGrpSpPr/>
          <p:nvPr/>
        </p:nvGrpSpPr>
        <p:grpSpPr>
          <a:xfrm>
            <a:off x="913680" y="2133720"/>
            <a:ext cx="7383600" cy="3765960"/>
            <a:chOff x="913680" y="2133720"/>
            <a:chExt cx="7383600" cy="3765960"/>
          </a:xfrm>
        </p:grpSpPr>
        <p:grpSp>
          <p:nvGrpSpPr>
            <p:cNvPr id="96" name="Group 40"/>
            <p:cNvGrpSpPr/>
            <p:nvPr/>
          </p:nvGrpSpPr>
          <p:grpSpPr>
            <a:xfrm>
              <a:off x="2301840" y="2133720"/>
              <a:ext cx="4419720" cy="3276360"/>
              <a:chOff x="2301840" y="2133720"/>
              <a:chExt cx="4419720" cy="3276360"/>
            </a:xfrm>
          </p:grpSpPr>
          <p:sp>
            <p:nvSpPr>
              <p:cNvPr id="97" name="Oval 3"/>
              <p:cNvSpPr/>
              <p:nvPr/>
            </p:nvSpPr>
            <p:spPr>
              <a:xfrm>
                <a:off x="4511520" y="2133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4"/>
              <p:cNvSpPr/>
              <p:nvPr/>
            </p:nvSpPr>
            <p:spPr>
              <a:xfrm>
                <a:off x="481644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5"/>
              <p:cNvSpPr/>
              <p:nvPr/>
            </p:nvSpPr>
            <p:spPr>
              <a:xfrm>
                <a:off x="367344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6"/>
              <p:cNvSpPr/>
              <p:nvPr/>
            </p:nvSpPr>
            <p:spPr>
              <a:xfrm>
                <a:off x="230184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7"/>
              <p:cNvSpPr/>
              <p:nvPr/>
            </p:nvSpPr>
            <p:spPr>
              <a:xfrm>
                <a:off x="2987640" y="3048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8"/>
              <p:cNvSpPr/>
              <p:nvPr/>
            </p:nvSpPr>
            <p:spPr>
              <a:xfrm>
                <a:off x="4587840" y="3048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Oval 9"/>
              <p:cNvSpPr/>
              <p:nvPr/>
            </p:nvSpPr>
            <p:spPr>
              <a:xfrm>
                <a:off x="4206960" y="49528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Oval 10"/>
              <p:cNvSpPr/>
              <p:nvPr/>
            </p:nvSpPr>
            <p:spPr>
              <a:xfrm>
                <a:off x="6188040" y="3048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Oval 11"/>
              <p:cNvSpPr/>
              <p:nvPr/>
            </p:nvSpPr>
            <p:spPr>
              <a:xfrm>
                <a:off x="626436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Oval 12"/>
              <p:cNvSpPr/>
              <p:nvPr/>
            </p:nvSpPr>
            <p:spPr>
              <a:xfrm>
                <a:off x="5425920" y="49528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31"/>
              <p:cNvSpPr/>
              <p:nvPr/>
            </p:nvSpPr>
            <p:spPr>
              <a:xfrm>
                <a:off x="4740120" y="259092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32"/>
              <p:cNvSpPr/>
              <p:nvPr/>
            </p:nvSpPr>
            <p:spPr>
              <a:xfrm flipH="1">
                <a:off x="3292200" y="2590920"/>
                <a:ext cx="14475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4740120" y="2590920"/>
                <a:ext cx="1600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 flipH="1">
                <a:off x="2530080" y="3505320"/>
                <a:ext cx="6858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3216240" y="3505320"/>
                <a:ext cx="6858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4816440" y="3505320"/>
                <a:ext cx="1522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37"/>
              <p:cNvSpPr/>
              <p:nvPr/>
            </p:nvSpPr>
            <p:spPr>
              <a:xfrm flipH="1">
                <a:off x="4511520" y="449568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8"/>
              <p:cNvSpPr/>
              <p:nvPr/>
            </p:nvSpPr>
            <p:spPr>
              <a:xfrm>
                <a:off x="5045040" y="4495680"/>
                <a:ext cx="609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39"/>
              <p:cNvSpPr/>
              <p:nvPr/>
            </p:nvSpPr>
            <p:spPr>
              <a:xfrm>
                <a:off x="6416640" y="3505320"/>
                <a:ext cx="76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Oval 44"/>
            <p:cNvSpPr/>
            <p:nvPr/>
          </p:nvSpPr>
          <p:spPr>
            <a:xfrm>
              <a:off x="4054320" y="3733920"/>
              <a:ext cx="1981440" cy="213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45"/>
            <p:cNvSpPr/>
            <p:nvPr/>
          </p:nvSpPr>
          <p:spPr>
            <a:xfrm>
              <a:off x="6082200" y="5195880"/>
              <a:ext cx="15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b-T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oted at 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6"/>
            <p:cNvSpPr/>
            <p:nvPr/>
          </p:nvSpPr>
          <p:spPr>
            <a:xfrm flipH="1" flipV="1">
              <a:off x="5959080" y="5257440"/>
              <a:ext cx="3049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47"/>
            <p:cNvSpPr/>
            <p:nvPr/>
          </p:nvSpPr>
          <p:spPr>
            <a:xfrm>
              <a:off x="1064520" y="4738680"/>
              <a:ext cx="186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-B-F is a P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9"/>
            <p:cNvSpPr/>
            <p:nvPr/>
          </p:nvSpPr>
          <p:spPr>
            <a:xfrm>
              <a:off x="7331760" y="216216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0"/>
            <p:cNvSpPr/>
            <p:nvPr/>
          </p:nvSpPr>
          <p:spPr>
            <a:xfrm>
              <a:off x="7331760" y="307656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1"/>
            <p:cNvSpPr/>
            <p:nvPr/>
          </p:nvSpPr>
          <p:spPr>
            <a:xfrm>
              <a:off x="7331760" y="406728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52"/>
            <p:cNvSpPr/>
            <p:nvPr/>
          </p:nvSpPr>
          <p:spPr>
            <a:xfrm>
              <a:off x="7315560" y="496728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53"/>
            <p:cNvSpPr/>
            <p:nvPr/>
          </p:nvSpPr>
          <p:spPr>
            <a:xfrm>
              <a:off x="913680" y="2148120"/>
              <a:ext cx="10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igh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DDAD-A41B-448C-8692-C07A988B5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tree is a tree with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can hav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 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ubtrees and therefo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 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ubtree is identified as being either the left subtree or the right subtree of th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may be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 in a binary tree may be composite e.g. of variable type ‘Type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9:46:40Z</dcterms:created>
  <dc:creator>Inayat</dc:creator>
  <dc:description/>
  <dc:language>en-US</dc:language>
  <cp:lastModifiedBy>Sara Almudauh</cp:lastModifiedBy>
  <dcterms:modified xsi:type="dcterms:W3CDTF">2016-12-02T19:55:20Z</dcterms:modified>
  <cp:revision>75</cp:revision>
  <dc:subject/>
  <dc:title>Human-Machine Interaction and User-Interface Design</dc:title>
</cp:coreProperties>
</file>