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84C5-EF54-442F-A643-F99E4DA45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2F0C-0EC4-4931-ACEC-B6553E2CC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88FB-339C-4EC0-9F28-70E2707F0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B83F-4498-4690-A6EE-F78B26E26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EBEE-BFB3-4E56-8C62-901420711E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18A9-F818-4612-971D-1ED8EB6232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6296-7E8D-4A1F-BD5F-478B9D8F58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6FCC-7B19-499F-8E76-ED484BB02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B280-A46E-4654-96C4-701C68308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ACFF-28B6-4BF0-AD6F-9D3C72D4E0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EF69-146C-4035-A7A6-8048DF269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3ABA-D2C6-41E3-BB5D-B24B5D0A3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486B-7DFD-4D7A-A27E-86DE47AA45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957F-3E5B-482C-974F-45F8600049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F705-0E02-4FA8-8DA9-B43E29EAF0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55D4-86FD-4C83-B6EA-C993542F9E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2AD8-1D29-4942-9001-7AA2A75121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741-3A5A-43B7-A40A-D05A440AFE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130-CBE9-4BA7-91D6-8334B42311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56F-A708-47D4-9F91-5DDE5D96FE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5EC-7C51-4A71-AE16-17E6845010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880-FFFC-4D35-A69C-5C53750A92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6C57-1F32-4306-9D79-DF5D266432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C91-07D4-440D-9AF3-373475F5A1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95F-96D6-459A-B668-26F3507870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DAA-1D3D-4DAB-9D5F-97D53ECB34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28E-6515-46BF-8E5D-294ECEE103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362-4BB0-447D-A2B9-EF0FE8D60C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82A-3357-41DD-89EC-2258C5C109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B98-E8A5-4600-AA04-F51D70C600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3629B-8E49-4B73-B827-FEDE31FD47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8F78C-9225-4297-8FF8-4B389674BC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436C0-A957-4C7A-8EE0-16ABE26DF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8AC8-3C7F-40C8-9F05-8FE5F9BFA5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B328C-942E-41BC-941E-4B0E9EFD62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E3C04-FEB8-441A-ABAF-E562077808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608C0-0363-4A8E-BD6F-ACA17C091E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5BAD2-0A4B-4067-BA91-6D05AFAF41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DCE2E-2BB3-4318-B6D8-3CD04719DA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34E24-FFAE-4621-9393-72CF29F132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D89E7-37ED-4439-B8A9-82DE3E9DFC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56A8B-64EE-4FF0-AAE6-3A78BAB4FB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12110-6CF9-4629-B2A7-CF3D17BF2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D8E1-3A53-4920-9DA8-7FD6D266C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9F64-CF6A-42AC-B334-0B4C8E757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38FD-6698-48B3-A06A-FE0CA8295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64D7-5426-4540-9EAA-2DFBDEEBE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9783-3D92-4FEF-8EA3-E0B521AE1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07B3-6C57-4D50-A8FF-B3D3E392A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0649-A34A-4D12-A52C-555A89DBF4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2D65-E7C0-4C7B-B811-6B3C0D3096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B7FB-702F-4055-8E98-C4811EFE14A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DFDC-19DA-437F-B7D8-331908C397E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Branch office responsibilitie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680" y="1714680"/>
            <a:ext cx="772776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ch branch office offers a range of properties for r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offer property throug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DreamHome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property owner normally contacts the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ranch office nearest to the property for r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owner provides the details of the property and agrees an appropriate rent for the property with the branch Manager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Ex: The registration form for a property in Glasgow is shown next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F25E-9553-458D-94CD-C490EC26880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C6EE-46B7-4162-B24E-14BF70110D1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property registr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1" name="Picture 4" descr="C10NF03"/>
          <p:cNvPicPr/>
          <p:nvPr/>
        </p:nvPicPr>
        <p:blipFill>
          <a:blip r:embed="rId1"/>
          <a:srcRect l="0" t="577" r="25575" b="0"/>
          <a:stretch/>
        </p:blipFill>
        <p:spPr>
          <a:xfrm>
            <a:off x="642960" y="1557360"/>
            <a:ext cx="7715160" cy="5033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Renting proce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9680" y="1714680"/>
            <a:ext cx="772812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nce a property is registered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provides services to ensure that the property is rented out for maximum return for both the property owner and of course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se services includ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nterviewing prospective renters (called clients)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ganizing viewings of the property by clients,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dvertising the property in the local or national newspapers (when necessary)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d negotiating the lease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nce rented,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assumes responsibility for the property including the collection of re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25C0-1EB1-4816-AE83-74C2414461B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Renting proce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71468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embers of the public interested in renting out property must first contact their nearest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ranch office to register as clients of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ever, before registration is accepted, a prospective client is normally interviewed to record personal details and preferences of the client in terms of property requirements.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gistration form for a client called Mike Ritchie is shown in Figure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8F5-6CA9-48B1-B36C-65B4EC2DC9D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7725-09B5-4D40-81E3-E6A44F32FDA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client registr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1" name="Picture 4" descr="C10NF04"/>
          <p:cNvPicPr/>
          <p:nvPr/>
        </p:nvPicPr>
        <p:blipFill>
          <a:blip r:embed="rId1"/>
          <a:srcRect l="27137" t="-2603" r="0" b="0"/>
          <a:stretch/>
        </p:blipFill>
        <p:spPr>
          <a:xfrm>
            <a:off x="971640" y="1773360"/>
            <a:ext cx="6769080" cy="44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ent servi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7146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nce Client (renter) registration is complete, clients are provided with weekly reports that list properties currently available for r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 example of the first page of a report listing the properties available for rent at a branch office in Glasgow is shown nex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9F5A-27F9-49B6-9812-FA7A52A1096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1CAB-7114-4798-872A-6EE864F640F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of 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property for rent report listing property available for rental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8" name="Picture 4" descr="C10NF05"/>
          <p:cNvPicPr/>
          <p:nvPr/>
        </p:nvPicPr>
        <p:blipFill>
          <a:blip r:embed="rId1"/>
          <a:srcRect l="31399" t="577" r="0" b="0"/>
          <a:stretch/>
        </p:blipFill>
        <p:spPr>
          <a:xfrm>
            <a:off x="785880" y="1628640"/>
            <a:ext cx="7072200" cy="4897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ent servi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99680" y="17146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ents may request to view one or more properties from the lis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after viewing will normally provide a comment on the suitability of the propert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first page of a report describing the comments made by clients on a property in Glasgow is shown nex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perties that prove difficult to rent out are normally advertised in local and national newspap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BEE7-EC3A-4F65-B380-E097D66EAF1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010F-F2D6-4C2E-8E9A-04200773CD4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property viewing report for a property in Glasgow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5" name="Picture 4" descr="C10NF06"/>
          <p:cNvPicPr/>
          <p:nvPr/>
        </p:nvPicPr>
        <p:blipFill>
          <a:blip r:embed="rId1"/>
          <a:srcRect l="0" t="-1153" r="25797" b="0"/>
          <a:stretch/>
        </p:blipFill>
        <p:spPr>
          <a:xfrm>
            <a:off x="826920" y="1628640"/>
            <a:ext cx="7102800" cy="4919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Lease document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34640" y="1676160"/>
            <a:ext cx="7728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nce a client has identified a suitable property, a member of staff draws up a le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lease between a client called Mike Ritchie and a property in Glasgow is shown nex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t the end of a rental period a client may request that the rental be continu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wever this requires that a new lease be drawn up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ternatively, a client may request to view alternative properties for the purposes of renting ( a new cycle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1CD4-65FF-4A7F-A3AA-76730E12CEC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171-BEE9-4C3E-9843-0F1F5E422ED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bout a property rental company called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reamHom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FF5-794E-4E2F-B674-E08B01B4204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lease form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2" name="Picture 4" descr="C10NF07"/>
          <p:cNvPicPr/>
          <p:nvPr/>
        </p:nvPicPr>
        <p:blipFill>
          <a:blip r:embed="rId1"/>
          <a:srcRect l="0" t="577" r="24827" b="0"/>
          <a:stretch/>
        </p:blipFill>
        <p:spPr>
          <a:xfrm>
            <a:off x="755640" y="162864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an overview of the DreamHome case stud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is a company provides rental services for both owners and cli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s case study will be used throughout the text book and will be used during our lectur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EB31-6152-4F75-8369-1BB2B026A7B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DreamHome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Case Study – An Overview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400" y="1676520"/>
            <a:ext cx="833436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irst branch office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as opened in 1992 in a city called Glasgow in the U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nce then, the Company has grown steadily and now has several offices in most of the main cities of the UK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wever, the Company is now so large that more and more administrative staff are being employed to cope with the ever-increasing amount of paper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urthermore, the communication and sharing of information between offices, even in the same city, is po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 to handle these problems?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DB5D-DEEA-4DEA-8E5D-0FA356831D2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DreamHome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Case Stud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7120" y="1676160"/>
            <a:ext cx="84060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Director of the Company, Sally feels that too many mistakes are being made and that the success of the Company will be short-lived if she does not do something to remedy the situ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e knows that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databas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uld help in part to solve the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e requests that a database application be developed to support the running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Director has provided the following brief description of how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urrently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erat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4601-2A6E-41C0-A7DD-A27B2DCBAE5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D0B-3CE1-4DCE-B8C5-25DD7B03122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ission Statement for </a:t>
            </a:r>
            <a:r>
              <a:rPr b="1" i="1" lang="en-GB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reamHome </a:t>
            </a:r>
            <a:r>
              <a:rPr b="1" lang="en-GB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base System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6" name="Picture 4" descr="C10NF08"/>
          <p:cNvPicPr/>
          <p:nvPr/>
        </p:nvPicPr>
        <p:blipFill>
          <a:blip r:embed="rId1"/>
          <a:srcRect l="0" t="-3301" r="16969" b="0"/>
          <a:stretch/>
        </p:blipFill>
        <p:spPr>
          <a:xfrm>
            <a:off x="468360" y="1916280"/>
            <a:ext cx="8136000" cy="3512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DreamHome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Case Stud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120" y="1499760"/>
            <a:ext cx="840600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ecializes in property management, by taking an intermediate role between owners who wish to rent out their furnished property and clients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o require to rent furnished property for a fixed perio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currently has about 2000 staff working in 100 branch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a member of staff joins the Company, th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ff registration form is us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ample:  The staff registration form for Susan Brand is shown in Figure 1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28AB-A5B5-4C8B-B15A-75C1D7A58ED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1000080" y="3500280"/>
            <a:ext cx="1271520" cy="64296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Own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5715000" y="3500280"/>
            <a:ext cx="1128600" cy="64296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Diamond 7"/>
          <p:cNvSpPr/>
          <p:nvPr/>
        </p:nvSpPr>
        <p:spPr>
          <a:xfrm>
            <a:off x="3071880" y="3214800"/>
            <a:ext cx="1928880" cy="1214280"/>
          </a:xfrm>
          <a:prstGeom prst="diamond">
            <a:avLst/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Straight Connector 9"/>
          <p:cNvSpPr/>
          <p:nvPr/>
        </p:nvSpPr>
        <p:spPr>
          <a:xfrm>
            <a:off x="2271600" y="3822840"/>
            <a:ext cx="8002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Straight Connector 11"/>
          <p:cNvSpPr/>
          <p:nvPr/>
        </p:nvSpPr>
        <p:spPr>
          <a:xfrm flipH="1" flipV="1">
            <a:off x="5000760" y="3822840"/>
            <a:ext cx="71424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1836-A903-4BEA-93FB-F2899EF5876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taff Registration Form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8" name="Picture 4" descr="C10NF01"/>
          <p:cNvPicPr/>
          <p:nvPr/>
        </p:nvPicPr>
        <p:blipFill>
          <a:blip r:embed="rId1"/>
          <a:srcRect l="26730" t="580" r="0" b="0"/>
          <a:stretch/>
        </p:blipFill>
        <p:spPr>
          <a:xfrm>
            <a:off x="571680" y="1357200"/>
            <a:ext cx="81435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Branch Offic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8400" y="1357200"/>
            <a:ext cx="83343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ch branch has an appropriate number and type of staff includ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nag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upervisors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d Assistant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Manager is responsible for the day-to-day running of a branch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each Supervisor is responsible for supervising a group of staff called Assistant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 example of the first page of a report listing the details of staff working at a branch office in Glasgow is shown nex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B05-E1CB-4069-983A-43C8093BD4C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07E8-BECE-458D-AEE0-937CA83EF91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21ef"/>
                </a:solidFill>
                <a:latin typeface="Times New Roman"/>
              </a:rPr>
              <a:t>The first page of a report listing the details of staff working at a </a:t>
            </a:r>
            <a:r>
              <a:rPr b="1" i="1" lang="en-US" sz="2400" spc="-1" strike="noStrike">
                <a:solidFill>
                  <a:srgbClr val="3a21ef"/>
                </a:solidFill>
                <a:latin typeface="Times New Roman"/>
              </a:rPr>
              <a:t>DreamHome </a:t>
            </a:r>
            <a:r>
              <a:rPr b="1" lang="en-US" sz="2400" spc="-1" strike="noStrike">
                <a:solidFill>
                  <a:srgbClr val="3a21ef"/>
                </a:solidFill>
                <a:latin typeface="Times New Roman"/>
              </a:rPr>
              <a:t>branch office in Glasg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4" name="Picture 4" descr="C10NF02"/>
          <p:cNvPicPr/>
          <p:nvPr/>
        </p:nvPicPr>
        <p:blipFill>
          <a:blip r:embed="rId1"/>
          <a:srcRect l="26900" t="-1154" r="0" b="0"/>
          <a:stretch/>
        </p:blipFill>
        <p:spPr>
          <a:xfrm>
            <a:off x="357120" y="1628640"/>
            <a:ext cx="8072640" cy="47498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5T22:58:04Z</dcterms:created>
  <dc:creator>Thomas Connolly and Carolyn Begg</dc:creator>
  <dc:description>Transparencies for Chapter 26 of textbook
Database Systems: A Practical Approach to Design, Implementation and Management</dc:description>
  <dc:language>en-US</dc:language>
  <cp:lastModifiedBy>lab</cp:lastModifiedBy>
  <cp:lastPrinted>1998-06-17T14:53:36Z</cp:lastPrinted>
  <dcterms:modified xsi:type="dcterms:W3CDTF">2012-01-31T11:35:28Z</dcterms:modified>
  <cp:revision>100</cp:revision>
  <dc:subject>Database Systems</dc:subject>
  <dc:title>Chapter 26</dc:title>
</cp:coreProperties>
</file>