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348F-8BF5-4894-96C8-5934DCF07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3B3D-39E2-4EF6-A97F-DF2F64772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B496-B0B0-4C9F-9055-E800BD7B6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58B3-3D30-4333-8B5C-ADF10F773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6E34-BD53-4812-B9AD-DDB01DCBAF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5E75-336D-4F83-A2F9-8AF8FA85D8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FCC9-383B-48BB-BB1F-2794F3D7F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4A91-C954-4989-9ECF-919F18F8D7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9950-4460-46C2-86C3-76CDA0B28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3CB0-D80E-40D8-B45C-DB05F6B7D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5A47-2FA6-41B5-AF53-913777BD5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9D92-A109-4E6F-A869-5DBE6D110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4379-4066-4E0D-ABCE-5E618D31C2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3309B-1A21-473A-BDA2-7632F40384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57E7-3C17-4B77-8F10-05815EF81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92E2-A862-407B-9ACD-95BCCC3ED3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0A60-3602-44CE-BA52-E68C2CAF6A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F49-6569-465E-8B94-835B71C837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D3D-D2A0-4501-BA66-52BD24EB36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0A5-E880-4ED9-A816-25804C4C5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5E0-BA51-4C59-BF14-06D3DE1F98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62B-A0DD-47C0-AE3B-CB483389E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2CF3-84E2-4205-84BE-DF4A8EA2ED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147-4DE9-4C20-A8B9-1C0E4D5860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1C3-42FF-4302-8737-9EA31227E1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A2B-6332-4E6C-B5ED-47E8844115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368-6462-4645-88EA-A97424784B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F90-7E72-4AF3-BD1C-5B6911075D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F01-BC21-4E68-8DCD-C71386CB3C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FBB-6246-4F71-9B2C-4467703E0C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4467-0D94-4C06-B949-1D1987EBB4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AEA36-0BB9-4B39-800E-02380961EB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F232-7436-4F62-A496-D664EBB7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325E-7A9D-4360-92CB-DC70648BA4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D792-D685-4A5F-97FF-1E929F586D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30431-AD37-4A7E-8095-9B3D815FC9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15B19-11B6-4A9C-9653-55ACF2582B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0588C-5679-41AB-93DD-7C4C47BA82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0954C-188E-4548-872B-B3C3F1CFA2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0AF84-FF18-4191-B10D-2F5269A42E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EAA3-E0FF-4214-A4E6-2F6BAD1E4B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C0EE-6A88-4F35-BBED-7FF330C759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9D323-7D16-4047-AB5C-456D57283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8394-9CB5-4E3C-988D-F611912EF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90EE-7744-4F7B-B3A1-09492E8D4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3E92-363E-43AE-AF36-C98DECCE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8D23-31BB-4949-935D-B974C8712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48F9-B40A-4901-B357-41ABDDA5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9F4-7D0F-41A5-89FA-8AD82C83B3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D10-2875-4174-8505-745E5C9DDB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871-DC55-4231-AF49-DBCF79BE2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FB5-D4D1-4D90-9BAD-D95AC1A3F9B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88E8-F48F-441D-AF3A-A29B89594D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ranch office responsibilitie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680" y="1714680"/>
            <a:ext cx="772776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branch office offers a range of properties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offer property throug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property owner normally contacts the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anch office nearest to the property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owner provides the details of the property and agrees an appropriate rent for the property with the branch Manager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Ex: The registration form for a property in Glasgow is shown next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8377-3367-4F21-891F-FD311F0341C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C33-A9E9-4235-B1DE-0CFB188134D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regist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1" name="Picture 4" descr="C10NF03"/>
          <p:cNvPicPr/>
          <p:nvPr/>
        </p:nvPicPr>
        <p:blipFill>
          <a:blip r:embed="rId1"/>
          <a:srcRect l="0" t="577" r="25575" b="0"/>
          <a:stretch/>
        </p:blipFill>
        <p:spPr>
          <a:xfrm>
            <a:off x="642960" y="1557360"/>
            <a:ext cx="7715160" cy="5033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nting proce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680" y="1714680"/>
            <a:ext cx="77281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ce a property is registered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provides services to ensure that the property is rented out for maximum return for both the property owner and of course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se services includ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nterviewing prospective renters (called clients)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ganizing viewings of the property by clients,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dvertising the property in the local or national newspapers (when necessary)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d negotiating the lease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nce rented,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assumes responsibility for the property including the collection of re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D192-3802-4605-A88E-BECD96C44DF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nting proce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71468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embers of the public interested in renting out property must first contact their nearest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ranch office to register as clients of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ever, before registration is accepted, a prospective client is normally interviewed to record personal details and preferences of the client in terms of property requirements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gistration form for a client called Mike Ritchie is shown in Figure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490A-A3EE-4657-A16B-8A0F7E9393F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67ED-B688-4D34-A20F-C861E285391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client registrati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1" name="Picture 4" descr="C10NF04"/>
          <p:cNvPicPr/>
          <p:nvPr/>
        </p:nvPicPr>
        <p:blipFill>
          <a:blip r:embed="rId1"/>
          <a:srcRect l="27137" t="-2603" r="0" b="0"/>
          <a:stretch/>
        </p:blipFill>
        <p:spPr>
          <a:xfrm>
            <a:off x="971640" y="1773360"/>
            <a:ext cx="6769080" cy="44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ent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7146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ce Client (renter) registration is complete, clients are provided with weekly reports that list properties currently available for r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 example of the first page of a report listing the properties available for rent at a branch office in Glasgow is shown nex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65C-8106-41F3-96F8-1392131F2A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6276-55E7-4FFD-B449-250848C2DA9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of 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for rent report listing property available for rental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8" name="Picture 4" descr="C10NF05"/>
          <p:cNvPicPr/>
          <p:nvPr/>
        </p:nvPicPr>
        <p:blipFill>
          <a:blip r:embed="rId1"/>
          <a:srcRect l="31399" t="577" r="0" b="0"/>
          <a:stretch/>
        </p:blipFill>
        <p:spPr>
          <a:xfrm>
            <a:off x="785880" y="1628640"/>
            <a:ext cx="7072200" cy="4897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ent serv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9680" y="17146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ents may request to view one or more properties from the lis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after viewing will normally provide a comment on the suitability of the propert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first page of a report describing the comments made by clients on a property in Glasgow is shown nex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perties that prove difficult to rent out are normally advertised in local and national newspap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4FA-3363-4EFC-869D-53BB5E1E7E8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5C7F-647A-45CD-BDD4-984910F1FC4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property viewing report for a property in Glasgow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5" name="Picture 4" descr="C10NF06"/>
          <p:cNvPicPr/>
          <p:nvPr/>
        </p:nvPicPr>
        <p:blipFill>
          <a:blip r:embed="rId1"/>
          <a:srcRect l="0" t="-1153" r="25797" b="0"/>
          <a:stretch/>
        </p:blipFill>
        <p:spPr>
          <a:xfrm>
            <a:off x="826920" y="1628640"/>
            <a:ext cx="7102800" cy="4919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Lease document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34640" y="1676160"/>
            <a:ext cx="7728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ce a client has identified a suitable property, a member of staff draws up a le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lease between a client called Mike Ritchie and a property in Glasgow is shown nex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 the end of a rental period a client may request that the rental be continu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 this requires that a new lease be drawn up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ternatively, a client may request to view alternative properties for the purposes of renting ( a new cycle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2EA-D9D7-4DE3-BE0D-38087B8AF66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D1B1-F01B-4837-BA5E-21CC2381440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bout a property rental company called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reamHom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FF42-B38D-4DBD-9606-96754593E9C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DreamHome</a:t>
            </a: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 lease for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2" name="Picture 4" descr="C10NF07"/>
          <p:cNvPicPr/>
          <p:nvPr/>
        </p:nvPicPr>
        <p:blipFill>
          <a:blip r:embed="rId1"/>
          <a:srcRect l="0" t="577" r="24827" b="0"/>
          <a:stretch/>
        </p:blipFill>
        <p:spPr>
          <a:xfrm>
            <a:off x="755640" y="162864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an overview of the DreamHome case stud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is a company provides rental services for both owners and cli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s case study will be used throughout the text book and will be used during our lectur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75B8-E981-4292-9A7A-59324606D76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 – An Overview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1676520"/>
            <a:ext cx="833436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irst branch office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as opened in 1992 in a city called Glasgow in the U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nce then, the Company has grown steadily and now has several offices in most of the main cities of the UK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, the Company is now so large that more and more administrative staff are being employed to cope with the ever-increasing amount of paper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urthermore, the communication and sharing of information between offices, even in the same city, is po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 to handle these problems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E1E0-C1B8-4903-A1D2-221E03BA7FB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1676160"/>
            <a:ext cx="84060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irector of the Company, Sally feels that too many mistakes are being made and that the success of the Company will be short-lived if she does not do something to remedy the situ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e knows tha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atabas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uld help in part to solve the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e requests that a database application be developed to support the running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irector has provided the following brief description of how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rrently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rat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AAF-4024-4379-9ECA-4DB9ECE882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7D96-B23A-41E2-A570-A7A524A1E93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ission Statement for </a:t>
            </a:r>
            <a:r>
              <a:rPr b="1" i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 </a:t>
            </a:r>
            <a:r>
              <a:rPr b="1" lang="en-GB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atabase Syste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6" name="Picture 4" descr="C10NF08"/>
          <p:cNvPicPr/>
          <p:nvPr/>
        </p:nvPicPr>
        <p:blipFill>
          <a:blip r:embed="rId1"/>
          <a:srcRect l="0" t="-3301" r="16969" b="0"/>
          <a:stretch/>
        </p:blipFill>
        <p:spPr>
          <a:xfrm>
            <a:off x="468360" y="1916280"/>
            <a:ext cx="8136000" cy="3512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80"/>
                </a:solidFill>
                <a:latin typeface="Times New Roman"/>
              </a:rPr>
              <a:t>DreamHome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120" y="1499760"/>
            <a:ext cx="84060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cializes in property management, by taking an intermediate role between owners who wish to rent out their furnished property and clients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o require to rent furnished property for a fixed perio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urrently has about 2000 staff working in 100 branch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a member of staff joins the Company, th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reamHom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 registration form is us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xample:  The staff registration form for Susan Brand is shown in Figure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B02-571D-4445-871B-14D53D3C122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00080" y="3500280"/>
            <a:ext cx="1271520" cy="6429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Own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5715000" y="3500280"/>
            <a:ext cx="1128600" cy="6429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Diamond 7"/>
          <p:cNvSpPr/>
          <p:nvPr/>
        </p:nvSpPr>
        <p:spPr>
          <a:xfrm>
            <a:off x="3071880" y="3214800"/>
            <a:ext cx="1928880" cy="1214280"/>
          </a:xfrm>
          <a:prstGeom prst="diamond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reamHo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traight Connector 9"/>
          <p:cNvSpPr/>
          <p:nvPr/>
        </p:nvSpPr>
        <p:spPr>
          <a:xfrm>
            <a:off x="2271600" y="3822840"/>
            <a:ext cx="8002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Straight Connector 11"/>
          <p:cNvSpPr/>
          <p:nvPr/>
        </p:nvSpPr>
        <p:spPr>
          <a:xfrm flipH="1" flipV="1">
            <a:off x="5000760" y="3822840"/>
            <a:ext cx="71424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F33-FAE2-417A-9040-FCCCDFA6C30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aff Registration Form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8" name="Picture 4" descr="C10NF01"/>
          <p:cNvPicPr/>
          <p:nvPr/>
        </p:nvPicPr>
        <p:blipFill>
          <a:blip r:embed="rId1"/>
          <a:srcRect l="26730" t="580" r="0" b="0"/>
          <a:stretch/>
        </p:blipFill>
        <p:spPr>
          <a:xfrm>
            <a:off x="571680" y="1357200"/>
            <a:ext cx="81435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ranch Offic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8400" y="1357200"/>
            <a:ext cx="83343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branch has an appropriate number and type of staff includ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nag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upervisors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Assistant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Manager is responsible for the day-to-day running of a branch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each Supervisor is responsible for supervising a group of staff called Assistant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 example of the first page of a report listing the details of staff working at a branch office in Glasgow is shown nex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2B0-C70C-4FE8-AD0D-778CA94A39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6749-1CA6-4004-8BEA-246A2358E99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The first page of a report listing the details of staff working at a </a:t>
            </a:r>
            <a:r>
              <a:rPr b="1" i="1" lang="en-US" sz="2400" spc="-1" strike="noStrike">
                <a:solidFill>
                  <a:srgbClr val="3a21ef"/>
                </a:solidFill>
                <a:latin typeface="Times New Roman"/>
              </a:rPr>
              <a:t>DreamHome </a:t>
            </a: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branch office in Glasg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4" descr="C10NF02"/>
          <p:cNvPicPr/>
          <p:nvPr/>
        </p:nvPicPr>
        <p:blipFill>
          <a:blip r:embed="rId1"/>
          <a:srcRect l="26900" t="-1154" r="0" b="0"/>
          <a:stretch/>
        </p:blipFill>
        <p:spPr>
          <a:xfrm>
            <a:off x="357120" y="1628640"/>
            <a:ext cx="8072640" cy="47498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5T22:58:04Z</dcterms:created>
  <dc:creator>Thomas Connolly and Carolyn Begg</dc:creator>
  <dc:description>Transparencies for Chapter 26 of textbook
Database Systems: A Practical Approach to Design, Implementation and Management</dc:description>
  <dc:language>en-US</dc:language>
  <cp:lastModifiedBy>lab</cp:lastModifiedBy>
  <cp:lastPrinted>1998-06-17T14:53:36Z</cp:lastPrinted>
  <dcterms:modified xsi:type="dcterms:W3CDTF">2012-01-31T11:35:28Z</dcterms:modified>
  <cp:revision>100</cp:revision>
  <dc:subject>Database Systems</dc:subject>
  <dc:title>Chapter 26</dc:title>
</cp:coreProperties>
</file>