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9EAA-DE63-4921-A01C-BE9475EEE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B824-1B4B-4649-981B-D3A4668F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4CAB-259A-431A-837D-995FA89B7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A301-CD74-4FA1-ACCB-B91A601F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C169-87DD-407B-81D7-CD30F9EF2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3034-347D-4E37-AD63-9A19BD23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F2D3-9CF6-4903-8C85-CA6F9EF5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90BF-1DD6-4288-A1AC-74B9081D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A821-5DFC-489C-B9FA-4894BA3E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6F5A-B5F2-41BE-AC64-C79A3112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9676-6E86-42D1-8A7F-5DB2039A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F5B6-1400-4D88-A1D5-64E06D73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BC01-8AD6-4C8E-8EAA-5697BD0D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A034-6A38-46BF-B199-D7114F9D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087F-99DF-4531-8F1C-30F8DCEF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6C6B-9AF7-4E36-BC25-A9A71F553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1F54-5A83-4222-98BD-E872BAAC8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F822-A9E8-488B-9385-70AD016A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1EAA-AF83-4DD5-8CBB-EFA345A5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2B04-0B78-4F19-98D3-C647D509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21EC-A989-44AD-8D00-8E0458FD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063D-96F9-4C30-9465-BB9721F3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3EBD-1297-460E-AF40-42248B00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63C4-CA9E-4B35-971E-B5915318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9BE9-95B4-4C0E-BBE5-4BCF67806024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45FE-6651-42AF-B7DD-F340E6E5B950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3745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Ulothrix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: Chloriphyt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: Chlorophycea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: Ulotrichal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: Ulotrichacea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7" descr="ANd9GcTHlVTK6M_EkEJ8Cp8AEW4KtYuFqB5qsk86dLjBDlpdocZ_bY0tlw"/>
          <p:cNvPicPr/>
          <p:nvPr/>
        </p:nvPicPr>
        <p:blipFill>
          <a:blip r:embed="rId1"/>
          <a:stretch/>
        </p:blipFill>
        <p:spPr>
          <a:xfrm>
            <a:off x="7020000" y="189000"/>
            <a:ext cx="1942920" cy="3168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ANd9GcRsUoCPX7kq2UFECUlfgQkJFCIe5NJbvKAzS7P_0YRdbwmR8Kk4"/>
          <p:cNvPicPr/>
          <p:nvPr/>
        </p:nvPicPr>
        <p:blipFill>
          <a:blip r:embed="rId2"/>
          <a:stretch/>
        </p:blipFill>
        <p:spPr>
          <a:xfrm>
            <a:off x="4211640" y="3573360"/>
            <a:ext cx="2592360" cy="302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ANd9GcQ2X85Zc7DSXWO5w-Mg3X460UvOv5S-J-q-Ki8X8EJ3ovsvbrhF"/>
          <p:cNvPicPr/>
          <p:nvPr/>
        </p:nvPicPr>
        <p:blipFill>
          <a:blip r:embed="rId3"/>
          <a:stretch/>
        </p:blipFill>
        <p:spPr>
          <a:xfrm>
            <a:off x="4211640" y="189000"/>
            <a:ext cx="2619360" cy="3168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ANd9GcS91ViwAG0y4Ar7DjSEirzuAhquiLmZfrvRXB3S0sHYr7iLvCnBCg"/>
          <p:cNvPicPr/>
          <p:nvPr/>
        </p:nvPicPr>
        <p:blipFill>
          <a:blip r:embed="rId4"/>
          <a:stretch/>
        </p:blipFill>
        <p:spPr>
          <a:xfrm>
            <a:off x="7020000" y="3573360"/>
            <a:ext cx="1944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3035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Ulv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: Chlorophyt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: Chlorophycea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: Ulotrichal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: Ulvacea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ANd9GcRn1Uc_3tar3MvbJqqj4W3FVzh5XXW32F6If5hk7dtIxlbausaMAg"/>
          <p:cNvPicPr/>
          <p:nvPr/>
        </p:nvPicPr>
        <p:blipFill>
          <a:blip r:embed="rId1"/>
          <a:stretch/>
        </p:blipFill>
        <p:spPr>
          <a:xfrm>
            <a:off x="6516720" y="404640"/>
            <a:ext cx="2448000" cy="2737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ANd9GcQOJrSITFEOEHyBlSmfUVxVgGU3w4L0qc9wepguFBEwtT-It4_QGg"/>
          <p:cNvPicPr/>
          <p:nvPr/>
        </p:nvPicPr>
        <p:blipFill>
          <a:blip r:embed="rId2"/>
          <a:stretch/>
        </p:blipFill>
        <p:spPr>
          <a:xfrm>
            <a:off x="6516720" y="3213000"/>
            <a:ext cx="2448000" cy="3384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ANd9GcT5kjsOQ0ZJ9XQOmLc8sEW1Y6lofzkNw7KBsfNypZ25agY72bY7"/>
          <p:cNvPicPr/>
          <p:nvPr/>
        </p:nvPicPr>
        <p:blipFill>
          <a:blip r:embed="rId3"/>
          <a:stretch/>
        </p:blipFill>
        <p:spPr>
          <a:xfrm>
            <a:off x="3995640" y="404640"/>
            <a:ext cx="2448000" cy="2664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ANd9GcQLqeZ4LK7Cq3SLTqPMviG3DDUc2aZy-PwiyVAGX_x_QY55h2AG"/>
          <p:cNvPicPr/>
          <p:nvPr/>
        </p:nvPicPr>
        <p:blipFill>
          <a:blip r:embed="rId4"/>
          <a:stretch/>
        </p:blipFill>
        <p:spPr>
          <a:xfrm>
            <a:off x="3708360" y="3213000"/>
            <a:ext cx="266400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970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Enteromorph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: Chlorophyt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: Chlorophycea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: Ulotrichal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: Ulvacea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7" descr="ANd9GcSM3wzYaovIKLPh4Jp03NHK5USPcT5PAAeV9B7ab3BgPG9s9EPCuw"/>
          <p:cNvPicPr/>
          <p:nvPr/>
        </p:nvPicPr>
        <p:blipFill>
          <a:blip r:embed="rId1"/>
          <a:stretch/>
        </p:blipFill>
        <p:spPr>
          <a:xfrm>
            <a:off x="3564000" y="4221000"/>
            <a:ext cx="2590560" cy="244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ANd9GcSkGlcreW3AJi5PqUVyXDDduPPpEwEQenGH0D6zUgFFqEASmaqjJQ"/>
          <p:cNvPicPr/>
          <p:nvPr/>
        </p:nvPicPr>
        <p:blipFill>
          <a:blip r:embed="rId2"/>
          <a:stretch/>
        </p:blipFill>
        <p:spPr>
          <a:xfrm>
            <a:off x="755640" y="4221000"/>
            <a:ext cx="2590920" cy="244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ANd9GcS2yQTWUCXu-uHgwvITanzlJvooQeryUgjLc7pvPH8r7LOyUdEd5g"/>
          <p:cNvPicPr/>
          <p:nvPr/>
        </p:nvPicPr>
        <p:blipFill>
          <a:blip r:embed="rId3"/>
          <a:stretch/>
        </p:blipFill>
        <p:spPr>
          <a:xfrm>
            <a:off x="4572000" y="260280"/>
            <a:ext cx="1990800" cy="3519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ANd9GcQpUW33M2TZHfZ2MrL8eju9eYB_PqQXPill5cdt-LL8MbIfRV5m"/>
          <p:cNvPicPr/>
          <p:nvPr/>
        </p:nvPicPr>
        <p:blipFill>
          <a:blip r:embed="rId4"/>
          <a:stretch/>
        </p:blipFill>
        <p:spPr>
          <a:xfrm>
            <a:off x="6372360" y="4221000"/>
            <a:ext cx="2466720" cy="2448000"/>
          </a:xfrm>
          <a:prstGeom prst="rect">
            <a:avLst/>
          </a:prstGeom>
          <a:ln w="0">
            <a:noFill/>
          </a:ln>
        </p:spPr>
      </p:pic>
      <p:pic>
        <p:nvPicPr>
          <p:cNvPr id="116" name="صورة 4" descr="شكل عام1.jpg"/>
          <p:cNvPicPr/>
          <p:nvPr/>
        </p:nvPicPr>
        <p:blipFill>
          <a:blip r:embed="rId5"/>
          <a:stretch/>
        </p:blipFill>
        <p:spPr>
          <a:xfrm>
            <a:off x="6659640" y="260280"/>
            <a:ext cx="228600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4214880" cy="345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/ Chlorophyta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/ Chlorophycea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/ Zygnematales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/ Desmidacea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8" name="Picture 9" descr="ANd9GcSnwM2LtrYDL05T9HQvdl1VMvhOgikxMM8tTlduSUikg8cAlo3sSA"/>
          <p:cNvPicPr/>
          <p:nvPr/>
        </p:nvPicPr>
        <p:blipFill>
          <a:blip r:embed="rId1"/>
          <a:stretch/>
        </p:blipFill>
        <p:spPr>
          <a:xfrm>
            <a:off x="6591240" y="404640"/>
            <a:ext cx="2444760" cy="3095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ANd9GcSCKZk87CsEGeDSriYxr0MauNgRuxl8YvFbVLtRgJiEDd6AgCiu"/>
          <p:cNvPicPr/>
          <p:nvPr/>
        </p:nvPicPr>
        <p:blipFill>
          <a:blip r:embed="rId2"/>
          <a:stretch/>
        </p:blipFill>
        <p:spPr>
          <a:xfrm>
            <a:off x="6732720" y="3716280"/>
            <a:ext cx="2232000" cy="2952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ANd9GcTE7nkG-0SPjhFQQKj0jzG6auuQcrwc_eRyQhNdMb_-hZu1OIr3FA"/>
          <p:cNvPicPr/>
          <p:nvPr/>
        </p:nvPicPr>
        <p:blipFill>
          <a:blip r:embed="rId3"/>
          <a:stretch/>
        </p:blipFill>
        <p:spPr>
          <a:xfrm>
            <a:off x="3851280" y="3645000"/>
            <a:ext cx="2619360" cy="3024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4"/>
          <p:cNvSpPr/>
          <p:nvPr/>
        </p:nvSpPr>
        <p:spPr>
          <a:xfrm>
            <a:off x="180720" y="476280"/>
            <a:ext cx="310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Closteri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16" descr="ANd9GcTANJrxCp7ygsl8lM6KimXb8F0bjztCBTWJHEozcn4Msk9RxvPf-g"/>
          <p:cNvPicPr/>
          <p:nvPr/>
        </p:nvPicPr>
        <p:blipFill>
          <a:blip r:embed="rId4"/>
          <a:stretch/>
        </p:blipFill>
        <p:spPr>
          <a:xfrm>
            <a:off x="3851280" y="404640"/>
            <a:ext cx="2628720" cy="31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1571760"/>
            <a:ext cx="4606920" cy="374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/ Chlorophyta.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/ Chlorophyceae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Or/ Zygnematales .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/ Desmidacea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3200"/>
            </a:b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4" name="Picture 14" descr="ANd9GcRs823OKi8RYyH1BecGJUr6YDG78PC-Ma7BA1Zw88Te78MtXb9v"/>
          <p:cNvPicPr/>
          <p:nvPr/>
        </p:nvPicPr>
        <p:blipFill>
          <a:blip r:embed="rId1"/>
          <a:stretch/>
        </p:blipFill>
        <p:spPr>
          <a:xfrm>
            <a:off x="4140360" y="476280"/>
            <a:ext cx="4787640" cy="424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ANd9GcSuqf3tdN6Cxr8wsZz-nimDCYu8X4fp4OUAbABlfghMDmdTtuwV"/>
          <p:cNvPicPr/>
          <p:nvPr/>
        </p:nvPicPr>
        <p:blipFill>
          <a:blip r:embed="rId2"/>
          <a:stretch/>
        </p:blipFill>
        <p:spPr>
          <a:xfrm>
            <a:off x="1547640" y="4941720"/>
            <a:ext cx="2376720" cy="18003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7"/>
          <p:cNvSpPr/>
          <p:nvPr/>
        </p:nvSpPr>
        <p:spPr>
          <a:xfrm>
            <a:off x="252360" y="692280"/>
            <a:ext cx="325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Cosmari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9" descr="ANd9GcT4yHu15O7zV2V7qOBq5YdZGIN-klczzwmX-VoPZyr_5dGDZHr-"/>
          <p:cNvPicPr/>
          <p:nvPr/>
        </p:nvPicPr>
        <p:blipFill>
          <a:blip r:embed="rId3"/>
          <a:stretch/>
        </p:blipFill>
        <p:spPr>
          <a:xfrm>
            <a:off x="4067280" y="4941720"/>
            <a:ext cx="2552760" cy="1791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1" descr="ANd9GcRYWz70CLClcPn8k_1ssHpGJG9nNakDzuAPxBMMITLAF4-ByBc7HA"/>
          <p:cNvPicPr/>
          <p:nvPr/>
        </p:nvPicPr>
        <p:blipFill>
          <a:blip r:embed="rId4"/>
          <a:stretch/>
        </p:blipFill>
        <p:spPr>
          <a:xfrm>
            <a:off x="6732720" y="4941720"/>
            <a:ext cx="225720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08:59:10Z</dcterms:created>
  <dc:creator>Om fahad</dc:creator>
  <dc:description/>
  <dc:language>en-US</dc:language>
  <cp:lastModifiedBy>ASUS</cp:lastModifiedBy>
  <dcterms:modified xsi:type="dcterms:W3CDTF">2012-03-29T08:46:34Z</dcterms:modified>
  <cp:revision>9</cp:revision>
  <dc:subject/>
  <dc:title>الطحالب الخضراء  Green Algae</dc:title>
</cp:coreProperties>
</file>