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CB2-399C-4C7E-A029-833B968C8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869-EE79-47D9-945F-25E5171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118-96E9-4EE7-8363-EF6B7DEC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CF0-9B6C-4ED7-AF24-8D89BFF6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3206-524C-4520-9E3C-548DD3B5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2B44-687B-4E66-9AAD-EB8A491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DF65-2B20-411A-B666-F83D985B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708-FD5D-48C3-9E26-39E0FA59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517F-84B9-4E64-B858-2C664BCA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06ED-B6D5-4BA1-A763-6ACCF8CF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5EA2-E11B-4374-9C4A-ACAF75E2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33B-28FB-4F25-99E0-F6B16FB6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DA2-E412-44EE-95AA-E6F04E44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359E-AB97-4467-8EFB-0365AFBB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93F-F8A6-43CB-A722-B886368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2282-6FAC-4A61-A46B-50A1ACEA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10D3-F4D6-476B-A3F2-1F108556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77C-7F56-41A7-9FF4-848E284E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38D-B499-4AEA-99FD-C9295893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298-B73F-49E1-A20D-2F9325DD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968-B684-4D2D-BDF9-C1BF2AF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1AA5-CF45-4644-9D29-9F213C31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6D80-E001-4E56-95A4-4BFB911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F63-BA27-4763-AD07-1BBA7686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D175-F710-4EB9-A487-3C6A3825B4C8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B014-CDEA-4E48-BEF3-2B27C237E9D7}" type="slidenum">
              <a:rPr b="0" lang="ar-SA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3745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othrix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i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otrich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Nd9GcTHlVTK6M_EkEJ8Cp8AEW4KtYuFqB5qsk86dLjBDlpdocZ_bY0tlw"/>
          <p:cNvPicPr/>
          <p:nvPr/>
        </p:nvPicPr>
        <p:blipFill>
          <a:blip r:embed="rId1"/>
          <a:stretch/>
        </p:blipFill>
        <p:spPr>
          <a:xfrm>
            <a:off x="7020000" y="189000"/>
            <a:ext cx="194292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ANd9GcRsUoCPX7kq2UFECUlfgQkJFCIe5NJbvKAzS7P_0YRdbwmR8Kk4"/>
          <p:cNvPicPr/>
          <p:nvPr/>
        </p:nvPicPr>
        <p:blipFill>
          <a:blip r:embed="rId2"/>
          <a:stretch/>
        </p:blipFill>
        <p:spPr>
          <a:xfrm>
            <a:off x="4211640" y="3573360"/>
            <a:ext cx="2592360" cy="302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Nd9GcQ2X85Zc7DSXWO5w-Mg3X460UvOv5S-J-q-Ki8X8EJ3ovsvbrhF"/>
          <p:cNvPicPr/>
          <p:nvPr/>
        </p:nvPicPr>
        <p:blipFill>
          <a:blip r:embed="rId3"/>
          <a:stretch/>
        </p:blipFill>
        <p:spPr>
          <a:xfrm>
            <a:off x="4211640" y="189000"/>
            <a:ext cx="2619360" cy="316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ANd9GcS91ViwAG0y4Ar7DjSEirzuAhquiLmZfrvRXB3S0sHYr7iLvCnBCg"/>
          <p:cNvPicPr/>
          <p:nvPr/>
        </p:nvPicPr>
        <p:blipFill>
          <a:blip r:embed="rId4"/>
          <a:stretch/>
        </p:blipFill>
        <p:spPr>
          <a:xfrm>
            <a:off x="7020000" y="357336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303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Ulv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ANd9GcRn1Uc_3tar3MvbJqqj4W3FVzh5XXW32F6If5hk7dtIxlbausaMAg"/>
          <p:cNvPicPr/>
          <p:nvPr/>
        </p:nvPicPr>
        <p:blipFill>
          <a:blip r:embed="rId1"/>
          <a:stretch/>
        </p:blipFill>
        <p:spPr>
          <a:xfrm>
            <a:off x="6516720" y="404640"/>
            <a:ext cx="2448000" cy="2737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ANd9GcQOJrSITFEOEHyBlSmfUVxVgGU3w4L0qc9wepguFBEwtT-It4_QGg"/>
          <p:cNvPicPr/>
          <p:nvPr/>
        </p:nvPicPr>
        <p:blipFill>
          <a:blip r:embed="rId2"/>
          <a:stretch/>
        </p:blipFill>
        <p:spPr>
          <a:xfrm>
            <a:off x="6516720" y="3213000"/>
            <a:ext cx="2448000" cy="338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ANd9GcT5kjsOQ0ZJ9XQOmLc8sEW1Y6lofzkNw7KBsfNypZ25agY72bY7"/>
          <p:cNvPicPr/>
          <p:nvPr/>
        </p:nvPicPr>
        <p:blipFill>
          <a:blip r:embed="rId3"/>
          <a:stretch/>
        </p:blipFill>
        <p:spPr>
          <a:xfrm>
            <a:off x="3995640" y="40464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ANd9GcQLqeZ4LK7Cq3SLTqPMviG3DDUc2aZy-PwiyVAGX_x_QY55h2AG"/>
          <p:cNvPicPr/>
          <p:nvPr/>
        </p:nvPicPr>
        <p:blipFill>
          <a:blip r:embed="rId4"/>
          <a:stretch/>
        </p:blipFill>
        <p:spPr>
          <a:xfrm>
            <a:off x="3708360" y="3213000"/>
            <a:ext cx="266400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9700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Enteromorph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: Chlorophyt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: Chlorophy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: Ulotrichal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: Ulvace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7" descr="ANd9GcSM3wzYaovIKLPh4Jp03NHK5USPcT5PAAeV9B7ab3BgPG9s9EPCuw"/>
          <p:cNvPicPr/>
          <p:nvPr/>
        </p:nvPicPr>
        <p:blipFill>
          <a:blip r:embed="rId1"/>
          <a:stretch/>
        </p:blipFill>
        <p:spPr>
          <a:xfrm>
            <a:off x="3564000" y="4221000"/>
            <a:ext cx="259056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ANd9GcSkGlcreW3AJi5PqUVyXDDduPPpEwEQenGH0D6zUgFFqEASmaqjJQ"/>
          <p:cNvPicPr/>
          <p:nvPr/>
        </p:nvPicPr>
        <p:blipFill>
          <a:blip r:embed="rId2"/>
          <a:stretch/>
        </p:blipFill>
        <p:spPr>
          <a:xfrm>
            <a:off x="755640" y="4221000"/>
            <a:ext cx="2590920" cy="244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ANd9GcS2yQTWUCXu-uHgwvITanzlJvooQeryUgjLc7pvPH8r7LOyUdEd5g"/>
          <p:cNvPicPr/>
          <p:nvPr/>
        </p:nvPicPr>
        <p:blipFill>
          <a:blip r:embed="rId3"/>
          <a:stretch/>
        </p:blipFill>
        <p:spPr>
          <a:xfrm>
            <a:off x="4572000" y="260280"/>
            <a:ext cx="1990800" cy="3519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d9GcQpUW33M2TZHfZ2MrL8eju9eYB_PqQXPill5cdt-LL8MbIfRV5m"/>
          <p:cNvPicPr/>
          <p:nvPr/>
        </p:nvPicPr>
        <p:blipFill>
          <a:blip r:embed="rId4"/>
          <a:stretch/>
        </p:blipFill>
        <p:spPr>
          <a:xfrm>
            <a:off x="6372360" y="4221000"/>
            <a:ext cx="2466720" cy="2448000"/>
          </a:xfrm>
          <a:prstGeom prst="rect">
            <a:avLst/>
          </a:prstGeom>
          <a:ln w="0">
            <a:noFill/>
          </a:ln>
        </p:spPr>
      </p:pic>
      <p:pic>
        <p:nvPicPr>
          <p:cNvPr id="116" name="صورة 4" descr="شكل عام1.jpg"/>
          <p:cNvPicPr/>
          <p:nvPr/>
        </p:nvPicPr>
        <p:blipFill>
          <a:blip r:embed="rId5"/>
          <a:stretch/>
        </p:blipFill>
        <p:spPr>
          <a:xfrm>
            <a:off x="6659640" y="260280"/>
            <a:ext cx="228600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421488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/ Zygnematales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9" descr="ANd9GcSnwM2LtrYDL05T9HQvdl1VMvhOgikxMM8tTlduSUikg8cAlo3sSA"/>
          <p:cNvPicPr/>
          <p:nvPr/>
        </p:nvPicPr>
        <p:blipFill>
          <a:blip r:embed="rId1"/>
          <a:stretch/>
        </p:blipFill>
        <p:spPr>
          <a:xfrm>
            <a:off x="6591240" y="404640"/>
            <a:ext cx="2444760" cy="309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ANd9GcSCKZk87CsEGeDSriYxr0MauNgRuxl8YvFbVLtRgJiEDd6AgCiu"/>
          <p:cNvPicPr/>
          <p:nvPr/>
        </p:nvPicPr>
        <p:blipFill>
          <a:blip r:embed="rId2"/>
          <a:stretch/>
        </p:blipFill>
        <p:spPr>
          <a:xfrm>
            <a:off x="6732720" y="3716280"/>
            <a:ext cx="2232000" cy="29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ANd9GcTE7nkG-0SPjhFQQKj0jzG6auuQcrwc_eRyQhNdMb_-hZu1OIr3FA"/>
          <p:cNvPicPr/>
          <p:nvPr/>
        </p:nvPicPr>
        <p:blipFill>
          <a:blip r:embed="rId3"/>
          <a:stretch/>
        </p:blipFill>
        <p:spPr>
          <a:xfrm>
            <a:off x="3851280" y="3645000"/>
            <a:ext cx="2619360" cy="3024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4"/>
          <p:cNvSpPr/>
          <p:nvPr/>
        </p:nvSpPr>
        <p:spPr>
          <a:xfrm>
            <a:off x="180720" y="476280"/>
            <a:ext cx="31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loste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6" descr="ANd9GcTANJrxCp7ygsl8lM6KimXb8F0bjztCBTWJHEozcn4Msk9RxvPf-g"/>
          <p:cNvPicPr/>
          <p:nvPr/>
        </p:nvPicPr>
        <p:blipFill>
          <a:blip r:embed="rId4"/>
          <a:stretch/>
        </p:blipFill>
        <p:spPr>
          <a:xfrm>
            <a:off x="3851280" y="404640"/>
            <a:ext cx="2628720" cy="31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606920" cy="37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/ Chlorophyta.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/ Chlorophyceae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Or/ Zygnematales .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/ Desmidace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14" descr="ANd9GcRs823OKi8RYyH1BecGJUr6YDG78PC-Ma7BA1Zw88Te78MtXb9v"/>
          <p:cNvPicPr/>
          <p:nvPr/>
        </p:nvPicPr>
        <p:blipFill>
          <a:blip r:embed="rId1"/>
          <a:stretch/>
        </p:blipFill>
        <p:spPr>
          <a:xfrm>
            <a:off x="4140360" y="476280"/>
            <a:ext cx="4787640" cy="424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ANd9GcSuqf3tdN6Cxr8wsZz-nimDCYu8X4fp4OUAbABlfghMDmdTtuwV"/>
          <p:cNvPicPr/>
          <p:nvPr/>
        </p:nvPicPr>
        <p:blipFill>
          <a:blip r:embed="rId2"/>
          <a:stretch/>
        </p:blipFill>
        <p:spPr>
          <a:xfrm>
            <a:off x="1547640" y="494172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7"/>
          <p:cNvSpPr/>
          <p:nvPr/>
        </p:nvSpPr>
        <p:spPr>
          <a:xfrm>
            <a:off x="252360" y="692280"/>
            <a:ext cx="325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Cosmari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9" descr="ANd9GcT4yHu15O7zV2V7qOBq5YdZGIN-klczzwmX-VoPZyr_5dGDZHr-"/>
          <p:cNvPicPr/>
          <p:nvPr/>
        </p:nvPicPr>
        <p:blipFill>
          <a:blip r:embed="rId3"/>
          <a:stretch/>
        </p:blipFill>
        <p:spPr>
          <a:xfrm>
            <a:off x="4067280" y="4941720"/>
            <a:ext cx="2552760" cy="179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1" descr="ANd9GcRYWz70CLClcPn8k_1ssHpGJG9nNakDzuAPxBMMITLAF4-ByBc7HA"/>
          <p:cNvPicPr/>
          <p:nvPr/>
        </p:nvPicPr>
        <p:blipFill>
          <a:blip r:embed="rId4"/>
          <a:stretch/>
        </p:blipFill>
        <p:spPr>
          <a:xfrm>
            <a:off x="6732720" y="4941720"/>
            <a:ext cx="2257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ASUS</cp:lastModifiedBy>
  <dcterms:modified xsi:type="dcterms:W3CDTF">2012-03-29T08:46:34Z</dcterms:modified>
  <cp:revision>9</cp:revision>
  <dc:subject/>
  <dc:title>الطحالب الخضراء  Green Algae</dc:title>
</cp:coreProperties>
</file>