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60D-29DA-42BD-B78D-A662B632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6F4-AF20-4F9B-A08D-36312E7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8F8-BF60-4B0D-AFB5-DE9619C5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C91-B121-4371-88B8-75BBD808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BD37-A21F-4528-9B62-EDDEDDB8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C310-DA84-42D5-81A7-91F6F6E5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3E9F-CAB6-4C57-8E53-66962835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F08F-E8A7-4453-A96D-F81905B9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8D65-33E7-4C75-B547-6193DF0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A72D-0340-4D70-954D-E0EA2E2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3E9D-54FB-4519-B999-6111A929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B8A2-A960-445C-A43B-CD157A31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A90C-066B-485D-A19A-A7D3F815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5A75-3BF8-421D-9C11-C07EF540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847D-4F9A-4D16-A542-70420A5E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1A03-40CC-4743-B177-2F283B5F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91C3-BCC2-45E1-8FFB-B128FBC2C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0EC-0443-44E0-82C2-FA6C7A67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0600-17DD-4CE6-81A5-11AE91AA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4B6E-C03B-4810-86C2-962431D4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731-AEE1-45D7-AE1A-F7F16ECF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7C2B-0CEF-47D1-9DB8-210D06A9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06F-BBF3-4D66-9A1C-78B8F2A5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76D-DB6E-417D-A164-50497E5D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F961-28B0-40B8-80B2-AE972855FE0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AF6F-A7E5-4ABE-BF3A-66CB5E1948E4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img88.imageshack.us/img88/9154/spirogyra430mp7.png&amp;imgrefurl=http://botanic-ar.co.cc/%3Fp%3D151&amp;usg=__gS6XDQK9AgTBgDUcZrErRAUCfQo=&amp;h=333&amp;w=500&amp;sz=383&amp;hl=ar&amp;start=1&amp;itbs=1&amp;tbnid=aGUj6OrOkzMzcM:&amp;tbnh=87&amp;tbnw=130&amp;prev=/images%3Fq%3DSpirogyra%26hl%3Dar%26safe%3Dactive%26sa%3DG%26gbv%3D2%26tbs%3Disch: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.sa/imgres?imgurl=http://botit.botany.wisc.edu/Interface/web-lessons/Diversity/Chlorophyta/images/Spirogyra.jpg&amp;imgrefurl=http://biologyhw.blogspot.com/2009_01_01_archive.html&amp;usg=__7UhI1LCh_bIJdZwamAY9RVaS9bg=&amp;h=257&amp;w=400&amp;sz=19&amp;hl=ar&amp;start=18&amp;itbs=1&amp;tbnid=639nx1TKGpfD5M:&amp;tbnh=80&amp;tbnw=124&amp;prev=/images%3Fq%3DSpirogyra%26hl%3Dar%26safe%3Dactive%26sa%3DG%26gbv%3D2%26tbs%3Disch: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.sa/imgres?imgurl=http://www.marietta.edu/~spilatrs/biol202/microid/images/spirogyra.jpg&amp;imgrefurl=http://www.marietta.edu/~spilatrs/biol202/microid/images/&amp;usg=__8CQzrLU06xxh1M3DMH54HfGdGRw=&amp;h=433&amp;w=961&amp;sz=38&amp;hl=ar&amp;start=7&amp;itbs=1&amp;tbnid=len8h58ppEBTBM:&amp;tbnh=67&amp;tbnw=148&amp;prev=/images%3Fq%3DSpirogyra%26hl%3Dar%26safe%3Dactive%26sa%3DG%26gbv%3D2%26tbs%3Disch:1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50356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spirogyra430mp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60280"/>
            <a:ext cx="38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Spirogyr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2565360"/>
            <a:ext cx="388764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spirogyr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4724280"/>
            <a:ext cx="3887640" cy="1873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78200" y="830160"/>
            <a:ext cx="373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Spirogy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628280"/>
            <a:ext cx="4680000" cy="446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Zygnemat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Zygnematacea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4" name="Picture 7" descr="zygnema"/>
          <p:cNvPicPr/>
          <p:nvPr/>
        </p:nvPicPr>
        <p:blipFill>
          <a:blip r:embed="rId1"/>
          <a:stretch/>
        </p:blipFill>
        <p:spPr>
          <a:xfrm>
            <a:off x="4716360" y="189000"/>
            <a:ext cx="4283280" cy="216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395280" y="836640"/>
            <a:ext cx="377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Zygne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13" descr="ANd9GcRkQJO6aYHnkVJ_i78vk618BTkPR6bnAkWUkVvRtz7ywGjC0v4DPg"/>
          <p:cNvPicPr/>
          <p:nvPr/>
        </p:nvPicPr>
        <p:blipFill>
          <a:blip r:embed="rId2"/>
          <a:stretch/>
        </p:blipFill>
        <p:spPr>
          <a:xfrm>
            <a:off x="4716360" y="2421000"/>
            <a:ext cx="4248360" cy="217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ANd9GcQOVNkpslbZj3udBhQAT_VuCiqFoY0jdUs9UIR7wVQGPrf9Q8Je5w"/>
          <p:cNvPicPr/>
          <p:nvPr/>
        </p:nvPicPr>
        <p:blipFill>
          <a:blip r:embed="rId3"/>
          <a:stretch/>
        </p:blipFill>
        <p:spPr>
          <a:xfrm>
            <a:off x="4716360" y="4653000"/>
            <a:ext cx="4248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4726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ladophor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lor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Cladophor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ladopho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9" descr="ANd9GcT8Zl5UHlcVglMBSXRzFYWbHGfO95AcQy3XuHPwj1hG23UyM9oy_g"/>
          <p:cNvPicPr/>
          <p:nvPr/>
        </p:nvPicPr>
        <p:blipFill>
          <a:blip r:embed="rId1"/>
          <a:stretch/>
        </p:blipFill>
        <p:spPr>
          <a:xfrm>
            <a:off x="2771640" y="4508640"/>
            <a:ext cx="1998720" cy="2162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ANd9GcTSdCsPIqGn3OBUDGC0Em92FQkF7oZL7te0kgFQ1f9BdUJPr3MZIA"/>
          <p:cNvPicPr/>
          <p:nvPr/>
        </p:nvPicPr>
        <p:blipFill>
          <a:blip r:embed="rId2"/>
          <a:stretch/>
        </p:blipFill>
        <p:spPr>
          <a:xfrm>
            <a:off x="5219640" y="4797360"/>
            <a:ext cx="367200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3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5" descr="ANd9GcR7c-YHZ9GW-vlclykgdnPB7JkjfMykpn23C59dmVo6NBf4ohXXQw"/>
          <p:cNvPicPr/>
          <p:nvPr/>
        </p:nvPicPr>
        <p:blipFill>
          <a:blip r:embed="rId3"/>
          <a:stretch/>
        </p:blipFill>
        <p:spPr>
          <a:xfrm>
            <a:off x="179280" y="4508640"/>
            <a:ext cx="2495520" cy="2189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Cladophora%20100x%20MC%20"/>
          <p:cNvPicPr/>
          <p:nvPr/>
        </p:nvPicPr>
        <p:blipFill>
          <a:blip r:embed="rId4"/>
          <a:stretch/>
        </p:blipFill>
        <p:spPr>
          <a:xfrm>
            <a:off x="5219640" y="333360"/>
            <a:ext cx="37450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Charophyta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Charophyceae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r/ Charal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Char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chara"/>
          <p:cNvPicPr/>
          <p:nvPr/>
        </p:nvPicPr>
        <p:blipFill>
          <a:blip r:embed="rId1"/>
          <a:stretch/>
        </p:blipFill>
        <p:spPr>
          <a:xfrm>
            <a:off x="7020000" y="333360"/>
            <a:ext cx="2124000" cy="3527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5" descr="ANd9GcQKH2WZyeEdGAdqq5jEHaFtobGffnnZVj069lMp2-eH17qwMuLD"/>
          <p:cNvPicPr/>
          <p:nvPr/>
        </p:nvPicPr>
        <p:blipFill>
          <a:blip r:embed="rId2"/>
          <a:stretch/>
        </p:blipFill>
        <p:spPr>
          <a:xfrm>
            <a:off x="4500720" y="333360"/>
            <a:ext cx="2376360" cy="36003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7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9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1" descr="chara_fil_algae"/>
          <p:cNvPicPr/>
          <p:nvPr/>
        </p:nvPicPr>
        <p:blipFill>
          <a:blip r:embed="rId3"/>
          <a:stretch/>
        </p:blipFill>
        <p:spPr>
          <a:xfrm>
            <a:off x="324000" y="429264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3" descr="ANd9GcS7C2h7B_GWv1trW0GelGVcO2k882aifBJOfRkHjh0tZqYreTAR6A"/>
          <p:cNvPicPr/>
          <p:nvPr/>
        </p:nvPicPr>
        <p:blipFill>
          <a:blip r:embed="rId4"/>
          <a:stretch/>
        </p:blipFill>
        <p:spPr>
          <a:xfrm>
            <a:off x="3708360" y="4221000"/>
            <a:ext cx="24382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ANd9GcR3dcv6oln5i8Y3qgiNYSXNAYLs3ZGQOFLPtrisNrLpEk3prW8s"/>
          <p:cNvPicPr/>
          <p:nvPr/>
        </p:nvPicPr>
        <p:blipFill>
          <a:blip r:embed="rId5"/>
          <a:stretch/>
        </p:blipFill>
        <p:spPr>
          <a:xfrm>
            <a:off x="6300720" y="4221000"/>
            <a:ext cx="2374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907920"/>
            <a:ext cx="5256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/ Xanthophyt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/ Xanthophy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Vauchariales or heterosiphon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/ Vaucheriacea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Picture"/>
          <p:cNvPicPr/>
          <p:nvPr/>
        </p:nvPicPr>
        <p:blipFill>
          <a:blip r:embed="rId1"/>
          <a:stretch/>
        </p:blipFill>
        <p:spPr>
          <a:xfrm>
            <a:off x="5148360" y="4941720"/>
            <a:ext cx="3816360" cy="1773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0"/>
          <p:cNvSpPr/>
          <p:nvPr/>
        </p:nvSpPr>
        <p:spPr>
          <a:xfrm>
            <a:off x="179280" y="333360"/>
            <a:ext cx="382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2" descr="ANd9GcSrYMzO9su07TXgq4vf9P8GHM3Lhp5_oi_XHXALJMr-VABeHN4X"/>
          <p:cNvPicPr/>
          <p:nvPr/>
        </p:nvPicPr>
        <p:blipFill>
          <a:blip r:embed="rId2"/>
          <a:stretch/>
        </p:blipFill>
        <p:spPr>
          <a:xfrm>
            <a:off x="5148360" y="2997360"/>
            <a:ext cx="3816360" cy="1800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ANd9GcTBS8fnJ5zCB8KUkbE7us5hnAht44g5IXPmdLprLJNzZvYdTd1O"/>
          <p:cNvPicPr/>
          <p:nvPr/>
        </p:nvPicPr>
        <p:blipFill>
          <a:blip r:embed="rId3"/>
          <a:stretch/>
        </p:blipFill>
        <p:spPr>
          <a:xfrm>
            <a:off x="324000" y="5445000"/>
            <a:ext cx="2504880" cy="1181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7"/>
          <p:cNvSpPr/>
          <p:nvPr/>
        </p:nvSpPr>
        <p:spPr>
          <a:xfrm>
            <a:off x="3343320" y="2610000"/>
            <a:ext cx="2457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9" descr="C0052464-Vaucheria_Yellow-Green_Algae_with_zygotes-SPL"/>
          <p:cNvPicPr/>
          <p:nvPr/>
        </p:nvPicPr>
        <p:blipFill>
          <a:blip r:embed="rId4"/>
          <a:stretch/>
        </p:blipFill>
        <p:spPr>
          <a:xfrm>
            <a:off x="5148360" y="549360"/>
            <a:ext cx="381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ASUS</cp:lastModifiedBy>
  <dcterms:modified xsi:type="dcterms:W3CDTF">2012-04-06T16:34:00Z</dcterms:modified>
  <cp:revision>7</cp:revision>
  <dc:subject/>
  <dc:title>الطحالب الخضراء  Green Algae</dc:title>
</cp:coreProperties>
</file>