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430-3030-4384-93BF-099E1BC0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68B-6D53-4EEF-836D-DD351CC8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3CF-EA84-4188-8E67-61699312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BBC-8837-46CA-9EF9-C6CEB844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7789-48B9-4AC1-8B54-603DA696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B70A-927D-469A-A6DD-F6F42FAB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A2E3-681E-49AC-9740-FA18055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60A5-8F4F-44FE-AD66-B259F0B5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081C-0DA7-400D-AD9A-3174FC6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4EE-977B-4BC1-9753-10B8DC99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8554-AA6C-4557-91BE-74E14B7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7B7-A3D6-45B9-9594-A5BA0825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93BB-225E-4DD3-A92B-675CFA4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1BC0-21CE-4E63-9E3F-2124458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C09-F4E8-4E49-85BD-1EE3486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7BBE-8D75-4CF2-ADD9-0DF5325A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853-F98E-45C4-912F-3C163543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800-E186-4277-94AD-266F0D0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6CC-6A8D-42F5-AF8C-FAA9C6D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197-7BCE-48DF-839A-99A3E64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6BE-3C42-41E5-A8EB-91F6DED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CC4-C912-4877-B369-B7CFE75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6A9-7619-407C-8E76-E4DF39C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AB7-F183-4162-BBFC-102E186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C24-4F79-45BA-8506-32C2142B891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B5D-5EDD-467C-BD66-118D33CCAB3E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88.imageshack.us/img88/9154/spirogyra430mp7.png&amp;imgrefurl=http://botanic-ar.co.cc/%3Fp%3D151&amp;usg=__gS6XDQK9AgTBgDUcZrErRAUCfQo=&amp;h=333&amp;w=500&amp;sz=383&amp;hl=ar&amp;start=1&amp;itbs=1&amp;tbnid=aGUj6OrOkzMzcM:&amp;tbnh=87&amp;tbnw=130&amp;prev=/images%3Fq%3DSpirogyra%26hl%3Dar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sa/imgres?imgurl=http://botit.botany.wisc.edu/Interface/web-lessons/Diversity/Chlorophyta/images/Spirogyra.jpg&amp;imgrefurl=http://biologyhw.blogspot.com/2009_01_01_archive.html&amp;usg=__7UhI1LCh_bIJdZwamAY9RVaS9bg=&amp;h=257&amp;w=400&amp;sz=19&amp;hl=ar&amp;start=18&amp;itbs=1&amp;tbnid=639nx1TKGpfD5M:&amp;tbnh=80&amp;tbnw=124&amp;prev=/images%3Fq%3DSpirogyra%26hl%3Dar%26safe%3Dactive%26sa%3DG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sa/imgres?imgurl=http://www.marietta.edu/~spilatrs/biol202/microid/images/spirogyra.jpg&amp;imgrefurl=http://www.marietta.edu/~spilatrs/biol202/microid/images/&amp;usg=__8CQzrLU06xxh1M3DMH54HfGdGRw=&amp;h=433&amp;w=961&amp;sz=38&amp;hl=ar&amp;start=7&amp;itbs=1&amp;tbnid=len8h58ppEBTBM:&amp;tbnh=67&amp;tbnw=148&amp;prev=/images%3Fq%3DSpirogyra%26hl%3Dar%26safe%3Dactive%26sa%3DG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50356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spirogyra430mp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pirogy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565360"/>
            <a:ext cx="38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pirogyr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4724280"/>
            <a:ext cx="3887640" cy="187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78200" y="83016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4680000" cy="44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Picture 7" descr="zygnema"/>
          <p:cNvPicPr/>
          <p:nvPr/>
        </p:nvPicPr>
        <p:blipFill>
          <a:blip r:embed="rId1"/>
          <a:stretch/>
        </p:blipFill>
        <p:spPr>
          <a:xfrm>
            <a:off x="4716360" y="189000"/>
            <a:ext cx="4283280" cy="216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95280" y="836640"/>
            <a:ext cx="37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Zygne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3" descr="ANd9GcRkQJO6aYHnkVJ_i78vk618BTkPR6bnAkWUkVvRtz7ywGjC0v4DPg"/>
          <p:cNvPicPr/>
          <p:nvPr/>
        </p:nvPicPr>
        <p:blipFill>
          <a:blip r:embed="rId2"/>
          <a:stretch/>
        </p:blipFill>
        <p:spPr>
          <a:xfrm>
            <a:off x="4716360" y="2421000"/>
            <a:ext cx="4248360" cy="217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ANd9GcQOVNkpslbZj3udBhQAT_VuCiqFoY0jdUs9UIR7wVQGPrf9Q8Je5w"/>
          <p:cNvPicPr/>
          <p:nvPr/>
        </p:nvPicPr>
        <p:blipFill>
          <a:blip r:embed="rId3"/>
          <a:stretch/>
        </p:blipFill>
        <p:spPr>
          <a:xfrm>
            <a:off x="4716360" y="4653000"/>
            <a:ext cx="4248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ladopho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2771640" y="4508640"/>
            <a:ext cx="1998720" cy="21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219640" y="4797360"/>
            <a:ext cx="367200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179280" y="4508640"/>
            <a:ext cx="249552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ladophora%20100x%20MC%20"/>
          <p:cNvPicPr/>
          <p:nvPr/>
        </p:nvPicPr>
        <p:blipFill>
          <a:blip r:embed="rId4"/>
          <a:stretch/>
        </p:blipFill>
        <p:spPr>
          <a:xfrm>
            <a:off x="5219640" y="333360"/>
            <a:ext cx="3745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Char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ha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chara"/>
          <p:cNvPicPr/>
          <p:nvPr/>
        </p:nvPicPr>
        <p:blipFill>
          <a:blip r:embed="rId1"/>
          <a:stretch/>
        </p:blipFill>
        <p:spPr>
          <a:xfrm>
            <a:off x="7020000" y="333360"/>
            <a:ext cx="2124000" cy="3527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ANd9GcQKH2WZyeEdGAdqq5jEHaFtobGffnnZVj069lMp2-eH17qwMuLD"/>
          <p:cNvPicPr/>
          <p:nvPr/>
        </p:nvPicPr>
        <p:blipFill>
          <a:blip r:embed="rId2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chara_fil_algae"/>
          <p:cNvPicPr/>
          <p:nvPr/>
        </p:nvPicPr>
        <p:blipFill>
          <a:blip r:embed="rId3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ANd9GcS7C2h7B_GWv1trW0GelGVcO2k882aifBJOfRkHjh0tZqYreTAR6A"/>
          <p:cNvPicPr/>
          <p:nvPr/>
        </p:nvPicPr>
        <p:blipFill>
          <a:blip r:embed="rId4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ANd9GcR3dcv6oln5i8Y3qgiNYSXNAYLs3ZGQOFLPtrisNrLpEk3prW8s"/>
          <p:cNvPicPr/>
          <p:nvPr/>
        </p:nvPicPr>
        <p:blipFill>
          <a:blip r:embed="rId5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Picture"/>
          <p:cNvPicPr/>
          <p:nvPr/>
        </p:nvPicPr>
        <p:blipFill>
          <a:blip r:embed="rId1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179280" y="333360"/>
            <a:ext cx="382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2" descr="ANd9GcSrYMzO9su07TXgq4vf9P8GHM3Lhp5_oi_XHXALJMr-VABeHN4X"/>
          <p:cNvPicPr/>
          <p:nvPr/>
        </p:nvPicPr>
        <p:blipFill>
          <a:blip r:embed="rId2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ANd9GcTBS8fnJ5zCB8KUkbE7us5hnAht44g5IXPmdLprLJNzZvYdTd1O"/>
          <p:cNvPicPr/>
          <p:nvPr/>
        </p:nvPicPr>
        <p:blipFill>
          <a:blip r:embed="rId3"/>
          <a:stretch/>
        </p:blipFill>
        <p:spPr>
          <a:xfrm>
            <a:off x="324000" y="5445000"/>
            <a:ext cx="2504880" cy="1181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9" descr="C0052464-Vaucheria_Yellow-Green_Algae_with_zygotes-SPL"/>
          <p:cNvPicPr/>
          <p:nvPr/>
        </p:nvPicPr>
        <p:blipFill>
          <a:blip r:embed="rId4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ASUS</cp:lastModifiedBy>
  <dcterms:modified xsi:type="dcterms:W3CDTF">2012-04-06T16:34:00Z</dcterms:modified>
  <cp:revision>7</cp:revision>
  <dc:subject/>
  <dc:title>الطحالب الخضراء  Green Algae</dc:title>
</cp:coreProperties>
</file>