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move the slide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364E-906F-481B-B277-497541E647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1034-6F3F-4B7F-94E4-0B6792730F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1992-F257-4FE0-95DE-15FB6C3AAF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7A05-C780-4BCD-A691-A6B7AA3A9D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985-93ED-4BD2-81A4-4DA67CCBB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C92-34E0-43A5-8062-CB8FDA5F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C29-9FC0-4555-B4B2-5FA8EE09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05B9-4804-4E34-9C70-6161F812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F446-9347-47F9-85D1-9FD3CEA8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2DC9-C495-411F-8979-0C65893A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2AB3-69A0-48B5-8E5F-0B4B5BFC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69A6-85F2-4584-B95E-E61345F7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7745-9CA3-4541-ACD9-BC99DE11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7CB2-8680-4281-928D-381D6D7B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2218-3537-4C0D-8DCE-47A295F1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918-221F-4DE6-BD7A-B9D4A10E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6D50-D4A9-4558-BF6C-7591BAA6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BC35-B8E7-4383-9C5B-E9C2228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2504-2422-4133-BD12-334CD168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8C3A-C0BB-48C7-A4CF-2BF26EA8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AEEF-9117-485D-9DEB-7BC31364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FB5C-9D75-4FFC-828F-57F18384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1488-3EE8-4CD7-B687-EC435AEA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5823-04C1-41D1-8312-93FB1DAF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A43BC-5D1A-4EE3-8420-710BEBAC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1DDB-72A1-4529-8607-06B37615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48D-5400-4F9E-B04F-53792913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73563-DE46-4BC6-878D-451686CA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DCDF-9B39-485B-BCB6-97EE4C9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825F-7D39-4209-9A46-78395DC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41F71-7DFA-4D18-B705-4A5D9761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A0AB2-2C23-4F36-95AC-18607871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5CD40-4A12-4319-9CAF-31D46A35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FD46-7678-4B9E-A035-DD5EADE8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30ED4-69FA-4067-9A04-35BC7949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16080-6225-48C7-973B-0DB8A3D9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755E-A1E0-4798-830D-115CE1BC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28C-EF67-4C55-B83A-ADB92569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2BBC3-65BE-43C2-8F17-457C6819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0CEB-428C-4423-BBA1-4ECA626C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87FC6-39EF-406B-B6E0-5CB8B033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CBAAE-70F2-4E2C-84A5-0194F629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85339-0647-4C64-B211-D6D20E75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6C3F-4170-440D-BB77-08DDF7C5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ED150-0181-4A43-86C7-F4395282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18CA0-3A16-4B96-8B10-D065D2BD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0F06-5BF0-4BBF-B107-7CBA96B8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4F631-A731-45A3-AB00-C057FBBA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4D2-E0E6-49A6-A667-820CDC6A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365AB-4F76-4894-9AD4-25504D3A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B225-F43B-4C0A-B9FE-30D24A7A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AA58B-4EF9-4E30-8AF9-CE2D7A5B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576D6-D703-4E0C-A1BE-C374CAAF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C0542-D3FF-47A9-A6D2-A228E70E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59811-FBD6-471D-BD4B-FAFE6694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F4E1E-628A-471B-AEA4-F0F6C179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2DE45-9709-4FA0-B8DB-C9ADB37E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73C2-793A-4A9E-BEEC-35F94686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F10E6-6DA5-45E1-A72B-8004CF2B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916D-4DCA-4795-8194-53C1549C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808C1-4361-41EB-B76B-DA116A73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76A8-13B8-4DF8-A590-8E7DD2A8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F457E-641D-4E43-A8AD-9E5B9145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C5F8-2E3E-4800-8053-12436C51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3C28B-F99E-4268-8C5E-659BE78A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796A6-8BBA-4B61-80E3-D24C3C63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A5755-ACA7-43E9-95E7-C09EAFB1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33D61-F6AA-494A-865A-CF2588FB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014CA-3FFD-4E9B-89BB-DC600D70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0A43E-EF82-42F6-94BB-A0920B7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750-7E01-4343-B191-89D5927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C8685-8F96-4C05-82E3-D133D252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19CD3-F654-4C8D-AC6A-3AF8C437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F2ADC-FD65-473C-90E8-02923423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DB7-5969-4C7D-8E3A-E964569C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D4B0-C1AE-4029-9DF0-7AEF9F69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4AFC-1F1C-4279-B515-65A17FB71CF2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106A-34C2-4B21-80C1-DF64739BEF05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2420-A7FE-43FA-833F-F7CF91265003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AB3B-E209-40E4-9AF0-C999CCD9B37D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9229-15A1-4355-9552-E44F288186BD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4B23-ACC5-4D5A-8B92-C79075D4E5E3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1527120"/>
            <a:ext cx="7556400" cy="1470240"/>
          </a:xfrm>
          <a:prstGeom prst="rect">
            <a:avLst/>
          </a:prstGeom>
          <a:noFill/>
          <a:ln w="9360">
            <a:solidFill>
              <a:srgbClr val="82010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9898"/>
                </a:solidFill>
                <a:latin typeface="Times New Roman"/>
              </a:rPr>
              <a:t>Lab1</a:t>
            </a:r>
            <a:br>
              <a:rPr sz="4800"/>
            </a:br>
            <a:r>
              <a:rPr b="1" lang="en-GB" sz="4800" spc="-1" strike="noStrike">
                <a:solidFill>
                  <a:srgbClr val="ffffff"/>
                </a:solidFill>
                <a:latin typeface="Times New Roman"/>
              </a:rPr>
              <a:t>A VISIBLE  ABSORPTION SPECTROMETER</a:t>
            </a:r>
            <a:endParaRPr b="0" lang="en-US" sz="4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4610160" cy="2738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مستطيل 1"/>
          <p:cNvSpPr/>
          <p:nvPr/>
        </p:nvSpPr>
        <p:spPr>
          <a:xfrm>
            <a:off x="684360" y="134136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ance means no light is absorbed by the solution so that incident light is 100% transmit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%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= 0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مستطيل 1"/>
          <p:cNvSpPr/>
          <p:nvPr/>
        </p:nvSpPr>
        <p:spPr>
          <a:xfrm>
            <a:off x="214200" y="428760"/>
            <a:ext cx="89298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The Spectrophotometer Instr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pectrophotometer instruments designed to measure the absorption of radiant energy h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components as foll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ight source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gsten lamp f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reg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nsity of out put of the lamp varies with the wavelengt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مستطيل 1"/>
          <p:cNvSpPr/>
          <p:nvPr/>
        </p:nvSpPr>
        <p:spPr>
          <a:xfrm>
            <a:off x="755640" y="857160"/>
            <a:ext cx="74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</a:t>
            </a: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nochromator  (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lter </a:t>
            </a: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solate a desired wavelength from the sour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ansparent container (cuvette)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sample and the 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مستطيل 1"/>
          <p:cNvSpPr/>
          <p:nvPr/>
        </p:nvSpPr>
        <p:spPr>
          <a:xfrm>
            <a:off x="755640" y="714240"/>
            <a:ext cx="748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 radiation detector (phototube)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the radiant energy received to a measurable signal; and a readout device that displays the signal from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5088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Io                              I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A = 0.012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        </a:t>
            </a:r>
            <a:r>
              <a:rPr b="0" lang="en-US" sz="1600" spc="-1" strike="noStrike">
                <a:solidFill>
                  <a:srgbClr val="30303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0303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0303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0303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88" name="Picture 5" descr="4dce1656815acc30"/>
          <p:cNvPicPr/>
          <p:nvPr/>
        </p:nvPicPr>
        <p:blipFill>
          <a:blip r:embed="rId1"/>
          <a:stretch/>
        </p:blipFill>
        <p:spPr>
          <a:xfrm>
            <a:off x="1219320" y="3048120"/>
            <a:ext cx="1104840" cy="112068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6"/>
          <p:cNvSpPr/>
          <p:nvPr/>
        </p:nvSpPr>
        <p:spPr>
          <a:xfrm>
            <a:off x="2666880" y="3048120"/>
            <a:ext cx="1600200" cy="92700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5257800" y="2895480"/>
            <a:ext cx="609480" cy="1447920"/>
          </a:xfrm>
          <a:prstGeom prst="rect">
            <a:avLst/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716292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ad01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808200" y="434340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2362320" y="434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5084640" y="4570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7162920" y="4168800"/>
            <a:ext cx="15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V="1">
            <a:off x="20574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198108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4"/>
          <p:cNvSpPr/>
          <p:nvPr/>
        </p:nvSpPr>
        <p:spPr>
          <a:xfrm>
            <a:off x="4267080" y="3200400"/>
            <a:ext cx="990720" cy="698400"/>
          </a:xfrm>
          <a:custGeom>
            <a:avLst/>
            <a:gdLst>
              <a:gd name="textAreaLeft" fmla="*/ 0 w 990720"/>
              <a:gd name="textAreaRight" fmla="*/ 991080 w 99072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624" h="440">
                <a:moveTo>
                  <a:pt x="0" y="168"/>
                </a:moveTo>
                <a:cubicBezTo>
                  <a:pt x="36" y="104"/>
                  <a:pt x="72" y="40"/>
                  <a:pt x="96" y="24"/>
                </a:cubicBezTo>
                <a:cubicBezTo>
                  <a:pt x="120" y="8"/>
                  <a:pt x="128" y="16"/>
                  <a:pt x="144" y="72"/>
                </a:cubicBezTo>
                <a:cubicBezTo>
                  <a:pt x="160" y="128"/>
                  <a:pt x="168" y="304"/>
                  <a:pt x="192" y="360"/>
                </a:cubicBezTo>
                <a:cubicBezTo>
                  <a:pt x="216" y="416"/>
                  <a:pt x="272" y="424"/>
                  <a:pt x="288" y="408"/>
                </a:cubicBezTo>
                <a:cubicBezTo>
                  <a:pt x="304" y="392"/>
                  <a:pt x="272" y="328"/>
                  <a:pt x="288" y="264"/>
                </a:cubicBezTo>
                <a:cubicBezTo>
                  <a:pt x="304" y="200"/>
                  <a:pt x="360" y="48"/>
                  <a:pt x="384" y="24"/>
                </a:cubicBezTo>
                <a:cubicBezTo>
                  <a:pt x="408" y="0"/>
                  <a:pt x="416" y="56"/>
                  <a:pt x="432" y="120"/>
                </a:cubicBezTo>
                <a:cubicBezTo>
                  <a:pt x="448" y="184"/>
                  <a:pt x="448" y="376"/>
                  <a:pt x="480" y="408"/>
                </a:cubicBezTo>
                <a:cubicBezTo>
                  <a:pt x="512" y="440"/>
                  <a:pt x="600" y="328"/>
                  <a:pt x="624" y="3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25"/>
          <p:cNvSpPr/>
          <p:nvPr/>
        </p:nvSpPr>
        <p:spPr>
          <a:xfrm>
            <a:off x="5867280" y="3276720"/>
            <a:ext cx="1295640" cy="6984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624" h="440">
                <a:moveTo>
                  <a:pt x="0" y="168"/>
                </a:moveTo>
                <a:cubicBezTo>
                  <a:pt x="36" y="104"/>
                  <a:pt x="72" y="40"/>
                  <a:pt x="96" y="24"/>
                </a:cubicBezTo>
                <a:cubicBezTo>
                  <a:pt x="120" y="8"/>
                  <a:pt x="128" y="16"/>
                  <a:pt x="144" y="72"/>
                </a:cubicBezTo>
                <a:cubicBezTo>
                  <a:pt x="160" y="128"/>
                  <a:pt x="168" y="304"/>
                  <a:pt x="192" y="360"/>
                </a:cubicBezTo>
                <a:cubicBezTo>
                  <a:pt x="216" y="416"/>
                  <a:pt x="272" y="424"/>
                  <a:pt x="288" y="408"/>
                </a:cubicBezTo>
                <a:cubicBezTo>
                  <a:pt x="304" y="392"/>
                  <a:pt x="272" y="328"/>
                  <a:pt x="288" y="264"/>
                </a:cubicBezTo>
                <a:cubicBezTo>
                  <a:pt x="304" y="200"/>
                  <a:pt x="360" y="48"/>
                  <a:pt x="384" y="24"/>
                </a:cubicBezTo>
                <a:cubicBezTo>
                  <a:pt x="408" y="0"/>
                  <a:pt x="416" y="56"/>
                  <a:pt x="432" y="120"/>
                </a:cubicBezTo>
                <a:cubicBezTo>
                  <a:pt x="448" y="184"/>
                  <a:pt x="448" y="376"/>
                  <a:pt x="480" y="408"/>
                </a:cubicBezTo>
                <a:cubicBezTo>
                  <a:pt x="512" y="440"/>
                  <a:pt x="600" y="328"/>
                  <a:pt x="624" y="3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مستطيل 1"/>
          <p:cNvSpPr/>
          <p:nvPr/>
        </p:nvSpPr>
        <p:spPr>
          <a:xfrm>
            <a:off x="684360" y="692280"/>
            <a:ext cx="784836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Notification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yrex glass absorbs no light in the visible region but absorbs almost all the light in the UV reg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 in UV rang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 or silica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s are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tle 1"/>
          <p:cNvSpPr/>
          <p:nvPr/>
        </p:nvSpPr>
        <p:spPr>
          <a:xfrm>
            <a:off x="900000" y="476280"/>
            <a:ext cx="77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rocedure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مستطيل 2"/>
          <p:cNvSpPr/>
          <p:nvPr/>
        </p:nvSpPr>
        <p:spPr>
          <a:xfrm>
            <a:off x="684360" y="148428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measurement procedure consists of 5 step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samples to make colored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or discolor compou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eries of standard solutions of known concentration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"/>
          <p:cNvSpPr/>
          <p:nvPr/>
        </p:nvSpPr>
        <p:spPr>
          <a:xfrm>
            <a:off x="684360" y="907920"/>
            <a:ext cx="77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pectrophotometer to Absorption mode and choose the desired wave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ing machine by adding blank then measure light absorbance of standards then your s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standard curve: Absorbance vs. Concentration or make a cal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ules to handle cuvettes</a:t>
            </a:r>
            <a:r>
              <a:rPr b="1" lang="en-GB" sz="4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4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4360" y="148392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Do not handle lower portion of the cuvette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Rinse cuvette with two portion of solution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Wipe off any liquid drops with a clean lens paper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Insert the cuvette with the index-line facing the front of the instrument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1"/>
          <p:cNvSpPr/>
          <p:nvPr/>
        </p:nvSpPr>
        <p:spPr>
          <a:xfrm>
            <a:off x="826920" y="907920"/>
            <a:ext cx="73454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*Some Operating Instructions For Spectrophotometer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230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power cord of the instrument in to a power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the switch at ‘ON” 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ing machine to war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t when it’s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mode(Abs) and adjust wavelen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0560" y="10526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One of the simplest and most widely used methods to determine concentration of a substance in solution</a:t>
            </a: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303030"/>
                </a:solidFill>
                <a:latin typeface="Times New Roman"/>
              </a:rPr>
              <a:t>Measures light absorbed by solution at a specific wavelength</a:t>
            </a: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مستطيل 1"/>
          <p:cNvSpPr/>
          <p:nvPr/>
        </p:nvSpPr>
        <p:spPr>
          <a:xfrm>
            <a:off x="900000" y="1773360"/>
            <a:ext cx="7201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wavelength at which the maximum fraction of light is absorbed by a solu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2"/>
          <p:cNvSpPr/>
          <p:nvPr/>
        </p:nvSpPr>
        <p:spPr>
          <a:xfrm>
            <a:off x="1187280" y="642960"/>
            <a:ext cx="530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Lambda </a:t>
            </a:r>
            <a:r>
              <a:rPr b="1" lang="el-GR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λ</a:t>
            </a:r>
            <a:r>
              <a:rPr b="1" lang="en-GB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max</a:t>
            </a:r>
            <a:r>
              <a:rPr b="1" lang="en-US" sz="4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to calculate </a:t>
            </a:r>
            <a:r>
              <a:rPr b="1" lang="el-GR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λ</a:t>
            </a: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max</a:t>
            </a:r>
            <a:r>
              <a:rPr b="1" lang="en-GB" sz="4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10920" y="1341360"/>
            <a:ext cx="78692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</a:rPr>
              <a:t>Materials</a:t>
            </a: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</a:rPr>
              <a:t>:</a:t>
            </a:r>
            <a:endParaRPr b="0" lang="en-US" sz="3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Chromium nitrate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Blank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Spectrophotometer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Wavelengths :400- 800 nm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26920" y="549000"/>
            <a:ext cx="749016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 u="sng">
                <a:solidFill>
                  <a:srgbClr val="c00000"/>
                </a:solidFill>
                <a:uFillTx/>
                <a:latin typeface="Times New Roman"/>
              </a:rPr>
              <a:t>Procedure</a:t>
            </a:r>
            <a:r>
              <a:rPr b="1" lang="en-GB" sz="3900" spc="-1" strike="noStrike" u="sng">
                <a:solidFill>
                  <a:srgbClr val="c00000"/>
                </a:solidFill>
                <a:uFillTx/>
                <a:latin typeface="Times New Roman"/>
              </a:rPr>
              <a:t>:</a:t>
            </a:r>
            <a:endParaRPr b="0" lang="en-US" sz="39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Adjust spectrophotometer to  zero against blank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Take the readings of chromium nitrate at wavelengths starting from 400 till 800 nm in </a:t>
            </a:r>
            <a:r>
              <a:rPr b="1" lang="en-GB" sz="3200" spc="-1" strike="noStrike" u="sng">
                <a:solidFill>
                  <a:srgbClr val="c00000"/>
                </a:solidFill>
                <a:uFillTx/>
                <a:latin typeface="Times New Roman"/>
              </a:rPr>
              <a:t>50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 nm interval (400-450-500-550-........800)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-</a:t>
            </a:r>
            <a:r>
              <a:rPr b="0" lang="en-GB" sz="3200" spc="-1" strike="noStrike">
                <a:solidFill>
                  <a:srgbClr val="303030"/>
                </a:solidFill>
                <a:latin typeface="Times New Roman"/>
              </a:rPr>
              <a:t>Observe the max absorption and take one interval before and one interval after</a:t>
            </a:r>
            <a:r>
              <a:rPr b="0" lang="en-GB" sz="3600" spc="-1" strike="noStrike">
                <a:solidFill>
                  <a:srgbClr val="30303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rtl="1">
              <a:spcBef>
                <a:spcPts val="9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3"/>
          <p:cNvSpPr/>
          <p:nvPr/>
        </p:nvSpPr>
        <p:spPr>
          <a:xfrm>
            <a:off x="826920" y="836640"/>
            <a:ext cx="7345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take the reading in </a:t>
            </a:r>
            <a:r>
              <a:rPr b="1" lang="en-GB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0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ake the reading in </a:t>
            </a:r>
            <a:r>
              <a:rPr b="1" lang="en-GB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Take the reading now in </a:t>
            </a:r>
            <a:r>
              <a:rPr b="1" lang="en-GB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vals and observe the max 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,take the reading in one interval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oing to be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8920" y="1988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0000"/>
                </a:solidFill>
                <a:latin typeface="Impact"/>
              </a:rPr>
              <a:t>Any Question</a:t>
            </a:r>
            <a:r>
              <a:rPr b="0" lang="en-US" sz="8000" spc="-1" strike="noStrike">
                <a:solidFill>
                  <a:srgbClr val="c00000"/>
                </a:solidFill>
                <a:latin typeface="Impact"/>
              </a:rPr>
              <a:t>??</a:t>
            </a: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1760" y="685440"/>
            <a:ext cx="7543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مستطيل 1"/>
          <p:cNvSpPr/>
          <p:nvPr/>
        </p:nvSpPr>
        <p:spPr>
          <a:xfrm>
            <a:off x="393840" y="928800"/>
            <a:ext cx="875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analysis, the amount of light radiation absorbed by a sample is measured. The light absorption is directly related to the concentration of the colored compound in the sampl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مستطيل 3"/>
          <p:cNvSpPr/>
          <p:nvPr/>
        </p:nvSpPr>
        <p:spPr>
          <a:xfrm>
            <a:off x="393840" y="4098960"/>
            <a:ext cx="847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velength (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maximum absorption is known for different compound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مستطيل 1"/>
          <p:cNvSpPr/>
          <p:nvPr/>
        </p:nvSpPr>
        <p:spPr>
          <a:xfrm>
            <a:off x="428760" y="1571760"/>
            <a:ext cx="8286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ed to determine concentrations of various chemicals which can give colors either directly or after addition of some other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مستطيل 1"/>
          <p:cNvSpPr/>
          <p:nvPr/>
        </p:nvSpPr>
        <p:spPr>
          <a:xfrm>
            <a:off x="662040" y="1125360"/>
            <a:ext cx="77770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rinciples of </a:t>
            </a:r>
            <a:r>
              <a:rPr b="1" lang="en-GB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pectrophotomet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trophotometer consists of two instru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pectrometer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roducing light of any selected color (wavelength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meter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easuring the intensity of ligh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مستطيل 1"/>
          <p:cNvSpPr/>
          <p:nvPr/>
        </p:nvSpPr>
        <p:spPr>
          <a:xfrm>
            <a:off x="755640" y="1484280"/>
            <a:ext cx="734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ruments are arranged so that liquid in a cuvette can be placed between the spectrometer beam and the photomet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684360" y="83664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light passing through the tube is measured by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otometer delivers a voltage signal to a display device, normally a galvan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al changes as the amount of light absorbed by the liquid chang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مستطيل 1"/>
          <p:cNvSpPr/>
          <p:nvPr/>
        </p:nvSpPr>
        <p:spPr>
          <a:xfrm>
            <a:off x="285840" y="7650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Visible light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nly a small portion of the entire electromagnetic spectrum and it includes the colors commonly observed (red, yellow, green, blue and violet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sible spectrum consists of electromagnetic radiation whose wavelengths range from 400 nm to nearly 800 n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</a:rPr>
              <a:t>Visible region wavelength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68360" y="1484280"/>
          <a:ext cx="7772400" cy="4664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avelength (n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tra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and u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-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- 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0 - 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 - 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 - 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 &amp;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OT</cp:lastModifiedBy>
  <dcterms:modified xsi:type="dcterms:W3CDTF">2014-09-08T06:13:13Z</dcterms:modified>
  <cp:revision>24</cp:revision>
  <dc:subject/>
  <dc:title>الشريحة 1</dc:title>
</cp:coreProperties>
</file>