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move the slide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9162-6B04-45D5-96E3-7D8ACFBA95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22C4-6430-4DB3-B5A6-FA92004817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50D6-B308-42AE-896A-6FFAEE9464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AA4A-D1F8-4C17-96D8-1BC866F3AB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F34-DD55-41BA-A17A-A20A373C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A91-3C18-454C-8407-F3907E55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A69-A8D8-4F81-814C-D3BED616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7FC-19D0-4D92-BC91-DB38FD7C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E49B-4B03-4FAA-9A54-B2C4ED6A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A6BC-A428-47DB-984F-CF526B01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29A7-DB9F-47CD-8D5C-A54E71A4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BA97-8EBD-45E0-8F4B-5CFD00E2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0747-FBBC-47E3-87E9-BE052458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09EE-DA20-4E03-9618-EB8FF126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70F1-7D36-4532-B4EF-91D3808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3E1-1480-41BF-8AC3-F15B0014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56AC-D911-4791-BBFD-55C6C97D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2CD1-FC5C-4898-A4C4-60669588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643E-D410-48F1-A818-3DA7721D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14DC-DF05-4BDF-B08A-F3410722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49EE-3EA3-43C8-A1B3-33AEDADC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56E10-81EF-4909-B618-130592AF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958F-8DDC-436B-A8A0-6F1BD5DE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C7C92-18BA-45ED-B10D-40642434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69A0-A176-4A28-A5F7-3A9DE3B7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7D24-D3A8-4785-B82A-F47DEA6F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D73-9EB9-42C6-A2AB-909D10D7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BF79-EA2D-4721-B3E0-B2C13FE4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FD757-9F8E-434C-A0DD-1F07FA18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540D-FAD8-498C-BA51-C2C1F209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81059-289F-4E56-983B-ED85DFC6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9AF85-EF7E-45CB-9A17-20B32112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F87F6-CF8A-4F01-83A9-D58C6F34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1CF9-9E1C-463B-B4B7-0B783AE3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5EE7-9A25-48E8-8A81-438EB875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9C92-0258-49EF-A5CE-6FE53012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AB89-FCB4-4C5F-A72F-797B1A49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FB5-CF2A-42FF-BE40-3DEE1B5A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95AF-3552-4BF2-ACDF-CEE42158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F34DE-8195-417D-906C-1966528F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075C-6286-4DF9-A104-89CD3B0E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26B75-8936-49A4-8AA9-AB81E8F6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A29A0-A11B-4376-A18B-C6EF7C80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9D597-474D-4D5C-A8EF-736A410D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73232-3ECF-4E96-B7E2-2D2B9FDC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CBA12-FB16-4834-868F-1C097EFD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1B179-DE25-4A1E-B0CC-6378992F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C16B-B8BC-49D7-B4E6-7C8227AB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229-EEC2-4E94-8DF0-964ADB91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B4918-9C9F-434D-9BEC-65E319AF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DC882-90AE-4C92-9CD3-DB66DDDD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0848F-0A00-4CC9-A0E4-DAE62081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D8D18-8BEF-40AD-BE74-28E11549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3839-3267-440D-A5B1-5B4C5B44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74C72-9497-4EE3-A8CF-A5CE1AB4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54EB3-2D20-4FF0-9B40-D169CC2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0095-2150-4094-82C4-7741B8C5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8D59-ECEA-4A64-8108-95789F42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E581F-6B0B-4041-BD53-51909566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1F0-A443-4D65-9932-16443241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EB43-5F2F-40E3-8E9B-FAE7EFC9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EB0A3-E5E5-4CF3-B84F-A13AB38F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77CC1-9245-47F1-9A88-588F408E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2C2A1-25AA-4B37-9A0C-455C83E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84F31-8947-4B46-B409-EB324C39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0C332-8CD6-4EA1-B329-E36DA90E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FBDF7-8D65-44DA-9634-ED5079A6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94B67-AB47-4389-B108-E4368625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F0E21-DE1E-43C1-8AFF-D9A15544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6B180-212D-49B7-ABDF-CE57DA01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BD1-C90D-4EBF-B571-2EB0BD71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C133D-9709-46BB-8053-0AB2212A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698EF-3518-44D1-BE34-C667E3ED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AC31-F1B3-455E-9790-43E0DEC4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DE9-BF86-435F-AB9A-EDF17C49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26B-4E30-415C-B499-9A7B1870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5337-5E3F-4D8C-88F3-1C2B95EA5946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5098-EBA3-4E4B-B70C-19C144C98B89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CAB0-F99D-458E-B61A-D7EFD3148796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13CE-E0A6-4834-A44D-5C105C2DBE10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CDE8-1270-47A5-83E6-9E065B34CB6E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35C0-9FE5-4693-9A74-BEB4AB24BA9F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1527120"/>
            <a:ext cx="7556400" cy="1470240"/>
          </a:xfrm>
          <a:prstGeom prst="rect">
            <a:avLst/>
          </a:prstGeom>
          <a:noFill/>
          <a:ln w="9360">
            <a:solidFill>
              <a:srgbClr val="82010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9898"/>
                </a:solidFill>
                <a:latin typeface="Times New Roman"/>
              </a:rPr>
              <a:t>Lab1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Times New Roman"/>
              </a:rPr>
              <a:t>A VISIBLE  ABSORPTION SPECTROMETER</a:t>
            </a:r>
            <a:endParaRPr b="0" lang="en-US" sz="4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610160" cy="2738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مستطيل 1"/>
          <p:cNvSpPr/>
          <p:nvPr/>
        </p:nvSpPr>
        <p:spPr>
          <a:xfrm>
            <a:off x="684360" y="134136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ance means no light is absorbed by the solution so that incident light is 100% transmit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%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= 0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مستطيل 1"/>
          <p:cNvSpPr/>
          <p:nvPr/>
        </p:nvSpPr>
        <p:spPr>
          <a:xfrm>
            <a:off x="214200" y="428760"/>
            <a:ext cx="89298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The Spectrophotometer Instr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pectrophotometer instruments designed to measure the absorption of radiant energy h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components as foll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ght source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gsten lamp f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reg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nsity of out put of the lamp varies with the wavelengt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مستطيل 1"/>
          <p:cNvSpPr/>
          <p:nvPr/>
        </p:nvSpPr>
        <p:spPr>
          <a:xfrm>
            <a:off x="755640" y="85716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</a:t>
            </a: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nochromator  (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lter </a:t>
            </a: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solate a desired wavelength from the sour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ansparent container (cuvette)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sample and the 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مستطيل 1"/>
          <p:cNvSpPr/>
          <p:nvPr/>
        </p:nvSpPr>
        <p:spPr>
          <a:xfrm>
            <a:off x="755640" y="714240"/>
            <a:ext cx="748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radiation detector (phototube)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the radiant energy received to a measurable signal; and a readout device that displays the signal from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508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Io                              I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A = 0.012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30303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0303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0303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88" name="Picture 5" descr="4dce1656815acc30"/>
          <p:cNvPicPr/>
          <p:nvPr/>
        </p:nvPicPr>
        <p:blipFill>
          <a:blip r:embed="rId1"/>
          <a:stretch/>
        </p:blipFill>
        <p:spPr>
          <a:xfrm>
            <a:off x="1219320" y="3048120"/>
            <a:ext cx="1104840" cy="112068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6"/>
          <p:cNvSpPr/>
          <p:nvPr/>
        </p:nvSpPr>
        <p:spPr>
          <a:xfrm>
            <a:off x="2666880" y="3048120"/>
            <a:ext cx="1600200" cy="92700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5257800" y="2895480"/>
            <a:ext cx="609480" cy="144792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716292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808200" y="434340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2362320" y="434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5084640" y="4570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7162920" y="416880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V="1">
            <a:off x="20574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198108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4"/>
          <p:cNvSpPr/>
          <p:nvPr/>
        </p:nvSpPr>
        <p:spPr>
          <a:xfrm>
            <a:off x="4267080" y="3200400"/>
            <a:ext cx="990720" cy="698400"/>
          </a:xfrm>
          <a:custGeom>
            <a:avLst/>
            <a:gdLst>
              <a:gd name="textAreaLeft" fmla="*/ 0 w 990720"/>
              <a:gd name="textAreaRight" fmla="*/ 991080 w 99072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624" h="440">
                <a:moveTo>
                  <a:pt x="0" y="168"/>
                </a:moveTo>
                <a:cubicBezTo>
                  <a:pt x="36" y="104"/>
                  <a:pt x="72" y="40"/>
                  <a:pt x="96" y="24"/>
                </a:cubicBezTo>
                <a:cubicBezTo>
                  <a:pt x="120" y="8"/>
                  <a:pt x="128" y="16"/>
                  <a:pt x="144" y="72"/>
                </a:cubicBezTo>
                <a:cubicBezTo>
                  <a:pt x="160" y="128"/>
                  <a:pt x="168" y="304"/>
                  <a:pt x="192" y="360"/>
                </a:cubicBezTo>
                <a:cubicBezTo>
                  <a:pt x="216" y="416"/>
                  <a:pt x="272" y="424"/>
                  <a:pt x="288" y="408"/>
                </a:cubicBezTo>
                <a:cubicBezTo>
                  <a:pt x="304" y="392"/>
                  <a:pt x="272" y="328"/>
                  <a:pt x="288" y="264"/>
                </a:cubicBezTo>
                <a:cubicBezTo>
                  <a:pt x="304" y="200"/>
                  <a:pt x="360" y="48"/>
                  <a:pt x="384" y="24"/>
                </a:cubicBezTo>
                <a:cubicBezTo>
                  <a:pt x="408" y="0"/>
                  <a:pt x="416" y="56"/>
                  <a:pt x="432" y="120"/>
                </a:cubicBezTo>
                <a:cubicBezTo>
                  <a:pt x="448" y="184"/>
                  <a:pt x="448" y="376"/>
                  <a:pt x="480" y="408"/>
                </a:cubicBezTo>
                <a:cubicBezTo>
                  <a:pt x="512" y="440"/>
                  <a:pt x="600" y="328"/>
                  <a:pt x="624" y="3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5"/>
          <p:cNvSpPr/>
          <p:nvPr/>
        </p:nvSpPr>
        <p:spPr>
          <a:xfrm>
            <a:off x="5867280" y="3276720"/>
            <a:ext cx="1295640" cy="6984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624" h="440">
                <a:moveTo>
                  <a:pt x="0" y="168"/>
                </a:moveTo>
                <a:cubicBezTo>
                  <a:pt x="36" y="104"/>
                  <a:pt x="72" y="40"/>
                  <a:pt x="96" y="24"/>
                </a:cubicBezTo>
                <a:cubicBezTo>
                  <a:pt x="120" y="8"/>
                  <a:pt x="128" y="16"/>
                  <a:pt x="144" y="72"/>
                </a:cubicBezTo>
                <a:cubicBezTo>
                  <a:pt x="160" y="128"/>
                  <a:pt x="168" y="304"/>
                  <a:pt x="192" y="360"/>
                </a:cubicBezTo>
                <a:cubicBezTo>
                  <a:pt x="216" y="416"/>
                  <a:pt x="272" y="424"/>
                  <a:pt x="288" y="408"/>
                </a:cubicBezTo>
                <a:cubicBezTo>
                  <a:pt x="304" y="392"/>
                  <a:pt x="272" y="328"/>
                  <a:pt x="288" y="264"/>
                </a:cubicBezTo>
                <a:cubicBezTo>
                  <a:pt x="304" y="200"/>
                  <a:pt x="360" y="48"/>
                  <a:pt x="384" y="24"/>
                </a:cubicBezTo>
                <a:cubicBezTo>
                  <a:pt x="408" y="0"/>
                  <a:pt x="416" y="56"/>
                  <a:pt x="432" y="120"/>
                </a:cubicBezTo>
                <a:cubicBezTo>
                  <a:pt x="448" y="184"/>
                  <a:pt x="448" y="376"/>
                  <a:pt x="480" y="408"/>
                </a:cubicBezTo>
                <a:cubicBezTo>
                  <a:pt x="512" y="440"/>
                  <a:pt x="600" y="328"/>
                  <a:pt x="624" y="3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مستطيل 1"/>
          <p:cNvSpPr/>
          <p:nvPr/>
        </p:nvSpPr>
        <p:spPr>
          <a:xfrm>
            <a:off x="684360" y="692280"/>
            <a:ext cx="78483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otification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yrex glass absorbs no light in the visible region but absorbs almost all the light in the UV reg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 in UV rang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 or silica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s are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tle 1"/>
          <p:cNvSpPr/>
          <p:nvPr/>
        </p:nvSpPr>
        <p:spPr>
          <a:xfrm>
            <a:off x="900000" y="47628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rocedure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مستطيل 2"/>
          <p:cNvSpPr/>
          <p:nvPr/>
        </p:nvSpPr>
        <p:spPr>
          <a:xfrm>
            <a:off x="684360" y="148428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measurement procedure consists of 5 step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samples to make colored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or discolor compou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eries of standard solutions of known concentra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684360" y="90792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pectrophotometer to Absorption mode and choose the desired wave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ing machine by adding blank then measure light absorbance of standards then your s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standard curve: Absorbance vs. Concentration or make a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ules to handle cuvettes</a:t>
            </a:r>
            <a:r>
              <a:rPr b="1" lang="en-GB" sz="4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4360" y="148392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Do not handle lower portion of the cuvette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Rinse cuvette with two portion of solution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Wipe off any liquid drops with a clean lens paper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Insert the cuvette with the index-line facing the front of the instrument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1"/>
          <p:cNvSpPr/>
          <p:nvPr/>
        </p:nvSpPr>
        <p:spPr>
          <a:xfrm>
            <a:off x="826920" y="907920"/>
            <a:ext cx="73454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Some Operating Instructions For Spectrophotometer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230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power cord of the instrument in to a power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the switch at ‘ON” 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machine to war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t when it’s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mode(Abs) and adjust wavelen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0560" y="10526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One of the simplest and most widely used methods to determine concentration of a substance in solution</a:t>
            </a: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Measures light absorbed by solution at a specific wavelength</a:t>
            </a: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مستطيل 1"/>
          <p:cNvSpPr/>
          <p:nvPr/>
        </p:nvSpPr>
        <p:spPr>
          <a:xfrm>
            <a:off x="900000" y="1773360"/>
            <a:ext cx="720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wavelength at which the maximum fraction of light is absorbed by a solu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2"/>
          <p:cNvSpPr/>
          <p:nvPr/>
        </p:nvSpPr>
        <p:spPr>
          <a:xfrm>
            <a:off x="1187280" y="642960"/>
            <a:ext cx="530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Lambda </a:t>
            </a:r>
            <a:r>
              <a:rPr b="1" lang="el-GR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λ</a:t>
            </a:r>
            <a:r>
              <a:rPr b="1" lang="en-GB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max</a:t>
            </a:r>
            <a:r>
              <a:rPr b="1" lang="en-US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to calculate </a:t>
            </a:r>
            <a:r>
              <a:rPr b="1" lang="el-GR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λ</a:t>
            </a: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max</a:t>
            </a: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10920" y="134136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</a:rPr>
              <a:t>Materials</a:t>
            </a: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</a:rPr>
              <a:t>:</a:t>
            </a:r>
            <a:endParaRPr b="0" lang="en-US" sz="3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Chromium nitrate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Blank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Spectrophotometer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Wavelengths :400- 800 nm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6920" y="549000"/>
            <a:ext cx="749016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 u="sng">
                <a:solidFill>
                  <a:srgbClr val="c00000"/>
                </a:solidFill>
                <a:uFillTx/>
                <a:latin typeface="Times New Roman"/>
              </a:rPr>
              <a:t>Procedure</a:t>
            </a:r>
            <a:r>
              <a:rPr b="1" lang="en-GB" sz="3900" spc="-1" strike="noStrike" u="sng">
                <a:solidFill>
                  <a:srgbClr val="c00000"/>
                </a:solidFill>
                <a:uFillTx/>
                <a:latin typeface="Times New Roman"/>
              </a:rPr>
              <a:t>:</a:t>
            </a:r>
            <a:endParaRPr b="0" lang="en-US" sz="3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Adjust spectrophotometer to  zero against blank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Take the readings of chromium nitrate at wavelengths starting from 400 till 800 nm in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Times New Roman"/>
              </a:rPr>
              <a:t>50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 nm interval (400-450-500-550-........800)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Observe the max absorption and take one interval before and one interval after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826920" y="836640"/>
            <a:ext cx="7345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take the reading in </a:t>
            </a:r>
            <a:r>
              <a:rPr b="1" lang="en-GB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0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ake the reading in </a:t>
            </a:r>
            <a:r>
              <a:rPr b="1" lang="en-GB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Take the reading now in </a:t>
            </a:r>
            <a:r>
              <a:rPr b="1" lang="en-GB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vals and observe the max 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,take the reading in one interval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oing to be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8920" y="1988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Impact"/>
              </a:rPr>
              <a:t>Any Question</a:t>
            </a:r>
            <a:r>
              <a:rPr b="0" lang="en-US" sz="8000" spc="-1" strike="noStrike">
                <a:solidFill>
                  <a:srgbClr val="c00000"/>
                </a:solidFill>
                <a:latin typeface="Impact"/>
              </a:rPr>
              <a:t>??</a:t>
            </a: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1760" y="685440"/>
            <a:ext cx="7543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مستطيل 1"/>
          <p:cNvSpPr/>
          <p:nvPr/>
        </p:nvSpPr>
        <p:spPr>
          <a:xfrm>
            <a:off x="393840" y="928800"/>
            <a:ext cx="875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analysis, the amount of light radiation absorbed by a sample is measured. The light absorption is directly related to the concentration of the colored compound in the sam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مستطيل 3"/>
          <p:cNvSpPr/>
          <p:nvPr/>
        </p:nvSpPr>
        <p:spPr>
          <a:xfrm>
            <a:off x="393840" y="4098960"/>
            <a:ext cx="847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velength (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maximum absorption is known for different compound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مستطيل 1"/>
          <p:cNvSpPr/>
          <p:nvPr/>
        </p:nvSpPr>
        <p:spPr>
          <a:xfrm>
            <a:off x="428760" y="1571760"/>
            <a:ext cx="8286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ed to determine concentrations of various chemicals which can give colors either directly or after addition of some other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مستطيل 1"/>
          <p:cNvSpPr/>
          <p:nvPr/>
        </p:nvSpPr>
        <p:spPr>
          <a:xfrm>
            <a:off x="662040" y="1125360"/>
            <a:ext cx="7777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rinciples of 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pectrophotome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trophotometer consists of two instru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pectrometer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roducing light of any selected color (wavelength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meter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easuring the intensity of ligh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مستطيل 1"/>
          <p:cNvSpPr/>
          <p:nvPr/>
        </p:nvSpPr>
        <p:spPr>
          <a:xfrm>
            <a:off x="755640" y="1484280"/>
            <a:ext cx="734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ruments are arranged so that liquid in a cuvette can be placed between the spectrometer beam and the photomet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684360" y="83664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light passing through the tube is measured by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otometer delivers a voltage signal to a display device, normally a galvan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al changes as the amount of light absorbed by the liquid chang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مستطيل 1"/>
          <p:cNvSpPr/>
          <p:nvPr/>
        </p:nvSpPr>
        <p:spPr>
          <a:xfrm>
            <a:off x="285840" y="7650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Visible light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nly a small portion of the entire electromagnetic spectrum and it includes the colors commonly observed (red, yellow, green, blue and violet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sible spectrum consists of electromagnetic radiation whose wavelengths range from 400 nm to nearly 800 n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</a:rPr>
              <a:t>Visible region wavelength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68360" y="1484280"/>
          <a:ext cx="7772400" cy="4664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avelength (n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tra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and u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-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- 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0 - 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 - 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 - 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 &amp;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OT</cp:lastModifiedBy>
  <dcterms:modified xsi:type="dcterms:W3CDTF">2014-09-08T06:13:13Z</dcterms:modified>
  <cp:revision>24</cp:revision>
  <dc:subject/>
  <dc:title>الشريحة 1</dc:title>
</cp:coreProperties>
</file>