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whoosh.wav" ContentType="audio/x-wav"/>
  <Override PartName="/ppt/media/image12.jpeg" ContentType="image/jpeg"/>
  <Override PartName="/ppt/media/image7.jpeg" ContentType="image/jpeg"/>
  <Override PartName="/ppt/media/image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61AF-C9E5-45FD-8555-B080F2617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C135-D26D-46D3-B31C-32D57F10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42EA-1780-42C9-AD9B-6B5E1A64F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F13C-23C5-40F3-BFE9-4B070D48D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AD84-DFC2-45B3-ABFF-5CE9F38A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9528-14A0-4A8C-ABF0-1438A803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1E53-CAD4-431E-870D-18EBE3D1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7626-FB1C-4DD0-B3D5-AF45673D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F2D6-9300-4731-9EE1-908CE5A8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38DD-A158-4C0F-9B76-32A4D051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2A37-8354-493C-97BA-F66DE2E9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7D92-CC63-4C54-8D1F-0925E218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6B3D-B586-4EF6-83CD-06DE1C66D79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.sa/imgres?imgurl=http://www.manufacturer.com/images/product/www.alibaba.com/1129/a/Sell_Beaker_Glassware_laboratory_glassware_.jpg&amp;imgrefurl=http://www.manufacturer.com/map_products/Laboratory_Glassware.html&amp;usg=__fKz08xuelcJxkqYDkRWnzmlbMdQ=&amp;h=334&amp;w=300&amp;sz=26&amp;hl=ar&amp;start=11&amp;um=1&amp;itbs=1&amp;tbnid=V4a-wpJ5HgJkPM:&amp;tbnh=119&amp;tbnw=107&amp;prev=/images%3Fq%3Dglasswarelab%26um%3D1%26hl%3Dar%26safe%3Dactive%26sa%3DG%26rlz%3D1R2RNTN_enSA355%26tbs%3Disch:1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microscopeexporters.com/laboratory-glassware.htm" TargetMode="External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.sa/imgres?imgurl=http://img.infibeam.com/img/b5c595bf/406/6/9780531166406.jpg&amp;imgrefurl=http://www.infibeam.com/Books/categories/Medical/Microbiology&amp;usg=__0RoVpGlWBxTVgOIJa8LjEo40pXg=&amp;h=400&amp;w=349&amp;sz=22&amp;hl=ar&amp;start=8&amp;um=1&amp;itbs=1&amp;tbnid=NR9bBul1pQ8jYM:&amp;tbnh=124&amp;tbnw=108&amp;prev=/images%3Fq%3DMicrobiology%2Bequipment%26um%3D1%26hl%3Dar%26safe%3Dactive%26sa%3DN%26rlz%3D1R2RNTN_enSA355%26tbs%3Disch: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.sa/imgres?imgurl=http://www.labshops.com/shop/images/PetriDishes.jpg&amp;imgrefurl=http://www.labshops.com/shop/index.php%3FcPath%3D65&amp;usg=__SlqPEDvcYpIvIkG1DyQyYXIzUQs=&amp;h=341&amp;w=341&amp;sz=60&amp;hl=ar&amp;start=2&amp;um=1&amp;itbs=1&amp;tbnid=sss2_zy6ZsHfTM:&amp;tbnh=120&amp;tbnw=120&amp;prev=/images%3Fq%3Dpetri%2Bdishes%26um%3D1%26hl%3Dar%26safe%3Dactive%26sa%3DN%26rlz%3D1R2RNTN_enSA355%26tbs%3Disch: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.sa/imgres?imgurl=http://www.artisan-scientific.com/itemimages/LabLine_IperialIII_302_Incubator_View2.JPG&amp;imgrefurl=http://www.artisan-scientific.com/Category/GeneralLab.htm%3FViewAll%3DTrue&amp;usg=__v_9SkDhApQUlWyvqylWng9iWtQM=&amp;h=587&amp;w=600&amp;sz=97&amp;hl=ar&amp;start=247&amp;um=1&amp;itbs=1&amp;tbnid=Azlh9aItQWOAgM:&amp;tbnh=132&amp;tbnw=135&amp;prev=/images%3Fq%3Dincubator%26start%3D240%26um%3D1%26hl%3Dar%26safe%3Dactive%26sa%3DN%26rlz%3D1R2RNTN_enSA355%26ndsp%3D20%26tbs%3Disch: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.sa/imgres?imgurl=http://img.alibaba.com/photo/230509000/LMQ_J_3870C_Vertical_Autoclave.jpg&amp;imgrefurl=http://shinva.en.alibaba.com/product/230509000-200652762/LMQ_J_3870C_Vertical_Autoclave.html&amp;usg=__LBtfaQ54t_7f_vTubFRrMKZkmBk=&amp;h=399&amp;w=300&amp;sz=29&amp;hl=ar&amp;start=34&amp;um=1&amp;itbs=1&amp;tbnid=knm5nkZgSGYk4M:&amp;tbnh=124&amp;tbnw=93&amp;prev=/images%3Fq%3Dwhat%2Bis%2Bautoclave%26start%3D20%26um%3D1%26hl%3Dar%26safe%3Dactive%26sa%3DN%26rlz%3D1R2RNTN_enSA355%26ndsp%3D20%26tbs%3Disch:1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.sa/imgres?imgurl=http://madison-ms.lausd.k12.ca.us/emleyj/Welcome_files/bensen%2520burner.jpg&amp;imgrefurl=http://madison-ms.lausd.k12.ca.us/emleyj/&amp;usg=__euoJ4chH127iZFA880TcDtA_OqM=&amp;h=116&amp;w=101&amp;sz=4&amp;hl=ar&amp;start=2&amp;um=1&amp;itbs=1&amp;tbnid=u2uLACHPRy9XiM:&amp;tbnh=87&amp;tbnw=76&amp;prev=/images%3Fq%3Dbensen%2Bburener%26um%3D1%26hl%3Dar%26safe%3Dactive%26sa%3DN%26rlz%3D1R2RNTN_enSA355%26tbs%3Disch:1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476280"/>
            <a:ext cx="8049960" cy="4646160"/>
            <a:chOff x="0" y="476280"/>
            <a:chExt cx="8049960" cy="4646160"/>
          </a:xfrm>
        </p:grpSpPr>
        <p:sp>
          <p:nvSpPr>
            <p:cNvPr id="42" name=""/>
            <p:cNvSpPr/>
            <p:nvPr/>
          </p:nvSpPr>
          <p:spPr>
            <a:xfrm>
              <a:off x="506520" y="476280"/>
              <a:ext cx="71326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2016000"/>
              <a:ext cx="31528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3251160" y="1682640"/>
              <a:ext cx="4798800" cy="3439800"/>
              <a:chOff x="3251160" y="1682640"/>
              <a:chExt cx="4798800" cy="343980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3251160" y="1682640"/>
              <a:ext cx="2256120" cy="34398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251160" y="1682640"/>
                        <a:ext cx="2256120" cy="3439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7" name=""/>
              <p:cNvSpPr/>
              <p:nvPr/>
            </p:nvSpPr>
            <p:spPr>
              <a:xfrm>
                <a:off x="4861080" y="2178360"/>
                <a:ext cx="3188880" cy="1794600"/>
              </a:xfrm>
              <a:prstGeom prst="cloudCallout">
                <a:avLst>
                  <a:gd name="adj1" fmla="val -21944"/>
                  <a:gd name="adj2" fmla="val 6374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shley"/>
                  </a:rPr>
                  <a:t>Microbiology  is   Fun!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916360" y="1700280"/>
            <a:ext cx="3476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glassware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1557360"/>
            <a:ext cx="2249280" cy="2502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Laboratory Glasswar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87640" y="1557360"/>
            <a:ext cx="2548080" cy="2548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179280" y="1628640"/>
            <a:ext cx="2820960" cy="27831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116000" y="4869000"/>
            <a:ext cx="6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63920" y="465228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eaker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10480" y="4868280"/>
            <a:ext cx="76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ask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Mohr's Pipette Pipet Set of 5 Borosilicate Glass"/>
          <p:cNvPicPr/>
          <p:nvPr/>
        </p:nvPicPr>
        <p:blipFill>
          <a:blip r:embed="rId1"/>
          <a:stretch/>
        </p:blipFill>
        <p:spPr>
          <a:xfrm>
            <a:off x="5867280" y="1700280"/>
            <a:ext cx="2703600" cy="3556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909240" y="3173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ip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411280" y="404640"/>
            <a:ext cx="3790800" cy="6095880"/>
            <a:chOff x="2411280" y="404640"/>
            <a:chExt cx="3790800" cy="6095880"/>
          </a:xfrm>
        </p:grpSpPr>
        <p:pic>
          <p:nvPicPr>
            <p:cNvPr id="92" name="A-01620_bi_lg" descr=""/>
            <p:cNvPicPr/>
            <p:nvPr/>
          </p:nvPicPr>
          <p:blipFill>
            <a:blip r:embed="rId1"/>
            <a:stretch/>
          </p:blipFill>
          <p:spPr>
            <a:xfrm>
              <a:off x="2474640" y="1628640"/>
              <a:ext cx="3727440" cy="48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2411280" y="40464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760480" y="1034640"/>
              <a:ext cx="3193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The Microscop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0" y="189000"/>
            <a:ext cx="9144000" cy="6858000"/>
            <a:chOff x="0" y="189000"/>
            <a:chExt cx="9144000" cy="6858000"/>
          </a:xfrm>
        </p:grpSpPr>
        <p:pic>
          <p:nvPicPr>
            <p:cNvPr id="97" name="using microscope5" descr=""/>
            <p:cNvPicPr/>
            <p:nvPr/>
          </p:nvPicPr>
          <p:blipFill>
            <a:blip r:embed="rId1"/>
            <a:stretch/>
          </p:blipFill>
          <p:spPr>
            <a:xfrm>
              <a:off x="241200" y="1386000"/>
              <a:ext cx="4243320" cy="534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using microscope" descr=""/>
            <p:cNvPicPr/>
            <p:nvPr/>
          </p:nvPicPr>
          <p:blipFill>
            <a:blip r:embed="rId2"/>
            <a:stretch/>
          </p:blipFill>
          <p:spPr>
            <a:xfrm>
              <a:off x="4919760" y="1133640"/>
              <a:ext cx="3862440" cy="485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0" y="608040"/>
              <a:ext cx="4648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08440" y="189000"/>
              <a:ext cx="4435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With a binocular microscope, adjust oculars for both eyes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4913280" y="4037040"/>
              <a:ext cx="387504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3" name="home school Microscope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797360" cy="41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using microscope6" descr=""/>
            <p:cNvPicPr/>
            <p:nvPr/>
          </p:nvPicPr>
          <p:blipFill>
            <a:blip r:embed="rId2"/>
            <a:stretch/>
          </p:blipFill>
          <p:spPr>
            <a:xfrm>
              <a:off x="3313080" y="3192480"/>
              <a:ext cx="5830920" cy="366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692600" y="1173240"/>
              <a:ext cx="41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Don’t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shut one eye while observing under the microscope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carry with 2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use lens paper for cl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force kn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store cov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" fill="hold">
                      <p:stCondLst>
                        <p:cond delay="indefinite"/>
                      </p:stCondLst>
                      <p:childTnLst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971640" y="692280"/>
            <a:ext cx="7200720" cy="5322600"/>
            <a:chOff x="971640" y="692280"/>
            <a:chExt cx="7200720" cy="5322600"/>
          </a:xfrm>
        </p:grpSpPr>
        <p:sp>
          <p:nvSpPr>
            <p:cNvPr id="108" name=""/>
            <p:cNvSpPr/>
            <p:nvPr/>
          </p:nvSpPr>
          <p:spPr>
            <a:xfrm>
              <a:off x="1642680" y="692280"/>
              <a:ext cx="57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ow to properly carry the microscop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971640" y="1214280"/>
              <a:ext cx="7200720" cy="4800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564000" y="1844640"/>
            <a:ext cx="3378240" cy="4343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255440" y="17733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Eyepie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20000" y="3141720"/>
            <a:ext cx="81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A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930360" y="3789360"/>
            <a:ext cx="71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S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20000" y="429264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Coarse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Foc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37480" y="4653000"/>
            <a:ext cx="117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Fine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Foc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08720" y="5300640"/>
            <a:ext cx="82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90320" y="218448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Body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Tu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8954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Revolving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Nosepie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47920" y="3352680"/>
            <a:ext cx="186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Objective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L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4038480"/>
            <a:ext cx="14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Stage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Cl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4495680"/>
            <a:ext cx="14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Diaphrag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4876920"/>
            <a:ext cx="90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L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the Slide on the Micro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Stage Clip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Nosepiece to the lowest (shortest) 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into the Eyepie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Coarse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What is Microbiology</a:t>
            </a: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Micr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oo small to be seen with the nacked 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Bi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log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study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4920" y="4941000"/>
            <a:ext cx="79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ience that studies micro organis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steps to focus using low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he nosepiece to the longest 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Coarse Focusing Kn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Fine Focus Knob to bring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Organisms included in the study of Microbi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Alg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Fun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Vir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97120" y="4941720"/>
            <a:ext cx="572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organisms  -  Microbes  -  G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1989000"/>
            <a:ext cx="2187720" cy="25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crobiology equipmen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7760" y="2492280"/>
            <a:ext cx="33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Microbiology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4680" y="3284640"/>
            <a:ext cx="258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Microbiology 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Petri d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3068640"/>
            <a:ext cx="2727360" cy="2727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259640" y="1626480"/>
            <a:ext cx="577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A petri dish is a flat dish made of plastic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or glass with a cover that is used to grow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microorgans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Incubator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Incubator is a warm cabinet that you can set it's temperature to a proper temperature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microbs growth</a:t>
            </a:r>
            <a:r>
              <a:rPr b="1" lang="ar-SA" sz="2400" spc="-1" strike="noStrike">
                <a:solidFill>
                  <a:srgbClr val="cc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a good temperature for most bacteria is About 35ºc and agood temprature for most fungi is 25°c</a:t>
            </a: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71640" y="3441600"/>
            <a:ext cx="349416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Hot air oven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5564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is kind of dry heat sterilization is recomended when it is undesirable that steam make contact with the material to be sterilized</a:t>
            </a:r>
            <a:r>
              <a:rPr b="0" lang="ar-SA" sz="3200" spc="-1" strike="noStrike">
                <a:solidFill>
                  <a:srgbClr val="ff99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is is true for glasswares – glasspetriplates, Pipettes as well as for substances like oil, powder, etc</a:t>
            </a:r>
            <a:r>
              <a:rPr b="0" lang="ar-SA" sz="3200" spc="-1" strike="noStrike">
                <a:solidFill>
                  <a:srgbClr val="ff99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95280" y="4162320"/>
            <a:ext cx="357660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autoclave sterilizes items by heating them with steam to a very high temperature (121 degrees° C</a:t>
            </a:r>
            <a:r>
              <a:rPr b="0" lang="ar-SA" sz="3200" spc="-1" strike="noStrike">
                <a:solidFill>
                  <a:srgbClr val="9900cc"/>
                </a:solidFill>
                <a:latin typeface="Arial"/>
              </a:rPr>
              <a:t>/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15 p</a:t>
            </a:r>
            <a:r>
              <a:rPr b="0" lang="ar-SA" sz="3200" spc="-1" strike="noStrike">
                <a:solidFill>
                  <a:srgbClr val="9900cc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si</a:t>
            </a:r>
            <a:r>
              <a:rPr b="0" lang="ar-SA" sz="3200" spc="-1" strike="noStrike">
                <a:solidFill>
                  <a:srgbClr val="9900cc"/>
                </a:solidFill>
                <a:latin typeface="Arial"/>
              </a:rPr>
              <a:t>)</a:t>
            </a:r>
            <a:r>
              <a:rPr b="0" lang="ar-SA" sz="3200" spc="-1" strike="noStrike">
                <a:solidFill>
                  <a:srgbClr val="9900cc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3141720"/>
            <a:ext cx="2019240" cy="2692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276360" y="3500280"/>
            <a:ext cx="492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99"/>
                </a:solidFill>
                <a:latin typeface="Arial"/>
              </a:rPr>
              <a:t>The advantage of using an autoclave is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ff99"/>
                </a:solidFill>
                <a:latin typeface="Arial"/>
              </a:rPr>
              <a:t>it can reach temper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ff99"/>
                </a:solidFill>
                <a:latin typeface="Arial"/>
              </a:rPr>
              <a:t>higher than boiling water al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99ff99"/>
                </a:solidFill>
                <a:latin typeface="Arial"/>
              </a:rPr>
              <a:t>so it can kill not only 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31640" y="4653000"/>
            <a:ext cx="58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99"/>
                </a:solidFill>
                <a:latin typeface="Arial"/>
              </a:rPr>
              <a:t>but also bacterial spores, which tend to be resis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40040" y="592200"/>
            <a:ext cx="252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00"/>
                </a:solidFill>
                <a:latin typeface="Arial"/>
              </a:rPr>
              <a:t>Autoc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Bunsen bur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Bunsen burner is produ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gas flame which used for heating, sterilization (inoculating loop)</a:t>
            </a:r>
            <a:r>
              <a:rPr b="0" lang="ar-SA" sz="32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268280"/>
            <a:ext cx="1917720" cy="2195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Fisher Scientific Inoculating Loop with Handle; Nichrome W Metal Handle Pk/12"/>
          <p:cNvPicPr/>
          <p:nvPr/>
        </p:nvPicPr>
        <p:blipFill>
          <a:blip r:embed="rId3"/>
          <a:stretch/>
        </p:blipFill>
        <p:spPr>
          <a:xfrm>
            <a:off x="250920" y="378936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21:04:37Z</dcterms:created>
  <dc:creator>User</dc:creator>
  <dc:description/>
  <dc:language>en-US</dc:language>
  <cp:lastModifiedBy>User</cp:lastModifiedBy>
  <dcterms:modified xsi:type="dcterms:W3CDTF">2010-02-27T22:24:24Z</dcterms:modified>
  <cp:revision>7</cp:revision>
  <dc:subject/>
  <dc:title>Microbiology equipment </dc:title>
</cp:coreProperties>
</file>