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EC1-BC51-4B4E-A85E-15424B17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A5E-834D-4912-B504-BB7D56A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B88-E79F-464B-89A3-950A2C50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776-C16C-4D95-BDDC-4C56BB0A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7D8-5595-47B0-B21F-1169742B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0F7-5851-4CC9-BEF1-6B9563F7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853-7B8B-41E9-9C97-FEA30D9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9A9-D277-43FD-9DF4-7E4F0C91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EDF-DB9A-4B45-B12D-1B482BF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E7E-0A07-4524-BA79-698F3A3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224-0A67-4A49-8E77-08B917D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542-E218-4F5D-BD57-4660DC93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3F0-8FF6-4794-8C0F-4AAC701341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anufacturer.com/images/product/www.alibaba.com/1129/a/Sell_Beaker_Glassware_laboratory_glassware_.jpg&amp;imgrefurl=http://www.manufacturer.com/map_products/Laboratory_Glassware.html&amp;usg=__fKz08xuelcJxkqYDkRWnzmlbMdQ=&amp;h=334&amp;w=300&amp;sz=26&amp;hl=ar&amp;start=11&amp;um=1&amp;itbs=1&amp;tbnid=V4a-wpJ5HgJkPM:&amp;tbnh=119&amp;tbnw=107&amp;prev=/images%3Fq%3Dglasswarelab%26um%3D1%26hl%3Dar%26safe%3Dactive%26sa%3DG%26rlz%3D1R2RNTN_enSA355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icroscopeexporters.com/laboratory-glassware.htm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img.infibeam.com/img/b5c595bf/406/6/9780531166406.jpg&amp;imgrefurl=http://www.infibeam.com/Books/categories/Medical/Microbiology&amp;usg=__0RoVpGlWBxTVgOIJa8LjEo40pXg=&amp;h=400&amp;w=349&amp;sz=22&amp;hl=ar&amp;start=8&amp;um=1&amp;itbs=1&amp;tbnid=NR9bBul1pQ8jYM:&amp;tbnh=124&amp;tbnw=108&amp;prev=/images%3Fq%3DMicrobiology%2Bequipment%26um%3D1%26hl%3Dar%26safe%3Dactive%26sa%3DN%26rlz%3D1R2RNTN_enSA355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labshops.com/shop/images/PetriDishes.jpg&amp;imgrefurl=http://www.labshops.com/shop/index.php%3FcPath%3D65&amp;usg=__SlqPEDvcYpIvIkG1DyQyYXIzUQs=&amp;h=341&amp;w=341&amp;sz=60&amp;hl=ar&amp;start=2&amp;um=1&amp;itbs=1&amp;tbnid=sss2_zy6ZsHfTM:&amp;tbnh=120&amp;tbnw=120&amp;prev=/images%3Fq%3Dpetri%2Bdishes%26um%3D1%26hl%3Dar%26safe%3Dactive%26sa%3DN%26rlz%3D1R2RNTN_enSA355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rtisan-scientific.com/itemimages/LabLine_IperialIII_302_Incubator_View2.JPG&amp;imgrefurl=http://www.artisan-scientific.com/Category/GeneralLab.htm%3FViewAll%3DTrue&amp;usg=__v_9SkDhApQUlWyvqylWng9iWtQM=&amp;h=587&amp;w=600&amp;sz=97&amp;hl=ar&amp;start=247&amp;um=1&amp;itbs=1&amp;tbnid=Azlh9aItQWOAgM:&amp;tbnh=132&amp;tbnw=135&amp;prev=/images%3Fq%3Dincubator%26start%3D240%26um%3D1%26hl%3Dar%26safe%3Dactive%26sa%3DN%26rlz%3D1R2RNTN_enSA355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img.alibaba.com/photo/230509000/LMQ_J_3870C_Vertical_Autoclave.jpg&amp;imgrefurl=http://shinva.en.alibaba.com/product/230509000-200652762/LMQ_J_3870C_Vertical_Autoclave.html&amp;usg=__LBtfaQ54t_7f_vTubFRrMKZkmBk=&amp;h=399&amp;w=300&amp;sz=29&amp;hl=ar&amp;start=34&amp;um=1&amp;itbs=1&amp;tbnid=knm5nkZgSGYk4M:&amp;tbnh=124&amp;tbnw=93&amp;prev=/images%3Fq%3Dwhat%2Bis%2Bautoclave%26start%3D20%26um%3D1%26hl%3Dar%26safe%3Dactive%26sa%3DN%26rlz%3D1R2RNTN_enSA355%26ndsp%3D20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madison-ms.lausd.k12.ca.us/emleyj/Welcome_files/bensen%2520burner.jpg&amp;imgrefurl=http://madison-ms.lausd.k12.ca.us/emleyj/&amp;usg=__euoJ4chH127iZFA880TcDtA_OqM=&amp;h=116&amp;w=101&amp;sz=4&amp;hl=ar&amp;start=2&amp;um=1&amp;itbs=1&amp;tbnid=u2uLACHPRy9XiM:&amp;tbnh=87&amp;tbnw=76&amp;prev=/images%3Fq%3Dbensen%2Bburener%26um%3D1%26hl%3Dar%26safe%3Dactive%26sa%3DN%26rlz%3D1R2RNTN_enSA355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76280"/>
            <a:ext cx="8049960" cy="4646160"/>
            <a:chOff x="0" y="476280"/>
            <a:chExt cx="8049960" cy="4646160"/>
          </a:xfrm>
        </p:grpSpPr>
        <p:sp>
          <p:nvSpPr>
            <p:cNvPr id="42" name=""/>
            <p:cNvSpPr/>
            <p:nvPr/>
          </p:nvSpPr>
          <p:spPr>
            <a:xfrm>
              <a:off x="506520" y="476280"/>
              <a:ext cx="7132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016000"/>
              <a:ext cx="315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251160" y="1682640"/>
              <a:ext cx="4798800" cy="3439800"/>
              <a:chOff x="3251160" y="1682640"/>
              <a:chExt cx="4798800" cy="343980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3251160" y="1682640"/>
              <a:ext cx="2256120" cy="343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51160" y="1682640"/>
                        <a:ext cx="2256120" cy="343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" name=""/>
              <p:cNvSpPr/>
              <p:nvPr/>
            </p:nvSpPr>
            <p:spPr>
              <a:xfrm>
                <a:off x="4861080" y="2178360"/>
                <a:ext cx="3188880" cy="1794600"/>
              </a:xfrm>
              <a:prstGeom prst="cloudCallout">
                <a:avLst>
                  <a:gd name="adj1" fmla="val -21944"/>
                  <a:gd name="adj2" fmla="val 6374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shley"/>
                  </a:rPr>
                  <a:t>Microbiology  is   Fun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47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lasswar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557360"/>
            <a:ext cx="2249280" cy="250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Laboratory Glasswa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557360"/>
            <a:ext cx="2548080" cy="254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2820960" cy="2783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4869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63920" y="4652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ak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0480" y="4868280"/>
            <a:ext cx="7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ask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Mohr's Pipette Pipet Set of 5 Borosilicate Glass"/>
          <p:cNvPicPr/>
          <p:nvPr/>
        </p:nvPicPr>
        <p:blipFill>
          <a:blip r:embed="rId1"/>
          <a:stretch/>
        </p:blipFill>
        <p:spPr>
          <a:xfrm>
            <a:off x="5867280" y="1700280"/>
            <a:ext cx="2703600" cy="3556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09240" y="317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p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411280" y="404640"/>
            <a:ext cx="3790800" cy="6095880"/>
            <a:chOff x="2411280" y="404640"/>
            <a:chExt cx="3790800" cy="6095880"/>
          </a:xfrm>
        </p:grpSpPr>
        <p:pic>
          <p:nvPicPr>
            <p:cNvPr id="92" name="A-01620_bi_lg" descr=""/>
            <p:cNvPicPr/>
            <p:nvPr/>
          </p:nvPicPr>
          <p:blipFill>
            <a:blip r:embed="rId1"/>
            <a:stretch/>
          </p:blipFill>
          <p:spPr>
            <a:xfrm>
              <a:off x="2474640" y="1628640"/>
              <a:ext cx="372744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11280" y="4046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0480" y="1034640"/>
              <a:ext cx="319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Microsc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89000"/>
            <a:ext cx="9144000" cy="6858000"/>
            <a:chOff x="0" y="189000"/>
            <a:chExt cx="9144000" cy="6858000"/>
          </a:xfrm>
        </p:grpSpPr>
        <p:pic>
          <p:nvPicPr>
            <p:cNvPr id="97" name="using microscope5" descr=""/>
            <p:cNvPicPr/>
            <p:nvPr/>
          </p:nvPicPr>
          <p:blipFill>
            <a:blip r:embed="rId1"/>
            <a:stretch/>
          </p:blipFill>
          <p:spPr>
            <a:xfrm>
              <a:off x="241200" y="1386000"/>
              <a:ext cx="4243320" cy="53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using microscope" descr=""/>
            <p:cNvPicPr/>
            <p:nvPr/>
          </p:nvPicPr>
          <p:blipFill>
            <a:blip r:embed="rId2"/>
            <a:stretch/>
          </p:blipFill>
          <p:spPr>
            <a:xfrm>
              <a:off x="4919760" y="1133640"/>
              <a:ext cx="38624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608040"/>
              <a:ext cx="46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8440" y="189000"/>
              <a:ext cx="44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ith a binocular microscope, adjust oculars for both ey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913280" y="4037040"/>
              <a:ext cx="387504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home school Microscop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7360" cy="41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using microscope6" descr=""/>
            <p:cNvPicPr/>
            <p:nvPr/>
          </p:nvPicPr>
          <p:blipFill>
            <a:blip r:embed="rId2"/>
            <a:stretch/>
          </p:blipFill>
          <p:spPr>
            <a:xfrm>
              <a:off x="3313080" y="3192480"/>
              <a:ext cx="583092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692600" y="1173240"/>
              <a:ext cx="41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on’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hut one eye while observing under the microscop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arry with 2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lens paper for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ce kn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tore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71640" y="692280"/>
            <a:ext cx="7200720" cy="5322600"/>
            <a:chOff x="971640" y="692280"/>
            <a:chExt cx="7200720" cy="5322600"/>
          </a:xfrm>
        </p:grpSpPr>
        <p:sp>
          <p:nvSpPr>
            <p:cNvPr id="108" name=""/>
            <p:cNvSpPr/>
            <p:nvPr/>
          </p:nvSpPr>
          <p:spPr>
            <a:xfrm>
              <a:off x="1642680" y="69228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to properly carry the micro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971640" y="1214280"/>
              <a:ext cx="720072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337824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55440" y="1773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Ey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14172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0360" y="378936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ars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37480" y="4653000"/>
            <a:ext cx="11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in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30064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90320" y="2184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Body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895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volving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s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352680"/>
            <a:ext cx="18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Objectiv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03848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g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14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iaphrag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487692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Slide on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ge 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Nosepiece to the lowest (shortest)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to the Eye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ars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hat is Microbiology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ic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o small to be seen with the nacked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ud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920" y="49410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that studies micro org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steps to focus using low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nosepiece to the longest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arse Focusing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ine Focus Knob to bring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rganisms included in the study of Micro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7120" y="494172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organisms  -  Microbes  -  G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89000"/>
            <a:ext cx="2187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biology equip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760" y="249228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icrobiolog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4680" y="328464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Microbiology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etri 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068640"/>
            <a:ext cx="2727360" cy="272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9640" y="1626480"/>
            <a:ext cx="57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 petri dish is a flat dish made of plastic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or glass with a cover that is used to grow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microorgan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Incubator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Incubator is a warm cabinet that you can set it's temperature to a proper temperatur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icrobs growth</a:t>
            </a:r>
            <a:r>
              <a:rPr b="1" lang="ar-SA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 good temperature for most bacteria is About 35ºc and agood temprature for most fungi is 25°c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441600"/>
            <a:ext cx="3494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Hot air ove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s kind of dry heat sterilization is recomended when it is undesirable that steam make contact with the material to be sterilized</a:t>
            </a:r>
            <a:r>
              <a:rPr b="0" lang="ar-SA" sz="32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s is true for glasswares – glasspetriplates, Pipettes as well as for substances like oil, powder, etc</a:t>
            </a:r>
            <a:r>
              <a:rPr b="0" lang="ar-SA" sz="32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162320"/>
            <a:ext cx="3576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utoclave sterilizes items by heating them with steam to a very high temperature (121 degrees° C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5 p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i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141720"/>
            <a:ext cx="201924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6360" y="3500280"/>
            <a:ext cx="49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The advantage of using an autoclave i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it can reach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higher than boiling water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so it can kill not only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1640" y="465300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but also bacterial spores, which tend to be re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0040" y="592200"/>
            <a:ext cx="25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Auto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unsen b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unsen burner is 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as flame which used for heating, sterilization (inoculating loop)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1917720" cy="21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sher Scientific Inoculating Loop with Handle; Nichrome W Metal Handle Pk/12"/>
          <p:cNvPicPr/>
          <p:nvPr/>
        </p:nvPicPr>
        <p:blipFill>
          <a:blip r:embed="rId3"/>
          <a:stretch/>
        </p:blipFill>
        <p:spPr>
          <a:xfrm>
            <a:off x="250920" y="378936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04:37Z</dcterms:created>
  <dc:creator>User</dc:creator>
  <dc:description/>
  <dc:language>en-US</dc:language>
  <cp:lastModifiedBy>User</cp:lastModifiedBy>
  <dcterms:modified xsi:type="dcterms:W3CDTF">2010-02-27T22:24:24Z</dcterms:modified>
  <cp:revision>7</cp:revision>
  <dc:subject/>
  <dc:title>Microbiology equipment </dc:title>
</cp:coreProperties>
</file>