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F9B-7FB0-426B-9FD3-9C92242E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466-6BC7-4C25-869F-28F7608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FE69D-0B20-4F30-91B9-44E35BAF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AEA89-668E-42E3-98C1-5F00070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2B176-B703-44B0-BDF0-3B2A44EA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DAD83-7FE0-49A7-ABFD-A246B9B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FF5FE-2CFD-4871-8EA5-3AC9754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8F850-32BA-4838-8DCD-6519B36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83F03-B630-424B-A9B9-48710C89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EBDBC-20E9-4969-8C94-3C9D0225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C70C2-6447-4142-BAE7-F2F9DDD1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7EA28-B9D6-4EDD-989F-BF5DD82A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580-33C8-4E58-86B2-D1E72B66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F30E5-1E91-451F-9992-FF29157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22B86-6805-498A-AB96-90489EF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60F67-F7AB-45ED-8D1D-7632E715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8A615-A713-45D9-B02C-DAC5D65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47337-3B6D-4D8C-8231-43BBFE0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23163-D4EA-4647-A911-7BC1215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A8220-48ED-4A5D-8D0B-E936EE7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50D4A-3620-4D93-A984-3C72845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B541C-AB03-4247-9B16-0924C193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21B52-5EC2-45B6-B71B-50EF2828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704-EAE6-4AA1-A16A-26EEEFAA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DF0DD-1F3F-4B31-9BE8-149AD37F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328A-3C7F-4FE4-9AB7-56DE6786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876A0-7FD4-495C-A51B-5F2C795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7423E-9486-4788-B67D-F97D60D7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BD9E-9554-4A37-B860-A7FA1D16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D804D-A2F4-4D17-88C6-CA9B240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11C6F-8F3B-4412-88FF-C316F007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1C1A4-987F-4E26-A2B6-73870CE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4A84-95B0-46A7-B633-DCC1785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892AF-09BA-47CA-B668-7C822B57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D14-D0F0-4506-A4A2-425BA01C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E29EE-797E-4D46-922A-E66D325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7FD93-9198-494B-ACCF-F815637F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98BA-AADE-49A6-838A-6D2D34B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E75C7-E272-4B2D-97D7-6F4EE5B7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D7880-90A9-48E4-8DBD-B976DDB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23DC8-A10B-4791-A3CB-B928A4E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BE355-1A17-410D-9BE0-7451CA67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5CECA-2DD4-46DC-B39B-9086FC9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A73BD-FD1B-48FD-9C30-D224A10D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FC2A2-795C-43B1-905D-70735EB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BF2A-3DF7-4BEC-BBF3-C1C3E881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FF5A6-7985-4CF8-B282-DB400060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0CBE0-1B74-40C8-9C40-58E62FB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B28BB-93B7-424B-8335-2B81CE26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34192-8F6B-42DA-855B-5E43189D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9C8ED-BF7F-4084-B3A4-FF691880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939F-B03F-4C7B-ABB8-FD3412AD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05B-F1A9-4475-BDE8-8D156680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E73-C5D7-4FF4-A9A4-95B7A76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C545-26EB-4FF7-8E6A-2C93683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48FD-AC58-4945-BAEA-96E46F2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74A-4E1C-42C1-9DD2-21CF1EF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5C1C-9C46-493B-8B96-6E49937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0A2E-1E27-492F-9A55-D7925DB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C72-3246-4041-B09A-F008647D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EB9-228B-49E9-BE5F-CDFD02AA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EFFA-3703-4DAA-B8C4-5F0B28F8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0D9C-AD23-47DC-8C7C-148ED6D6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0EF8-247D-4CD2-9665-325BF54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1E38-F2BD-42E6-91C7-E71783BB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92AE-F81E-4B3A-817A-15C4CE3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B9C7-2440-4DD2-9611-164B89DE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E6A-2AF0-468F-8278-C77DDFD9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0B20-D605-4402-BA26-3D106FE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40B1-5587-4C3A-9A7B-3B1DBB1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B947-F982-4023-AAD8-39C198E5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32ED-3394-4995-B5FD-3CBBFB5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BF56-8D16-41D5-BAA4-4DB16BB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7A2C-6093-4DE4-B6C2-5611FDAD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9F49-B63B-4429-99CC-7C805B5B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1F02-1D6F-4BC7-942B-29A5CBA9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411D-78F1-4791-A3AE-71BAAFC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2493-730B-49DD-8164-563053E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DDE-403E-4CB4-8C7A-ACFF3CB0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1D04E-42AA-42F9-BB52-B6CBA118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0509-B5E6-43ED-8BDE-8759A6C1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8A1D-26B2-4968-9DDD-583E28B8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94AC-0C6E-4DF6-9102-5F77ECB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1F79-C0A9-41C2-B14E-EA9CA6A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745A-694C-47D1-A37B-6BB368B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1E7A-2DB1-49CA-B6C0-D78A4E3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B143A-E5D7-4B01-A2CE-8D05B666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22AF-37F2-45C2-83CF-EC3535F3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C1C7-C2BE-4D4D-892B-4F9F8311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E08-24DC-4FC8-B26B-138808CF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DD24-A964-4BD4-B6CF-B1A8ECE7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9253-9B3F-4798-9189-EE069D0E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A589-F91A-48E4-8E6D-8790320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B07B1-90A7-4404-9A62-95E53D5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2DD0-4A36-484D-ACF9-CF835076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DE874-1A38-4C6D-A261-E5AD1CC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7205-1546-43DA-B2BA-0542D25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B0DE-9411-4612-B037-349C09A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DA32-F94E-433C-BE55-60CE705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BD11-1AB9-494E-B1AA-E843419C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428-949A-4259-8F65-36B72F9A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4CCE-FDDA-4446-9C53-6DA15757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0A87-54A9-41C3-9C34-16267657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ECBE-7895-4C79-A12A-E265053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9575-C1A6-4B1F-A238-34138F4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942D-8F24-4919-9AA2-80774F50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8D143-64BC-4C5B-BBD6-2A2DAF5F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CF7CA-5B47-4161-B819-352ED7FC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182B-F0DE-4EF5-A88B-C1359EE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8E1B-E665-4065-8C3A-50CDD1B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9367-938E-40F3-AE44-562DD02B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5C1-4CDF-45F0-9CFC-2CEBCC3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4F509-F2CB-415B-9D35-D07BDD07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B0F9-A5E5-411A-AF72-F09C8928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D8608-C1F7-423B-86A7-10145176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0E4F-72A6-4329-9D2F-3044D2D9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DD24A-893D-4B4E-A2B5-C68DC627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D9D6-8469-4C4B-BB18-0E16649F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81D0B-FB9A-433E-9341-D0DB0BE1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BAF9A-FCBB-436D-86F4-F8633DCF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0B326-168A-4013-A232-567FB8E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9057-7C84-4A6D-9D2D-D386966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8E2-4BAA-410B-A798-F759EA1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D7F4-7460-4D69-BBC5-D7992E4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DDE3-386A-47D9-8B32-96CAC62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A7DE-F79A-4476-AECF-A127F91F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69704-652E-42C4-9598-CE5C383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9307C-9073-4EBD-9B9E-CD4781DE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5FC07-8B92-4C96-A9DF-408928F1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448E9-EAD6-436A-AFF2-202CD4A1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5EF8-E5D1-43EE-AC66-E85BA59A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AE1F-7418-4A05-9EBD-A79E55E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B9FD-0965-4685-B0F1-153EC0E8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40E-6F1C-4E5C-9F28-10A1CE8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3F2AE-8831-4F42-8C0A-9676F0B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C3DA5-ED0E-403C-9C4E-2BD55D8D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9DE95-4E8A-4FD4-A8AE-BFE1DEB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DEE55-09FD-4BCA-8336-81CAD0A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4263-D4C8-4588-BCBB-E33CF0E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1EDA-2A9A-4BD2-A8FB-9A28D859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747F-7BB7-4C2D-ACF5-AB3EF64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302E1-F739-420E-8DC3-DDB068C2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6E1E2-0FBA-4479-B1B7-47AB7F58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D130E-B424-46AF-BF39-48C851E2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1241-2E73-45F6-AC9A-18CC7745AA6A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436-9617-4ED0-82ED-C43CC878647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008A-72D2-4BA7-8083-844D7B6CB74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8951-BDC2-48A6-A921-B9EA788628A5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00D3-CCB4-4D4E-ADE3-49DD8EF4F782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EFD-EB98-4903-9DBB-49DB7A068E2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8A0-4922-404F-8584-8DFCB54F48D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E51-FA36-4B77-A529-BA83A3BE8B34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0463-32A4-40C2-8761-2612B97A3159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89C-22CD-4854-81CF-D65EF34D783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7435-BA5A-43CB-827A-82DB92B41E41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7C1F-6A9A-4B01-9AD5-CAA34679AB7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27A5-8A63-49D8-8069-263EF420AF28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79B-B2A4-47BB-B4DA-514BED0B37F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BF5-9E4F-41A0-8F01-A3D727B0BC46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0E6-8CE3-43D1-92B1-334B8CCAC1AB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38BB-F803-4801-B05B-F590881D41E8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6B72-5393-4B53-8320-93782661EDA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BE2-FCC8-411B-A666-53524A5093C9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011A-F5BD-4874-BD53-EC3B25D697F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E5B7-30DA-47A8-92BE-8F5856F705BB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E814-0960-4F27-8997-EE05E8E4AB6D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080E-C212-4067-822C-63A41739D26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A7E-1EEA-4CBC-B965-C43F4E749FF2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REATING YOUR FIRST C++ PROGRAM USING VISUAL STUDIO 201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1101csc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Straight Arrow Connector 3" descr=""/>
          <p:cNvPicPr/>
          <p:nvPr/>
        </p:nvPicPr>
        <p:blipFill>
          <a:blip r:embed="rId2"/>
          <a:stretch/>
        </p:blipFill>
        <p:spPr>
          <a:xfrm>
            <a:off x="4334040" y="2925720"/>
            <a:ext cx="738000" cy="476280"/>
          </a:xfrm>
          <a:prstGeom prst="rect">
            <a:avLst/>
          </a:prstGeom>
          <a:ln w="0">
            <a:noFill/>
          </a:ln>
        </p:spPr>
      </p:pic>
      <p:pic>
        <p:nvPicPr>
          <p:cNvPr id="645" name="Straight Arrow Connector 5" descr=""/>
          <p:cNvPicPr/>
          <p:nvPr/>
        </p:nvPicPr>
        <p:blipFill>
          <a:blip r:embed="rId3"/>
          <a:stretch/>
        </p:blipFill>
        <p:spPr>
          <a:xfrm>
            <a:off x="5211720" y="4816440"/>
            <a:ext cx="750960" cy="603360"/>
          </a:xfrm>
          <a:prstGeom prst="rect">
            <a:avLst/>
          </a:prstGeom>
          <a:ln w="0">
            <a:noFill/>
          </a:ln>
        </p:spPr>
      </p:pic>
      <p:sp>
        <p:nvSpPr>
          <p:cNvPr id="646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Straight Arrow Connector 3" descr=""/>
          <p:cNvPicPr/>
          <p:nvPr/>
        </p:nvPicPr>
        <p:blipFill>
          <a:blip r:embed="rId2"/>
          <a:stretch/>
        </p:blipFill>
        <p:spPr>
          <a:xfrm>
            <a:off x="317520" y="1920960"/>
            <a:ext cx="603360" cy="603000"/>
          </a:xfrm>
          <a:prstGeom prst="rect">
            <a:avLst/>
          </a:prstGeom>
          <a:ln w="0">
            <a:noFill/>
          </a:ln>
        </p:spPr>
      </p:pic>
      <p:sp>
        <p:nvSpPr>
          <p:cNvPr id="64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1" name="Straight Arrow Connector 3" descr=""/>
          <p:cNvPicPr/>
          <p:nvPr/>
        </p:nvPicPr>
        <p:blipFill>
          <a:blip r:embed="rId2"/>
          <a:stretch/>
        </p:blipFill>
        <p:spPr>
          <a:xfrm>
            <a:off x="3760920" y="1427040"/>
            <a:ext cx="957240" cy="534960"/>
          </a:xfrm>
          <a:prstGeom prst="rect">
            <a:avLst/>
          </a:prstGeom>
          <a:ln w="0">
            <a:noFill/>
          </a:ln>
        </p:spPr>
      </p:pic>
      <p:pic>
        <p:nvPicPr>
          <p:cNvPr id="652" name="Straight Arrow Connector 6" descr=""/>
          <p:cNvPicPr/>
          <p:nvPr/>
        </p:nvPicPr>
        <p:blipFill>
          <a:blip r:embed="rId3"/>
          <a:stretch/>
        </p:blipFill>
        <p:spPr>
          <a:xfrm>
            <a:off x="2968560" y="4943520"/>
            <a:ext cx="811440" cy="476280"/>
          </a:xfrm>
          <a:prstGeom prst="rect">
            <a:avLst/>
          </a:prstGeom>
          <a:ln w="0">
            <a:noFill/>
          </a:ln>
        </p:spPr>
      </p:pic>
      <p:pic>
        <p:nvPicPr>
          <p:cNvPr id="653" name="Straight Arrow Connector 8" descr=""/>
          <p:cNvPicPr/>
          <p:nvPr/>
        </p:nvPicPr>
        <p:blipFill>
          <a:blip r:embed="rId4"/>
          <a:stretch/>
        </p:blipFill>
        <p:spPr>
          <a:xfrm>
            <a:off x="6566040" y="5114880"/>
            <a:ext cx="474480" cy="736560"/>
          </a:xfrm>
          <a:prstGeom prst="rect">
            <a:avLst/>
          </a:prstGeom>
          <a:ln w="0">
            <a:noFill/>
          </a:ln>
        </p:spPr>
      </p:pic>
      <p:sp>
        <p:nvSpPr>
          <p:cNvPr id="654" name="Footer Placeholder 9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Straight Arrow Connector 5" descr=""/>
          <p:cNvPicPr/>
          <p:nvPr/>
        </p:nvPicPr>
        <p:blipFill>
          <a:blip r:embed="rId2"/>
          <a:stretch/>
        </p:blipFill>
        <p:spPr>
          <a:xfrm>
            <a:off x="2822400" y="2352600"/>
            <a:ext cx="951120" cy="47628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Straight Arrow Connector 3" descr=""/>
          <p:cNvPicPr/>
          <p:nvPr/>
        </p:nvPicPr>
        <p:blipFill>
          <a:blip r:embed="rId2"/>
          <a:stretch/>
        </p:blipFill>
        <p:spPr>
          <a:xfrm>
            <a:off x="2610000" y="3809880"/>
            <a:ext cx="1041120" cy="174960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5943600" cy="1886040"/>
          </a:xfrm>
          <a:prstGeom prst="rect">
            <a:avLst/>
          </a:prstGeom>
          <a:ln w="0">
            <a:noFill/>
          </a:ln>
        </p:spPr>
      </p:pic>
      <p:pic>
        <p:nvPicPr>
          <p:cNvPr id="664" name="Straight Arrow Connector 3" descr=""/>
          <p:cNvPicPr/>
          <p:nvPr/>
        </p:nvPicPr>
        <p:blipFill>
          <a:blip r:embed="rId2"/>
          <a:stretch/>
        </p:blipFill>
        <p:spPr>
          <a:xfrm>
            <a:off x="2535120" y="1994040"/>
            <a:ext cx="476280" cy="736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7677000" cy="1648080"/>
          </a:xfrm>
          <a:prstGeom prst="rect">
            <a:avLst/>
          </a:prstGeom>
          <a:ln w="0">
            <a:noFill/>
          </a:ln>
        </p:spPr>
      </p:pic>
      <p:pic>
        <p:nvPicPr>
          <p:cNvPr id="666" name="Straight Arrow Connector 7" descr=""/>
          <p:cNvPicPr/>
          <p:nvPr/>
        </p:nvPicPr>
        <p:blipFill>
          <a:blip r:embed="rId4"/>
          <a:stretch/>
        </p:blipFill>
        <p:spPr>
          <a:xfrm>
            <a:off x="1828800" y="5376960"/>
            <a:ext cx="530280" cy="603000"/>
          </a:xfrm>
          <a:prstGeom prst="rect">
            <a:avLst/>
          </a:prstGeom>
          <a:ln w="0">
            <a:noFill/>
          </a:ln>
        </p:spPr>
      </p:pic>
      <p:pic>
        <p:nvPicPr>
          <p:cNvPr id="667" name="Straight Arrow Connector 9" descr=""/>
          <p:cNvPicPr/>
          <p:nvPr/>
        </p:nvPicPr>
        <p:blipFill>
          <a:blip r:embed="rId5"/>
          <a:stretch/>
        </p:blipFill>
        <p:spPr>
          <a:xfrm>
            <a:off x="1835280" y="4657680"/>
            <a:ext cx="4200480" cy="1328760"/>
          </a:xfrm>
          <a:prstGeom prst="rect">
            <a:avLst/>
          </a:prstGeom>
          <a:ln w="0">
            <a:noFill/>
          </a:ln>
        </p:spPr>
      </p:pic>
      <p:sp>
        <p:nvSpPr>
          <p:cNvPr id="668" name="Footer Placeholder 10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0" name="Straight Arrow Connector 3" descr=""/>
          <p:cNvPicPr/>
          <p:nvPr/>
        </p:nvPicPr>
        <p:blipFill>
          <a:blip r:embed="rId2"/>
          <a:stretch/>
        </p:blipFill>
        <p:spPr>
          <a:xfrm>
            <a:off x="2968560" y="695160"/>
            <a:ext cx="951120" cy="474840"/>
          </a:xfrm>
          <a:prstGeom prst="rect">
            <a:avLst/>
          </a:prstGeom>
          <a:ln w="0">
            <a:noFill/>
          </a:ln>
        </p:spPr>
      </p:pic>
      <p:sp>
        <p:nvSpPr>
          <p:cNvPr id="671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3" name="Straight Arrow Connector 3" descr=""/>
          <p:cNvPicPr/>
          <p:nvPr/>
        </p:nvPicPr>
        <p:blipFill>
          <a:blip r:embed="rId2"/>
          <a:stretch/>
        </p:blipFill>
        <p:spPr>
          <a:xfrm>
            <a:off x="3828960" y="3376440"/>
            <a:ext cx="1108080" cy="963720"/>
          </a:xfrm>
          <a:prstGeom prst="rect">
            <a:avLst/>
          </a:prstGeom>
          <a:ln w="0">
            <a:noFill/>
          </a:ln>
        </p:spPr>
      </p:pic>
      <p:sp>
        <p:nvSpPr>
          <p:cNvPr id="674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1319040" y="2638440"/>
            <a:ext cx="6505920" cy="1581120"/>
          </a:xfrm>
          <a:prstGeom prst="rect">
            <a:avLst/>
          </a:prstGeom>
          <a:ln w="0">
            <a:noFill/>
          </a:ln>
        </p:spPr>
      </p:pic>
      <p:sp>
        <p:nvSpPr>
          <p:cNvPr id="676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Download and Install Microsoft Visual Studio 2010 on your PC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378000" y="1554120"/>
            <a:ext cx="7832520" cy="14702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7"/>
          <p:cNvSpPr/>
          <p:nvPr/>
        </p:nvSpPr>
        <p:spPr>
          <a:xfrm>
            <a:off x="324000" y="693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pen your internet explorer then type the address of  the(</a:t>
            </a:r>
            <a:r>
              <a:rPr b="0" lang="en-US" sz="1800" spc="-1" strike="noStrike">
                <a:solidFill>
                  <a:srgbClr val="0070c0"/>
                </a:solidFill>
                <a:latin typeface="Georgia"/>
              </a:rPr>
              <a:t>Deanship of e-Transactions &amp; Communicatio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 in the address bar then press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Straight Arrow Connector 8" descr=""/>
          <p:cNvPicPr/>
          <p:nvPr/>
        </p:nvPicPr>
        <p:blipFill>
          <a:blip r:embed="rId2"/>
          <a:stretch/>
        </p:blipFill>
        <p:spPr>
          <a:xfrm>
            <a:off x="3067200" y="1773360"/>
            <a:ext cx="1236600" cy="476280"/>
          </a:xfrm>
          <a:prstGeom prst="rect">
            <a:avLst/>
          </a:prstGeom>
          <a:ln w="0">
            <a:noFill/>
          </a:ln>
        </p:spPr>
      </p:pic>
      <p:sp>
        <p:nvSpPr>
          <p:cNvPr id="615" name="Rounded Rectangle 11"/>
          <p:cNvSpPr/>
          <p:nvPr/>
        </p:nvSpPr>
        <p:spPr>
          <a:xfrm>
            <a:off x="4284720" y="1844640"/>
            <a:ext cx="259092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3"/>
          <a:srcRect l="45103" t="25221" r="38299" b="32456"/>
          <a:stretch/>
        </p:blipFill>
        <p:spPr>
          <a:xfrm>
            <a:off x="3203640" y="3213000"/>
            <a:ext cx="2160360" cy="30956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3"/>
          <p:cNvSpPr/>
          <p:nvPr/>
        </p:nvSpPr>
        <p:spPr>
          <a:xfrm>
            <a:off x="449280" y="40672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Straight Arrow Connector 14" descr=""/>
          <p:cNvPicPr/>
          <p:nvPr/>
        </p:nvPicPr>
        <p:blipFill>
          <a:blip r:embed="rId4"/>
          <a:stretch/>
        </p:blipFill>
        <p:spPr>
          <a:xfrm>
            <a:off x="2560680" y="4078440"/>
            <a:ext cx="1236600" cy="474480"/>
          </a:xfrm>
          <a:prstGeom prst="rect">
            <a:avLst/>
          </a:prstGeom>
          <a:ln w="0">
            <a:noFill/>
          </a:ln>
        </p:spPr>
      </p:pic>
      <p:sp>
        <p:nvSpPr>
          <p:cNvPr id="619" name="Rounded Rectangle 15"/>
          <p:cNvSpPr/>
          <p:nvPr/>
        </p:nvSpPr>
        <p:spPr>
          <a:xfrm>
            <a:off x="3564000" y="4149720"/>
            <a:ext cx="1584360" cy="35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304920" y="1536840"/>
            <a:ext cx="8461080" cy="3078000"/>
          </a:xfrm>
          <a:prstGeom prst="rect">
            <a:avLst/>
          </a:prstGeom>
          <a:ln w="0">
            <a:noFill/>
          </a:ln>
        </p:spPr>
      </p:pic>
      <p:sp>
        <p:nvSpPr>
          <p:cNvPr id="621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324000" y="907920"/>
            <a:ext cx="60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Straight Arrow Connector 8" descr=""/>
          <p:cNvPicPr/>
          <p:nvPr/>
        </p:nvPicPr>
        <p:blipFill>
          <a:blip r:embed="rId2"/>
          <a:stretch/>
        </p:blipFill>
        <p:spPr>
          <a:xfrm>
            <a:off x="665280" y="1219320"/>
            <a:ext cx="609480" cy="884160"/>
          </a:xfrm>
          <a:prstGeom prst="rect">
            <a:avLst/>
          </a:prstGeom>
          <a:ln w="0">
            <a:noFill/>
          </a:ln>
        </p:spPr>
      </p:pic>
      <p:sp>
        <p:nvSpPr>
          <p:cNvPr id="624" name="Rounded Rectangle 11"/>
          <p:cNvSpPr/>
          <p:nvPr/>
        </p:nvSpPr>
        <p:spPr>
          <a:xfrm>
            <a:off x="324000" y="1844640"/>
            <a:ext cx="792000" cy="9367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936720"/>
              <a:gd name="textAreaBottom" fmla="*/ 898200 h 936720"/>
            </a:gdLst>
            <a:ahLst/>
            <a:rect l="textAreaLeft" t="textAreaTop" r="textAreaRight" b="textAreaBottom"/>
            <a:pathLst>
              <a:path w="21600" h="25545">
                <a:moveTo>
                  <a:pt x="3600" y="0"/>
                </a:moveTo>
                <a:arcTo wR="3600" hR="3600" stAng="16200000" swAng="-5400000"/>
                <a:lnTo>
                  <a:pt x="0" y="21945"/>
                </a:lnTo>
                <a:arcTo wR="3600" hR="3600" stAng="10800000" swAng="-5400000"/>
                <a:lnTo>
                  <a:pt x="18000" y="25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Rectangle 13"/>
          <p:cNvSpPr/>
          <p:nvPr/>
        </p:nvSpPr>
        <p:spPr>
          <a:xfrm>
            <a:off x="324000" y="342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4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fter being downloaded on your PC, click on the installation icon then follow the wizar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Getting Start With Microsoft Visual Studio 2010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77080" cy="6337440"/>
          </a:xfrm>
          <a:prstGeom prst="rect">
            <a:avLst/>
          </a:prstGeom>
          <a:ln w="0">
            <a:noFill/>
          </a:ln>
        </p:spPr>
      </p:pic>
      <p:sp>
        <p:nvSpPr>
          <p:cNvPr id="62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1" name="Straight Arrow Connector 5" descr=""/>
          <p:cNvPicPr/>
          <p:nvPr/>
        </p:nvPicPr>
        <p:blipFill>
          <a:blip r:embed="rId2"/>
          <a:stretch/>
        </p:blipFill>
        <p:spPr>
          <a:xfrm>
            <a:off x="3902040" y="407880"/>
            <a:ext cx="1176480" cy="75564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Straight Arrow Connector 3" descr=""/>
          <p:cNvPicPr/>
          <p:nvPr/>
        </p:nvPicPr>
        <p:blipFill>
          <a:blip r:embed="rId2"/>
          <a:stretch/>
        </p:blipFill>
        <p:spPr>
          <a:xfrm>
            <a:off x="1042920" y="1414440"/>
            <a:ext cx="743040" cy="536760"/>
          </a:xfrm>
          <a:prstGeom prst="rect">
            <a:avLst/>
          </a:prstGeom>
          <a:ln w="0">
            <a:noFill/>
          </a:ln>
        </p:spPr>
      </p:pic>
      <p:pic>
        <p:nvPicPr>
          <p:cNvPr id="635" name="Straight Arrow Connector 5" descr=""/>
          <p:cNvPicPr/>
          <p:nvPr/>
        </p:nvPicPr>
        <p:blipFill>
          <a:blip r:embed="rId3"/>
          <a:stretch/>
        </p:blipFill>
        <p:spPr>
          <a:xfrm>
            <a:off x="3975120" y="1341360"/>
            <a:ext cx="609480" cy="749520"/>
          </a:xfrm>
          <a:prstGeom prst="rect">
            <a:avLst/>
          </a:prstGeom>
          <a:ln w="0">
            <a:noFill/>
          </a:ln>
        </p:spPr>
      </p:pic>
      <p:pic>
        <p:nvPicPr>
          <p:cNvPr id="636" name="Straight Arrow Connector 7" descr=""/>
          <p:cNvPicPr/>
          <p:nvPr/>
        </p:nvPicPr>
        <p:blipFill>
          <a:blip r:embed="rId4"/>
          <a:stretch/>
        </p:blipFill>
        <p:spPr>
          <a:xfrm>
            <a:off x="2676600" y="4511520"/>
            <a:ext cx="736560" cy="474840"/>
          </a:xfrm>
          <a:prstGeom prst="rect">
            <a:avLst/>
          </a:prstGeom>
          <a:ln w="0">
            <a:noFill/>
          </a:ln>
        </p:spPr>
      </p:pic>
      <p:pic>
        <p:nvPicPr>
          <p:cNvPr id="637" name="Straight Arrow Connector 9" descr=""/>
          <p:cNvPicPr/>
          <p:nvPr/>
        </p:nvPicPr>
        <p:blipFill>
          <a:blip r:embed="rId5"/>
          <a:stretch/>
        </p:blipFill>
        <p:spPr>
          <a:xfrm>
            <a:off x="3395520" y="4730760"/>
            <a:ext cx="878040" cy="474480"/>
          </a:xfrm>
          <a:prstGeom prst="rect">
            <a:avLst/>
          </a:prstGeom>
          <a:ln w="0">
            <a:noFill/>
          </a:ln>
        </p:spPr>
      </p:pic>
      <p:pic>
        <p:nvPicPr>
          <p:cNvPr id="638" name="Straight Arrow Connector 11" descr=""/>
          <p:cNvPicPr/>
          <p:nvPr/>
        </p:nvPicPr>
        <p:blipFill>
          <a:blip r:embed="rId6"/>
          <a:stretch/>
        </p:blipFill>
        <p:spPr>
          <a:xfrm>
            <a:off x="6638760" y="5516640"/>
            <a:ext cx="474840" cy="592200"/>
          </a:xfrm>
          <a:prstGeom prst="rect">
            <a:avLst/>
          </a:prstGeom>
          <a:ln w="0">
            <a:noFill/>
          </a:ln>
        </p:spPr>
      </p:pic>
      <p:sp>
        <p:nvSpPr>
          <p:cNvPr id="639" name="Footer Placeholder 1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Straight Arrow Connector 3" descr=""/>
          <p:cNvPicPr/>
          <p:nvPr/>
        </p:nvPicPr>
        <p:blipFill>
          <a:blip r:embed="rId2"/>
          <a:stretch/>
        </p:blipFill>
        <p:spPr>
          <a:xfrm>
            <a:off x="4919760" y="4821120"/>
            <a:ext cx="536400" cy="671760"/>
          </a:xfrm>
          <a:prstGeom prst="rect">
            <a:avLst/>
          </a:prstGeom>
          <a:ln w="0">
            <a:noFill/>
          </a:ln>
        </p:spPr>
      </p:pic>
      <p:sp>
        <p:nvSpPr>
          <p:cNvPr id="64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8:17:29Z</dcterms:created>
  <dc:creator>SEVEN</dc:creator>
  <dc:description/>
  <dc:language>en-US</dc:language>
  <cp:lastModifiedBy>Nada Almohaimeed</cp:lastModifiedBy>
  <dcterms:modified xsi:type="dcterms:W3CDTF">2014-02-11T20:58:3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55613FBFDAE9E4986BA5425285758B8</vt:lpwstr>
  </property>
</Properties>
</file>