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D59E-F3E6-44B9-9E3D-7396B800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8178-AB19-4D58-BDAC-4EDD699C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F96E08-968A-46B5-870C-4EF21416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96911B-24EF-4DBE-B504-20962E9C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B308B7-824A-4B6C-A007-082E68F4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3EA24-2407-444D-8CF6-3D7ED7E1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EA399-AA8E-4C24-8BF6-99E47C86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712F8B-8346-48AB-AE5E-5426F5E5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98AE8E-1CA5-442F-B64F-ECC5CDA2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14B35A-FB1F-4563-AC1D-8CE59F5B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10E2DC-331C-490C-BBB5-6CD79BA9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C1E870-A16A-4299-8308-B2A4D03B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6A36-F491-4665-9165-FF4F4900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3EDC1E-CFF0-43E1-BED4-1B0D5EE8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E15208-4DEF-4239-9F2D-93FB08EE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8B1CF8-2F4F-4022-8185-B44534D6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B6F6AB-4750-4222-BBC6-468FA5CB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8C6033-4D2C-4D71-AE27-4BBFB4E2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0CBAEC-A1EF-41CC-AF1C-5560E92B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D49273-E7EB-4B36-95E6-746010C7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8F057E-261C-463E-B2FF-26E7C26D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ECC3B6-F7E5-4315-A317-9201177A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D0216-9916-45C2-B21C-C97CD303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1392-2389-4C44-B5F3-6008E4E3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CF93B7-E694-4CCB-9F8B-EA064EEE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5CF21-A040-4DCC-9957-5EFC6D3E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E52F3-CD49-4196-84D1-673F379F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BBD14-49F1-4E18-A9A4-70972203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CC2AC-5A56-49B1-B76B-6BF6E26A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E5749-6270-4BD1-B623-8DAF20BA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B493E-F02B-4A5E-B023-9B1D2490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E4311-E70C-417A-A25E-6B95D5E5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8EEE2-5563-4E98-B2EA-04FFCF21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1F94A-B66F-428B-A4A1-C116E54A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029B-D188-4C78-BAC7-3D0DBD89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F5D32-6B6F-454E-B884-C1A914C0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D8B27-2D09-445A-83BB-C1C506E0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32E10-18FE-4369-AD3F-BC3AAFC0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6A7C49-A79E-42F7-914B-AE2554C7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7FA695-DCC9-4835-A54E-39D9BEEE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E975A8-6C79-4211-B5E5-A2A4F270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A48A8F-BE63-448D-AC81-2D3E2B8F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343EB2-5E10-45A4-8F40-B2A2B571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FE7C42-53E6-44CE-85E7-3A6CFEB5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8EA91E-036D-4442-8165-50F623FF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83BB-E6EC-413E-8C1A-D8CCA313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D77F54-1723-49F1-8784-55FBDEF3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0C3988-F785-4652-8FA9-0FE0A87D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43D41-CBA6-4339-8DFD-B5CB1C05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61A5F3-19F0-42A2-95CF-5FC5A170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031BEE-D5D5-49B5-B2A9-49465EEC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A3C1-388B-4F19-94AB-553EB988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A0E4-BB8A-40D9-B4FC-CF3C14E4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2711-5AC9-494A-B99A-0040EFD1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FEA7-25B3-421F-BDD1-3708846C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2805-B1AC-4061-9CDB-34D31E95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48AD-7C54-4116-A9B8-E8985A0A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E409-0664-4D35-95AA-61FB7C1F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AB97-16BE-43B7-B1A3-518E4AAB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6C7C-E3F6-44B8-A018-8B5B2567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4373-EA3D-4B50-AB35-26C5E2E4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6150-4330-4E5E-9B99-2FACFABF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E8BF7-4CD4-4217-A514-6C36149D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F9902-72A3-4A94-99D6-BDAF11A7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C32F9-EB59-4A42-911B-E9F3A21C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770E7-2E1C-489A-A737-18B8463C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BE139-0A11-4211-A265-54D46648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A6DB-7A0F-49B8-BF74-603146BB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8AB77-1A8E-4077-87D4-B9C2DA37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B6613-8C6F-4518-AF07-F1220B94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D50E1-9C90-4608-9D27-902D7DC4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A6BC6-47B5-4995-9779-BD0E0D80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E73B0-76BD-4E2C-B285-7C259D1A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AB509-5057-49F2-841A-7940F404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588F1-70A0-4E57-8B53-4309787A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8BB98-04AA-46DE-B243-30C766D3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AC563-4E65-4EE0-A453-2608EEB5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DBAF0-4DFB-4F3A-B3C2-CACAF592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37AD-B25B-4AAD-9DCB-ED84DC4E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21649-D30F-433B-A223-BC896681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D7021-0785-4F4C-A61C-505E095D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CC3B0-3C70-462C-9BBF-E4C0810E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E1DA3-E2CF-40A1-8C1F-4DAAAA67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0EB0F-71B4-40A2-B09C-CEA703CA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201DF-B63C-48B6-B7F4-A12BD3EC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56DC5-1EE0-45C2-8E78-F78AB42C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A334C-5485-4FF4-B28B-DF6F4087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D2AC9-E5EA-416F-9F4A-D28072AE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C90DC-D893-46AE-BCFE-87A6659B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9669-E63C-49E8-A4C8-8ADC49EC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3E67D-9163-4803-A38B-2D0EE37A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A7016-B97A-49FB-86E3-854949D4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B7EE3-7BAC-4341-9067-DF85919A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E4395-90FE-47D2-9B11-6CB3F5BF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E8EE2-3BA5-43B4-AAD6-FC96DAE6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E113E-88E1-475E-91AB-871DD55D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D28BE-B598-4739-81C6-816C067B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71F94-067B-40F7-8859-927E94A3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1531C-CAA9-4FAE-9EE7-0C4C40BB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D00AC-995E-4BEB-BBBC-3A17D190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9B9B-3CB9-4FDB-B7FC-2F38B022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E8572-FC94-4BB5-98F5-DD70A86D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BF3DC-6C04-462E-BA7C-F811A5CF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FF98C-C105-4933-B6D3-BBC24BED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67758-9FAB-4212-BDFC-31C7081B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09A8C-1EB5-4BDF-B826-14E484CC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00118-806A-45CE-8A98-5A1E0B4D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67625-9F7E-4A82-BA84-FF0B214C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CC3F8-4EC0-4088-8D1B-7712F419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6DF76-38E0-4E51-B645-85ADED49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C548C-7635-4754-AAB3-58778573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4C67-C585-4F3F-98E5-A3867072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ECE52-23E0-4DC2-96DC-7CB43E3E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B58DF-4E36-421B-8772-0C153DD9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087B0-39CB-4EDA-A855-81D85665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089F5-9936-4FC9-B291-9E1131DD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B12B6-3169-44C9-97CA-1C93EBC1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9AD4B-70A6-4256-9959-34F9E28F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816F8-4C17-4143-9CB0-AA2680AC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6A0EC-828A-4EAE-8C39-32226C02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23876-C4BC-47F1-87D7-7A8AD7CA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50065-CDA5-4539-86F7-C1E4E20E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DAA-9E9C-4867-AD23-53A16FE3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5884A-8876-4C38-9624-68612FBE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AB620-7607-43DD-B846-69F60E9D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A3478-48FA-4AA4-81CE-04BF17F3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8B6C0-8790-48E6-8623-833FFDB0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DBD91-9876-41E8-91B2-76DB1EEC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D706A-F950-4435-91BA-4BD0AB94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06425-2BB7-428C-9C71-29E6E509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76A4B-155F-49D4-83C6-58D0B1D0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1423E-7C1E-41DD-9987-A282CF54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79387-FECA-471F-A0B2-1D83B405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DDB0-452E-44CA-ABEC-637FD8E9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92D90-7AD7-4C16-A7ED-42207C29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BFB99-867A-4DA9-8D3C-941AE7CE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CE323-D3D9-4E29-A6C0-34E4063E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EC6F1-29B5-41AD-8ED1-D2FE057A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14F38-8229-456A-9A0B-B00478A4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630DF-B9F3-4692-8E0E-470301A7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72149-BB8B-48C7-86BE-4E1DCA8B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0E7C4E-EE7E-4F6C-A2AF-08014F4C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8C7AAE-0BF0-423B-9A88-712C0122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4E1417-DBE2-4871-970A-2986C7DE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D66C-C272-480C-8788-037A46C5D00B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c)nalahreqi [Edit: galhadb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857A-4E25-475D-84B5-2886997EC383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74D8-2282-4522-8FC1-97770ADE49BF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EDBE-E115-4DF3-8337-154AFAA93903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c)nalahreqi [Edit: galhadb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D978-CDB1-4FBF-BA2F-B93498D6ED3C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c)nalahreqi [Edit: galhadb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C48D-0FF8-488D-9C70-8305084389E3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B6FC-FE92-4EA4-AB09-9CBD399A4874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72DF-FAA3-408C-AC10-178C6226FDA1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c)nalahreqi [Edit: galhadb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141F-D77C-4983-A0F6-7D91A0DF5D1C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c)nalahreqi [Edit: galhadb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2EA9-CB83-49C1-8054-935D166AB17F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87AE-F9D7-4D03-8E5F-0A5776C4F0B6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c)nalahreqi [Edit: galhadb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0939-BB7A-4405-833F-0045281C1A55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c)nalahreqi [Edit: galhadb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498B-3FDD-4B12-892E-CF72B3903C61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B8FC-C564-41A1-A687-8F4229F3CDF1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CE21-C214-4D97-9C2F-12496EE42D6B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c)nalahreqi [Edit: galhadb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06EC-852C-4024-B658-A87363AD3AAE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35CE-08B5-433E-A4B3-8CDB9A219D08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c)nalahreqi [Edit: galhadb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9DE2-C16A-4FAB-B1C6-E86DC7A3B531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3DD4-A958-440E-AE62-A5D14A4188FC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c)nalahreqi [Edit: galhadb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7F59-53EE-47B8-9A53-7363E842FE8E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CFE0-2F47-4FFF-B0E7-AAC3CC90CFE4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c)nalahreqi [Edit: galhadb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07D4-4924-4B1B-AAE3-C7B027635E09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FCEB-E418-4593-9AF9-F37A2B8F76C4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18FA-6209-408B-BCAE-50EED53674BE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c)nalahreqi [Edit: galhadb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REATING YOUR FIRST C++ PROGRAM USING VISUAL STUDIO 2010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1101csc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4" name="Straight Arrow Connector 3" descr=""/>
          <p:cNvPicPr/>
          <p:nvPr/>
        </p:nvPicPr>
        <p:blipFill>
          <a:blip r:embed="rId2"/>
          <a:stretch/>
        </p:blipFill>
        <p:spPr>
          <a:xfrm>
            <a:off x="4334040" y="2925720"/>
            <a:ext cx="738000" cy="476280"/>
          </a:xfrm>
          <a:prstGeom prst="rect">
            <a:avLst/>
          </a:prstGeom>
          <a:ln w="0">
            <a:noFill/>
          </a:ln>
        </p:spPr>
      </p:pic>
      <p:pic>
        <p:nvPicPr>
          <p:cNvPr id="645" name="Straight Arrow Connector 5" descr=""/>
          <p:cNvPicPr/>
          <p:nvPr/>
        </p:nvPicPr>
        <p:blipFill>
          <a:blip r:embed="rId3"/>
          <a:stretch/>
        </p:blipFill>
        <p:spPr>
          <a:xfrm>
            <a:off x="5211720" y="4816440"/>
            <a:ext cx="750960" cy="603360"/>
          </a:xfrm>
          <a:prstGeom prst="rect">
            <a:avLst/>
          </a:prstGeom>
          <a:ln w="0">
            <a:noFill/>
          </a:ln>
        </p:spPr>
      </p:pic>
      <p:sp>
        <p:nvSpPr>
          <p:cNvPr id="646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8" name="Straight Arrow Connector 3" descr=""/>
          <p:cNvPicPr/>
          <p:nvPr/>
        </p:nvPicPr>
        <p:blipFill>
          <a:blip r:embed="rId2"/>
          <a:stretch/>
        </p:blipFill>
        <p:spPr>
          <a:xfrm>
            <a:off x="317520" y="1920960"/>
            <a:ext cx="603360" cy="603000"/>
          </a:xfrm>
          <a:prstGeom prst="rect">
            <a:avLst/>
          </a:prstGeom>
          <a:ln w="0">
            <a:noFill/>
          </a:ln>
        </p:spPr>
      </p:pic>
      <p:sp>
        <p:nvSpPr>
          <p:cNvPr id="649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1" name="Straight Arrow Connector 3" descr=""/>
          <p:cNvPicPr/>
          <p:nvPr/>
        </p:nvPicPr>
        <p:blipFill>
          <a:blip r:embed="rId2"/>
          <a:stretch/>
        </p:blipFill>
        <p:spPr>
          <a:xfrm>
            <a:off x="3760920" y="1427040"/>
            <a:ext cx="957240" cy="534960"/>
          </a:xfrm>
          <a:prstGeom prst="rect">
            <a:avLst/>
          </a:prstGeom>
          <a:ln w="0">
            <a:noFill/>
          </a:ln>
        </p:spPr>
      </p:pic>
      <p:pic>
        <p:nvPicPr>
          <p:cNvPr id="652" name="Straight Arrow Connector 6" descr=""/>
          <p:cNvPicPr/>
          <p:nvPr/>
        </p:nvPicPr>
        <p:blipFill>
          <a:blip r:embed="rId3"/>
          <a:stretch/>
        </p:blipFill>
        <p:spPr>
          <a:xfrm>
            <a:off x="2968560" y="4943520"/>
            <a:ext cx="811440" cy="476280"/>
          </a:xfrm>
          <a:prstGeom prst="rect">
            <a:avLst/>
          </a:prstGeom>
          <a:ln w="0">
            <a:noFill/>
          </a:ln>
        </p:spPr>
      </p:pic>
      <p:pic>
        <p:nvPicPr>
          <p:cNvPr id="653" name="Straight Arrow Connector 8" descr=""/>
          <p:cNvPicPr/>
          <p:nvPr/>
        </p:nvPicPr>
        <p:blipFill>
          <a:blip r:embed="rId4"/>
          <a:stretch/>
        </p:blipFill>
        <p:spPr>
          <a:xfrm>
            <a:off x="6566040" y="5114880"/>
            <a:ext cx="474480" cy="736560"/>
          </a:xfrm>
          <a:prstGeom prst="rect">
            <a:avLst/>
          </a:prstGeom>
          <a:ln w="0">
            <a:noFill/>
          </a:ln>
        </p:spPr>
      </p:pic>
      <p:sp>
        <p:nvSpPr>
          <p:cNvPr id="654" name="Footer Placeholder 9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6" name="Footer Placeholder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8" name="Straight Arrow Connector 5" descr=""/>
          <p:cNvPicPr/>
          <p:nvPr/>
        </p:nvPicPr>
        <p:blipFill>
          <a:blip r:embed="rId2"/>
          <a:stretch/>
        </p:blipFill>
        <p:spPr>
          <a:xfrm>
            <a:off x="2822400" y="2352600"/>
            <a:ext cx="951120" cy="476280"/>
          </a:xfrm>
          <a:prstGeom prst="rect">
            <a:avLst/>
          </a:prstGeom>
          <a:ln w="0">
            <a:noFill/>
          </a:ln>
        </p:spPr>
      </p:pic>
      <p:sp>
        <p:nvSpPr>
          <p:cNvPr id="659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1" name="Straight Arrow Connector 3" descr=""/>
          <p:cNvPicPr/>
          <p:nvPr/>
        </p:nvPicPr>
        <p:blipFill>
          <a:blip r:embed="rId2"/>
          <a:stretch/>
        </p:blipFill>
        <p:spPr>
          <a:xfrm>
            <a:off x="2610000" y="3809880"/>
            <a:ext cx="1041120" cy="174960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5943600" cy="1886040"/>
          </a:xfrm>
          <a:prstGeom prst="rect">
            <a:avLst/>
          </a:prstGeom>
          <a:ln w="0">
            <a:noFill/>
          </a:ln>
        </p:spPr>
      </p:pic>
      <p:pic>
        <p:nvPicPr>
          <p:cNvPr id="664" name="Straight Arrow Connector 3" descr=""/>
          <p:cNvPicPr/>
          <p:nvPr/>
        </p:nvPicPr>
        <p:blipFill>
          <a:blip r:embed="rId2"/>
          <a:stretch/>
        </p:blipFill>
        <p:spPr>
          <a:xfrm>
            <a:off x="2535120" y="1994040"/>
            <a:ext cx="476280" cy="7365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3" descr=""/>
          <p:cNvPicPr/>
          <p:nvPr/>
        </p:nvPicPr>
        <p:blipFill>
          <a:blip r:embed="rId3"/>
          <a:stretch/>
        </p:blipFill>
        <p:spPr>
          <a:xfrm>
            <a:off x="611280" y="3933720"/>
            <a:ext cx="7677000" cy="1648080"/>
          </a:xfrm>
          <a:prstGeom prst="rect">
            <a:avLst/>
          </a:prstGeom>
          <a:ln w="0">
            <a:noFill/>
          </a:ln>
        </p:spPr>
      </p:pic>
      <p:pic>
        <p:nvPicPr>
          <p:cNvPr id="666" name="Straight Arrow Connector 7" descr=""/>
          <p:cNvPicPr/>
          <p:nvPr/>
        </p:nvPicPr>
        <p:blipFill>
          <a:blip r:embed="rId4"/>
          <a:stretch/>
        </p:blipFill>
        <p:spPr>
          <a:xfrm>
            <a:off x="1828800" y="5376960"/>
            <a:ext cx="530280" cy="603000"/>
          </a:xfrm>
          <a:prstGeom prst="rect">
            <a:avLst/>
          </a:prstGeom>
          <a:ln w="0">
            <a:noFill/>
          </a:ln>
        </p:spPr>
      </p:pic>
      <p:pic>
        <p:nvPicPr>
          <p:cNvPr id="667" name="Straight Arrow Connector 9" descr=""/>
          <p:cNvPicPr/>
          <p:nvPr/>
        </p:nvPicPr>
        <p:blipFill>
          <a:blip r:embed="rId5"/>
          <a:stretch/>
        </p:blipFill>
        <p:spPr>
          <a:xfrm>
            <a:off x="1835280" y="4657680"/>
            <a:ext cx="4200480" cy="1328760"/>
          </a:xfrm>
          <a:prstGeom prst="rect">
            <a:avLst/>
          </a:prstGeom>
          <a:ln w="0">
            <a:noFill/>
          </a:ln>
        </p:spPr>
      </p:pic>
      <p:sp>
        <p:nvSpPr>
          <p:cNvPr id="668" name="Footer Placeholder 10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0" name="Straight Arrow Connector 3" descr=""/>
          <p:cNvPicPr/>
          <p:nvPr/>
        </p:nvPicPr>
        <p:blipFill>
          <a:blip r:embed="rId2"/>
          <a:stretch/>
        </p:blipFill>
        <p:spPr>
          <a:xfrm>
            <a:off x="2968560" y="695160"/>
            <a:ext cx="951120" cy="474840"/>
          </a:xfrm>
          <a:prstGeom prst="rect">
            <a:avLst/>
          </a:prstGeom>
          <a:ln w="0">
            <a:noFill/>
          </a:ln>
        </p:spPr>
      </p:pic>
      <p:sp>
        <p:nvSpPr>
          <p:cNvPr id="671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3" name="Straight Arrow Connector 3" descr=""/>
          <p:cNvPicPr/>
          <p:nvPr/>
        </p:nvPicPr>
        <p:blipFill>
          <a:blip r:embed="rId2"/>
          <a:stretch/>
        </p:blipFill>
        <p:spPr>
          <a:xfrm>
            <a:off x="3828960" y="3376440"/>
            <a:ext cx="1108080" cy="963720"/>
          </a:xfrm>
          <a:prstGeom prst="rect">
            <a:avLst/>
          </a:prstGeom>
          <a:ln w="0">
            <a:noFill/>
          </a:ln>
        </p:spPr>
      </p:pic>
      <p:sp>
        <p:nvSpPr>
          <p:cNvPr id="674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2" descr=""/>
          <p:cNvPicPr/>
          <p:nvPr/>
        </p:nvPicPr>
        <p:blipFill>
          <a:blip r:embed="rId1"/>
          <a:stretch/>
        </p:blipFill>
        <p:spPr>
          <a:xfrm>
            <a:off x="1319040" y="2638440"/>
            <a:ext cx="6505920" cy="1581120"/>
          </a:xfrm>
          <a:prstGeom prst="rect">
            <a:avLst/>
          </a:prstGeom>
          <a:ln w="0">
            <a:noFill/>
          </a:ln>
        </p:spPr>
      </p:pic>
      <p:sp>
        <p:nvSpPr>
          <p:cNvPr id="676" name="Footer Placeholder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Footer Placeholder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1</a:t>
            </a: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Download and Install Microsoft Visual Studio 2010 on your PC</a:t>
            </a:r>
            <a:r>
              <a:rPr b="0" lang="en-US" sz="3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oter Placeholder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378000" y="1554120"/>
            <a:ext cx="7832520" cy="1470240"/>
          </a:xfrm>
          <a:prstGeom prst="rect">
            <a:avLst/>
          </a:prstGeom>
          <a:ln w="0">
            <a:noFill/>
          </a:ln>
        </p:spPr>
      </p:pic>
      <p:sp>
        <p:nvSpPr>
          <p:cNvPr id="613" name="TextBox 7"/>
          <p:cNvSpPr/>
          <p:nvPr/>
        </p:nvSpPr>
        <p:spPr>
          <a:xfrm>
            <a:off x="324000" y="6937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pen your internet explorer then type the address of  the(</a:t>
            </a:r>
            <a:r>
              <a:rPr b="0" lang="en-US" sz="1800" spc="-1" strike="noStrike">
                <a:solidFill>
                  <a:srgbClr val="0070c0"/>
                </a:solidFill>
                <a:latin typeface="Georgia"/>
              </a:rPr>
              <a:t>Deanship of e-Transactions &amp; Communication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) in the address bar then press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Ente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Straight Arrow Connector 8" descr=""/>
          <p:cNvPicPr/>
          <p:nvPr/>
        </p:nvPicPr>
        <p:blipFill>
          <a:blip r:embed="rId2"/>
          <a:stretch/>
        </p:blipFill>
        <p:spPr>
          <a:xfrm>
            <a:off x="3067200" y="1773360"/>
            <a:ext cx="1236600" cy="476280"/>
          </a:xfrm>
          <a:prstGeom prst="rect">
            <a:avLst/>
          </a:prstGeom>
          <a:ln w="0">
            <a:noFill/>
          </a:ln>
        </p:spPr>
      </p:pic>
      <p:sp>
        <p:nvSpPr>
          <p:cNvPr id="615" name="Rounded Rectangle 11"/>
          <p:cNvSpPr/>
          <p:nvPr/>
        </p:nvSpPr>
        <p:spPr>
          <a:xfrm>
            <a:off x="4284720" y="1844640"/>
            <a:ext cx="259092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3"/>
          <a:srcRect l="45103" t="25221" r="38299" b="32456"/>
          <a:stretch/>
        </p:blipFill>
        <p:spPr>
          <a:xfrm>
            <a:off x="3203640" y="3213000"/>
            <a:ext cx="2160360" cy="309564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13"/>
          <p:cNvSpPr/>
          <p:nvPr/>
        </p:nvSpPr>
        <p:spPr>
          <a:xfrm>
            <a:off x="449280" y="406728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Straight Arrow Connector 14" descr=""/>
          <p:cNvPicPr/>
          <p:nvPr/>
        </p:nvPicPr>
        <p:blipFill>
          <a:blip r:embed="rId4"/>
          <a:stretch/>
        </p:blipFill>
        <p:spPr>
          <a:xfrm>
            <a:off x="2560680" y="4078440"/>
            <a:ext cx="1236600" cy="474480"/>
          </a:xfrm>
          <a:prstGeom prst="rect">
            <a:avLst/>
          </a:prstGeom>
          <a:ln w="0">
            <a:noFill/>
          </a:ln>
        </p:spPr>
      </p:pic>
      <p:sp>
        <p:nvSpPr>
          <p:cNvPr id="619" name="Rounded Rectangle 15"/>
          <p:cNvSpPr/>
          <p:nvPr/>
        </p:nvSpPr>
        <p:spPr>
          <a:xfrm>
            <a:off x="3564000" y="4149720"/>
            <a:ext cx="1584360" cy="358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304920" y="1536840"/>
            <a:ext cx="8461080" cy="3078000"/>
          </a:xfrm>
          <a:prstGeom prst="rect">
            <a:avLst/>
          </a:prstGeom>
          <a:ln w="0">
            <a:noFill/>
          </a:ln>
        </p:spPr>
      </p:pic>
      <p:sp>
        <p:nvSpPr>
          <p:cNvPr id="621" name="Footer Placeholder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TextBox 7"/>
          <p:cNvSpPr/>
          <p:nvPr/>
        </p:nvSpPr>
        <p:spPr>
          <a:xfrm>
            <a:off x="324000" y="907920"/>
            <a:ext cx="60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3-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on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Straight Arrow Connector 8" descr=""/>
          <p:cNvPicPr/>
          <p:nvPr/>
        </p:nvPicPr>
        <p:blipFill>
          <a:blip r:embed="rId2"/>
          <a:stretch/>
        </p:blipFill>
        <p:spPr>
          <a:xfrm>
            <a:off x="665280" y="1219320"/>
            <a:ext cx="609480" cy="884160"/>
          </a:xfrm>
          <a:prstGeom prst="rect">
            <a:avLst/>
          </a:prstGeom>
          <a:ln w="0">
            <a:noFill/>
          </a:ln>
        </p:spPr>
      </p:pic>
      <p:sp>
        <p:nvSpPr>
          <p:cNvPr id="624" name="Rounded Rectangle 11"/>
          <p:cNvSpPr/>
          <p:nvPr/>
        </p:nvSpPr>
        <p:spPr>
          <a:xfrm>
            <a:off x="324000" y="1844640"/>
            <a:ext cx="792000" cy="93672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936720"/>
              <a:gd name="textAreaBottom" fmla="*/ 898200 h 936720"/>
            </a:gdLst>
            <a:ahLst/>
            <a:rect l="textAreaLeft" t="textAreaTop" r="textAreaRight" b="textAreaBottom"/>
            <a:pathLst>
              <a:path w="21600" h="25545">
                <a:moveTo>
                  <a:pt x="3600" y="0"/>
                </a:moveTo>
                <a:arcTo wR="3600" hR="3600" stAng="16200000" swAng="-5400000"/>
                <a:lnTo>
                  <a:pt x="0" y="21945"/>
                </a:lnTo>
                <a:arcTo wR="3600" hR="3600" stAng="10800000" swAng="-5400000"/>
                <a:lnTo>
                  <a:pt x="18000" y="255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Rectangle 13"/>
          <p:cNvSpPr/>
          <p:nvPr/>
        </p:nvSpPr>
        <p:spPr>
          <a:xfrm>
            <a:off x="324000" y="3429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4-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fter being downloaded on your PC, click on the installation icon then follow the wizar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2</a:t>
            </a: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Getting Start With Microsoft Visual Studio 2010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77080" cy="6337440"/>
          </a:xfrm>
          <a:prstGeom prst="rect">
            <a:avLst/>
          </a:prstGeom>
          <a:ln w="0">
            <a:noFill/>
          </a:ln>
        </p:spPr>
      </p:pic>
      <p:sp>
        <p:nvSpPr>
          <p:cNvPr id="629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1" name="Straight Arrow Connector 5" descr=""/>
          <p:cNvPicPr/>
          <p:nvPr/>
        </p:nvPicPr>
        <p:blipFill>
          <a:blip r:embed="rId2"/>
          <a:stretch/>
        </p:blipFill>
        <p:spPr>
          <a:xfrm>
            <a:off x="3902040" y="407880"/>
            <a:ext cx="1176480" cy="755640"/>
          </a:xfrm>
          <a:prstGeom prst="rect">
            <a:avLst/>
          </a:prstGeom>
          <a:ln w="0">
            <a:noFill/>
          </a:ln>
        </p:spPr>
      </p:pic>
      <p:sp>
        <p:nvSpPr>
          <p:cNvPr id="632" name="Footer Placeholder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4" name="Straight Arrow Connector 3" descr=""/>
          <p:cNvPicPr/>
          <p:nvPr/>
        </p:nvPicPr>
        <p:blipFill>
          <a:blip r:embed="rId2"/>
          <a:stretch/>
        </p:blipFill>
        <p:spPr>
          <a:xfrm>
            <a:off x="1042920" y="1414440"/>
            <a:ext cx="743040" cy="536760"/>
          </a:xfrm>
          <a:prstGeom prst="rect">
            <a:avLst/>
          </a:prstGeom>
          <a:ln w="0">
            <a:noFill/>
          </a:ln>
        </p:spPr>
      </p:pic>
      <p:pic>
        <p:nvPicPr>
          <p:cNvPr id="635" name="Straight Arrow Connector 5" descr=""/>
          <p:cNvPicPr/>
          <p:nvPr/>
        </p:nvPicPr>
        <p:blipFill>
          <a:blip r:embed="rId3"/>
          <a:stretch/>
        </p:blipFill>
        <p:spPr>
          <a:xfrm>
            <a:off x="3975120" y="1341360"/>
            <a:ext cx="609480" cy="749520"/>
          </a:xfrm>
          <a:prstGeom prst="rect">
            <a:avLst/>
          </a:prstGeom>
          <a:ln w="0">
            <a:noFill/>
          </a:ln>
        </p:spPr>
      </p:pic>
      <p:pic>
        <p:nvPicPr>
          <p:cNvPr id="636" name="Straight Arrow Connector 7" descr=""/>
          <p:cNvPicPr/>
          <p:nvPr/>
        </p:nvPicPr>
        <p:blipFill>
          <a:blip r:embed="rId4"/>
          <a:stretch/>
        </p:blipFill>
        <p:spPr>
          <a:xfrm>
            <a:off x="2676600" y="4511520"/>
            <a:ext cx="736560" cy="474840"/>
          </a:xfrm>
          <a:prstGeom prst="rect">
            <a:avLst/>
          </a:prstGeom>
          <a:ln w="0">
            <a:noFill/>
          </a:ln>
        </p:spPr>
      </p:pic>
      <p:pic>
        <p:nvPicPr>
          <p:cNvPr id="637" name="Straight Arrow Connector 9" descr=""/>
          <p:cNvPicPr/>
          <p:nvPr/>
        </p:nvPicPr>
        <p:blipFill>
          <a:blip r:embed="rId5"/>
          <a:stretch/>
        </p:blipFill>
        <p:spPr>
          <a:xfrm>
            <a:off x="3395520" y="4730760"/>
            <a:ext cx="878040" cy="474480"/>
          </a:xfrm>
          <a:prstGeom prst="rect">
            <a:avLst/>
          </a:prstGeom>
          <a:ln w="0">
            <a:noFill/>
          </a:ln>
        </p:spPr>
      </p:pic>
      <p:pic>
        <p:nvPicPr>
          <p:cNvPr id="638" name="Straight Arrow Connector 11" descr=""/>
          <p:cNvPicPr/>
          <p:nvPr/>
        </p:nvPicPr>
        <p:blipFill>
          <a:blip r:embed="rId6"/>
          <a:stretch/>
        </p:blipFill>
        <p:spPr>
          <a:xfrm>
            <a:off x="6638760" y="5516640"/>
            <a:ext cx="474840" cy="592200"/>
          </a:xfrm>
          <a:prstGeom prst="rect">
            <a:avLst/>
          </a:prstGeom>
          <a:ln w="0">
            <a:noFill/>
          </a:ln>
        </p:spPr>
      </p:pic>
      <p:sp>
        <p:nvSpPr>
          <p:cNvPr id="639" name="Footer Placeholder 1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1" name="Straight Arrow Connector 3" descr=""/>
          <p:cNvPicPr/>
          <p:nvPr/>
        </p:nvPicPr>
        <p:blipFill>
          <a:blip r:embed="rId2"/>
          <a:stretch/>
        </p:blipFill>
        <p:spPr>
          <a:xfrm>
            <a:off x="4919760" y="4821120"/>
            <a:ext cx="536400" cy="671760"/>
          </a:xfrm>
          <a:prstGeom prst="rect">
            <a:avLst/>
          </a:prstGeom>
          <a:ln w="0">
            <a:noFill/>
          </a:ln>
        </p:spPr>
      </p:pic>
      <p:sp>
        <p:nvSpPr>
          <p:cNvPr id="642" name="Footer Placeholder 4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)</a:t>
            </a: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nalahreqi [Edit: galhadba]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8:17:29Z</dcterms:created>
  <dc:creator>SEVEN</dc:creator>
  <dc:description/>
  <dc:language>en-US</dc:language>
  <cp:lastModifiedBy>Nada Almohaimeed</cp:lastModifiedBy>
  <dcterms:modified xsi:type="dcterms:W3CDTF">2014-02-11T20:58:31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55613FBFDAE9E4986BA5425285758B8</vt:lpwstr>
  </property>
</Properties>
</file>