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2D72-D9D0-4F19-B6B3-FCA3AAAB3A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12F1-BBBF-40D5-B396-A31930985D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95D-7106-41FC-9389-8B794B4F07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689-58EA-4A6E-9AD4-90305B14FD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C7A-D455-4499-A0AB-CB8F0949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781-7C05-43FD-8EEB-F685CA59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EB1-FD60-4A93-BB3D-C19A035D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47C3-AE97-4935-8890-963C2235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2D45-DF3D-4543-A0AB-26E85E94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7F2-29A5-49BE-8AD1-4A70ECD4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B5D8-9097-447F-AFFD-2121E70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A59-ACE7-445F-B4DF-C93DC365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379D-DCD4-45B3-93B0-CF8F7A1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A53E-BE63-4F51-8C0B-CD5D3D5D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4F53-205A-436B-A0D3-965F80A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140-9B36-480B-A690-11BE6D7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D928-55E1-4D07-AAE9-05018F80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A416-D210-487C-B6A8-ABAAD049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AD7B-A01A-41E0-A346-3A1C58D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8FD5-7148-42D6-B812-EEA2A953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6284-E069-4D7C-AF2D-9E373CF5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5B3CD-52BF-44B6-8674-6762B1A1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9420-8BC3-4DA9-8C17-4D92DFF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E3EF4-0EC7-4CFC-B681-4477A409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C8D2-CBA4-4B3A-8172-ED96516C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59CD4-45E1-4307-AF2A-35C8FC2C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2B4-9E39-4485-A28C-45A027A9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0F4E3-1AA6-4E52-A11C-C80E911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9806-5776-4C67-88B9-7D05D78B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CB03-8FDC-4C18-9FEF-DCCC5356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CCB2-1746-468E-8CAC-6DF6783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D01F-8C4D-4675-8A00-F3D95A38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F0C3-95AE-4B79-BF12-5AA06EA4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3013-F72D-4AA7-B40D-83894C7B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DC08-0057-4FEF-8C58-24B6F02C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05505-70B8-4BF5-B8CC-68506A93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D97B-401E-43DF-AABB-77EBD11C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523-7289-4098-9682-E5A8B30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C77E-1F2D-48E4-90B5-2A1C938D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E179F-6F05-4634-A647-5C6919B9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23AC-8C5B-4950-AB9F-2CC3EB6A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E24D-7DE4-4326-AFA4-F63E406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BE81-D163-41D0-B0EB-9F97830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58F1D-AFA4-46C3-A5D5-4E838B7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0659-7873-4DB7-AEAD-88C7DD85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445C-5120-4A17-809D-43413870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0AE1E-B3F5-434F-A33A-46D6B300B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F5114-584D-49FD-BE60-D0EBE77B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C63-3018-49B4-AD5E-EC198BA4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BF89E-731F-4698-AAA4-18AB2D2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247A8-4DF3-47E3-B5AA-24EF900C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585CB-78AB-4936-965C-62FF9B44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38EF0-D180-4660-BCBC-F5C16C56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B5E1D-EEFF-4747-857B-4E6D82B3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ECD83-94E9-43C3-A7C4-7AADB79D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9E648-115D-4B89-B154-1553FA04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81EC-77B3-4956-B313-1B4E56BA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2602-7C66-4529-92A1-189A6EE9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2FD9-3D19-4D16-9BF8-CF8520D1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580-B80B-4F27-9351-2CD64E5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2513-EFCB-4C95-9308-D7023036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BD65-8527-45F3-B0AA-86432F63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435D-4C13-48DA-8BC3-CC5FDD7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EFD69-E2DA-415C-A69D-AF65B37D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0586-5E32-41BD-97C2-C30B20F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827DF-CE9E-4609-95A4-776A445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4A6D0-D933-4114-9384-F749AAB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98937-0D4F-4B17-813B-BEEF6C3F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647C-19A0-4243-BE71-BFCCB68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D4B8-27AD-4E7A-AA53-E62D068A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904-C87E-422F-951F-28BBF1A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30B96-92D2-4F1D-83D4-DDD8206E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A319A-10D8-414A-BB67-0D705C62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0407A-9042-49EE-9F5D-CC5DBB2B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666-061C-4A7E-BC57-94DF87D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C28C-1737-4DBA-A4D0-94BA4750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D95D-B23A-4246-B87B-47B452436EAC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C8F6-6575-4DC1-8DC4-3BC7D12B8821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8E4-DDD3-4901-838D-A5F5F5EAEB2D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5F6-FDD6-4484-9963-B25481970F94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038-7C4A-47A3-89F3-3070B0F8ABE7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C27C-84EF-48A1-916E-67C59EDBF8B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1527120"/>
            <a:ext cx="7556400" cy="1470240"/>
          </a:xfrm>
          <a:prstGeom prst="rect">
            <a:avLst/>
          </a:prstGeom>
          <a:noFill/>
          <a:ln w="9360">
            <a:solidFill>
              <a:srgbClr val="82010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9898"/>
                </a:solidFill>
                <a:latin typeface="Times New Roman"/>
              </a:rPr>
              <a:t>Lab1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</a:rPr>
              <a:t>A VISIBLE  ABSORPTION SPECTROMETER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10160" cy="2738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Visible region wavelength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مستطيل 1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%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مستطيل 1"/>
          <p:cNvSpPr/>
          <p:nvPr/>
        </p:nvSpPr>
        <p:spPr>
          <a:xfrm>
            <a:off x="204840" y="69228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source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مستطيل 1"/>
          <p:cNvSpPr/>
          <p:nvPr/>
        </p:nvSpPr>
        <p:spPr>
          <a:xfrm>
            <a:off x="755640" y="8571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مستطيل 1"/>
          <p:cNvSpPr/>
          <p:nvPr/>
        </p:nvSpPr>
        <p:spPr>
          <a:xfrm>
            <a:off x="468360" y="71424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5508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Io                              I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A = 0.012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0303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8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1104840" cy="1120680"/>
          </a:xfrm>
          <a:prstGeom prst="rect">
            <a:avLst/>
          </a:prstGeom>
          <a:ln w="0">
            <a:noFill/>
          </a:ln>
        </p:spPr>
      </p:pic>
      <p:sp>
        <p:nvSpPr>
          <p:cNvPr id="290" name="AutoShape 6"/>
          <p:cNvSpPr/>
          <p:nvPr/>
        </p:nvSpPr>
        <p:spPr>
          <a:xfrm>
            <a:off x="2666880" y="3048120"/>
            <a:ext cx="1600200" cy="9270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236232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5084640" y="457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7162920" y="416880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4"/>
          <p:cNvSpPr/>
          <p:nvPr/>
        </p:nvSpPr>
        <p:spPr>
          <a:xfrm>
            <a:off x="4267080" y="3200400"/>
            <a:ext cx="990720" cy="698400"/>
          </a:xfrm>
          <a:custGeom>
            <a:avLst/>
            <a:gdLst>
              <a:gd name="textAreaLeft" fmla="*/ 0 w 990720"/>
              <a:gd name="textAreaRight" fmla="*/ 991080 w 9907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5867280" y="3276720"/>
            <a:ext cx="1295640" cy="698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مستطيل 1"/>
          <p:cNvSpPr/>
          <p:nvPr/>
        </p:nvSpPr>
        <p:spPr>
          <a:xfrm>
            <a:off x="684360" y="692280"/>
            <a:ext cx="78483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yrex glass absorbs no light in the visible region but absorbs almost all the light in the UV reg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n UV rang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or silica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le 1"/>
          <p:cNvSpPr/>
          <p:nvPr/>
        </p:nvSpPr>
        <p:spPr>
          <a:xfrm>
            <a:off x="900000" y="4762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ocedure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2"/>
          <p:cNvSpPr/>
          <p:nvPr/>
        </p:nvSpPr>
        <p:spPr>
          <a:xfrm>
            <a:off x="684360" y="1484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red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or discolor comp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684360" y="907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Absorption mode and choose the desired wave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ing machine by adding blank then measure light absorbance of standards then your 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 or make a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ules to handle cuvettes</a:t>
            </a: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4360" y="1483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ipe off any liquid drops with a clean lens pap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0560" y="10526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One of the simplest and most widely used methods to determine concentration of a substance in solution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Measures light absorbed by solution at a specific wavelength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مستطيل 1"/>
          <p:cNvSpPr/>
          <p:nvPr/>
        </p:nvSpPr>
        <p:spPr>
          <a:xfrm>
            <a:off x="826920" y="907920"/>
            <a:ext cx="7345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Some Operating Instructions For Spectrophotometer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machine to war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t when it’s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mode(Abs) and adjust wavelen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مستطيل 1"/>
          <p:cNvSpPr/>
          <p:nvPr/>
        </p:nvSpPr>
        <p:spPr>
          <a:xfrm>
            <a:off x="900000" y="177336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wavelength at which the maximum fraction of light is absorbed by a solu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2"/>
          <p:cNvSpPr/>
          <p:nvPr/>
        </p:nvSpPr>
        <p:spPr>
          <a:xfrm>
            <a:off x="1187280" y="642960"/>
            <a:ext cx="53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mbda </a:t>
            </a:r>
            <a:r>
              <a:rPr b="1" lang="el-GR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λ</a:t>
            </a:r>
            <a:r>
              <a:rPr b="1" lang="en-GB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max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calculate </a:t>
            </a:r>
            <a:r>
              <a:rPr b="1" lang="el-GR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λ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ax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1092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:</a:t>
            </a:r>
            <a:endParaRPr b="0" lang="en-US" sz="3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Chromium nitra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Blank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Spectrophotome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"/>
          <p:cNvSpPr/>
          <p:nvPr/>
        </p:nvSpPr>
        <p:spPr>
          <a:xfrm>
            <a:off x="179280" y="836640"/>
            <a:ext cx="8856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Times New Roman"/>
                <a:ea typeface="Calibri"/>
              </a:rPr>
              <a:t>Prep for standard chromium nitrate</a:t>
            </a:r>
            <a:r>
              <a:rPr b="1" lang="en-US" sz="3600" spc="-1" strike="noStrike" u="sng">
                <a:solidFill>
                  <a:srgbClr val="c0504d"/>
                </a:solidFill>
                <a:uFillTx/>
                <a:latin typeface="Times New Roman"/>
                <a:ea typeface="Calibri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Weight 0.476 g of chromium nitrate &amp; dissolve it with 100 ml of distal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395280" y="342900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In anew balance machine measure the weight as carat (ct) not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So the value will be 4.76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26920" y="54900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Procedure</a:t>
            </a: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:</a:t>
            </a:r>
            <a:endParaRPr b="0" lang="en-US" sz="3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Adjust spectrophotometer to  zero against blank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Take the readings of chromium nitrate at wavelengths starting from 400 till 800 nm in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Times New Roman"/>
              </a:rPr>
              <a:t>50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 nm interval (400-450-500-550-........800)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3"/>
          <p:cNvSpPr/>
          <p:nvPr/>
        </p:nvSpPr>
        <p:spPr>
          <a:xfrm>
            <a:off x="826920" y="836640"/>
            <a:ext cx="792180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val start with 50,20,10,5 and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Any Question</a:t>
            </a: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??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61760" y="685440"/>
            <a:ext cx="7543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مستطيل 1"/>
          <p:cNvSpPr/>
          <p:nvPr/>
        </p:nvSpPr>
        <p:spPr>
          <a:xfrm>
            <a:off x="393840" y="928800"/>
            <a:ext cx="875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red compound in the s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3"/>
          <p:cNvSpPr/>
          <p:nvPr/>
        </p:nvSpPr>
        <p:spPr>
          <a:xfrm>
            <a:off x="393840" y="4098960"/>
            <a:ext cx="84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ستطيل 1"/>
          <p:cNvSpPr/>
          <p:nvPr/>
        </p:nvSpPr>
        <p:spPr>
          <a:xfrm>
            <a:off x="428760" y="157176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rs either directly or after addition of some other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1"/>
          <p:cNvSpPr/>
          <p:nvPr/>
        </p:nvSpPr>
        <p:spPr>
          <a:xfrm>
            <a:off x="662040" y="1125360"/>
            <a:ext cx="7777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pectrophot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ectr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easuring the intensity of ligh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1"/>
          <p:cNvSpPr/>
          <p:nvPr/>
        </p:nvSpPr>
        <p:spPr>
          <a:xfrm>
            <a:off x="755640" y="1484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 cuvette can be placed between the spectrometer beam and the photome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684360" y="83664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380880" y="159372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magnetic spectrum is a family of waves consisting of, gamma ray, X-rays, ultraviolet, visible light, infra-red, microwaves and radio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914400" y="684360"/>
            <a:ext cx="6705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man</dc:creator>
  <dc:description/>
  <dc:language>en-US</dc:language>
  <cp:lastModifiedBy>Iman Alajeyan</cp:lastModifiedBy>
  <dcterms:modified xsi:type="dcterms:W3CDTF">2015-09-06T07:22:55Z</dcterms:modified>
  <cp:revision>32</cp:revision>
  <dc:subject/>
  <dc:title>الشريحة 1</dc:title>
</cp:coreProperties>
</file>