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D31-D71C-446A-934D-F7A313976D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9F90-6453-487E-869C-CAAED24245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011-5718-4033-8FA3-224624712C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555F-E95C-416F-89DA-6992787F03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632-B7B3-40F3-8568-68FF00E4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C5A-2152-4B77-A352-084D798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8DA-1DA8-4748-8360-F70BE93E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C28-9A98-45B2-9E37-643D2830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6E0-F3AE-4279-A77B-444EAE2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80F-5458-4222-9486-D50E02C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9D9A-4A6D-447A-9747-D8D9A76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595A-1F55-45B8-A3B5-CF56C20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294-9057-4FAC-A850-62DAC8C7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D18-EB3C-4E2A-A03A-BE62A5C1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3F7B-3FEA-44BA-B575-77C2995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67F-FBEC-4DDE-A559-095F5B9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B01-F0D6-45C7-99DB-99E07E5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BC70-C81A-44B3-8B83-8CF6A95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2048-FEB2-4EEF-BD85-CC33B9E2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6FE-D202-4F74-8CC6-70A51485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2B4-5036-4CEE-ACC0-7E26237B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27F99-4F33-4ED4-B3BB-32DC62AA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4E6C-C172-429A-9499-FC54D876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0093-CA76-4979-A070-B8125D4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4881-09B8-4D72-82F4-1629B30F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C8F0-D890-4D91-914D-92ABEC6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FEE-24E9-46F3-8C07-1C8635D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857B-198D-4BF2-9FDE-65BEA05E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B529-7D9F-427D-9073-4701CF68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32C3-B577-451E-B497-1A0861C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AA1F-3162-48D0-A145-87A78E8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B336-B00C-41BF-838C-BDBB0A3A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655E-52AF-4DFE-90A0-8250F411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C5EF-0358-41D0-A701-28DD9398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4DB0-39CC-4CDD-9445-093759B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C92A7-DBED-402E-B39E-E0832F12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4A98-177A-4822-B24D-6A9797E6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9EC-DA24-4B8F-9C0C-E9016B6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E54F-1DF7-4E63-8D80-7C9E4EA0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013F-B1A7-479B-952E-71DB2C55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32F4-52CF-4489-A913-39437B94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EAD96-ED7D-4D53-B62A-E692D0B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5D5F-50F3-4174-9D60-54A7090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A1A0-5917-4365-84B4-1E86E96D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AC33-F263-4C4E-966C-E41BA35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706BF-7A47-49B1-A1D3-4B52BCCE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FF05-5D36-4F8B-9568-0F68C1B9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823F-0910-4E7C-8CE2-672EA73C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695-6FEC-4C58-ABEA-59EAFE7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28F3-402B-47D6-9B89-33AB856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5C5A-6430-4B82-88D4-F25C0D5D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B8459-7016-4259-AE6C-657FFC6B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DD58-5B4E-46E0-9A3A-5022A50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D8098-9F83-4E77-98CE-E47531EB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EAE9-AEFD-4561-8A97-82C7850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2448-59DC-43D9-A759-6224936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DE54-EC43-4538-BF6F-52A71CC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BE0B-E9B5-4556-A79E-7E84A31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7956-CAC0-42FC-89F4-3D1D6C30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84B-9760-4AAE-9914-3799A395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4D96-9434-4967-928B-40657FEE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1025-D568-473C-BFFF-3FAE0806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7AA9-1984-4C5C-B0CE-836110E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DF0AA-85BE-48FD-8022-CA188DAE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1C9A-B0FA-480B-BA5A-0717E78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1F0F-C7DD-4F6B-8AA4-2F93C60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F728-837B-4BB3-8DFF-386BC23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F0B3-ECD9-4B01-A536-E637D81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8DDC-13E0-45CB-A7AB-93A8A2C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38BE-811D-46FF-B6F2-3FFA0F7C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BE8-E905-41FA-AC7D-59EBE05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0701-EF4C-4555-A37B-60E5E1FC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F56C-0D8F-497A-ACD2-0F7FF2E1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0B72-8E6D-427D-9B42-60FBB4D4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99E-DD51-4BD8-952A-AAC1D09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E7D-F417-441C-A43A-0AE6C69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CC8E-6F64-4693-B96B-F7AFCDF3243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005-24A2-462D-B194-5B20B483B9D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269-6812-4C09-83C5-1ACAAC5F0EF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1C0-A016-4F71-82B7-73C0F752DF2B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502A-0943-4CD0-8155-3C04C62C3AF4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A5D-99B1-4F41-85D9-AC15476AE74F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1527120"/>
            <a:ext cx="7556400" cy="1470240"/>
          </a:xfrm>
          <a:prstGeom prst="rect">
            <a:avLst/>
          </a:prstGeom>
          <a:noFill/>
          <a:ln w="9360">
            <a:solidFill>
              <a:srgbClr val="82010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9898"/>
                </a:solidFill>
                <a:latin typeface="Times New Roman"/>
              </a:rPr>
              <a:t>Lab1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</a:rPr>
              <a:t>A VISIBLE  ABSORPTION SPECTROMETER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10160" cy="2738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Visible region wavelength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مستطيل 1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%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مستطيل 1"/>
          <p:cNvSpPr/>
          <p:nvPr/>
        </p:nvSpPr>
        <p:spPr>
          <a:xfrm>
            <a:off x="204840" y="69228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source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مستطيل 1"/>
          <p:cNvSpPr/>
          <p:nvPr/>
        </p:nvSpPr>
        <p:spPr>
          <a:xfrm>
            <a:off x="755640" y="8571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مستطيل 1"/>
          <p:cNvSpPr/>
          <p:nvPr/>
        </p:nvSpPr>
        <p:spPr>
          <a:xfrm>
            <a:off x="468360" y="7142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508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Io                              I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A = 0.012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0303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8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1104840" cy="112068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6"/>
          <p:cNvSpPr/>
          <p:nvPr/>
        </p:nvSpPr>
        <p:spPr>
          <a:xfrm>
            <a:off x="2666880" y="3048120"/>
            <a:ext cx="1600200" cy="9270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236232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5084640" y="457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7162920" y="416880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4267080" y="3200400"/>
            <a:ext cx="990720" cy="698400"/>
          </a:xfrm>
          <a:custGeom>
            <a:avLst/>
            <a:gdLst>
              <a:gd name="textAreaLeft" fmla="*/ 0 w 990720"/>
              <a:gd name="textAreaRight" fmla="*/ 991080 w 9907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5867280" y="3276720"/>
            <a:ext cx="1295640" cy="698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مستطيل 1"/>
          <p:cNvSpPr/>
          <p:nvPr/>
        </p:nvSpPr>
        <p:spPr>
          <a:xfrm>
            <a:off x="684360" y="692280"/>
            <a:ext cx="78483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yrex glass absorbs no light in the visible region but absorbs almost all the light in the UV reg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n UV rang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or silica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le 1"/>
          <p:cNvSpPr/>
          <p:nvPr/>
        </p:nvSpPr>
        <p:spPr>
          <a:xfrm>
            <a:off x="900000" y="4762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ocedure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2"/>
          <p:cNvSpPr/>
          <p:nvPr/>
        </p:nvSpPr>
        <p:spPr>
          <a:xfrm>
            <a:off x="684360" y="1484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red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or discolor comp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684360" y="907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Absorption mode and choose the desired wave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ing machine by adding blank then measure light absorbance of standards then your 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 or make a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ules to handle cuvettes</a:t>
            </a: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4360" y="1483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ipe off any liquid drops with a clean lens pap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560" y="10526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One of the simplest and most widely used methods to determine concentration of a substance in solution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Measures light absorbed by solution at a specific wavelength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مستطيل 1"/>
          <p:cNvSpPr/>
          <p:nvPr/>
        </p:nvSpPr>
        <p:spPr>
          <a:xfrm>
            <a:off x="826920" y="907920"/>
            <a:ext cx="7345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Some Operating Instructions For Spectrophotometer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machine to war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t when it’s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mode(Abs) and adjust wavelen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مستطيل 1"/>
          <p:cNvSpPr/>
          <p:nvPr/>
        </p:nvSpPr>
        <p:spPr>
          <a:xfrm>
            <a:off x="900000" y="177336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wavelength at which the maximum fraction of light is absorbed by a solu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2"/>
          <p:cNvSpPr/>
          <p:nvPr/>
        </p:nvSpPr>
        <p:spPr>
          <a:xfrm>
            <a:off x="1187280" y="642960"/>
            <a:ext cx="53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mbda </a:t>
            </a:r>
            <a:r>
              <a:rPr b="1" lang="el-GR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λ</a:t>
            </a:r>
            <a:r>
              <a:rPr b="1" lang="en-GB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max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calculate </a:t>
            </a:r>
            <a:r>
              <a:rPr b="1" lang="el-GR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λ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ax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1092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:</a:t>
            </a:r>
            <a:endParaRPr b="0" lang="en-US" sz="3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Chromium nitra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Blank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Spectrophotome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179280" y="836640"/>
            <a:ext cx="885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Times New Roman"/>
                <a:ea typeface="Calibri"/>
              </a:rPr>
              <a:t>Prep for standard chromium nitrate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Times New Roman"/>
                <a:ea typeface="Calibri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eight 0.476 g of chromium nitrate &amp; dissolve it with 100 ml of distal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395280" y="3429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In anew balance machine measure the weight as carat (ct) not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o the value will be 4.76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26920" y="54900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Procedure</a:t>
            </a: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:</a:t>
            </a:r>
            <a:endParaRPr b="0" lang="en-US" sz="3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Adjust spectrophotometer to  zero against blank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Take the readings of chromium nitrate at wavelengths starting from 400 till 800 nm in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Times New Roman"/>
              </a:rPr>
              <a:t>50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 nm interval (400-450-500-550-........800)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826920" y="836640"/>
            <a:ext cx="79218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val start with 50,20,10,5 and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Any Question</a:t>
            </a: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??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61760" y="685440"/>
            <a:ext cx="7543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مستطيل 1"/>
          <p:cNvSpPr/>
          <p:nvPr/>
        </p:nvSpPr>
        <p:spPr>
          <a:xfrm>
            <a:off x="393840" y="928800"/>
            <a:ext cx="875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red compound in the s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3"/>
          <p:cNvSpPr/>
          <p:nvPr/>
        </p:nvSpPr>
        <p:spPr>
          <a:xfrm>
            <a:off x="393840" y="4098960"/>
            <a:ext cx="84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ستطيل 1"/>
          <p:cNvSpPr/>
          <p:nvPr/>
        </p:nvSpPr>
        <p:spPr>
          <a:xfrm>
            <a:off x="428760" y="157176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rs either directly or after addition of some other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1"/>
          <p:cNvSpPr/>
          <p:nvPr/>
        </p:nvSpPr>
        <p:spPr>
          <a:xfrm>
            <a:off x="662040" y="1125360"/>
            <a:ext cx="7777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pectrophot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ectr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easuring the intensity of ligh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1"/>
          <p:cNvSpPr/>
          <p:nvPr/>
        </p:nvSpPr>
        <p:spPr>
          <a:xfrm>
            <a:off x="755640" y="1484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 cuvette can be placed between the spectrometer beam and the photome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684360" y="83664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80880" y="159372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magnetic spectrum is a family of waves consisting of, gamma ray, X-rays, ultraviolet, visible light, infra-red, microwaves and radio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914400" y="684360"/>
            <a:ext cx="670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man</dc:creator>
  <dc:description/>
  <dc:language>en-US</dc:language>
  <cp:lastModifiedBy>Iman Alajeyan</cp:lastModifiedBy>
  <dcterms:modified xsi:type="dcterms:W3CDTF">2015-09-06T07:22:55Z</dcterms:modified>
  <cp:revision>32</cp:revision>
  <dc:subject/>
  <dc:title>الشريحة 1</dc:title>
</cp:coreProperties>
</file>