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4d2b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792C-951E-4E1F-BEE1-FE62F2B62D2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0AE5-072A-4080-9E31-ADC18C138AE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F42-2397-4257-96F7-B8DE0FB7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1A1-85B0-4AE1-BD54-36A173B4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510-70AE-43D8-8DB1-531413D7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284-DAF9-4192-9982-5FF6E2AB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1E17-A162-43DB-99BC-1D5C9471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58F0-5301-44D0-BBD4-F056C382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1B34-A8EA-4AC0-8EDF-1A164FE0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9A4-9939-4226-8D59-47C12717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AF29-7BC5-450E-AB8E-9B5B2A99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7312-9A4E-43A0-BD0E-EB9E5E5D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9B11-29F3-4025-B65A-403C765B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AD7-D25B-4012-83EE-7E8854DF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4FAE-1D42-47D2-A509-0796A66B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EFD9-296F-4EA6-83B4-3A3607E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8F02-EAA4-4C2B-9BE3-55405308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1081-7CE6-40C2-97E2-DEB800E4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B021-B246-4F43-9C82-62498478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BA1-6D0D-4185-9774-B263DAD5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2A9-C542-4F29-BDB9-4F331929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271-7393-4C05-B1F4-CF43AE96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57E-630C-48D7-A5B9-BCB69E94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F09-4123-478D-825B-44EDA64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DE3-8771-42C2-9E48-956CF7F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372-9133-4690-A2E3-418ABFE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DCC-D8E9-447D-B16D-8B9F16A6CEEF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C8B6-59E4-420B-B116-D74580E338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4d2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94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94d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694d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4d2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94d2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a1968d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410A-7F95-4367-BECC-67A21AECC01C}" type="datetime">
              <a:rPr b="0" lang="ar-SA" sz="1200" spc="-1" strike="noStrike">
                <a:solidFill>
                  <a:srgbClr val="a1968d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a1968d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CC20-0F1F-45AC-A537-8F9FAA6A0A98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رسم تخطيطي 3" descr=""/>
          <p:cNvPicPr/>
          <p:nvPr/>
        </p:nvPicPr>
        <p:blipFill>
          <a:blip r:embed="rId1"/>
          <a:stretch/>
        </p:blipFill>
        <p:spPr>
          <a:xfrm>
            <a:off x="676440" y="2127240"/>
            <a:ext cx="7797600" cy="1506600"/>
          </a:xfrm>
          <a:prstGeom prst="rect">
            <a:avLst/>
          </a:prstGeom>
          <a:ln w="0">
            <a:noFill/>
          </a:ln>
        </p:spPr>
      </p:pic>
      <p:sp>
        <p:nvSpPr>
          <p:cNvPr id="9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58A6-CB09-4BF6-8816-A80E9AD93848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جدول 5" descr=""/>
          <p:cNvPicPr/>
          <p:nvPr/>
        </p:nvPicPr>
        <p:blipFill>
          <a:blip r:embed="rId1"/>
          <a:stretch/>
        </p:blipFill>
        <p:spPr>
          <a:xfrm>
            <a:off x="1096920" y="1347840"/>
            <a:ext cx="6950160" cy="5229000"/>
          </a:xfrm>
          <a:prstGeom prst="rect">
            <a:avLst/>
          </a:prstGeom>
          <a:ln w="0">
            <a:noFill/>
          </a:ln>
        </p:spPr>
      </p:pic>
      <p:sp>
        <p:nvSpPr>
          <p:cNvPr id="92" name="عنصر نائب لرقم الشريحة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E45C-7372-4204-AFC6-DE3FC26D2AE3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57200" y="358452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9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41B8-3A3F-4362-9481-1A4707DD6CEF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1"/>
          <p:cNvSpPr/>
          <p:nvPr/>
        </p:nvSpPr>
        <p:spPr>
          <a:xfrm>
            <a:off x="409680" y="1892160"/>
            <a:ext cx="8596080" cy="2654280"/>
          </a:xfrm>
          <a:prstGeom prst="rect">
            <a:avLst/>
          </a:prstGeom>
          <a:gradFill rotWithShape="0">
            <a:gsLst>
              <a:gs pos="0">
                <a:srgbClr val="b4aba1"/>
              </a:gs>
              <a:gs pos="100000">
                <a:srgbClr val="ede1d4"/>
              </a:gs>
            </a:gsLst>
            <a:lin ang="16200000"/>
          </a:gradFill>
          <a:ln w="9360">
            <a:solidFill>
              <a:srgbClr val="ebe2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واتج الايض للنبات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أ) النواتج الاوليه</a:t>
            </a: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3e3e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e3e"/>
                </a:solidFill>
                <a:latin typeface="ArialMT"/>
              </a:rPr>
              <a:t>يحتاجھا النبات للاستمر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3e3e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e3e"/>
                </a:solidFill>
                <a:latin typeface="ArialMT"/>
              </a:rPr>
              <a:t>تتكون من ثاني اكسيد الكربون، ماء وبعض الاملاح و الأحماض الأمينية والسكريات والدھون) </a:t>
            </a:r>
            <a:r>
              <a:rPr b="0" lang="ar-SA" sz="2400" spc="-1" strike="noStrike">
                <a:solidFill>
                  <a:srgbClr val="333333"/>
                </a:solidFill>
                <a:latin typeface="TimesNewRomanPSMT"/>
              </a:rPr>
              <a:t>مصدر للصبغات النباتية والكلوروفيل </a:t>
            </a:r>
            <a:r>
              <a:rPr b="0" lang="ar-SA" sz="2400" spc="-1" strike="noStrike">
                <a:solidFill>
                  <a:srgbClr val="333333"/>
                </a:solidFill>
                <a:latin typeface="Arial-BoldMT"/>
              </a:rPr>
              <a:t>والهرمونات النباتيه والفيتامينات وقرائن الانزيمات والقواعد النيتروجينيه والزيوت العطر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مجموعة 5"/>
          <p:cNvGrpSpPr/>
          <p:nvPr/>
        </p:nvGrpSpPr>
        <p:grpSpPr>
          <a:xfrm>
            <a:off x="747720" y="169920"/>
            <a:ext cx="8229600" cy="1689120"/>
            <a:chOff x="747720" y="169920"/>
            <a:chExt cx="8229600" cy="1689120"/>
          </a:xfrm>
        </p:grpSpPr>
        <p:sp>
          <p:nvSpPr>
            <p:cNvPr id="97" name="مستطيل مستدير الزوايا 6"/>
            <p:cNvSpPr/>
            <p:nvPr/>
          </p:nvSpPr>
          <p:spPr>
            <a:xfrm>
              <a:off x="747720" y="169920"/>
              <a:ext cx="8229600" cy="1689120"/>
            </a:xfrm>
            <a:prstGeom prst="roundRect">
              <a:avLst>
                <a:gd name="adj" fmla="val 16667"/>
              </a:avLst>
            </a:prstGeom>
            <a:solidFill>
              <a:srgbClr val="e9947d"/>
            </a:solidFill>
            <a:ln w="25560">
              <a:solidFill>
                <a:srgbClr val="e5d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مستطيل 7"/>
            <p:cNvSpPr/>
            <p:nvPr/>
          </p:nvSpPr>
          <p:spPr>
            <a:xfrm>
              <a:off x="806400" y="334800"/>
              <a:ext cx="81122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الكيمياء النباتية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ar-SA" sz="2800" spc="-1" strike="noStrike">
                  <a:solidFill>
                    <a:srgbClr val="c00000"/>
                  </a:solidFill>
                  <a:latin typeface="Calibri"/>
                </a:rPr>
                <a:t> </a:t>
              </a:r>
              <a:r>
                <a:rPr b="0" lang="ar-SA" sz="2800" spc="-1" strike="noStrike">
                  <a:solidFill>
                    <a:srgbClr val="191919"/>
                  </a:solidFill>
                  <a:latin typeface="Calibri"/>
                </a:rPr>
                <a:t>تشمل دراسة المركبات المفصوله من النبات الثانويه والاوليه ھذه المركبات تقوم بوظيفة النمو او الحمايه للنبات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مستطيل 8"/>
          <p:cNvSpPr/>
          <p:nvPr/>
        </p:nvSpPr>
        <p:spPr>
          <a:xfrm>
            <a:off x="349200" y="4343400"/>
            <a:ext cx="8607600" cy="2288520"/>
          </a:xfrm>
          <a:prstGeom prst="rect">
            <a:avLst/>
          </a:prstGeom>
          <a:gradFill rotWithShape="0">
            <a:gsLst>
              <a:gs pos="0">
                <a:srgbClr val="b4aba1"/>
              </a:gs>
              <a:gs pos="100000">
                <a:srgbClr val="ede1d4"/>
              </a:gs>
            </a:gsLst>
            <a:lin ang="16200000"/>
          </a:gradFill>
          <a:ln w="9360">
            <a:solidFill>
              <a:srgbClr val="ebe2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ب) النواتج الثانويه التمثيل الغذائى</a:t>
            </a: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-Bold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MT"/>
              </a:rPr>
              <a:t>ھى مواد تنتج اثناء العمليات التمثيلية الاساسية مثل التمثيل الغذائى للكربوھيدرات والبروتينات والدھ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5"/>
                </a:solidFill>
                <a:latin typeface="ArialMT"/>
              </a:rPr>
              <a:t> </a:t>
            </a:r>
            <a:r>
              <a:rPr b="0" lang="ar-SA" sz="2400" spc="-1" strike="noStrike">
                <a:solidFill>
                  <a:srgbClr val="003365"/>
                </a:solidFill>
                <a:latin typeface="ArialMT"/>
              </a:rPr>
              <a:t>مثل </a:t>
            </a:r>
            <a:r>
              <a:rPr b="0" lang="ar-SA" sz="2400" spc="-1" strike="noStrike">
                <a:solidFill>
                  <a:srgbClr val="3e3e3e"/>
                </a:solidFill>
                <a:latin typeface="Tahoma"/>
              </a:rPr>
              <a:t>• </a:t>
            </a:r>
            <a:r>
              <a:rPr b="0" lang="ar-SA" sz="2400" spc="-1" strike="noStrike">
                <a:solidFill>
                  <a:srgbClr val="3e3e3e"/>
                </a:solidFill>
                <a:latin typeface="ArialMT"/>
              </a:rPr>
              <a:t>التربينات والفينولات والقلويدات وغيرهاو</a:t>
            </a:r>
            <a:r>
              <a:rPr b="1" lang="ar-SA" sz="2400" spc="-1" strike="noStrike">
                <a:solidFill>
                  <a:srgbClr val="00b050"/>
                </a:solidFill>
                <a:latin typeface="ArialMT"/>
              </a:rPr>
              <a:t>من اهم وظائف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e3e3e"/>
                </a:solidFill>
                <a:latin typeface="ArialMT"/>
              </a:rPr>
              <a:t>لها دور مهم في حماية النبات ومقاومة الامراض والتكيف تعطي بعض الازهار الوان زاه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1560" y="2133720"/>
          <a:ext cx="8229600" cy="441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5d5c1"/>
                          </a:solidFill>
                          <a:latin typeface="Calibri"/>
                        </a:rPr>
                        <a:t>التكوين العنص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18720">
                      <a:solidFill>
                        <a:srgbClr val="e5d5c1"/>
                      </a:solidFill>
                    </a:lnB>
                    <a:solidFill>
                      <a:srgbClr val="e99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5d5c1"/>
                          </a:solidFill>
                          <a:latin typeface="Calibri"/>
                        </a:rPr>
                        <a:t>المكو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18720">
                      <a:solidFill>
                        <a:srgbClr val="e5d5c1"/>
                      </a:solidFill>
                    </a:lnB>
                    <a:solidFill>
                      <a:srgbClr val="e99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5d5c1"/>
                          </a:solidFill>
                          <a:latin typeface="Calibri"/>
                        </a:rPr>
                        <a:t>الوظي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18720">
                      <a:solidFill>
                        <a:srgbClr val="e5d5c1"/>
                      </a:solidFill>
                    </a:lnB>
                    <a:solidFill>
                      <a:srgbClr val="e994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5d5c1"/>
                          </a:solidFill>
                          <a:latin typeface="Calibri"/>
                        </a:rPr>
                        <a:t>الجزيئات العض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18720">
                      <a:solidFill>
                        <a:srgbClr val="e5d5c1"/>
                      </a:solidFill>
                    </a:lnB>
                    <a:solidFill>
                      <a:srgbClr val="e9947d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كربون وهيدروجين وأكسجي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1872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سكريات البسي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1872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مصدر طاقة,مادة تركيبيه ووحدات بناء للجزيئات الا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1872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سكر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1872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كربون وهيدروجين وأكسج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احماض الدهنية والجليسير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تخزين طاقة ,مكونات تركيبية للأغشية,حاجز لفقد الماء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دهو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كربون وهيدروجين واكسجين ونيتروجين وكبر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احماض الامي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مواد تركيبية وانزيم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بروتي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7dcd7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كربون وهيدروجين واكسجين ونيتروجين وفسف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نكليد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تخزين ونقل ونسخ المعلومات الوراثية وبناء البروتي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94d2b"/>
                          </a:solidFill>
                          <a:latin typeface="Calibri"/>
                        </a:rPr>
                        <a:t>الاحماض النو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5d5c1"/>
                      </a:solidFill>
                    </a:lnL>
                    <a:lnR w="5760">
                      <a:solidFill>
                        <a:srgbClr val="e5d5c1"/>
                      </a:solidFill>
                    </a:lnR>
                    <a:lnT w="5760">
                      <a:solidFill>
                        <a:srgbClr val="e5d5c1"/>
                      </a:solidFill>
                    </a:lnT>
                    <a:lnB w="5760">
                      <a:solidFill>
                        <a:srgbClr val="e5d5c1"/>
                      </a:solidFill>
                    </a:lnB>
                    <a:solidFill>
                      <a:srgbClr val="fbefec"/>
                    </a:solidFill>
                  </a:tcPr>
                </a:tc>
              </a:tr>
            </a:tbl>
          </a:graphicData>
        </a:graphic>
      </p:graphicFrame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CC59-DE9A-4261-85C2-F3F0AAF091BC}" type="slidenum">
              <a:rPr b="0" lang="ar-SA" sz="1200" spc="-1" strike="noStrike">
                <a:solidFill>
                  <a:srgbClr val="a196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4"/>
          <p:cNvGrpSpPr/>
          <p:nvPr/>
        </p:nvGrpSpPr>
        <p:grpSpPr>
          <a:xfrm>
            <a:off x="550800" y="533520"/>
            <a:ext cx="8229600" cy="1216080"/>
            <a:chOff x="550800" y="533520"/>
            <a:chExt cx="8229600" cy="1216080"/>
          </a:xfrm>
        </p:grpSpPr>
        <p:sp>
          <p:nvSpPr>
            <p:cNvPr id="103" name="مستطيل مستدير الزوايا 5"/>
            <p:cNvSpPr/>
            <p:nvPr/>
          </p:nvSpPr>
          <p:spPr>
            <a:xfrm>
              <a:off x="550800" y="533520"/>
              <a:ext cx="8229600" cy="1216080"/>
            </a:xfrm>
            <a:prstGeom prst="roundRect">
              <a:avLst>
                <a:gd name="adj" fmla="val 16667"/>
              </a:avLst>
            </a:prstGeom>
            <a:solidFill>
              <a:srgbClr val="e9947d"/>
            </a:solidFill>
            <a:ln w="25560">
              <a:solidFill>
                <a:srgbClr val="e5d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مستطيل 6"/>
            <p:cNvSpPr/>
            <p:nvPr/>
          </p:nvSpPr>
          <p:spPr>
            <a:xfrm>
              <a:off x="609480" y="592200"/>
              <a:ext cx="811224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694d2b"/>
                  </a:solidFill>
                  <a:latin typeface="Calibri"/>
                </a:rPr>
                <a:t>أن الأنماط الرئيسية من الجزيئات العضوية الموجودة في الكائنات الحية هي السكريات والدهون والبروتينات والأحماض النووية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35:15Z</dcterms:created>
  <dc:creator>العنود</dc:creator>
  <dc:description/>
  <dc:language>en-US</dc:language>
  <cp:lastModifiedBy>pc</cp:lastModifiedBy>
  <dcterms:modified xsi:type="dcterms:W3CDTF">2016-10-11T17:39:23Z</dcterms:modified>
  <cp:revision>20</cp:revision>
  <dc:subject/>
  <dc:title>عرض تقديمي في PowerPoint</dc:title>
</cp:coreProperties>
</file>