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4d2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105D-CDFA-4F0B-BA7C-B27DE947A7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409-2C76-4371-B8BA-49F3B17636A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969-B7AA-40F6-A8AE-9A270ACB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CF6-808A-4B87-B8D7-A861334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27F-342B-444E-B798-96E54532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C95-47D4-4CB1-BDEB-FCF7138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8BB-4EAA-454A-B295-E09C7811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1030-37C3-415B-9C11-A5E42667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EF66-0018-4174-83A2-BD7E0F3C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53D-58D6-47F4-819F-376EF19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4B76-C003-486C-B341-C75CC38C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9A4-556C-48AE-BC5D-31574ECC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AB9-A0E2-4E25-B942-AAD2107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5C3-AB4C-4C4F-BB6C-7D16B316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3E18-608B-44D4-9F51-236D438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4724-9E8A-42E1-A3E6-2C20859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B4B1-BEB1-4AF9-9C84-72544EA6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6DBE-DE17-421A-B050-247BAEF2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C80-C6FE-4F15-AA83-E38C1824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4D5-D356-4C39-B0FC-1B1A277F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6BE-7328-4407-9CC0-3AD4A83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389-3D78-456B-A60F-EE3920D6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9D0-BD91-416C-9060-1FCDCAF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56E-CF1B-4E77-B770-8BC2AC0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A10-1C9F-4CB9-8322-37E847F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722-7544-4271-A297-AFFBFF1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844-BB45-4C2F-9948-30E25AA9F9C9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F48-C155-41ED-9D4B-7A1D8082DB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4d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94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94d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1968d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91AC-2034-409D-8952-5EF87B37BCC5}" type="datetime">
              <a:rPr b="0" lang="ar-SA" sz="1200" spc="-1" strike="noStrike">
                <a:solidFill>
                  <a:srgbClr val="a1968d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1968d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180-2990-4ED3-9E0E-D2AE0B5584CD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3" descr=""/>
          <p:cNvPicPr/>
          <p:nvPr/>
        </p:nvPicPr>
        <p:blipFill>
          <a:blip r:embed="rId1"/>
          <a:stretch/>
        </p:blipFill>
        <p:spPr>
          <a:xfrm>
            <a:off x="676440" y="2127240"/>
            <a:ext cx="77976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3715-D0D3-47A3-96BB-6FCCC47E2712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جدول 5" descr=""/>
          <p:cNvPicPr/>
          <p:nvPr/>
        </p:nvPicPr>
        <p:blipFill>
          <a:blip r:embed="rId1"/>
          <a:stretch/>
        </p:blipFill>
        <p:spPr>
          <a:xfrm>
            <a:off x="1096920" y="134784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92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E6E1-1638-43D0-9569-4FD2A8EFE311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57200" y="358452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9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02D-F56C-4CE9-AC97-E27D2F05B41C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1"/>
          <p:cNvSpPr/>
          <p:nvPr/>
        </p:nvSpPr>
        <p:spPr>
          <a:xfrm>
            <a:off x="409680" y="1892160"/>
            <a:ext cx="8596080" cy="2654280"/>
          </a:xfrm>
          <a:prstGeom prst="rect">
            <a:avLst/>
          </a:prstGeom>
          <a:gradFill rotWithShape="0">
            <a:gsLst>
              <a:gs pos="0">
                <a:srgbClr val="b4aba1"/>
              </a:gs>
              <a:gs pos="100000">
                <a:srgbClr val="ede1d4"/>
              </a:gs>
            </a:gsLst>
            <a:lin ang="16200000"/>
          </a:gradFill>
          <a:ln w="9360">
            <a:solidFill>
              <a:srgbClr val="ebe2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واتج الايض للنبات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أ) النواتج الاوليه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يحتاجھا النبات للاستمر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تتكون من ثاني اكسيد الكربون، ماء وبعض الاملاح و الأحماض الأمينية والسكريات والدھون) </a:t>
            </a:r>
            <a:r>
              <a:rPr b="0" lang="ar-SA" sz="2400" spc="-1" strike="noStrike">
                <a:solidFill>
                  <a:srgbClr val="333333"/>
                </a:solidFill>
                <a:latin typeface="TimesNewRomanPSMT"/>
              </a:rPr>
              <a:t>مصدر للصبغات النباتية والكلوروفيل </a:t>
            </a:r>
            <a:r>
              <a:rPr b="0" lang="ar-SA" sz="2400" spc="-1" strike="noStrike">
                <a:solidFill>
                  <a:srgbClr val="333333"/>
                </a:solidFill>
                <a:latin typeface="Arial-BoldMT"/>
              </a:rPr>
              <a:t>والهرمونات النباتيه والفيتامينات وقرائن الانزيمات والقواعد النيتروجينيه والزيوت العطر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مجموعة 5"/>
          <p:cNvGrpSpPr/>
          <p:nvPr/>
        </p:nvGrpSpPr>
        <p:grpSpPr>
          <a:xfrm>
            <a:off x="747720" y="169920"/>
            <a:ext cx="8229600" cy="1689120"/>
            <a:chOff x="747720" y="169920"/>
            <a:chExt cx="8229600" cy="1689120"/>
          </a:xfrm>
        </p:grpSpPr>
        <p:sp>
          <p:nvSpPr>
            <p:cNvPr id="97" name="مستطيل مستدير الزوايا 6"/>
            <p:cNvSpPr/>
            <p:nvPr/>
          </p:nvSpPr>
          <p:spPr>
            <a:xfrm>
              <a:off x="747720" y="169920"/>
              <a:ext cx="8229600" cy="1689120"/>
            </a:xfrm>
            <a:prstGeom prst="roundRect">
              <a:avLst>
                <a:gd name="adj" fmla="val 16667"/>
              </a:avLst>
            </a:prstGeom>
            <a:solidFill>
              <a:srgbClr val="e9947d"/>
            </a:solidFill>
            <a:ln w="25560">
              <a:solidFill>
                <a:srgbClr val="e5d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مستطيل 7"/>
            <p:cNvSpPr/>
            <p:nvPr/>
          </p:nvSpPr>
          <p:spPr>
            <a:xfrm>
              <a:off x="806400" y="334800"/>
              <a:ext cx="81122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الكيمياء النباتية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ar-SA" sz="28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0" lang="ar-SA" sz="2800" spc="-1" strike="noStrike">
                  <a:solidFill>
                    <a:srgbClr val="191919"/>
                  </a:solidFill>
                  <a:latin typeface="Calibri"/>
                </a:rPr>
                <a:t>تشمل دراسة المركبات المفصوله من النبات الثانويه والاوليه ھذه المركبات تقوم بوظيفة النمو او الحمايه للنبا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مستطيل 8"/>
          <p:cNvSpPr/>
          <p:nvPr/>
        </p:nvSpPr>
        <p:spPr>
          <a:xfrm>
            <a:off x="349200" y="4343400"/>
            <a:ext cx="8607600" cy="2288520"/>
          </a:xfrm>
          <a:prstGeom prst="rect">
            <a:avLst/>
          </a:prstGeom>
          <a:gradFill rotWithShape="0">
            <a:gsLst>
              <a:gs pos="0">
                <a:srgbClr val="b4aba1"/>
              </a:gs>
              <a:gs pos="100000">
                <a:srgbClr val="ede1d4"/>
              </a:gs>
            </a:gsLst>
            <a:lin ang="16200000"/>
          </a:gradFill>
          <a:ln w="9360">
            <a:solidFill>
              <a:srgbClr val="ebe2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ب) النواتج الثانويه التمثيل الغذائى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MT"/>
              </a:rPr>
              <a:t>ھى مواد تنتج اثناء العمليات التمثيلية الاساسية مثل التمثيل الغذائى للكربوھيدرات والبروتينات والدھ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5"/>
                </a:solidFill>
                <a:latin typeface="ArialMT"/>
              </a:rPr>
              <a:t> </a:t>
            </a:r>
            <a:r>
              <a:rPr b="0" lang="ar-SA" sz="2400" spc="-1" strike="noStrike">
                <a:solidFill>
                  <a:srgbClr val="003365"/>
                </a:solidFill>
                <a:latin typeface="ArialMT"/>
              </a:rPr>
              <a:t>مثل </a:t>
            </a:r>
            <a:r>
              <a:rPr b="0" lang="ar-SA" sz="2400" spc="-1" strike="noStrike">
                <a:solidFill>
                  <a:srgbClr val="3e3e3e"/>
                </a:solidFill>
                <a:latin typeface="Tahoma"/>
              </a:rPr>
              <a:t>• </a:t>
            </a: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التربينات والفينولات والقلويدات وغيرهاو</a:t>
            </a:r>
            <a:r>
              <a:rPr b="1" lang="ar-SA" sz="2400" spc="-1" strike="noStrike">
                <a:solidFill>
                  <a:srgbClr val="00b050"/>
                </a:solidFill>
                <a:latin typeface="ArialMT"/>
              </a:rPr>
              <a:t>من اهم وظائف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e3e3e"/>
                </a:solidFill>
                <a:latin typeface="ArialMT"/>
              </a:rPr>
              <a:t>لها دور مهم في حماية النبات ومقاومة الامراض والتكيف تعطي بعض الازهار الوان زاه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1560" y="2133720"/>
          <a:ext cx="8229600" cy="441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تكوين العنص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مكو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وظي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جزيئات العض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أكسجي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سكريات البسي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مصدر طاقة,مادة تركيبيه ووحدات بناء للجزيئات الا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سك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أكسج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دهنية والجليسير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تخزين طاقة ,مكونات تركيبية للأغشية,حاجز لفقد الماء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ده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اكسجين ونيتروجين وكبر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امي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مواد تركيبية وانزيم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بروتي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اكسجين ونيتروجين وفسف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نكلي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تخزين ونقل ونسخ المعلومات الوراثية وبناء البروتي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نو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</a:tr>
            </a:tbl>
          </a:graphicData>
        </a:graphic>
      </p:graphicFrame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134-EB2C-4A4F-B36A-77E4CA90A160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4"/>
          <p:cNvGrpSpPr/>
          <p:nvPr/>
        </p:nvGrpSpPr>
        <p:grpSpPr>
          <a:xfrm>
            <a:off x="550800" y="533520"/>
            <a:ext cx="8229600" cy="1216080"/>
            <a:chOff x="550800" y="533520"/>
            <a:chExt cx="8229600" cy="1216080"/>
          </a:xfrm>
        </p:grpSpPr>
        <p:sp>
          <p:nvSpPr>
            <p:cNvPr id="103" name="مستطيل مستدير الزوايا 5"/>
            <p:cNvSpPr/>
            <p:nvPr/>
          </p:nvSpPr>
          <p:spPr>
            <a:xfrm>
              <a:off x="550800" y="533520"/>
              <a:ext cx="8229600" cy="1216080"/>
            </a:xfrm>
            <a:prstGeom prst="roundRect">
              <a:avLst>
                <a:gd name="adj" fmla="val 16667"/>
              </a:avLst>
            </a:prstGeom>
            <a:solidFill>
              <a:srgbClr val="e9947d"/>
            </a:solidFill>
            <a:ln w="25560">
              <a:solidFill>
                <a:srgbClr val="e5d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مستطيل 6"/>
            <p:cNvSpPr/>
            <p:nvPr/>
          </p:nvSpPr>
          <p:spPr>
            <a:xfrm>
              <a:off x="609480" y="592200"/>
              <a:ext cx="811224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694d2b"/>
                  </a:solidFill>
                  <a:latin typeface="Calibri"/>
                </a:rPr>
                <a:t>أن الأنماط الرئيسية من الجزيئات العضوية الموجودة في الكائنات الحية هي السكريات والدهون والبروتينات والأحماض النووي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35:15Z</dcterms:created>
  <dc:creator>العنود</dc:creator>
  <dc:description/>
  <dc:language>en-US</dc:language>
  <cp:lastModifiedBy>pc</cp:lastModifiedBy>
  <dcterms:modified xsi:type="dcterms:W3CDTF">2016-10-11T17:39:23Z</dcterms:modified>
  <cp:revision>20</cp:revision>
  <dc:subject/>
  <dc:title>عرض تقديمي في PowerPoint</dc:title>
</cp:coreProperties>
</file>