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AC0B-2331-45A4-BACA-CAD73996E2F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CACC-1D4B-42A4-958B-FD13801A31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E863-0C83-4180-AB65-EA1DAA83971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1C8-BC4A-4391-B317-85DD410C93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C180-A975-4391-B3C2-F51A6F153E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8CBF-47CC-47A4-A1B6-9557CE4F99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2BF-6CA8-42C8-B7F8-66B09A35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D2B-0B55-47CB-B0D0-8C5AAE6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125-D013-48B2-89E0-0EB1747E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2BB-2333-470D-A750-E922175A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D61-368C-4707-9B52-813583FB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3A0-6B97-4FFC-8341-79745A4B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4DF-B45A-473F-AAAA-C42EB61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359-86F5-4246-BDDA-F78EC532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1F6-9BA6-41CB-AE5B-68F63138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0D9-5623-411B-B1DC-05453C18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AE2-050B-429C-B928-AB634D9A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407-509C-46B3-85DF-60B574D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689-6B4D-49C4-ADA7-5B7CF8CA63E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000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and Sites of Action of Different Agonists  Drugs (Stimulant or Relaxant) on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ed Rabbit Intest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1428840"/>
            <a:ext cx="7643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Stimulant Drugs (Spasmogenic)</a:t>
            </a: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Direct smooth muscle stimul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Barium Chlor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l2 stimulates the muscle fiber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muscle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hibitory drugs (Spasmolytic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Autonomic adrenergic stimul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drenaline, Noradrenal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aline will stimulat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and ß 2 receptors in the intestinal smooth musc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s tone and mot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 intestinal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hibitory drugs (Spasmolyt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Direct Inhibitory Drug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ver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 :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hibits the contraction of muscle fiber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 relax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nervous control of intestine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7120" y="1357200"/>
            <a:ext cx="7467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مربع نص 28"/>
          <p:cNvSpPr/>
          <p:nvPr/>
        </p:nvSpPr>
        <p:spPr>
          <a:xfrm>
            <a:off x="571680" y="142884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st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omposed of(duodenum,jejunum,ileum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مربع نص 29"/>
          <p:cNvSpPr/>
          <p:nvPr/>
        </p:nvSpPr>
        <p:spPr>
          <a:xfrm>
            <a:off x="571680" y="2971800"/>
            <a:ext cx="71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Smooth muscle h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ogenic contraction (i.e. spontaneous rhythmic contrac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B this rhythmicity due to its pendular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مربع نص 30"/>
          <p:cNvSpPr/>
          <p:nvPr/>
        </p:nvSpPr>
        <p:spPr>
          <a:xfrm>
            <a:off x="642960" y="47149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voluntary muscle undergoes the control of nervous system(sympathetic and parasympatheti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عنصر نائب للمحتوى 3" descr="http://traditionalnutritional.files.wordpress.com/2009/06/intestine3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intestine innervated by AN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447920"/>
            <a:ext cx="396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athet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tter: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adrenalin mainly, Adrenal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ptors present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ntestine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,B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y (↓contraction)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xa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765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sympathe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(Ach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n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peripheral: muscarini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atory (↑contraction)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ypes of receptors present in the intest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57120" y="200016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rgic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inergic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imulant Drugs (Spasmogen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85480" y="1071720"/>
            <a:ext cx="8286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 Autonomic cholinergic stimulants , act 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Neuronal recepto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Nicotine (small doses)= Diluted Nicot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luted Nicotine activates Nn receptors in the cell membrane. This will activate Na+/K+ chann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+ influ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intracellular 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  depolar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smooth muscle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Receptors (M3 subtypes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holinomimet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Acetylcholine or its derivative 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.g. .Methacholine, Bethanecol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acho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turally occurring alkaloid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ilocarp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1599840"/>
            <a:ext cx="8643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80000"/>
              </a:lnSpc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binds with M3 receptors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tivation of PL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lipase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C hydrolyzes PIP2(phosphotidyl inositol biphosphate) into DAG and IP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G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cylglyce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P3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sitol triphosph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599840"/>
            <a:ext cx="85723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G activates Ca+ + channel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intracellular Ca+ +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3 increase Ca+ + release from intracellular stor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,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intracellular Ca+ +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stinal smooth musc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37:00Z</dcterms:created>
  <dc:creator>marwa</dc:creator>
  <dc:description/>
  <dc:language>en-US</dc:language>
  <cp:lastModifiedBy>Hana</cp:lastModifiedBy>
  <dcterms:modified xsi:type="dcterms:W3CDTF">2010-10-13T03:25:44Z</dcterms:modified>
  <cp:revision>42</cp:revision>
  <dc:subject/>
  <dc:title>Effects and Sites of Action of Different Agonists  Drugs (Stimulant or Relaxant)on The Isolated rabbit intestine</dc:title>
</cp:coreProperties>
</file>