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701D-CD45-44A3-81DF-187C6AD23DB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D3C4-3A31-4562-B445-00AB721CED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1ABD-37BD-4997-9119-57EA8365065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68DA-8C91-4217-B9F7-3475795D6CF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63FF-072C-4013-9723-FFE110E52B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31B7-915A-48B5-B138-7E6ABA24AB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2AF-B63A-4412-A724-A4ED6CD0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C24-4EAC-4587-B95D-AF9CC616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73BD-E7FE-4493-98F5-5A9ADA85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8BB5-40C7-495B-9EC7-055FC2F2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F26E-3546-454E-A3BC-BFFC99EF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F3B2-ED51-4730-893D-F7CB358D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A60-6BA8-400E-B4AE-7A4309A8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4FB-188C-4958-8659-F74BFEE4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5F1-9902-4ABE-BBA0-AFDA565B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D16B-0432-40D6-A8CC-15F79FF7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9DAF-34FF-4367-A7E5-C5F091C1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7E0-2118-4D53-B405-A0FC667D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0B85-1E68-4554-9BF7-2988D412571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300024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and Sites of Action of Different Agonists  Drugs (Stimulant or Relaxant) on Th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lated Rabbit Intesti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3880" y="1428840"/>
            <a:ext cx="76438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13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b # 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900" spc="-1" strike="noStrike">
                <a:solidFill>
                  <a:srgbClr val="ffff00"/>
                </a:solidFill>
                <a:latin typeface="Times New Roman"/>
              </a:rPr>
              <a:t>Stimulant Drugs (Spasmogenic)</a:t>
            </a:r>
            <a:r>
              <a:rPr b="1" lang="en-US" sz="29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Direct smooth muscle stimulant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Barium Chlori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chanism of Actio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l2 stimulates the muscle fiber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crease muscle contr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hibitory drugs (Spasmolytic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840" y="1600200"/>
            <a:ext cx="85723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Autonomic adrenergic stimulant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Adrenaline, Noradrenal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chanism of Actio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aline will stimulate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and ß 2 receptors in the intestinal smooth musc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ibits tone and moti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rease intestinal contr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hibitory drugs (Spasmolytic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Direct Inhibitory Drug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 Mg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aver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chanism of Action :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hibits the contraction of muscle fiber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cle relax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nervous control of intestine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7120" y="1357200"/>
            <a:ext cx="74678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  <a:ea typeface="PMingLiU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مربع نص 28"/>
          <p:cNvSpPr/>
          <p:nvPr/>
        </p:nvSpPr>
        <p:spPr>
          <a:xfrm>
            <a:off x="571680" y="1428840"/>
            <a:ext cx="7086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st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omposed of(duodenum,jejunum,ileum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مربع نص 29"/>
          <p:cNvSpPr/>
          <p:nvPr/>
        </p:nvSpPr>
        <p:spPr>
          <a:xfrm>
            <a:off x="571680" y="2971800"/>
            <a:ext cx="71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a Smooth muscle ha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ogenic contraction (i.e. spontaneous rhythmic contrac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.B this rhythmicity due to its pendular mo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مربع نص 30"/>
          <p:cNvSpPr/>
          <p:nvPr/>
        </p:nvSpPr>
        <p:spPr>
          <a:xfrm>
            <a:off x="642960" y="4714920"/>
            <a:ext cx="61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involuntary muscle undergoes the control of nervous system(sympathetic and parasympatheti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عنصر نائب للمحتوى 3" descr="http://traditionalnutritional.files.wordpress.com/2009/06/intestine3.jpg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intestine innervated by AN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1447920"/>
            <a:ext cx="3962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mpathetic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mitter:</a:t>
            </a:r>
            <a:r>
              <a:rPr b="0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adrenalin mainly, Adrenaline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eptors present 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intestine)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ergi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,B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o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ibitory (↓contraction)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xation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876560" y="137160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asympathet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tylcholine (Ach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inergic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cotinic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Nn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 peripheral: muscarinic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M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itatory (↑contraction)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tra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ypes of receptors present in the intestin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57120" y="2000160"/>
            <a:ext cx="6553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ergi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inergi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minergic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inergi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otinergic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imulant Drugs (Spasmogenic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85480" y="1071720"/>
            <a:ext cx="82868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- Autonomic cholinergic stimulants , act 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cotinic Neuronal receptor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Nicotine (small doses)= Diluted Nicot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chanism of Action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luted Nicotine activates Nn receptors in the cell membrane. This will activate Na+/K+ channe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+ influ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intracellular 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  depolariz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stinal smooth muscle contr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carinic Receptors (M3 subtypes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Cholinomimetic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Acetylcholine or its derivative 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.g. .Methacholine, Bethanecol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acho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Naturally occurring alkaloid 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Pilocarpin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3840" y="1599840"/>
            <a:ext cx="86439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chanism of Action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80000"/>
              </a:lnSpc>
              <a:spcBef>
                <a:spcPts val="7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tylcholine binds with M3 receptors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tivation of PL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lipase 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C hydrolyzes PIP2(phosphotidyl inositol biphosphate) into DAG and IP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AG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cylglyce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P3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sitol triphosph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743040" indent="-7430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5840" y="1599840"/>
            <a:ext cx="85723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G activates Ca+ + channel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crease intracellular Ca+ +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3 increase Ca+ + release from intracellular stor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,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crease intracellular Ca+ + </a:t>
            </a: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stinal smooth musc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action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7:37:00Z</dcterms:created>
  <dc:creator>marwa</dc:creator>
  <dc:description/>
  <dc:language>en-US</dc:language>
  <cp:lastModifiedBy>Hana</cp:lastModifiedBy>
  <dcterms:modified xsi:type="dcterms:W3CDTF">2010-10-13T03:25:44Z</dcterms:modified>
  <cp:revision>42</cp:revision>
  <dc:subject/>
  <dc:title>Effects and Sites of Action of Different Agonists  Drugs (Stimulant or Relaxant)on The Isolated rabbit intestine</dc:title>
</cp:coreProperties>
</file>