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28CFF03-F65A-4C40-B15E-4BA8B42DA32A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842923B-E06C-440C-AE6C-C46C937F27F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458B760-B609-4CC3-A601-07BB9730408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DC7DCE4-4054-4B28-8C30-8E7097B243A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B09EFB4-B86D-43F0-8C70-02D1297A6AB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6ED7AB5-EF19-491B-8FC5-C0DFC9BDE82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673154E-29F9-4D40-BA8C-4FA8EC54938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0" y="6638760"/>
            <a:ext cx="80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n 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c5: Applying Dynamic Routing Protocols in CISCO Packet Tracer </a:t>
            </a:r>
            <a:endParaRPr b="1" lang="en-US" sz="26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708ca1"/>
                </a:solidFill>
                <a:latin typeface="Arial"/>
              </a:rPr>
              <a:t>Applying Dynamic Routing Protocols on R1,R2,R3,R4</a:t>
            </a:r>
            <a:endParaRPr b="1" lang="en-US" sz="5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ar-S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RI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3400" y="1557360"/>
            <a:ext cx="38944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1 with RI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27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41280" y="2739960"/>
            <a:ext cx="4267800" cy="316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router r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network 1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network 2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exi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IGR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3400" y="1557360"/>
            <a:ext cx="38944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2 with IGR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40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93480" y="2428200"/>
            <a:ext cx="4267800" cy="389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r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igrp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2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3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100 is Autonoms System (AS)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2040" y="1758960"/>
            <a:ext cx="38923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3 with EIGR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53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520560" y="3036240"/>
            <a:ext cx="4267800" cy="292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router eigrp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network 3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network 4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3680" y="5731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OSPF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372600" y="1287360"/>
            <a:ext cx="8291160" cy="973800"/>
          </a:xfrm>
          <a:prstGeom prst="rect">
            <a:avLst/>
          </a:prstGeom>
          <a:solidFill>
            <a:srgbClr val="ff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</a:rPr>
              <a:t>Router(config)# router ospf process_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</a:rPr>
              <a:t>Router(config-router)# network IP_address wildcard_mask area area_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4"/>
          <p:cNvSpPr/>
          <p:nvPr/>
        </p:nvSpPr>
        <p:spPr>
          <a:xfrm>
            <a:off x="282600" y="2260440"/>
            <a:ext cx="847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process_ID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 Used to differentiate between OSPF processes running on the same ro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Your router might be a boundary router between two OSPF autonomous systems, and to differentiate them on your router, you will give them unique process 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te that these numbers do not need to match between different routers so they have nothing to do with autonomous syste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OSPF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8920" y="186192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2 with OSPF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static route configurations"/>
          <p:cNvPicPr/>
          <p:nvPr/>
        </p:nvPicPr>
        <p:blipFill>
          <a:blip r:embed="rId1"/>
          <a:srcRect l="0" t="2040" r="4890" b="44544"/>
          <a:stretch/>
        </p:blipFill>
        <p:spPr>
          <a:xfrm>
            <a:off x="4143240" y="1049400"/>
            <a:ext cx="3911760" cy="2163600"/>
          </a:xfrm>
          <a:prstGeom prst="rect">
            <a:avLst/>
          </a:prstGeom>
          <a:ln w="0">
            <a:noFill/>
          </a:ln>
        </p:spPr>
      </p:pic>
      <p:sp>
        <p:nvSpPr>
          <p:cNvPr id="169" name="مربع نص 3"/>
          <p:cNvSpPr/>
          <p:nvPr/>
        </p:nvSpPr>
        <p:spPr>
          <a:xfrm>
            <a:off x="4241880" y="1617840"/>
            <a:ext cx="56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ربع نص 5"/>
          <p:cNvSpPr/>
          <p:nvPr/>
        </p:nvSpPr>
        <p:spPr>
          <a:xfrm>
            <a:off x="7329600" y="16178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ربع نص 6"/>
          <p:cNvSpPr/>
          <p:nvPr/>
        </p:nvSpPr>
        <p:spPr>
          <a:xfrm>
            <a:off x="6159600" y="3205080"/>
            <a:ext cx="861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ربع نص 7"/>
          <p:cNvSpPr/>
          <p:nvPr/>
        </p:nvSpPr>
        <p:spPr>
          <a:xfrm>
            <a:off x="5486400" y="322596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مربع نص 12"/>
          <p:cNvSpPr/>
          <p:nvPr/>
        </p:nvSpPr>
        <p:spPr>
          <a:xfrm>
            <a:off x="5557680" y="853920"/>
            <a:ext cx="1089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مربع نص 13"/>
          <p:cNvSpPr/>
          <p:nvPr/>
        </p:nvSpPr>
        <p:spPr>
          <a:xfrm>
            <a:off x="4241880" y="2249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مربع نص 15"/>
          <p:cNvSpPr/>
          <p:nvPr/>
        </p:nvSpPr>
        <p:spPr>
          <a:xfrm>
            <a:off x="7243920" y="2386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109440" y="3075120"/>
            <a:ext cx="6159600" cy="389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ospf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20.0.0.0 0.255.255.255 area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30.0.0.0 0.255.255.255 area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12440" y="-341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fferent Routing Command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8280" y="620640"/>
          <a:ext cx="8809200" cy="6656400"/>
        </p:xfrm>
        <a:graphic>
          <a:graphicData uri="http://schemas.openxmlformats.org/drawingml/2006/table">
            <a:tbl>
              <a:tblPr/>
              <a:tblGrid>
                <a:gridCol w="4353120"/>
                <a:gridCol w="4456080"/>
              </a:tblGrid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)#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RIP as a routing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76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etwork w.x.y.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x.y.z is the network number of the directly connected network you want to adverti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)#no 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s off the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network w.x.y.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s network w.x.y.z from the RIP routing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vers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will now send and receive RIPv2 packets global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versio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will now send and receive RIPv1 packe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68076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auto-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v2 summarizes networks at the classful boundary. This command turns autosummarization of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passive-interface s0/0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updates will not be sent out this interf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ip split-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s off split horizon (on by default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ip split-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enables split 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132012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timers basic 30 90 180 270 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imers in RIP: 30 = Update timer (in seconds) 90 = Invalid timer (in seconds) 180 = Hold-down timer (in seconds) 270 = Flush timer (in seconds) 360 = Sleep time (in milliseco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#debug ip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all RIP activity in real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#show ip rip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contents of the RIP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18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18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0" r="1097" b="2001"/>
          <a:stretch/>
        </p:blipFill>
        <p:spPr>
          <a:xfrm>
            <a:off x="399960" y="74520"/>
            <a:ext cx="800424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12360"/>
            <a:ext cx="75693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G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-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3213000" y="909720"/>
            <a:ext cx="5499360" cy="5697360"/>
          </a:xfrm>
          <a:prstGeom prst="rect">
            <a:avLst/>
          </a:prstGeom>
          <a:ln w="0">
            <a:noFill/>
          </a:ln>
        </p:spPr>
      </p:pic>
      <p:sp>
        <p:nvSpPr>
          <p:cNvPr id="99" name="مربع نص 4"/>
          <p:cNvSpPr/>
          <p:nvPr/>
        </p:nvSpPr>
        <p:spPr>
          <a:xfrm>
            <a:off x="3451320" y="1995480"/>
            <a:ext cx="108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8"/>
          <p:cNvSpPr/>
          <p:nvPr/>
        </p:nvSpPr>
        <p:spPr>
          <a:xfrm>
            <a:off x="5167440" y="140652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9"/>
          <p:cNvSpPr/>
          <p:nvPr/>
        </p:nvSpPr>
        <p:spPr>
          <a:xfrm rot="3669000">
            <a:off x="4367520" y="2936880"/>
            <a:ext cx="86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10"/>
          <p:cNvSpPr/>
          <p:nvPr/>
        </p:nvSpPr>
        <p:spPr>
          <a:xfrm rot="18758400">
            <a:off x="3998520" y="425592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11"/>
          <p:cNvSpPr/>
          <p:nvPr/>
        </p:nvSpPr>
        <p:spPr>
          <a:xfrm rot="18215400">
            <a:off x="6706440" y="2853360"/>
            <a:ext cx="84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12"/>
          <p:cNvSpPr/>
          <p:nvPr/>
        </p:nvSpPr>
        <p:spPr>
          <a:xfrm rot="2961600">
            <a:off x="7274160" y="446220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13"/>
          <p:cNvSpPr/>
          <p:nvPr/>
        </p:nvSpPr>
        <p:spPr>
          <a:xfrm>
            <a:off x="4940280" y="435132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ربع نص 14"/>
          <p:cNvSpPr/>
          <p:nvPr/>
        </p:nvSpPr>
        <p:spPr>
          <a:xfrm>
            <a:off x="7632720" y="202392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ربع نص 15"/>
          <p:cNvSpPr/>
          <p:nvPr/>
        </p:nvSpPr>
        <p:spPr>
          <a:xfrm>
            <a:off x="6356520" y="4454640"/>
            <a:ext cx="107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16"/>
          <p:cNvSpPr/>
          <p:nvPr/>
        </p:nvSpPr>
        <p:spPr>
          <a:xfrm>
            <a:off x="250920" y="2133720"/>
            <a:ext cx="347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6289"/>
                </a:solidFill>
                <a:latin typeface="Arial"/>
              </a:rPr>
              <a:t>Configure the following network with different routing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صورة 3" descr=""/>
          <p:cNvPicPr/>
          <p:nvPr/>
        </p:nvPicPr>
        <p:blipFill>
          <a:blip r:embed="rId1"/>
          <a:srcRect l="13931" t="23435" r="16515" b="25953"/>
          <a:stretch/>
        </p:blipFill>
        <p:spPr>
          <a:xfrm>
            <a:off x="0" y="1747800"/>
            <a:ext cx="9050400" cy="3510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4"/>
          <p:cNvSpPr/>
          <p:nvPr/>
        </p:nvSpPr>
        <p:spPr>
          <a:xfrm>
            <a:off x="6853320" y="297180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1 (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5"/>
          <p:cNvSpPr/>
          <p:nvPr/>
        </p:nvSpPr>
        <p:spPr>
          <a:xfrm>
            <a:off x="2241720" y="1806480"/>
            <a:ext cx="1029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0 (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6"/>
          <p:cNvSpPr/>
          <p:nvPr/>
        </p:nvSpPr>
        <p:spPr>
          <a:xfrm>
            <a:off x="6759720" y="181944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3 (R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ربع نص 7"/>
          <p:cNvSpPr/>
          <p:nvPr/>
        </p:nvSpPr>
        <p:spPr>
          <a:xfrm>
            <a:off x="2340000" y="299232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2 (R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82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1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6600" y="367560"/>
            <a:ext cx="8682120" cy="657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ip address 1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interface serial 0/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ip address 2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3880" y="-336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2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131760" y="525240"/>
            <a:ext cx="8610480" cy="6206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ip address 2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ip address 3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0" y="-314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3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35000" y="196920"/>
            <a:ext cx="8840880" cy="693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3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4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exit 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00" y="-3268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4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35000" y="196920"/>
            <a:ext cx="8840880" cy="693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5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4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exit 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s aas</cp:lastModifiedBy>
  <cp:lastPrinted>1999-01-27T00:54:54Z</cp:lastPrinted>
  <dcterms:modified xsi:type="dcterms:W3CDTF">2016-02-28T19:47:23Z</dcterms:modified>
  <cp:revision>352</cp:revision>
  <dc:subject/>
  <dc:title>Introduction to Dynamic Routing Protoc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