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636530DD-F608-4B00-BD87-3871EB7D1E82}" type="slidenum"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Img"/>
          </p:nvPr>
        </p:nvSpPr>
        <p:spPr>
          <a:xfrm>
            <a:off x="855720" y="23940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ED81BD1F-E021-4433-AF53-32AC00033C1E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858960" y="239760"/>
            <a:ext cx="5199120" cy="38988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396360" y="4277880"/>
            <a:ext cx="5985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GB" sz="1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D606907E-C9EE-4236-B010-A0E11F08D992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ar-SA" sz="1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95AC5A36-1B69-4A94-AD42-731DB302F595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ar-SA" sz="1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ar-SA" sz="1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5" name="عنصر نائب لرقم الشريحة 3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18836F60-87C2-4499-A986-C8654BE33C03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" name="Rectangle 4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92841C53-436A-4EFD-9245-23F3771AB1B0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6" descr="PPt_TopBand_Artwork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7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PPt_CoverArt1"/>
          <p:cNvPicPr/>
          <p:nvPr/>
        </p:nvPicPr>
        <p:blipFill>
          <a:blip r:embed="rId2"/>
          <a:stretch/>
        </p:blipFill>
        <p:spPr>
          <a:xfrm>
            <a:off x="0" y="1893960"/>
            <a:ext cx="9140760" cy="2449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3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702D609E-E091-4020-ABEE-D7DE9ED6D748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Cisco_NewLogo"/>
          <p:cNvPicPr/>
          <p:nvPr/>
        </p:nvPicPr>
        <p:blipFill>
          <a:blip r:embed="rId3"/>
          <a:stretch/>
        </p:blipFill>
        <p:spPr>
          <a:xfrm>
            <a:off x="5483160" y="5940360"/>
            <a:ext cx="3354480" cy="474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Cisco"/>
          <p:cNvPicPr/>
          <p:nvPr/>
        </p:nvPicPr>
        <p:blipFill>
          <a:blip r:embed="rId4"/>
          <a:stretch/>
        </p:blipFill>
        <p:spPr>
          <a:xfrm>
            <a:off x="246240" y="119160"/>
            <a:ext cx="1171440" cy="9046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1"/>
          <p:cNvSpPr/>
          <p:nvPr/>
        </p:nvSpPr>
        <p:spPr>
          <a:xfrm>
            <a:off x="0" y="6638760"/>
            <a:ext cx="8035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rsion 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c5: Applying Dynamic Routing Protocols in CISCO Packet Tracer </a:t>
            </a:r>
            <a:endParaRPr b="1" lang="en-US" sz="26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7886880" cy="285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5400" spc="-1" strike="noStrike">
                <a:solidFill>
                  <a:srgbClr val="708ca1"/>
                </a:solidFill>
                <a:latin typeface="Arial"/>
              </a:rPr>
              <a:t>Applying Dynamic Routing Protocols on R1,R2,R3,R4</a:t>
            </a:r>
            <a:endParaRPr b="1" lang="en-US" sz="54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ar-SA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3680" y="69372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400" spc="-1" strike="noStrike">
                <a:solidFill>
                  <a:srgbClr val="708ca1"/>
                </a:solidFill>
                <a:latin typeface="Arial"/>
              </a:rPr>
              <a:t>RIP</a:t>
            </a:r>
            <a:endParaRPr b="1" lang="en-US" sz="44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63400" y="1557360"/>
            <a:ext cx="38944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configure router R1 with RIP protoc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static route configurations"/>
          <p:cNvPicPr/>
          <p:nvPr/>
        </p:nvPicPr>
        <p:blipFill>
          <a:blip r:embed="rId1"/>
          <a:srcRect l="0" t="0" r="4890" b="0"/>
          <a:stretch/>
        </p:blipFill>
        <p:spPr>
          <a:xfrm>
            <a:off x="5016600" y="1490760"/>
            <a:ext cx="3911400" cy="4052880"/>
          </a:xfrm>
          <a:prstGeom prst="rect">
            <a:avLst/>
          </a:prstGeom>
          <a:ln w="0">
            <a:noFill/>
          </a:ln>
        </p:spPr>
      </p:pic>
      <p:sp>
        <p:nvSpPr>
          <p:cNvPr id="127" name="مربع نص 3"/>
          <p:cNvSpPr/>
          <p:nvPr/>
        </p:nvSpPr>
        <p:spPr>
          <a:xfrm>
            <a:off x="5114880" y="2141640"/>
            <a:ext cx="560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مربع نص 5"/>
          <p:cNvSpPr/>
          <p:nvPr/>
        </p:nvSpPr>
        <p:spPr>
          <a:xfrm>
            <a:off x="8202600" y="2141640"/>
            <a:ext cx="1089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مربع نص 6"/>
          <p:cNvSpPr/>
          <p:nvPr/>
        </p:nvSpPr>
        <p:spPr>
          <a:xfrm>
            <a:off x="7126200" y="3979800"/>
            <a:ext cx="862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مربع نص 7"/>
          <p:cNvSpPr/>
          <p:nvPr/>
        </p:nvSpPr>
        <p:spPr>
          <a:xfrm>
            <a:off x="6203880" y="3979800"/>
            <a:ext cx="9223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مربع نص 12"/>
          <p:cNvSpPr/>
          <p:nvPr/>
        </p:nvSpPr>
        <p:spPr>
          <a:xfrm>
            <a:off x="6431040" y="1378080"/>
            <a:ext cx="1089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.0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مربع نص 13"/>
          <p:cNvSpPr/>
          <p:nvPr/>
        </p:nvSpPr>
        <p:spPr>
          <a:xfrm>
            <a:off x="5114880" y="2773440"/>
            <a:ext cx="1089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.0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مربع نص 14"/>
          <p:cNvSpPr/>
          <p:nvPr/>
        </p:nvSpPr>
        <p:spPr>
          <a:xfrm>
            <a:off x="5021280" y="3730680"/>
            <a:ext cx="1089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0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مربع نص 15"/>
          <p:cNvSpPr/>
          <p:nvPr/>
        </p:nvSpPr>
        <p:spPr>
          <a:xfrm>
            <a:off x="8116920" y="2909880"/>
            <a:ext cx="1089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0.0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مربع نص 16"/>
          <p:cNvSpPr/>
          <p:nvPr/>
        </p:nvSpPr>
        <p:spPr>
          <a:xfrm>
            <a:off x="8116920" y="3882960"/>
            <a:ext cx="1089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.0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341280" y="2739960"/>
            <a:ext cx="4267800" cy="31640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1&gt;en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1#configure termin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1(config)#router ri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1(config-router)#network 10.0.0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1(config-router)#network 20.0.0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1(config-router)#exi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3680" y="69372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400" spc="-1" strike="noStrike">
                <a:solidFill>
                  <a:srgbClr val="708ca1"/>
                </a:solidFill>
                <a:latin typeface="Arial"/>
              </a:rPr>
              <a:t>IGRP</a:t>
            </a:r>
            <a:endParaRPr b="1" lang="en-US" sz="44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63400" y="1557360"/>
            <a:ext cx="38944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configure router R2 with IGRP protoc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static route configurations"/>
          <p:cNvPicPr/>
          <p:nvPr/>
        </p:nvPicPr>
        <p:blipFill>
          <a:blip r:embed="rId1"/>
          <a:srcRect l="0" t="0" r="4890" b="0"/>
          <a:stretch/>
        </p:blipFill>
        <p:spPr>
          <a:xfrm>
            <a:off x="5016600" y="1490760"/>
            <a:ext cx="3911400" cy="4052880"/>
          </a:xfrm>
          <a:prstGeom prst="rect">
            <a:avLst/>
          </a:prstGeom>
          <a:ln w="0">
            <a:noFill/>
          </a:ln>
        </p:spPr>
      </p:pic>
      <p:sp>
        <p:nvSpPr>
          <p:cNvPr id="140" name="مربع نص 3"/>
          <p:cNvSpPr/>
          <p:nvPr/>
        </p:nvSpPr>
        <p:spPr>
          <a:xfrm>
            <a:off x="5114880" y="2141640"/>
            <a:ext cx="560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مربع نص 5"/>
          <p:cNvSpPr/>
          <p:nvPr/>
        </p:nvSpPr>
        <p:spPr>
          <a:xfrm>
            <a:off x="8202600" y="2141640"/>
            <a:ext cx="1089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مربع نص 6"/>
          <p:cNvSpPr/>
          <p:nvPr/>
        </p:nvSpPr>
        <p:spPr>
          <a:xfrm>
            <a:off x="7126200" y="3979800"/>
            <a:ext cx="862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مربع نص 7"/>
          <p:cNvSpPr/>
          <p:nvPr/>
        </p:nvSpPr>
        <p:spPr>
          <a:xfrm>
            <a:off x="6203880" y="3979800"/>
            <a:ext cx="9223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مربع نص 12"/>
          <p:cNvSpPr/>
          <p:nvPr/>
        </p:nvSpPr>
        <p:spPr>
          <a:xfrm>
            <a:off x="6431040" y="1378080"/>
            <a:ext cx="1089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.0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مربع نص 13"/>
          <p:cNvSpPr/>
          <p:nvPr/>
        </p:nvSpPr>
        <p:spPr>
          <a:xfrm>
            <a:off x="5114880" y="2773440"/>
            <a:ext cx="1089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.0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مربع نص 14"/>
          <p:cNvSpPr/>
          <p:nvPr/>
        </p:nvSpPr>
        <p:spPr>
          <a:xfrm>
            <a:off x="5021280" y="3730680"/>
            <a:ext cx="1089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0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مربع نص 15"/>
          <p:cNvSpPr/>
          <p:nvPr/>
        </p:nvSpPr>
        <p:spPr>
          <a:xfrm>
            <a:off x="8116920" y="2909880"/>
            <a:ext cx="1089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0.0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مربع نص 16"/>
          <p:cNvSpPr/>
          <p:nvPr/>
        </p:nvSpPr>
        <p:spPr>
          <a:xfrm>
            <a:off x="8116920" y="3882960"/>
            <a:ext cx="1089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.0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393480" y="2428200"/>
            <a:ext cx="4267800" cy="3894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2&gt;en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2#configure termin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2(config)#router ri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2(config)#router igrp 10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2(config-router)#network 20.0.0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2(config-router)#network 30.0.0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2(config-router)#ex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100 is Autonoms System (AS)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3680" y="69372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400" spc="-1" strike="noStrike">
                <a:solidFill>
                  <a:srgbClr val="708ca1"/>
                </a:solidFill>
                <a:latin typeface="Arial"/>
              </a:rPr>
              <a:t>EIGRP</a:t>
            </a:r>
            <a:endParaRPr b="1" lang="en-US" sz="44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62040" y="1758960"/>
            <a:ext cx="38923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configure router R3 with EIGRP protoc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static route configurations"/>
          <p:cNvPicPr/>
          <p:nvPr/>
        </p:nvPicPr>
        <p:blipFill>
          <a:blip r:embed="rId1"/>
          <a:srcRect l="0" t="0" r="4890" b="0"/>
          <a:stretch/>
        </p:blipFill>
        <p:spPr>
          <a:xfrm>
            <a:off x="5016600" y="1490760"/>
            <a:ext cx="3911400" cy="4052880"/>
          </a:xfrm>
          <a:prstGeom prst="rect">
            <a:avLst/>
          </a:prstGeom>
          <a:ln w="0">
            <a:noFill/>
          </a:ln>
        </p:spPr>
      </p:pic>
      <p:sp>
        <p:nvSpPr>
          <p:cNvPr id="153" name="مربع نص 3"/>
          <p:cNvSpPr/>
          <p:nvPr/>
        </p:nvSpPr>
        <p:spPr>
          <a:xfrm>
            <a:off x="5114880" y="2141640"/>
            <a:ext cx="560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مربع نص 5"/>
          <p:cNvSpPr/>
          <p:nvPr/>
        </p:nvSpPr>
        <p:spPr>
          <a:xfrm>
            <a:off x="8202600" y="2141640"/>
            <a:ext cx="1089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مربع نص 6"/>
          <p:cNvSpPr/>
          <p:nvPr/>
        </p:nvSpPr>
        <p:spPr>
          <a:xfrm>
            <a:off x="7126200" y="3979800"/>
            <a:ext cx="862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مربع نص 7"/>
          <p:cNvSpPr/>
          <p:nvPr/>
        </p:nvSpPr>
        <p:spPr>
          <a:xfrm>
            <a:off x="6203880" y="3979800"/>
            <a:ext cx="9223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مربع نص 12"/>
          <p:cNvSpPr/>
          <p:nvPr/>
        </p:nvSpPr>
        <p:spPr>
          <a:xfrm>
            <a:off x="6431040" y="1378080"/>
            <a:ext cx="1089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.0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مربع نص 13"/>
          <p:cNvSpPr/>
          <p:nvPr/>
        </p:nvSpPr>
        <p:spPr>
          <a:xfrm>
            <a:off x="5114880" y="2773440"/>
            <a:ext cx="1089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.0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مربع نص 14"/>
          <p:cNvSpPr/>
          <p:nvPr/>
        </p:nvSpPr>
        <p:spPr>
          <a:xfrm>
            <a:off x="5021280" y="3730680"/>
            <a:ext cx="1089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0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مربع نص 15"/>
          <p:cNvSpPr/>
          <p:nvPr/>
        </p:nvSpPr>
        <p:spPr>
          <a:xfrm>
            <a:off x="8116920" y="2909880"/>
            <a:ext cx="1089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0.0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مربع نص 16"/>
          <p:cNvSpPr/>
          <p:nvPr/>
        </p:nvSpPr>
        <p:spPr>
          <a:xfrm>
            <a:off x="8116920" y="3882960"/>
            <a:ext cx="1089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.0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"/>
          <p:cNvSpPr/>
          <p:nvPr/>
        </p:nvSpPr>
        <p:spPr>
          <a:xfrm>
            <a:off x="520560" y="3036240"/>
            <a:ext cx="4267800" cy="2920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3&gt;en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3#configure termin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3(config)#router eigrp 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3(config-router)#network 30.0.0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3(config-router)#network 40.0.0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3(config-router)#ex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3680" y="57312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400" spc="-1" strike="noStrike">
                <a:solidFill>
                  <a:srgbClr val="708ca1"/>
                </a:solidFill>
                <a:latin typeface="Arial"/>
              </a:rPr>
              <a:t>OSPF</a:t>
            </a:r>
            <a:endParaRPr b="1" lang="en-US" sz="44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372600" y="1287360"/>
            <a:ext cx="8291160" cy="973800"/>
          </a:xfrm>
          <a:prstGeom prst="rect">
            <a:avLst/>
          </a:prstGeom>
          <a:solidFill>
            <a:srgbClr val="fff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nsolas"/>
              </a:rPr>
              <a:t>Router(config)# router ospf process_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nsolas"/>
              </a:rPr>
              <a:t>Router(config-router)# network IP_address wildcard_mask area area_#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مستطيل 4"/>
          <p:cNvSpPr/>
          <p:nvPr/>
        </p:nvSpPr>
        <p:spPr>
          <a:xfrm>
            <a:off x="282600" y="2260440"/>
            <a:ext cx="8470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The process_ID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 Used to differentiate between OSPF processes running on the same rou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Your router might be a boundary router between two OSPF autonomous systems, and to differentiate them on your router, you will give them unique process I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Note that these numbers do not need to match between different routers so they have nothing to do with autonomous system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3680" y="69372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400" spc="-1" strike="noStrike">
                <a:solidFill>
                  <a:srgbClr val="708ca1"/>
                </a:solidFill>
                <a:latin typeface="Arial"/>
              </a:rPr>
              <a:t>OSPF</a:t>
            </a:r>
            <a:endParaRPr b="1" lang="en-US" sz="44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78920" y="1861920"/>
            <a:ext cx="389412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configure router R2 with OSPF protoc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static route configurations"/>
          <p:cNvPicPr/>
          <p:nvPr/>
        </p:nvPicPr>
        <p:blipFill>
          <a:blip r:embed="rId1"/>
          <a:srcRect l="0" t="2040" r="4890" b="44544"/>
          <a:stretch/>
        </p:blipFill>
        <p:spPr>
          <a:xfrm>
            <a:off x="4143240" y="1049400"/>
            <a:ext cx="3911760" cy="2163600"/>
          </a:xfrm>
          <a:prstGeom prst="rect">
            <a:avLst/>
          </a:prstGeom>
          <a:ln w="0">
            <a:noFill/>
          </a:ln>
        </p:spPr>
      </p:pic>
      <p:sp>
        <p:nvSpPr>
          <p:cNvPr id="169" name="مربع نص 3"/>
          <p:cNvSpPr/>
          <p:nvPr/>
        </p:nvSpPr>
        <p:spPr>
          <a:xfrm>
            <a:off x="4241880" y="1617840"/>
            <a:ext cx="560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مربع نص 5"/>
          <p:cNvSpPr/>
          <p:nvPr/>
        </p:nvSpPr>
        <p:spPr>
          <a:xfrm>
            <a:off x="7329600" y="1617840"/>
            <a:ext cx="1089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مربع نص 6"/>
          <p:cNvSpPr/>
          <p:nvPr/>
        </p:nvSpPr>
        <p:spPr>
          <a:xfrm>
            <a:off x="6159600" y="3205080"/>
            <a:ext cx="8618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مربع نص 7"/>
          <p:cNvSpPr/>
          <p:nvPr/>
        </p:nvSpPr>
        <p:spPr>
          <a:xfrm>
            <a:off x="5486400" y="3225960"/>
            <a:ext cx="9223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مربع نص 12"/>
          <p:cNvSpPr/>
          <p:nvPr/>
        </p:nvSpPr>
        <p:spPr>
          <a:xfrm>
            <a:off x="5557680" y="853920"/>
            <a:ext cx="1089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.0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مربع نص 13"/>
          <p:cNvSpPr/>
          <p:nvPr/>
        </p:nvSpPr>
        <p:spPr>
          <a:xfrm>
            <a:off x="4241880" y="2249640"/>
            <a:ext cx="1089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.0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مربع نص 15"/>
          <p:cNvSpPr/>
          <p:nvPr/>
        </p:nvSpPr>
        <p:spPr>
          <a:xfrm>
            <a:off x="7243920" y="2386080"/>
            <a:ext cx="1089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0.0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"/>
          <p:cNvSpPr/>
          <p:nvPr/>
        </p:nvSpPr>
        <p:spPr>
          <a:xfrm>
            <a:off x="109440" y="3075120"/>
            <a:ext cx="6159600" cy="3894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2&gt;en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2#configure termin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2(config)#router ospf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2(config-router)#network 20.0.0.0 0.255.255.255 area 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2(config-router)#network 30.0.0.0 0.255.255.255 area 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2(config-router)#ex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12440" y="-341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Different Routing Command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98280" y="620640"/>
          <a:ext cx="8809200" cy="6656400"/>
        </p:xfrm>
        <a:graphic>
          <a:graphicData uri="http://schemas.openxmlformats.org/drawingml/2006/table">
            <a:tbl>
              <a:tblPr/>
              <a:tblGrid>
                <a:gridCol w="4353120"/>
                <a:gridCol w="4456080"/>
              </a:tblGrid>
              <a:tr h="361800">
                <a:tc>
                  <a:txBody>
                    <a:bodyPr lIns="20520" rIns="20520" tIns="20520" bIns="2052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a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 w="5760">
                      <a:solidFill>
                        <a:srgbClr val="0183b7"/>
                      </a:solidFill>
                    </a:lnL>
                    <a:lnR>
                      <a:noFill/>
                    </a:lnR>
                    <a:lnT w="5760">
                      <a:solidFill>
                        <a:srgbClr val="0183b7"/>
                      </a:solidFill>
                    </a:lnT>
                    <a:lnB w="5760">
                      <a:solidFill>
                        <a:srgbClr val="0183b7"/>
                      </a:solidFill>
                    </a:lnB>
                    <a:solidFill>
                      <a:srgbClr val="e7edf3"/>
                    </a:solidFill>
                  </a:tcPr>
                </a:tc>
                <a:tc>
                  <a:txBody>
                    <a:bodyPr lIns="20520" rIns="20520" tIns="20520" bIns="2052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 w="5760">
                      <a:solidFill>
                        <a:srgbClr val="0183b7"/>
                      </a:solidFill>
                    </a:lnR>
                    <a:lnT w="5760">
                      <a:solidFill>
                        <a:srgbClr val="0183b7"/>
                      </a:solidFill>
                    </a:lnT>
                    <a:lnB w="5760">
                      <a:solidFill>
                        <a:srgbClr val="0183b7"/>
                      </a:solidFill>
                    </a:lnB>
                    <a:solidFill>
                      <a:srgbClr val="e7edf3"/>
                    </a:solidFill>
                  </a:tcPr>
                </a:tc>
              </a:tr>
              <a:tr h="361080">
                <a:tc>
                  <a:txBody>
                    <a:bodyPr lIns="20520" rIns="20520" tIns="20520" bIns="2052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er(config)#router r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 w="5760">
                      <a:solidFill>
                        <a:srgbClr val="0183b7"/>
                      </a:solidFill>
                    </a:lnL>
                    <a:lnR>
                      <a:noFill/>
                    </a:lnR>
                    <a:lnT w="5760">
                      <a:solidFill>
                        <a:srgbClr val="0183b7"/>
                      </a:solidFill>
                    </a:lnT>
                    <a:lnB w="5760">
                      <a:solidFill>
                        <a:srgbClr val="0183b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520" rIns="20520" tIns="20520" bIns="2052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ables RIP as a routing protoc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 w="5760">
                      <a:solidFill>
                        <a:srgbClr val="0183b7"/>
                      </a:solidFill>
                    </a:lnR>
                    <a:lnT w="5760">
                      <a:solidFill>
                        <a:srgbClr val="0183b7"/>
                      </a:solidFill>
                    </a:lnT>
                    <a:lnB w="5760">
                      <a:solidFill>
                        <a:srgbClr val="0183b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0760">
                <a:tc>
                  <a:txBody>
                    <a:bodyPr lIns="20520" rIns="20520" tIns="20520" bIns="2052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er(config-router)#network w.x.y.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 w="5760">
                      <a:solidFill>
                        <a:srgbClr val="0183b7"/>
                      </a:solidFill>
                    </a:lnL>
                    <a:lnR>
                      <a:noFill/>
                    </a:lnR>
                    <a:lnT w="5760">
                      <a:solidFill>
                        <a:srgbClr val="0183b7"/>
                      </a:solidFill>
                    </a:lnT>
                    <a:lnB w="5760">
                      <a:solidFill>
                        <a:srgbClr val="0183b7"/>
                      </a:solidFill>
                    </a:lnB>
                    <a:solidFill>
                      <a:srgbClr val="e7edf3"/>
                    </a:solidFill>
                  </a:tcPr>
                </a:tc>
                <a:tc>
                  <a:txBody>
                    <a:bodyPr lIns="20520" rIns="20520" tIns="20520" bIns="2052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.x.y.z is the network number of the directly connected network you want to advertis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 w="5760">
                      <a:solidFill>
                        <a:srgbClr val="0183b7"/>
                      </a:solidFill>
                    </a:lnR>
                    <a:lnT w="5760">
                      <a:solidFill>
                        <a:srgbClr val="0183b7"/>
                      </a:solidFill>
                    </a:lnT>
                    <a:lnB w="5760">
                      <a:solidFill>
                        <a:srgbClr val="0183b7"/>
                      </a:solidFill>
                    </a:lnB>
                    <a:solidFill>
                      <a:srgbClr val="e7edf3"/>
                    </a:solidFill>
                  </a:tcPr>
                </a:tc>
              </a:tr>
              <a:tr h="361800">
                <a:tc>
                  <a:txBody>
                    <a:bodyPr lIns="20520" rIns="20520" tIns="20520" bIns="2052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er(config)#no router r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 w="5760">
                      <a:solidFill>
                        <a:srgbClr val="0183b7"/>
                      </a:solidFill>
                    </a:lnL>
                    <a:lnR>
                      <a:noFill/>
                    </a:lnR>
                    <a:lnT w="5760">
                      <a:solidFill>
                        <a:srgbClr val="0183b7"/>
                      </a:solidFill>
                    </a:lnT>
                    <a:lnB w="5760">
                      <a:solidFill>
                        <a:srgbClr val="0183b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520" rIns="20520" tIns="20520" bIns="2052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ns off the RIP routing pro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 w="5760">
                      <a:solidFill>
                        <a:srgbClr val="0183b7"/>
                      </a:solidFill>
                    </a:lnR>
                    <a:lnT w="5760">
                      <a:solidFill>
                        <a:srgbClr val="0183b7"/>
                      </a:solidFill>
                    </a:lnT>
                    <a:lnB w="5760">
                      <a:solidFill>
                        <a:srgbClr val="0183b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1080">
                <a:tc>
                  <a:txBody>
                    <a:bodyPr lIns="20520" rIns="20520" tIns="20520" bIns="2052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er(config-router)#no network w.x.y.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 w="5760">
                      <a:solidFill>
                        <a:srgbClr val="0183b7"/>
                      </a:solidFill>
                    </a:lnL>
                    <a:lnR>
                      <a:noFill/>
                    </a:lnR>
                    <a:lnT w="5760">
                      <a:solidFill>
                        <a:srgbClr val="0183b7"/>
                      </a:solidFill>
                    </a:lnT>
                    <a:lnB w="5760">
                      <a:solidFill>
                        <a:srgbClr val="0183b7"/>
                      </a:solidFill>
                    </a:lnB>
                    <a:solidFill>
                      <a:srgbClr val="e7edf3"/>
                    </a:solidFill>
                  </a:tcPr>
                </a:tc>
                <a:tc>
                  <a:txBody>
                    <a:bodyPr lIns="20520" rIns="20520" tIns="20520" bIns="2052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oves network w.x.y.z from the RIP routing proces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 w="5760">
                      <a:solidFill>
                        <a:srgbClr val="0183b7"/>
                      </a:solidFill>
                    </a:lnR>
                    <a:lnT w="5760">
                      <a:solidFill>
                        <a:srgbClr val="0183b7"/>
                      </a:solidFill>
                    </a:lnT>
                    <a:lnB w="5760">
                      <a:solidFill>
                        <a:srgbClr val="0183b7"/>
                      </a:solidFill>
                    </a:lnB>
                    <a:solidFill>
                      <a:srgbClr val="e7edf3"/>
                    </a:solidFill>
                  </a:tcPr>
                </a:tc>
              </a:tr>
              <a:tr h="361440">
                <a:tc>
                  <a:txBody>
                    <a:bodyPr lIns="20520" rIns="20520" tIns="20520" bIns="2052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er(config-router)#version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 w="5760">
                      <a:solidFill>
                        <a:srgbClr val="0183b7"/>
                      </a:solidFill>
                    </a:lnL>
                    <a:lnR>
                      <a:noFill/>
                    </a:lnR>
                    <a:lnT w="5760">
                      <a:solidFill>
                        <a:srgbClr val="0183b7"/>
                      </a:solidFill>
                    </a:lnT>
                    <a:lnB w="5760">
                      <a:solidFill>
                        <a:srgbClr val="0183b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520" rIns="20520" tIns="20520" bIns="2052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P will now send and receive RIPv2 packets globall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 w="5760">
                      <a:solidFill>
                        <a:srgbClr val="0183b7"/>
                      </a:solidFill>
                    </a:lnR>
                    <a:lnT w="5760">
                      <a:solidFill>
                        <a:srgbClr val="0183b7"/>
                      </a:solidFill>
                    </a:lnT>
                    <a:lnB w="5760">
                      <a:solidFill>
                        <a:srgbClr val="0183b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1080">
                <a:tc>
                  <a:txBody>
                    <a:bodyPr lIns="20520" rIns="20520" tIns="20520" bIns="2052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er(config-router)#version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 w="5760">
                      <a:solidFill>
                        <a:srgbClr val="0183b7"/>
                      </a:solidFill>
                    </a:lnL>
                    <a:lnR>
                      <a:noFill/>
                    </a:lnR>
                    <a:lnT w="5760">
                      <a:solidFill>
                        <a:srgbClr val="0183b7"/>
                      </a:solidFill>
                    </a:lnT>
                    <a:lnB w="5760">
                      <a:solidFill>
                        <a:srgbClr val="0183b7"/>
                      </a:solidFill>
                    </a:lnB>
                    <a:solidFill>
                      <a:srgbClr val="e7edf3"/>
                    </a:solidFill>
                  </a:tcPr>
                </a:tc>
                <a:tc>
                  <a:txBody>
                    <a:bodyPr lIns="20520" rIns="20520" tIns="20520" bIns="2052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P will now send and receive RIPv1 packets on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 w="5760">
                      <a:solidFill>
                        <a:srgbClr val="0183b7"/>
                      </a:solidFill>
                    </a:lnR>
                    <a:lnT w="5760">
                      <a:solidFill>
                        <a:srgbClr val="0183b7"/>
                      </a:solidFill>
                    </a:lnT>
                    <a:lnB w="5760">
                      <a:solidFill>
                        <a:srgbClr val="0183b7"/>
                      </a:solidFill>
                    </a:lnB>
                    <a:solidFill>
                      <a:srgbClr val="e7edf3"/>
                    </a:solidFill>
                  </a:tcPr>
                </a:tc>
              </a:tr>
              <a:tr h="680760">
                <a:tc>
                  <a:txBody>
                    <a:bodyPr lIns="20520" rIns="20520" tIns="20520" bIns="2052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er(config-router)#no auto-sum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 w="5760">
                      <a:solidFill>
                        <a:srgbClr val="0183b7"/>
                      </a:solidFill>
                    </a:lnL>
                    <a:lnR>
                      <a:noFill/>
                    </a:lnR>
                    <a:lnT w="5760">
                      <a:solidFill>
                        <a:srgbClr val="0183b7"/>
                      </a:solidFill>
                    </a:lnT>
                    <a:lnB w="5760">
                      <a:solidFill>
                        <a:srgbClr val="0183b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520" rIns="20520" tIns="20520" bIns="2052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Pv2 summarizes networks at the classful boundary. This command turns autosummarization off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 w="5760">
                      <a:solidFill>
                        <a:srgbClr val="0183b7"/>
                      </a:solidFill>
                    </a:lnR>
                    <a:lnT w="5760">
                      <a:solidFill>
                        <a:srgbClr val="0183b7"/>
                      </a:solidFill>
                    </a:lnT>
                    <a:lnB w="5760">
                      <a:solidFill>
                        <a:srgbClr val="0183b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1440">
                <a:tc>
                  <a:txBody>
                    <a:bodyPr lIns="20520" rIns="20520" tIns="20520" bIns="2052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er(config-router)#passive-interface s0/0/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 w="5760">
                      <a:solidFill>
                        <a:srgbClr val="0183b7"/>
                      </a:solidFill>
                    </a:lnL>
                    <a:lnR>
                      <a:noFill/>
                    </a:lnR>
                    <a:lnT w="5760">
                      <a:solidFill>
                        <a:srgbClr val="0183b7"/>
                      </a:solidFill>
                    </a:lnT>
                    <a:lnB w="5760">
                      <a:solidFill>
                        <a:srgbClr val="0183b7"/>
                      </a:solidFill>
                    </a:lnB>
                    <a:solidFill>
                      <a:srgbClr val="e7edf3"/>
                    </a:solidFill>
                  </a:tcPr>
                </a:tc>
                <a:tc>
                  <a:txBody>
                    <a:bodyPr lIns="20520" rIns="20520" tIns="20520" bIns="2052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P updates will not be sent out this interfac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 w="5760">
                      <a:solidFill>
                        <a:srgbClr val="0183b7"/>
                      </a:solidFill>
                    </a:lnR>
                    <a:lnT w="5760">
                      <a:solidFill>
                        <a:srgbClr val="0183b7"/>
                      </a:solidFill>
                    </a:lnT>
                    <a:lnB w="5760">
                      <a:solidFill>
                        <a:srgbClr val="0183b7"/>
                      </a:solidFill>
                    </a:lnB>
                    <a:solidFill>
                      <a:srgbClr val="e7edf3"/>
                    </a:solidFill>
                  </a:tcPr>
                </a:tc>
              </a:tr>
              <a:tr h="361080">
                <a:tc>
                  <a:txBody>
                    <a:bodyPr lIns="20520" rIns="20520" tIns="20520" bIns="2052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er(config-router)#no ip split-horiz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 w="5760">
                      <a:solidFill>
                        <a:srgbClr val="0183b7"/>
                      </a:solidFill>
                    </a:lnL>
                    <a:lnR>
                      <a:noFill/>
                    </a:lnR>
                    <a:lnT w="5760">
                      <a:solidFill>
                        <a:srgbClr val="0183b7"/>
                      </a:solidFill>
                    </a:lnT>
                    <a:lnB w="5760">
                      <a:solidFill>
                        <a:srgbClr val="0183b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520" rIns="20520" tIns="20520" bIns="2052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ns off split horizon (on by default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 w="5760">
                      <a:solidFill>
                        <a:srgbClr val="0183b7"/>
                      </a:solidFill>
                    </a:lnR>
                    <a:lnT w="5760">
                      <a:solidFill>
                        <a:srgbClr val="0183b7"/>
                      </a:solidFill>
                    </a:lnT>
                    <a:lnB w="5760">
                      <a:solidFill>
                        <a:srgbClr val="0183b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1800">
                <a:tc>
                  <a:txBody>
                    <a:bodyPr lIns="20520" rIns="20520" tIns="20520" bIns="2052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er(config-router)#ip split-horiz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 w="5760">
                      <a:solidFill>
                        <a:srgbClr val="0183b7"/>
                      </a:solidFill>
                    </a:lnL>
                    <a:lnR>
                      <a:noFill/>
                    </a:lnR>
                    <a:lnT w="5760">
                      <a:solidFill>
                        <a:srgbClr val="0183b7"/>
                      </a:solidFill>
                    </a:lnT>
                    <a:lnB w="5760">
                      <a:solidFill>
                        <a:srgbClr val="0183b7"/>
                      </a:solidFill>
                    </a:lnB>
                    <a:solidFill>
                      <a:srgbClr val="e7edf3"/>
                    </a:solidFill>
                  </a:tcPr>
                </a:tc>
                <a:tc>
                  <a:txBody>
                    <a:bodyPr lIns="20520" rIns="20520" tIns="20520" bIns="2052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enables split horiz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 w="5760">
                      <a:solidFill>
                        <a:srgbClr val="0183b7"/>
                      </a:solidFill>
                    </a:lnR>
                    <a:lnT w="5760">
                      <a:solidFill>
                        <a:srgbClr val="0183b7"/>
                      </a:solidFill>
                    </a:lnT>
                    <a:lnB w="5760">
                      <a:solidFill>
                        <a:srgbClr val="0183b7"/>
                      </a:solidFill>
                    </a:lnB>
                    <a:solidFill>
                      <a:srgbClr val="e7edf3"/>
                    </a:solidFill>
                  </a:tcPr>
                </a:tc>
              </a:tr>
              <a:tr h="1320120">
                <a:tc>
                  <a:txBody>
                    <a:bodyPr lIns="20520" rIns="20520" tIns="20520" bIns="2052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er(config-router)#timers basic 30 90 180 270 3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 w="5760">
                      <a:solidFill>
                        <a:srgbClr val="0183b7"/>
                      </a:solidFill>
                    </a:lnL>
                    <a:lnR>
                      <a:noFill/>
                    </a:lnR>
                    <a:lnT w="5760">
                      <a:solidFill>
                        <a:srgbClr val="0183b7"/>
                      </a:solidFill>
                    </a:lnT>
                    <a:lnB w="5760">
                      <a:solidFill>
                        <a:srgbClr val="0183b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520" rIns="20520" tIns="20520" bIns="2052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s timers in RIP: 30 = Update timer (in seconds) 90 = Invalid timer (in seconds) 180 = Hold-down timer (in seconds) 270 = Flush timer (in seconds) 360 = Sleep time (in millisecond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 w="5760">
                      <a:solidFill>
                        <a:srgbClr val="0183b7"/>
                      </a:solidFill>
                    </a:lnR>
                    <a:lnT w="5760">
                      <a:solidFill>
                        <a:srgbClr val="0183b7"/>
                      </a:solidFill>
                    </a:lnT>
                    <a:lnB w="5760">
                      <a:solidFill>
                        <a:srgbClr val="0183b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1440">
                <a:tc>
                  <a:txBody>
                    <a:bodyPr lIns="20520" rIns="20520" tIns="20520" bIns="2052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er#debug ip r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 w="5760">
                      <a:solidFill>
                        <a:srgbClr val="0183b7"/>
                      </a:solidFill>
                    </a:lnL>
                    <a:lnR>
                      <a:noFill/>
                    </a:lnR>
                    <a:lnT w="5760">
                      <a:solidFill>
                        <a:srgbClr val="0183b7"/>
                      </a:solidFill>
                    </a:lnT>
                    <a:lnB w="5760">
                      <a:solidFill>
                        <a:srgbClr val="0183b7"/>
                      </a:solidFill>
                    </a:lnB>
                    <a:solidFill>
                      <a:srgbClr val="e7edf3"/>
                    </a:solidFill>
                  </a:tcPr>
                </a:tc>
                <a:tc>
                  <a:txBody>
                    <a:bodyPr lIns="20520" rIns="20520" tIns="20520" bIns="2052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lays all RIP activity in real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 w="5760">
                      <a:solidFill>
                        <a:srgbClr val="0183b7"/>
                      </a:solidFill>
                    </a:lnR>
                    <a:lnT w="5760">
                      <a:solidFill>
                        <a:srgbClr val="0183b7"/>
                      </a:solidFill>
                    </a:lnT>
                    <a:lnB w="5760">
                      <a:solidFill>
                        <a:srgbClr val="0183b7"/>
                      </a:solidFill>
                    </a:lnB>
                    <a:solidFill>
                      <a:srgbClr val="e7edf3"/>
                    </a:solidFill>
                  </a:tcPr>
                </a:tc>
              </a:tr>
              <a:tr h="361080">
                <a:tc>
                  <a:txBody>
                    <a:bodyPr lIns="20520" rIns="20520" tIns="20520" bIns="2052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er#show ip rip datab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 w="5760">
                      <a:solidFill>
                        <a:srgbClr val="0183b7"/>
                      </a:solidFill>
                    </a:lnL>
                    <a:lnR>
                      <a:noFill/>
                    </a:lnR>
                    <a:lnT w="5760">
                      <a:solidFill>
                        <a:srgbClr val="0183b7"/>
                      </a:solidFill>
                    </a:lnT>
                    <a:lnB w="5760">
                      <a:solidFill>
                        <a:srgbClr val="0183b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520" rIns="20520" tIns="20520" bIns="2052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lays contents of the RIP datab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0520" marR="20520">
                    <a:lnL>
                      <a:noFill/>
                    </a:lnL>
                    <a:lnR w="5760">
                      <a:solidFill>
                        <a:srgbClr val="0183b7"/>
                      </a:solidFill>
                    </a:lnR>
                    <a:lnT w="5760">
                      <a:solidFill>
                        <a:srgbClr val="0183b7"/>
                      </a:solidFill>
                    </a:lnT>
                    <a:lnB w="5760">
                      <a:solidFill>
                        <a:srgbClr val="0183b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0" y="0"/>
            <a:ext cx="9144000" cy="4382640"/>
            <a:chOff x="0" y="0"/>
            <a:chExt cx="9144000" cy="4382640"/>
          </a:xfrm>
        </p:grpSpPr>
        <p:grpSp>
          <p:nvGrpSpPr>
            <p:cNvPr id="180" name="Group 3"/>
            <p:cNvGrpSpPr/>
            <p:nvPr/>
          </p:nvGrpSpPr>
          <p:grpSpPr>
            <a:xfrm>
              <a:off x="2741760" y="2357280"/>
              <a:ext cx="3809520" cy="2025360"/>
              <a:chOff x="2741760" y="2357280"/>
              <a:chExt cx="3809520" cy="2025360"/>
            </a:xfrm>
          </p:grpSpPr>
          <p:sp>
            <p:nvSpPr>
              <p:cNvPr id="181" name="AutoShape 4"/>
              <p:cNvSpPr/>
              <p:nvPr/>
            </p:nvSpPr>
            <p:spPr>
              <a:xfrm>
                <a:off x="2741760" y="2357280"/>
                <a:ext cx="3809520" cy="20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5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6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7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8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9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0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1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2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3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4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5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6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7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8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Rectangle 19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rcRect l="0" t="0" r="1097" b="2001"/>
          <a:stretch/>
        </p:blipFill>
        <p:spPr>
          <a:xfrm>
            <a:off x="399960" y="74520"/>
            <a:ext cx="8004240" cy="666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onfiguring Dynamic Routing Protocol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512360"/>
            <a:ext cx="756936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689040" indent="-225360">
              <a:lnSpc>
                <a:spcPct val="95000"/>
              </a:lnSpc>
              <a:spcBef>
                <a:spcPts val="15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25360">
              <a:lnSpc>
                <a:spcPct val="95000"/>
              </a:lnSpc>
              <a:spcBef>
                <a:spcPts val="15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GR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25360">
              <a:lnSpc>
                <a:spcPct val="95000"/>
              </a:lnSpc>
              <a:spcBef>
                <a:spcPts val="15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IGR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25360">
              <a:lnSpc>
                <a:spcPct val="95000"/>
              </a:lnSpc>
              <a:spcBef>
                <a:spcPts val="15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SP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25360">
              <a:lnSpc>
                <a:spcPct val="95000"/>
              </a:lnSpc>
              <a:spcBef>
                <a:spcPts val="15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-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25360">
              <a:lnSpc>
                <a:spcPct val="95000"/>
              </a:lnSpc>
              <a:spcBef>
                <a:spcPts val="15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G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static route configurations"/>
          <p:cNvPicPr/>
          <p:nvPr/>
        </p:nvPicPr>
        <p:blipFill>
          <a:blip r:embed="rId1"/>
          <a:srcRect l="0" t="0" r="4890" b="0"/>
          <a:stretch/>
        </p:blipFill>
        <p:spPr>
          <a:xfrm>
            <a:off x="3213000" y="909720"/>
            <a:ext cx="5499360" cy="5697360"/>
          </a:xfrm>
          <a:prstGeom prst="rect">
            <a:avLst/>
          </a:prstGeom>
          <a:ln w="0">
            <a:noFill/>
          </a:ln>
        </p:spPr>
      </p:pic>
      <p:sp>
        <p:nvSpPr>
          <p:cNvPr id="99" name="مربع نص 4"/>
          <p:cNvSpPr/>
          <p:nvPr/>
        </p:nvSpPr>
        <p:spPr>
          <a:xfrm>
            <a:off x="3451320" y="1995480"/>
            <a:ext cx="1081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2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مربع نص 8"/>
          <p:cNvSpPr/>
          <p:nvPr/>
        </p:nvSpPr>
        <p:spPr>
          <a:xfrm>
            <a:off x="5167440" y="1406520"/>
            <a:ext cx="1089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.0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مربع نص 9"/>
          <p:cNvSpPr/>
          <p:nvPr/>
        </p:nvSpPr>
        <p:spPr>
          <a:xfrm rot="3669000">
            <a:off x="4367520" y="2936880"/>
            <a:ext cx="860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.0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مربع نص 10"/>
          <p:cNvSpPr/>
          <p:nvPr/>
        </p:nvSpPr>
        <p:spPr>
          <a:xfrm rot="18758400">
            <a:off x="3998520" y="4255920"/>
            <a:ext cx="1089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0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مربع نص 11"/>
          <p:cNvSpPr/>
          <p:nvPr/>
        </p:nvSpPr>
        <p:spPr>
          <a:xfrm rot="18215400">
            <a:off x="6706440" y="2853360"/>
            <a:ext cx="844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.0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مربع نص 12"/>
          <p:cNvSpPr/>
          <p:nvPr/>
        </p:nvSpPr>
        <p:spPr>
          <a:xfrm rot="2961600">
            <a:off x="7274160" y="4462200"/>
            <a:ext cx="1089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0.0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مربع نص 13"/>
          <p:cNvSpPr/>
          <p:nvPr/>
        </p:nvSpPr>
        <p:spPr>
          <a:xfrm>
            <a:off x="4940280" y="4351320"/>
            <a:ext cx="1079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1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مربع نص 14"/>
          <p:cNvSpPr/>
          <p:nvPr/>
        </p:nvSpPr>
        <p:spPr>
          <a:xfrm>
            <a:off x="7632720" y="2023920"/>
            <a:ext cx="1079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3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مربع نص 15"/>
          <p:cNvSpPr/>
          <p:nvPr/>
        </p:nvSpPr>
        <p:spPr>
          <a:xfrm>
            <a:off x="6356520" y="4454640"/>
            <a:ext cx="1079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4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مربع نص 16"/>
          <p:cNvSpPr/>
          <p:nvPr/>
        </p:nvSpPr>
        <p:spPr>
          <a:xfrm>
            <a:off x="250920" y="2133720"/>
            <a:ext cx="347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6289"/>
                </a:solidFill>
                <a:latin typeface="Arial"/>
              </a:rPr>
              <a:t>Configure the following network with different routing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صورة 3" descr=""/>
          <p:cNvPicPr/>
          <p:nvPr/>
        </p:nvPicPr>
        <p:blipFill>
          <a:blip r:embed="rId1"/>
          <a:srcRect l="13931" t="23435" r="16515" b="25953"/>
          <a:stretch/>
        </p:blipFill>
        <p:spPr>
          <a:xfrm>
            <a:off x="0" y="1747800"/>
            <a:ext cx="9050400" cy="3510000"/>
          </a:xfrm>
          <a:prstGeom prst="rect">
            <a:avLst/>
          </a:prstGeom>
          <a:ln w="0">
            <a:noFill/>
          </a:ln>
        </p:spPr>
      </p:pic>
      <p:sp>
        <p:nvSpPr>
          <p:cNvPr id="110" name="مربع نص 4"/>
          <p:cNvSpPr/>
          <p:nvPr/>
        </p:nvSpPr>
        <p:spPr>
          <a:xfrm>
            <a:off x="6853320" y="2971800"/>
            <a:ext cx="1030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outer1 (R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مربع نص 5"/>
          <p:cNvSpPr/>
          <p:nvPr/>
        </p:nvSpPr>
        <p:spPr>
          <a:xfrm>
            <a:off x="2241720" y="1806480"/>
            <a:ext cx="10299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outer0 (R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مربع نص 6"/>
          <p:cNvSpPr/>
          <p:nvPr/>
        </p:nvSpPr>
        <p:spPr>
          <a:xfrm>
            <a:off x="6759720" y="1819440"/>
            <a:ext cx="1030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outer3 (R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مربع نص 7"/>
          <p:cNvSpPr/>
          <p:nvPr/>
        </p:nvSpPr>
        <p:spPr>
          <a:xfrm>
            <a:off x="2340000" y="2992320"/>
            <a:ext cx="1030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outer2 (R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28260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onfiguring R1 Interfa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66600" y="367560"/>
            <a:ext cx="8682120" cy="6571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outer&gt;en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outer#configure termin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Enter configuration commands, one per line. End with CNTL/Z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outer(config)#hostname R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1(config)#interface fastethernet 0/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1(config-if)#ip address 10.0.0.1 255.0.0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1(config-if)#no shutdow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%LINK-5-CHANGED: Interface FastEthernet0/0, changed state to up %LINEPROTO-5-UPDOWN: Line protocol on Interface FastEthernet0/0, changed state to u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1(config-if)#ex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1(config)#interface serial 0/0/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1(config-if)#ip address 20.0.0.1 255.0.0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1(config-if)#clock rate 6400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1(config-if)#bandwidth 6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1(config-if)#no shutdow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%LINK-5-CHANGED: Interface Serial0/0/0, changed state to dow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1(config-if)#ex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3880" y="-33660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onfiguring R2 Interfa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7" name="Rectangle 1"/>
          <p:cNvSpPr/>
          <p:nvPr/>
        </p:nvSpPr>
        <p:spPr>
          <a:xfrm>
            <a:off x="131760" y="525240"/>
            <a:ext cx="8610480" cy="62060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outer&gt;en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outer#configure termin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Enter configuration commands, one per line. End with CNTL/Z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outer(config)#hostname R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2(config)#interface serial 0/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2(config-if)#ip address 20.0.0.2 255.0.0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2(config-if)#no shutdow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%LINK-5-CHANGED: Interface Serial0/0, changed state to up %LINEPROTO-5-UPDOWN: Line protocol on Interface Serial0/0, changed state to u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2(config-if)#ex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2(config)#interface fastethernet 0/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2(config-if)#ip address 30.0.0.1 255.0.0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2(config-if)#no shutdow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%LINK-5-CHANGED: Interface FastEthernet0/0, changed state to u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2(config-if)#ex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%LINEPROTO-5-UPDOWN: Line protocol on Interface FastEthernet0/0, changed state to u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4800" y="-314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onfiguring R3 Interfa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9" name="Rectangle 1"/>
          <p:cNvSpPr/>
          <p:nvPr/>
        </p:nvSpPr>
        <p:spPr>
          <a:xfrm>
            <a:off x="135000" y="196920"/>
            <a:ext cx="8840880" cy="6936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outer&gt;en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outer#configure termin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Enter configuration commands, one per line. End with CNTL/Z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outer(config)#hostname R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3(config)#interface fastethernet 0/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3(config-if)#ip address 30.0.0.2 255.0.0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3(config-if)#no shutdow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%LINK-5-CHANGED: Interface FastEthernet0/0, changed state to up %LINEPROTO-5-UPDOWN: Line protocol on Interface FastEthernet0/0, changed state to u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3(config-if)#interface serial 0/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3(config-if)#ip address 40.0.0.1 255.0.0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3(config-if)#clock rate 6400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3(config-if)#bandwidth 6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3(config-if)#no shutdow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%LINK-5-CHANGED: Interface Serial0/0, changed state to dow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3(config-if)#exit %LINK-5-CHANGED: Interface Serial0/0, changed state to up %LINEPROTO-5-UPDOWN: Line protocol on Interface Serial0/0, changed state to u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4800" y="-3268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onfiguring R4 Interfa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1" name="Rectangle 1"/>
          <p:cNvSpPr/>
          <p:nvPr/>
        </p:nvSpPr>
        <p:spPr>
          <a:xfrm>
            <a:off x="135000" y="196920"/>
            <a:ext cx="8840880" cy="6936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outer&gt;en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outer#configure termin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Enter configuration commands, one per line. End with CNTL/Z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outer(config)#hostname R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3(config)#interface fastethernet 0/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3(config-if)#ip address 50.0.0.1 255.0.0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3(config-if)#no shutdow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%LINK-5-CHANGED: Interface FastEthernet0/0, changed state to up %LINEPROTO-5-UPDOWN: Line protocol on Interface FastEthernet0/0, changed state to u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3(config-if)#interface serial 0/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3(config-if)#ip address 40.0.0.2 255.0.0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3(config-if)#clock rate 6400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3(config-if)#bandwidth 6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3(config-if)#no shutdow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%LINK-5-CHANGED: Interface Serial0/0, changed state to dow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nsolas"/>
              </a:rPr>
              <a:t>R3(config-if)#exit %LINK-5-CHANGED: Interface Serial0/0, changed state to up %LINEPROTO-5-UPDOWN: Line protocol on Interface Serial0/0, changed state to u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as aas</cp:lastModifiedBy>
  <cp:lastPrinted>1999-01-27T00:54:54Z</cp:lastPrinted>
  <dcterms:modified xsi:type="dcterms:W3CDTF">2016-02-28T19:47:23Z</dcterms:modified>
  <cp:revision>352</cp:revision>
  <dc:subject/>
  <dc:title>Introduction to Dynamic Routing Protoc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