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04E-E51F-42D4-AFD4-63146478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066-8C2C-4B1F-84F4-38ED439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320-FBF4-4567-BC92-E1347E70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805-F531-4709-8F45-D6AD5248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B3C-95A7-43D5-818C-93118F3B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E1F-5561-49B9-8EB5-B7FB6968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66A-886A-4A58-89F6-EF82CEA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0B3-2CC2-4B91-B19E-7EFE814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82F-1605-4BEB-9E3B-86A650B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D3D-7EDA-4A55-B3FC-EB7E620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2B1-B781-4AEE-AE21-4889A26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98B-EDB5-4891-A99E-6D7FF08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183E-D0D0-41C2-A252-EEF5516535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70880" y="263700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pigmentml"/>
          <p:cNvPicPr/>
          <p:nvPr/>
        </p:nvPicPr>
        <p:blipFill>
          <a:blip r:embed="rId1"/>
          <a:stretch/>
        </p:blipFill>
        <p:spPr>
          <a:xfrm>
            <a:off x="3059280" y="3357720"/>
            <a:ext cx="3162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eparing a smear for st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following procedure is used for all of our staini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rilize) your inoculating loop/needle bef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ig2a"/>
          <p:cNvPicPr/>
          <p:nvPr/>
        </p:nvPicPr>
        <p:blipFill>
          <a:blip r:embed="rId1"/>
          <a:stretch/>
        </p:blipFill>
        <p:spPr>
          <a:xfrm>
            <a:off x="5651640" y="620640"/>
            <a:ext cx="2900160" cy="3737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687600" y="620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epare the 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m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71800" y="2421000"/>
            <a:ext cx="53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(agar colony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 of water on a clean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terile inoculating needl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olony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829800" y="400536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tly spread the mixture into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31920" y="5661000"/>
            <a:ext cx="76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p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can be placed directly on the slide and sprea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11120" y="709560"/>
            <a:ext cx="8299440" cy="4237200"/>
            <a:chOff x="411120" y="709560"/>
            <a:chExt cx="8299440" cy="4237200"/>
          </a:xfrm>
        </p:grpSpPr>
        <p:pic>
          <p:nvPicPr>
            <p:cNvPr id="90" name="Picture 5" descr="fig2b"/>
            <p:cNvPicPr/>
            <p:nvPr/>
          </p:nvPicPr>
          <p:blipFill>
            <a:blip r:embed="rId1"/>
            <a:stretch/>
          </p:blipFill>
          <p:spPr>
            <a:xfrm>
              <a:off x="3648240" y="709560"/>
              <a:ext cx="50623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11120" y="1249200"/>
              <a:ext cx="29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t the sme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ir dry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mpletel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822240" y="392040"/>
            <a:ext cx="7120080" cy="5211720"/>
            <a:chOff x="822240" y="392040"/>
            <a:chExt cx="7120080" cy="5211720"/>
          </a:xfrm>
        </p:grpSpPr>
        <p:pic>
          <p:nvPicPr>
            <p:cNvPr id="94" name="Picture 5" descr="Fig4a"/>
            <p:cNvPicPr/>
            <p:nvPr/>
          </p:nvPicPr>
          <p:blipFill>
            <a:blip r:embed="rId1"/>
            <a:stretch/>
          </p:blipFill>
          <p:spPr>
            <a:xfrm>
              <a:off x="4065480" y="392040"/>
              <a:ext cx="387684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822240" y="884160"/>
              <a:ext cx="3062520" cy="34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at-Fix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mears are heat-fixed by quickly passing the slide through a flame two or three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is causes the microbes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i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o the slide and not get washed off during the staining proc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55640" y="765000"/>
            <a:ext cx="7259760" cy="5062680"/>
            <a:chOff x="755640" y="765000"/>
            <a:chExt cx="7259760" cy="5062680"/>
          </a:xfrm>
        </p:grpSpPr>
        <p:sp>
          <p:nvSpPr>
            <p:cNvPr id="98" name="Text Box 5"/>
            <p:cNvSpPr/>
            <p:nvPr/>
          </p:nvSpPr>
          <p:spPr>
            <a:xfrm>
              <a:off x="755640" y="1306440"/>
              <a:ext cx="306396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ai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lace the slide on a rack over the sink.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loo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 with stain and let it for 60-90 seconds.  Rinse gently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blo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Fig3"/>
            <p:cNvPicPr/>
            <p:nvPr/>
          </p:nvPicPr>
          <p:blipFill>
            <a:blip r:embed="rId1"/>
            <a:stretch/>
          </p:blipFill>
          <p:spPr>
            <a:xfrm>
              <a:off x="3711600" y="765000"/>
              <a:ext cx="4303800" cy="506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822240" y="522360"/>
            <a:ext cx="7070760" cy="5738760"/>
            <a:chOff x="822240" y="522360"/>
            <a:chExt cx="7070760" cy="5738760"/>
          </a:xfrm>
        </p:grpSpPr>
        <p:pic>
          <p:nvPicPr>
            <p:cNvPr id="102" name="Picture 5" descr="fig6"/>
            <p:cNvPicPr/>
            <p:nvPr/>
          </p:nvPicPr>
          <p:blipFill>
            <a:blip r:embed="rId1"/>
            <a:stretch/>
          </p:blipFill>
          <p:spPr>
            <a:xfrm>
              <a:off x="4478400" y="522360"/>
              <a:ext cx="3414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"/>
            <p:cNvSpPr/>
            <p:nvPr/>
          </p:nvSpPr>
          <p:spPr>
            <a:xfrm>
              <a:off x="822240" y="1323720"/>
              <a:ext cx="33847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bserve the slide under low and high-dry lenses to locate, center, and focus the imag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n, place a drop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i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irectly on the stained smear .Turn the oil lens into position and fine focus to observe the ce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47720" y="333360"/>
            <a:ext cx="7923240" cy="6173640"/>
            <a:chOff x="747720" y="333360"/>
            <a:chExt cx="7923240" cy="6173640"/>
          </a:xfrm>
        </p:grpSpPr>
        <p:sp>
          <p:nvSpPr>
            <p:cNvPr id="106" name="Text Box 5"/>
            <p:cNvSpPr/>
            <p:nvPr/>
          </p:nvSpPr>
          <p:spPr>
            <a:xfrm>
              <a:off x="3243240" y="33336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ccus (cocc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cocci"/>
            <p:cNvPicPr/>
            <p:nvPr/>
          </p:nvPicPr>
          <p:blipFill>
            <a:blip r:embed="rId1"/>
            <a:stretch/>
          </p:blipFill>
          <p:spPr>
            <a:xfrm>
              <a:off x="747720" y="946080"/>
              <a:ext cx="3706920" cy="55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7" descr="gram+staphau"/>
            <p:cNvPicPr/>
            <p:nvPr/>
          </p:nvPicPr>
          <p:blipFill>
            <a:blip r:embed="rId2"/>
            <a:stretch/>
          </p:blipFill>
          <p:spPr>
            <a:xfrm>
              <a:off x="4502160" y="914400"/>
              <a:ext cx="4168800" cy="555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619280" y="609480"/>
            <a:ext cx="6230880" cy="4968720"/>
            <a:chOff x="1619280" y="609480"/>
            <a:chExt cx="6230880" cy="4968720"/>
          </a:xfrm>
        </p:grpSpPr>
        <p:sp>
          <p:nvSpPr>
            <p:cNvPr id="111" name="Text Box 5"/>
            <p:cNvSpPr/>
            <p:nvPr/>
          </p:nvSpPr>
          <p:spPr>
            <a:xfrm>
              <a:off x="3063960" y="609480"/>
              <a:ext cx="368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cillus (Bac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bacilli"/>
            <p:cNvPicPr/>
            <p:nvPr/>
          </p:nvPicPr>
          <p:blipFill>
            <a:blip r:embed="rId1"/>
            <a:stretch/>
          </p:blipFill>
          <p:spPr>
            <a:xfrm>
              <a:off x="1619280" y="1108080"/>
              <a:ext cx="2955960" cy="440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7"/>
            <p:cNvGrpSpPr/>
            <p:nvPr/>
          </p:nvGrpSpPr>
          <p:grpSpPr>
            <a:xfrm>
              <a:off x="4581360" y="1066680"/>
              <a:ext cx="3268800" cy="4511520"/>
              <a:chOff x="4581360" y="1066680"/>
              <a:chExt cx="3268800" cy="4511520"/>
            </a:xfrm>
          </p:grpSpPr>
          <p:pic>
            <p:nvPicPr>
              <p:cNvPr id="114" name="Picture 8" descr="bacillus3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042440" y="1686240"/>
                <a:ext cx="4313160" cy="32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7743600" y="1066680"/>
                <a:ext cx="106560" cy="451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392120" y="638280"/>
            <a:ext cx="6094440" cy="5533920"/>
            <a:chOff x="1392120" y="638280"/>
            <a:chExt cx="6094440" cy="5533920"/>
          </a:xfrm>
        </p:grpSpPr>
        <p:sp>
          <p:nvSpPr>
            <p:cNvPr id="118" name="Text Box 5"/>
            <p:cNvSpPr/>
            <p:nvPr/>
          </p:nvSpPr>
          <p:spPr>
            <a:xfrm>
              <a:off x="2894040" y="638280"/>
              <a:ext cx="329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irillum (Spir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spirillum2"/>
            <p:cNvPicPr/>
            <p:nvPr/>
          </p:nvPicPr>
          <p:blipFill>
            <a:blip r:embed="rId1"/>
            <a:stretch/>
          </p:blipFill>
          <p:spPr>
            <a:xfrm>
              <a:off x="1392120" y="1090440"/>
              <a:ext cx="6094440" cy="508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644400" y="268200"/>
            <a:ext cx="5778720" cy="6243840"/>
            <a:chOff x="644400" y="268200"/>
            <a:chExt cx="5778720" cy="6243840"/>
          </a:xfrm>
        </p:grpSpPr>
        <p:pic>
          <p:nvPicPr>
            <p:cNvPr id="122" name="Picture 5" descr="bacteria"/>
            <p:cNvPicPr/>
            <p:nvPr/>
          </p:nvPicPr>
          <p:blipFill>
            <a:blip r:embed="rId1"/>
            <a:stretch/>
          </p:blipFill>
          <p:spPr>
            <a:xfrm>
              <a:off x="644400" y="974520"/>
              <a:ext cx="5778720" cy="55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128600" y="268200"/>
              <a:ext cx="4754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me the bacterial morphologies (shapes and arrangements) seen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65120" y="251136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619600" y="23637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1938240" y="3863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168640" y="553392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4986360" y="4402080"/>
              <a:ext cx="35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3876840" y="308304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 flipV="1">
              <a:off x="4097160" y="3082680"/>
              <a:ext cx="87480" cy="997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V="1">
              <a:off x="4219560" y="3204720"/>
              <a:ext cx="73080" cy="745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4284720" y="278136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pt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orm"/>
          <p:cNvPicPr/>
          <p:nvPr/>
        </p:nvPicPr>
        <p:blipFill>
          <a:blip r:embed="rId1"/>
          <a:stretch/>
        </p:blipFill>
        <p:spPr>
          <a:xfrm>
            <a:off x="1619280" y="1268280"/>
            <a:ext cx="6002280" cy="50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708720" y="5493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عنصر نائب للمحتوى 3" descr="mashrom.png"/>
          <p:cNvPicPr/>
          <p:nvPr/>
        </p:nvPicPr>
        <p:blipFill>
          <a:blip r:embed="rId1"/>
          <a:stretch/>
        </p:blipFill>
        <p:spPr>
          <a:xfrm>
            <a:off x="468360" y="1413000"/>
            <a:ext cx="3871800" cy="3671640"/>
          </a:xfrm>
          <a:prstGeom prst="rect">
            <a:avLst/>
          </a:prstGeom>
          <a:ln w="0">
            <a:noFill/>
          </a:ln>
        </p:spPr>
      </p:pic>
      <p:pic>
        <p:nvPicPr>
          <p:cNvPr id="135" name="صورة 4" descr="m.png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عنصر نائب للمحتوى 3" descr="asp.png"/>
          <p:cNvPicPr/>
          <p:nvPr/>
        </p:nvPicPr>
        <p:blipFill>
          <a:blip r:embed="rId1"/>
          <a:stretch/>
        </p:blipFill>
        <p:spPr>
          <a:xfrm>
            <a:off x="468360" y="476280"/>
            <a:ext cx="436716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مستطيل 4"/>
          <p:cNvSpPr/>
          <p:nvPr/>
        </p:nvSpPr>
        <p:spPr>
          <a:xfrm>
            <a:off x="543564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صورة 5" descr="pin.png"/>
          <p:cNvPicPr/>
          <p:nvPr/>
        </p:nvPicPr>
        <p:blipFill>
          <a:blip r:embed="rId2"/>
          <a:stretch/>
        </p:blipFill>
        <p:spPr>
          <a:xfrm>
            <a:off x="395280" y="3429000"/>
            <a:ext cx="4324320" cy="316872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6"/>
          <p:cNvSpPr/>
          <p:nvPr/>
        </p:nvSpPr>
        <p:spPr>
          <a:xfrm>
            <a:off x="5735520" y="5013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64280" y="6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io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elevat"/>
          <p:cNvPicPr/>
          <p:nvPr/>
        </p:nvPicPr>
        <p:blipFill>
          <a:blip r:embed="rId1"/>
          <a:stretch/>
        </p:blipFill>
        <p:spPr>
          <a:xfrm>
            <a:off x="1476360" y="907920"/>
            <a:ext cx="5902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2840" y="6199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argin"/>
          <p:cNvPicPr/>
          <p:nvPr/>
        </p:nvPicPr>
        <p:blipFill>
          <a:blip r:embed="rId1"/>
          <a:stretch/>
        </p:blipFill>
        <p:spPr>
          <a:xfrm>
            <a:off x="1979640" y="1285920"/>
            <a:ext cx="5481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92360" y="4755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urface"/>
          <p:cNvPicPr/>
          <p:nvPr/>
        </p:nvPicPr>
        <p:blipFill>
          <a:blip r:embed="rId1"/>
          <a:stretch/>
        </p:blipFill>
        <p:spPr>
          <a:xfrm>
            <a:off x="1692360" y="981000"/>
            <a:ext cx="5865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93880" y="-1440"/>
            <a:ext cx="5191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mon shapes of bacteri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987640" y="119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87960" y="22759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plococcus: a pair of cocc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680" y="162792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ving one of the following arrangement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10840" y="29235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coccus: a chain of coc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u1coccus"/>
          <p:cNvPicPr/>
          <p:nvPr/>
        </p:nvPicPr>
        <p:blipFill>
          <a:blip r:embed="rId1"/>
          <a:stretch/>
        </p:blipFill>
        <p:spPr>
          <a:xfrm>
            <a:off x="5148360" y="1557360"/>
            <a:ext cx="2923920" cy="293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758160" y="35733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trad: a square of 4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829800" y="42210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rcina: a cube of 8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74480" y="479736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phylococcus: cocci in irregular, often grape-like cluste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33080" y="9072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illus (rod)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592280" y="184392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illus: a single bacill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232640" y="25646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bacillus: bacilli in chai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69000" y="335700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ccobacillus: oval and similar to a coccus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u1rod"/>
          <p:cNvPicPr/>
          <p:nvPr/>
        </p:nvPicPr>
        <p:blipFill>
          <a:blip r:embed="rId1"/>
          <a:stretch/>
        </p:blipFill>
        <p:spPr>
          <a:xfrm>
            <a:off x="4932360" y="1628640"/>
            <a:ext cx="3638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54080" y="96588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306440" y="205992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brio: an incomplete spiral or comma-shaped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04280" y="29235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illum: a thick, rigid 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449000" y="3788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ochete: a thin, flexible spiral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u1spiral"/>
          <p:cNvPicPr/>
          <p:nvPr/>
        </p:nvPicPr>
        <p:blipFill>
          <a:blip r:embed="rId1"/>
          <a:stretch/>
        </p:blipFill>
        <p:spPr>
          <a:xfrm>
            <a:off x="5796000" y="24922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ta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-541440" y="29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imple Staining and Bacterial Cell Morph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8:07:15Z</dcterms:created>
  <dc:creator>User</dc:creator>
  <dc:description/>
  <dc:language>en-US</dc:language>
  <cp:lastModifiedBy>najla</cp:lastModifiedBy>
  <dcterms:modified xsi:type="dcterms:W3CDTF">2015-02-10T14:09:22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