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EF76-BEC4-4B36-82FC-EA707207F3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2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9AC0-3797-4E20-96DD-306EA4D4E1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5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4810-E119-4BE2-A5FE-137C5183F1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8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F3E5-6B8C-4CBE-88EB-5870D6DA44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1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12D3-9D8C-49B5-A7E7-9743017145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4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FB1C-99E6-44F3-8767-6213512667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5EAB-C748-414F-A525-6FE762D59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1839-000F-43D8-940C-CCC59398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2442-9C3E-49A7-916B-411821F61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2389-37D0-43CF-9DEE-CFFFE5D8F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F740-825F-4EBD-BA6B-4D5107EB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F505-5E56-46CC-82BF-1609C44D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54D5-1269-4930-8472-6F4A9163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50A8-2FE9-4C33-9850-A756FDAD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8097-7748-471A-88C5-A2682363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AA03-7803-4DCA-864B-F32187BD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47B8-B5C1-47C7-9F84-E48C0848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2F61-6794-4650-BA6E-3B979983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0F99-CBE0-40A4-B3DE-E0A430077A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00" y="1714680"/>
            <a:ext cx="8358120" cy="30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13PHL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b #4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ect of Certain Agonists &amp; their Antagonists on Isolated Guinea-pig Ileu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asmogen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85840" y="1600200"/>
            <a:ext cx="8501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rotonergic stimulants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.g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otonin (Gq11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rect acting stimulants (spasmogens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.g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rium chloride, Calcium chloride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asmolytics 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85840" y="1999800"/>
            <a:ext cx="840096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rect acting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smolytics .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.g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g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paveri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peri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1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ication of effect and site of action of an unknown drug using isolated guinea-pig ileum</a:t>
            </a:r>
            <a:br>
              <a:rPr sz="25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13840" y="2430000"/>
            <a:ext cx="865836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28760" y="3643200"/>
            <a:ext cx="2357280" cy="107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known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3857760" y="3643200"/>
            <a:ext cx="2286000" cy="1000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on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7143840" y="2928960"/>
            <a:ext cx="1714320" cy="2643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ock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on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kn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ight Arrow 10"/>
          <p:cNvSpPr/>
          <p:nvPr/>
        </p:nvSpPr>
        <p:spPr>
          <a:xfrm>
            <a:off x="2857680" y="4071960"/>
            <a:ext cx="928440" cy="71280"/>
          </a:xfrm>
          <a:prstGeom prst="rightArrow">
            <a:avLst>
              <a:gd name="adj1" fmla="val 50000"/>
              <a:gd name="adj2" fmla="val 50111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ight Arrow 11"/>
          <p:cNvSpPr/>
          <p:nvPr/>
        </p:nvSpPr>
        <p:spPr>
          <a:xfrm flipV="1">
            <a:off x="6215040" y="4142520"/>
            <a:ext cx="785880" cy="71640"/>
          </a:xfrm>
          <a:prstGeom prst="rightArrow">
            <a:avLst>
              <a:gd name="adj1" fmla="val 50000"/>
              <a:gd name="adj2" fmla="val 49872"/>
            </a:avLst>
          </a:prstGeom>
          <a:gradFill rotWithShape="0">
            <a:gsLst>
              <a:gs pos="0">
                <a:srgbClr val="ffff00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85480" y="1600200"/>
            <a:ext cx="864396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nea pig ileum is a smooth muscle receive dual nerve supply from autonomic nervous system (sympathetic and parasympathetic) 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sympathetic tone is dominant in ileum which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Ac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ause contraction by stimulating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M3-R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Guinea pig ileum is used?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myogenic contraction so any drug induce contraction can be see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sensitive to histamine unlike the rabbit due to the presence of histaminase enzym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ypes of receptors present in guinea-pig ileu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linergic receptors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otonergic or tryptaminergic receptors (5-HT1→5-HT7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aminergic receptors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renergic receptors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7772400" cy="10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ypes of receptors in guinea-pig ileum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2920" y="1285920"/>
            <a:ext cx="75009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Cholinergic receptor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42960" y="2286000"/>
          <a:ext cx="7786800" cy="3071880"/>
        </p:xfrm>
        <a:graphic>
          <a:graphicData uri="http://schemas.openxmlformats.org/drawingml/2006/table">
            <a:tbl>
              <a:tblPr/>
              <a:tblGrid>
                <a:gridCol w="2930400"/>
                <a:gridCol w="2428920"/>
                <a:gridCol w="2427480"/>
              </a:tblGrid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Receptor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goni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ntagoni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8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icotinic neuronal receptor (Nn- R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il. Nicot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c. Nicot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12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uscarinic receptor(M3 -R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c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trop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ypes of receptors in guinea-pig ileum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85480" y="1356840"/>
            <a:ext cx="79246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Serotonergic or tryptaminergic (5-HT )receptors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otonin = 5-HT(5-hydroxytryptamine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5-HT2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receptor found in smooth muscle and bronchi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28760" y="3357720"/>
          <a:ext cx="7929360" cy="3474720"/>
        </p:xfrm>
        <a:graphic>
          <a:graphicData uri="http://schemas.openxmlformats.org/drawingml/2006/table">
            <a:tbl>
              <a:tblPr/>
              <a:tblGrid>
                <a:gridCol w="2301840"/>
                <a:gridCol w="2557440"/>
                <a:gridCol w="307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Receptor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goni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ntagoni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-HT2A (Gq11)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roton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Methysergide  &amp; ketanserin (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lective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) 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cyproheptadine (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n selective block both 5-HT2A &amp;5-HT receptors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77724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ypes of receptors in guinea-pig ileum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42920" y="1285920"/>
            <a:ext cx="8786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Histaminergic receptor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amine is an autacoids naturally occurring in the body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71680" y="2428920"/>
          <a:ext cx="7772400" cy="3840120"/>
        </p:xfrm>
        <a:graphic>
          <a:graphicData uri="http://schemas.openxmlformats.org/drawingml/2006/table">
            <a:tbl>
              <a:tblPr/>
              <a:tblGrid>
                <a:gridCol w="1218960"/>
                <a:gridCol w="1676520"/>
                <a:gridCol w="1600200"/>
                <a:gridCol w="1447920"/>
                <a:gridCol w="1828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Recepto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distribu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ction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gonis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ntagonis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H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mooth musc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ontrac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istamin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Mepyramin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yproheptad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astric mucos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astric acid secre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istam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imetid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anitidin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synaptic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crease release of Histam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istam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7486560" cy="10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ypes of receptors in guinea-pig ileum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57120" y="1214280"/>
            <a:ext cx="74678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 Adrenergic receptor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857160" y="2143080"/>
          <a:ext cx="7643880" cy="2571840"/>
        </p:xfrm>
        <a:graphic>
          <a:graphicData uri="http://schemas.openxmlformats.org/drawingml/2006/table">
            <a:tbl>
              <a:tblPr/>
              <a:tblGrid>
                <a:gridCol w="2876760"/>
                <a:gridCol w="2384280"/>
                <a:gridCol w="2382840"/>
              </a:tblGrid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Recept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goni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ntagoni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renal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entolamin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ß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renal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4200" y="152280"/>
            <a:ext cx="842976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ypes of drugs act on guinea-pig ileum 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pasmogen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4200" y="928440"/>
            <a:ext cx="8715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holinergic stimulants ,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.g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h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A 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Histaminergic stimulants,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.g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amine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A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amine act on H1 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imulate PL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→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drolysis of (PIP2) into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AG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↑opening of C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hannel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P3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obilization of C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rom its sto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&amp;2 →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↑ intracellular C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→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action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3:32:20Z</dcterms:created>
  <dc:creator>Gamra</dc:creator>
  <dc:description/>
  <dc:language>en-US</dc:language>
  <cp:lastModifiedBy>Hana</cp:lastModifiedBy>
  <dcterms:modified xsi:type="dcterms:W3CDTF">2010-12-14T12:48:27Z</dcterms:modified>
  <cp:revision>57</cp:revision>
  <dc:subject/>
  <dc:title>Effect of Certain Agonists &amp; Antagonists on Isolated Guinea-pig Ileum</dc:title>
</cp:coreProperties>
</file>