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B18-41B7-47F0-9DC9-D8956AF71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B75-9B4D-4ED0-95A5-A91354902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A60-F317-4D86-AEF8-7986041B9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431-5F51-44BB-8923-8AF38DDCC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F98E-E1AB-47AB-A666-4D291932E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DA5D-8337-499F-B831-13867652E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B3F-C639-497F-8D45-68A5A3AE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148-BCDF-4667-9349-4B7698DC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B8B-A643-466C-80A7-6F15007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9EE-F085-48DA-A181-21F2025A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64C-A352-4CE8-8E62-D0B4838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A58-D301-4F51-BDBE-00B0DF4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3D8-206D-48A1-8505-8EAF2008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675-294D-4EE5-96F4-C12C9FF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07A-D558-4BB2-8602-C637EBE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000-5DD2-491A-8961-4D926FF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AF8-AECC-4FA4-AEFA-CD05DCE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56F-DDC9-4424-A954-E55015A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CCE-1040-4724-8F57-C224BB9A8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71468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PH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Certain Agonists &amp; their Antagonists on Isolated Guinea-pig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600200"/>
            <a:ext cx="85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otonergic stimulant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(Gq1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stimulants (spasmogens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ium chloride, Calcium chlorid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lytics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999800"/>
            <a:ext cx="8400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molytics 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eri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cation of effect and site of action of an unknown drug using isolated guinea-pig ileum</a:t>
            </a:r>
            <a:br>
              <a:rPr sz="25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2430000"/>
            <a:ext cx="8658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28760" y="3643200"/>
            <a:ext cx="23572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57760" y="3643200"/>
            <a:ext cx="22860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143840" y="2928960"/>
            <a:ext cx="1714320" cy="264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ight Arrow 10"/>
          <p:cNvSpPr/>
          <p:nvPr/>
        </p:nvSpPr>
        <p:spPr>
          <a:xfrm>
            <a:off x="2857680" y="407196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ight Arrow 11"/>
          <p:cNvSpPr/>
          <p:nvPr/>
        </p:nvSpPr>
        <p:spPr>
          <a:xfrm flipV="1">
            <a:off x="6215040" y="414252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nea pig ileum is a smooth muscle receive dual nerve supply from autonomic nervous system (sympathetic and parasympathetic)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ympathetic tone is dominant in ileum whic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contraction by stimulat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3-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Guinea pig ileum is used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yogenic contraction so any drug induce contraction can be se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ensitive to histamine unlike the rabbit due to the presence of histaminase enzy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present in guinea-pig ile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ergic or tryptaminergic receptors (5-HT1→5-HT7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7500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hol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42960" y="2286000"/>
          <a:ext cx="7786800" cy="3071880"/>
        </p:xfrm>
        <a:graphic>
          <a:graphicData uri="http://schemas.openxmlformats.org/drawingml/2006/table">
            <a:tbl>
              <a:tblPr/>
              <a:tblGrid>
                <a:gridCol w="2930400"/>
                <a:gridCol w="2428920"/>
                <a:gridCol w="242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cotinic neuronal receptor (Nn- 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carinic receptor(M3 -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rop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Serotonergic or tryptaminergic (5-HT )receptor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= 5-HT(5-hydroxytryptamin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-HT2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ceptor found in smooth muscle and bronchi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3357720"/>
          <a:ext cx="7929360" cy="3474720"/>
        </p:xfrm>
        <a:graphic>
          <a:graphicData uri="http://schemas.openxmlformats.org/drawingml/2006/table">
            <a:tbl>
              <a:tblPr/>
              <a:tblGrid>
                <a:gridCol w="2301840"/>
                <a:gridCol w="2557440"/>
                <a:gridCol w="30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HT2A (Gq11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ton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Methysergide  &amp; ketanserin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v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cyproheptadine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selective block both 5-HT2A &amp;5-HT receptors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Histam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is an autacoids naturally occurring in the body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1680" y="2428920"/>
          <a:ext cx="7772400" cy="384012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1600200"/>
                <a:gridCol w="144792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mooth mus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st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pyr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yprohep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muc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met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itid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ynap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rease release of 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4865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Adre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57160" y="2143080"/>
          <a:ext cx="7643880" cy="2571840"/>
        </p:xfrm>
        <a:graphic>
          <a:graphicData uri="http://schemas.openxmlformats.org/drawingml/2006/table">
            <a:tbl>
              <a:tblPr/>
              <a:tblGrid>
                <a:gridCol w="2876760"/>
                <a:gridCol w="2384280"/>
                <a:gridCol w="23828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tolami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ß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52280"/>
            <a:ext cx="84297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drugs act on guinea-pig ileum 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olinergic stimulants 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istaminergic stimulants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act on H1 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lysis of (PIP2) in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↑opening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3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bilization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its sto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&amp;2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intracellular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3:32:20Z</dcterms:created>
  <dc:creator>Gamra</dc:creator>
  <dc:description/>
  <dc:language>en-US</dc:language>
  <cp:lastModifiedBy>Hana</cp:lastModifiedBy>
  <dcterms:modified xsi:type="dcterms:W3CDTF">2010-12-14T12:48:27Z</dcterms:modified>
  <cp:revision>57</cp:revision>
  <dc:subject/>
  <dc:title>Effect of Certain Agonists &amp; Antagonists on Isolated Guinea-pig Ileum</dc:title>
</cp:coreProperties>
</file>