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2DD-8643-4628-AF1C-D02175A8D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A8BF-A157-4B33-9055-2574599089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0C8-992C-48C8-B79A-B267828C7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6BB-635B-4D76-A426-66E08F4DE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7A77-9BA1-4DDC-9AFD-9FAA347B68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E57-D385-4459-875B-2292BDC81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FB3-D88B-44A3-A594-D6A1089B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DE8-7CB6-4A73-8092-0A69DECD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16A-9747-4FE7-B0AE-6B2BE75C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4B5-578A-4591-8FF4-6F575EFE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BE9-C237-4515-AF09-E611B2A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817-27B9-468F-9143-98EB68A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451-283B-4228-96BC-D52441B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3A9-3122-47D0-BE6C-0512560F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D1F-F5C8-41EB-A72E-41CB64E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4F8-0716-4142-9FBC-37CE036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83D-7E9C-4672-9651-7FBCFB1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D3C-B2A8-43CA-A7F1-8E5DB39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CE99-7061-440C-B949-EE71A04AA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71468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PH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Certain Agonists &amp; their Antagonists on Isolated Guinea-pig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600200"/>
            <a:ext cx="85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otonergic stimulant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(Gq1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stimulants (spasmogens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ium chloride, Calcium chlorid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lytics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999800"/>
            <a:ext cx="8400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molytics 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eri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cation of effect and site of action of an unknown drug using isolated guinea-pig ileum</a:t>
            </a:r>
            <a:br>
              <a:rPr sz="25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2430000"/>
            <a:ext cx="8658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28760" y="3643200"/>
            <a:ext cx="23572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57760" y="3643200"/>
            <a:ext cx="22860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143840" y="2928960"/>
            <a:ext cx="1714320" cy="264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ight Arrow 10"/>
          <p:cNvSpPr/>
          <p:nvPr/>
        </p:nvSpPr>
        <p:spPr>
          <a:xfrm>
            <a:off x="2857680" y="407196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ight Arrow 11"/>
          <p:cNvSpPr/>
          <p:nvPr/>
        </p:nvSpPr>
        <p:spPr>
          <a:xfrm flipV="1">
            <a:off x="6215040" y="414252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nea pig ileum is a smooth muscle receive dual nerve supply from autonomic nervous system (sympathetic and parasympathetic)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ympathetic tone is dominant in ileum whic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contraction by stimulat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3-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Guinea pig ileum is used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yogenic contraction so any drug induce contraction can be se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ensitive to histamine unlike the rabbit due to the presence of histaminase enzy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present in guinea-pig ile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ergic or tryptaminergic receptors (5-HT1→5-HT7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7500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hol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42960" y="2286000"/>
          <a:ext cx="7786800" cy="3071880"/>
        </p:xfrm>
        <a:graphic>
          <a:graphicData uri="http://schemas.openxmlformats.org/drawingml/2006/table">
            <a:tbl>
              <a:tblPr/>
              <a:tblGrid>
                <a:gridCol w="2930400"/>
                <a:gridCol w="2428920"/>
                <a:gridCol w="242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cotinic neuronal receptor (Nn- 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carinic receptor(M3 -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rop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Serotonergic or tryptaminergic (5-HT )receptor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= 5-HT(5-hydroxytryptamin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-HT2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ceptor found in smooth muscle and bronchi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3357720"/>
          <a:ext cx="7929360" cy="3474720"/>
        </p:xfrm>
        <a:graphic>
          <a:graphicData uri="http://schemas.openxmlformats.org/drawingml/2006/table">
            <a:tbl>
              <a:tblPr/>
              <a:tblGrid>
                <a:gridCol w="2301840"/>
                <a:gridCol w="2557440"/>
                <a:gridCol w="30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HT2A (Gq11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ton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Methysergide  &amp; ketanserin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v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cyproheptadine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selective block both 5-HT2A &amp;5-HT receptors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Histam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is an autacoids naturally occurring in the body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1680" y="2428920"/>
          <a:ext cx="7772400" cy="384012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1600200"/>
                <a:gridCol w="144792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mooth mus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st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pyr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yprohep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muc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met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itid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ynap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rease release of 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4865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Adre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57160" y="2143080"/>
          <a:ext cx="7643880" cy="2571840"/>
        </p:xfrm>
        <a:graphic>
          <a:graphicData uri="http://schemas.openxmlformats.org/drawingml/2006/table">
            <a:tbl>
              <a:tblPr/>
              <a:tblGrid>
                <a:gridCol w="2876760"/>
                <a:gridCol w="2384280"/>
                <a:gridCol w="23828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tolami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ß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52280"/>
            <a:ext cx="84297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drugs act on guinea-pig ileum 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olinergic stimulants 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istaminergic stimulants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act on H1 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lysis of (PIP2) in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↑opening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3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bilization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its sto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&amp;2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intracellular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3:32:20Z</dcterms:created>
  <dc:creator>Gamra</dc:creator>
  <dc:description/>
  <dc:language>en-US</dc:language>
  <cp:lastModifiedBy>Hana</cp:lastModifiedBy>
  <dcterms:modified xsi:type="dcterms:W3CDTF">2010-12-14T12:48:27Z</dcterms:modified>
  <cp:revision>57</cp:revision>
  <dc:subject/>
  <dc:title>Effect of Certain Agonists &amp; Antagonists on Isolated Guinea-pig Ileum</dc:title>
</cp:coreProperties>
</file>