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EF7D-1DF5-4046-AFD3-C35B0150D8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D971-B7B6-4D34-BA1F-DD669E5D4D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2E19-731B-4D49-A486-D21F7D04FC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B3A4-154C-4B10-8796-44A46BED14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9E0E-E5AC-43CE-992B-F08FDF551B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4375-04AA-4D12-BD13-F1C98CB761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30FB-AE62-45B3-8D41-170EF024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67E-F0B2-40F9-A34F-FC5437DD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C41-4B9C-41A1-AB1B-5776481C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BA1-C57A-4DB3-AD0E-62B2EE6B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4D9-7695-46AE-A700-3E1A6F91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F60-1545-4800-BEA9-F655812E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46E3-3C73-478E-9CDD-B253D485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E73-34B2-4ED6-8154-8C5193E2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C16-684E-43B0-AC16-4A3F8BB4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6FA3-D871-4C02-BE81-69C4ED30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F0E-0A5D-4A61-813A-2965794F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285-A5D2-4D9F-B3D6-66E90415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C714-FE5F-4AA0-A7D1-D925879B7D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714680"/>
            <a:ext cx="8358120" cy="30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13PHL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b #4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 of Certain Agonists &amp; their Antagonists on Isolated Guinea-pig Ile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asmogen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1600200"/>
            <a:ext cx="85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otonergic stimulant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otonin (Gq11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rect acting stimulants (spasmogens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ium chloride, Calcium chloride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asmolytics 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840" y="1999800"/>
            <a:ext cx="840096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rect acting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smolytics .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g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aver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peri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ication of effect and site of action of an unknown drug using isolated guinea-pig ileum</a:t>
            </a:r>
            <a:br>
              <a:rPr sz="25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3840" y="2430000"/>
            <a:ext cx="865836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28760" y="3643200"/>
            <a:ext cx="235728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known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857760" y="3643200"/>
            <a:ext cx="2286000" cy="1000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o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7143840" y="2928960"/>
            <a:ext cx="1714320" cy="2643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o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ight Arrow 10"/>
          <p:cNvSpPr/>
          <p:nvPr/>
        </p:nvSpPr>
        <p:spPr>
          <a:xfrm>
            <a:off x="2857680" y="4071960"/>
            <a:ext cx="928440" cy="71280"/>
          </a:xfrm>
          <a:prstGeom prst="rightArrow">
            <a:avLst>
              <a:gd name="adj1" fmla="val 50000"/>
              <a:gd name="adj2" fmla="val 50111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ight Arrow 11"/>
          <p:cNvSpPr/>
          <p:nvPr/>
        </p:nvSpPr>
        <p:spPr>
          <a:xfrm flipV="1">
            <a:off x="6215040" y="414252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gradFill rotWithShape="0">
            <a:gsLst>
              <a:gs pos="0">
                <a:srgbClr val="ffff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5480" y="1600200"/>
            <a:ext cx="86439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nea pig ileum is a smooth muscle receive dual nerve supply from autonomic nervous system (sympathetic and parasympathetic) 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sympathetic tone is dominant in ileum which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use contraction by stimulating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3-R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Guinea pig ileum is used?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yogenic contraction so any drug induce contraction can be see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sensitive to histamine unlike the rabbit due to the presence of histaminase enzym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receptors present in guinea-pig ileu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linergic receptor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otonergic or tryptaminergic receptors (5-HT1→5-HT7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rgic receptor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renergic receptors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777240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receptors in guinea-pig ileum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2920" y="1285920"/>
            <a:ext cx="7500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Cholinergic receptor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42960" y="2286000"/>
          <a:ext cx="7786800" cy="3071880"/>
        </p:xfrm>
        <a:graphic>
          <a:graphicData uri="http://schemas.openxmlformats.org/drawingml/2006/table">
            <a:tbl>
              <a:tblPr/>
              <a:tblGrid>
                <a:gridCol w="2930400"/>
                <a:gridCol w="2428920"/>
                <a:gridCol w="242748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cepto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nt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icotinic neuronal receptor (Nn- 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l. Nicot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. Nicot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uscarinic receptor(M3 -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trop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receptors in guinea-pig ileum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85480" y="1356840"/>
            <a:ext cx="7924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Serotonergic or tryptaminergic (5-HT )receptors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otonin = 5-HT(5-hydroxytryptamine)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5-HT2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receptor found in smooth muscle and bronchi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8760" y="3357720"/>
          <a:ext cx="7929360" cy="3474720"/>
        </p:xfrm>
        <a:graphic>
          <a:graphicData uri="http://schemas.openxmlformats.org/drawingml/2006/table">
            <a:tbl>
              <a:tblPr/>
              <a:tblGrid>
                <a:gridCol w="2301840"/>
                <a:gridCol w="2557440"/>
                <a:gridCol w="307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cepto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nt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-HT2A (Gq11)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roton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Methysergide  &amp; ketanserin 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lective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) 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cyproheptadine 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 selective block both 5-HT2A &amp;5-HT receptors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77724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receptors in guinea-pig ileum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920" y="1285920"/>
            <a:ext cx="8786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Histaminergic receptor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 is an autacoids naturally occurring in the body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71680" y="2428920"/>
          <a:ext cx="7772400" cy="3840120"/>
        </p:xfrm>
        <a:graphic>
          <a:graphicData uri="http://schemas.openxmlformats.org/drawingml/2006/table">
            <a:tbl>
              <a:tblPr/>
              <a:tblGrid>
                <a:gridCol w="1218960"/>
                <a:gridCol w="1676520"/>
                <a:gridCol w="1600200"/>
                <a:gridCol w="144792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cept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istribu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ctio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goni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ntagoni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H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mooth musc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ntra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stamin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epyramin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yproheptad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stric muco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stric acid secre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stam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imetid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itidin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00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synapti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crease release of Histam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stam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748656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receptors in guinea-pig ileum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57120" y="1214280"/>
            <a:ext cx="7467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Adrenergic receptor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57160" y="2143080"/>
          <a:ext cx="7643880" cy="2571840"/>
        </p:xfrm>
        <a:graphic>
          <a:graphicData uri="http://schemas.openxmlformats.org/drawingml/2006/table">
            <a:tbl>
              <a:tblPr/>
              <a:tblGrid>
                <a:gridCol w="2876760"/>
                <a:gridCol w="2384280"/>
                <a:gridCol w="2382840"/>
              </a:tblGrid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cep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ntagon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renal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entolamin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ß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renal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152280"/>
            <a:ext cx="84297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drugs act on guinea-pig ileum 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pasmogen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4200" y="92844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olinergic stimulants 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A 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Histaminergic stimulants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A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mine act on H1 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mulate PL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lysis of (PIP2) into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↑opening of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anne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P3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bilization of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rom its sto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&amp;2 →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 intracellular 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→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action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3:32:20Z</dcterms:created>
  <dc:creator>Gamra</dc:creator>
  <dc:description/>
  <dc:language>en-US</dc:language>
  <cp:lastModifiedBy>Hana</cp:lastModifiedBy>
  <dcterms:modified xsi:type="dcterms:W3CDTF">2010-12-14T12:48:27Z</dcterms:modified>
  <cp:revision>57</cp:revision>
  <dc:subject/>
  <dc:title>Effect of Certain Agonists &amp; Antagonists on Isolated Guinea-pig Ileum</dc:title>
</cp:coreProperties>
</file>