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8.png" ContentType="image/png"/>
  <Override PartName="/ppt/media/image12.jpeg" ContentType="image/jpeg"/>
  <Override PartName="/ppt/media/image1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6.png" ContentType="image/png"/>
  <Override PartName="/ppt/media/image20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7742-3086-44E3-BFC1-53021633A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0509-6B85-4172-99CE-66E1B39EE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108-C89E-4E06-BC62-1FEBF7C3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D145-C724-4714-9C96-E8695562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E6B-3C6E-4B9E-AF8B-3FCC6ED5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E64-5DAF-43E6-97B1-0B6E6088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529-132C-460E-A9C7-D1B7C7C4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65F-FE99-4A0B-A5C0-2EA39A25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DA7-294F-40C7-82C4-ABE78591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BEF-2BC4-472E-B79E-93457C4E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1882-0CE0-416B-BD29-26DA9497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23B2-1A30-4B8D-8423-FCD624F7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270-0CD7-4FBE-90DB-D1EE01E9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7930-C485-44B7-8E1F-BE8D59AA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5488-6550-449F-B3BD-BA718D2A32C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605;&#1604;&#1601;:Biological_cell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ZOO1436ZOO1436@gmail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1844640"/>
            <a:ext cx="86076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Bookman Old Style"/>
              </a:rPr>
              <a:t>Important  Points  To  be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Bookman Old Style"/>
              </a:rPr>
              <a:t>Considere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4"/>
          <p:cNvSpPr/>
          <p:nvPr/>
        </p:nvSpPr>
        <p:spPr>
          <a:xfrm>
            <a:off x="611280" y="1052640"/>
            <a:ext cx="7777080" cy="360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348000" y="170028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alibri"/>
              </a:rPr>
              <a:t>The ocular lenses</a:t>
            </a:r>
            <a:r>
              <a:rPr b="1" lang="en-US" sz="2000" spc="-1" strike="noStrike">
                <a:solidFill>
                  <a:srgbClr val="ffcc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5X, 10X, and 15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3"/>
          <p:cNvGrpSpPr/>
          <p:nvPr/>
        </p:nvGrpSpPr>
        <p:grpSpPr>
          <a:xfrm>
            <a:off x="611280" y="836640"/>
            <a:ext cx="5329080" cy="2952720"/>
            <a:chOff x="611280" y="836640"/>
            <a:chExt cx="5329080" cy="2952720"/>
          </a:xfrm>
        </p:grpSpPr>
        <p:pic>
          <p:nvPicPr>
            <p:cNvPr id="91" name="Picture 6" descr="C:\Users\Packard bell\Desktop\المجهر.png"/>
            <p:cNvPicPr/>
            <p:nvPr/>
          </p:nvPicPr>
          <p:blipFill>
            <a:blip r:embed="rId1"/>
            <a:srcRect l="0" t="0" r="18507" b="51546"/>
            <a:stretch/>
          </p:blipFill>
          <p:spPr>
            <a:xfrm>
              <a:off x="611280" y="836640"/>
              <a:ext cx="443952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Straight Connector 5"/>
            <p:cNvSpPr/>
            <p:nvPr/>
          </p:nvSpPr>
          <p:spPr>
            <a:xfrm>
              <a:off x="3419640" y="1944720"/>
              <a:ext cx="2520720" cy="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V="1">
              <a:off x="2340000" y="3051000"/>
              <a:ext cx="3456000" cy="22212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traight Connector 15"/>
            <p:cNvSpPr/>
            <p:nvPr/>
          </p:nvSpPr>
          <p:spPr>
            <a:xfrm flipV="1">
              <a:off x="1979640" y="3051000"/>
              <a:ext cx="3816360" cy="7452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16"/>
            <p:cNvSpPr/>
            <p:nvPr/>
          </p:nvSpPr>
          <p:spPr>
            <a:xfrm>
              <a:off x="1619280" y="2903760"/>
              <a:ext cx="4105080" cy="14760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21"/>
          <p:cNvSpPr/>
          <p:nvPr/>
        </p:nvSpPr>
        <p:spPr>
          <a:xfrm>
            <a:off x="3564000" y="2781360"/>
            <a:ext cx="4572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Calibri"/>
              </a:rPr>
              <a:t>The objective lenses</a:t>
            </a:r>
            <a:r>
              <a:rPr b="1" lang="en-US" sz="2000" spc="-1" strike="noStrike">
                <a:solidFill>
                  <a:srgbClr val="ffc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anning lens: 3.5X or 4X or 5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 power lens: 1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gh power lens: 4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il immersion lens: 10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2"/>
          <p:cNvSpPr/>
          <p:nvPr/>
        </p:nvSpPr>
        <p:spPr>
          <a:xfrm>
            <a:off x="2490480" y="189000"/>
            <a:ext cx="457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MAGNIF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4"/>
          <p:cNvSpPr/>
          <p:nvPr/>
        </p:nvSpPr>
        <p:spPr>
          <a:xfrm>
            <a:off x="468360" y="5229360"/>
            <a:ext cx="8207280" cy="1069560"/>
          </a:xfrm>
          <a:prstGeom prst="rect">
            <a:avLst/>
          </a:prstGeom>
          <a:noFill/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How to calculate the magnification power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gnification power = ocular lens x objective le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X x 40X = 400X hint: Don’t forget the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ounded Rectangle 20"/>
          <p:cNvSpPr/>
          <p:nvPr/>
        </p:nvSpPr>
        <p:spPr>
          <a:xfrm>
            <a:off x="1476360" y="4365720"/>
            <a:ext cx="6696000" cy="1655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THE ILLUMIN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C:\Users\Packard bell\Desktop\المجهر.png"/>
          <p:cNvPicPr/>
          <p:nvPr/>
        </p:nvPicPr>
        <p:blipFill>
          <a:blip r:embed="rId1"/>
          <a:srcRect l="0" t="0" r="18507" b="10359"/>
          <a:stretch/>
        </p:blipFill>
        <p:spPr>
          <a:xfrm>
            <a:off x="2916360" y="476280"/>
            <a:ext cx="3671640" cy="4176720"/>
          </a:xfrm>
          <a:prstGeom prst="rect">
            <a:avLst/>
          </a:prstGeom>
          <a:ln w="0">
            <a:noFill/>
          </a:ln>
        </p:spPr>
      </p:pic>
      <p:sp>
        <p:nvSpPr>
          <p:cNvPr id="101" name="Straight Connector 4"/>
          <p:cNvSpPr/>
          <p:nvPr/>
        </p:nvSpPr>
        <p:spPr>
          <a:xfrm flipH="1">
            <a:off x="4500720" y="3429000"/>
            <a:ext cx="2735280" cy="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7"/>
          <p:cNvSpPr/>
          <p:nvPr/>
        </p:nvSpPr>
        <p:spPr>
          <a:xfrm flipV="1">
            <a:off x="2050920" y="2923920"/>
            <a:ext cx="2305080" cy="86508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12"/>
          <p:cNvSpPr/>
          <p:nvPr/>
        </p:nvSpPr>
        <p:spPr>
          <a:xfrm flipH="1" flipV="1">
            <a:off x="2050920" y="2133360"/>
            <a:ext cx="1944720" cy="71892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4356000" y="321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e illuminator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0" y="191628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The iris diaphragm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ntrols the amount of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eaching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9"/>
          <p:cNvSpPr/>
          <p:nvPr/>
        </p:nvSpPr>
        <p:spPr>
          <a:xfrm>
            <a:off x="250920" y="3645000"/>
            <a:ext cx="25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e condenser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s and concentrate the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mbria"/>
                <a:ea typeface="Times New Roman"/>
              </a:rPr>
              <a:t>THE CELL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Biological cell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0280" y="1749600"/>
            <a:ext cx="7700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285840" y="131040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It is the functional and structural unit in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There are different cell structures depending upon their location and function in the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76092"/>
                </a:solidFill>
                <a:uFillTx/>
                <a:latin typeface="Arial"/>
                <a:ea typeface="Times New Roman"/>
              </a:rPr>
              <a:t>3 major cell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Genetic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Cytopla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Cell membr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398040" y="333360"/>
            <a:ext cx="25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mbria"/>
                <a:ea typeface="Times New Roman"/>
              </a:rPr>
              <a:t>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3000240" y="21636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CELL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50920" y="119700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wo major cell types depending on the arran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the genetic material inside the cel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ight Brace 5"/>
          <p:cNvSpPr/>
          <p:nvPr/>
        </p:nvSpPr>
        <p:spPr>
          <a:xfrm rot="16200000">
            <a:off x="4068000" y="-675360"/>
            <a:ext cx="934920" cy="6553080"/>
          </a:xfrm>
          <a:custGeom>
            <a:avLst/>
            <a:gdLst>
              <a:gd name="textAreaLeft" fmla="*/ 0 w 934920"/>
              <a:gd name="textAreaRight" fmla="*/ 337680 w 934920"/>
              <a:gd name="textAreaTop" fmla="*/ 24120 h 6553080"/>
              <a:gd name="textAreaBottom" fmla="*/ 6528960 h 655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9"/>
                  <a:pt x="10800" y="257"/>
                </a:cubicBezTo>
                <a:lnTo>
                  <a:pt x="10800" y="10543"/>
                </a:lnTo>
                <a:cubicBezTo>
                  <a:pt x="10800" y="10672"/>
                  <a:pt x="16200" y="10800"/>
                  <a:pt x="21600" y="10800"/>
                </a:cubicBezTo>
                <a:cubicBezTo>
                  <a:pt x="16200" y="10800"/>
                  <a:pt x="10800" y="10929"/>
                  <a:pt x="10800" y="11057"/>
                </a:cubicBezTo>
                <a:lnTo>
                  <a:pt x="10800" y="21343"/>
                </a:lnTo>
                <a:cubicBezTo>
                  <a:pt x="10800" y="2147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6"/>
          <p:cNvSpPr/>
          <p:nvPr/>
        </p:nvSpPr>
        <p:spPr>
          <a:xfrm>
            <a:off x="357120" y="3071880"/>
            <a:ext cx="3357720" cy="3357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okaryotic cells (pro = before; Karyone = nucleu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ucleus is ab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region where the DNA is located in the cytoplasm is called nucle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ounded Rectangle 7"/>
          <p:cNvSpPr/>
          <p:nvPr/>
        </p:nvSpPr>
        <p:spPr>
          <a:xfrm>
            <a:off x="5292720" y="3141720"/>
            <a:ext cx="3311640" cy="3287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Eukaryotic cells (True nucleated cell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ucleus is pres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NA is associated with proteins which forms chrom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صورة 3" descr="http://forum.nooor.com/imgcache/73826.imgcache.jpg"/>
          <p:cNvPicPr/>
          <p:nvPr/>
        </p:nvPicPr>
        <p:blipFill>
          <a:blip r:embed="rId1"/>
          <a:stretch/>
        </p:blipFill>
        <p:spPr>
          <a:xfrm>
            <a:off x="4473720" y="2143080"/>
            <a:ext cx="4432320" cy="41655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250920" y="1661400"/>
            <a:ext cx="486072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ff"/>
                </a:solidFill>
                <a:uFillTx/>
                <a:latin typeface="Arial"/>
                <a:ea typeface="Calibri"/>
              </a:rPr>
              <a:t>Bacillu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Rod shape and occur in str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00"/>
                </a:solidFill>
                <a:uFillTx/>
                <a:latin typeface="Arial"/>
                <a:ea typeface="Calibri"/>
              </a:rPr>
              <a:t>Coccus: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Rounded and occur in colonies or str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مربع نص 4"/>
          <p:cNvSpPr/>
          <p:nvPr/>
        </p:nvSpPr>
        <p:spPr>
          <a:xfrm>
            <a:off x="451080" y="92880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OKARYOTES: 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14200" y="1107720"/>
            <a:ext cx="5437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ff"/>
                </a:solidFill>
                <a:uFillTx/>
                <a:latin typeface="Arial"/>
                <a:ea typeface="Calibri"/>
              </a:rPr>
              <a:t> </a:t>
            </a:r>
            <a:r>
              <a:rPr b="1" lang="en-US" sz="3600" spc="-1" strike="noStrike" u="sng">
                <a:solidFill>
                  <a:srgbClr val="00ffff"/>
                </a:solidFill>
                <a:uFillTx/>
                <a:latin typeface="Arial"/>
                <a:ea typeface="Calibri"/>
              </a:rPr>
              <a:t>Plant cell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ve cell w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onion cells.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tangular with eccentric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3.bp.blogspot.com/_XnrGbpEZjRQ/TOFwSGH_C5I/AAAAAAAAAAY/EwpEb0RrAqk/s1600/Epidermal-Cell-onion.jpg"/>
          <p:cNvPicPr/>
          <p:nvPr/>
        </p:nvPicPr>
        <p:blipFill>
          <a:blip r:embed="rId1"/>
          <a:stretch/>
        </p:blipFill>
        <p:spPr>
          <a:xfrm>
            <a:off x="5724360" y="765000"/>
            <a:ext cx="2808360" cy="21942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8"/>
          <p:cNvSpPr/>
          <p:nvPr/>
        </p:nvSpPr>
        <p:spPr>
          <a:xfrm>
            <a:off x="6592320" y="328464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nion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724360" y="4005360"/>
            <a:ext cx="2843280" cy="21319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0"/>
          <p:cNvSpPr/>
          <p:nvPr/>
        </p:nvSpPr>
        <p:spPr>
          <a:xfrm>
            <a:off x="6497640" y="61657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imal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230400" y="3571920"/>
            <a:ext cx="31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Animal cells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-252360" y="450180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have a cell w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مستطيل 12"/>
          <p:cNvSpPr/>
          <p:nvPr/>
        </p:nvSpPr>
        <p:spPr>
          <a:xfrm>
            <a:off x="0" y="0"/>
            <a:ext cx="52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U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95280" y="457200"/>
            <a:ext cx="835344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345440" cy="37195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928800" y="4508640"/>
            <a:ext cx="73580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imple Squamous Epithelium ( Lining of mouth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extBox 3" descr=""/>
          <p:cNvPicPr/>
          <p:nvPr/>
        </p:nvPicPr>
        <p:blipFill>
          <a:blip r:embed="rId1"/>
          <a:stretch/>
        </p:blipFill>
        <p:spPr>
          <a:xfrm>
            <a:off x="1547640" y="2494080"/>
            <a:ext cx="5986800" cy="1938240"/>
          </a:xfrm>
          <a:prstGeom prst="rect">
            <a:avLst/>
          </a:prstGeom>
          <a:ln w="0">
            <a:noFill/>
          </a:ln>
        </p:spPr>
      </p:pic>
      <p:sp>
        <p:nvSpPr>
          <p:cNvPr id="132" name="Smiley Face 4"/>
          <p:cNvSpPr/>
          <p:nvPr/>
        </p:nvSpPr>
        <p:spPr>
          <a:xfrm>
            <a:off x="7740720" y="5516640"/>
            <a:ext cx="863640" cy="792000"/>
          </a:xfrm>
          <a:prstGeom prst="smileyFace">
            <a:avLst>
              <a:gd name="adj" fmla="val 9282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صورة 3" descr=""/>
          <p:cNvPicPr/>
          <p:nvPr/>
        </p:nvPicPr>
        <p:blipFill>
          <a:blip r:embed="rId1"/>
          <a:srcRect l="-712" t="5058" r="732" b="-5044"/>
          <a:stretch/>
        </p:blipFill>
        <p:spPr>
          <a:xfrm>
            <a:off x="233280" y="115920"/>
            <a:ext cx="2833920" cy="4095720"/>
          </a:xfrm>
          <a:prstGeom prst="rect">
            <a:avLst/>
          </a:prstGeom>
          <a:ln w="0">
            <a:noFill/>
          </a:ln>
        </p:spPr>
      </p:pic>
      <p:pic>
        <p:nvPicPr>
          <p:cNvPr id="50" name="صورة 4" descr=""/>
          <p:cNvPicPr/>
          <p:nvPr/>
        </p:nvPicPr>
        <p:blipFill>
          <a:blip r:embed="rId2"/>
          <a:srcRect l="20979" t="0" r="39514" b="0"/>
          <a:stretch/>
        </p:blipFill>
        <p:spPr>
          <a:xfrm>
            <a:off x="3780000" y="836640"/>
            <a:ext cx="1992240" cy="2879640"/>
          </a:xfrm>
          <a:prstGeom prst="rect">
            <a:avLst/>
          </a:prstGeom>
          <a:ln w="0">
            <a:noFill/>
          </a:ln>
        </p:spPr>
      </p:pic>
      <p:pic>
        <p:nvPicPr>
          <p:cNvPr id="51" name="صورة 5" descr=""/>
          <p:cNvPicPr/>
          <p:nvPr/>
        </p:nvPicPr>
        <p:blipFill>
          <a:blip r:embed="rId3"/>
          <a:stretch/>
        </p:blipFill>
        <p:spPr>
          <a:xfrm>
            <a:off x="755640" y="4076640"/>
            <a:ext cx="1859040" cy="1860480"/>
          </a:xfrm>
          <a:prstGeom prst="rect">
            <a:avLst/>
          </a:prstGeom>
          <a:ln w="0">
            <a:noFill/>
          </a:ln>
        </p:spPr>
      </p:pic>
      <p:pic>
        <p:nvPicPr>
          <p:cNvPr id="52" name="صورة 6" descr=""/>
          <p:cNvPicPr/>
          <p:nvPr/>
        </p:nvPicPr>
        <p:blipFill>
          <a:blip r:embed="rId4"/>
          <a:stretch/>
        </p:blipFill>
        <p:spPr>
          <a:xfrm>
            <a:off x="2481120" y="115920"/>
            <a:ext cx="2127240" cy="1427040"/>
          </a:xfrm>
          <a:prstGeom prst="rect">
            <a:avLst/>
          </a:prstGeom>
          <a:ln w="0">
            <a:noFill/>
          </a:ln>
        </p:spPr>
      </p:pic>
      <p:pic>
        <p:nvPicPr>
          <p:cNvPr id="53" name="صورة 7" descr=""/>
          <p:cNvPicPr/>
          <p:nvPr/>
        </p:nvPicPr>
        <p:blipFill>
          <a:blip r:embed="rId5"/>
          <a:stretch/>
        </p:blipFill>
        <p:spPr>
          <a:xfrm>
            <a:off x="2646360" y="3571920"/>
            <a:ext cx="1743120" cy="1554120"/>
          </a:xfrm>
          <a:prstGeom prst="rect">
            <a:avLst/>
          </a:prstGeom>
          <a:ln w="0">
            <a:noFill/>
          </a:ln>
        </p:spPr>
      </p:pic>
      <p:pic>
        <p:nvPicPr>
          <p:cNvPr id="54" name="عنصر نائب للمحتوى 3" descr=""/>
          <p:cNvPicPr/>
          <p:nvPr/>
        </p:nvPicPr>
        <p:blipFill>
          <a:blip r:embed="rId6"/>
          <a:stretch/>
        </p:blipFill>
        <p:spPr>
          <a:xfrm>
            <a:off x="6000840" y="785880"/>
            <a:ext cx="2871720" cy="3281400"/>
          </a:xfrm>
          <a:prstGeom prst="rect">
            <a:avLst/>
          </a:prstGeom>
          <a:ln w="0">
            <a:noFill/>
          </a:ln>
        </p:spPr>
      </p:pic>
      <p:pic>
        <p:nvPicPr>
          <p:cNvPr id="55" name="صورة 9" descr=""/>
          <p:cNvPicPr/>
          <p:nvPr/>
        </p:nvPicPr>
        <p:blipFill>
          <a:blip r:embed="rId7"/>
          <a:stretch/>
        </p:blipFill>
        <p:spPr>
          <a:xfrm>
            <a:off x="3713040" y="4432320"/>
            <a:ext cx="2121120" cy="2120760"/>
          </a:xfrm>
          <a:prstGeom prst="rect">
            <a:avLst/>
          </a:prstGeom>
          <a:ln w="0">
            <a:noFill/>
          </a:ln>
        </p:spPr>
      </p:pic>
      <p:pic>
        <p:nvPicPr>
          <p:cNvPr id="56" name="صورة 10" descr=""/>
          <p:cNvPicPr/>
          <p:nvPr/>
        </p:nvPicPr>
        <p:blipFill>
          <a:blip r:embed="rId8"/>
          <a:stretch/>
        </p:blipFill>
        <p:spPr>
          <a:xfrm>
            <a:off x="5929200" y="4924440"/>
            <a:ext cx="29750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Important  Points  To  be  Consider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udent  who  are  late more than  10  mins ,  NO LESSON  will  be  REPEATE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O  CAMERA  are  allowed  in  the  lab  at  al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صورة 3" descr=""/>
          <p:cNvPicPr/>
          <p:nvPr/>
        </p:nvPicPr>
        <p:blipFill>
          <a:blip r:embed="rId1"/>
          <a:stretch/>
        </p:blipFill>
        <p:spPr>
          <a:xfrm>
            <a:off x="5857920" y="4452840"/>
            <a:ext cx="32860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opperplate Gothic Light"/>
              </a:rPr>
              <a:t>exam</a:t>
            </a:r>
            <a:r>
              <a:rPr b="1" lang="en-US" sz="7200" spc="-1" strike="noStrike">
                <a:solidFill>
                  <a:srgbClr val="ff0000"/>
                </a:solidFill>
                <a:latin typeface="Copperplate Gothic Light"/>
              </a:rPr>
              <a:t> 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00000" y="981000"/>
          <a:ext cx="7201080" cy="4884840"/>
        </p:xfrm>
        <a:graphic>
          <a:graphicData uri="http://schemas.openxmlformats.org/drawingml/2006/table">
            <a:tbl>
              <a:tblPr/>
              <a:tblGrid>
                <a:gridCol w="1951200"/>
                <a:gridCol w="2255760"/>
                <a:gridCol w="1549440"/>
                <a:gridCol w="1444680"/>
              </a:tblGrid>
              <a:tr h="549000">
                <a:tc rowSpan="4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stolog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1224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RST QUI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1224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/1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/10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8/1/1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21/10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term ex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7452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4/2/1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52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6/11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82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7452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2/1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52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/11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31080">
                <a:tc rowSpan="4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tom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 QUI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7452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8/2/1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52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30/11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7452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/2/1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52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l ex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7452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3/3/1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52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4/12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3/1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/12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Copperplate Gothic Light"/>
              </a:rPr>
              <a:t>103</a:t>
            </a:r>
            <a:r>
              <a:rPr b="1" lang="en-US" sz="7200" spc="-1" strike="noStrike">
                <a:solidFill>
                  <a:srgbClr val="c00000"/>
                </a:solidFill>
                <a:latin typeface="Copperplate Gothic Light"/>
              </a:rPr>
              <a:t> </a:t>
            </a:r>
            <a:r>
              <a:rPr b="1" lang="en-US" sz="7200" spc="-1" strike="noStrike">
                <a:solidFill>
                  <a:srgbClr val="c00000"/>
                </a:solidFill>
                <a:latin typeface="Copperplate Gothic Light"/>
              </a:rPr>
              <a:t>zoo email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ZOO1436ZOO1436@gmail.co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ASSSWORD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GHADAGHAD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755640" y="2706840"/>
            <a:ext cx="7772400" cy="147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SULTAN\Pictures\imagesCA1EGRBK.jpg"/>
          <p:cNvPicPr/>
          <p:nvPr/>
        </p:nvPicPr>
        <p:blipFill>
          <a:blip r:embed="rId2"/>
          <a:stretch/>
        </p:blipFill>
        <p:spPr>
          <a:xfrm>
            <a:off x="0" y="0"/>
            <a:ext cx="2133720" cy="214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SULTAN\Pictures\imagesCASH0FRU.jpg"/>
          <p:cNvPicPr/>
          <p:nvPr/>
        </p:nvPicPr>
        <p:blipFill>
          <a:blip r:embed="rId3"/>
          <a:stretch/>
        </p:blipFill>
        <p:spPr>
          <a:xfrm>
            <a:off x="7143840" y="4732200"/>
            <a:ext cx="20001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500040" y="428760"/>
            <a:ext cx="831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APPLICATIONS OF COMP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MICROSC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50920" y="2214720"/>
            <a:ext cx="868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t is used to study cell p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ampl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organization of tissu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structure of developing embryos with many other important appl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807120"/>
            <a:ext cx="91440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arts of the Microscope</a:t>
            </a:r>
            <a:r>
              <a:rPr b="1" lang="ar-SA" sz="4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: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1859c"/>
                </a:solidFill>
                <a:uFillTx/>
                <a:latin typeface="Arial"/>
              </a:rPr>
              <a:t>The parts of the microscope can be grouped in three systems</a:t>
            </a:r>
            <a:r>
              <a:rPr b="1" lang="ar-SA" sz="3600" spc="-1" strike="noStrike" u="sng">
                <a:solidFill>
                  <a:srgbClr val="31859c"/>
                </a:solidFill>
                <a:uFillTx/>
                <a:latin typeface="Arial"/>
              </a:rPr>
              <a:t>:</a:t>
            </a:r>
            <a:r>
              <a:rPr b="0" lang="en-US" sz="3600" spc="-1" strike="noStrike">
                <a:solidFill>
                  <a:srgbClr val="31859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agnification system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ounting and movement system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illumination system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ight Bracket 8"/>
          <p:cNvSpPr/>
          <p:nvPr/>
        </p:nvSpPr>
        <p:spPr>
          <a:xfrm>
            <a:off x="6659640" y="5373720"/>
            <a:ext cx="1770120" cy="1008000"/>
          </a:xfrm>
          <a:custGeom>
            <a:avLst/>
            <a:gdLst>
              <a:gd name="textAreaLeft" fmla="*/ 0 w 1770120"/>
              <a:gd name="textAreaRight" fmla="*/ 1241640 w 177012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16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eft Bracket 9"/>
          <p:cNvSpPr/>
          <p:nvPr/>
        </p:nvSpPr>
        <p:spPr>
          <a:xfrm>
            <a:off x="826920" y="5373720"/>
            <a:ext cx="1513080" cy="1008000"/>
          </a:xfrm>
          <a:custGeom>
            <a:avLst/>
            <a:gdLst>
              <a:gd name="textAreaLeft" fmla="*/ 444600 w 1513080"/>
              <a:gd name="textAreaRight" fmla="*/ 1513440 w 151308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1468440" y="5643720"/>
            <a:ext cx="64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Arial"/>
                <a:ea typeface="Calibri"/>
              </a:rPr>
              <a:t>The mounting and mov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C:\Users\Packard bell\Desktop\المجهر.png"/>
          <p:cNvPicPr/>
          <p:nvPr/>
        </p:nvPicPr>
        <p:blipFill>
          <a:blip r:embed="rId1"/>
          <a:srcRect l="0" t="0" r="18507" b="10359"/>
          <a:stretch/>
        </p:blipFill>
        <p:spPr>
          <a:xfrm>
            <a:off x="2268360" y="189000"/>
            <a:ext cx="4438800" cy="5327640"/>
          </a:xfrm>
          <a:prstGeom prst="rect">
            <a:avLst/>
          </a:prstGeom>
          <a:ln w="0">
            <a:noFill/>
          </a:ln>
        </p:spPr>
      </p:pic>
      <p:sp>
        <p:nvSpPr>
          <p:cNvPr id="74" name="Straight Connector 15"/>
          <p:cNvSpPr/>
          <p:nvPr/>
        </p:nvSpPr>
        <p:spPr>
          <a:xfrm flipH="1">
            <a:off x="5219640" y="765000"/>
            <a:ext cx="1944720" cy="136872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17"/>
          <p:cNvSpPr/>
          <p:nvPr/>
        </p:nvSpPr>
        <p:spPr>
          <a:xfrm flipH="1">
            <a:off x="1403280" y="2924280"/>
            <a:ext cx="1836720" cy="21744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18"/>
          <p:cNvSpPr/>
          <p:nvPr/>
        </p:nvSpPr>
        <p:spPr>
          <a:xfrm flipH="1">
            <a:off x="5724000" y="1989000"/>
            <a:ext cx="1511640" cy="86364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19"/>
          <p:cNvSpPr/>
          <p:nvPr/>
        </p:nvSpPr>
        <p:spPr>
          <a:xfrm flipH="1" flipV="1">
            <a:off x="5508720" y="3716280"/>
            <a:ext cx="1727280" cy="64944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20"/>
          <p:cNvSpPr/>
          <p:nvPr/>
        </p:nvSpPr>
        <p:spPr>
          <a:xfrm flipH="1" flipV="1">
            <a:off x="1692000" y="1483920"/>
            <a:ext cx="1655640" cy="57636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21"/>
          <p:cNvSpPr/>
          <p:nvPr/>
        </p:nvSpPr>
        <p:spPr>
          <a:xfrm flipH="1">
            <a:off x="5651640" y="3357720"/>
            <a:ext cx="1441440" cy="7128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6948360" y="333360"/>
            <a:ext cx="2016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he body tube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ries the ocular 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5"/>
          <p:cNvSpPr/>
          <p:nvPr/>
        </p:nvSpPr>
        <p:spPr>
          <a:xfrm>
            <a:off x="7164360" y="1773360"/>
            <a:ext cx="19796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he a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upports and connects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upper part of the micro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8"/>
          <p:cNvSpPr/>
          <p:nvPr/>
        </p:nvSpPr>
        <p:spPr>
          <a:xfrm>
            <a:off x="6875640" y="3141720"/>
            <a:ext cx="22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e coarse focusing knob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stage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7236000" y="4221000"/>
            <a:ext cx="19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e fine focusing knob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image sharp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8"/>
          <p:cNvSpPr/>
          <p:nvPr/>
        </p:nvSpPr>
        <p:spPr>
          <a:xfrm>
            <a:off x="0" y="1197000"/>
            <a:ext cx="201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e nose piece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rries the objective lenses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ve them accordingly above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1"/>
          <p:cNvSpPr/>
          <p:nvPr/>
        </p:nvSpPr>
        <p:spPr>
          <a:xfrm>
            <a:off x="0" y="2924280"/>
            <a:ext cx="226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e stage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rizontal platform upon 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lide of interest 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2"/>
          <p:cNvSpPr/>
          <p:nvPr/>
        </p:nvSpPr>
        <p:spPr>
          <a:xfrm>
            <a:off x="250920" y="4437000"/>
            <a:ext cx="19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e base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s the micro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45"/>
          <p:cNvSpPr/>
          <p:nvPr/>
        </p:nvSpPr>
        <p:spPr>
          <a:xfrm flipH="1">
            <a:off x="1332000" y="4581360"/>
            <a:ext cx="1944720" cy="7164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7:55:56Z</dcterms:created>
  <dc:creator>Packard bell</dc:creator>
  <dc:description/>
  <dc:language>en-US</dc:language>
  <cp:lastModifiedBy>Asis Iqbal</cp:lastModifiedBy>
  <dcterms:modified xsi:type="dcterms:W3CDTF">2015-09-01T20:31:00Z</dcterms:modified>
  <cp:revision>33</cp:revision>
  <dc:subject/>
  <dc:title>MICROSCOPY</dc:title>
</cp:coreProperties>
</file>