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7.png" ContentType="image/png"/>
  <Override PartName="/ppt/media/image32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23.png" ContentType="image/png"/>
  <Override PartName="/ppt/media/image40.jpeg" ContentType="image/jpeg"/>
  <Override PartName="/ppt/media/image13.jpeg" ContentType="image/jpeg"/>
  <Override PartName="/ppt/media/whoosh.wav" ContentType="audio/x-wav"/>
  <Override PartName="/ppt/media/image38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D121-8BA4-49A8-8A7B-7D03175655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058C-DE6F-4209-93E7-E2A0BFDB4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FF25-CE40-4EDE-8B9C-EB7BFCC5C7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47FC-CE16-4BB5-A417-73B5804016A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17E0-C419-4984-B0EA-71F792286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FC8E-366A-4653-BB4B-6A92042B3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1A05-B584-4B5A-B603-66154DA7D2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1DA5-5F21-408E-AF75-DC1A45C48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DAEA-F323-429C-AAFC-123EDCEE07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0893-DAF6-4F68-87AE-01E1A4D6D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811B-9774-4253-8F36-82D1134A3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1B40-9F62-4F64-9C2E-484B58D30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87C6-DBC2-4E29-A7E1-2C3ECB26AE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BE88-8B20-464F-9195-06A64040F6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F79E-8679-46C9-994E-F2D9E76B15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2881-F1E9-482E-B4F1-450812965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24E4-4D25-4A00-A9A6-5A7C0EFCA0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F3B0-992E-4CA4-B5DE-4A147F2CDCE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15B1-3C46-4866-9422-6B2F0B9F1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125A-6EFC-4EA6-806A-8AA0594CF2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659D-9AA3-459D-B5F6-E878B8346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C5BA-9E81-4773-870F-87F671CDC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B20-121D-4D79-AEF1-BBADB54F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F6B-BF88-43AE-BD65-B6B5CABA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621-8B1B-4083-AFE2-1FE94D34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516-32D7-472B-BE87-6920858E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6705-5143-429C-A989-5252151F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DADC-A02E-447C-9923-A2A018B0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E9B4-413E-4121-9FBA-B0EF16BD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1993-9673-41CA-9A54-98D323A0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D5F8-6C61-4040-9162-D7CBFC86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D3B5-5CAD-49EC-935F-FA0E292B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B107-1435-4E25-9A7A-F78F6580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9A1-D43D-4815-8CB4-4DB1907B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6FB1-9448-45BF-9729-C5F75009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0904-B45D-4CE5-ABDB-20A82BD4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26B2-4900-42D2-A520-FF0E6DE7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1458-A8F5-45D3-9DEF-304FA62A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764-F398-4708-8E8B-6539AF3A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1E89-1F4A-47FF-A2AF-87A95B14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0DB4-0003-48A4-83C5-CE8686DC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0A75F-298D-4CBF-8661-6063ED3C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C035E-073B-4AB2-9B90-FC27A767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33A2-CF51-45BD-8A1F-18E9A23C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904-5C3E-4C27-A50C-E6448782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8459-92AF-4123-9A8A-F8A4C7B1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F31F3-F74C-4DD4-A83F-D402A9F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3534-BF83-41F2-AE04-1E8359BB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7C7C-352D-4434-88E5-B4CEAA12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6963-EF6E-4D42-868E-7B8D3C3B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715B-E4D9-4A92-A02E-E54D0177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A9918-06D4-4125-B5E1-A5B9A0F4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0974-D1DB-4AD9-9522-FD29BADA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6A5A2-4BCB-4C1B-B377-E9CE1D12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A71B2-79A8-4F52-B6ED-B3213209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E16-9BBB-43A9-A311-BA3078D0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234A-E9A7-42C0-9731-71F97DCE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ED270-8522-4149-910C-268A8682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67A91-360A-4D8D-BF03-5D15D847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B22AC-FC52-4591-8B6A-89716FA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C767-F81A-4569-B279-D7D66519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6D233-8087-44D2-9CD9-770DF66C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E12A-8B46-493F-AEAA-C463ABAD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5A61-C8E4-4586-AAA0-CF66C68D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9FD8-69AA-4648-BFBA-BFAFB67E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2A052-11E2-4CEB-8AD2-5357820A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5C4-87DF-401D-86BE-04A357FC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882CB-88E7-4F9B-B20E-54799139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C7F9D-4BB2-4B99-9E64-A104F7F1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BE120-53B2-4E65-81E3-AA640C35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5A701-0D71-4080-B1BC-D0467771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DBA87-EF92-4D4D-80A2-79DD6CB3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4025D-F1B4-442E-8B48-A9A47F6E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56C53-6AD5-4699-AB6C-7741B7E7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2C07D-8624-4D7C-A78B-185CE99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9DD03-E578-4070-B310-F9263D9D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BD4E8-A1CE-4AFF-A314-2F151C69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00F-3EE2-4CB6-9352-2E13F509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AEB5B-9A20-49DF-9034-55F0E4D3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A8180-6AD6-4BF6-BB71-5615B9A3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A619-4B12-49AE-B250-87B01972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DD5BC-0CB1-43E6-9D63-71EA23EB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A4F83-9699-4EC3-B5E5-B9D4E68A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699B6-F75D-4DA3-A81F-D7F3F5D1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B21F0-2677-4E71-B6FB-A1AF618B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69E50-C0D1-4CFE-9BDE-C51D0E15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1D910-D116-44EC-B2B4-4FBCB95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24AEE-61FD-43E7-B049-25C8D91F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E23-EE7F-4964-AA54-1156EEB2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A11FD-5D77-4458-8DC8-E85CF350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A3BC-39FB-4D92-95ED-FC116EE8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A7C3C-074A-42A3-82F1-B145EAB4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38C8D-499D-408F-BE25-B9F0ED19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F9E48-F772-447B-8902-872F0FD5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D6D83-8A13-4C5A-9AE5-A7D4B3F7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A475B-1CB0-4D52-BDEE-9E28A859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16162-0ED8-4A16-975E-45532797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3479-0F52-4311-A2A2-71F50D57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1BC4-E163-4B6E-89FD-CF5C557D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394-D63B-416B-A222-DB578A4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F9639-4108-464C-B11B-B2EE4744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32D85-0D9F-483E-9FC0-61CC9371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32E64-C7B7-41FF-BFEB-492040C3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187B7-F5F9-4DC4-A92A-BC9F8147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5A2CB-93D8-4A4E-A761-8B8A7338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BB2-512E-4172-BEF9-53184BA7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0B27-6508-4A2E-B4E3-7C3AF873A1ED}" type="slidenum">
              <a:rPr b="0" lang="ar-S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4103-70D9-40C5-B61F-0FA6C502F7F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C5B9-6F74-4AF0-9965-BE0FD3DE999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6555-A410-4125-97DC-2A81DBFF8B4A}" type="slidenum">
              <a:rPr b="0" lang="ar-S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4696-C8A3-41CB-8499-A804F65A5BF7}" type="slidenum">
              <a:rPr b="0" lang="ar-S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9BB0-B5FC-46CE-9DF2-D7C0F01EB779}" type="slidenum">
              <a:rPr b="0" lang="ar-S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CE10-3D7A-4FF7-8AA2-FE1687A89F15}" type="slidenum">
              <a:rPr b="0" lang="ar-S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ages.google.com.sa/imgres?imgurl=http://thereifixedit.files.wordpress.com/2009/10/stefunkc-daddyhairtied.jpg&amp;imgrefurl=http://thereifixedit.com/2009/10/08/hair-tie-zip-tie-same-thing/&amp;usg=__wwJdSjGrP31qnX6M-N9X5plG_MM=&amp;h=375&amp;w=500&amp;sz=66&amp;hl=ar&amp;start=570&amp;um=1&amp;itbs=1&amp;tbnid=0vP30hjnkuquLM:&amp;tbnh=98&amp;tbnw=130&amp;prev=/images?q=Long+hair+tied+back&amp;start=560&amp;um=1&amp;hl=ar&amp;safe=active&amp;sa=N&amp;rlz=1R2RNTN_enSA355&amp;ndsp=20&amp;tbs=isch: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m.sa/imgres?imgurl=http://www.couponsaver.org/blog_images/how-to-use-contact-lenses-properly-while-saving-money-with-lensmart-coupon-codes-28.jpg&amp;imgrefurl=http://www.couponsaver.org/lensmart-coupons-codes.html&amp;usg=__Ub-x_-dgAgbqGMoDGBS7dOB0jI0=&amp;h=339&amp;w=370&amp;sz=16&amp;hl=ar&amp;start=2&amp;um=1&amp;itbs=1&amp;tbnid=leqr-WQvchYpKM:&amp;tbnh=112&amp;tbnw=122&amp;prev=/images?q=lenses&amp;um=1&amp;hl=ar&amp;safe=active&amp;sa=N&amp;rlz=1R2RNTN_enSA355&amp;tbs=isch:1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424804_379546465390910_153041411374751_1594095_1563682909_n.jpg"/>
          <p:cNvPicPr/>
          <p:nvPr/>
        </p:nvPicPr>
        <p:blipFill>
          <a:blip r:embed="rId1"/>
          <a:stretch/>
        </p:blipFill>
        <p:spPr>
          <a:xfrm>
            <a:off x="755640" y="836640"/>
            <a:ext cx="7831080" cy="5213160"/>
          </a:xfrm>
          <a:prstGeom prst="rect">
            <a:avLst/>
          </a:prstGeom>
          <a:ln w="0">
            <a:noFill/>
          </a:ln>
        </p:spPr>
      </p:pic>
      <p:pic>
        <p:nvPicPr>
          <p:cNvPr id="311" name="Title 2" descr=""/>
          <p:cNvPicPr/>
          <p:nvPr/>
        </p:nvPicPr>
        <p:blipFill>
          <a:blip r:embed="rId2"/>
          <a:stretch/>
        </p:blipFill>
        <p:spPr>
          <a:xfrm>
            <a:off x="749160" y="2200320"/>
            <a:ext cx="7809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عنوان 1" descr=""/>
          <p:cNvPicPr/>
          <p:nvPr/>
        </p:nvPicPr>
        <p:blipFill>
          <a:blip r:embed="rId1"/>
          <a:stretch/>
        </p:blipFill>
        <p:spPr>
          <a:xfrm>
            <a:off x="536400" y="2730600"/>
            <a:ext cx="8163000" cy="1208160"/>
          </a:xfrm>
          <a:prstGeom prst="rect">
            <a:avLst/>
          </a:prstGeom>
          <a:ln w="0">
            <a:noFill/>
          </a:ln>
        </p:spPr>
      </p:pic>
      <p:sp>
        <p:nvSpPr>
          <p:cNvPr id="35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08FE-A055-414F-9979-0CB7AA2EE5C2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92aa"/>
                </a:solidFill>
                <a:latin typeface="Times New Roman"/>
                <a:ea typeface="Times New Roman"/>
              </a:rPr>
              <a:t>Micro </a:t>
            </a:r>
            <a:r>
              <a:rPr b="0" lang="en-US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- too small to be seen with the naked ey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92aa"/>
                </a:solidFill>
                <a:latin typeface="Times New Roman"/>
                <a:ea typeface="Times New Roman"/>
              </a:rPr>
              <a:t>Bio</a:t>
            </a:r>
            <a:r>
              <a:rPr b="0" lang="en-US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- l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92aa"/>
                </a:solidFill>
                <a:latin typeface="Times New Roman"/>
                <a:ea typeface="Times New Roman"/>
              </a:rPr>
              <a:t>logy</a:t>
            </a:r>
            <a:r>
              <a:rPr b="0" lang="en-US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- study of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E04C-0A55-413A-982F-E5D8BAB9E7DA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514800" y="4510800"/>
            <a:ext cx="76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929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901929"/>
                </a:solidFill>
                <a:latin typeface="Times New Roman"/>
                <a:ea typeface="Times New Roman"/>
              </a:rPr>
              <a:t>The science that studies micro-organisms</a:t>
            </a:r>
            <a:r>
              <a:rPr b="1" lang="en-US" sz="3200" spc="-1" strike="noStrike">
                <a:solidFill>
                  <a:srgbClr val="901929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901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rbe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rbe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rbel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rbe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rbel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544400" y="566100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organisms  -  Microbes  -  G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9780531166406"/>
          <p:cNvPicPr/>
          <p:nvPr/>
        </p:nvPicPr>
        <p:blipFill>
          <a:blip r:embed="rId2"/>
          <a:stretch/>
        </p:blipFill>
        <p:spPr>
          <a:xfrm>
            <a:off x="2987640" y="1989000"/>
            <a:ext cx="218772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242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4"/>
          <p:cNvGrpSpPr/>
          <p:nvPr/>
        </p:nvGrpSpPr>
        <p:grpSpPr>
          <a:xfrm>
            <a:off x="2366280" y="260280"/>
            <a:ext cx="5433840" cy="780120"/>
            <a:chOff x="2366280" y="260280"/>
            <a:chExt cx="5433840" cy="780120"/>
          </a:xfrm>
        </p:grpSpPr>
        <p:sp>
          <p:nvSpPr>
            <p:cNvPr id="363" name="Rectangle 6"/>
            <p:cNvSpPr/>
            <p:nvPr/>
          </p:nvSpPr>
          <p:spPr>
            <a:xfrm>
              <a:off x="4384080" y="260280"/>
              <a:ext cx="1368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2366280" y="459000"/>
              <a:ext cx="543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The Compound Microsc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Picture 5" descr="A-01620_bi_lg"/>
          <p:cNvPicPr/>
          <p:nvPr/>
        </p:nvPicPr>
        <p:blipFill>
          <a:blip r:embed="rId2"/>
          <a:stretch/>
        </p:blipFill>
        <p:spPr>
          <a:xfrm>
            <a:off x="6647040" y="1989000"/>
            <a:ext cx="2496960" cy="40323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250920" y="1700280"/>
            <a:ext cx="67690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▪</a:t>
            </a: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A device for magnifying objects that are too small to be seen with the naked 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sed to observe very small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•</a:t>
            </a: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Utilize all powers of magnification on the compound microsc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• </a:t>
            </a: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Identify all the parts of a compound microsc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• </a:t>
            </a: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Know the rules for proper microscop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2" descr=""/>
          <p:cNvPicPr/>
          <p:nvPr/>
        </p:nvPicPr>
        <p:blipFill>
          <a:blip r:embed="rId1"/>
          <a:stretch/>
        </p:blipFill>
        <p:spPr>
          <a:xfrm>
            <a:off x="463680" y="19080"/>
            <a:ext cx="8242200" cy="15717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3"/>
          <p:cNvSpPr/>
          <p:nvPr/>
        </p:nvSpPr>
        <p:spPr>
          <a:xfrm>
            <a:off x="7308720" y="2276640"/>
            <a:ext cx="5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2"/>
          <a:srcRect l="0" t="1062" r="0" b="2350"/>
          <a:stretch/>
        </p:blipFill>
        <p:spPr>
          <a:xfrm>
            <a:off x="1476360" y="1569960"/>
            <a:ext cx="6512040" cy="517212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6630840" y="1628640"/>
            <a:ext cx="1249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- Eyepi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1332000" y="2781360"/>
            <a:ext cx="110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9- 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6594840" y="3740040"/>
            <a:ext cx="953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5- 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684360" y="4005360"/>
            <a:ext cx="223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1- Coars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1049400" y="4962600"/>
            <a:ext cx="179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2- Fin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6488280" y="5253120"/>
            <a:ext cx="1036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8-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468360" y="3284640"/>
            <a:ext cx="2303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0- Condenser 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6443640" y="2421000"/>
            <a:ext cx="2771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2- Revolving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osepi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6516720" y="2781360"/>
            <a:ext cx="237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-Objectiv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L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6516720" y="3213000"/>
            <a:ext cx="1719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4- Stag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6494400" y="4172040"/>
            <a:ext cx="1965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6- Diaphrag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6516720" y="4653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7-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000" y="169992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Eyepiece</a:t>
            </a:r>
            <a:r>
              <a:rPr b="0" lang="en-GB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1900" spc="-1" strike="noStrike">
                <a:solidFill>
                  <a:srgbClr val="ff0000"/>
                </a:solidFill>
                <a:latin typeface="Corbel"/>
                <a:ea typeface="Arial"/>
              </a:rPr>
              <a:t>(Ocular) </a:t>
            </a: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 lens the viewer looks through to see the specimen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Nosepiece: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 Holds objective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Objective lenses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One of the most important parts of a compound microscope, as they are the lenses closest to the specimen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Body tube (Head)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 body tube connects the eyepiece to the objective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Stage clips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Metal clips that hold the slide in place.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Stage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 flat platform where the slide is placed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Diaphragm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Adjusts the amount of light that reaches the specimen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Light source(illuminator)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 light source for a microscope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Base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 base supports the microscope and it’s where illuminator is located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Condenser lens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Gathers and focuses light from the illuminator onto the specimen being viewed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Coarse adjustment knob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Brings the specimen into general focu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Fine adjustment knob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Fine tunes the focus and increases the detail of the specimen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Stage height adjustment (Stage Control)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se knobs move the stage left and right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63680" y="19080"/>
            <a:ext cx="8242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tal magnification 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(Objective magnification)(Ocular magnification; which is typically 10x). i.e. (4X objective) (10X ocular) = 40X total magnification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mersion oil, </a:t>
            </a: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which has the ability to bend light equivalent to that of glass, allows more light to be gathered and allows a greater amount of resolution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If the stage is a great distance away from the objective when the higher powers are used, the microscope has been adjusted incorrectly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scopic Field - </a:t>
            </a: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this is the area one can observe while looking through the oculars. As the magnification increases this will also decrease. When you look through the ocular you will see a lighted circle. This is known as the field of view or the field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•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focality - </a:t>
            </a: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this refers to the ability of a microscope to need only minor focusing adjustments after the specimen is found and focused using the lowest power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A microscopist should use the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coarse </a:t>
            </a:r>
            <a:r>
              <a:rPr b="1" lang="en-US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adjustment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knob </a:t>
            </a: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only when originally finding and focusing the specim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 •</a:t>
            </a: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Once the original focus is made, the only adjustment should be with the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fine </a:t>
            </a:r>
            <a:r>
              <a:rPr b="1" lang="en-US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adjustment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knob </a:t>
            </a: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as the magnification is increased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89" name="Group 10"/>
          <p:cNvGrpSpPr/>
          <p:nvPr/>
        </p:nvGrpSpPr>
        <p:grpSpPr>
          <a:xfrm>
            <a:off x="179280" y="333360"/>
            <a:ext cx="7848360" cy="6335280"/>
            <a:chOff x="179280" y="333360"/>
            <a:chExt cx="7848360" cy="6335280"/>
          </a:xfrm>
        </p:grpSpPr>
        <p:pic>
          <p:nvPicPr>
            <p:cNvPr id="390" name="Picture 11" descr="using microscope5"/>
            <p:cNvPicPr/>
            <p:nvPr/>
          </p:nvPicPr>
          <p:blipFill>
            <a:blip r:embed="rId1"/>
            <a:stretch/>
          </p:blipFill>
          <p:spPr>
            <a:xfrm>
              <a:off x="415440" y="1379160"/>
              <a:ext cx="4159800" cy="49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2" descr="using microscope"/>
            <p:cNvPicPr/>
            <p:nvPr/>
          </p:nvPicPr>
          <p:blipFill>
            <a:blip r:embed="rId2"/>
            <a:stretch/>
          </p:blipFill>
          <p:spPr>
            <a:xfrm>
              <a:off x="4571280" y="1415880"/>
              <a:ext cx="3425400" cy="41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13"/>
            <p:cNvSpPr/>
            <p:nvPr/>
          </p:nvSpPr>
          <p:spPr>
            <a:xfrm>
              <a:off x="179280" y="651960"/>
              <a:ext cx="455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4"/>
            <p:cNvSpPr/>
            <p:nvPr/>
          </p:nvSpPr>
          <p:spPr>
            <a:xfrm>
              <a:off x="250920" y="333360"/>
              <a:ext cx="434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With a binocular microscope, adjust oculars for both eyes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Picture 15" descr="scientist%2520with%2520microscope"/>
            <p:cNvPicPr/>
            <p:nvPr/>
          </p:nvPicPr>
          <p:blipFill>
            <a:blip r:embed="rId3"/>
            <a:stretch/>
          </p:blipFill>
          <p:spPr>
            <a:xfrm>
              <a:off x="4571280" y="4068360"/>
              <a:ext cx="3456360" cy="26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96" name="Picture 5" descr="home school Microscop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97360" cy="41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6" descr="using microscope6"/>
            <p:cNvPicPr/>
            <p:nvPr/>
          </p:nvPicPr>
          <p:blipFill>
            <a:blip r:embed="rId2"/>
            <a:stretch/>
          </p:blipFill>
          <p:spPr>
            <a:xfrm>
              <a:off x="3313080" y="3192480"/>
              <a:ext cx="5830920" cy="36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7"/>
            <p:cNvSpPr/>
            <p:nvPr/>
          </p:nvSpPr>
          <p:spPr>
            <a:xfrm>
              <a:off x="4692600" y="1173240"/>
              <a:ext cx="41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on’t</a:t>
              </a:r>
              <a:r>
                <a:rPr b="0" lang="en-US" sz="2400" spc="-1" strike="noStrike">
                  <a:solidFill>
                    <a:srgbClr val="5a6378"/>
                  </a:solidFill>
                  <a:latin typeface="Comic Sans MS"/>
                </a:rPr>
                <a:t> shut one eye while observing under the microscope</a:t>
              </a:r>
              <a:r>
                <a:rPr b="0" lang="en-US" sz="2400" spc="-1" strike="noStrike">
                  <a:solidFill>
                    <a:srgbClr val="5a6378"/>
                  </a:solidFill>
                  <a:latin typeface="Comic Sans MS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labsafety"/>
          <p:cNvPicPr/>
          <p:nvPr/>
        </p:nvPicPr>
        <p:blipFill>
          <a:blip r:embed="rId1"/>
          <a:stretch/>
        </p:blipFill>
        <p:spPr>
          <a:xfrm>
            <a:off x="3059280" y="2637000"/>
            <a:ext cx="3603600" cy="24476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93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Rectangle 194" descr=""/>
          <p:cNvPicPr/>
          <p:nvPr/>
        </p:nvPicPr>
        <p:blipFill>
          <a:blip r:embed="rId2"/>
          <a:stretch/>
        </p:blipFill>
        <p:spPr>
          <a:xfrm>
            <a:off x="1182600" y="1225440"/>
            <a:ext cx="6961320" cy="3353040"/>
          </a:xfrm>
          <a:prstGeom prst="rect">
            <a:avLst/>
          </a:prstGeom>
          <a:ln w="0">
            <a:noFill/>
          </a:ln>
        </p:spPr>
      </p:pic>
      <p:sp>
        <p:nvSpPr>
          <p:cNvPr id="315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9511-85E9-44C8-9EFB-4CB5E0F68A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627280" cy="7650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10"/>
          <p:cNvSpPr/>
          <p:nvPr/>
        </p:nvSpPr>
        <p:spPr>
          <a:xfrm>
            <a:off x="5580000" y="57240"/>
            <a:ext cx="3456000" cy="100872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rbel"/>
              </a:rPr>
              <a:t>King Sau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rbel"/>
              </a:rPr>
              <a:t>Dept. of Bot. &amp; Micro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12" descr=""/>
          <p:cNvPicPr/>
          <p:nvPr/>
        </p:nvPicPr>
        <p:blipFill>
          <a:blip r:embed="rId4"/>
          <a:stretch/>
        </p:blipFill>
        <p:spPr>
          <a:xfrm>
            <a:off x="5645160" y="6370560"/>
            <a:ext cx="3236760" cy="322200"/>
          </a:xfrm>
          <a:prstGeom prst="rect">
            <a:avLst/>
          </a:prstGeom>
          <a:ln w="0">
            <a:noFill/>
          </a:ln>
        </p:spPr>
      </p:pic>
      <p:pic>
        <p:nvPicPr>
          <p:cNvPr id="319" name="Rectangle 13" descr=""/>
          <p:cNvPicPr/>
          <p:nvPr/>
        </p:nvPicPr>
        <p:blipFill>
          <a:blip r:embed="rId5"/>
          <a:stretch/>
        </p:blipFill>
        <p:spPr>
          <a:xfrm>
            <a:off x="963720" y="3346560"/>
            <a:ext cx="183492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sing the Microscop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128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he scope should be on the lowest power with the stage raised as high as it will g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he slide should be placed between the stage clips and all placement of slide and stage objectives should be done </a:t>
            </a:r>
            <a:r>
              <a:rPr b="0" lang="en-GB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</a:rPr>
              <a:t>BEFORE</a:t>
            </a: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looking into the ocula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nce all placement is ready, adjustment should be done while looking through the ocula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djustment should begin with the coarse adjustmen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nce the specimen is spotted then the fine tuning adjustment can be us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E298-83D7-4B18-96FD-75580BDDC3DB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7" descr="The End Plate.jpg"/>
          <p:cNvPicPr/>
          <p:nvPr/>
        </p:nvPicPr>
        <p:blipFill>
          <a:blip r:embed="rId1"/>
          <a:stretch/>
        </p:blipFill>
        <p:spPr>
          <a:xfrm>
            <a:off x="2771640" y="1125360"/>
            <a:ext cx="3743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protection"/>
          <p:cNvPicPr/>
          <p:nvPr/>
        </p:nvPicPr>
        <p:blipFill>
          <a:blip r:embed="rId2"/>
          <a:stretch/>
        </p:blipFill>
        <p:spPr>
          <a:xfrm>
            <a:off x="3203640" y="1773360"/>
            <a:ext cx="2855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4911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Lab coa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o not wearing the lab coat outside the lab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Glov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Proper Clothing and closed sho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Hair should be tied bac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Contact lenses not to be worn in the laboratory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7" descr="stefunkc-daddyhairtie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2276640"/>
            <a:ext cx="2016000" cy="1584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how-to-use-contact-lenses-properly-while-saving-money-with-lensmart-coupon-codes-2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75640" y="4292640"/>
            <a:ext cx="18111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4000" y="1699920"/>
            <a:ext cx="6718320" cy="504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Cell phone is not allowed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No drink or food allowed inside the Lab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Do not place any personal items (bags, coats, extra books) on the lab bench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Chemicals take as much as the experiment need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Don’t open the chemical near the fire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Never removed any of chemical substance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Follow the written experiment descrip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32B0-ACF0-49DE-A305-0E0E980590A7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108000" y="260280"/>
            <a:ext cx="8939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rbel"/>
              </a:rPr>
              <a:t>For the safety of everyone working in the lab, it is important to following this lab rul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8" descr="Image result for no drinking sign"/>
          <p:cNvPicPr/>
          <p:nvPr/>
        </p:nvPicPr>
        <p:blipFill>
          <a:blip r:embed="rId1"/>
          <a:stretch/>
        </p:blipFill>
        <p:spPr>
          <a:xfrm>
            <a:off x="6804000" y="170028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14"/>
          <p:cNvSpPr/>
          <p:nvPr/>
        </p:nvSpPr>
        <p:spPr>
          <a:xfrm>
            <a:off x="89899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6"/>
          <p:cNvSpPr/>
          <p:nvPr/>
        </p:nvSpPr>
        <p:spPr>
          <a:xfrm>
            <a:off x="89899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1" descr="no phpne.jpg"/>
          <p:cNvPicPr/>
          <p:nvPr/>
        </p:nvPicPr>
        <p:blipFill>
          <a:blip r:embed="rId2"/>
          <a:srcRect l="0" t="0" r="0" b="9388"/>
          <a:stretch/>
        </p:blipFill>
        <p:spPr>
          <a:xfrm>
            <a:off x="6588000" y="3573360"/>
            <a:ext cx="21272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4814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9492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Clean your equipment and area before leaving lab or you will marked down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Do the staining steps near the sink then open the water until the whole stain removed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Never through used matches, tissues, or cotton inside the sink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Washing hand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Disinfect the bench top with(alcohol 70% or Dettol 50%) before and after each lab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Slide Number Placeholder 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4AE5-5D26-4E3C-9011-75AC8CE8D4A3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wash hands"/>
          <p:cNvPicPr/>
          <p:nvPr/>
        </p:nvPicPr>
        <p:blipFill>
          <a:blip r:embed="rId2"/>
          <a:stretch/>
        </p:blipFill>
        <p:spPr>
          <a:xfrm>
            <a:off x="6875640" y="1700280"/>
            <a:ext cx="1844640" cy="1596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Surface Disinfectants"/>
          <p:cNvPicPr/>
          <p:nvPr/>
        </p:nvPicPr>
        <p:blipFill>
          <a:blip r:embed="rId3"/>
          <a:stretch/>
        </p:blipFill>
        <p:spPr>
          <a:xfrm>
            <a:off x="6875640" y="3213000"/>
            <a:ext cx="1800000" cy="1454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Lab_bench_laboratory_bench_"/>
          <p:cNvPicPr/>
          <p:nvPr/>
        </p:nvPicPr>
        <p:blipFill>
          <a:blip r:embed="rId4"/>
          <a:stretch/>
        </p:blipFill>
        <p:spPr>
          <a:xfrm>
            <a:off x="6875640" y="465300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2" descr=""/>
          <p:cNvPicPr/>
          <p:nvPr/>
        </p:nvPicPr>
        <p:blipFill>
          <a:blip r:embed="rId1"/>
          <a:stretch/>
        </p:blipFill>
        <p:spPr>
          <a:xfrm>
            <a:off x="182520" y="42840"/>
            <a:ext cx="8425080" cy="16826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684000" y="1690560"/>
            <a:ext cx="6553080" cy="4314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Old hazard symbol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8842-5E12-47E8-8977-99A9DB14D8E5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old_hazard_symbols.png"/>
          <p:cNvPicPr/>
          <p:nvPr/>
        </p:nvPicPr>
        <p:blipFill>
          <a:blip r:embed="rId2"/>
          <a:stretch/>
        </p:blipFill>
        <p:spPr>
          <a:xfrm>
            <a:off x="1763640" y="2190600"/>
            <a:ext cx="63532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2" descr=""/>
          <p:cNvPicPr/>
          <p:nvPr/>
        </p:nvPicPr>
        <p:blipFill>
          <a:blip r:embed="rId1"/>
          <a:stretch/>
        </p:blipFill>
        <p:spPr>
          <a:xfrm>
            <a:off x="244440" y="73080"/>
            <a:ext cx="8448840" cy="1682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899640" y="1915920"/>
            <a:ext cx="6272280" cy="4033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rbel"/>
              </a:rPr>
              <a:t>New hazard symbol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D0A2-128E-46E6-B393-9E5A228E67F2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new_hazard_symbols.png"/>
          <p:cNvPicPr/>
          <p:nvPr/>
        </p:nvPicPr>
        <p:blipFill>
          <a:blip r:embed="rId2"/>
          <a:stretch/>
        </p:blipFill>
        <p:spPr>
          <a:xfrm>
            <a:off x="1547640" y="2421000"/>
            <a:ext cx="61200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8840" cy="13287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555480" y="1432080"/>
            <a:ext cx="70408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313c"/>
                </a:solidFill>
                <a:latin typeface="Corbel"/>
              </a:rPr>
              <a:t>Chemical burns rinsed with wa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Immediately rinse with a large amount of cool wat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Flush the area for at least 20 minut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Do not use a hard spray of wate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Remove the chemical substanc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Take off any clothing or jewelry that has the chemical on i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If the area still has a burning sensaion after 20 minutes, flush the area again with flowing water for 10 to 15 minu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9802-1F20-4B06-AD8B-5B5C03E14CFF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bandaid"/>
          <p:cNvPicPr/>
          <p:nvPr/>
        </p:nvPicPr>
        <p:blipFill>
          <a:blip r:embed="rId2"/>
          <a:stretch/>
        </p:blipFill>
        <p:spPr>
          <a:xfrm>
            <a:off x="7308720" y="3068640"/>
            <a:ext cx="1710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04:37Z</dcterms:created>
  <dc:creator>User</dc:creator>
  <dc:description/>
  <dc:language>en-US</dc:language>
  <cp:lastModifiedBy>salshahrani1</cp:lastModifiedBy>
  <dcterms:modified xsi:type="dcterms:W3CDTF">2017-02-21T05:36:45Z</dcterms:modified>
  <cp:revision>30</cp:revision>
  <dc:subject/>
  <dc:title>Microbiology equipment</dc:title>
</cp:coreProperties>
</file>