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9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39.jpeg" ContentType="image/jpeg"/>
  <Override PartName="/ppt/media/image41.jpeg" ContentType="image/jpeg"/>
  <Override PartName="/ppt/media/image9.png" ContentType="image/png"/>
  <Override PartName="/ppt/media/image23.png" ContentType="image/png"/>
  <Override PartName="/ppt/media/image40.jpeg" ContentType="image/jpeg"/>
  <Override PartName="/ppt/media/image13.jpeg" ContentType="image/jpeg"/>
  <Override PartName="/ppt/media/whoosh.wav" ContentType="audio/x-wav"/>
  <Override PartName="/ppt/media/image38.jpeg" ContentType="image/jpe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1900-4DD2-4BD2-9CF2-886BB43BF0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1842-1AA6-4039-8C9E-8D0F663198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0C58-CD36-47C6-84F7-58782EC07B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16A6-DE5F-4E5B-9CE9-76B86D653D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9EBD-672B-4EF0-85AA-AB1F41696A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B15-CC37-40BF-9615-D814CDB37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C77A-17DF-4BCD-AA4E-6660200AD9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D52F-A5D9-4657-AC46-D5F0874847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6D61-A542-48D5-A5C1-0F871F6136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31B3-0007-49B5-B9F1-6D907B5D5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2947-7669-4AE7-B888-B9F94DEFA1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8A1-315F-4614-8C5E-B2DFF96B09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A536-4711-4288-A39F-9DBAC25ADD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A28C-FCAE-4E12-8949-22DF40B594A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BDEC-7CFC-46E5-9863-E2B1782518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07E-E30F-463B-B135-A87940B76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A0C-F8F2-44E8-B9F1-9147FA95FE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7AD1-723B-4113-B2E2-A25B3050AB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ED80-77D9-4645-B6D9-60C4F9BF1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C4A9-0908-44E5-8C2D-B83FFEAA24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3DC6-D651-47B3-AFAB-C2EEC10246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5A79-A678-4059-97CD-37F146D5B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5F17-BBA8-4E5C-B4BA-86C7C34C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E2CD-9768-4458-980A-1EA254F1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557-8683-4593-823A-6E913EBB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EF8C-5143-46E5-8E22-54B46B7A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6345-B305-4789-B954-A11FF651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C24D-F14D-422D-B340-598E3554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CAA6-96DA-416F-9025-77E27F0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F52B-95C3-4EDD-ADBD-B7BC49F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F617-248A-4765-BAEC-15EFFB51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258A-19DD-4A28-B70D-7F37A626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006D-697C-4DF5-AF4B-104A9A22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3F0-8B69-4820-9755-1BFF4C70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526BC-9100-4945-8E14-51635122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E09B9-5827-4120-8BA0-058D6D8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EB9A-A1C2-4863-A2F1-BD4E9983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7479-817D-4952-B015-C8473564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F278-B89E-4A21-AA3C-09262CAF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4D8A-55DD-48F7-82DA-76E88978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8EAC-2768-4AAF-89AB-29104F0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C2C9-F621-4726-B46A-5F81261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5A47-200B-4F7E-8230-6F44C629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C8FE-80F6-4222-84FB-893B82C1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837-1BA3-4593-A103-FD5544CD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7A0C-9296-4FE7-A980-E9303C79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BF077-5367-4D2E-B3AB-0CBFA33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E6F6-521E-4136-9C13-C402D6D3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0F6F-F932-446F-8AFD-53FCC923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9214-1005-4447-87FD-054007B3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E73A-EB46-42C9-8627-9CAA2BE2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C8E9D-D287-40FC-8D2B-D807F558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971AD-69B6-4240-B250-F1F622B3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46898-196B-4E7A-ACAA-DD46B4F3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B0280-77E8-48AA-BCF7-1208CAD7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59E-BCFC-4BC2-9594-C44961C6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69F5-2F3C-4602-B209-D65E1F5C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49654-0DCB-40B3-9622-8B424EAE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A25DC-D80C-4AE2-B078-3E0025F2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9B89-AEF6-40FA-8309-751DDEA5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DCB72-2DAE-4252-A843-88486963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F12B-8BC3-48F1-ABF9-40A1CDB7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75481-8204-452F-AAFF-DC53820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0489-A520-4958-B526-6F7BA4F8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3DD68-23E4-4724-949B-4CC3E32F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EA3B-C6D8-4BF7-8D10-988E1AC91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30E-012C-47FC-AE73-0F78EDA3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C5628-AB38-4603-801C-ADABA3EA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17970-A84D-4A7E-B672-34AC551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EEB85-CC95-49E7-A52F-4DF7A11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BAFB-6194-4B1E-94DF-07AFDEFC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48213-6D00-44B9-A6DF-1ED6353D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3788-5961-46EF-B0DA-3C00D767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1915E-C1C2-4A5B-8270-BAD45BD9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71FA4-226B-4E46-A8B4-F55E3ED9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3A585-1717-4E94-8229-4EBF56C5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52098-B31B-4EE3-BCD5-B8F02B23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067-3EC3-4CA2-AFE1-09AFDDAA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73AD4-16EB-4977-8983-1D03A67F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0BFF8-AFE7-4492-AEA0-8BF4AE11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4A62F-1B79-477F-80DB-00A4124E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139F-718C-43CB-8643-3D10E85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0F347-5651-4CDF-8989-6C259FEA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BD4E-7FFE-4984-A398-1A75A567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2A299-D3A7-4ABE-AFB1-18B1D2C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CCEF1-3920-40C5-A7B8-1B657853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D47A1-FFF8-4F58-84AD-5CCA917A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FC7A9-30F2-4377-8682-E635F8F5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BF2-7690-4A05-89F5-6BAC9612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3D067-AE84-4C3B-83C4-140C7ED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326CF-B35C-492F-A52E-B0EB6361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F97F-FA01-4650-9C5D-18E384EA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4C8FF-5C4B-4CEF-A1FB-5701FFC3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4343E-F2D1-4EA5-9C11-61824EEA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3066-F54B-4C31-9CAF-E547D22B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7EDC9-FC69-4513-B2DB-BD60055F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D77C1-F027-4A8D-A35A-A3E03C73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246D-AB72-4A47-9D9D-C64BA301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19C2A-0B79-4534-9B7C-9DE3E502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FAC-8B03-454F-A013-0C5CC31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8F0C1-17A0-44E3-A60B-BE0FD7E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398CE-CC04-474C-8137-AC60F06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DBA73-F614-493D-82E2-651AF65F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7AFD0-68AF-49BB-8148-6C7090B5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45936-7869-4E1E-8C9B-A7EA19718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B2F-E08A-4551-A9D7-859752A0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B0BB-4E14-41E4-97BD-F39B08011141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7D3F-51D0-4C6C-9152-36A5BBD0BEE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50E4-518A-48A6-9790-BE23C8B7F57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4C04-57C4-421C-810F-81C11040F721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35DE-DFAD-4B76-B4CA-8F6E6AA39E76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EFD-7B59-448C-83E4-2C89EA94DCB2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4453-228C-4901-BA0F-FA6E2B20B69E}" type="slidenum">
              <a:rPr b="0" lang="ar-S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com.sa/imgres?imgurl=http://thereifixedit.files.wordpress.com/2009/10/stefunkc-daddyhairtied.jpg&amp;imgrefurl=http://thereifixedit.com/2009/10/08/hair-tie-zip-tie-same-thing/&amp;usg=__wwJdSjGrP31qnX6M-N9X5plG_MM=&amp;h=375&amp;w=500&amp;sz=66&amp;hl=ar&amp;start=570&amp;um=1&amp;itbs=1&amp;tbnid=0vP30hjnkuquLM:&amp;tbnh=98&amp;tbnw=130&amp;prev=/images?q=Long+hair+tied+back&amp;start=560&amp;um=1&amp;hl=ar&amp;safe=active&amp;sa=N&amp;rlz=1R2RNTN_enSA355&amp;ndsp=20&amp;tbs=isch:1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images.google.com.sa/imgres?imgurl=http://www.couponsaver.org/blog_images/how-to-use-contact-lenses-properly-while-saving-money-with-lensmart-coupon-codes-28.jpg&amp;imgrefurl=http://www.couponsaver.org/lensmart-coupons-codes.html&amp;usg=__Ub-x_-dgAgbqGMoDGBS7dOB0jI0=&amp;h=339&amp;w=370&amp;sz=16&amp;hl=ar&amp;start=2&amp;um=1&amp;itbs=1&amp;tbnid=leqr-WQvchYpKM:&amp;tbnh=112&amp;tbnw=122&amp;prev=/images?q=lenses&amp;um=1&amp;hl=ar&amp;safe=active&amp;sa=N&amp;rlz=1R2RNTN_enSA355&amp;tbs=isch:1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424804_379546465390910_153041411374751_1594095_1563682909_n.jpg"/>
          <p:cNvPicPr/>
          <p:nvPr/>
        </p:nvPicPr>
        <p:blipFill>
          <a:blip r:embed="rId1"/>
          <a:stretch/>
        </p:blipFill>
        <p:spPr>
          <a:xfrm>
            <a:off x="755640" y="836640"/>
            <a:ext cx="7831080" cy="5213160"/>
          </a:xfrm>
          <a:prstGeom prst="rect">
            <a:avLst/>
          </a:prstGeom>
          <a:ln w="0">
            <a:noFill/>
          </a:ln>
        </p:spPr>
      </p:pic>
      <p:pic>
        <p:nvPicPr>
          <p:cNvPr id="311" name="Title 2" descr=""/>
          <p:cNvPicPr/>
          <p:nvPr/>
        </p:nvPicPr>
        <p:blipFill>
          <a:blip r:embed="rId2"/>
          <a:stretch/>
        </p:blipFill>
        <p:spPr>
          <a:xfrm>
            <a:off x="749160" y="2200320"/>
            <a:ext cx="78091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عنوان 1" descr=""/>
          <p:cNvPicPr/>
          <p:nvPr/>
        </p:nvPicPr>
        <p:blipFill>
          <a:blip r:embed="rId1"/>
          <a:stretch/>
        </p:blipFill>
        <p:spPr>
          <a:xfrm>
            <a:off x="536400" y="2730600"/>
            <a:ext cx="8163000" cy="1208160"/>
          </a:xfrm>
          <a:prstGeom prst="rect">
            <a:avLst/>
          </a:prstGeom>
          <a:ln w="0">
            <a:noFill/>
          </a:ln>
        </p:spPr>
      </p:pic>
      <p:sp>
        <p:nvSpPr>
          <p:cNvPr id="35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FB49-9799-459F-A535-F4D35762CA68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Micro 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- too small to be seen with the naked ey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Bio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- l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92aa"/>
                </a:solidFill>
                <a:latin typeface="Times New Roman"/>
                <a:ea typeface="Times New Roman"/>
              </a:rPr>
              <a:t>logy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- study of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A04F-0DDA-4EC0-AF2E-3C75F03735D2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514800" y="4510800"/>
            <a:ext cx="76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192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901929"/>
                </a:solidFill>
                <a:latin typeface="Times New Roman"/>
                <a:ea typeface="Times New Roman"/>
              </a:rPr>
              <a:t>The science that studies micro-organisms</a:t>
            </a:r>
            <a:r>
              <a:rPr b="1" lang="en-US" sz="3200" spc="-1" strike="noStrike">
                <a:solidFill>
                  <a:srgbClr val="901929"/>
                </a:solidFill>
                <a:latin typeface="Arial"/>
              </a:rPr>
              <a:t>)</a:t>
            </a:r>
            <a:r>
              <a:rPr b="1" lang="ar-SA" sz="1800" spc="-1" strike="noStrike">
                <a:solidFill>
                  <a:srgbClr val="901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Bacter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Alga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Fung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Viru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rbel"/>
              </a:rPr>
              <a:t>Protozo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544400" y="5661000"/>
            <a:ext cx="57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organisms  -  Microbes  -  G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9780531166406"/>
          <p:cNvPicPr/>
          <p:nvPr/>
        </p:nvPicPr>
        <p:blipFill>
          <a:blip r:embed="rId2"/>
          <a:stretch/>
        </p:blipFill>
        <p:spPr>
          <a:xfrm>
            <a:off x="2987640" y="1989000"/>
            <a:ext cx="218772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4"/>
          <p:cNvGrpSpPr/>
          <p:nvPr/>
        </p:nvGrpSpPr>
        <p:grpSpPr>
          <a:xfrm>
            <a:off x="2366280" y="260280"/>
            <a:ext cx="5433840" cy="780120"/>
            <a:chOff x="2366280" y="260280"/>
            <a:chExt cx="5433840" cy="780120"/>
          </a:xfrm>
        </p:grpSpPr>
        <p:sp>
          <p:nvSpPr>
            <p:cNvPr id="363" name="Rectangle 6"/>
            <p:cNvSpPr/>
            <p:nvPr/>
          </p:nvSpPr>
          <p:spPr>
            <a:xfrm>
              <a:off x="4384080" y="260280"/>
              <a:ext cx="1368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2366280" y="459000"/>
              <a:ext cx="543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0000"/>
                  </a:solidFill>
                  <a:latin typeface="Comic Sans MS"/>
                </a:rPr>
                <a:t>The Compound Microscop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Picture 5" descr="A-01620_bi_lg"/>
          <p:cNvPicPr/>
          <p:nvPr/>
        </p:nvPicPr>
        <p:blipFill>
          <a:blip r:embed="rId2"/>
          <a:stretch/>
        </p:blipFill>
        <p:spPr>
          <a:xfrm>
            <a:off x="6647040" y="1989000"/>
            <a:ext cx="2496960" cy="403236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7"/>
          <p:cNvSpPr/>
          <p:nvPr/>
        </p:nvSpPr>
        <p:spPr>
          <a:xfrm>
            <a:off x="250920" y="1700280"/>
            <a:ext cx="676908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▪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A device for magnifying objects that are too small to be seen with the naked 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Used to observe very small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Utilize all powers of magnification on the compound microsc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 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dentify all the parts of a compound microsc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 </a:t>
            </a:r>
            <a:r>
              <a:rPr b="1" lang="en-GB" sz="24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Know the rules for proper microscop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2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42200" cy="1571760"/>
          </a:xfrm>
          <a:prstGeom prst="rect">
            <a:avLst/>
          </a:prstGeom>
          <a:ln w="0">
            <a:noFill/>
          </a:ln>
        </p:spPr>
      </p:pic>
      <p:sp>
        <p:nvSpPr>
          <p:cNvPr id="368" name="TextBox 3"/>
          <p:cNvSpPr/>
          <p:nvPr/>
        </p:nvSpPr>
        <p:spPr>
          <a:xfrm>
            <a:off x="7308720" y="2276640"/>
            <a:ext cx="5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"/>
          <p:cNvPicPr/>
          <p:nvPr/>
        </p:nvPicPr>
        <p:blipFill>
          <a:blip r:embed="rId2"/>
          <a:srcRect l="0" t="1062" r="0" b="2350"/>
          <a:stretch/>
        </p:blipFill>
        <p:spPr>
          <a:xfrm>
            <a:off x="1476360" y="1569960"/>
            <a:ext cx="6512040" cy="51721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6630840" y="1628640"/>
            <a:ext cx="1249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- Ey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1332000" y="2781360"/>
            <a:ext cx="1101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9- 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594840" y="3740040"/>
            <a:ext cx="95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5- S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684360" y="4005360"/>
            <a:ext cx="22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1- Coars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1049400" y="4962600"/>
            <a:ext cx="1793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2- Fin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Fo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6488280" y="5253120"/>
            <a:ext cx="1036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8-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"/>
          <p:cNvSpPr/>
          <p:nvPr/>
        </p:nvSpPr>
        <p:spPr>
          <a:xfrm>
            <a:off x="468360" y="3284640"/>
            <a:ext cx="2303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0- Condenser l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3"/>
          <p:cNvSpPr/>
          <p:nvPr/>
        </p:nvSpPr>
        <p:spPr>
          <a:xfrm>
            <a:off x="6443640" y="2421000"/>
            <a:ext cx="2771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2- Revolving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Nose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6516720" y="2781360"/>
            <a:ext cx="237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-Objectiv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Le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6516720" y="3213000"/>
            <a:ext cx="171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- Stage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Cl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6494400" y="4172040"/>
            <a:ext cx="1965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- Diaphrag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6516720" y="465300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7-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000" y="169992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Eyepiece</a:t>
            </a:r>
            <a:r>
              <a:rPr b="0" lang="en-GB" sz="19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1900" spc="-1" strike="noStrike">
                <a:solidFill>
                  <a:srgbClr val="ff0000"/>
                </a:solidFill>
                <a:latin typeface="Corbel"/>
                <a:ea typeface="Arial"/>
              </a:rPr>
              <a:t>(Ocular) </a:t>
            </a: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lens the viewer looks through to see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Nosepiece: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 Holds objective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Objective lenses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One of the most important parts of a compound microscope, as they are the lenses closest to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Body tube (Head)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body tube connects the eyepiece to the objective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Stage clips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Metal clips that hold the slide in place.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Stage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flat platform where the slide is placed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 </a:t>
            </a: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Diaphragm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Adjusts the amount of light that reaches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Light source(illuminator)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light source for a microscope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Base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 base supports the microscope and it’s where illuminator is located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Condenser lens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Gathers and focuses light from the illuminator onto the specimen being viewed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Coarse adjustment knob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Brings the specimen into general focus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Fine adjustment knob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Fine tunes the focus and increases the detail of the specimen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Stage height adjustment (Stage Control)</a:t>
            </a:r>
            <a:r>
              <a:rPr b="0" lang="en-US" sz="1900" spc="-1" strike="noStrike">
                <a:solidFill>
                  <a:srgbClr val="ff0000"/>
                </a:solidFill>
                <a:latin typeface="Corbel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rbel"/>
                <a:ea typeface="Arial"/>
              </a:rPr>
              <a:t>These knobs move the stage left and right.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463680" y="19080"/>
            <a:ext cx="82422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tal magnification =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(Objective magnification)(Ocular magnification; which is typically 10x). i.e. (4X objective) (10X ocular) = 40X total magnification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mersion oil,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which has the ability to bend light equivalent to that of glass, allows more light to be gathered and allows a greater amount of resolution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If the stage is a great distance away from the objective when the higher powers are used, the microscope has been adjusted incorrectly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copic Field -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this is the area one can observe while looking through the oculars. As the magnification increases this will also decrease. When you look through the ocular you will see a lighted circle. This is known as the field of view or the fiel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focality - </a:t>
            </a:r>
            <a:r>
              <a:rPr b="1" lang="en-GB" sz="20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this refers to the ability of a microscope to need only minor focusing adjustments after the specimen is found and focused using the lowest power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A microscopist should use the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coarse </a:t>
            </a:r>
            <a:r>
              <a:rPr b="1" lang="en-US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adjustment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knob 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only when originally finding and focusing the specime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 •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Once the original focus is made, the only adjustment should be with the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fine </a:t>
            </a:r>
            <a:r>
              <a:rPr b="1" lang="en-US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adjustment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knob </a:t>
            </a:r>
            <a:r>
              <a:rPr b="1" lang="en-GB" sz="2000" spc="-1" strike="noStrike" u="sng">
                <a:solidFill>
                  <a:srgbClr val="191919"/>
                </a:solidFill>
                <a:uFillTx/>
                <a:latin typeface="Times New Roman"/>
                <a:ea typeface="Times New Roman"/>
              </a:rPr>
              <a:t>as the magnification is increased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9" name="Group 10"/>
          <p:cNvGrpSpPr/>
          <p:nvPr/>
        </p:nvGrpSpPr>
        <p:grpSpPr>
          <a:xfrm>
            <a:off x="179280" y="333360"/>
            <a:ext cx="7848360" cy="6335280"/>
            <a:chOff x="179280" y="333360"/>
            <a:chExt cx="7848360" cy="6335280"/>
          </a:xfrm>
        </p:grpSpPr>
        <p:pic>
          <p:nvPicPr>
            <p:cNvPr id="390" name="Picture 11" descr="using microscope5"/>
            <p:cNvPicPr/>
            <p:nvPr/>
          </p:nvPicPr>
          <p:blipFill>
            <a:blip r:embed="rId1"/>
            <a:stretch/>
          </p:blipFill>
          <p:spPr>
            <a:xfrm>
              <a:off x="415440" y="1379160"/>
              <a:ext cx="4159800" cy="498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2" descr="using microscope"/>
            <p:cNvPicPr/>
            <p:nvPr/>
          </p:nvPicPr>
          <p:blipFill>
            <a:blip r:embed="rId2"/>
            <a:stretch/>
          </p:blipFill>
          <p:spPr>
            <a:xfrm>
              <a:off x="4571280" y="1415880"/>
              <a:ext cx="3425400" cy="41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13"/>
            <p:cNvSpPr/>
            <p:nvPr/>
          </p:nvSpPr>
          <p:spPr>
            <a:xfrm>
              <a:off x="179280" y="651960"/>
              <a:ext cx="455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4"/>
            <p:cNvSpPr/>
            <p:nvPr/>
          </p:nvSpPr>
          <p:spPr>
            <a:xfrm>
              <a:off x="250920" y="333360"/>
              <a:ext cx="434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With a binocular microscope, adjust oculars for both eyes</a:t>
              </a: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4" name="Picture 15" descr="scientist%2520with%2520microscope"/>
            <p:cNvPicPr/>
            <p:nvPr/>
          </p:nvPicPr>
          <p:blipFill>
            <a:blip r:embed="rId3"/>
            <a:stretch/>
          </p:blipFill>
          <p:spPr>
            <a:xfrm>
              <a:off x="4571280" y="4068360"/>
              <a:ext cx="3456360" cy="260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96" name="Picture 5" descr="home school Microscope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797360" cy="41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6" descr="using microscope6"/>
            <p:cNvPicPr/>
            <p:nvPr/>
          </p:nvPicPr>
          <p:blipFill>
            <a:blip r:embed="rId2"/>
            <a:stretch/>
          </p:blipFill>
          <p:spPr>
            <a:xfrm>
              <a:off x="3313080" y="3192480"/>
              <a:ext cx="5830920" cy="36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7"/>
            <p:cNvSpPr/>
            <p:nvPr/>
          </p:nvSpPr>
          <p:spPr>
            <a:xfrm>
              <a:off x="4692600" y="1173240"/>
              <a:ext cx="41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on’t</a:t>
              </a:r>
              <a:r>
                <a:rPr b="0" lang="en-US" sz="2400" spc="-1" strike="noStrike">
                  <a:solidFill>
                    <a:srgbClr val="5a6378"/>
                  </a:solidFill>
                  <a:latin typeface="Comic Sans MS"/>
                </a:rPr>
                <a:t> shut one eye while observing under the microscope</a:t>
              </a:r>
              <a:r>
                <a:rPr b="0" lang="en-US" sz="2400" spc="-1" strike="noStrike">
                  <a:solidFill>
                    <a:srgbClr val="5a6378"/>
                  </a:solidFill>
                  <a:latin typeface="Comic Sans MS"/>
                </a:rPr>
                <a:t>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labsafety"/>
          <p:cNvPicPr/>
          <p:nvPr/>
        </p:nvPicPr>
        <p:blipFill>
          <a:blip r:embed="rId1"/>
          <a:stretch/>
        </p:blipFill>
        <p:spPr>
          <a:xfrm>
            <a:off x="3059280" y="2637000"/>
            <a:ext cx="3603600" cy="244764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9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Rectangle 194" descr=""/>
          <p:cNvPicPr/>
          <p:nvPr/>
        </p:nvPicPr>
        <p:blipFill>
          <a:blip r:embed="rId2"/>
          <a:stretch/>
        </p:blipFill>
        <p:spPr>
          <a:xfrm>
            <a:off x="1182600" y="1225440"/>
            <a:ext cx="6961320" cy="3353040"/>
          </a:xfrm>
          <a:prstGeom prst="rect">
            <a:avLst/>
          </a:prstGeom>
          <a:ln w="0">
            <a:noFill/>
          </a:ln>
        </p:spPr>
      </p:pic>
      <p:sp>
        <p:nvSpPr>
          <p:cNvPr id="315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9267-9FE1-4D8C-A918-260C671081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7650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10"/>
          <p:cNvSpPr/>
          <p:nvPr/>
        </p:nvSpPr>
        <p:spPr>
          <a:xfrm>
            <a:off x="5580000" y="57240"/>
            <a:ext cx="3456000" cy="1008720"/>
          </a:xfrm>
          <a:prstGeom prst="rect">
            <a:avLst/>
          </a:prstGeom>
          <a:solidFill>
            <a:srgbClr val="ffffff"/>
          </a:solidFill>
          <a:ln w="478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rbel"/>
              </a:rPr>
              <a:t>King Sau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rbel"/>
              </a:rPr>
              <a:t>Dept. of Bot. &amp; Micro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12" descr=""/>
          <p:cNvPicPr/>
          <p:nvPr/>
        </p:nvPicPr>
        <p:blipFill>
          <a:blip r:embed="rId4"/>
          <a:stretch/>
        </p:blipFill>
        <p:spPr>
          <a:xfrm>
            <a:off x="5645160" y="6370560"/>
            <a:ext cx="3236760" cy="32220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13" descr=""/>
          <p:cNvPicPr/>
          <p:nvPr/>
        </p:nvPicPr>
        <p:blipFill>
          <a:blip r:embed="rId5"/>
          <a:stretch/>
        </p:blipFill>
        <p:spPr>
          <a:xfrm>
            <a:off x="963720" y="3346560"/>
            <a:ext cx="183492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sing the Microscop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1280" y="1483920"/>
            <a:ext cx="7921440" cy="482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 scope should be on the lowest power with the stage raised as high as it will g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</a:t>
            </a: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The slide should be placed between the stage clips and all placement of slide and stage objectives should be done </a:t>
            </a:r>
            <a:r>
              <a:rPr b="0" lang="en-GB" sz="2800" spc="-1" strike="noStrike" u="sng">
                <a:solidFill>
                  <a:srgbClr val="660033"/>
                </a:solidFill>
                <a:uFillTx/>
                <a:latin typeface="Times New Roman"/>
                <a:ea typeface="Times New Roman"/>
              </a:rPr>
              <a:t>BEFORE</a:t>
            </a: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looking into the ocula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ce all placement is ready, adjustment should be done while looking through the ocula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Adjustment should begin with the coarse adjustmen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once the specimen is spotted then the fine tuning adjustment can be use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6327-96E5-4279-AC46-FBF699039E35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The End Plate.jpg"/>
          <p:cNvPicPr/>
          <p:nvPr/>
        </p:nvPicPr>
        <p:blipFill>
          <a:blip r:embed="rId1"/>
          <a:stretch/>
        </p:blipFill>
        <p:spPr>
          <a:xfrm>
            <a:off x="2771640" y="1125360"/>
            <a:ext cx="3743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protection"/>
          <p:cNvPicPr/>
          <p:nvPr/>
        </p:nvPicPr>
        <p:blipFill>
          <a:blip r:embed="rId2"/>
          <a:stretch/>
        </p:blipFill>
        <p:spPr>
          <a:xfrm>
            <a:off x="3203640" y="1773360"/>
            <a:ext cx="2855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774800"/>
            <a:ext cx="649116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Lab coa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Do not wearing the lab coat outside the lab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Glov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Proper Clothing and closed sho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Hair should be tied back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rbel"/>
              </a:rPr>
              <a:t>Contact lenses not to be worn in the laboratory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7" descr="stefunkc-daddyhairtie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2276640"/>
            <a:ext cx="2016000" cy="15840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how-to-use-contact-lenses-properly-while-saving-money-with-lensmart-coupon-codes-28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5640" y="4292640"/>
            <a:ext cx="181116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24000" y="1699920"/>
            <a:ext cx="671832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Cell phone is not allowe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No drink or food allowed inside the Lab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Do not place any personal items (bags, coats, extra books) on the lab bench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Chemicals take as much as the experiment nee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Don’t open the chemical near the fir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Never removed any of chemical substanc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haroni"/>
                <a:ea typeface="Aharoni"/>
              </a:rPr>
              <a:t>Follow the written experiment descrip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0ABE-71AB-43F3-890B-51C3E952DF9F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108000" y="260280"/>
            <a:ext cx="8939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Corbel"/>
              </a:rPr>
              <a:t>For the safety of everyone working in the lab, it is important to following this lab rul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Image result for no drinking sign"/>
          <p:cNvPicPr/>
          <p:nvPr/>
        </p:nvPicPr>
        <p:blipFill>
          <a:blip r:embed="rId1"/>
          <a:stretch/>
        </p:blipFill>
        <p:spPr>
          <a:xfrm>
            <a:off x="6804000" y="1700280"/>
            <a:ext cx="1728720" cy="172872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14"/>
          <p:cNvSpPr/>
          <p:nvPr/>
        </p:nvSpPr>
        <p:spPr>
          <a:xfrm>
            <a:off x="8989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8989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1" descr="no phpne.jpg"/>
          <p:cNvPicPr/>
          <p:nvPr/>
        </p:nvPicPr>
        <p:blipFill>
          <a:blip r:embed="rId2"/>
          <a:srcRect l="0" t="0" r="0" b="9388"/>
          <a:stretch/>
        </p:blipFill>
        <p:spPr>
          <a:xfrm>
            <a:off x="6588000" y="3573360"/>
            <a:ext cx="21272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481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9492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Clean your equipment and area before leaving lab or you will marked down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Do the staining steps near the sink then open the water until the whole stain removed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Never through used matches, tissues, or cotton inside the sink!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Washing hand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Disinfect the bench top with(alcohol 70% or Dettol 50%) before and after each lab</a:t>
            </a: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B81-69A4-4AB1-B313-2D2B240919EE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wash hands"/>
          <p:cNvPicPr/>
          <p:nvPr/>
        </p:nvPicPr>
        <p:blipFill>
          <a:blip r:embed="rId2"/>
          <a:stretch/>
        </p:blipFill>
        <p:spPr>
          <a:xfrm>
            <a:off x="6875640" y="1700280"/>
            <a:ext cx="1844640" cy="1596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Surface Disinfectants"/>
          <p:cNvPicPr/>
          <p:nvPr/>
        </p:nvPicPr>
        <p:blipFill>
          <a:blip r:embed="rId3"/>
          <a:stretch/>
        </p:blipFill>
        <p:spPr>
          <a:xfrm>
            <a:off x="6875640" y="3213000"/>
            <a:ext cx="1800000" cy="1454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Lab_bench_laboratory_bench_"/>
          <p:cNvPicPr/>
          <p:nvPr/>
        </p:nvPicPr>
        <p:blipFill>
          <a:blip r:embed="rId4"/>
          <a:stretch/>
        </p:blipFill>
        <p:spPr>
          <a:xfrm>
            <a:off x="6875640" y="4653000"/>
            <a:ext cx="1800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2" descr=""/>
          <p:cNvPicPr/>
          <p:nvPr/>
        </p:nvPicPr>
        <p:blipFill>
          <a:blip r:embed="rId1"/>
          <a:stretch/>
        </p:blipFill>
        <p:spPr>
          <a:xfrm>
            <a:off x="182520" y="42840"/>
            <a:ext cx="8425080" cy="16826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684000" y="1690560"/>
            <a:ext cx="6553080" cy="4314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rbel"/>
              </a:rPr>
              <a:t>Old hazard symbol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2B16-5EBA-4AAC-8D3B-D03B4F1708FC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old_hazard_symbols.png"/>
          <p:cNvPicPr/>
          <p:nvPr/>
        </p:nvPicPr>
        <p:blipFill>
          <a:blip r:embed="rId2"/>
          <a:stretch/>
        </p:blipFill>
        <p:spPr>
          <a:xfrm>
            <a:off x="1763640" y="2190600"/>
            <a:ext cx="63532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2" descr=""/>
          <p:cNvPicPr/>
          <p:nvPr/>
        </p:nvPicPr>
        <p:blipFill>
          <a:blip r:embed="rId1"/>
          <a:stretch/>
        </p:blipFill>
        <p:spPr>
          <a:xfrm>
            <a:off x="244440" y="73080"/>
            <a:ext cx="8448840" cy="1682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899640" y="1915920"/>
            <a:ext cx="6272280" cy="4033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rbel"/>
              </a:rPr>
              <a:t>New hazard symbol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BBD-A504-4BC8-8220-E9101A7AAD6C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new_hazard_symbols.png"/>
          <p:cNvPicPr/>
          <p:nvPr/>
        </p:nvPicPr>
        <p:blipFill>
          <a:blip r:embed="rId2"/>
          <a:stretch/>
        </p:blipFill>
        <p:spPr>
          <a:xfrm>
            <a:off x="1547640" y="2421000"/>
            <a:ext cx="61200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8840" cy="13287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555480" y="1432080"/>
            <a:ext cx="704088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313c"/>
                </a:solidFill>
                <a:latin typeface="Corbel"/>
              </a:rPr>
              <a:t>Chemical burns rinsed with wa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Immediately rinse with a large amount of cool water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Flush the area for at least 20 minute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Do not use a hard spray of water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Remove the chemical substanc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Take off any clothing or jewelry that has the chemical on it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rbel"/>
              </a:rPr>
              <a:t>If the area still has a burning sensaion after 20 minutes, flush the area again with flowing water for 10 to 15 minu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541-8E2C-49C9-9328-276C764ED217}" type="slidenum">
              <a:rPr b="0" lang="ar-SA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bandaid"/>
          <p:cNvPicPr/>
          <p:nvPr/>
        </p:nvPicPr>
        <p:blipFill>
          <a:blip r:embed="rId2"/>
          <a:stretch/>
        </p:blipFill>
        <p:spPr>
          <a:xfrm>
            <a:off x="7308720" y="3068640"/>
            <a:ext cx="1710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04:37Z</dcterms:created>
  <dc:creator>User</dc:creator>
  <dc:description/>
  <dc:language>en-US</dc:language>
  <cp:lastModifiedBy>salshahrani1</cp:lastModifiedBy>
  <dcterms:modified xsi:type="dcterms:W3CDTF">2017-02-21T05:36:45Z</dcterms:modified>
  <cp:revision>30</cp:revision>
  <dc:subject/>
  <dc:title>Microbiology equipment</dc:title>
</cp:coreProperties>
</file>