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6.jpeg" ContentType="image/jpeg"/>
  <Override PartName="/ppt/media/breeze.wav" ContentType="audio/x-wav"/>
  <Override PartName="/ppt/media/image2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F243-CA2F-457A-BB4A-64F9DB7F6B8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CEFC-9842-4EBB-A6FE-60C7D928F78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659D-C368-44DC-9BCF-23C440AE294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C390-D680-4947-9887-631628E3FE7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DAFF-5658-4C62-AB12-24D74FC2D3F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46FA-0D98-4923-B781-F07BD164B7B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510C-7A04-4551-A574-0059027D785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7DC9-F71B-409F-B931-09534CCF2EB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9A35-84D2-4080-ADE8-65BD187C1C8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BA0E-539A-42C0-8976-8AE6531AAF1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A352-C8A6-4939-9754-C147F2D2907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1DF-4D26-4EBF-8BE6-8B14CD8C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307-3B5E-4F44-BC11-70DD1B69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7A359-72EE-4EBC-96C3-3C22726F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0F06F-0DB8-450E-8B7B-B27D390C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9DA4F-E5D1-449E-8C81-A184C7AD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A5A80-68AC-4EC2-BCBA-8F713AD1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F8385-9A91-406A-95EF-F843C21C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F1707-27AD-4A82-8467-CF6CE545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8B820-2645-4087-9289-D935411F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59693-026C-433E-982F-16487BD1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128D8-9B28-4B58-83E6-EA601383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1D9AF-0111-466D-86CA-0EBB5A4D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23A-DBA9-4B30-8414-72437E35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A876C-2601-49B8-A2C6-2F418A7F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F50D2-FC44-447C-A6AC-1EF211FE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9F1B1-5969-4903-9CB1-280A451D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2E5EB-E63C-4FCF-BF9C-CFCE9915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A0B24-90C0-48DE-852F-F262EA9B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36B5A-476A-45E7-A821-D74D6185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7EAC6-4011-4241-8DE9-0FD52B0C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72353-3FA7-4C4E-9E91-7236E330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B3187-7B03-431D-BB78-7725F638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9DDC6-7AFE-4AA1-871B-BE9C2450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A88-6444-4E80-A4DB-6978B2DC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211F8-69D4-4C5A-AEE9-E08D165E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93C80-A27F-43E8-BBB7-87BCC60A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7B341-3C61-4CC3-B6E9-6231E653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5F4D8-BA56-44A4-A19A-56A6DDEF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E79B6-BD53-4BA2-9F60-49A9F625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75289-5EEE-4889-9FC8-613B856B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B4A7C-EEF5-4B82-BE3D-3E3716B4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3597C-A311-4849-B462-2A96F7D4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1BB4F-44F0-4243-8937-3A43B286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44B68-5E36-4FBA-B7E5-ACD30F4B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4B69-F130-4988-A0B8-A0BD0674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4B75C-A366-4442-AAA7-69096FB8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93884-703A-4457-AA02-C8900FEF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A4D57-7D1F-4028-8EE1-6136D02A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BD49A-E15B-43CA-A171-63BF3063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23A89-3440-4946-9F69-3D04B670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9D9EF-E0F6-490D-8A97-0CFC113F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F83AB-3AEF-4BA3-B2A4-48D15C8B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E3ECB-903F-4210-AA6F-A22B8427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C32CD-30DE-4EB1-B72D-37DB025F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C1BA0-3CAE-40B0-AB13-F686E544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A1A2-740E-4E74-BF92-1D310A1C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719D1-036B-472A-89A8-57FB9812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4E520-7172-495C-923A-64388D39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50BC5-65BA-4EA1-89F1-8415B1EB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6A6E1-1513-4E7A-B63F-3EFA4B0D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92B47-52AA-487C-A06B-4AB9D89F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A1FD7-4FFB-4EE7-9B72-672D7E08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56459-1ED9-4F50-810C-0BFAD1C3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B94D7-544A-44DF-AC4A-032EDE20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3A14E-71D1-4FF1-A632-D8282541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74620-251A-458D-B73B-2AC67660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CF0D-0D85-4819-BAAD-846C7C6F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D7AD6-4543-4CA6-986D-1B511326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4927C-3242-43E5-86D0-94C2A336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CC166-F248-4758-8258-69E4A9C9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4753B-9225-46D8-9962-F5C9CB1E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F181BF-33AD-4322-ACF4-DD8CE13F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50300-28CA-47CE-B03F-EDBC0F9C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433B3-53CE-4220-8AB2-8AFA4B19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05AF0-7C61-4AD8-B18F-B26FD840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7AA21-A420-4D88-AFA9-A8D9256D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3071C0-4F5F-4C43-B860-5441A9EC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B668-D010-4959-93DC-BCB4EDD6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37CB2-4AC1-43BB-9FD2-299BAB2C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2B032-9906-4D50-A3A1-B4C56742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6A6E5-685B-4B5E-B870-B869388B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1DBDC3-C886-4DE0-8574-34BFE2C3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888697-3AC6-4BD3-B977-32413612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22C63-3B7D-4EAE-B91B-E3325FBF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31CA4-3FFE-4A0B-93F0-1582DCE3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ECAAB-4D79-4CA0-A42A-1924F70E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A9849-76DC-4C0C-AB4E-8BE10619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9DEE-67EC-4A4A-8F89-5A6C8292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3E51-57A4-4A9C-B7FA-9ABED7BE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6B9B-E756-4C07-A5F0-C42C113C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7EF-6209-4F6E-842A-D10DF42B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51D0-6199-4AB3-ADB5-2754A12C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054C-BEBB-4408-BC3C-7AB186D1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A01A-D664-450D-A159-A36E8CC7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F56E-C8CA-414D-99C5-A849D456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63FE-2C0D-4F6E-872B-CF182E8E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1E48-DD7D-48C9-AAC4-10F33DEB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D800-4CEB-4F30-95B3-4C465339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FC013-C30E-4E07-A9C2-30EA3892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31593-FFDB-41AF-910E-8A0A389B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4C4A-DBA8-4110-A7EB-17584933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713B-4AF5-463E-A89F-9DDADBF3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2F7B9-940B-4C99-9DB2-A27B430F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F79A7-5B2F-4F80-A57F-B844268F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23F00-F85D-4113-A89F-F9111C71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DFC94-8D71-4519-B3F6-010DC01F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8E741-EAEF-4C63-A202-31C74A79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55666-8E5D-4AC0-BDD5-B0EF8C33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F327C-B906-4AC4-ACEE-F4040CBE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98700-CB1C-4ECA-BF07-BA7D3A3D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318C8-8A94-459E-B9C7-50F69F4D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AA55D-4567-42ED-B5D2-06726353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409-BF5A-47A3-A27A-A5F061BB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FBE4-4A86-4282-BF13-C3F2B456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48D0C-2AE1-486E-B7ED-BECD3901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90E14-30DE-4BA5-88A6-74C77EE3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B9BD3-4822-4EE5-A231-029A36A5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15ADC-DC4E-4F08-97E1-A84DC087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853E7-77CC-4464-8310-C900194F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B53A8-DFC5-4F73-AEAC-A2560224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CDD65-E0B2-4573-8992-C7F7D166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94B57-9488-429E-AADE-5CF77C14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26F54-3584-49B4-B898-CC065B2C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30C-7B1F-4545-8689-DCD6ABF7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2EE3E-C2B3-4BB1-BCE5-6F645A85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84F2C-08FA-459A-946E-4E0B523B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C989C-ABEE-4259-8E86-786F39AF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4B7DE-332B-408E-9B30-8DC5EBB8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B303E-29E2-42F3-9151-E9569939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0BE55-9047-4455-83F1-10CCB395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C3D13-D4A5-4DAE-98F6-89AA6B8F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A776A-54A4-4959-BA29-3104D115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DA7BC-817E-4744-ABF1-6B477830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A9660-179E-44F7-9355-34A1228A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784-54D8-497B-BA6B-E67603C8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CC706-CA29-4343-820C-251D02BB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FECE6-2686-48B6-9746-9277CBBF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F1749-02BE-4D25-9A58-B0646091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381D0-29FA-4440-AF45-B9009924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0CE35-B901-47EC-8CAB-89814D7D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CFA0D-5CD2-49D1-80F1-F87A5B64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C4571-1210-4F9C-B420-143FC24E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52DE5-D62A-4473-B7ED-0C01607E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CD7D3-743F-4333-8599-66A84DE0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D4507-38FD-406A-A951-B090B128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212-4572-4094-912E-1AF18FA3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7D8BF-7EE7-453C-AE35-1E09116B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A8029-418F-4697-9B4F-DF2B88D5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CBE59-B4A1-4AFB-A882-D5755092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86DCC-59DD-46A0-81DF-0C717E23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477B5-AE18-4FD4-8952-865B5A62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B2D76-A64A-41BC-88E6-D4FAD57C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2542E-B6E1-4420-A282-503F22A6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31BF6-3D61-41FB-B739-226CD106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A9A1A-2A1A-4682-B727-AB954504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DAB02-5C65-4533-87CC-351F8CC1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A68-AA90-499C-9C0D-768776C7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7BBB9-F319-4823-87F5-EF74E0BE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C1A16-87F5-4A5C-AB6D-1FC7E018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806E8-CC6B-48F4-A765-3E115739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65641-7549-4DC5-A689-29D11874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30A95-B37D-4633-8FF6-535AB709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B909F-C3AB-4F74-9EFF-9F4A05E2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73222-2397-4C99-BB74-BB83E918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D7AEA-620F-407F-B2C4-D8F4FC33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0A735-4926-4997-BE88-34D998AD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9983E-056A-47DB-B6B0-D9568EF4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759-018B-4410-A0D2-AA409630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1BF9C-2427-4450-A7E6-E5EA9110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B2382-50A4-47BE-B897-4C5AF5F8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21029-E11C-4679-8F1E-5012F198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8A678-2544-4F9B-9A92-CEDF96D9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12D3F-D8B6-4D20-8C53-D0C1EEC3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A29FE-2EB7-47BA-9DF5-6C319E48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B3F7B-77D6-4C4A-A3B7-4E75A36B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155FF-5706-49D1-9F9B-7D546D77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CD44C-B62D-4102-87D9-AD25BEFA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92625-5081-4C37-9446-EF1A1AC0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7559-FAAA-4B45-BA5B-07CD919B9C2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A491-7D0A-46A1-8242-4B843683030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3709-179C-45FD-9F8D-67CE2EA15B2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B24B-702B-4E05-BF4D-8BAE1B23BE9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D245-60BF-4700-A1CC-D4CB26E0BA8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4092-C682-408B-B4A1-A777DCACC4B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0A61-B37A-4354-9436-D021DEB4E62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F47E-4874-423D-AB17-DA650BA0573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FF6C-CE91-4D2E-AA1C-3F86189E34B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EDED-9BE6-4CD3-B72C-A38B84198BC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D8BD-07F1-4504-BD1C-DF69D946E0C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EC2B-F9D6-4A19-9069-E73D65D381E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2D4F-DD08-4F70-BE2E-207204E8F45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E403-2BFF-44C1-B34B-2DC7D015C5B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empus Sans ITC"/>
              </a:rPr>
              <a:t>313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empus Sans ITC"/>
              </a:rPr>
              <a:t>PH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adley Hand ITC"/>
              </a:rPr>
              <a:t>LAB#1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6B51-A5AB-4382-B920-00A85668BF1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Gram’s Stain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662" name="Picture 2" descr="D:\Eman\Micro photos\Slides revision\Gram stain technique.bmp"/>
          <p:cNvPicPr/>
          <p:nvPr/>
        </p:nvPicPr>
        <p:blipFill>
          <a:blip r:embed="rId1"/>
          <a:stretch/>
        </p:blipFill>
        <p:spPr>
          <a:xfrm>
            <a:off x="500040" y="1357200"/>
            <a:ext cx="814392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2857-EE75-4278-A85F-7899834EEE8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0" y="5428800"/>
            <a:ext cx="434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G-ve bacilli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665" name="Picture 4" descr="staph01"/>
          <p:cNvPicPr/>
          <p:nvPr/>
        </p:nvPicPr>
        <p:blipFill>
          <a:blip r:embed="rId1"/>
          <a:stretch/>
        </p:blipFill>
        <p:spPr>
          <a:xfrm>
            <a:off x="250920" y="620640"/>
            <a:ext cx="4176720" cy="38084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5" descr="slide0212_image001"/>
          <p:cNvPicPr/>
          <p:nvPr/>
        </p:nvPicPr>
        <p:blipFill>
          <a:blip r:embed="rId2"/>
          <a:stretch/>
        </p:blipFill>
        <p:spPr>
          <a:xfrm>
            <a:off x="4643280" y="1714680"/>
            <a:ext cx="4176720" cy="382248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6"/>
          <p:cNvSpPr/>
          <p:nvPr/>
        </p:nvSpPr>
        <p:spPr>
          <a:xfrm>
            <a:off x="521640" y="4714920"/>
            <a:ext cx="380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m+ve cocc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ECDB-4E5D-41F4-8459-4A2D8CCE66A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Gram Stain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t is the most important differential stain used in bacteriology because it classified bacteria into two major group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AutoShape 4"/>
          <p:cNvSpPr/>
          <p:nvPr/>
        </p:nvSpPr>
        <p:spPr>
          <a:xfrm rot="16200000">
            <a:off x="4152960" y="2155320"/>
            <a:ext cx="685800" cy="3962520"/>
          </a:xfrm>
          <a:custGeom>
            <a:avLst/>
            <a:gdLst>
              <a:gd name="textAreaLeft" fmla="*/ 0 w 685800"/>
              <a:gd name="textAreaRight" fmla="*/ 247680 w 68580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533520" y="4495680"/>
            <a:ext cx="37335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Gram positive: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ears </a:t>
            </a:r>
            <a:r>
              <a:rPr b="1" lang="en-US" sz="2400" spc="-1" strike="noStrike">
                <a:solidFill>
                  <a:srgbClr val="9d3bff"/>
                </a:solidFill>
                <a:latin typeface="Tahoma"/>
              </a:rPr>
              <a:t>viole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after Gram’s st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4876920" y="4419720"/>
            <a:ext cx="4038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b)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Gram nega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ear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after Gram’s st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4" name="Picture 7" descr="01-18_GramStain_L"/>
          <p:cNvPicPr/>
          <p:nvPr/>
        </p:nvPicPr>
        <p:blipFill>
          <a:blip r:embed="rId1"/>
          <a:stretch/>
        </p:blipFill>
        <p:spPr>
          <a:xfrm>
            <a:off x="4572000" y="1120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B82F-CB44-4D8C-A12A-A146F96185B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Gram Stain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Materials:-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s of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Staphylococci, Candida, Bacillus, gram –ve bacter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ystal violet (primary stai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am’s iodine (mordan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etone-alcohol (decolorizing agen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franin (counter stain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7E23-A299-4E08-BA0C-E246244DA25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00040" y="542880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Gram Staining Technique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680" name="Picture 6" descr="Picture1"/>
          <p:cNvPicPr/>
          <p:nvPr/>
        </p:nvPicPr>
        <p:blipFill>
          <a:blip r:embed="rId1"/>
          <a:stretch/>
        </p:blipFill>
        <p:spPr>
          <a:xfrm>
            <a:off x="539640" y="404640"/>
            <a:ext cx="808380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0C3E-D022-4A6E-AD7B-A4B03B316A8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Gram Stain </a:t>
            </a:r>
            <a:r>
              <a:rPr b="0" i="1" lang="en-US" sz="4000" spc="-1" strike="noStrike" u="sng">
                <a:solidFill>
                  <a:srgbClr val="ebf7ff"/>
                </a:solidFill>
                <a:uFillTx/>
                <a:latin typeface="Verdana"/>
              </a:rPr>
              <a:t>[single]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9900"/>
                </a:solidFill>
                <a:uFillTx/>
                <a:latin typeface="Verdana"/>
              </a:rPr>
              <a:t>Procedur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3733920" y="3962520"/>
            <a:ext cx="1981080" cy="914400"/>
          </a:xfrm>
          <a:prstGeom prst="rect">
            <a:avLst/>
          </a:prstGeom>
          <a:solidFill>
            <a:srgbClr val="edfad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AutoShape 5"/>
          <p:cNvSpPr/>
          <p:nvPr/>
        </p:nvSpPr>
        <p:spPr>
          <a:xfrm>
            <a:off x="4460760" y="4272120"/>
            <a:ext cx="482760" cy="266400"/>
          </a:xfrm>
          <a:custGeom>
            <a:avLst/>
            <a:gdLst>
              <a:gd name="textAreaLeft" fmla="*/ 0 w 482760"/>
              <a:gd name="textAreaRight" fmla="*/ 483120 w 482760"/>
              <a:gd name="textAreaTop" fmla="*/ 34560 h 266400"/>
              <a:gd name="textAreaBottom" fmla="*/ 231840 h 266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ebf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1900080" y="4241880"/>
            <a:ext cx="381240" cy="457200"/>
          </a:xfrm>
          <a:prstGeom prst="rect">
            <a:avLst/>
          </a:prstGeom>
          <a:solidFill>
            <a:srgbClr val="ffe5b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87" name="Picture 7" descr="SPECIMEN"/>
          <p:cNvPicPr/>
          <p:nvPr/>
        </p:nvPicPr>
        <p:blipFill>
          <a:blip r:embed="rId1"/>
          <a:stretch/>
        </p:blipFill>
        <p:spPr>
          <a:xfrm>
            <a:off x="1828800" y="3809880"/>
            <a:ext cx="574560" cy="99072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8"/>
          <p:cNvSpPr/>
          <p:nvPr/>
        </p:nvSpPr>
        <p:spPr>
          <a:xfrm>
            <a:off x="1892160" y="4146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89" name="Group 10"/>
          <p:cNvGrpSpPr/>
          <p:nvPr/>
        </p:nvGrpSpPr>
        <p:grpSpPr>
          <a:xfrm>
            <a:off x="4419720" y="2093760"/>
            <a:ext cx="606240" cy="1411200"/>
            <a:chOff x="4419720" y="2093760"/>
            <a:chExt cx="606240" cy="1411200"/>
          </a:xfrm>
        </p:grpSpPr>
        <p:sp>
          <p:nvSpPr>
            <p:cNvPr id="690" name="AutoShape 11"/>
            <p:cNvSpPr/>
            <p:nvPr/>
          </p:nvSpPr>
          <p:spPr>
            <a:xfrm>
              <a:off x="4419720" y="2093760"/>
              <a:ext cx="6062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4434120" y="2106360"/>
              <a:ext cx="577800" cy="1386000"/>
            </a:xfrm>
            <a:custGeom>
              <a:avLst/>
              <a:gdLst/>
              <a:ahLst/>
              <a:rect l="l" t="t" r="r" b="b"/>
              <a:pathLst>
                <a:path w="2553" h="6105">
                  <a:moveTo>
                    <a:pt x="146" y="6105"/>
                  </a:moveTo>
                  <a:lnTo>
                    <a:pt x="117" y="6101"/>
                  </a:lnTo>
                  <a:lnTo>
                    <a:pt x="89" y="6094"/>
                  </a:lnTo>
                  <a:lnTo>
                    <a:pt x="65" y="6080"/>
                  </a:lnTo>
                  <a:lnTo>
                    <a:pt x="44" y="6062"/>
                  </a:lnTo>
                  <a:lnTo>
                    <a:pt x="25" y="6040"/>
                  </a:lnTo>
                  <a:lnTo>
                    <a:pt x="11" y="6016"/>
                  </a:lnTo>
                  <a:lnTo>
                    <a:pt x="4" y="5988"/>
                  </a:lnTo>
                  <a:lnTo>
                    <a:pt x="0" y="5959"/>
                  </a:lnTo>
                  <a:lnTo>
                    <a:pt x="0" y="3351"/>
                  </a:lnTo>
                  <a:lnTo>
                    <a:pt x="1080" y="3351"/>
                  </a:lnTo>
                  <a:lnTo>
                    <a:pt x="1080" y="1819"/>
                  </a:lnTo>
                  <a:lnTo>
                    <a:pt x="1473" y="1819"/>
                  </a:lnTo>
                  <a:lnTo>
                    <a:pt x="1473" y="3351"/>
                  </a:lnTo>
                  <a:lnTo>
                    <a:pt x="2553" y="3351"/>
                  </a:lnTo>
                  <a:lnTo>
                    <a:pt x="2553" y="5959"/>
                  </a:lnTo>
                  <a:lnTo>
                    <a:pt x="2549" y="5988"/>
                  </a:lnTo>
                  <a:lnTo>
                    <a:pt x="2542" y="6016"/>
                  </a:lnTo>
                  <a:lnTo>
                    <a:pt x="2528" y="6040"/>
                  </a:lnTo>
                  <a:lnTo>
                    <a:pt x="2510" y="6062"/>
                  </a:lnTo>
                  <a:lnTo>
                    <a:pt x="2488" y="6080"/>
                  </a:lnTo>
                  <a:lnTo>
                    <a:pt x="2463" y="6094"/>
                  </a:lnTo>
                  <a:lnTo>
                    <a:pt x="2436" y="6101"/>
                  </a:lnTo>
                  <a:lnTo>
                    <a:pt x="2407" y="6105"/>
                  </a:lnTo>
                  <a:lnTo>
                    <a:pt x="146" y="6105"/>
                  </a:lnTo>
                  <a:close/>
                  <a:moveTo>
                    <a:pt x="1080" y="1704"/>
                  </a:moveTo>
                  <a:lnTo>
                    <a:pt x="1080" y="1573"/>
                  </a:lnTo>
                  <a:lnTo>
                    <a:pt x="525" y="1573"/>
                  </a:lnTo>
                  <a:lnTo>
                    <a:pt x="525" y="1037"/>
                  </a:lnTo>
                  <a:lnTo>
                    <a:pt x="924" y="1037"/>
                  </a:lnTo>
                  <a:lnTo>
                    <a:pt x="995" y="257"/>
                  </a:lnTo>
                  <a:lnTo>
                    <a:pt x="1005" y="204"/>
                  </a:lnTo>
                  <a:lnTo>
                    <a:pt x="1024" y="155"/>
                  </a:lnTo>
                  <a:lnTo>
                    <a:pt x="1051" y="112"/>
                  </a:lnTo>
                  <a:lnTo>
                    <a:pt x="1085" y="74"/>
                  </a:lnTo>
                  <a:lnTo>
                    <a:pt x="1126" y="43"/>
                  </a:lnTo>
                  <a:lnTo>
                    <a:pt x="1172" y="20"/>
                  </a:lnTo>
                  <a:lnTo>
                    <a:pt x="1223" y="6"/>
                  </a:lnTo>
                  <a:lnTo>
                    <a:pt x="1277" y="0"/>
                  </a:lnTo>
                  <a:lnTo>
                    <a:pt x="1331" y="6"/>
                  </a:lnTo>
                  <a:lnTo>
                    <a:pt x="1382" y="20"/>
                  </a:lnTo>
                  <a:lnTo>
                    <a:pt x="1428" y="44"/>
                  </a:lnTo>
                  <a:lnTo>
                    <a:pt x="1469" y="75"/>
                  </a:lnTo>
                  <a:lnTo>
                    <a:pt x="1502" y="113"/>
                  </a:lnTo>
                  <a:lnTo>
                    <a:pt x="1530" y="156"/>
                  </a:lnTo>
                  <a:lnTo>
                    <a:pt x="1549" y="204"/>
                  </a:lnTo>
                  <a:lnTo>
                    <a:pt x="1559" y="257"/>
                  </a:lnTo>
                  <a:lnTo>
                    <a:pt x="1629" y="1037"/>
                  </a:lnTo>
                  <a:lnTo>
                    <a:pt x="2029" y="1037"/>
                  </a:lnTo>
                  <a:lnTo>
                    <a:pt x="2029" y="1573"/>
                  </a:lnTo>
                  <a:lnTo>
                    <a:pt x="1473" y="1573"/>
                  </a:lnTo>
                  <a:lnTo>
                    <a:pt x="1473" y="1704"/>
                  </a:lnTo>
                  <a:lnTo>
                    <a:pt x="1080" y="170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4434120" y="2519280"/>
              <a:ext cx="577800" cy="973080"/>
            </a:xfrm>
            <a:custGeom>
              <a:avLst/>
              <a:gdLst/>
              <a:ahLst/>
              <a:rect l="l" t="t" r="r" b="b"/>
              <a:pathLst>
                <a:path w="2553" h="4286">
                  <a:moveTo>
                    <a:pt x="146" y="4286"/>
                  </a:moveTo>
                  <a:lnTo>
                    <a:pt x="117" y="4282"/>
                  </a:lnTo>
                  <a:lnTo>
                    <a:pt x="89" y="4275"/>
                  </a:lnTo>
                  <a:lnTo>
                    <a:pt x="65" y="4261"/>
                  </a:lnTo>
                  <a:lnTo>
                    <a:pt x="44" y="4243"/>
                  </a:lnTo>
                  <a:lnTo>
                    <a:pt x="25" y="4221"/>
                  </a:lnTo>
                  <a:lnTo>
                    <a:pt x="11" y="4197"/>
                  </a:lnTo>
                  <a:lnTo>
                    <a:pt x="4" y="4169"/>
                  </a:lnTo>
                  <a:lnTo>
                    <a:pt x="0" y="4140"/>
                  </a:lnTo>
                  <a:lnTo>
                    <a:pt x="0" y="1532"/>
                  </a:lnTo>
                  <a:lnTo>
                    <a:pt x="1080" y="1532"/>
                  </a:lnTo>
                  <a:lnTo>
                    <a:pt x="1080" y="0"/>
                  </a:lnTo>
                  <a:lnTo>
                    <a:pt x="1473" y="0"/>
                  </a:lnTo>
                  <a:lnTo>
                    <a:pt x="1473" y="1532"/>
                  </a:lnTo>
                  <a:lnTo>
                    <a:pt x="2553" y="1532"/>
                  </a:lnTo>
                  <a:lnTo>
                    <a:pt x="2553" y="4140"/>
                  </a:lnTo>
                  <a:lnTo>
                    <a:pt x="2549" y="4169"/>
                  </a:lnTo>
                  <a:lnTo>
                    <a:pt x="2542" y="4197"/>
                  </a:lnTo>
                  <a:lnTo>
                    <a:pt x="2528" y="4221"/>
                  </a:lnTo>
                  <a:lnTo>
                    <a:pt x="2510" y="4243"/>
                  </a:lnTo>
                  <a:lnTo>
                    <a:pt x="2488" y="4261"/>
                  </a:lnTo>
                  <a:lnTo>
                    <a:pt x="2463" y="4275"/>
                  </a:lnTo>
                  <a:lnTo>
                    <a:pt x="2436" y="4282"/>
                  </a:lnTo>
                  <a:lnTo>
                    <a:pt x="2407" y="4286"/>
                  </a:lnTo>
                  <a:lnTo>
                    <a:pt x="146" y="428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4552920" y="2106360"/>
              <a:ext cx="339840" cy="387360"/>
            </a:xfrm>
            <a:custGeom>
              <a:avLst/>
              <a:gdLst/>
              <a:ahLst/>
              <a:rect l="l" t="t" r="r" b="b"/>
              <a:pathLst>
                <a:path w="1504" h="1704">
                  <a:moveTo>
                    <a:pt x="555" y="1704"/>
                  </a:moveTo>
                  <a:lnTo>
                    <a:pt x="555" y="1573"/>
                  </a:lnTo>
                  <a:lnTo>
                    <a:pt x="0" y="1573"/>
                  </a:lnTo>
                  <a:lnTo>
                    <a:pt x="0" y="1037"/>
                  </a:lnTo>
                  <a:lnTo>
                    <a:pt x="399" y="1037"/>
                  </a:lnTo>
                  <a:lnTo>
                    <a:pt x="470" y="257"/>
                  </a:lnTo>
                  <a:lnTo>
                    <a:pt x="480" y="204"/>
                  </a:lnTo>
                  <a:lnTo>
                    <a:pt x="499" y="155"/>
                  </a:lnTo>
                  <a:lnTo>
                    <a:pt x="526" y="112"/>
                  </a:lnTo>
                  <a:lnTo>
                    <a:pt x="560" y="74"/>
                  </a:lnTo>
                  <a:lnTo>
                    <a:pt x="601" y="43"/>
                  </a:lnTo>
                  <a:lnTo>
                    <a:pt x="647" y="20"/>
                  </a:lnTo>
                  <a:lnTo>
                    <a:pt x="698" y="6"/>
                  </a:lnTo>
                  <a:lnTo>
                    <a:pt x="752" y="0"/>
                  </a:lnTo>
                  <a:lnTo>
                    <a:pt x="806" y="6"/>
                  </a:lnTo>
                  <a:lnTo>
                    <a:pt x="857" y="20"/>
                  </a:lnTo>
                  <a:lnTo>
                    <a:pt x="903" y="44"/>
                  </a:lnTo>
                  <a:lnTo>
                    <a:pt x="944" y="75"/>
                  </a:lnTo>
                  <a:lnTo>
                    <a:pt x="977" y="113"/>
                  </a:lnTo>
                  <a:lnTo>
                    <a:pt x="1005" y="156"/>
                  </a:lnTo>
                  <a:lnTo>
                    <a:pt x="1024" y="204"/>
                  </a:lnTo>
                  <a:lnTo>
                    <a:pt x="1034" y="257"/>
                  </a:lnTo>
                  <a:lnTo>
                    <a:pt x="1104" y="1037"/>
                  </a:lnTo>
                  <a:lnTo>
                    <a:pt x="1504" y="1037"/>
                  </a:lnTo>
                  <a:lnTo>
                    <a:pt x="1504" y="1573"/>
                  </a:lnTo>
                  <a:lnTo>
                    <a:pt x="948" y="1573"/>
                  </a:lnTo>
                  <a:lnTo>
                    <a:pt x="948" y="1704"/>
                  </a:lnTo>
                  <a:lnTo>
                    <a:pt x="555" y="170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4" name="Line 15"/>
            <p:cNvSpPr/>
            <p:nvPr/>
          </p:nvSpPr>
          <p:spPr>
            <a:xfrm flipH="1">
              <a:off x="4643280" y="2342880"/>
              <a:ext cx="158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4552920" y="2493720"/>
              <a:ext cx="125640" cy="25560"/>
            </a:xfrm>
            <a:custGeom>
              <a:avLst/>
              <a:gdLst/>
              <a:ahLst/>
              <a:rect l="l" t="t" r="r" b="b"/>
              <a:pathLst>
                <a:path w="555" h="115">
                  <a:moveTo>
                    <a:pt x="555" y="115"/>
                  </a:moveTo>
                  <a:lnTo>
                    <a:pt x="55" y="110"/>
                  </a:lnTo>
                  <a:lnTo>
                    <a:pt x="34" y="106"/>
                  </a:lnTo>
                  <a:lnTo>
                    <a:pt x="16" y="95"/>
                  </a:lnTo>
                  <a:lnTo>
                    <a:pt x="5" y="77"/>
                  </a:lnTo>
                  <a:lnTo>
                    <a:pt x="0" y="56"/>
                  </a:lnTo>
                  <a:lnTo>
                    <a:pt x="5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5" y="0"/>
                  </a:lnTo>
                  <a:lnTo>
                    <a:pt x="5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6" name="Line 17"/>
            <p:cNvSpPr/>
            <p:nvPr/>
          </p:nvSpPr>
          <p:spPr>
            <a:xfrm>
              <a:off x="4678560" y="2463480"/>
              <a:ext cx="8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4767480" y="2493720"/>
              <a:ext cx="125280" cy="25560"/>
            </a:xfrm>
            <a:custGeom>
              <a:avLst/>
              <a:gdLst/>
              <a:ahLst/>
              <a:rect l="l" t="t" r="r" b="b"/>
              <a:pathLst>
                <a:path w="556" h="115">
                  <a:moveTo>
                    <a:pt x="0" y="0"/>
                  </a:moveTo>
                  <a:lnTo>
                    <a:pt x="500" y="0"/>
                  </a:lnTo>
                  <a:lnTo>
                    <a:pt x="522" y="4"/>
                  </a:lnTo>
                  <a:lnTo>
                    <a:pt x="540" y="17"/>
                  </a:lnTo>
                  <a:lnTo>
                    <a:pt x="551" y="33"/>
                  </a:lnTo>
                  <a:lnTo>
                    <a:pt x="556" y="56"/>
                  </a:lnTo>
                  <a:lnTo>
                    <a:pt x="551" y="77"/>
                  </a:lnTo>
                  <a:lnTo>
                    <a:pt x="540" y="95"/>
                  </a:lnTo>
                  <a:lnTo>
                    <a:pt x="522" y="106"/>
                  </a:lnTo>
                  <a:lnTo>
                    <a:pt x="500" y="110"/>
                  </a:lnTo>
                  <a:lnTo>
                    <a:pt x="0" y="1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8" name="Line 19"/>
            <p:cNvSpPr/>
            <p:nvPr/>
          </p:nvSpPr>
          <p:spPr>
            <a:xfrm>
              <a:off x="4869000" y="24634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4864320" y="2519280"/>
              <a:ext cx="147600" cy="347400"/>
            </a:xfrm>
            <a:custGeom>
              <a:avLst/>
              <a:gdLst/>
              <a:ahLst/>
              <a:rect l="l" t="t" r="r" b="b"/>
              <a:pathLst>
                <a:path w="656" h="1537">
                  <a:moveTo>
                    <a:pt x="0" y="0"/>
                  </a:moveTo>
                  <a:lnTo>
                    <a:pt x="7" y="51"/>
                  </a:lnTo>
                  <a:lnTo>
                    <a:pt x="17" y="96"/>
                  </a:lnTo>
                  <a:lnTo>
                    <a:pt x="43" y="178"/>
                  </a:lnTo>
                  <a:lnTo>
                    <a:pt x="61" y="215"/>
                  </a:lnTo>
                  <a:lnTo>
                    <a:pt x="80" y="248"/>
                  </a:lnTo>
                  <a:lnTo>
                    <a:pt x="125" y="309"/>
                  </a:lnTo>
                  <a:lnTo>
                    <a:pt x="176" y="364"/>
                  </a:lnTo>
                  <a:lnTo>
                    <a:pt x="231" y="418"/>
                  </a:lnTo>
                  <a:lnTo>
                    <a:pt x="348" y="531"/>
                  </a:lnTo>
                  <a:lnTo>
                    <a:pt x="406" y="597"/>
                  </a:lnTo>
                  <a:lnTo>
                    <a:pt x="463" y="674"/>
                  </a:lnTo>
                  <a:lnTo>
                    <a:pt x="514" y="764"/>
                  </a:lnTo>
                  <a:lnTo>
                    <a:pt x="539" y="815"/>
                  </a:lnTo>
                  <a:lnTo>
                    <a:pt x="561" y="871"/>
                  </a:lnTo>
                  <a:lnTo>
                    <a:pt x="581" y="933"/>
                  </a:lnTo>
                  <a:lnTo>
                    <a:pt x="600" y="1000"/>
                  </a:lnTo>
                  <a:lnTo>
                    <a:pt x="616" y="1072"/>
                  </a:lnTo>
                  <a:lnTo>
                    <a:pt x="630" y="1150"/>
                  </a:lnTo>
                  <a:lnTo>
                    <a:pt x="641" y="1236"/>
                  </a:lnTo>
                  <a:lnTo>
                    <a:pt x="649" y="1329"/>
                  </a:lnTo>
                  <a:lnTo>
                    <a:pt x="653" y="1428"/>
                  </a:lnTo>
                  <a:lnTo>
                    <a:pt x="656" y="15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4678560" y="2866680"/>
              <a:ext cx="88920" cy="541440"/>
            </a:xfrm>
            <a:custGeom>
              <a:avLst/>
              <a:gdLst/>
              <a:ahLst/>
              <a:rect l="l" t="t" r="r" b="b"/>
              <a:pathLst>
                <a:path w="393" h="2388">
                  <a:moveTo>
                    <a:pt x="393" y="0"/>
                  </a:moveTo>
                  <a:lnTo>
                    <a:pt x="393" y="1487"/>
                  </a:lnTo>
                  <a:lnTo>
                    <a:pt x="277" y="2388"/>
                  </a:lnTo>
                  <a:lnTo>
                    <a:pt x="116" y="2388"/>
                  </a:lnTo>
                  <a:lnTo>
                    <a:pt x="0" y="1487"/>
                  </a:lnTo>
                  <a:lnTo>
                    <a:pt x="1" y="1490"/>
                  </a:lnTo>
                  <a:lnTo>
                    <a:pt x="1" y="1488"/>
                  </a:lnTo>
                  <a:lnTo>
                    <a:pt x="0" y="148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1" name="Line 22"/>
            <p:cNvSpPr/>
            <p:nvPr/>
          </p:nvSpPr>
          <p:spPr>
            <a:xfrm>
              <a:off x="4678560" y="320508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2" name="Line 23"/>
            <p:cNvSpPr/>
            <p:nvPr/>
          </p:nvSpPr>
          <p:spPr>
            <a:xfrm flipH="1">
              <a:off x="4678200" y="2866680"/>
              <a:ext cx="8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3" name="Freeform 24"/>
            <p:cNvSpPr/>
            <p:nvPr/>
          </p:nvSpPr>
          <p:spPr>
            <a:xfrm>
              <a:off x="4434120" y="2519280"/>
              <a:ext cx="147600" cy="347400"/>
            </a:xfrm>
            <a:custGeom>
              <a:avLst/>
              <a:gdLst/>
              <a:ahLst/>
              <a:rect l="l" t="t" r="r" b="b"/>
              <a:pathLst>
                <a:path w="656" h="1537">
                  <a:moveTo>
                    <a:pt x="0" y="1537"/>
                  </a:moveTo>
                  <a:lnTo>
                    <a:pt x="2" y="1428"/>
                  </a:lnTo>
                  <a:lnTo>
                    <a:pt x="7" y="1329"/>
                  </a:lnTo>
                  <a:lnTo>
                    <a:pt x="15" y="1236"/>
                  </a:lnTo>
                  <a:lnTo>
                    <a:pt x="26" y="1150"/>
                  </a:lnTo>
                  <a:lnTo>
                    <a:pt x="40" y="1072"/>
                  </a:lnTo>
                  <a:lnTo>
                    <a:pt x="56" y="1000"/>
                  </a:lnTo>
                  <a:lnTo>
                    <a:pt x="75" y="933"/>
                  </a:lnTo>
                  <a:lnTo>
                    <a:pt x="95" y="871"/>
                  </a:lnTo>
                  <a:lnTo>
                    <a:pt x="142" y="764"/>
                  </a:lnTo>
                  <a:lnTo>
                    <a:pt x="194" y="674"/>
                  </a:lnTo>
                  <a:lnTo>
                    <a:pt x="250" y="597"/>
                  </a:lnTo>
                  <a:lnTo>
                    <a:pt x="308" y="531"/>
                  </a:lnTo>
                  <a:lnTo>
                    <a:pt x="367" y="473"/>
                  </a:lnTo>
                  <a:lnTo>
                    <a:pt x="425" y="418"/>
                  </a:lnTo>
                  <a:lnTo>
                    <a:pt x="481" y="364"/>
                  </a:lnTo>
                  <a:lnTo>
                    <a:pt x="531" y="309"/>
                  </a:lnTo>
                  <a:lnTo>
                    <a:pt x="576" y="248"/>
                  </a:lnTo>
                  <a:lnTo>
                    <a:pt x="612" y="178"/>
                  </a:lnTo>
                  <a:lnTo>
                    <a:pt x="628" y="139"/>
                  </a:lnTo>
                  <a:lnTo>
                    <a:pt x="640" y="96"/>
                  </a:lnTo>
                  <a:lnTo>
                    <a:pt x="649" y="51"/>
                  </a:lnTo>
                  <a:lnTo>
                    <a:pt x="6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4" name="Line 25"/>
            <p:cNvSpPr/>
            <p:nvPr/>
          </p:nvSpPr>
          <p:spPr>
            <a:xfrm flipV="1">
              <a:off x="4581720" y="24634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05" name="Text Box 26"/>
          <p:cNvSpPr/>
          <p:nvPr/>
        </p:nvSpPr>
        <p:spPr>
          <a:xfrm>
            <a:off x="4487040" y="292752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AutoShape 27"/>
          <p:cNvSpPr/>
          <p:nvPr/>
        </p:nvSpPr>
        <p:spPr>
          <a:xfrm>
            <a:off x="4267080" y="3962520"/>
            <a:ext cx="914400" cy="914400"/>
          </a:xfrm>
          <a:prstGeom prst="irregularSeal2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AutoShape 30"/>
          <p:cNvSpPr/>
          <p:nvPr/>
        </p:nvSpPr>
        <p:spPr>
          <a:xfrm>
            <a:off x="3821040" y="2438280"/>
            <a:ext cx="533520" cy="990720"/>
          </a:xfrm>
          <a:custGeom>
            <a:avLst/>
            <a:gdLst>
              <a:gd name="textAreaLeft" fmla="*/ 0 w 533520"/>
              <a:gd name="textAreaRight" fmla="*/ 150840 w 533520"/>
              <a:gd name="textAreaTop" fmla="*/ 38124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AutoShape 31"/>
          <p:cNvSpPr/>
          <p:nvPr/>
        </p:nvSpPr>
        <p:spPr>
          <a:xfrm rot="2592000">
            <a:off x="3809880" y="2844720"/>
            <a:ext cx="838440" cy="533520"/>
          </a:xfrm>
          <a:prstGeom prst="lightningBolt">
            <a:avLst/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AutoShape 32"/>
          <p:cNvSpPr/>
          <p:nvPr/>
        </p:nvSpPr>
        <p:spPr>
          <a:xfrm rot="16200000">
            <a:off x="3782880" y="3161880"/>
            <a:ext cx="228600" cy="761760"/>
          </a:xfrm>
          <a:prstGeom prst="flowChartDelay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10" name="Group 33"/>
          <p:cNvGrpSpPr/>
          <p:nvPr/>
        </p:nvGrpSpPr>
        <p:grpSpPr>
          <a:xfrm>
            <a:off x="4572000" y="2133720"/>
            <a:ext cx="606240" cy="1411200"/>
            <a:chOff x="4572000" y="2133720"/>
            <a:chExt cx="606240" cy="1411200"/>
          </a:xfrm>
        </p:grpSpPr>
        <p:sp>
          <p:nvSpPr>
            <p:cNvPr id="711" name="AutoShape 34"/>
            <p:cNvSpPr/>
            <p:nvPr/>
          </p:nvSpPr>
          <p:spPr>
            <a:xfrm>
              <a:off x="4572000" y="2133720"/>
              <a:ext cx="6062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2" name="Freeform 35"/>
            <p:cNvSpPr/>
            <p:nvPr/>
          </p:nvSpPr>
          <p:spPr>
            <a:xfrm>
              <a:off x="4586400" y="2146320"/>
              <a:ext cx="577800" cy="1386000"/>
            </a:xfrm>
            <a:custGeom>
              <a:avLst/>
              <a:gdLst/>
              <a:ahLst/>
              <a:rect l="l" t="t" r="r" b="b"/>
              <a:pathLst>
                <a:path w="2553" h="6105">
                  <a:moveTo>
                    <a:pt x="146" y="6105"/>
                  </a:moveTo>
                  <a:lnTo>
                    <a:pt x="117" y="6101"/>
                  </a:lnTo>
                  <a:lnTo>
                    <a:pt x="89" y="6094"/>
                  </a:lnTo>
                  <a:lnTo>
                    <a:pt x="65" y="6080"/>
                  </a:lnTo>
                  <a:lnTo>
                    <a:pt x="44" y="6062"/>
                  </a:lnTo>
                  <a:lnTo>
                    <a:pt x="25" y="6040"/>
                  </a:lnTo>
                  <a:lnTo>
                    <a:pt x="11" y="6016"/>
                  </a:lnTo>
                  <a:lnTo>
                    <a:pt x="4" y="5988"/>
                  </a:lnTo>
                  <a:lnTo>
                    <a:pt x="0" y="5959"/>
                  </a:lnTo>
                  <a:lnTo>
                    <a:pt x="0" y="3351"/>
                  </a:lnTo>
                  <a:lnTo>
                    <a:pt x="1080" y="3351"/>
                  </a:lnTo>
                  <a:lnTo>
                    <a:pt x="1080" y="1819"/>
                  </a:lnTo>
                  <a:lnTo>
                    <a:pt x="1473" y="1819"/>
                  </a:lnTo>
                  <a:lnTo>
                    <a:pt x="1473" y="3351"/>
                  </a:lnTo>
                  <a:lnTo>
                    <a:pt x="2553" y="3351"/>
                  </a:lnTo>
                  <a:lnTo>
                    <a:pt x="2553" y="5959"/>
                  </a:lnTo>
                  <a:lnTo>
                    <a:pt x="2549" y="5988"/>
                  </a:lnTo>
                  <a:lnTo>
                    <a:pt x="2542" y="6016"/>
                  </a:lnTo>
                  <a:lnTo>
                    <a:pt x="2528" y="6040"/>
                  </a:lnTo>
                  <a:lnTo>
                    <a:pt x="2510" y="6062"/>
                  </a:lnTo>
                  <a:lnTo>
                    <a:pt x="2488" y="6080"/>
                  </a:lnTo>
                  <a:lnTo>
                    <a:pt x="2463" y="6094"/>
                  </a:lnTo>
                  <a:lnTo>
                    <a:pt x="2436" y="6101"/>
                  </a:lnTo>
                  <a:lnTo>
                    <a:pt x="2407" y="6105"/>
                  </a:lnTo>
                  <a:lnTo>
                    <a:pt x="146" y="6105"/>
                  </a:lnTo>
                  <a:close/>
                  <a:moveTo>
                    <a:pt x="1080" y="1704"/>
                  </a:moveTo>
                  <a:lnTo>
                    <a:pt x="1080" y="1573"/>
                  </a:lnTo>
                  <a:lnTo>
                    <a:pt x="525" y="1573"/>
                  </a:lnTo>
                  <a:lnTo>
                    <a:pt x="525" y="1037"/>
                  </a:lnTo>
                  <a:lnTo>
                    <a:pt x="924" y="1037"/>
                  </a:lnTo>
                  <a:lnTo>
                    <a:pt x="995" y="257"/>
                  </a:lnTo>
                  <a:lnTo>
                    <a:pt x="1005" y="204"/>
                  </a:lnTo>
                  <a:lnTo>
                    <a:pt x="1024" y="155"/>
                  </a:lnTo>
                  <a:lnTo>
                    <a:pt x="1051" y="112"/>
                  </a:lnTo>
                  <a:lnTo>
                    <a:pt x="1085" y="74"/>
                  </a:lnTo>
                  <a:lnTo>
                    <a:pt x="1126" y="43"/>
                  </a:lnTo>
                  <a:lnTo>
                    <a:pt x="1172" y="20"/>
                  </a:lnTo>
                  <a:lnTo>
                    <a:pt x="1223" y="6"/>
                  </a:lnTo>
                  <a:lnTo>
                    <a:pt x="1277" y="0"/>
                  </a:lnTo>
                  <a:lnTo>
                    <a:pt x="1331" y="6"/>
                  </a:lnTo>
                  <a:lnTo>
                    <a:pt x="1382" y="20"/>
                  </a:lnTo>
                  <a:lnTo>
                    <a:pt x="1428" y="44"/>
                  </a:lnTo>
                  <a:lnTo>
                    <a:pt x="1469" y="75"/>
                  </a:lnTo>
                  <a:lnTo>
                    <a:pt x="1502" y="113"/>
                  </a:lnTo>
                  <a:lnTo>
                    <a:pt x="1530" y="156"/>
                  </a:lnTo>
                  <a:lnTo>
                    <a:pt x="1549" y="204"/>
                  </a:lnTo>
                  <a:lnTo>
                    <a:pt x="1559" y="257"/>
                  </a:lnTo>
                  <a:lnTo>
                    <a:pt x="1629" y="1037"/>
                  </a:lnTo>
                  <a:lnTo>
                    <a:pt x="2029" y="1037"/>
                  </a:lnTo>
                  <a:lnTo>
                    <a:pt x="2029" y="1573"/>
                  </a:lnTo>
                  <a:lnTo>
                    <a:pt x="1473" y="1573"/>
                  </a:lnTo>
                  <a:lnTo>
                    <a:pt x="1473" y="1704"/>
                  </a:lnTo>
                  <a:lnTo>
                    <a:pt x="1080" y="170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3" name="Freeform 36"/>
            <p:cNvSpPr/>
            <p:nvPr/>
          </p:nvSpPr>
          <p:spPr>
            <a:xfrm>
              <a:off x="4586400" y="2559240"/>
              <a:ext cx="577800" cy="973080"/>
            </a:xfrm>
            <a:custGeom>
              <a:avLst/>
              <a:gdLst/>
              <a:ahLst/>
              <a:rect l="l" t="t" r="r" b="b"/>
              <a:pathLst>
                <a:path w="2553" h="4286">
                  <a:moveTo>
                    <a:pt x="146" y="4286"/>
                  </a:moveTo>
                  <a:lnTo>
                    <a:pt x="117" y="4282"/>
                  </a:lnTo>
                  <a:lnTo>
                    <a:pt x="89" y="4275"/>
                  </a:lnTo>
                  <a:lnTo>
                    <a:pt x="65" y="4261"/>
                  </a:lnTo>
                  <a:lnTo>
                    <a:pt x="44" y="4243"/>
                  </a:lnTo>
                  <a:lnTo>
                    <a:pt x="25" y="4221"/>
                  </a:lnTo>
                  <a:lnTo>
                    <a:pt x="11" y="4197"/>
                  </a:lnTo>
                  <a:lnTo>
                    <a:pt x="4" y="4169"/>
                  </a:lnTo>
                  <a:lnTo>
                    <a:pt x="0" y="4140"/>
                  </a:lnTo>
                  <a:lnTo>
                    <a:pt x="0" y="1532"/>
                  </a:lnTo>
                  <a:lnTo>
                    <a:pt x="1080" y="1532"/>
                  </a:lnTo>
                  <a:lnTo>
                    <a:pt x="1080" y="0"/>
                  </a:lnTo>
                  <a:lnTo>
                    <a:pt x="1473" y="0"/>
                  </a:lnTo>
                  <a:lnTo>
                    <a:pt x="1473" y="1532"/>
                  </a:lnTo>
                  <a:lnTo>
                    <a:pt x="2553" y="1532"/>
                  </a:lnTo>
                  <a:lnTo>
                    <a:pt x="2553" y="4140"/>
                  </a:lnTo>
                  <a:lnTo>
                    <a:pt x="2549" y="4169"/>
                  </a:lnTo>
                  <a:lnTo>
                    <a:pt x="2542" y="4197"/>
                  </a:lnTo>
                  <a:lnTo>
                    <a:pt x="2528" y="4221"/>
                  </a:lnTo>
                  <a:lnTo>
                    <a:pt x="2510" y="4243"/>
                  </a:lnTo>
                  <a:lnTo>
                    <a:pt x="2488" y="4261"/>
                  </a:lnTo>
                  <a:lnTo>
                    <a:pt x="2463" y="4275"/>
                  </a:lnTo>
                  <a:lnTo>
                    <a:pt x="2436" y="4282"/>
                  </a:lnTo>
                  <a:lnTo>
                    <a:pt x="2407" y="4286"/>
                  </a:lnTo>
                  <a:lnTo>
                    <a:pt x="146" y="428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4" name="Freeform 37"/>
            <p:cNvSpPr/>
            <p:nvPr/>
          </p:nvSpPr>
          <p:spPr>
            <a:xfrm>
              <a:off x="4705200" y="2146320"/>
              <a:ext cx="339840" cy="387360"/>
            </a:xfrm>
            <a:custGeom>
              <a:avLst/>
              <a:gdLst/>
              <a:ahLst/>
              <a:rect l="l" t="t" r="r" b="b"/>
              <a:pathLst>
                <a:path w="1504" h="1704">
                  <a:moveTo>
                    <a:pt x="555" y="1704"/>
                  </a:moveTo>
                  <a:lnTo>
                    <a:pt x="555" y="1573"/>
                  </a:lnTo>
                  <a:lnTo>
                    <a:pt x="0" y="1573"/>
                  </a:lnTo>
                  <a:lnTo>
                    <a:pt x="0" y="1037"/>
                  </a:lnTo>
                  <a:lnTo>
                    <a:pt x="399" y="1037"/>
                  </a:lnTo>
                  <a:lnTo>
                    <a:pt x="470" y="257"/>
                  </a:lnTo>
                  <a:lnTo>
                    <a:pt x="480" y="204"/>
                  </a:lnTo>
                  <a:lnTo>
                    <a:pt x="499" y="155"/>
                  </a:lnTo>
                  <a:lnTo>
                    <a:pt x="526" y="112"/>
                  </a:lnTo>
                  <a:lnTo>
                    <a:pt x="560" y="74"/>
                  </a:lnTo>
                  <a:lnTo>
                    <a:pt x="601" y="43"/>
                  </a:lnTo>
                  <a:lnTo>
                    <a:pt x="647" y="20"/>
                  </a:lnTo>
                  <a:lnTo>
                    <a:pt x="698" y="6"/>
                  </a:lnTo>
                  <a:lnTo>
                    <a:pt x="752" y="0"/>
                  </a:lnTo>
                  <a:lnTo>
                    <a:pt x="806" y="6"/>
                  </a:lnTo>
                  <a:lnTo>
                    <a:pt x="857" y="20"/>
                  </a:lnTo>
                  <a:lnTo>
                    <a:pt x="903" y="44"/>
                  </a:lnTo>
                  <a:lnTo>
                    <a:pt x="944" y="75"/>
                  </a:lnTo>
                  <a:lnTo>
                    <a:pt x="977" y="113"/>
                  </a:lnTo>
                  <a:lnTo>
                    <a:pt x="1005" y="156"/>
                  </a:lnTo>
                  <a:lnTo>
                    <a:pt x="1024" y="204"/>
                  </a:lnTo>
                  <a:lnTo>
                    <a:pt x="1034" y="257"/>
                  </a:lnTo>
                  <a:lnTo>
                    <a:pt x="1104" y="1037"/>
                  </a:lnTo>
                  <a:lnTo>
                    <a:pt x="1504" y="1037"/>
                  </a:lnTo>
                  <a:lnTo>
                    <a:pt x="1504" y="1573"/>
                  </a:lnTo>
                  <a:lnTo>
                    <a:pt x="948" y="1573"/>
                  </a:lnTo>
                  <a:lnTo>
                    <a:pt x="948" y="1704"/>
                  </a:lnTo>
                  <a:lnTo>
                    <a:pt x="555" y="170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5" name="Line 38"/>
            <p:cNvSpPr/>
            <p:nvPr/>
          </p:nvSpPr>
          <p:spPr>
            <a:xfrm flipH="1">
              <a:off x="4795560" y="2382840"/>
              <a:ext cx="158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6" name="Freeform 39"/>
            <p:cNvSpPr/>
            <p:nvPr/>
          </p:nvSpPr>
          <p:spPr>
            <a:xfrm>
              <a:off x="4705200" y="2533680"/>
              <a:ext cx="125640" cy="25560"/>
            </a:xfrm>
            <a:custGeom>
              <a:avLst/>
              <a:gdLst/>
              <a:ahLst/>
              <a:rect l="l" t="t" r="r" b="b"/>
              <a:pathLst>
                <a:path w="555" h="115">
                  <a:moveTo>
                    <a:pt x="555" y="115"/>
                  </a:moveTo>
                  <a:lnTo>
                    <a:pt x="55" y="110"/>
                  </a:lnTo>
                  <a:lnTo>
                    <a:pt x="34" y="106"/>
                  </a:lnTo>
                  <a:lnTo>
                    <a:pt x="16" y="95"/>
                  </a:lnTo>
                  <a:lnTo>
                    <a:pt x="5" y="77"/>
                  </a:lnTo>
                  <a:lnTo>
                    <a:pt x="0" y="56"/>
                  </a:lnTo>
                  <a:lnTo>
                    <a:pt x="5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5" y="0"/>
                  </a:lnTo>
                  <a:lnTo>
                    <a:pt x="5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7" name="Line 40"/>
            <p:cNvSpPr/>
            <p:nvPr/>
          </p:nvSpPr>
          <p:spPr>
            <a:xfrm>
              <a:off x="4830840" y="2503440"/>
              <a:ext cx="8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8" name="Freeform 41"/>
            <p:cNvSpPr/>
            <p:nvPr/>
          </p:nvSpPr>
          <p:spPr>
            <a:xfrm>
              <a:off x="4919760" y="2533680"/>
              <a:ext cx="125280" cy="25560"/>
            </a:xfrm>
            <a:custGeom>
              <a:avLst/>
              <a:gdLst/>
              <a:ahLst/>
              <a:rect l="l" t="t" r="r" b="b"/>
              <a:pathLst>
                <a:path w="556" h="115">
                  <a:moveTo>
                    <a:pt x="0" y="0"/>
                  </a:moveTo>
                  <a:lnTo>
                    <a:pt x="500" y="0"/>
                  </a:lnTo>
                  <a:lnTo>
                    <a:pt x="522" y="4"/>
                  </a:lnTo>
                  <a:lnTo>
                    <a:pt x="540" y="17"/>
                  </a:lnTo>
                  <a:lnTo>
                    <a:pt x="551" y="33"/>
                  </a:lnTo>
                  <a:lnTo>
                    <a:pt x="556" y="56"/>
                  </a:lnTo>
                  <a:lnTo>
                    <a:pt x="551" y="77"/>
                  </a:lnTo>
                  <a:lnTo>
                    <a:pt x="540" y="95"/>
                  </a:lnTo>
                  <a:lnTo>
                    <a:pt x="522" y="106"/>
                  </a:lnTo>
                  <a:lnTo>
                    <a:pt x="500" y="110"/>
                  </a:lnTo>
                  <a:lnTo>
                    <a:pt x="0" y="1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9" name="Line 42"/>
            <p:cNvSpPr/>
            <p:nvPr/>
          </p:nvSpPr>
          <p:spPr>
            <a:xfrm>
              <a:off x="5021280" y="25034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0" name="Freeform 43"/>
            <p:cNvSpPr/>
            <p:nvPr/>
          </p:nvSpPr>
          <p:spPr>
            <a:xfrm>
              <a:off x="5016600" y="2559240"/>
              <a:ext cx="147600" cy="347400"/>
            </a:xfrm>
            <a:custGeom>
              <a:avLst/>
              <a:gdLst/>
              <a:ahLst/>
              <a:rect l="l" t="t" r="r" b="b"/>
              <a:pathLst>
                <a:path w="656" h="1537">
                  <a:moveTo>
                    <a:pt x="0" y="0"/>
                  </a:moveTo>
                  <a:lnTo>
                    <a:pt x="7" y="51"/>
                  </a:lnTo>
                  <a:lnTo>
                    <a:pt x="17" y="96"/>
                  </a:lnTo>
                  <a:lnTo>
                    <a:pt x="43" y="178"/>
                  </a:lnTo>
                  <a:lnTo>
                    <a:pt x="61" y="215"/>
                  </a:lnTo>
                  <a:lnTo>
                    <a:pt x="80" y="248"/>
                  </a:lnTo>
                  <a:lnTo>
                    <a:pt x="125" y="309"/>
                  </a:lnTo>
                  <a:lnTo>
                    <a:pt x="176" y="364"/>
                  </a:lnTo>
                  <a:lnTo>
                    <a:pt x="231" y="418"/>
                  </a:lnTo>
                  <a:lnTo>
                    <a:pt x="348" y="531"/>
                  </a:lnTo>
                  <a:lnTo>
                    <a:pt x="406" y="597"/>
                  </a:lnTo>
                  <a:lnTo>
                    <a:pt x="463" y="674"/>
                  </a:lnTo>
                  <a:lnTo>
                    <a:pt x="514" y="764"/>
                  </a:lnTo>
                  <a:lnTo>
                    <a:pt x="539" y="815"/>
                  </a:lnTo>
                  <a:lnTo>
                    <a:pt x="561" y="871"/>
                  </a:lnTo>
                  <a:lnTo>
                    <a:pt x="581" y="933"/>
                  </a:lnTo>
                  <a:lnTo>
                    <a:pt x="600" y="1000"/>
                  </a:lnTo>
                  <a:lnTo>
                    <a:pt x="616" y="1072"/>
                  </a:lnTo>
                  <a:lnTo>
                    <a:pt x="630" y="1150"/>
                  </a:lnTo>
                  <a:lnTo>
                    <a:pt x="641" y="1236"/>
                  </a:lnTo>
                  <a:lnTo>
                    <a:pt x="649" y="1329"/>
                  </a:lnTo>
                  <a:lnTo>
                    <a:pt x="653" y="1428"/>
                  </a:lnTo>
                  <a:lnTo>
                    <a:pt x="656" y="15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1" name="Freeform 44"/>
            <p:cNvSpPr/>
            <p:nvPr/>
          </p:nvSpPr>
          <p:spPr>
            <a:xfrm>
              <a:off x="4830840" y="2906640"/>
              <a:ext cx="88920" cy="541440"/>
            </a:xfrm>
            <a:custGeom>
              <a:avLst/>
              <a:gdLst/>
              <a:ahLst/>
              <a:rect l="l" t="t" r="r" b="b"/>
              <a:pathLst>
                <a:path w="393" h="2388">
                  <a:moveTo>
                    <a:pt x="393" y="0"/>
                  </a:moveTo>
                  <a:lnTo>
                    <a:pt x="393" y="1487"/>
                  </a:lnTo>
                  <a:lnTo>
                    <a:pt x="277" y="2388"/>
                  </a:lnTo>
                  <a:lnTo>
                    <a:pt x="116" y="2388"/>
                  </a:lnTo>
                  <a:lnTo>
                    <a:pt x="0" y="1487"/>
                  </a:lnTo>
                  <a:lnTo>
                    <a:pt x="1" y="1490"/>
                  </a:lnTo>
                  <a:lnTo>
                    <a:pt x="1" y="1488"/>
                  </a:lnTo>
                  <a:lnTo>
                    <a:pt x="0" y="148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2" name="Line 45"/>
            <p:cNvSpPr/>
            <p:nvPr/>
          </p:nvSpPr>
          <p:spPr>
            <a:xfrm>
              <a:off x="4830840" y="324504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3" name="Line 46"/>
            <p:cNvSpPr/>
            <p:nvPr/>
          </p:nvSpPr>
          <p:spPr>
            <a:xfrm flipH="1">
              <a:off x="4830480" y="2906640"/>
              <a:ext cx="8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4" name="Freeform 47"/>
            <p:cNvSpPr/>
            <p:nvPr/>
          </p:nvSpPr>
          <p:spPr>
            <a:xfrm>
              <a:off x="4586400" y="2559240"/>
              <a:ext cx="147600" cy="347400"/>
            </a:xfrm>
            <a:custGeom>
              <a:avLst/>
              <a:gdLst/>
              <a:ahLst/>
              <a:rect l="l" t="t" r="r" b="b"/>
              <a:pathLst>
                <a:path w="656" h="1537">
                  <a:moveTo>
                    <a:pt x="0" y="1537"/>
                  </a:moveTo>
                  <a:lnTo>
                    <a:pt x="2" y="1428"/>
                  </a:lnTo>
                  <a:lnTo>
                    <a:pt x="7" y="1329"/>
                  </a:lnTo>
                  <a:lnTo>
                    <a:pt x="15" y="1236"/>
                  </a:lnTo>
                  <a:lnTo>
                    <a:pt x="26" y="1150"/>
                  </a:lnTo>
                  <a:lnTo>
                    <a:pt x="40" y="1072"/>
                  </a:lnTo>
                  <a:lnTo>
                    <a:pt x="56" y="1000"/>
                  </a:lnTo>
                  <a:lnTo>
                    <a:pt x="75" y="933"/>
                  </a:lnTo>
                  <a:lnTo>
                    <a:pt x="95" y="871"/>
                  </a:lnTo>
                  <a:lnTo>
                    <a:pt x="142" y="764"/>
                  </a:lnTo>
                  <a:lnTo>
                    <a:pt x="194" y="674"/>
                  </a:lnTo>
                  <a:lnTo>
                    <a:pt x="250" y="597"/>
                  </a:lnTo>
                  <a:lnTo>
                    <a:pt x="308" y="531"/>
                  </a:lnTo>
                  <a:lnTo>
                    <a:pt x="367" y="473"/>
                  </a:lnTo>
                  <a:lnTo>
                    <a:pt x="425" y="418"/>
                  </a:lnTo>
                  <a:lnTo>
                    <a:pt x="481" y="364"/>
                  </a:lnTo>
                  <a:lnTo>
                    <a:pt x="531" y="309"/>
                  </a:lnTo>
                  <a:lnTo>
                    <a:pt x="576" y="248"/>
                  </a:lnTo>
                  <a:lnTo>
                    <a:pt x="612" y="178"/>
                  </a:lnTo>
                  <a:lnTo>
                    <a:pt x="628" y="139"/>
                  </a:lnTo>
                  <a:lnTo>
                    <a:pt x="640" y="96"/>
                  </a:lnTo>
                  <a:lnTo>
                    <a:pt x="649" y="51"/>
                  </a:lnTo>
                  <a:lnTo>
                    <a:pt x="6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5" name="Line 48"/>
            <p:cNvSpPr/>
            <p:nvPr/>
          </p:nvSpPr>
          <p:spPr>
            <a:xfrm flipV="1">
              <a:off x="4734000" y="25034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26" name="Text Box 49"/>
          <p:cNvSpPr/>
          <p:nvPr/>
        </p:nvSpPr>
        <p:spPr>
          <a:xfrm>
            <a:off x="4494960" y="302256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odin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Text Box 50"/>
          <p:cNvSpPr/>
          <p:nvPr/>
        </p:nvSpPr>
        <p:spPr>
          <a:xfrm>
            <a:off x="4175280" y="513720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0-60 se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Text Box 51"/>
          <p:cNvSpPr/>
          <p:nvPr/>
        </p:nvSpPr>
        <p:spPr>
          <a:xfrm>
            <a:off x="4425840" y="5257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 m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AutoShape 52"/>
          <p:cNvSpPr/>
          <p:nvPr/>
        </p:nvSpPr>
        <p:spPr>
          <a:xfrm rot="674400">
            <a:off x="3504960" y="3657600"/>
            <a:ext cx="2666880" cy="1523880"/>
          </a:xfrm>
          <a:prstGeom prst="irregularSeal2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AutoShape 53"/>
          <p:cNvSpPr/>
          <p:nvPr/>
        </p:nvSpPr>
        <p:spPr>
          <a:xfrm>
            <a:off x="3809880" y="2438280"/>
            <a:ext cx="533520" cy="990720"/>
          </a:xfrm>
          <a:custGeom>
            <a:avLst/>
            <a:gdLst>
              <a:gd name="textAreaLeft" fmla="*/ 0 w 533520"/>
              <a:gd name="textAreaRight" fmla="*/ 150840 w 533520"/>
              <a:gd name="textAreaTop" fmla="*/ 38124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AutoShape 54"/>
          <p:cNvSpPr/>
          <p:nvPr/>
        </p:nvSpPr>
        <p:spPr>
          <a:xfrm rot="2592000">
            <a:off x="3798720" y="2844720"/>
            <a:ext cx="838440" cy="533520"/>
          </a:xfrm>
          <a:prstGeom prst="lightningBolt">
            <a:avLst/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AutoShape 55"/>
          <p:cNvSpPr/>
          <p:nvPr/>
        </p:nvSpPr>
        <p:spPr>
          <a:xfrm rot="16200000">
            <a:off x="3771720" y="3161880"/>
            <a:ext cx="228600" cy="761760"/>
          </a:xfrm>
          <a:prstGeom prst="flowChartDelay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Rectangle 56"/>
          <p:cNvSpPr/>
          <p:nvPr/>
        </p:nvSpPr>
        <p:spPr>
          <a:xfrm>
            <a:off x="4602240" y="2895480"/>
            <a:ext cx="533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Arc 61"/>
          <p:cNvSpPr/>
          <p:nvPr/>
        </p:nvSpPr>
        <p:spPr>
          <a:xfrm rot="15836400">
            <a:off x="4609800" y="2519280"/>
            <a:ext cx="339840" cy="415800"/>
          </a:xfrm>
          <a:custGeom>
            <a:avLst/>
            <a:gdLst/>
            <a:ahLst/>
            <a:rect l="l" t="t" r="r" b="b"/>
            <a:pathLst>
              <a:path fill="none" w="17930" h="21600">
                <a:moveTo>
                  <a:pt x="-1" y="0"/>
                </a:moveTo>
                <a:cubicBezTo>
                  <a:pt x="7195" y="0"/>
                  <a:pt x="13918" y="3582"/>
                  <a:pt x="17930" y="9555"/>
                </a:cubicBezTo>
              </a:path>
              <a:path stroke="0" w="17930" h="21600">
                <a:moveTo>
                  <a:pt x="-1" y="0"/>
                </a:moveTo>
                <a:cubicBezTo>
                  <a:pt x="7195" y="0"/>
                  <a:pt x="13918" y="3582"/>
                  <a:pt x="17930" y="955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Arc 62"/>
          <p:cNvSpPr/>
          <p:nvPr/>
        </p:nvSpPr>
        <p:spPr>
          <a:xfrm rot="2909400">
            <a:off x="4782600" y="2604960"/>
            <a:ext cx="400320" cy="416160"/>
          </a:xfrm>
          <a:custGeom>
            <a:avLst/>
            <a:gdLst/>
            <a:ahLst/>
            <a:rect l="l" t="t" r="r" b="b"/>
            <a:pathLst>
              <a:path fill="none" w="21133" h="21600">
                <a:moveTo>
                  <a:pt x="-1" y="238"/>
                </a:moveTo>
                <a:cubicBezTo>
                  <a:pt x="1060" y="79"/>
                  <a:pt x="2130" y="-1"/>
                  <a:pt x="3203" y="0"/>
                </a:cubicBezTo>
                <a:cubicBezTo>
                  <a:pt x="10398" y="0"/>
                  <a:pt x="17121" y="3582"/>
                  <a:pt x="21133" y="9555"/>
                </a:cubicBezTo>
              </a:path>
              <a:path stroke="0" w="21133" h="21600">
                <a:moveTo>
                  <a:pt x="-1" y="238"/>
                </a:moveTo>
                <a:cubicBezTo>
                  <a:pt x="1060" y="79"/>
                  <a:pt x="2130" y="-1"/>
                  <a:pt x="3203" y="0"/>
                </a:cubicBezTo>
                <a:cubicBezTo>
                  <a:pt x="10398" y="0"/>
                  <a:pt x="17121" y="3582"/>
                  <a:pt x="21133" y="9555"/>
                </a:cubicBezTo>
                <a:lnTo>
                  <a:pt x="3203" y="21600"/>
                </a:lnTo>
                <a:lnTo>
                  <a:pt x="-1" y="2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Rectangle 63"/>
          <p:cNvSpPr/>
          <p:nvPr/>
        </p:nvSpPr>
        <p:spPr>
          <a:xfrm>
            <a:off x="4754520" y="2362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AutoShape 70"/>
          <p:cNvSpPr/>
          <p:nvPr/>
        </p:nvSpPr>
        <p:spPr>
          <a:xfrm>
            <a:off x="3821040" y="2438280"/>
            <a:ext cx="533520" cy="990720"/>
          </a:xfrm>
          <a:custGeom>
            <a:avLst/>
            <a:gdLst>
              <a:gd name="textAreaLeft" fmla="*/ 0 w 533520"/>
              <a:gd name="textAreaRight" fmla="*/ 150840 w 533520"/>
              <a:gd name="textAreaTop" fmla="*/ 38124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AutoShape 71"/>
          <p:cNvSpPr/>
          <p:nvPr/>
        </p:nvSpPr>
        <p:spPr>
          <a:xfrm rot="2592000">
            <a:off x="3809880" y="2844720"/>
            <a:ext cx="838440" cy="533520"/>
          </a:xfrm>
          <a:prstGeom prst="lightningBolt">
            <a:avLst/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AutoShape 72"/>
          <p:cNvSpPr/>
          <p:nvPr/>
        </p:nvSpPr>
        <p:spPr>
          <a:xfrm rot="16200000">
            <a:off x="3782880" y="3161880"/>
            <a:ext cx="228600" cy="761760"/>
          </a:xfrm>
          <a:prstGeom prst="flowChartDelay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Text Box 76"/>
          <p:cNvSpPr/>
          <p:nvPr/>
        </p:nvSpPr>
        <p:spPr>
          <a:xfrm>
            <a:off x="4367520" y="51814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0 se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4343400" y="2514600"/>
            <a:ext cx="606240" cy="1411200"/>
            <a:chOff x="4343400" y="2514600"/>
            <a:chExt cx="606240" cy="1411200"/>
          </a:xfrm>
        </p:grpSpPr>
        <p:sp>
          <p:nvSpPr>
            <p:cNvPr id="742" name="AutoShape 78"/>
            <p:cNvSpPr/>
            <p:nvPr/>
          </p:nvSpPr>
          <p:spPr>
            <a:xfrm>
              <a:off x="4343400" y="2514600"/>
              <a:ext cx="6062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3" name="Freeform 79"/>
            <p:cNvSpPr/>
            <p:nvPr/>
          </p:nvSpPr>
          <p:spPr>
            <a:xfrm>
              <a:off x="4357800" y="2527200"/>
              <a:ext cx="577800" cy="1386000"/>
            </a:xfrm>
            <a:custGeom>
              <a:avLst/>
              <a:gdLst/>
              <a:ahLst/>
              <a:rect l="l" t="t" r="r" b="b"/>
              <a:pathLst>
                <a:path w="2553" h="6105">
                  <a:moveTo>
                    <a:pt x="146" y="6105"/>
                  </a:moveTo>
                  <a:lnTo>
                    <a:pt x="117" y="6101"/>
                  </a:lnTo>
                  <a:lnTo>
                    <a:pt x="89" y="6094"/>
                  </a:lnTo>
                  <a:lnTo>
                    <a:pt x="65" y="6080"/>
                  </a:lnTo>
                  <a:lnTo>
                    <a:pt x="44" y="6062"/>
                  </a:lnTo>
                  <a:lnTo>
                    <a:pt x="25" y="6040"/>
                  </a:lnTo>
                  <a:lnTo>
                    <a:pt x="11" y="6016"/>
                  </a:lnTo>
                  <a:lnTo>
                    <a:pt x="4" y="5988"/>
                  </a:lnTo>
                  <a:lnTo>
                    <a:pt x="0" y="5959"/>
                  </a:lnTo>
                  <a:lnTo>
                    <a:pt x="0" y="3351"/>
                  </a:lnTo>
                  <a:lnTo>
                    <a:pt x="1080" y="3351"/>
                  </a:lnTo>
                  <a:lnTo>
                    <a:pt x="1080" y="1819"/>
                  </a:lnTo>
                  <a:lnTo>
                    <a:pt x="1473" y="1819"/>
                  </a:lnTo>
                  <a:lnTo>
                    <a:pt x="1473" y="3351"/>
                  </a:lnTo>
                  <a:lnTo>
                    <a:pt x="2553" y="3351"/>
                  </a:lnTo>
                  <a:lnTo>
                    <a:pt x="2553" y="5959"/>
                  </a:lnTo>
                  <a:lnTo>
                    <a:pt x="2549" y="5988"/>
                  </a:lnTo>
                  <a:lnTo>
                    <a:pt x="2542" y="6016"/>
                  </a:lnTo>
                  <a:lnTo>
                    <a:pt x="2528" y="6040"/>
                  </a:lnTo>
                  <a:lnTo>
                    <a:pt x="2510" y="6062"/>
                  </a:lnTo>
                  <a:lnTo>
                    <a:pt x="2488" y="6080"/>
                  </a:lnTo>
                  <a:lnTo>
                    <a:pt x="2463" y="6094"/>
                  </a:lnTo>
                  <a:lnTo>
                    <a:pt x="2436" y="6101"/>
                  </a:lnTo>
                  <a:lnTo>
                    <a:pt x="2407" y="6105"/>
                  </a:lnTo>
                  <a:lnTo>
                    <a:pt x="146" y="6105"/>
                  </a:lnTo>
                  <a:close/>
                  <a:moveTo>
                    <a:pt x="1080" y="1704"/>
                  </a:moveTo>
                  <a:lnTo>
                    <a:pt x="1080" y="1573"/>
                  </a:lnTo>
                  <a:lnTo>
                    <a:pt x="525" y="1573"/>
                  </a:lnTo>
                  <a:lnTo>
                    <a:pt x="525" y="1037"/>
                  </a:lnTo>
                  <a:lnTo>
                    <a:pt x="924" y="1037"/>
                  </a:lnTo>
                  <a:lnTo>
                    <a:pt x="995" y="257"/>
                  </a:lnTo>
                  <a:lnTo>
                    <a:pt x="1005" y="204"/>
                  </a:lnTo>
                  <a:lnTo>
                    <a:pt x="1024" y="155"/>
                  </a:lnTo>
                  <a:lnTo>
                    <a:pt x="1051" y="112"/>
                  </a:lnTo>
                  <a:lnTo>
                    <a:pt x="1085" y="74"/>
                  </a:lnTo>
                  <a:lnTo>
                    <a:pt x="1126" y="43"/>
                  </a:lnTo>
                  <a:lnTo>
                    <a:pt x="1172" y="20"/>
                  </a:lnTo>
                  <a:lnTo>
                    <a:pt x="1223" y="6"/>
                  </a:lnTo>
                  <a:lnTo>
                    <a:pt x="1277" y="0"/>
                  </a:lnTo>
                  <a:lnTo>
                    <a:pt x="1331" y="6"/>
                  </a:lnTo>
                  <a:lnTo>
                    <a:pt x="1382" y="20"/>
                  </a:lnTo>
                  <a:lnTo>
                    <a:pt x="1428" y="44"/>
                  </a:lnTo>
                  <a:lnTo>
                    <a:pt x="1469" y="75"/>
                  </a:lnTo>
                  <a:lnTo>
                    <a:pt x="1502" y="113"/>
                  </a:lnTo>
                  <a:lnTo>
                    <a:pt x="1530" y="156"/>
                  </a:lnTo>
                  <a:lnTo>
                    <a:pt x="1549" y="204"/>
                  </a:lnTo>
                  <a:lnTo>
                    <a:pt x="1559" y="257"/>
                  </a:lnTo>
                  <a:lnTo>
                    <a:pt x="1629" y="1037"/>
                  </a:lnTo>
                  <a:lnTo>
                    <a:pt x="2029" y="1037"/>
                  </a:lnTo>
                  <a:lnTo>
                    <a:pt x="2029" y="1573"/>
                  </a:lnTo>
                  <a:lnTo>
                    <a:pt x="1473" y="1573"/>
                  </a:lnTo>
                  <a:lnTo>
                    <a:pt x="1473" y="1704"/>
                  </a:lnTo>
                  <a:lnTo>
                    <a:pt x="1080" y="17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4" name="Freeform 80"/>
            <p:cNvSpPr/>
            <p:nvPr/>
          </p:nvSpPr>
          <p:spPr>
            <a:xfrm>
              <a:off x="4357800" y="2940120"/>
              <a:ext cx="577800" cy="973080"/>
            </a:xfrm>
            <a:custGeom>
              <a:avLst/>
              <a:gdLst/>
              <a:ahLst/>
              <a:rect l="l" t="t" r="r" b="b"/>
              <a:pathLst>
                <a:path w="2553" h="4286">
                  <a:moveTo>
                    <a:pt x="146" y="4286"/>
                  </a:moveTo>
                  <a:lnTo>
                    <a:pt x="117" y="4282"/>
                  </a:lnTo>
                  <a:lnTo>
                    <a:pt x="89" y="4275"/>
                  </a:lnTo>
                  <a:lnTo>
                    <a:pt x="65" y="4261"/>
                  </a:lnTo>
                  <a:lnTo>
                    <a:pt x="44" y="4243"/>
                  </a:lnTo>
                  <a:lnTo>
                    <a:pt x="25" y="4221"/>
                  </a:lnTo>
                  <a:lnTo>
                    <a:pt x="11" y="4197"/>
                  </a:lnTo>
                  <a:lnTo>
                    <a:pt x="4" y="4169"/>
                  </a:lnTo>
                  <a:lnTo>
                    <a:pt x="0" y="4140"/>
                  </a:lnTo>
                  <a:lnTo>
                    <a:pt x="0" y="1532"/>
                  </a:lnTo>
                  <a:lnTo>
                    <a:pt x="1080" y="1532"/>
                  </a:lnTo>
                  <a:lnTo>
                    <a:pt x="1080" y="0"/>
                  </a:lnTo>
                  <a:lnTo>
                    <a:pt x="1473" y="0"/>
                  </a:lnTo>
                  <a:lnTo>
                    <a:pt x="1473" y="1532"/>
                  </a:lnTo>
                  <a:lnTo>
                    <a:pt x="2553" y="1532"/>
                  </a:lnTo>
                  <a:lnTo>
                    <a:pt x="2553" y="4140"/>
                  </a:lnTo>
                  <a:lnTo>
                    <a:pt x="2549" y="4169"/>
                  </a:lnTo>
                  <a:lnTo>
                    <a:pt x="2542" y="4197"/>
                  </a:lnTo>
                  <a:lnTo>
                    <a:pt x="2528" y="4221"/>
                  </a:lnTo>
                  <a:lnTo>
                    <a:pt x="2510" y="4243"/>
                  </a:lnTo>
                  <a:lnTo>
                    <a:pt x="2488" y="4261"/>
                  </a:lnTo>
                  <a:lnTo>
                    <a:pt x="2463" y="4275"/>
                  </a:lnTo>
                  <a:lnTo>
                    <a:pt x="2436" y="4282"/>
                  </a:lnTo>
                  <a:lnTo>
                    <a:pt x="2407" y="4286"/>
                  </a:lnTo>
                  <a:lnTo>
                    <a:pt x="146" y="428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5" name="Freeform 81"/>
            <p:cNvSpPr/>
            <p:nvPr/>
          </p:nvSpPr>
          <p:spPr>
            <a:xfrm>
              <a:off x="4476600" y="2527200"/>
              <a:ext cx="339840" cy="387360"/>
            </a:xfrm>
            <a:custGeom>
              <a:avLst/>
              <a:gdLst/>
              <a:ahLst/>
              <a:rect l="l" t="t" r="r" b="b"/>
              <a:pathLst>
                <a:path w="1504" h="1704">
                  <a:moveTo>
                    <a:pt x="555" y="1704"/>
                  </a:moveTo>
                  <a:lnTo>
                    <a:pt x="555" y="1573"/>
                  </a:lnTo>
                  <a:lnTo>
                    <a:pt x="0" y="1573"/>
                  </a:lnTo>
                  <a:lnTo>
                    <a:pt x="0" y="1037"/>
                  </a:lnTo>
                  <a:lnTo>
                    <a:pt x="399" y="1037"/>
                  </a:lnTo>
                  <a:lnTo>
                    <a:pt x="470" y="257"/>
                  </a:lnTo>
                  <a:lnTo>
                    <a:pt x="480" y="204"/>
                  </a:lnTo>
                  <a:lnTo>
                    <a:pt x="499" y="155"/>
                  </a:lnTo>
                  <a:lnTo>
                    <a:pt x="526" y="112"/>
                  </a:lnTo>
                  <a:lnTo>
                    <a:pt x="560" y="74"/>
                  </a:lnTo>
                  <a:lnTo>
                    <a:pt x="601" y="43"/>
                  </a:lnTo>
                  <a:lnTo>
                    <a:pt x="647" y="20"/>
                  </a:lnTo>
                  <a:lnTo>
                    <a:pt x="698" y="6"/>
                  </a:lnTo>
                  <a:lnTo>
                    <a:pt x="752" y="0"/>
                  </a:lnTo>
                  <a:lnTo>
                    <a:pt x="806" y="6"/>
                  </a:lnTo>
                  <a:lnTo>
                    <a:pt x="857" y="20"/>
                  </a:lnTo>
                  <a:lnTo>
                    <a:pt x="903" y="44"/>
                  </a:lnTo>
                  <a:lnTo>
                    <a:pt x="944" y="75"/>
                  </a:lnTo>
                  <a:lnTo>
                    <a:pt x="977" y="113"/>
                  </a:lnTo>
                  <a:lnTo>
                    <a:pt x="1005" y="156"/>
                  </a:lnTo>
                  <a:lnTo>
                    <a:pt x="1024" y="204"/>
                  </a:lnTo>
                  <a:lnTo>
                    <a:pt x="1034" y="257"/>
                  </a:lnTo>
                  <a:lnTo>
                    <a:pt x="1104" y="1037"/>
                  </a:lnTo>
                  <a:lnTo>
                    <a:pt x="1504" y="1037"/>
                  </a:lnTo>
                  <a:lnTo>
                    <a:pt x="1504" y="1573"/>
                  </a:lnTo>
                  <a:lnTo>
                    <a:pt x="948" y="1573"/>
                  </a:lnTo>
                  <a:lnTo>
                    <a:pt x="948" y="1704"/>
                  </a:lnTo>
                  <a:lnTo>
                    <a:pt x="555" y="170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6" name="Line 82"/>
            <p:cNvSpPr/>
            <p:nvPr/>
          </p:nvSpPr>
          <p:spPr>
            <a:xfrm flipH="1">
              <a:off x="4566960" y="2763720"/>
              <a:ext cx="158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7" name="Freeform 83"/>
            <p:cNvSpPr/>
            <p:nvPr/>
          </p:nvSpPr>
          <p:spPr>
            <a:xfrm>
              <a:off x="4476600" y="2914560"/>
              <a:ext cx="125640" cy="25560"/>
            </a:xfrm>
            <a:custGeom>
              <a:avLst/>
              <a:gdLst/>
              <a:ahLst/>
              <a:rect l="l" t="t" r="r" b="b"/>
              <a:pathLst>
                <a:path w="555" h="115">
                  <a:moveTo>
                    <a:pt x="555" y="115"/>
                  </a:moveTo>
                  <a:lnTo>
                    <a:pt x="55" y="110"/>
                  </a:lnTo>
                  <a:lnTo>
                    <a:pt x="34" y="106"/>
                  </a:lnTo>
                  <a:lnTo>
                    <a:pt x="16" y="95"/>
                  </a:lnTo>
                  <a:lnTo>
                    <a:pt x="5" y="77"/>
                  </a:lnTo>
                  <a:lnTo>
                    <a:pt x="0" y="56"/>
                  </a:lnTo>
                  <a:lnTo>
                    <a:pt x="5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5" y="0"/>
                  </a:lnTo>
                  <a:lnTo>
                    <a:pt x="5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8" name="Line 84"/>
            <p:cNvSpPr/>
            <p:nvPr/>
          </p:nvSpPr>
          <p:spPr>
            <a:xfrm>
              <a:off x="4602240" y="2884320"/>
              <a:ext cx="8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9" name="Freeform 85"/>
            <p:cNvSpPr/>
            <p:nvPr/>
          </p:nvSpPr>
          <p:spPr>
            <a:xfrm>
              <a:off x="4691160" y="2914560"/>
              <a:ext cx="125280" cy="25560"/>
            </a:xfrm>
            <a:custGeom>
              <a:avLst/>
              <a:gdLst/>
              <a:ahLst/>
              <a:rect l="l" t="t" r="r" b="b"/>
              <a:pathLst>
                <a:path w="556" h="115">
                  <a:moveTo>
                    <a:pt x="0" y="0"/>
                  </a:moveTo>
                  <a:lnTo>
                    <a:pt x="500" y="0"/>
                  </a:lnTo>
                  <a:lnTo>
                    <a:pt x="522" y="4"/>
                  </a:lnTo>
                  <a:lnTo>
                    <a:pt x="540" y="17"/>
                  </a:lnTo>
                  <a:lnTo>
                    <a:pt x="551" y="33"/>
                  </a:lnTo>
                  <a:lnTo>
                    <a:pt x="556" y="56"/>
                  </a:lnTo>
                  <a:lnTo>
                    <a:pt x="551" y="77"/>
                  </a:lnTo>
                  <a:lnTo>
                    <a:pt x="540" y="95"/>
                  </a:lnTo>
                  <a:lnTo>
                    <a:pt x="522" y="106"/>
                  </a:lnTo>
                  <a:lnTo>
                    <a:pt x="500" y="110"/>
                  </a:lnTo>
                  <a:lnTo>
                    <a:pt x="0" y="1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0" name="Line 86"/>
            <p:cNvSpPr/>
            <p:nvPr/>
          </p:nvSpPr>
          <p:spPr>
            <a:xfrm>
              <a:off x="4792680" y="28843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1" name="Freeform 87"/>
            <p:cNvSpPr/>
            <p:nvPr/>
          </p:nvSpPr>
          <p:spPr>
            <a:xfrm>
              <a:off x="4788000" y="2940120"/>
              <a:ext cx="147600" cy="347400"/>
            </a:xfrm>
            <a:custGeom>
              <a:avLst/>
              <a:gdLst/>
              <a:ahLst/>
              <a:rect l="l" t="t" r="r" b="b"/>
              <a:pathLst>
                <a:path w="656" h="1537">
                  <a:moveTo>
                    <a:pt x="0" y="0"/>
                  </a:moveTo>
                  <a:lnTo>
                    <a:pt x="7" y="51"/>
                  </a:lnTo>
                  <a:lnTo>
                    <a:pt x="17" y="96"/>
                  </a:lnTo>
                  <a:lnTo>
                    <a:pt x="43" y="178"/>
                  </a:lnTo>
                  <a:lnTo>
                    <a:pt x="61" y="215"/>
                  </a:lnTo>
                  <a:lnTo>
                    <a:pt x="80" y="248"/>
                  </a:lnTo>
                  <a:lnTo>
                    <a:pt x="125" y="309"/>
                  </a:lnTo>
                  <a:lnTo>
                    <a:pt x="176" y="364"/>
                  </a:lnTo>
                  <a:lnTo>
                    <a:pt x="231" y="418"/>
                  </a:lnTo>
                  <a:lnTo>
                    <a:pt x="348" y="531"/>
                  </a:lnTo>
                  <a:lnTo>
                    <a:pt x="406" y="597"/>
                  </a:lnTo>
                  <a:lnTo>
                    <a:pt x="463" y="674"/>
                  </a:lnTo>
                  <a:lnTo>
                    <a:pt x="514" y="764"/>
                  </a:lnTo>
                  <a:lnTo>
                    <a:pt x="539" y="815"/>
                  </a:lnTo>
                  <a:lnTo>
                    <a:pt x="561" y="871"/>
                  </a:lnTo>
                  <a:lnTo>
                    <a:pt x="581" y="933"/>
                  </a:lnTo>
                  <a:lnTo>
                    <a:pt x="600" y="1000"/>
                  </a:lnTo>
                  <a:lnTo>
                    <a:pt x="616" y="1072"/>
                  </a:lnTo>
                  <a:lnTo>
                    <a:pt x="630" y="1150"/>
                  </a:lnTo>
                  <a:lnTo>
                    <a:pt x="641" y="1236"/>
                  </a:lnTo>
                  <a:lnTo>
                    <a:pt x="649" y="1329"/>
                  </a:lnTo>
                  <a:lnTo>
                    <a:pt x="653" y="1428"/>
                  </a:lnTo>
                  <a:lnTo>
                    <a:pt x="656" y="15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2" name="Freeform 88"/>
            <p:cNvSpPr/>
            <p:nvPr/>
          </p:nvSpPr>
          <p:spPr>
            <a:xfrm>
              <a:off x="4602240" y="3287520"/>
              <a:ext cx="88920" cy="541440"/>
            </a:xfrm>
            <a:custGeom>
              <a:avLst/>
              <a:gdLst/>
              <a:ahLst/>
              <a:rect l="l" t="t" r="r" b="b"/>
              <a:pathLst>
                <a:path w="393" h="2388">
                  <a:moveTo>
                    <a:pt x="393" y="0"/>
                  </a:moveTo>
                  <a:lnTo>
                    <a:pt x="393" y="1487"/>
                  </a:lnTo>
                  <a:lnTo>
                    <a:pt x="277" y="2388"/>
                  </a:lnTo>
                  <a:lnTo>
                    <a:pt x="116" y="2388"/>
                  </a:lnTo>
                  <a:lnTo>
                    <a:pt x="0" y="1487"/>
                  </a:lnTo>
                  <a:lnTo>
                    <a:pt x="1" y="1490"/>
                  </a:lnTo>
                  <a:lnTo>
                    <a:pt x="1" y="1488"/>
                  </a:lnTo>
                  <a:lnTo>
                    <a:pt x="0" y="148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3" name="Line 89"/>
            <p:cNvSpPr/>
            <p:nvPr/>
          </p:nvSpPr>
          <p:spPr>
            <a:xfrm>
              <a:off x="4602240" y="362592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4" name="Line 90"/>
            <p:cNvSpPr/>
            <p:nvPr/>
          </p:nvSpPr>
          <p:spPr>
            <a:xfrm flipH="1">
              <a:off x="4601880" y="3287520"/>
              <a:ext cx="8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5" name="Freeform 91"/>
            <p:cNvSpPr/>
            <p:nvPr/>
          </p:nvSpPr>
          <p:spPr>
            <a:xfrm>
              <a:off x="4357800" y="2940120"/>
              <a:ext cx="147600" cy="347400"/>
            </a:xfrm>
            <a:custGeom>
              <a:avLst/>
              <a:gdLst/>
              <a:ahLst/>
              <a:rect l="l" t="t" r="r" b="b"/>
              <a:pathLst>
                <a:path w="656" h="1537">
                  <a:moveTo>
                    <a:pt x="0" y="1537"/>
                  </a:moveTo>
                  <a:lnTo>
                    <a:pt x="2" y="1428"/>
                  </a:lnTo>
                  <a:lnTo>
                    <a:pt x="7" y="1329"/>
                  </a:lnTo>
                  <a:lnTo>
                    <a:pt x="15" y="1236"/>
                  </a:lnTo>
                  <a:lnTo>
                    <a:pt x="26" y="1150"/>
                  </a:lnTo>
                  <a:lnTo>
                    <a:pt x="40" y="1072"/>
                  </a:lnTo>
                  <a:lnTo>
                    <a:pt x="56" y="1000"/>
                  </a:lnTo>
                  <a:lnTo>
                    <a:pt x="75" y="933"/>
                  </a:lnTo>
                  <a:lnTo>
                    <a:pt x="95" y="871"/>
                  </a:lnTo>
                  <a:lnTo>
                    <a:pt x="142" y="764"/>
                  </a:lnTo>
                  <a:lnTo>
                    <a:pt x="194" y="674"/>
                  </a:lnTo>
                  <a:lnTo>
                    <a:pt x="250" y="597"/>
                  </a:lnTo>
                  <a:lnTo>
                    <a:pt x="308" y="531"/>
                  </a:lnTo>
                  <a:lnTo>
                    <a:pt x="367" y="473"/>
                  </a:lnTo>
                  <a:lnTo>
                    <a:pt x="425" y="418"/>
                  </a:lnTo>
                  <a:lnTo>
                    <a:pt x="481" y="364"/>
                  </a:lnTo>
                  <a:lnTo>
                    <a:pt x="531" y="309"/>
                  </a:lnTo>
                  <a:lnTo>
                    <a:pt x="576" y="248"/>
                  </a:lnTo>
                  <a:lnTo>
                    <a:pt x="612" y="178"/>
                  </a:lnTo>
                  <a:lnTo>
                    <a:pt x="628" y="139"/>
                  </a:lnTo>
                  <a:lnTo>
                    <a:pt x="640" y="96"/>
                  </a:lnTo>
                  <a:lnTo>
                    <a:pt x="649" y="51"/>
                  </a:lnTo>
                  <a:lnTo>
                    <a:pt x="6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6" name="Line 92"/>
            <p:cNvSpPr/>
            <p:nvPr/>
          </p:nvSpPr>
          <p:spPr>
            <a:xfrm flipV="1">
              <a:off x="4505400" y="28843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57" name="Text Box 93"/>
          <p:cNvSpPr/>
          <p:nvPr/>
        </p:nvSpPr>
        <p:spPr>
          <a:xfrm>
            <a:off x="4473360" y="29638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fran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Text Box 94"/>
          <p:cNvSpPr/>
          <p:nvPr/>
        </p:nvSpPr>
        <p:spPr>
          <a:xfrm>
            <a:off x="4343400" y="511956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0 se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AutoShape 95"/>
          <p:cNvSpPr/>
          <p:nvPr/>
        </p:nvSpPr>
        <p:spPr>
          <a:xfrm>
            <a:off x="3821040" y="2438280"/>
            <a:ext cx="533520" cy="990720"/>
          </a:xfrm>
          <a:custGeom>
            <a:avLst/>
            <a:gdLst>
              <a:gd name="textAreaLeft" fmla="*/ 0 w 533520"/>
              <a:gd name="textAreaRight" fmla="*/ 150840 w 533520"/>
              <a:gd name="textAreaTop" fmla="*/ 38124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AutoShape 96"/>
          <p:cNvSpPr/>
          <p:nvPr/>
        </p:nvSpPr>
        <p:spPr>
          <a:xfrm rot="2592000">
            <a:off x="3809880" y="2844720"/>
            <a:ext cx="838440" cy="533520"/>
          </a:xfrm>
          <a:prstGeom prst="lightningBolt">
            <a:avLst/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AutoShape 97"/>
          <p:cNvSpPr/>
          <p:nvPr/>
        </p:nvSpPr>
        <p:spPr>
          <a:xfrm rot="16200000">
            <a:off x="3782880" y="3161880"/>
            <a:ext cx="228600" cy="761760"/>
          </a:xfrm>
          <a:prstGeom prst="flowChartDelay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AutoShape 98"/>
          <p:cNvSpPr/>
          <p:nvPr/>
        </p:nvSpPr>
        <p:spPr>
          <a:xfrm>
            <a:off x="4343400" y="3962520"/>
            <a:ext cx="91440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AutoShape 99"/>
          <p:cNvSpPr/>
          <p:nvPr/>
        </p:nvSpPr>
        <p:spPr>
          <a:xfrm>
            <a:off x="4343400" y="3962520"/>
            <a:ext cx="914400" cy="91440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Oval 100"/>
          <p:cNvSpPr/>
          <p:nvPr/>
        </p:nvSpPr>
        <p:spPr>
          <a:xfrm>
            <a:off x="3657600" y="1295280"/>
            <a:ext cx="2286000" cy="259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AutoShape 101"/>
          <p:cNvSpPr/>
          <p:nvPr/>
        </p:nvSpPr>
        <p:spPr>
          <a:xfrm rot="5400000">
            <a:off x="4152600" y="3314520"/>
            <a:ext cx="1143000" cy="2133720"/>
          </a:xfrm>
          <a:prstGeom prst="flowChartDelay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3492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66"/>
                                      </p:to>
                                    </p:animClr>
                                    <p:set>
                                      <p:cBhvr>
                                        <p:cTn id="132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3492"/>
                                      </p:to>
                                    </p:animClr>
                                    <p:set>
                                      <p:cBhvr>
                                        <p:cTn id="166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C488-5205-4E00-803E-862C99951E0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7" name="Group 2"/>
          <p:cNvGrpSpPr/>
          <p:nvPr/>
        </p:nvGrpSpPr>
        <p:grpSpPr>
          <a:xfrm>
            <a:off x="3397320" y="1447920"/>
            <a:ext cx="720720" cy="863640"/>
            <a:chOff x="3397320" y="1447920"/>
            <a:chExt cx="720720" cy="863640"/>
          </a:xfrm>
        </p:grpSpPr>
        <p:sp>
          <p:nvSpPr>
            <p:cNvPr id="768" name="AutoShape 3"/>
            <p:cNvSpPr/>
            <p:nvPr/>
          </p:nvSpPr>
          <p:spPr>
            <a:xfrm>
              <a:off x="3541680" y="144792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9" name="AutoShape 4"/>
            <p:cNvSpPr/>
            <p:nvPr/>
          </p:nvSpPr>
          <p:spPr>
            <a:xfrm>
              <a:off x="3684600" y="144792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0" name="AutoShape 5"/>
            <p:cNvSpPr/>
            <p:nvPr/>
          </p:nvSpPr>
          <p:spPr>
            <a:xfrm>
              <a:off x="3829320" y="14479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1" name="AutoShape 6"/>
            <p:cNvSpPr/>
            <p:nvPr/>
          </p:nvSpPr>
          <p:spPr>
            <a:xfrm>
              <a:off x="3468960" y="166392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2" name="AutoShape 7"/>
            <p:cNvSpPr/>
            <p:nvPr/>
          </p:nvSpPr>
          <p:spPr>
            <a:xfrm>
              <a:off x="3613320" y="166392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3" name="AutoShape 8"/>
            <p:cNvSpPr/>
            <p:nvPr/>
          </p:nvSpPr>
          <p:spPr>
            <a:xfrm>
              <a:off x="3757680" y="166392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4" name="AutoShape 9"/>
            <p:cNvSpPr/>
            <p:nvPr/>
          </p:nvSpPr>
          <p:spPr>
            <a:xfrm>
              <a:off x="3902040" y="1663920"/>
              <a:ext cx="14472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5" name="AutoShape 10"/>
            <p:cNvSpPr/>
            <p:nvPr/>
          </p:nvSpPr>
          <p:spPr>
            <a:xfrm>
              <a:off x="3468960" y="209556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6" name="AutoShape 11"/>
            <p:cNvSpPr/>
            <p:nvPr/>
          </p:nvSpPr>
          <p:spPr>
            <a:xfrm>
              <a:off x="3613320" y="209556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7" name="AutoShape 12"/>
            <p:cNvSpPr/>
            <p:nvPr/>
          </p:nvSpPr>
          <p:spPr>
            <a:xfrm>
              <a:off x="3757680" y="209556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8" name="AutoShape 13"/>
            <p:cNvSpPr/>
            <p:nvPr/>
          </p:nvSpPr>
          <p:spPr>
            <a:xfrm>
              <a:off x="3902040" y="209556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9" name="AutoShape 14"/>
            <p:cNvSpPr/>
            <p:nvPr/>
          </p:nvSpPr>
          <p:spPr>
            <a:xfrm>
              <a:off x="3397320" y="187956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0" name="AutoShape 15"/>
            <p:cNvSpPr/>
            <p:nvPr/>
          </p:nvSpPr>
          <p:spPr>
            <a:xfrm>
              <a:off x="3541680" y="187956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1" name="AutoShape 16"/>
            <p:cNvSpPr/>
            <p:nvPr/>
          </p:nvSpPr>
          <p:spPr>
            <a:xfrm>
              <a:off x="3686400" y="187956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2" name="AutoShape 17"/>
            <p:cNvSpPr/>
            <p:nvPr/>
          </p:nvSpPr>
          <p:spPr>
            <a:xfrm>
              <a:off x="3829320" y="187956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3" name="AutoShape 18"/>
            <p:cNvSpPr/>
            <p:nvPr/>
          </p:nvSpPr>
          <p:spPr>
            <a:xfrm>
              <a:off x="3973680" y="187956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84" name="Group 19"/>
          <p:cNvGrpSpPr/>
          <p:nvPr/>
        </p:nvGrpSpPr>
        <p:grpSpPr>
          <a:xfrm>
            <a:off x="6400800" y="1519200"/>
            <a:ext cx="2087640" cy="431640"/>
            <a:chOff x="6400800" y="1519200"/>
            <a:chExt cx="2087640" cy="431640"/>
          </a:xfrm>
        </p:grpSpPr>
        <p:sp>
          <p:nvSpPr>
            <p:cNvPr id="785" name="AutoShape 20"/>
            <p:cNvSpPr/>
            <p:nvPr/>
          </p:nvSpPr>
          <p:spPr>
            <a:xfrm>
              <a:off x="6400800" y="1590480"/>
              <a:ext cx="431640" cy="14436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6" name="AutoShape 21"/>
            <p:cNvSpPr/>
            <p:nvPr/>
          </p:nvSpPr>
          <p:spPr>
            <a:xfrm>
              <a:off x="6832440" y="1806480"/>
              <a:ext cx="432000" cy="14436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7" name="AutoShape 22"/>
            <p:cNvSpPr/>
            <p:nvPr/>
          </p:nvSpPr>
          <p:spPr>
            <a:xfrm>
              <a:off x="7048440" y="1519200"/>
              <a:ext cx="432000" cy="14436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8" name="AutoShape 23"/>
            <p:cNvSpPr/>
            <p:nvPr/>
          </p:nvSpPr>
          <p:spPr>
            <a:xfrm>
              <a:off x="7480440" y="1734840"/>
              <a:ext cx="431640" cy="14472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9" name="AutoShape 24"/>
            <p:cNvSpPr/>
            <p:nvPr/>
          </p:nvSpPr>
          <p:spPr>
            <a:xfrm>
              <a:off x="8056440" y="1734840"/>
              <a:ext cx="432000" cy="14472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90" name="Group 25"/>
          <p:cNvGrpSpPr/>
          <p:nvPr/>
        </p:nvGrpSpPr>
        <p:grpSpPr>
          <a:xfrm>
            <a:off x="6473880" y="2895480"/>
            <a:ext cx="2087640" cy="431640"/>
            <a:chOff x="6473880" y="2895480"/>
            <a:chExt cx="2087640" cy="431640"/>
          </a:xfrm>
        </p:grpSpPr>
        <p:sp>
          <p:nvSpPr>
            <p:cNvPr id="791" name="AutoShape 26"/>
            <p:cNvSpPr/>
            <p:nvPr/>
          </p:nvSpPr>
          <p:spPr>
            <a:xfrm>
              <a:off x="6473880" y="2966760"/>
              <a:ext cx="431640" cy="14436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2" name="AutoShape 27"/>
            <p:cNvSpPr/>
            <p:nvPr/>
          </p:nvSpPr>
          <p:spPr>
            <a:xfrm>
              <a:off x="6905520" y="3182760"/>
              <a:ext cx="432000" cy="14436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3" name="AutoShape 28"/>
            <p:cNvSpPr/>
            <p:nvPr/>
          </p:nvSpPr>
          <p:spPr>
            <a:xfrm>
              <a:off x="7121520" y="2895480"/>
              <a:ext cx="432000" cy="14436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4" name="AutoShape 29"/>
            <p:cNvSpPr/>
            <p:nvPr/>
          </p:nvSpPr>
          <p:spPr>
            <a:xfrm>
              <a:off x="7553520" y="3111120"/>
              <a:ext cx="431640" cy="14472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5" name="AutoShape 30"/>
            <p:cNvSpPr/>
            <p:nvPr/>
          </p:nvSpPr>
          <p:spPr>
            <a:xfrm>
              <a:off x="8129520" y="3111120"/>
              <a:ext cx="432000" cy="14472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96" name="Group 31"/>
          <p:cNvGrpSpPr/>
          <p:nvPr/>
        </p:nvGrpSpPr>
        <p:grpSpPr>
          <a:xfrm>
            <a:off x="6545160" y="4410000"/>
            <a:ext cx="2087640" cy="431640"/>
            <a:chOff x="6545160" y="4410000"/>
            <a:chExt cx="2087640" cy="431640"/>
          </a:xfrm>
        </p:grpSpPr>
        <p:sp>
          <p:nvSpPr>
            <p:cNvPr id="797" name="AutoShape 32"/>
            <p:cNvSpPr/>
            <p:nvPr/>
          </p:nvSpPr>
          <p:spPr>
            <a:xfrm>
              <a:off x="6545160" y="4481280"/>
              <a:ext cx="431640" cy="14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8" name="AutoShape 33"/>
            <p:cNvSpPr/>
            <p:nvPr/>
          </p:nvSpPr>
          <p:spPr>
            <a:xfrm>
              <a:off x="6976800" y="4697280"/>
              <a:ext cx="432000" cy="14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9" name="AutoShape 34"/>
            <p:cNvSpPr/>
            <p:nvPr/>
          </p:nvSpPr>
          <p:spPr>
            <a:xfrm>
              <a:off x="7192800" y="4410000"/>
              <a:ext cx="432000" cy="14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0" name="AutoShape 35"/>
            <p:cNvSpPr/>
            <p:nvPr/>
          </p:nvSpPr>
          <p:spPr>
            <a:xfrm>
              <a:off x="7624800" y="4625640"/>
              <a:ext cx="431640" cy="14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1" name="AutoShape 36"/>
            <p:cNvSpPr/>
            <p:nvPr/>
          </p:nvSpPr>
          <p:spPr>
            <a:xfrm>
              <a:off x="8200800" y="4625640"/>
              <a:ext cx="432000" cy="14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02" name="Group 37"/>
          <p:cNvGrpSpPr/>
          <p:nvPr/>
        </p:nvGrpSpPr>
        <p:grpSpPr>
          <a:xfrm>
            <a:off x="6616800" y="5734080"/>
            <a:ext cx="2087640" cy="431640"/>
            <a:chOff x="6616800" y="5734080"/>
            <a:chExt cx="2087640" cy="431640"/>
          </a:xfrm>
        </p:grpSpPr>
        <p:sp>
          <p:nvSpPr>
            <p:cNvPr id="803" name="AutoShape 38"/>
            <p:cNvSpPr/>
            <p:nvPr/>
          </p:nvSpPr>
          <p:spPr>
            <a:xfrm>
              <a:off x="6616800" y="5805360"/>
              <a:ext cx="431640" cy="14436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4" name="AutoShape 39"/>
            <p:cNvSpPr/>
            <p:nvPr/>
          </p:nvSpPr>
          <p:spPr>
            <a:xfrm>
              <a:off x="7048440" y="6021360"/>
              <a:ext cx="432000" cy="14436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5" name="AutoShape 40"/>
            <p:cNvSpPr/>
            <p:nvPr/>
          </p:nvSpPr>
          <p:spPr>
            <a:xfrm>
              <a:off x="7264440" y="5734080"/>
              <a:ext cx="432000" cy="14436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6" name="AutoShape 41"/>
            <p:cNvSpPr/>
            <p:nvPr/>
          </p:nvSpPr>
          <p:spPr>
            <a:xfrm>
              <a:off x="7696440" y="5949720"/>
              <a:ext cx="431640" cy="14472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7" name="AutoShape 42"/>
            <p:cNvSpPr/>
            <p:nvPr/>
          </p:nvSpPr>
          <p:spPr>
            <a:xfrm>
              <a:off x="8272440" y="5949720"/>
              <a:ext cx="432000" cy="14472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3397320" y="2895480"/>
            <a:ext cx="720720" cy="863640"/>
            <a:chOff x="3397320" y="2895480"/>
            <a:chExt cx="720720" cy="863640"/>
          </a:xfrm>
        </p:grpSpPr>
        <p:sp>
          <p:nvSpPr>
            <p:cNvPr id="809" name="AutoShape 44"/>
            <p:cNvSpPr/>
            <p:nvPr/>
          </p:nvSpPr>
          <p:spPr>
            <a:xfrm>
              <a:off x="3541680" y="289548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0" name="AutoShape 45"/>
            <p:cNvSpPr/>
            <p:nvPr/>
          </p:nvSpPr>
          <p:spPr>
            <a:xfrm>
              <a:off x="3684600" y="289548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1" name="AutoShape 46"/>
            <p:cNvSpPr/>
            <p:nvPr/>
          </p:nvSpPr>
          <p:spPr>
            <a:xfrm>
              <a:off x="3829320" y="289548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2" name="AutoShape 47"/>
            <p:cNvSpPr/>
            <p:nvPr/>
          </p:nvSpPr>
          <p:spPr>
            <a:xfrm>
              <a:off x="3468960" y="311148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3" name="AutoShape 48"/>
            <p:cNvSpPr/>
            <p:nvPr/>
          </p:nvSpPr>
          <p:spPr>
            <a:xfrm>
              <a:off x="3613320" y="311148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4" name="AutoShape 49"/>
            <p:cNvSpPr/>
            <p:nvPr/>
          </p:nvSpPr>
          <p:spPr>
            <a:xfrm>
              <a:off x="3757680" y="311148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5" name="AutoShape 50"/>
            <p:cNvSpPr/>
            <p:nvPr/>
          </p:nvSpPr>
          <p:spPr>
            <a:xfrm>
              <a:off x="3902040" y="3111480"/>
              <a:ext cx="14472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6" name="AutoShape 51"/>
            <p:cNvSpPr/>
            <p:nvPr/>
          </p:nvSpPr>
          <p:spPr>
            <a:xfrm>
              <a:off x="3468960" y="35431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7" name="AutoShape 52"/>
            <p:cNvSpPr/>
            <p:nvPr/>
          </p:nvSpPr>
          <p:spPr>
            <a:xfrm>
              <a:off x="3613320" y="35431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8" name="AutoShape 53"/>
            <p:cNvSpPr/>
            <p:nvPr/>
          </p:nvSpPr>
          <p:spPr>
            <a:xfrm>
              <a:off x="3757680" y="35431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9" name="AutoShape 54"/>
            <p:cNvSpPr/>
            <p:nvPr/>
          </p:nvSpPr>
          <p:spPr>
            <a:xfrm>
              <a:off x="3902040" y="354312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0" name="AutoShape 55"/>
            <p:cNvSpPr/>
            <p:nvPr/>
          </p:nvSpPr>
          <p:spPr>
            <a:xfrm>
              <a:off x="3397320" y="33271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1" name="AutoShape 56"/>
            <p:cNvSpPr/>
            <p:nvPr/>
          </p:nvSpPr>
          <p:spPr>
            <a:xfrm>
              <a:off x="3541680" y="332712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2" name="AutoShape 57"/>
            <p:cNvSpPr/>
            <p:nvPr/>
          </p:nvSpPr>
          <p:spPr>
            <a:xfrm>
              <a:off x="3686400" y="33271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3" name="AutoShape 58"/>
            <p:cNvSpPr/>
            <p:nvPr/>
          </p:nvSpPr>
          <p:spPr>
            <a:xfrm>
              <a:off x="3829320" y="33271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4" name="AutoShape 59"/>
            <p:cNvSpPr/>
            <p:nvPr/>
          </p:nvSpPr>
          <p:spPr>
            <a:xfrm>
              <a:off x="3973680" y="33271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25" name="Group 60"/>
          <p:cNvGrpSpPr/>
          <p:nvPr/>
        </p:nvGrpSpPr>
        <p:grpSpPr>
          <a:xfrm>
            <a:off x="3397320" y="4267080"/>
            <a:ext cx="720720" cy="863640"/>
            <a:chOff x="3397320" y="4267080"/>
            <a:chExt cx="720720" cy="863640"/>
          </a:xfrm>
        </p:grpSpPr>
        <p:sp>
          <p:nvSpPr>
            <p:cNvPr id="826" name="AutoShape 61"/>
            <p:cNvSpPr/>
            <p:nvPr/>
          </p:nvSpPr>
          <p:spPr>
            <a:xfrm>
              <a:off x="3541680" y="426708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7" name="AutoShape 62"/>
            <p:cNvSpPr/>
            <p:nvPr/>
          </p:nvSpPr>
          <p:spPr>
            <a:xfrm>
              <a:off x="3684600" y="426708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8" name="AutoShape 63"/>
            <p:cNvSpPr/>
            <p:nvPr/>
          </p:nvSpPr>
          <p:spPr>
            <a:xfrm>
              <a:off x="3829320" y="426708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9" name="AutoShape 64"/>
            <p:cNvSpPr/>
            <p:nvPr/>
          </p:nvSpPr>
          <p:spPr>
            <a:xfrm>
              <a:off x="3468960" y="448308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0" name="AutoShape 65"/>
            <p:cNvSpPr/>
            <p:nvPr/>
          </p:nvSpPr>
          <p:spPr>
            <a:xfrm>
              <a:off x="3613320" y="448308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1" name="AutoShape 66"/>
            <p:cNvSpPr/>
            <p:nvPr/>
          </p:nvSpPr>
          <p:spPr>
            <a:xfrm>
              <a:off x="3757680" y="448308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2" name="AutoShape 67"/>
            <p:cNvSpPr/>
            <p:nvPr/>
          </p:nvSpPr>
          <p:spPr>
            <a:xfrm>
              <a:off x="3902040" y="4483080"/>
              <a:ext cx="14472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3" name="AutoShape 68"/>
            <p:cNvSpPr/>
            <p:nvPr/>
          </p:nvSpPr>
          <p:spPr>
            <a:xfrm>
              <a:off x="3468960" y="49147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4" name="AutoShape 69"/>
            <p:cNvSpPr/>
            <p:nvPr/>
          </p:nvSpPr>
          <p:spPr>
            <a:xfrm>
              <a:off x="3613320" y="49147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5" name="AutoShape 70"/>
            <p:cNvSpPr/>
            <p:nvPr/>
          </p:nvSpPr>
          <p:spPr>
            <a:xfrm>
              <a:off x="3757680" y="49147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6" name="AutoShape 71"/>
            <p:cNvSpPr/>
            <p:nvPr/>
          </p:nvSpPr>
          <p:spPr>
            <a:xfrm>
              <a:off x="3902040" y="491472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7" name="AutoShape 72"/>
            <p:cNvSpPr/>
            <p:nvPr/>
          </p:nvSpPr>
          <p:spPr>
            <a:xfrm>
              <a:off x="3397320" y="46987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8" name="AutoShape 73"/>
            <p:cNvSpPr/>
            <p:nvPr/>
          </p:nvSpPr>
          <p:spPr>
            <a:xfrm>
              <a:off x="3541680" y="469872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9" name="AutoShape 74"/>
            <p:cNvSpPr/>
            <p:nvPr/>
          </p:nvSpPr>
          <p:spPr>
            <a:xfrm>
              <a:off x="3686400" y="46987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0" name="AutoShape 75"/>
            <p:cNvSpPr/>
            <p:nvPr/>
          </p:nvSpPr>
          <p:spPr>
            <a:xfrm>
              <a:off x="3829320" y="46987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1" name="AutoShape 76"/>
            <p:cNvSpPr/>
            <p:nvPr/>
          </p:nvSpPr>
          <p:spPr>
            <a:xfrm>
              <a:off x="3973680" y="46987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42" name="Group 77"/>
          <p:cNvGrpSpPr/>
          <p:nvPr/>
        </p:nvGrpSpPr>
        <p:grpSpPr>
          <a:xfrm>
            <a:off x="3470400" y="5661000"/>
            <a:ext cx="720720" cy="863640"/>
            <a:chOff x="3470400" y="5661000"/>
            <a:chExt cx="720720" cy="863640"/>
          </a:xfrm>
        </p:grpSpPr>
        <p:sp>
          <p:nvSpPr>
            <p:cNvPr id="843" name="AutoShape 78"/>
            <p:cNvSpPr/>
            <p:nvPr/>
          </p:nvSpPr>
          <p:spPr>
            <a:xfrm>
              <a:off x="3614760" y="566100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4" name="AutoShape 79"/>
            <p:cNvSpPr/>
            <p:nvPr/>
          </p:nvSpPr>
          <p:spPr>
            <a:xfrm>
              <a:off x="3757680" y="566100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5" name="AutoShape 80"/>
            <p:cNvSpPr/>
            <p:nvPr/>
          </p:nvSpPr>
          <p:spPr>
            <a:xfrm>
              <a:off x="3902400" y="566100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6" name="AutoShape 81"/>
            <p:cNvSpPr/>
            <p:nvPr/>
          </p:nvSpPr>
          <p:spPr>
            <a:xfrm>
              <a:off x="3542040" y="587700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7" name="AutoShape 82"/>
            <p:cNvSpPr/>
            <p:nvPr/>
          </p:nvSpPr>
          <p:spPr>
            <a:xfrm>
              <a:off x="3686400" y="587700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8" name="AutoShape 83"/>
            <p:cNvSpPr/>
            <p:nvPr/>
          </p:nvSpPr>
          <p:spPr>
            <a:xfrm>
              <a:off x="3830760" y="587700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9" name="AutoShape 84"/>
            <p:cNvSpPr/>
            <p:nvPr/>
          </p:nvSpPr>
          <p:spPr>
            <a:xfrm>
              <a:off x="3975120" y="5877000"/>
              <a:ext cx="14472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0" name="AutoShape 85"/>
            <p:cNvSpPr/>
            <p:nvPr/>
          </p:nvSpPr>
          <p:spPr>
            <a:xfrm>
              <a:off x="3542040" y="630864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1" name="AutoShape 86"/>
            <p:cNvSpPr/>
            <p:nvPr/>
          </p:nvSpPr>
          <p:spPr>
            <a:xfrm>
              <a:off x="3686400" y="630864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2" name="AutoShape 87"/>
            <p:cNvSpPr/>
            <p:nvPr/>
          </p:nvSpPr>
          <p:spPr>
            <a:xfrm>
              <a:off x="3830760" y="630864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3" name="AutoShape 88"/>
            <p:cNvSpPr/>
            <p:nvPr/>
          </p:nvSpPr>
          <p:spPr>
            <a:xfrm>
              <a:off x="3975120" y="630864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4" name="AutoShape 89"/>
            <p:cNvSpPr/>
            <p:nvPr/>
          </p:nvSpPr>
          <p:spPr>
            <a:xfrm>
              <a:off x="3470400" y="609264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5" name="AutoShape 90"/>
            <p:cNvSpPr/>
            <p:nvPr/>
          </p:nvSpPr>
          <p:spPr>
            <a:xfrm>
              <a:off x="3614760" y="609264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6" name="AutoShape 91"/>
            <p:cNvSpPr/>
            <p:nvPr/>
          </p:nvSpPr>
          <p:spPr>
            <a:xfrm>
              <a:off x="3759480" y="609264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7" name="AutoShape 92"/>
            <p:cNvSpPr/>
            <p:nvPr/>
          </p:nvSpPr>
          <p:spPr>
            <a:xfrm>
              <a:off x="3902400" y="609264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8" name="AutoShape 93"/>
            <p:cNvSpPr/>
            <p:nvPr/>
          </p:nvSpPr>
          <p:spPr>
            <a:xfrm>
              <a:off x="4046760" y="609264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59" name="Line 94"/>
          <p:cNvSpPr/>
          <p:nvPr/>
        </p:nvSpPr>
        <p:spPr>
          <a:xfrm>
            <a:off x="5435640" y="1413000"/>
            <a:ext cx="0" cy="518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Text Box 95"/>
          <p:cNvSpPr/>
          <p:nvPr/>
        </p:nvSpPr>
        <p:spPr>
          <a:xfrm>
            <a:off x="3037320" y="452520"/>
            <a:ext cx="12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am +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.aure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Text Box 96"/>
          <p:cNvSpPr/>
          <p:nvPr/>
        </p:nvSpPr>
        <p:spPr>
          <a:xfrm>
            <a:off x="6936840" y="38088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am –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.co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Text Box 97"/>
          <p:cNvSpPr/>
          <p:nvPr/>
        </p:nvSpPr>
        <p:spPr>
          <a:xfrm>
            <a:off x="198360" y="1808280"/>
            <a:ext cx="2467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53492"/>
                </a:solidFill>
                <a:latin typeface="Arial"/>
              </a:rPr>
              <a:t>Crystal Viol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Text Box 98"/>
          <p:cNvSpPr/>
          <p:nvPr/>
        </p:nvSpPr>
        <p:spPr>
          <a:xfrm>
            <a:off x="133560" y="3111480"/>
            <a:ext cx="253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Gram’s Iod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Text Box 99"/>
          <p:cNvSpPr/>
          <p:nvPr/>
        </p:nvSpPr>
        <p:spPr>
          <a:xfrm>
            <a:off x="93960" y="4476600"/>
            <a:ext cx="2727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3: Decolorizatio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ceton-Alcohol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Text Box 100"/>
          <p:cNvSpPr/>
          <p:nvPr/>
        </p:nvSpPr>
        <p:spPr>
          <a:xfrm>
            <a:off x="172800" y="5799240"/>
            <a:ext cx="241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4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Safranin R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F1D1-CEAF-4CF3-9846-51C95F5285F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Results: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868" name="Picture 8" descr="11-06e_Staph_L"/>
          <p:cNvPicPr/>
          <p:nvPr/>
        </p:nvPicPr>
        <p:blipFill>
          <a:blip r:embed="rId1"/>
          <a:stretch/>
        </p:blipFill>
        <p:spPr>
          <a:xfrm>
            <a:off x="5410080" y="118116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17"/>
          <p:cNvSpPr/>
          <p:nvPr/>
        </p:nvSpPr>
        <p:spPr>
          <a:xfrm>
            <a:off x="457200" y="1600200"/>
            <a:ext cx="6019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pe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c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rangement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lust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lour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iol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ram’s reaction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ram’s +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me of microorganism: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taphylococcus aureu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. aureu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4636-2AF3-4D23-867A-E493493DFFD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Results: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872" name="Picture 6" descr="CANDIDA"/>
          <p:cNvPicPr/>
          <p:nvPr/>
        </p:nvPicPr>
        <p:blipFill>
          <a:blip r:embed="rId1"/>
          <a:stretch/>
        </p:blipFill>
        <p:spPr>
          <a:xfrm>
            <a:off x="5181480" y="113364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7"/>
          <p:cNvSpPr/>
          <p:nvPr/>
        </p:nvSpPr>
        <p:spPr>
          <a:xfrm>
            <a:off x="457200" y="1600200"/>
            <a:ext cx="6019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pe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v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rangement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ng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lour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iol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ram’s reaction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ram’s +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me of microorganism: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andida albica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. albica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F901-BCBC-4691-A291-BEE34A1AC3B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Results: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876" name="Picture 5" descr="PHOTO76"/>
          <p:cNvPicPr/>
          <p:nvPr/>
        </p:nvPicPr>
        <p:blipFill>
          <a:blip r:embed="rId1"/>
          <a:stretch/>
        </p:blipFill>
        <p:spPr>
          <a:xfrm>
            <a:off x="5364000" y="1341360"/>
            <a:ext cx="3200400" cy="3054600"/>
          </a:xfrm>
          <a:prstGeom prst="rect">
            <a:avLst/>
          </a:prstGeom>
          <a:ln w="0">
            <a:noFill/>
          </a:ln>
        </p:spPr>
      </p:pic>
      <p:sp>
        <p:nvSpPr>
          <p:cNvPr id="877" name="Text Box 7"/>
          <p:cNvSpPr/>
          <p:nvPr/>
        </p:nvSpPr>
        <p:spPr>
          <a:xfrm>
            <a:off x="457200" y="1600200"/>
            <a:ext cx="6019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pe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acil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rangement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lour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iol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ram’s reaction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ram +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me of microorganism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acillus subtili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B. subtili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68360" y="1341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 Unicode MS"/>
                <a:ea typeface="Arial Unicode MS"/>
              </a:rPr>
              <a:t>☠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Lab coat &amp; mark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  <a:ea typeface="Arial Unicode MS"/>
              </a:rPr>
              <a:t>☠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No eating, drinking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e400"/>
                </a:solidFill>
                <a:latin typeface="Tempus Sans ITC"/>
                <a:ea typeface="Arial Unicode MS"/>
              </a:rPr>
              <a:t>☠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Benches disinfec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  <a:ea typeface="Arial Unicode MS"/>
              </a:rPr>
              <a:t>☠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  <a:ea typeface="Arial Unicode MS"/>
              </a:rPr>
              <a:t>Inoculating loop steriliz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dffd"/>
                </a:solidFill>
                <a:latin typeface="Tempus Sans ITC"/>
                <a:ea typeface="Arial Unicode MS"/>
              </a:rPr>
              <a:t>☠ </a:t>
            </a:r>
            <a:r>
              <a:rPr b="1" lang="en-US" sz="2800" spc="-1" strike="noStrike">
                <a:solidFill>
                  <a:srgbClr val="ff0000"/>
                </a:solidFill>
                <a:latin typeface="Tempus Sans ITC"/>
                <a:ea typeface="Arial Unicode MS"/>
              </a:rPr>
              <a:t>Aseptic technique.</a:t>
            </a:r>
            <a:r>
              <a:rPr b="1" lang="en-US" sz="2800" spc="-1" strike="noStrike">
                <a:solidFill>
                  <a:srgbClr val="f2dffd"/>
                </a:solidFill>
                <a:latin typeface="Tempus Sans ITC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fad2"/>
                </a:solidFill>
                <a:latin typeface="Tempus Sans ITC"/>
                <a:ea typeface="Arial Unicode MS"/>
              </a:rPr>
              <a:t>☠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Discarded cultures &amp; infectious materia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  <a:ea typeface="Arial Unicode MS"/>
              </a:rPr>
              <a:t> ☠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Broken or spilled living cultures</a:t>
            </a:r>
            <a:r>
              <a:rPr b="0" lang="en-US" sz="2800" spc="-1" strike="noStrike">
                <a:solidFill>
                  <a:srgbClr val="539c36"/>
                </a:solidFill>
                <a:latin typeface="Tempus Sans ITC"/>
              </a:rPr>
              <a:t>.</a:t>
            </a:r>
            <a:r>
              <a:rPr b="0" lang="en-US" sz="2800" spc="-1" strike="noStrike">
                <a:solidFill>
                  <a:srgbClr val="00ff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642920" y="1267920"/>
            <a:ext cx="403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 Unicode MS"/>
                <a:ea typeface="Arial Unicode MS"/>
              </a:rPr>
              <a:t>☠ </a:t>
            </a:r>
            <a:r>
              <a:rPr b="1" lang="en-US" sz="2800" spc="-1" strike="noStrike">
                <a:solidFill>
                  <a:srgbClr val="ff0000"/>
                </a:solidFill>
                <a:latin typeface="Tempus Sans ITC"/>
              </a:rPr>
              <a:t>Microscop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empus Sans ITC"/>
                <a:ea typeface="Arial Unicode MS"/>
              </a:rPr>
              <a:t>☠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At the end of each lab check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empus Sans ITC"/>
              </a:rPr>
              <a:t>Gas tap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 is turned off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empus Sans ITC"/>
              </a:rPr>
              <a:t>Water tap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 is closed proper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empus Sans ITC"/>
              </a:rPr>
              <a:t>Microscope lamp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 is turned off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Tempus Sans ITC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ff0000"/>
                </a:solidFill>
                <a:latin typeface="Tempus Sans ITC"/>
              </a:rPr>
              <a:t>Finally </a:t>
            </a:r>
            <a:r>
              <a:rPr b="1" lang="en-US" sz="2800" spc="-1" strike="noStrike">
                <a:solidFill>
                  <a:srgbClr val="ff0000"/>
                </a:solidFill>
                <a:latin typeface="Tempus Sans ITC"/>
              </a:rPr>
              <a:t>wash your hands thoroughly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f2dff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WordArt 5"/>
          <p:cNvSpPr txBox="1"/>
          <p:nvPr/>
        </p:nvSpPr>
        <p:spPr>
          <a:xfrm>
            <a:off x="539640" y="115920"/>
            <a:ext cx="784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icrobiology laboratory safety protocoa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ll dir="r"/>
    <p:sndAc>
      <p:stSnd>
        <p:snd r:embed="rId1" name="breez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8FBD-2E19-4713-9905-19B5DE4E9D7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Results: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880" name="Picture 3" descr="E_coli_2000_P7201172"/>
          <p:cNvPicPr/>
          <p:nvPr/>
        </p:nvPicPr>
        <p:blipFill>
          <a:blip r:embed="rId1"/>
          <a:stretch/>
        </p:blipFill>
        <p:spPr>
          <a:xfrm>
            <a:off x="5292720" y="1440000"/>
            <a:ext cx="3429000" cy="2565360"/>
          </a:xfrm>
          <a:prstGeom prst="rect">
            <a:avLst/>
          </a:prstGeom>
          <a:ln w="0">
            <a:noFill/>
          </a:ln>
        </p:spPr>
      </p:pic>
      <p:sp>
        <p:nvSpPr>
          <p:cNvPr id="881" name="Text Box 7"/>
          <p:cNvSpPr/>
          <p:nvPr/>
        </p:nvSpPr>
        <p:spPr>
          <a:xfrm>
            <a:off x="457200" y="1600200"/>
            <a:ext cx="6172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pe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o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rangement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ng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lour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ram’s reaction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ram -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me of microorganism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ram –ve bacil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Verdana"/>
              </a:rPr>
              <a:t>Culture Media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Verdana"/>
              </a:rPr>
              <a:t>The culture media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is an artificial preparation contains the essential element and nutrient in a proper concentration needed by the microorganism to gro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It may be: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Liquid (broth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Solid (containing aga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Semisolid (containing low conc of aga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Verdana"/>
              </a:rPr>
              <a:t>Culture Media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Most common ingredients: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sential elements and nutrie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olidifying age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Verdana"/>
              </a:rPr>
              <a:t>Types of culture media:</a:t>
            </a:r>
            <a:endParaRPr b="0" lang="en-US" sz="4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Verdana"/>
              </a:rPr>
              <a:t>Simple med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Verdana"/>
              </a:rPr>
              <a:t>Enriched med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Verdana"/>
              </a:rPr>
              <a:t>Selective med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Verdana"/>
              </a:rPr>
              <a:t>Indicator med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Verdana"/>
              </a:rPr>
              <a:t>Selective and indicator med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Verdana"/>
              </a:rPr>
              <a:t>Isolation of Pure Colonies of Microorganism </a:t>
            </a:r>
            <a:br>
              <a:rPr sz="4000"/>
            </a:br>
            <a:r>
              <a:rPr b="1" lang="en-US" sz="4000" spc="-1" strike="noStrike">
                <a:solidFill>
                  <a:srgbClr val="ff9999"/>
                </a:solidFill>
                <a:latin typeface="Verdana"/>
              </a:rPr>
              <a:t>“Streak Plate Method”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In natural environments, bacteria &amp; other m.o exist in mixed popul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993366"/>
                </a:solidFill>
                <a:latin typeface="Verdana"/>
              </a:rPr>
              <a:t>Streak Plate Technique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individual cells are separated from each other by certain distance on the surface of the ag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incubation, each single deposited cell divide many times and finally form visible mass of growth “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COL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”.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99"/>
                </a:solidFill>
                <a:latin typeface="Verdana"/>
              </a:rPr>
              <a:t>The streak Plate Method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culture prepared from a single type of colony is regarded as a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pure cultur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The streak Plate Method is used for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hecking the purity of a bacterial cul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solating individual species from a mixture cul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99"/>
                </a:solidFill>
                <a:latin typeface="Verdana"/>
              </a:rPr>
              <a:t>The streak Plate Method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Objective:-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r isolation of individual species of a mixed broth cultu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2dff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2dffd"/>
                </a:solidFill>
                <a:uFillTx/>
                <a:latin typeface="Verdana"/>
              </a:rPr>
              <a:t>Materials: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utrient agar pla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ixed broth culture of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erratia marcescens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 staph. aureu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99"/>
                </a:solidFill>
                <a:latin typeface="Verdana"/>
              </a:rPr>
              <a:t>The streak Plate Method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28191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dff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dffd"/>
                </a:solidFill>
                <a:latin typeface="Verdana"/>
              </a:rPr>
              <a:t>Procedur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96" name="Group 10"/>
          <p:cNvGrpSpPr/>
          <p:nvPr/>
        </p:nvGrpSpPr>
        <p:grpSpPr>
          <a:xfrm>
            <a:off x="2743200" y="3657600"/>
            <a:ext cx="838080" cy="1218960"/>
            <a:chOff x="2743200" y="3657600"/>
            <a:chExt cx="838080" cy="1218960"/>
          </a:xfrm>
        </p:grpSpPr>
        <p:grpSp>
          <p:nvGrpSpPr>
            <p:cNvPr id="897" name="Group 6"/>
            <p:cNvGrpSpPr/>
            <p:nvPr/>
          </p:nvGrpSpPr>
          <p:grpSpPr>
            <a:xfrm>
              <a:off x="2743200" y="3657600"/>
              <a:ext cx="761400" cy="1218960"/>
              <a:chOff x="2743200" y="3657600"/>
              <a:chExt cx="761400" cy="1218960"/>
            </a:xfrm>
          </p:grpSpPr>
          <p:sp>
            <p:nvSpPr>
              <p:cNvPr id="898" name="Rectangle 7"/>
              <p:cNvSpPr/>
              <p:nvPr/>
            </p:nvSpPr>
            <p:spPr>
              <a:xfrm>
                <a:off x="2837520" y="4188960"/>
                <a:ext cx="504720" cy="562680"/>
              </a:xfrm>
              <a:prstGeom prst="rect">
                <a:avLst/>
              </a:prstGeom>
              <a:solidFill>
                <a:srgbClr val="ffe5b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pic>
            <p:nvPicPr>
              <p:cNvPr id="899" name="Picture 8" descr="SPECIMEN"/>
              <p:cNvPicPr/>
              <p:nvPr/>
            </p:nvPicPr>
            <p:blipFill>
              <a:blip r:embed="rId1"/>
              <a:stretch/>
            </p:blipFill>
            <p:spPr>
              <a:xfrm>
                <a:off x="2743200" y="3657600"/>
                <a:ext cx="761400" cy="12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0" name="Text Box 9"/>
            <p:cNvSpPr/>
            <p:nvPr/>
          </p:nvSpPr>
          <p:spPr>
            <a:xfrm>
              <a:off x="2743200" y="41911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 &amp; S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01" name="AutoShape 12"/>
          <p:cNvSpPr/>
          <p:nvPr/>
        </p:nvSpPr>
        <p:spPr>
          <a:xfrm flipH="1" rot="19922400">
            <a:off x="2133360" y="3429000"/>
            <a:ext cx="285480" cy="287280"/>
          </a:xfrm>
          <a:custGeom>
            <a:avLst/>
            <a:gdLst>
              <a:gd name="textAreaLeft" fmla="*/ 41760 w 285480"/>
              <a:gd name="textAreaRight" fmla="*/ 243720 w 2854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2" name="Group 20"/>
          <p:cNvGrpSpPr/>
          <p:nvPr/>
        </p:nvGrpSpPr>
        <p:grpSpPr>
          <a:xfrm>
            <a:off x="2363400" y="2216160"/>
            <a:ext cx="1346760" cy="1288080"/>
            <a:chOff x="2363400" y="2216160"/>
            <a:chExt cx="1346760" cy="1288080"/>
          </a:xfrm>
        </p:grpSpPr>
        <p:sp>
          <p:nvSpPr>
            <p:cNvPr id="903" name="AutoShape 13"/>
            <p:cNvSpPr/>
            <p:nvPr/>
          </p:nvSpPr>
          <p:spPr>
            <a:xfrm rot="19011000">
              <a:off x="2664000" y="2590560"/>
              <a:ext cx="1152360" cy="144360"/>
            </a:xfrm>
            <a:prstGeom prst="flowChartTerminator">
              <a:avLst/>
            </a:prstGeom>
            <a:solidFill>
              <a:srgbClr val="5f5f5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4" name="Line 14"/>
            <p:cNvSpPr/>
            <p:nvPr/>
          </p:nvSpPr>
          <p:spPr>
            <a:xfrm flipV="1">
              <a:off x="2363400" y="3045240"/>
              <a:ext cx="456840" cy="459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05" name="Text Box 15"/>
          <p:cNvSpPr/>
          <p:nvPr/>
        </p:nvSpPr>
        <p:spPr>
          <a:xfrm>
            <a:off x="587880" y="5791320"/>
            <a:ext cx="22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septic techniqu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6" name="Group 16"/>
          <p:cNvGrpSpPr/>
          <p:nvPr/>
        </p:nvGrpSpPr>
        <p:grpSpPr>
          <a:xfrm>
            <a:off x="1676520" y="3537720"/>
            <a:ext cx="1081080" cy="2169360"/>
            <a:chOff x="1676520" y="3537720"/>
            <a:chExt cx="1081080" cy="2169360"/>
          </a:xfrm>
        </p:grpSpPr>
        <p:sp>
          <p:nvSpPr>
            <p:cNvPr id="907" name="AutoShape 17"/>
            <p:cNvSpPr/>
            <p:nvPr/>
          </p:nvSpPr>
          <p:spPr>
            <a:xfrm>
              <a:off x="1676520" y="5275080"/>
              <a:ext cx="1081080" cy="4320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432000"/>
                <a:gd name="textAreaBottom" fmla="*/ 15408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5f5f5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8" name="AutoShape 18"/>
            <p:cNvSpPr/>
            <p:nvPr/>
          </p:nvSpPr>
          <p:spPr>
            <a:xfrm>
              <a:off x="2109960" y="4012920"/>
              <a:ext cx="144360" cy="1295640"/>
            </a:xfrm>
            <a:prstGeom prst="flowChartMagneticDisk">
              <a:avLst/>
            </a:prstGeom>
            <a:solidFill>
              <a:srgbClr val="5f5f5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9" name="AutoShape 19"/>
            <p:cNvSpPr/>
            <p:nvPr/>
          </p:nvSpPr>
          <p:spPr>
            <a:xfrm rot="12640800">
              <a:off x="2036880" y="3580560"/>
              <a:ext cx="339840" cy="625320"/>
            </a:xfrm>
            <a:prstGeom prst="lightningBol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0" name="Text Box 64"/>
          <p:cNvSpPr/>
          <p:nvPr/>
        </p:nvSpPr>
        <p:spPr>
          <a:xfrm>
            <a:off x="407160" y="6216480"/>
            <a:ext cx="29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Verdana"/>
              </a:rPr>
              <a:t>Invert the plate and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Verdana"/>
              </a:rPr>
              <a:t>Incubate for 24h at 37</a:t>
            </a:r>
            <a:r>
              <a:rPr b="1" lang="en-US" sz="1800" spc="-1" strike="noStrike">
                <a:solidFill>
                  <a:srgbClr val="00cc99"/>
                </a:solidFill>
                <a:latin typeface="Arial Unicode MS"/>
                <a:ea typeface="Arial Unicode MS"/>
              </a:rPr>
              <a:t>℃</a:t>
            </a:r>
            <a:r>
              <a:rPr b="1" lang="en-US" sz="1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Text Box 68"/>
          <p:cNvSpPr/>
          <p:nvPr/>
        </p:nvSpPr>
        <p:spPr>
          <a:xfrm>
            <a:off x="1656000" y="25146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Drop of the cul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Oval 90"/>
          <p:cNvSpPr/>
          <p:nvPr/>
        </p:nvSpPr>
        <p:spPr>
          <a:xfrm>
            <a:off x="3886200" y="2738520"/>
            <a:ext cx="2879640" cy="2952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3" name="Oval 91"/>
          <p:cNvSpPr/>
          <p:nvPr/>
        </p:nvSpPr>
        <p:spPr>
          <a:xfrm rot="19238400">
            <a:off x="4173480" y="3026880"/>
            <a:ext cx="863640" cy="216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Line 92"/>
          <p:cNvSpPr/>
          <p:nvPr/>
        </p:nvSpPr>
        <p:spPr>
          <a:xfrm>
            <a:off x="4749840" y="288288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Line 93"/>
          <p:cNvSpPr/>
          <p:nvPr/>
        </p:nvSpPr>
        <p:spPr>
          <a:xfrm>
            <a:off x="4462560" y="3027240"/>
            <a:ext cx="172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6" name="Line 94"/>
          <p:cNvSpPr/>
          <p:nvPr/>
        </p:nvSpPr>
        <p:spPr>
          <a:xfrm>
            <a:off x="4317840" y="3170160"/>
            <a:ext cx="201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7" name="Line 95"/>
          <p:cNvSpPr/>
          <p:nvPr/>
        </p:nvSpPr>
        <p:spPr>
          <a:xfrm>
            <a:off x="4173480" y="331488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Line 96"/>
          <p:cNvSpPr/>
          <p:nvPr/>
        </p:nvSpPr>
        <p:spPr>
          <a:xfrm>
            <a:off x="5902200" y="2882880"/>
            <a:ext cx="863640" cy="151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Line 97"/>
          <p:cNvSpPr/>
          <p:nvPr/>
        </p:nvSpPr>
        <p:spPr>
          <a:xfrm>
            <a:off x="5829480" y="3027240"/>
            <a:ext cx="865080" cy="158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Line 98"/>
          <p:cNvSpPr/>
          <p:nvPr/>
        </p:nvSpPr>
        <p:spPr>
          <a:xfrm>
            <a:off x="5686560" y="3170160"/>
            <a:ext cx="936360" cy="1657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Line 99"/>
          <p:cNvSpPr/>
          <p:nvPr/>
        </p:nvSpPr>
        <p:spPr>
          <a:xfrm>
            <a:off x="5613480" y="3314880"/>
            <a:ext cx="93672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Line 100"/>
          <p:cNvSpPr/>
          <p:nvPr/>
        </p:nvSpPr>
        <p:spPr>
          <a:xfrm flipH="1">
            <a:off x="5973840" y="4249800"/>
            <a:ext cx="792000" cy="1225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Line 101"/>
          <p:cNvSpPr/>
          <p:nvPr/>
        </p:nvSpPr>
        <p:spPr>
          <a:xfrm flipH="1">
            <a:off x="5757480" y="4322880"/>
            <a:ext cx="792360" cy="129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Line 102"/>
          <p:cNvSpPr/>
          <p:nvPr/>
        </p:nvSpPr>
        <p:spPr>
          <a:xfrm flipH="1">
            <a:off x="5541480" y="4322880"/>
            <a:ext cx="792360" cy="136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Line 103"/>
          <p:cNvSpPr/>
          <p:nvPr/>
        </p:nvSpPr>
        <p:spPr>
          <a:xfrm flipH="1">
            <a:off x="5397120" y="4322880"/>
            <a:ext cx="792360" cy="136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Line 104"/>
          <p:cNvSpPr/>
          <p:nvPr/>
        </p:nvSpPr>
        <p:spPr>
          <a:xfrm flipH="1" flipV="1">
            <a:off x="5397120" y="4395960"/>
            <a:ext cx="576360" cy="107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Line 105"/>
          <p:cNvSpPr/>
          <p:nvPr/>
        </p:nvSpPr>
        <p:spPr>
          <a:xfrm flipH="1" flipV="1">
            <a:off x="5254200" y="4466880"/>
            <a:ext cx="574920" cy="107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Line 106"/>
          <p:cNvSpPr/>
          <p:nvPr/>
        </p:nvSpPr>
        <p:spPr>
          <a:xfrm flipH="1" flipV="1">
            <a:off x="5110200" y="4611600"/>
            <a:ext cx="50328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9" name="Line 107"/>
          <p:cNvSpPr/>
          <p:nvPr/>
        </p:nvSpPr>
        <p:spPr>
          <a:xfrm flipH="1" flipV="1">
            <a:off x="4894200" y="4683240"/>
            <a:ext cx="50328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Text Box 108"/>
          <p:cNvSpPr/>
          <p:nvPr/>
        </p:nvSpPr>
        <p:spPr>
          <a:xfrm>
            <a:off x="6622560" y="26668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Flame &amp; C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Text Box 109"/>
          <p:cNvSpPr/>
          <p:nvPr/>
        </p:nvSpPr>
        <p:spPr>
          <a:xfrm>
            <a:off x="6838560" y="453852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Flame &amp; C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Text Box 110"/>
          <p:cNvSpPr/>
          <p:nvPr/>
        </p:nvSpPr>
        <p:spPr>
          <a:xfrm>
            <a:off x="5903280" y="54752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Flame &amp; C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mph" presetID="3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66" dur="1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267" dur="1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268" dur="1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 -1.96532E-006 L -0.0059 -1.96532E-006 E">
                                      <p:cBhvr>
                                        <p:cTn id="313" dur="20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-2.42775E-006 L -0.00208 -2.42775E-006 E">
                                      <p:cBhvr>
                                        <p:cTn id="319" dur="20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-1.6763E-006 L -0.00208 -1.6763E-006 E">
                                      <p:cBhvr>
                                        <p:cTn id="325" dur="2000" fill="hold"/>
                                        <p:tgtEl>
                                          <p:spTgt spid="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91 -2.13873E-006 L -0.00191 -2.13873E-006 E">
                                      <p:cBhvr>
                                        <p:cTn id="331" dur="2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327 -0.37225 L 3.05556E-006 2.31214E-007 E">
                                      <p:cBhvr>
                                        <p:cTn id="344" dur="2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889 -0.38821 L -8.33333E-007 1.84971E-006 E">
                                      <p:cBhvr>
                                        <p:cTn id="350" dur="20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87 -0.3933 L 1.11111E-006 4.68208E-006 E">
                                      <p:cBhvr>
                                        <p:cTn id="356" dur="2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69 -0.36161 L -2.77778E-006 -4.56647E-006 E">
                                      <p:cBhvr>
                                        <p:cTn id="362" dur="2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66 -0.25156 L -0.00382 0.01064 E">
                                      <p:cBhvr>
                                        <p:cTn id="375" dur="20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66 -0.2622 L -9.44444E-006 -5.54913E-006 E">
                                      <p:cBhvr>
                                        <p:cTn id="381" dur="2000" fill="hold"/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587 -0.25179 L 8.33333E-007 -2.83237E-006 E">
                                      <p:cBhvr>
                                        <p:cTn id="387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23 -0.24116 L -3.05556E-006 -7.45665E-006 E">
                                      <p:cBhvr>
                                        <p:cTn id="393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4 0.16786 L 5E-006 3.00578E-006 E">
                                      <p:cBhvr>
                                        <p:cTn id="406" dur="2000" fill="hold"/>
                                        <p:tgtEl>
                                          <p:spTgt spid="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65 0.17826 L 2.5E-006 -2.83237E-006 E">
                                      <p:cBhvr>
                                        <p:cTn id="412" dur="2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0.18473 L -5.55556E-007 -5.37572E-006 E">
                                      <p:cBhvr>
                                        <p:cTn id="418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21 0.1637 L 6.94444E-006 -1.21387E-006 E">
                                      <p:cBhvr>
                                        <p:cTn id="424" dur="2000" fill="hold"/>
                                        <p:tgtEl>
                                          <p:spTgt spid="9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Picture 4" descr="PHOTO29"/>
          <p:cNvPicPr/>
          <p:nvPr/>
        </p:nvPicPr>
        <p:blipFill>
          <a:blip r:embed="rId1"/>
          <a:stretch/>
        </p:blipFill>
        <p:spPr>
          <a:xfrm>
            <a:off x="762120" y="1828800"/>
            <a:ext cx="3733560" cy="3352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5" descr="PHOTO301"/>
          <p:cNvPicPr/>
          <p:nvPr/>
        </p:nvPicPr>
        <p:blipFill>
          <a:blip r:embed="rId2"/>
          <a:stretch/>
        </p:blipFill>
        <p:spPr>
          <a:xfrm>
            <a:off x="4800600" y="1828800"/>
            <a:ext cx="3581280" cy="3462480"/>
          </a:xfrm>
          <a:prstGeom prst="rect">
            <a:avLst/>
          </a:prstGeom>
          <a:ln w="0">
            <a:noFill/>
          </a:ln>
        </p:spPr>
      </p:pic>
      <p:sp>
        <p:nvSpPr>
          <p:cNvPr id="935" name="Rectangle 6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99"/>
                </a:solidFill>
                <a:latin typeface="Tahoma"/>
              </a:rPr>
              <a:t>The streak Plate Metho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PHOTO74"/>
          <p:cNvPicPr/>
          <p:nvPr/>
        </p:nvPicPr>
        <p:blipFill>
          <a:blip r:embed="rId1"/>
          <a:stretch/>
        </p:blipFill>
        <p:spPr>
          <a:xfrm>
            <a:off x="4724280" y="1981080"/>
            <a:ext cx="3581640" cy="3530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5" descr="PHOTO135"/>
          <p:cNvPicPr/>
          <p:nvPr/>
        </p:nvPicPr>
        <p:blipFill>
          <a:blip r:embed="rId2"/>
          <a:stretch/>
        </p:blipFill>
        <p:spPr>
          <a:xfrm>
            <a:off x="711360" y="1905120"/>
            <a:ext cx="3611520" cy="3657600"/>
          </a:xfrm>
          <a:prstGeom prst="rect">
            <a:avLst/>
          </a:prstGeom>
          <a:ln w="0">
            <a:noFill/>
          </a:ln>
        </p:spPr>
      </p:pic>
      <p:sp>
        <p:nvSpPr>
          <p:cNvPr id="938" name="Rectangle 6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99"/>
                </a:solidFill>
                <a:latin typeface="Tahoma"/>
              </a:rPr>
              <a:t>The streak Plate Metho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61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Verdana"/>
              </a:rPr>
              <a:t>Discard cultures and other infectious material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Petri dishe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→ Plastic bag → Autoclav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Test tube culture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→ wire basket → Autoclav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Used pipett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→ Jar containing a disinfectant →  Plastic bag → Autocla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Used slides, cover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→ Jar containing a disinfecta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Broken glas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→ swept in a dustpan → container for broken glas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EVER place contaminated material in waste bask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pull dir="r"/>
    <p:sndAc>
      <p:stSnd>
        <p:snd r:embed="rId1" name="breez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Antibiotic Sensitivity Testing</a:t>
            </a:r>
            <a:endParaRPr b="0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tibiotic sensitivity testing is used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o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termine the susceptibility of the microorganism to various antimicrobial age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Sensitivity testing techniques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sc Diffusion Meth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rial Dilution Method (Minimum inhibitory concentration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Verdana"/>
              </a:rPr>
              <a:t>Disc Diffusion Method</a:t>
            </a:r>
            <a:endParaRPr b="0" lang="en-US" sz="5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336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The effectiveness of an antibiotic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in this technique is based on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the size of the zone of inhibitio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that surrounds a disc that has been impregnated with a specific concentration of the ag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6699"/>
                </a:solidFill>
                <a:uFillTx/>
                <a:latin typeface="Verdana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api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cur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expens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Disc Diffusion method</a:t>
            </a:r>
            <a:endParaRPr b="0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ff00"/>
                </a:solidFill>
                <a:uFillTx/>
                <a:latin typeface="Verdana"/>
              </a:rPr>
              <a:t>Material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Verdana"/>
              </a:rPr>
              <a:t>Culture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f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Staph. aureus,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. col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seudomonas aerugino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Verdana"/>
              </a:rPr>
              <a:t>Filter paper disc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Verdana"/>
              </a:rPr>
              <a:t>Antibiotic solution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(Vancomycin, Augmentin, Ceftazidime, Azacta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 ml </a:t>
            </a:r>
            <a:r>
              <a:rPr b="1" lang="en-US" sz="2800" spc="-1" strike="noStrike">
                <a:solidFill>
                  <a:srgbClr val="ff6699"/>
                </a:solidFill>
                <a:latin typeface="Verdana"/>
              </a:rPr>
              <a:t>melted nutrient ag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etri-dis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erile 1ml pipette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3816360" cy="61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99cc"/>
                </a:solidFill>
                <a:uFillTx/>
                <a:latin typeface="Verdana"/>
              </a:rPr>
              <a:t>Procedur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947" name="Picture 3" descr="BD21338_"/>
          <p:cNvPicPr/>
          <p:nvPr/>
        </p:nvPicPr>
        <p:blipFill>
          <a:blip r:embed="rId1"/>
          <a:stretch/>
        </p:blipFill>
        <p:spPr>
          <a:xfrm rot="1865400">
            <a:off x="5113440" y="1393920"/>
            <a:ext cx="1981080" cy="2476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BD21338_"/>
          <p:cNvPicPr/>
          <p:nvPr/>
        </p:nvPicPr>
        <p:blipFill>
          <a:blip r:embed="rId2"/>
          <a:stretch/>
        </p:blipFill>
        <p:spPr>
          <a:xfrm rot="1144200">
            <a:off x="5257440" y="1066680"/>
            <a:ext cx="1905120" cy="239760"/>
          </a:xfrm>
          <a:prstGeom prst="rect">
            <a:avLst/>
          </a:prstGeom>
          <a:ln w="0">
            <a:noFill/>
          </a:ln>
        </p:spPr>
      </p:pic>
      <p:grpSp>
        <p:nvGrpSpPr>
          <p:cNvPr id="949" name="Group 5"/>
          <p:cNvGrpSpPr/>
          <p:nvPr/>
        </p:nvGrpSpPr>
        <p:grpSpPr>
          <a:xfrm>
            <a:off x="1981080" y="2362320"/>
            <a:ext cx="533520" cy="1295280"/>
            <a:chOff x="1981080" y="2362320"/>
            <a:chExt cx="533520" cy="1295280"/>
          </a:xfrm>
        </p:grpSpPr>
        <p:sp>
          <p:nvSpPr>
            <p:cNvPr id="950" name="AutoShape 6"/>
            <p:cNvSpPr/>
            <p:nvPr/>
          </p:nvSpPr>
          <p:spPr>
            <a:xfrm>
              <a:off x="1981080" y="2362320"/>
              <a:ext cx="533520" cy="12952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1" name="AutoShape 7"/>
            <p:cNvSpPr/>
            <p:nvPr/>
          </p:nvSpPr>
          <p:spPr>
            <a:xfrm>
              <a:off x="1981080" y="2750760"/>
              <a:ext cx="533520" cy="90648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52" name="Text Box 8"/>
          <p:cNvSpPr/>
          <p:nvPr/>
        </p:nvSpPr>
        <p:spPr>
          <a:xfrm>
            <a:off x="4724280" y="48006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3" name="Text Box 9"/>
          <p:cNvSpPr/>
          <p:nvPr/>
        </p:nvSpPr>
        <p:spPr>
          <a:xfrm>
            <a:off x="182880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5°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4" name="Rectangle 10"/>
          <p:cNvSpPr/>
          <p:nvPr/>
        </p:nvSpPr>
        <p:spPr>
          <a:xfrm>
            <a:off x="609480" y="1981080"/>
            <a:ext cx="381240" cy="507960"/>
          </a:xfrm>
          <a:prstGeom prst="rect">
            <a:avLst/>
          </a:prstGeom>
          <a:solidFill>
            <a:srgbClr val="ffe5b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5" name="Picture 11" descr="SPECIMEN"/>
          <p:cNvPicPr/>
          <p:nvPr/>
        </p:nvPicPr>
        <p:blipFill>
          <a:blip r:embed="rId3"/>
          <a:stretch/>
        </p:blipFill>
        <p:spPr>
          <a:xfrm>
            <a:off x="533520" y="1600200"/>
            <a:ext cx="574560" cy="1100160"/>
          </a:xfrm>
          <a:prstGeom prst="rect">
            <a:avLst/>
          </a:prstGeom>
          <a:ln w="0">
            <a:noFill/>
          </a:ln>
        </p:spPr>
      </p:pic>
      <p:sp>
        <p:nvSpPr>
          <p:cNvPr id="956" name="Line 12"/>
          <p:cNvSpPr/>
          <p:nvPr/>
        </p:nvSpPr>
        <p:spPr>
          <a:xfrm>
            <a:off x="1143000" y="2209680"/>
            <a:ext cx="76212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Text Box 13"/>
          <p:cNvSpPr/>
          <p:nvPr/>
        </p:nvSpPr>
        <p:spPr>
          <a:xfrm rot="2206800">
            <a:off x="1045080" y="2115720"/>
            <a:ext cx="10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.1m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Text Box 14"/>
          <p:cNvSpPr/>
          <p:nvPr/>
        </p:nvSpPr>
        <p:spPr>
          <a:xfrm>
            <a:off x="533520" y="2057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.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9" name="Text Box 15"/>
          <p:cNvSpPr/>
          <p:nvPr/>
        </p:nvSpPr>
        <p:spPr>
          <a:xfrm>
            <a:off x="1447920" y="36576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AutoShape 16"/>
          <p:cNvSpPr/>
          <p:nvPr/>
        </p:nvSpPr>
        <p:spPr>
          <a:xfrm>
            <a:off x="1371600" y="2971800"/>
            <a:ext cx="538200" cy="574560"/>
          </a:xfrm>
          <a:custGeom>
            <a:avLst/>
            <a:gdLst>
              <a:gd name="textAreaLeft" fmla="*/ 72000 w 538200"/>
              <a:gd name="textAreaRight" fmla="*/ 466200 w 538200"/>
              <a:gd name="textAreaTop" fmla="*/ 100440 h 574560"/>
              <a:gd name="textAreaBottom" fmla="*/ 41652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Text Box 17"/>
          <p:cNvSpPr/>
          <p:nvPr/>
        </p:nvSpPr>
        <p:spPr>
          <a:xfrm>
            <a:off x="4191120" y="42670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2" name="AutoShape 18"/>
          <p:cNvSpPr/>
          <p:nvPr/>
        </p:nvSpPr>
        <p:spPr>
          <a:xfrm rot="10494600">
            <a:off x="2590560" y="2971800"/>
            <a:ext cx="538200" cy="574560"/>
          </a:xfrm>
          <a:custGeom>
            <a:avLst/>
            <a:gdLst>
              <a:gd name="textAreaLeft" fmla="*/ 72000 w 538200"/>
              <a:gd name="textAreaRight" fmla="*/ 466200 w 538200"/>
              <a:gd name="textAreaTop" fmla="*/ 100440 h 574560"/>
              <a:gd name="textAreaBottom" fmla="*/ 41652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3" name="Line 19"/>
          <p:cNvSpPr/>
          <p:nvPr/>
        </p:nvSpPr>
        <p:spPr>
          <a:xfrm>
            <a:off x="3048120" y="3581280"/>
            <a:ext cx="144756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Oval 20"/>
          <p:cNvSpPr/>
          <p:nvPr/>
        </p:nvSpPr>
        <p:spPr>
          <a:xfrm>
            <a:off x="4648320" y="3581280"/>
            <a:ext cx="2590560" cy="2743200"/>
          </a:xfrm>
          <a:prstGeom prst="ellipse">
            <a:avLst/>
          </a:prstGeom>
          <a:solidFill>
            <a:srgbClr val="d1c7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5" name="Text Box 21"/>
          <p:cNvSpPr/>
          <p:nvPr/>
        </p:nvSpPr>
        <p:spPr>
          <a:xfrm rot="1791000">
            <a:off x="3180600" y="35607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ocul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6" name="Line 22"/>
          <p:cNvSpPr/>
          <p:nvPr/>
        </p:nvSpPr>
        <p:spPr>
          <a:xfrm>
            <a:off x="5943600" y="35812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Line 23"/>
          <p:cNvSpPr/>
          <p:nvPr/>
        </p:nvSpPr>
        <p:spPr>
          <a:xfrm>
            <a:off x="4648320" y="495288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Text Box 24"/>
          <p:cNvSpPr/>
          <p:nvPr/>
        </p:nvSpPr>
        <p:spPr>
          <a:xfrm>
            <a:off x="52578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9" name="Text Box 25"/>
          <p:cNvSpPr/>
          <p:nvPr/>
        </p:nvSpPr>
        <p:spPr>
          <a:xfrm>
            <a:off x="5257800" y="5791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z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Text Box 26"/>
          <p:cNvSpPr/>
          <p:nvPr/>
        </p:nvSpPr>
        <p:spPr>
          <a:xfrm>
            <a:off x="601992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a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1" name="Text Box 27"/>
          <p:cNvSpPr/>
          <p:nvPr/>
        </p:nvSpPr>
        <p:spPr>
          <a:xfrm>
            <a:off x="601992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Oval 28"/>
          <p:cNvSpPr/>
          <p:nvPr/>
        </p:nvSpPr>
        <p:spPr>
          <a:xfrm>
            <a:off x="8534520" y="1752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Oval 29"/>
          <p:cNvSpPr/>
          <p:nvPr/>
        </p:nvSpPr>
        <p:spPr>
          <a:xfrm>
            <a:off x="8458200" y="18288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Oval 30"/>
          <p:cNvSpPr/>
          <p:nvPr/>
        </p:nvSpPr>
        <p:spPr>
          <a:xfrm>
            <a:off x="8458200" y="1523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Oval 31"/>
          <p:cNvSpPr/>
          <p:nvPr/>
        </p:nvSpPr>
        <p:spPr>
          <a:xfrm>
            <a:off x="8534520" y="16765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6" name="Oval 32"/>
          <p:cNvSpPr/>
          <p:nvPr/>
        </p:nvSpPr>
        <p:spPr>
          <a:xfrm>
            <a:off x="8534520" y="12952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7" name="Oval 33"/>
          <p:cNvSpPr/>
          <p:nvPr/>
        </p:nvSpPr>
        <p:spPr>
          <a:xfrm>
            <a:off x="8458200" y="12952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8" name="Line 34"/>
          <p:cNvSpPr/>
          <p:nvPr/>
        </p:nvSpPr>
        <p:spPr>
          <a:xfrm>
            <a:off x="8305920" y="533520"/>
            <a:ext cx="0" cy="163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Line 35"/>
          <p:cNvSpPr/>
          <p:nvPr/>
        </p:nvSpPr>
        <p:spPr>
          <a:xfrm flipV="1">
            <a:off x="8839080" y="533160"/>
            <a:ext cx="0" cy="163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0" name="Oval 36"/>
          <p:cNvSpPr/>
          <p:nvPr/>
        </p:nvSpPr>
        <p:spPr>
          <a:xfrm>
            <a:off x="8305920" y="457200"/>
            <a:ext cx="533160" cy="144360"/>
          </a:xfrm>
          <a:prstGeom prst="ellipse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1" name="Oval 37"/>
          <p:cNvSpPr/>
          <p:nvPr/>
        </p:nvSpPr>
        <p:spPr>
          <a:xfrm>
            <a:off x="8305920" y="2133720"/>
            <a:ext cx="533160" cy="14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Oval 38"/>
          <p:cNvSpPr/>
          <p:nvPr/>
        </p:nvSpPr>
        <p:spPr>
          <a:xfrm>
            <a:off x="8686800" y="1752480"/>
            <a:ext cx="7632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Oval 39"/>
          <p:cNvSpPr/>
          <p:nvPr/>
        </p:nvSpPr>
        <p:spPr>
          <a:xfrm>
            <a:off x="8458200" y="9144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4" name="Oval 40"/>
          <p:cNvSpPr/>
          <p:nvPr/>
        </p:nvSpPr>
        <p:spPr>
          <a:xfrm>
            <a:off x="8458200" y="11430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5" name="Oval 41"/>
          <p:cNvSpPr/>
          <p:nvPr/>
        </p:nvSpPr>
        <p:spPr>
          <a:xfrm>
            <a:off x="8534520" y="18288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Oval 42"/>
          <p:cNvSpPr/>
          <p:nvPr/>
        </p:nvSpPr>
        <p:spPr>
          <a:xfrm>
            <a:off x="8610480" y="9907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Rectangle 43"/>
          <p:cNvSpPr/>
          <p:nvPr/>
        </p:nvSpPr>
        <p:spPr>
          <a:xfrm>
            <a:off x="6705720" y="2819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8" name="Picture 44" descr="SPECIMEN"/>
          <p:cNvPicPr/>
          <p:nvPr/>
        </p:nvPicPr>
        <p:blipFill>
          <a:blip r:embed="rId4"/>
          <a:stretch/>
        </p:blipFill>
        <p:spPr>
          <a:xfrm>
            <a:off x="6481800" y="2052720"/>
            <a:ext cx="533520" cy="1235160"/>
          </a:xfrm>
          <a:prstGeom prst="rect">
            <a:avLst/>
          </a:prstGeom>
          <a:ln w="0">
            <a:noFill/>
          </a:ln>
        </p:spPr>
      </p:pic>
      <p:sp>
        <p:nvSpPr>
          <p:cNvPr id="989" name="Text Box 45"/>
          <p:cNvSpPr/>
          <p:nvPr/>
        </p:nvSpPr>
        <p:spPr>
          <a:xfrm>
            <a:off x="6553080" y="2590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0" name="Oval 46"/>
          <p:cNvSpPr/>
          <p:nvPr/>
        </p:nvSpPr>
        <p:spPr>
          <a:xfrm>
            <a:off x="6858000" y="1676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Oval 47"/>
          <p:cNvSpPr/>
          <p:nvPr/>
        </p:nvSpPr>
        <p:spPr>
          <a:xfrm>
            <a:off x="6400800" y="5334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Line 48"/>
          <p:cNvSpPr/>
          <p:nvPr/>
        </p:nvSpPr>
        <p:spPr>
          <a:xfrm flipH="1">
            <a:off x="7314840" y="137160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3" name="Oval 49"/>
          <p:cNvSpPr/>
          <p:nvPr/>
        </p:nvSpPr>
        <p:spPr>
          <a:xfrm>
            <a:off x="5334120" y="5334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Oval 50"/>
          <p:cNvSpPr/>
          <p:nvPr/>
        </p:nvSpPr>
        <p:spPr>
          <a:xfrm>
            <a:off x="533412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Oval 51"/>
          <p:cNvSpPr/>
          <p:nvPr/>
        </p:nvSpPr>
        <p:spPr>
          <a:xfrm>
            <a:off x="632448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AutoShape 52"/>
          <p:cNvSpPr/>
          <p:nvPr/>
        </p:nvSpPr>
        <p:spPr>
          <a:xfrm rot="21385200">
            <a:off x="5622480" y="1814400"/>
            <a:ext cx="703440" cy="998640"/>
          </a:xfrm>
          <a:custGeom>
            <a:avLst/>
            <a:gdLst>
              <a:gd name="textAreaLeft" fmla="*/ 93960 w 703440"/>
              <a:gd name="textAreaRight" fmla="*/ 609480 w 703440"/>
              <a:gd name="textAreaTop" fmla="*/ 205920 h 998640"/>
              <a:gd name="textAreaBottom" fmla="*/ 700200 h 99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5" stAng="-5400000" swAng="-5400000"/>
                <a:lnTo>
                  <a:pt x="0" y="10694"/>
                </a:lnTo>
                <a:arcTo wR="21600" hR="8905" stAng="10800000" swAng="-2447155"/>
                <a:lnTo>
                  <a:pt x="12287" y="20730"/>
                </a:lnTo>
                <a:lnTo>
                  <a:pt x="21600" y="18705"/>
                </a:lnTo>
                <a:lnTo>
                  <a:pt x="12287" y="14939"/>
                </a:lnTo>
                <a:lnTo>
                  <a:pt x="12287" y="16940"/>
                </a:lnTo>
                <a:arcTo wR="21600" hR="8905" stAng="8352845" swAng="2304150"/>
                <a:lnTo>
                  <a:pt x="109" y="9800"/>
                </a:lnTo>
                <a:arcTo wR="21600" hR="8905" stAng="-10656995" swAng="5256995"/>
                <a:close/>
              </a:path>
              <a:path fill="darkenLess" w="21600" h="21600">
                <a:moveTo>
                  <a:pt x="21600" y="0"/>
                </a:moveTo>
                <a:arcTo wR="21600" hR="8905" stAng="-5400000" swAng="-5400000"/>
                <a:lnTo>
                  <a:pt x="0" y="8905"/>
                </a:lnTo>
                <a:arcTo wR="21600" hR="8905" stAng="10800000" swAng="-143005"/>
                <a:lnTo>
                  <a:pt x="109" y="9800"/>
                </a:lnTo>
                <a:arcTo wR="21600" hR="8905" stAng="-10656995" swAng="5256995"/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AutoShape 53"/>
          <p:cNvSpPr/>
          <p:nvPr/>
        </p:nvSpPr>
        <p:spPr>
          <a:xfrm>
            <a:off x="7543800" y="3124080"/>
            <a:ext cx="1219320" cy="198144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12560 h 1981440"/>
              <a:gd name="textAreaBottom" fmla="*/ 134172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96" stAng="-5400000" swAng="5400000"/>
                <a:lnTo>
                  <a:pt x="21600" y="10130"/>
                </a:lnTo>
                <a:arcTo wR="21600" hR="8996" stAng="0" swAng="3765632"/>
                <a:lnTo>
                  <a:pt x="4528" y="21400"/>
                </a:lnTo>
                <a:lnTo>
                  <a:pt x="0" y="18558"/>
                </a:lnTo>
                <a:lnTo>
                  <a:pt x="4528" y="15316"/>
                </a:lnTo>
                <a:lnTo>
                  <a:pt x="4528" y="17791"/>
                </a:lnTo>
                <a:arcTo wR="21600" hR="8996" stAng="3765632" swAng="-3675232"/>
                <a:lnTo>
                  <a:pt x="21557" y="9563"/>
                </a:lnTo>
                <a:arcTo wR="21600" hR="8996" stAng="-90400" swAng="-5309600"/>
                <a:close/>
              </a:path>
              <a:path fill="darkenLess" w="21600" h="21600">
                <a:moveTo>
                  <a:pt x="0" y="0"/>
                </a:moveTo>
                <a:arcTo wR="21600" hR="8996" stAng="-5400000" swAng="5400000"/>
                <a:lnTo>
                  <a:pt x="21600" y="10130"/>
                </a:lnTo>
                <a:arcTo wR="21600" hR="8996" stAng="0" swAng="-90400"/>
                <a:lnTo>
                  <a:pt x="21557" y="9563"/>
                </a:lnTo>
                <a:arcTo wR="21600" hR="8996" stAng="-90400" swAng="-5309600"/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Line 54"/>
          <p:cNvSpPr/>
          <p:nvPr/>
        </p:nvSpPr>
        <p:spPr>
          <a:xfrm flipH="1">
            <a:off x="1905120" y="5410080"/>
            <a:ext cx="220968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Text Box 55"/>
          <p:cNvSpPr/>
          <p:nvPr/>
        </p:nvSpPr>
        <p:spPr>
          <a:xfrm>
            <a:off x="838080" y="5715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 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 37°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0" name="Text Box 56"/>
          <p:cNvSpPr/>
          <p:nvPr/>
        </p:nvSpPr>
        <p:spPr>
          <a:xfrm rot="21008400">
            <a:off x="2185920" y="5037120"/>
            <a:ext cx="15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incub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Text Box 57"/>
          <p:cNvSpPr/>
          <p:nvPr/>
        </p:nvSpPr>
        <p:spPr>
          <a:xfrm>
            <a:off x="2686680" y="600876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on’t inver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250" autoRev="1" fill="hold"/>
                                        <p:tgtEl>
                                          <p:spTgt spid="9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6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1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6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9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8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64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Results:</a:t>
            </a:r>
            <a:endParaRPr b="0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easure the diameter of each inhibition z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diameter of th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hibition zones are directly proportional to t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sceptibility of th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icroorganism to the antibiot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sensitive, intermediate, resistant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Oval 2"/>
          <p:cNvSpPr/>
          <p:nvPr/>
        </p:nvSpPr>
        <p:spPr>
          <a:xfrm>
            <a:off x="3124080" y="2781360"/>
            <a:ext cx="3429000" cy="3695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-25146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                  </a:t>
            </a: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Results</a:t>
            </a:r>
            <a:endParaRPr b="0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06" name="Oval 4"/>
          <p:cNvSpPr/>
          <p:nvPr/>
        </p:nvSpPr>
        <p:spPr>
          <a:xfrm>
            <a:off x="5105520" y="4952880"/>
            <a:ext cx="685800" cy="685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Oval 5"/>
          <p:cNvSpPr/>
          <p:nvPr/>
        </p:nvSpPr>
        <p:spPr>
          <a:xfrm>
            <a:off x="5105520" y="3733920"/>
            <a:ext cx="533160" cy="5331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Rectangle 6"/>
          <p:cNvSpPr/>
          <p:nvPr/>
        </p:nvSpPr>
        <p:spPr>
          <a:xfrm>
            <a:off x="304920" y="12193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Oval 7"/>
          <p:cNvSpPr/>
          <p:nvPr/>
        </p:nvSpPr>
        <p:spPr>
          <a:xfrm>
            <a:off x="3657600" y="4724280"/>
            <a:ext cx="1066680" cy="10670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10" name="Group 8"/>
          <p:cNvGrpSpPr/>
          <p:nvPr/>
        </p:nvGrpSpPr>
        <p:grpSpPr>
          <a:xfrm>
            <a:off x="3964320" y="5105520"/>
            <a:ext cx="377280" cy="246240"/>
            <a:chOff x="3964320" y="5105520"/>
            <a:chExt cx="377280" cy="246240"/>
          </a:xfrm>
        </p:grpSpPr>
        <p:sp>
          <p:nvSpPr>
            <p:cNvPr id="1011" name="Oval 9"/>
            <p:cNvSpPr/>
            <p:nvPr/>
          </p:nvSpPr>
          <p:spPr>
            <a:xfrm>
              <a:off x="4038840" y="5105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2" name="Text Box 10"/>
            <p:cNvSpPr/>
            <p:nvPr/>
          </p:nvSpPr>
          <p:spPr>
            <a:xfrm>
              <a:off x="3964320" y="510552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66"/>
                  </a:solidFill>
                  <a:latin typeface="Arial"/>
                </a:rPr>
                <a:t>Cef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13" name="Group 11"/>
          <p:cNvGrpSpPr/>
          <p:nvPr/>
        </p:nvGrpSpPr>
        <p:grpSpPr>
          <a:xfrm>
            <a:off x="5232240" y="5181480"/>
            <a:ext cx="330120" cy="246240"/>
            <a:chOff x="5232240" y="5181480"/>
            <a:chExt cx="330120" cy="246240"/>
          </a:xfrm>
        </p:grpSpPr>
        <p:sp>
          <p:nvSpPr>
            <p:cNvPr id="1014" name="Oval 12"/>
            <p:cNvSpPr/>
            <p:nvPr/>
          </p:nvSpPr>
          <p:spPr>
            <a:xfrm>
              <a:off x="5333760" y="5181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5" name="Text Box 13"/>
            <p:cNvSpPr/>
            <p:nvPr/>
          </p:nvSpPr>
          <p:spPr>
            <a:xfrm>
              <a:off x="5232240" y="5181480"/>
              <a:ext cx="32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66"/>
                  </a:solidFill>
                  <a:latin typeface="Arial"/>
                </a:rPr>
                <a:t>Az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16" name="Group 14"/>
          <p:cNvGrpSpPr/>
          <p:nvPr/>
        </p:nvGrpSpPr>
        <p:grpSpPr>
          <a:xfrm>
            <a:off x="5149800" y="3840120"/>
            <a:ext cx="453600" cy="276480"/>
            <a:chOff x="5149800" y="3840120"/>
            <a:chExt cx="453600" cy="276480"/>
          </a:xfrm>
        </p:grpSpPr>
        <p:sp>
          <p:nvSpPr>
            <p:cNvPr id="1017" name="Oval 15"/>
            <p:cNvSpPr/>
            <p:nvPr/>
          </p:nvSpPr>
          <p:spPr>
            <a:xfrm>
              <a:off x="5257800" y="3886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8" name="Text Box 16"/>
            <p:cNvSpPr/>
            <p:nvPr/>
          </p:nvSpPr>
          <p:spPr>
            <a:xfrm>
              <a:off x="5149800" y="384012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66"/>
                  </a:solidFill>
                  <a:latin typeface="Arial"/>
                </a:rPr>
                <a:t>V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19" name="Group 17"/>
          <p:cNvGrpSpPr/>
          <p:nvPr/>
        </p:nvGrpSpPr>
        <p:grpSpPr>
          <a:xfrm>
            <a:off x="4024440" y="3916440"/>
            <a:ext cx="453600" cy="276480"/>
            <a:chOff x="4024440" y="3916440"/>
            <a:chExt cx="453600" cy="276480"/>
          </a:xfrm>
        </p:grpSpPr>
        <p:sp>
          <p:nvSpPr>
            <p:cNvPr id="1020" name="Oval 18"/>
            <p:cNvSpPr/>
            <p:nvPr/>
          </p:nvSpPr>
          <p:spPr>
            <a:xfrm>
              <a:off x="4100400" y="391644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1" name="Text Box 19"/>
            <p:cNvSpPr/>
            <p:nvPr/>
          </p:nvSpPr>
          <p:spPr>
            <a:xfrm>
              <a:off x="4024440" y="391644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66"/>
                  </a:solidFill>
                  <a:latin typeface="Arial"/>
                </a:rPr>
                <a:t>Aug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22" name="Line 20"/>
          <p:cNvSpPr/>
          <p:nvPr/>
        </p:nvSpPr>
        <p:spPr>
          <a:xfrm flipH="1">
            <a:off x="3886200" y="4800600"/>
            <a:ext cx="533520" cy="914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Line 21"/>
          <p:cNvSpPr/>
          <p:nvPr/>
        </p:nvSpPr>
        <p:spPr>
          <a:xfrm flipH="1">
            <a:off x="5333760" y="3733920"/>
            <a:ext cx="75960" cy="5331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4" name="Line 22"/>
          <p:cNvSpPr/>
          <p:nvPr/>
        </p:nvSpPr>
        <p:spPr>
          <a:xfrm flipH="1" flipV="1">
            <a:off x="5257800" y="5029200"/>
            <a:ext cx="380880" cy="5335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A8D5-5D8B-4B23-BA4D-B331D069B68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8" name="Picture 4" descr="p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9" name="WordArt 5"/>
          <p:cNvSpPr txBox="1"/>
          <p:nvPr/>
        </p:nvSpPr>
        <p:spPr>
          <a:xfrm>
            <a:off x="2362320" y="914400"/>
            <a:ext cx="472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ank you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-85680"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Verdana"/>
              </a:rPr>
              <a:t>Broken or spilled living cultur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-85680">
              <a:spcBef>
                <a:spcPts val="700"/>
              </a:spcBef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Clothing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→ Autoclave plastic bag → Autoclav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-85680">
              <a:spcBef>
                <a:spcPts val="700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lood the area with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 disinfectant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( or paper towels are placed over the spills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-85680">
              <a:spcBef>
                <a:spcPts val="700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Afte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0- 30min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→ wipe up &amp; discard the waste in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autoclavable dustpan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→ Autoclav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-85680">
              <a:lnSpc>
                <a:spcPct val="80000"/>
              </a:lnSpc>
              <a:spcBef>
                <a:spcPts val="2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ff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pull dir="r"/>
    <p:sndAc>
      <p:stSnd>
        <p:snd r:embed="rId1" name="breez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43EE-7117-4EE9-83F3-02699A02665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Staining of Bacteria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Types of staining technique:-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AutoShape 4"/>
          <p:cNvSpPr/>
          <p:nvPr/>
        </p:nvSpPr>
        <p:spPr>
          <a:xfrm rot="5400000">
            <a:off x="4286880" y="665640"/>
            <a:ext cx="719280" cy="4416480"/>
          </a:xfrm>
          <a:custGeom>
            <a:avLst/>
            <a:gdLst>
              <a:gd name="textAreaLeft" fmla="*/ 459720 w 719280"/>
              <a:gd name="textAreaRight" fmla="*/ 719640 w 719280"/>
              <a:gd name="textAreaTop" fmla="*/ 114840 h 4416480"/>
              <a:gd name="textAreaBottom" fmla="*/ 4301640 h 441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09"/>
                </a:lnTo>
                <a:cubicBezTo>
                  <a:pt x="10800" y="10109"/>
                  <a:pt x="5400" y="11009"/>
                  <a:pt x="0" y="11009"/>
                </a:cubicBezTo>
                <a:cubicBezTo>
                  <a:pt x="5400" y="11009"/>
                  <a:pt x="10800" y="11909"/>
                  <a:pt x="10800" y="1280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486720" y="2995560"/>
            <a:ext cx="33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e stai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use of a single stai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4640400" y="3068640"/>
            <a:ext cx="45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tial stai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use of two contrasting stai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Line 7"/>
          <p:cNvSpPr/>
          <p:nvPr/>
        </p:nvSpPr>
        <p:spPr>
          <a:xfrm>
            <a:off x="1763640" y="3860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34920" y="42195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For visualization of morpholog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shape &amp; arrangem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AutoShape 9"/>
          <p:cNvSpPr/>
          <p:nvPr/>
        </p:nvSpPr>
        <p:spPr>
          <a:xfrm rot="16200000">
            <a:off x="6466680" y="3118320"/>
            <a:ext cx="446040" cy="2361960"/>
          </a:xfrm>
          <a:custGeom>
            <a:avLst/>
            <a:gdLst>
              <a:gd name="textAreaLeft" fmla="*/ 0 w 446040"/>
              <a:gd name="textAreaRight" fmla="*/ 160920 w 4460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4500000" y="450864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Identif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Text Box 11"/>
          <p:cNvSpPr/>
          <p:nvPr/>
        </p:nvSpPr>
        <p:spPr>
          <a:xfrm>
            <a:off x="6948000" y="4508640"/>
            <a:ext cx="21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Visualiza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of struc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Text Box 12"/>
          <p:cNvSpPr/>
          <p:nvPr/>
        </p:nvSpPr>
        <p:spPr>
          <a:xfrm>
            <a:off x="3852360" y="5300640"/>
            <a:ext cx="106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Gra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t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AutoShape 13"/>
          <p:cNvSpPr/>
          <p:nvPr/>
        </p:nvSpPr>
        <p:spPr>
          <a:xfrm rot="16200000">
            <a:off x="7473240" y="4775760"/>
            <a:ext cx="368280" cy="1274760"/>
          </a:xfrm>
          <a:custGeom>
            <a:avLst/>
            <a:gdLst>
              <a:gd name="textAreaLeft" fmla="*/ 0 w 368280"/>
              <a:gd name="textAreaRight" fmla="*/ 132840 w 368280"/>
              <a:gd name="textAreaTop" fmla="*/ 33120 h 1274760"/>
              <a:gd name="textAreaBottom" fmla="*/ 124164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Text Box 14"/>
          <p:cNvSpPr/>
          <p:nvPr/>
        </p:nvSpPr>
        <p:spPr>
          <a:xfrm>
            <a:off x="5078160" y="537228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id f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6518160" y="558792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po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t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AutoShape 16"/>
          <p:cNvSpPr/>
          <p:nvPr/>
        </p:nvSpPr>
        <p:spPr>
          <a:xfrm rot="16200000">
            <a:off x="4880520" y="4488480"/>
            <a:ext cx="368640" cy="1274760"/>
          </a:xfrm>
          <a:custGeom>
            <a:avLst/>
            <a:gdLst>
              <a:gd name="textAreaLeft" fmla="*/ 0 w 368640"/>
              <a:gd name="textAreaRight" fmla="*/ 133200 w 368640"/>
              <a:gd name="textAreaTop" fmla="*/ 33120 h 1274760"/>
              <a:gd name="textAreaBottom" fmla="*/ 124164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Text Box 17"/>
          <p:cNvSpPr/>
          <p:nvPr/>
        </p:nvSpPr>
        <p:spPr>
          <a:xfrm>
            <a:off x="7742520" y="5587920"/>
            <a:ext cx="14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00"/>
                </a:solidFill>
                <a:latin typeface="Arial"/>
              </a:rPr>
              <a:t>Capsu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00"/>
                </a:solidFill>
                <a:latin typeface="Arial"/>
              </a:rPr>
              <a:t>st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EC56-148C-48AC-8CF4-1F593F83BDE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Flaming of Loop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650" name="Picture 3" descr="LoopFlame"/>
          <p:cNvPicPr/>
          <p:nvPr/>
        </p:nvPicPr>
        <p:blipFill>
          <a:blip r:embed="rId1"/>
          <a:stretch/>
        </p:blipFill>
        <p:spPr>
          <a:xfrm>
            <a:off x="785880" y="2428920"/>
            <a:ext cx="4071960" cy="28573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" descr="flaming a loop"/>
          <p:cNvPicPr/>
          <p:nvPr/>
        </p:nvPicPr>
        <p:blipFill>
          <a:blip r:embed="rId2"/>
          <a:stretch/>
        </p:blipFill>
        <p:spPr>
          <a:xfrm>
            <a:off x="5572080" y="2000160"/>
            <a:ext cx="32860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18CD-EA16-4942-8E68-DB96564943F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Smearing out of the sample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654" name="Picture 4" descr="image02"/>
          <p:cNvPicPr/>
          <p:nvPr/>
        </p:nvPicPr>
        <p:blipFill>
          <a:blip r:embed="rId1"/>
          <a:stretch/>
        </p:blipFill>
        <p:spPr>
          <a:xfrm>
            <a:off x="1166760" y="981000"/>
            <a:ext cx="70772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F648-9895-4A40-9451-BBFC2F36E35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Smear Fixation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657" name="Picture 3" descr="D:\Eman\Micro photos\handling culture\plating out\Bunsen flame.jpg"/>
          <p:cNvPicPr/>
          <p:nvPr/>
        </p:nvPicPr>
        <p:blipFill>
          <a:blip r:embed="rId1"/>
          <a:stretch/>
        </p:blipFill>
        <p:spPr>
          <a:xfrm>
            <a:off x="3857760" y="1357200"/>
            <a:ext cx="135720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56FA-C97A-4F0F-9D3F-875B99A48EA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-252360" y="444240"/>
            <a:ext cx="939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3300"/>
                </a:solidFill>
                <a:uFillTx/>
                <a:latin typeface="Verdana"/>
              </a:rPr>
              <a:t>Principle of Differential Stai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* Application of the primary stai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1643"/>
                </a:solidFill>
                <a:latin typeface="Verdana"/>
              </a:rPr>
              <a:t>* Decolourizatio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*Application of the counter-stai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1:41:50Z</dcterms:created>
  <dc:creator>tota</dc:creator>
  <dc:description/>
  <dc:language>en-US</dc:language>
  <cp:lastModifiedBy>rihaf</cp:lastModifiedBy>
  <dcterms:modified xsi:type="dcterms:W3CDTF">2014-02-17T11:44:33Z</dcterms:modified>
  <cp:revision>36</cp:revision>
  <dc:subject/>
  <dc:title>Slide 1</dc:title>
</cp:coreProperties>
</file>