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20E2-07A1-4B81-B069-09491CDC6D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878D-A179-495F-A19D-96319C178DB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CF67-548B-43AD-9508-6035A75F902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2109-5246-4A81-8E47-E0C20711C00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5355-E8B1-435B-9366-7AF2F98C929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6CBF-ADD4-4389-91A6-F5813C587AB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A3DC-96AC-40C0-A356-353573A652E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7ACF-AE48-4DC7-A7CD-3635BA98E10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6F77-AF07-4080-B57B-A5035ECFC25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69B8-BE4F-4FDC-9FB2-B225677EAC9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2B87-69C4-4B10-A271-1F76000E751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5D17-45E3-4EA5-90FF-B8B1011B95D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ACC-B2B0-433A-A5EE-FB2C83E9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16D-43BE-4A63-B835-897F3018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0F7-7C21-461B-B0B1-38C5D10C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3F0-10D2-47A6-843C-B0818F7E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549-5BAF-4196-8064-97DC040B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2A12-8C63-4AA0-8BA5-47888E0D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9996-CAA2-4046-8C4A-3109BBAB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5435-D831-4933-BA4C-7DA4D8F9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BEC3-0854-49F3-9477-52F69783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5488-8B00-4A7F-BC39-FC7D5FB4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DD6E-5469-410B-AC49-0BC896FD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810-4EAA-4477-A19A-D8283016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A84B-1419-4AC4-8836-DE1C1AC4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BB22-16ED-4856-8F94-909BFDEA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143C-3A18-4C23-B595-4549F9E8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BFB7-B12C-41B2-8E09-112A90C0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C008-53C4-4DC6-943E-550AC5FE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175-DFC9-4000-B048-4D6A564A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19B-13DE-40E5-872E-94A9EE72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5C3-8340-4482-A966-8317F760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508-E749-4F54-87C3-62C43AF7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AB3-05D7-4A28-A5BD-E1B143E3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FAF-2B3C-48CA-B1A2-33F72EF1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0FC-E4A9-464B-B827-32E6413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4CCD-05E9-461F-A06B-A8FA863C5362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D723-A601-42B7-83CD-A1DE395DCB96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8b8ff"/>
                </a:solidFill>
                <a:latin typeface="Arial"/>
              </a:rPr>
              <a:t>280</a:t>
            </a:r>
            <a:r>
              <a:rPr b="1" lang="en-GB" sz="32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b8b8ff"/>
                </a:solidFill>
                <a:latin typeface="Arial"/>
              </a:rPr>
              <a:t>mi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b8b8ff"/>
                </a:solidFill>
                <a:latin typeface="Arial"/>
              </a:rPr>
              <a:t> (أحيائية الطحالب الدقيق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2b2bfe"/>
                </a:solidFill>
                <a:uFillTx/>
                <a:latin typeface="Arial"/>
              </a:rPr>
              <a:t>المعمل السادس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بسم الله الرحمن الرحيم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2006050-016"/>
          <p:cNvPicPr/>
          <p:nvPr/>
        </p:nvPicPr>
        <p:blipFill>
          <a:blip r:embed="rId1"/>
          <a:stretch/>
        </p:blipFill>
        <p:spPr>
          <a:xfrm>
            <a:off x="2987640" y="1628640"/>
            <a:ext cx="3745080" cy="4492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7"/>
          <p:cNvSpPr/>
          <p:nvPr/>
        </p:nvSpPr>
        <p:spPr>
          <a:xfrm>
            <a:off x="685800" y="476280"/>
            <a:ext cx="32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osma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85ff"/>
                </a:solidFill>
                <a:latin typeface="Monotype Corsiva"/>
                <a:ea typeface="DecoType Naskh Swashes"/>
              </a:rPr>
              <a:t>Thank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374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Ulothrix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i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otrich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ANd9GcTHlVTK6M_EkEJ8Cp8AEW4KtYuFqB5qsk86dLjBDlpdocZ_bY0tlw"/>
          <p:cNvPicPr/>
          <p:nvPr/>
        </p:nvPicPr>
        <p:blipFill>
          <a:blip r:embed="rId1"/>
          <a:stretch/>
        </p:blipFill>
        <p:spPr>
          <a:xfrm>
            <a:off x="7020000" y="189000"/>
            <a:ext cx="1942920" cy="316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ANd9GcRsUoCPX7kq2UFECUlfgQkJFCIe5NJbvKAzS7P_0YRdbwmR8Kk4"/>
          <p:cNvPicPr/>
          <p:nvPr/>
        </p:nvPicPr>
        <p:blipFill>
          <a:blip r:embed="rId2"/>
          <a:stretch/>
        </p:blipFill>
        <p:spPr>
          <a:xfrm>
            <a:off x="4211640" y="357336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ANd9GcQ2X85Zc7DSXWO5w-Mg3X460UvOv5S-J-q-Ki8X8EJ3ovsvbrhF"/>
          <p:cNvPicPr/>
          <p:nvPr/>
        </p:nvPicPr>
        <p:blipFill>
          <a:blip r:embed="rId3"/>
          <a:stretch/>
        </p:blipFill>
        <p:spPr>
          <a:xfrm>
            <a:off x="4211640" y="189000"/>
            <a:ext cx="261936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ANd9GcS91ViwAG0y4Ar7DjSEirzuAhquiLmZfrvRXB3S0sHYr7iLvCnBCg"/>
          <p:cNvPicPr/>
          <p:nvPr/>
        </p:nvPicPr>
        <p:blipFill>
          <a:blip r:embed="rId4"/>
          <a:stretch/>
        </p:blipFill>
        <p:spPr>
          <a:xfrm>
            <a:off x="7020000" y="3573360"/>
            <a:ext cx="1944720" cy="3024360"/>
          </a:xfrm>
          <a:prstGeom prst="rect">
            <a:avLst/>
          </a:prstGeom>
          <a:ln w="0">
            <a:noFill/>
          </a:ln>
        </p:spPr>
      </p:pic>
      <p:sp>
        <p:nvSpPr>
          <p:cNvPr id="113" name="مستطيل 6"/>
          <p:cNvSpPr/>
          <p:nvPr/>
        </p:nvSpPr>
        <p:spPr>
          <a:xfrm>
            <a:off x="-181080" y="83664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http://jcoll.org/genoma/vida_microsubmarina/microalgas/img/ulothrix/ulothrix.gif"/>
          <p:cNvPicPr/>
          <p:nvPr/>
        </p:nvPicPr>
        <p:blipFill>
          <a:blip r:embed="rId1"/>
          <a:stretch/>
        </p:blipFill>
        <p:spPr>
          <a:xfrm>
            <a:off x="179280" y="620640"/>
            <a:ext cx="8712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303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Ulv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o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v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ANd9GcRn1Uc_3tar3MvbJqqj4W3FVzh5XXW32F6If5hk7dtIxlbausaMAg"/>
          <p:cNvPicPr/>
          <p:nvPr/>
        </p:nvPicPr>
        <p:blipFill>
          <a:blip r:embed="rId1"/>
          <a:stretch/>
        </p:blipFill>
        <p:spPr>
          <a:xfrm>
            <a:off x="6516720" y="404640"/>
            <a:ext cx="2448000" cy="273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ANd9GcQOJrSITFEOEHyBlSmfUVxVgGU3w4L0qc9wepguFBEwtT-It4_QGg"/>
          <p:cNvPicPr/>
          <p:nvPr/>
        </p:nvPicPr>
        <p:blipFill>
          <a:blip r:embed="rId2"/>
          <a:stretch/>
        </p:blipFill>
        <p:spPr>
          <a:xfrm>
            <a:off x="6516720" y="3213000"/>
            <a:ext cx="2448000" cy="338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Nd9GcT5kjsOQ0ZJ9XQOmLc8sEW1Y6lofzkNw7KBsfNypZ25agY72bY7"/>
          <p:cNvPicPr/>
          <p:nvPr/>
        </p:nvPicPr>
        <p:blipFill>
          <a:blip r:embed="rId3"/>
          <a:stretch/>
        </p:blipFill>
        <p:spPr>
          <a:xfrm>
            <a:off x="3995640" y="404640"/>
            <a:ext cx="2448000" cy="266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ANd9GcQLqeZ4LK7Cq3SLTqPMviG3DDUc2aZy-PwiyVAGX_x_QY55h2AG"/>
          <p:cNvPicPr/>
          <p:nvPr/>
        </p:nvPicPr>
        <p:blipFill>
          <a:blip r:embed="rId4"/>
          <a:stretch/>
        </p:blipFill>
        <p:spPr>
          <a:xfrm>
            <a:off x="3708360" y="3213000"/>
            <a:ext cx="2664000" cy="3438720"/>
          </a:xfrm>
          <a:prstGeom prst="rect">
            <a:avLst/>
          </a:prstGeom>
          <a:ln w="0">
            <a:noFill/>
          </a:ln>
        </p:spPr>
      </p:pic>
      <p:sp>
        <p:nvSpPr>
          <p:cNvPr id="122" name="مستطيل 7"/>
          <p:cNvSpPr/>
          <p:nvPr/>
        </p:nvSpPr>
        <p:spPr>
          <a:xfrm>
            <a:off x="0" y="7650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Ulva rigida"/>
          <p:cNvPicPr/>
          <p:nvPr/>
        </p:nvPicPr>
        <p:blipFill>
          <a:blip r:embed="rId1"/>
          <a:stretch/>
        </p:blipFill>
        <p:spPr>
          <a:xfrm>
            <a:off x="5094360" y="3860640"/>
            <a:ext cx="3870360" cy="2808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Ulva external features"/>
          <p:cNvPicPr/>
          <p:nvPr/>
        </p:nvPicPr>
        <p:blipFill>
          <a:blip r:embed="rId2"/>
          <a:stretch/>
        </p:blipFill>
        <p:spPr>
          <a:xfrm>
            <a:off x="179280" y="189000"/>
            <a:ext cx="482436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3970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Enteromorph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o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vace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ANd9GcSM3wzYaovIKLPh4Jp03NHK5USPcT5PAAeV9B7ab3BgPG9s9EPCuw"/>
          <p:cNvPicPr/>
          <p:nvPr/>
        </p:nvPicPr>
        <p:blipFill>
          <a:blip r:embed="rId1"/>
          <a:stretch/>
        </p:blipFill>
        <p:spPr>
          <a:xfrm>
            <a:off x="3564000" y="4221000"/>
            <a:ext cx="259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SkGlcreW3AJi5PqUVyXDDduPPpEwEQenGH0D6zUgFFqEASmaqjJQ"/>
          <p:cNvPicPr/>
          <p:nvPr/>
        </p:nvPicPr>
        <p:blipFill>
          <a:blip r:embed="rId2"/>
          <a:stretch/>
        </p:blipFill>
        <p:spPr>
          <a:xfrm>
            <a:off x="755640" y="4221000"/>
            <a:ext cx="2590920" cy="244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ANd9GcS2yQTWUCXu-uHgwvITanzlJvooQeryUgjLc7pvPH8r7LOyUdEd5g"/>
          <p:cNvPicPr/>
          <p:nvPr/>
        </p:nvPicPr>
        <p:blipFill>
          <a:blip r:embed="rId3"/>
          <a:stretch/>
        </p:blipFill>
        <p:spPr>
          <a:xfrm>
            <a:off x="4572000" y="260280"/>
            <a:ext cx="1990800" cy="3519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ANd9GcQpUW33M2TZHfZ2MrL8eju9eYB_PqQXPill5cdt-LL8MbIfRV5m"/>
          <p:cNvPicPr/>
          <p:nvPr/>
        </p:nvPicPr>
        <p:blipFill>
          <a:blip r:embed="rId4"/>
          <a:stretch/>
        </p:blipFill>
        <p:spPr>
          <a:xfrm>
            <a:off x="6372360" y="4221000"/>
            <a:ext cx="2466720" cy="2448000"/>
          </a:xfrm>
          <a:prstGeom prst="rect">
            <a:avLst/>
          </a:prstGeom>
          <a:ln w="0">
            <a:noFill/>
          </a:ln>
        </p:spPr>
      </p:pic>
      <p:pic>
        <p:nvPicPr>
          <p:cNvPr id="133" name="صورة 4" descr="شكل عام1.jpg"/>
          <p:cNvPicPr/>
          <p:nvPr/>
        </p:nvPicPr>
        <p:blipFill>
          <a:blip r:embed="rId5"/>
          <a:stretch/>
        </p:blipFill>
        <p:spPr>
          <a:xfrm>
            <a:off x="6659640" y="260280"/>
            <a:ext cx="2286000" cy="3522600"/>
          </a:xfrm>
          <a:prstGeom prst="rect">
            <a:avLst/>
          </a:prstGeom>
          <a:ln w="0">
            <a:noFill/>
          </a:ln>
        </p:spPr>
      </p:pic>
      <p:sp>
        <p:nvSpPr>
          <p:cNvPr id="134" name="مستطيل 7"/>
          <p:cNvSpPr/>
          <p:nvPr/>
        </p:nvSpPr>
        <p:spPr>
          <a:xfrm>
            <a:off x="-216000" y="47628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drawing of Enteromorpha compressa"/>
          <p:cNvPicPr/>
          <p:nvPr/>
        </p:nvPicPr>
        <p:blipFill>
          <a:blip r:embed="rId1"/>
          <a:srcRect l="0" t="0" r="0" b="58607"/>
          <a:stretch/>
        </p:blipFill>
        <p:spPr>
          <a:xfrm>
            <a:off x="395280" y="2997360"/>
            <a:ext cx="5616720" cy="2873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Tarmgrønske (Enteromorpha intestinalis)"/>
          <p:cNvPicPr/>
          <p:nvPr/>
        </p:nvPicPr>
        <p:blipFill>
          <a:blip r:embed="rId2"/>
          <a:stretch/>
        </p:blipFill>
        <p:spPr>
          <a:xfrm>
            <a:off x="6156360" y="692280"/>
            <a:ext cx="2517840" cy="521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1258920" y="907920"/>
            <a:ext cx="39704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Enteromorph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421488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/ Zygnematales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/ Desmid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9" descr="ANd9GcSnwM2LtrYDL05T9HQvdl1VMvhOgikxMM8tTlduSUikg8cAlo3sSA"/>
          <p:cNvPicPr/>
          <p:nvPr/>
        </p:nvPicPr>
        <p:blipFill>
          <a:blip r:embed="rId1"/>
          <a:stretch/>
        </p:blipFill>
        <p:spPr>
          <a:xfrm>
            <a:off x="6591240" y="404640"/>
            <a:ext cx="2444760" cy="309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Nd9GcSCKZk87CsEGeDSriYxr0MauNgRuxl8YvFbVLtRgJiEDd6AgCiu"/>
          <p:cNvPicPr/>
          <p:nvPr/>
        </p:nvPicPr>
        <p:blipFill>
          <a:blip r:embed="rId2"/>
          <a:stretch/>
        </p:blipFill>
        <p:spPr>
          <a:xfrm>
            <a:off x="6732720" y="3716280"/>
            <a:ext cx="2232000" cy="295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ANd9GcTE7nkG-0SPjhFQQKj0jzG6auuQcrwc_eRyQhNdMb_-hZu1OIr3FA"/>
          <p:cNvPicPr/>
          <p:nvPr/>
        </p:nvPicPr>
        <p:blipFill>
          <a:blip r:embed="rId3"/>
          <a:stretch/>
        </p:blipFill>
        <p:spPr>
          <a:xfrm>
            <a:off x="3851280" y="3645000"/>
            <a:ext cx="2619360" cy="3024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4"/>
          <p:cNvSpPr/>
          <p:nvPr/>
        </p:nvSpPr>
        <p:spPr>
          <a:xfrm>
            <a:off x="612720" y="692280"/>
            <a:ext cx="31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loste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6" descr="ANd9GcTANJrxCp7ygsl8lM6KimXb8F0bjztCBTWJHEozcn4Msk9RxvPf-g"/>
          <p:cNvPicPr/>
          <p:nvPr/>
        </p:nvPicPr>
        <p:blipFill>
          <a:blip r:embed="rId4"/>
          <a:stretch/>
        </p:blipFill>
        <p:spPr>
          <a:xfrm>
            <a:off x="3851280" y="404640"/>
            <a:ext cx="2628720" cy="3111840"/>
          </a:xfrm>
          <a:prstGeom prst="rect">
            <a:avLst/>
          </a:prstGeom>
          <a:ln w="0">
            <a:noFill/>
          </a:ln>
        </p:spPr>
      </p:pic>
      <p:sp>
        <p:nvSpPr>
          <p:cNvPr id="146" name="مستطيل 7"/>
          <p:cNvSpPr/>
          <p:nvPr/>
        </p:nvSpPr>
        <p:spPr>
          <a:xfrm>
            <a:off x="-324000" y="7650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606920" cy="37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/ Chlorophyta.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/ Chlorophycea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Or/ Zygnematales .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/ Desmid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14" descr="ANd9GcRs823OKi8RYyH1BecGJUr6YDG78PC-Ma7BA1Zw88Te78MtXb9v"/>
          <p:cNvPicPr/>
          <p:nvPr/>
        </p:nvPicPr>
        <p:blipFill>
          <a:blip r:embed="rId1"/>
          <a:stretch/>
        </p:blipFill>
        <p:spPr>
          <a:xfrm>
            <a:off x="4140360" y="476280"/>
            <a:ext cx="4787640" cy="424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ANd9GcSuqf3tdN6Cxr8wsZz-nimDCYu8X4fp4OUAbABlfghMDmdTtuwV"/>
          <p:cNvPicPr/>
          <p:nvPr/>
        </p:nvPicPr>
        <p:blipFill>
          <a:blip r:embed="rId2"/>
          <a:stretch/>
        </p:blipFill>
        <p:spPr>
          <a:xfrm>
            <a:off x="1547640" y="4941720"/>
            <a:ext cx="2376720" cy="180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7"/>
          <p:cNvSpPr/>
          <p:nvPr/>
        </p:nvSpPr>
        <p:spPr>
          <a:xfrm>
            <a:off x="685800" y="765000"/>
            <a:ext cx="32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osma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9" descr="ANd9GcT4yHu15O7zV2V7qOBq5YdZGIN-klczzwmX-VoPZyr_5dGDZHr-"/>
          <p:cNvPicPr/>
          <p:nvPr/>
        </p:nvPicPr>
        <p:blipFill>
          <a:blip r:embed="rId3"/>
          <a:stretch/>
        </p:blipFill>
        <p:spPr>
          <a:xfrm>
            <a:off x="4067280" y="494172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ANd9GcRYWz70CLClcPn8k_1ssHpGJG9nNakDzuAPxBMMITLAF4-ByBc7HA"/>
          <p:cNvPicPr/>
          <p:nvPr/>
        </p:nvPicPr>
        <p:blipFill>
          <a:blip r:embed="rId4"/>
          <a:stretch/>
        </p:blipFill>
        <p:spPr>
          <a:xfrm>
            <a:off x="6732720" y="4941720"/>
            <a:ext cx="2257200" cy="1730520"/>
          </a:xfrm>
          <a:prstGeom prst="rect">
            <a:avLst/>
          </a:prstGeom>
          <a:ln w="0">
            <a:noFill/>
          </a:ln>
        </p:spPr>
      </p:pic>
      <p:sp>
        <p:nvSpPr>
          <p:cNvPr id="153" name="مستطيل 7"/>
          <p:cNvSpPr/>
          <p:nvPr/>
        </p:nvSpPr>
        <p:spPr>
          <a:xfrm>
            <a:off x="-216000" y="84924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8:59:10Z</dcterms:created>
  <dc:creator>Om fahad</dc:creator>
  <dc:description/>
  <dc:language>en-US</dc:language>
  <cp:lastModifiedBy>user</cp:lastModifiedBy>
  <dcterms:modified xsi:type="dcterms:W3CDTF">2013-11-02T16:47:53Z</dcterms:modified>
  <cp:revision>37</cp:revision>
  <dc:subject/>
  <dc:title>الطحالب الخضراء  Green Algae</dc:title>
</cp:coreProperties>
</file>