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22.jpeg" ContentType="image/jpeg"/>
  <Override PartName="/ppt/media/image20.wmf" ContentType="image/x-wmf"/>
  <Override PartName="/ppt/media/image19.png" ContentType="image/png"/>
  <Override PartName="/ppt/media/image1.png" ContentType="image/png"/>
  <Override PartName="/ppt/media/image21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A0A-EE8C-4844-A8E0-EBBF1129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1C3-CF25-4371-89F1-90FBFB55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296-6B35-46E6-B297-7640AC32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991-1E5B-4B4B-8ABE-DED4AB0A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9230-9112-49C3-8A3A-F7DC4674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ED7F-3689-4F81-B2DF-100AF884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F764-992C-4411-807E-7C48C526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3CB8-1549-4CCB-BFBD-5B4B4265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21EA-89CB-41FD-B015-842B3C57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3A92-8075-40A1-A3EA-F5C2A4D5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0099-2851-4658-BC5D-21078D49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AB4-BD7A-412B-9868-2D15B17A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225A-8284-4904-869A-6357A5A2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CDFC-FEC6-4F02-B184-CF841582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6DFF-10CD-4ADD-9204-FA154953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5B68-E756-45B3-9226-06D618E1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EDEC-F94D-41A1-AB2E-E2373194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151-5030-4A49-9848-4A1E4A7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4E0-177C-4ABF-BA85-ECD87598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B82-763A-4DB8-B2B9-B5B330D2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94E-D613-4868-AA49-D06EBF1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4C3-BC39-413A-8224-A67DA44A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982-C57D-47D6-AC45-E81C39EA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FCC-E9EF-46DE-B215-2D855AFA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F354-A68A-405D-AB1B-F471E3FCCD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FB3A-0249-471A-9C2D-60406E3E0FA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ptidoglyca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طريقة تخطيط الاطبا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eak Plate Meth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FourQuadrantStreakPlate"/>
          <p:cNvPicPr/>
          <p:nvPr/>
        </p:nvPicPr>
        <p:blipFill>
          <a:blip r:embed="rId1"/>
          <a:stretch/>
        </p:blipFill>
        <p:spPr>
          <a:xfrm>
            <a:off x="4716360" y="1916280"/>
            <a:ext cx="4211640" cy="4510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312840" y="1916280"/>
            <a:ext cx="4330440" cy="4608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5655960" y="12675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تخطيط المتعام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Organization Chart 6"/>
          <p:cNvGrpSpPr/>
          <p:nvPr/>
        </p:nvGrpSpPr>
        <p:grpSpPr>
          <a:xfrm>
            <a:off x="914400" y="1916280"/>
            <a:ext cx="7833960" cy="4114440"/>
            <a:chOff x="914400" y="1916280"/>
            <a:chExt cx="7833960" cy="4114440"/>
          </a:xfrm>
        </p:grpSpPr>
        <p:cxnSp>
          <p:nvCxnSpPr>
            <p:cNvPr id="217" name="_s3076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473080" y="2917440"/>
              <a:ext cx="824400" cy="211032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3077"/>
            <p:cNvCxnSpPr>
              <a:stCxn id="221" idx="0"/>
              <a:endCxn id="219" idx="2"/>
            </p:cNvCxnSpPr>
            <p:nvPr/>
          </p:nvCxnSpPr>
          <p:spPr>
            <a:xfrm flipH="1" flipV="1" rot="5400000">
              <a:off x="3363840" y="2918520"/>
              <a:ext cx="824400" cy="210852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9" name="_s3078"/>
            <p:cNvSpPr/>
            <p:nvPr/>
          </p:nvSpPr>
          <p:spPr>
            <a:xfrm>
              <a:off x="3022560" y="1916280"/>
              <a:ext cx="3615840" cy="1644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A- Gram-positive cocci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3079"/>
            <p:cNvSpPr/>
            <p:nvPr/>
          </p:nvSpPr>
          <p:spPr>
            <a:xfrm>
              <a:off x="914400" y="4385160"/>
              <a:ext cx="3616200" cy="164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I- staphylococci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3080"/>
            <p:cNvSpPr/>
            <p:nvPr/>
          </p:nvSpPr>
          <p:spPr>
            <a:xfrm>
              <a:off x="5132160" y="4385160"/>
              <a:ext cx="361620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II- streptococci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talase test is distinguished streptococci from staphyl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od culture with drops of 3% H2O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alase-positive cultures bubble at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st should not be done on blood agar because blood itself will produce bubb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1187280" y="2801880"/>
            <a:ext cx="676944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2O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2050920" y="3141720"/>
            <a:ext cx="2881440" cy="287280"/>
          </a:xfrm>
          <a:prstGeom prst="rightArrow">
            <a:avLst>
              <a:gd name="adj1" fmla="val 50000"/>
              <a:gd name="adj2" fmla="val 25075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5126040" y="3062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2O + O2 (gas, ↑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1" descr="s_cat"/>
          <p:cNvPicPr/>
          <p:nvPr/>
        </p:nvPicPr>
        <p:blipFill>
          <a:blip r:embed="rId5"/>
          <a:stretch/>
        </p:blipFill>
        <p:spPr>
          <a:xfrm>
            <a:off x="3348000" y="4724280"/>
            <a:ext cx="23367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8"/>
          <p:cNvSpPr/>
          <p:nvPr/>
        </p:nvSpPr>
        <p:spPr>
          <a:xfrm>
            <a:off x="2411280" y="3349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2627640" y="28465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al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2508840" y="123840"/>
            <a:ext cx="28494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talase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5257800" cy="136836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pecie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atphylococ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3104640"/>
            <a:ext cx="843588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 species of staphyloccoci have medical import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S. aureus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hogen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amp; commensally found in nose (n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cc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S. epidermidis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n pathogen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amp; common commensals in nares &amp;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cc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S. saprophyticu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use UTI in female &amp; occasionall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mensal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und sk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Hemolysis on SBA"/>
          <p:cNvPicPr/>
          <p:nvPr/>
        </p:nvPicPr>
        <p:blipFill>
          <a:blip r:embed="rId2"/>
          <a:stretch/>
        </p:blipFill>
        <p:spPr>
          <a:xfrm>
            <a:off x="5937120" y="260280"/>
            <a:ext cx="3171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74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agulase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Princi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test used to differentiate betwe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. aur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PS) &amp; othe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phylococc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pecies (C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Organization Chart 7"/>
          <p:cNvGrpSpPr/>
          <p:nvPr/>
        </p:nvGrpSpPr>
        <p:grpSpPr>
          <a:xfrm>
            <a:off x="1116000" y="4581360"/>
            <a:ext cx="7056000" cy="1838520"/>
            <a:chOff x="1116000" y="4581360"/>
            <a:chExt cx="7056000" cy="1838520"/>
          </a:xfrm>
        </p:grpSpPr>
        <p:cxnSp>
          <p:nvCxnSpPr>
            <p:cNvPr id="237" name="_s4100"/>
            <p:cNvCxnSpPr>
              <a:stCxn id="238" idx="0"/>
              <a:endCxn id="239" idx="2"/>
            </p:cNvCxnSpPr>
            <p:nvPr/>
          </p:nvCxnSpPr>
          <p:spPr>
            <a:xfrm flipV="1" rot="16200000">
              <a:off x="5409360" y="4550040"/>
              <a:ext cx="369000" cy="1900440"/>
            </a:xfrm>
            <a:prstGeom prst="bentConnector3">
              <a:avLst>
                <a:gd name="adj1" fmla="val 21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4101"/>
            <p:cNvCxnSpPr>
              <a:stCxn id="241" idx="0"/>
              <a:endCxn id="239" idx="2"/>
            </p:cNvCxnSpPr>
            <p:nvPr/>
          </p:nvCxnSpPr>
          <p:spPr>
            <a:xfrm flipH="1" flipV="1" rot="5400000">
              <a:off x="3509640" y="4550040"/>
              <a:ext cx="369000" cy="1900440"/>
            </a:xfrm>
            <a:prstGeom prst="bentConnector3">
              <a:avLst>
                <a:gd name="adj1" fmla="val 21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9" name="_s4102"/>
            <p:cNvSpPr/>
            <p:nvPr/>
          </p:nvSpPr>
          <p:spPr>
            <a:xfrm>
              <a:off x="3015720" y="4581360"/>
              <a:ext cx="3256560" cy="735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Coagulase test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4103"/>
            <p:cNvSpPr/>
            <p:nvPr/>
          </p:nvSpPr>
          <p:spPr>
            <a:xfrm>
              <a:off x="1116000" y="5684760"/>
              <a:ext cx="3256560" cy="735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Coagulase Positi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0000"/>
                  </a:solidFill>
                  <a:latin typeface="Times New Roman"/>
                </a:rPr>
                <a:t>Staphylococus aureu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4104"/>
            <p:cNvSpPr/>
            <p:nvPr/>
          </p:nvSpPr>
          <p:spPr>
            <a:xfrm>
              <a:off x="4915800" y="5684760"/>
              <a:ext cx="3256200" cy="735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Coagulase-Negati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0000"/>
                  </a:solidFill>
                  <a:latin typeface="Times New Roman"/>
                </a:rPr>
                <a:t>S. epidermidis &amp; S. 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saprophytic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Rectangle 14"/>
          <p:cNvSpPr/>
          <p:nvPr/>
        </p:nvSpPr>
        <p:spPr>
          <a:xfrm>
            <a:off x="395280" y="2803680"/>
            <a:ext cx="7991640" cy="11300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brinog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Plas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2197080" y="3357720"/>
            <a:ext cx="3382920" cy="485640"/>
          </a:xfrm>
          <a:prstGeom prst="rightArrow">
            <a:avLst>
              <a:gd name="adj1" fmla="val 50000"/>
              <a:gd name="adj2" fmla="val 174148"/>
            </a:avLst>
          </a:pr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2340000" y="3068640"/>
            <a:ext cx="2160720" cy="289080"/>
          </a:xfrm>
          <a:prstGeom prst="rect">
            <a:avLst/>
          </a:prstGeom>
          <a:solidFill>
            <a:srgbClr val="3366ff"/>
          </a:solidFill>
          <a:ln w="93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agul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6001920" y="3141720"/>
            <a:ext cx="8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bri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lo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phylococ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454788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eneral charact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am Positive 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ape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 Mot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 Spore Fo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 Caps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 Fastid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cultative Anaero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rmen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talase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m stain of Staphylococ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12" descr="staph3"/>
          <p:cNvPicPr/>
          <p:nvPr/>
        </p:nvPicPr>
        <p:blipFill>
          <a:blip r:embed="rId1"/>
          <a:stretch/>
        </p:blipFill>
        <p:spPr>
          <a:xfrm>
            <a:off x="2349360" y="1643040"/>
            <a:ext cx="444528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842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aboratory diagnosis of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taphylococc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m Sta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m Positive Cocci, arranged in 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ltur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lood a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2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SA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lood aga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Non-Selective Med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agulase Positive Staphylococci are Pigmented &amp; hemoly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agulase Negative Staphylococci are non-pigmented &amp; non-hemoly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Hemolysis on SBA"/>
          <p:cNvPicPr/>
          <p:nvPr/>
        </p:nvPicPr>
        <p:blipFill>
          <a:blip r:embed="rId5"/>
          <a:stretch/>
        </p:blipFill>
        <p:spPr>
          <a:xfrm>
            <a:off x="5972040" y="260280"/>
            <a:ext cx="3171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88000" y="3640320"/>
            <a:ext cx="3898800" cy="317808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d1ec"/>
              </a:solidFill>
              <a:latin typeface="Arial"/>
              <a:ea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3240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selective differential medium for staphyl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ntains: NaCl (7.5%), Mannitol, &amp; Phenol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us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lectiv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e to presence of high salt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us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fferent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contains mannitol (sugar) and phenol red (pH indicators turns yellow in acidic pH and turns red in alkaline p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Organization Chart 7"/>
          <p:cNvGrpSpPr/>
          <p:nvPr/>
        </p:nvGrpSpPr>
        <p:grpSpPr>
          <a:xfrm>
            <a:off x="34920" y="3795120"/>
            <a:ext cx="4294440" cy="2520360"/>
            <a:chOff x="34920" y="3795120"/>
            <a:chExt cx="4294440" cy="2520360"/>
          </a:xfrm>
        </p:grpSpPr>
        <p:cxnSp>
          <p:nvCxnSpPr>
            <p:cNvPr id="256" name="_s5124"/>
            <p:cNvCxnSpPr/>
            <p:nvPr/>
          </p:nvCxnSpPr>
          <p:spPr>
            <a:xfrm rot="10800000">
              <a:off x="2181960" y="4561920"/>
              <a:ext cx="1117800" cy="1256760"/>
            </a:xfrm>
            <a:prstGeom prst="bentConnector3">
              <a:avLst>
                <a:gd name="adj1" fmla="val 87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5125"/>
            <p:cNvCxnSpPr/>
            <p:nvPr/>
          </p:nvCxnSpPr>
          <p:spPr>
            <a:xfrm flipH="1" flipV="1" rot="5400000">
              <a:off x="1131120" y="4311360"/>
              <a:ext cx="1225080" cy="879120"/>
            </a:xfrm>
            <a:prstGeom prst="bentConnector3">
              <a:avLst>
                <a:gd name="adj1" fmla="val 632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5126"/>
            <p:cNvSpPr/>
            <p:nvPr/>
          </p:nvSpPr>
          <p:spPr>
            <a:xfrm>
              <a:off x="826560" y="3795120"/>
              <a:ext cx="2613600" cy="63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80"/>
                  </a:solidFill>
                  <a:latin typeface="Arial"/>
                </a:rPr>
                <a:t>Mannitol fermentation on MS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5127"/>
            <p:cNvSpPr/>
            <p:nvPr/>
          </p:nvSpPr>
          <p:spPr>
            <a:xfrm>
              <a:off x="34920" y="4984920"/>
              <a:ext cx="2026440" cy="12391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Mannitol fermente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Yellow colonies: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80"/>
                  </a:solidFill>
                  <a:latin typeface="Arial"/>
                </a:rPr>
                <a:t>S. aure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5128"/>
            <p:cNvSpPr/>
            <p:nvPr/>
          </p:nvSpPr>
          <p:spPr>
            <a:xfrm>
              <a:off x="2279520" y="5076360"/>
              <a:ext cx="2049840" cy="1239120"/>
            </a:xfrm>
            <a:prstGeom prst="roundRect">
              <a:avLst>
                <a:gd name="adj" fmla="val 4425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Mannitol nonfermen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Red colonies: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i="1" lang="en-US" sz="1000" spc="-1" strike="noStrike">
                  <a:solidFill>
                    <a:srgbClr val="000080"/>
                  </a:solidFill>
                  <a:latin typeface="Arial"/>
                </a:rPr>
                <a:t>S. epidermidis&amp; S. saprophytic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1" name="Picture 16" descr="msa"/>
          <p:cNvPicPr/>
          <p:nvPr/>
        </p:nvPicPr>
        <p:blipFill>
          <a:blip r:embed="rId2"/>
          <a:stretch/>
        </p:blipFill>
        <p:spPr>
          <a:xfrm>
            <a:off x="4932360" y="3693960"/>
            <a:ext cx="36003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agulase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tube coagulase test (Fre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cedur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x 0.1 ml of culture + 0.5 ml of plas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bate at 37C for 4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ing the tube for clot 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degree of clotting constitutes a posi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u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7" descr="coagul"/>
          <p:cNvPicPr/>
          <p:nvPr/>
        </p:nvPicPr>
        <p:blipFill>
          <a:blip r:embed="rId5"/>
          <a:stretch/>
        </p:blipFill>
        <p:spPr>
          <a:xfrm>
            <a:off x="6443640" y="1773360"/>
            <a:ext cx="2305080" cy="3143160"/>
          </a:xfrm>
          <a:prstGeom prst="rect">
            <a:avLst/>
          </a:prstGeom>
          <a:ln w="0">
            <a:noFill/>
          </a:ln>
        </p:spPr>
      </p:pic>
      <p:sp>
        <p:nvSpPr>
          <p:cNvPr id="265" name="Line 8"/>
          <p:cNvSpPr/>
          <p:nvPr/>
        </p:nvSpPr>
        <p:spPr>
          <a:xfrm>
            <a:off x="6804000" y="4941720"/>
            <a:ext cx="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014160" y="5445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. aur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7407360" y="54388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. epidermi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8172360" y="4941720"/>
            <a:ext cx="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agulase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wo Metho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slid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ub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slide coagulase te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detect bound coagulase or clumping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one drop heavy bacterial suspension and one drop of plasma on clea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well and observing for clumping within 10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van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diag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advan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accur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5"/>
          <a:stretch/>
        </p:blipFill>
        <p:spPr>
          <a:xfrm>
            <a:off x="4788000" y="4869000"/>
            <a:ext cx="4052880" cy="1728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"/>
          <p:cNvPicPr/>
          <p:nvPr/>
        </p:nvPicPr>
        <p:blipFill>
          <a:blip r:embed="rId6"/>
          <a:stretch/>
        </p:blipFill>
        <p:spPr>
          <a:xfrm>
            <a:off x="395280" y="5013360"/>
            <a:ext cx="40528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streak"/>
          <p:cNvPicPr/>
          <p:nvPr/>
        </p:nvPicPr>
        <p:blipFill>
          <a:blip r:embed="rId1"/>
          <a:stretch/>
        </p:blipFill>
        <p:spPr>
          <a:xfrm>
            <a:off x="539640" y="981000"/>
            <a:ext cx="8207640" cy="5400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3492360" y="40464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reak Plate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oxyribonuclease (DNAase)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SzPct val="1022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Principle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NA is insoluble in aci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NA is hydrolyzed into oligo nucleotides by the action of DNa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ucleotides soluble in aci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Organization Chart 7"/>
          <p:cNvGrpSpPr/>
          <p:nvPr/>
        </p:nvGrpSpPr>
        <p:grpSpPr>
          <a:xfrm>
            <a:off x="457200" y="1413000"/>
            <a:ext cx="8229240" cy="2376000"/>
            <a:chOff x="457200" y="1413000"/>
            <a:chExt cx="8229240" cy="2376000"/>
          </a:xfrm>
        </p:grpSpPr>
        <p:cxnSp>
          <p:nvCxnSpPr>
            <p:cNvPr id="276" name="_s6148"/>
            <p:cNvCxnSpPr>
              <a:stCxn id="277" idx="0"/>
              <a:endCxn id="278" idx="2"/>
            </p:cNvCxnSpPr>
            <p:nvPr/>
          </p:nvCxnSpPr>
          <p:spPr>
            <a:xfrm flipV="1" rot="16200000">
              <a:off x="5441400" y="1492560"/>
              <a:ext cx="476640" cy="2216160"/>
            </a:xfrm>
            <a:prstGeom prst="bentConnector3">
              <a:avLst>
                <a:gd name="adj1" fmla="val 240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6149"/>
            <p:cNvCxnSpPr>
              <a:stCxn id="280" idx="0"/>
              <a:endCxn id="278" idx="2"/>
            </p:cNvCxnSpPr>
            <p:nvPr/>
          </p:nvCxnSpPr>
          <p:spPr>
            <a:xfrm flipH="1" flipV="1" rot="5400000">
              <a:off x="3225240" y="1492920"/>
              <a:ext cx="476640" cy="2216160"/>
            </a:xfrm>
            <a:prstGeom prst="bentConnector3">
              <a:avLst>
                <a:gd name="adj1" fmla="val 240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6150"/>
            <p:cNvSpPr/>
            <p:nvPr/>
          </p:nvSpPr>
          <p:spPr>
            <a:xfrm>
              <a:off x="2673000" y="1413000"/>
              <a:ext cx="3798000" cy="95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DNase test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6151"/>
            <p:cNvSpPr/>
            <p:nvPr/>
          </p:nvSpPr>
          <p:spPr>
            <a:xfrm>
              <a:off x="457200" y="2838960"/>
              <a:ext cx="3798000" cy="95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Times New Roman"/>
                </a:rPr>
                <a:t>Positive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taphylococus aure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6152"/>
            <p:cNvSpPr/>
            <p:nvPr/>
          </p:nvSpPr>
          <p:spPr>
            <a:xfrm>
              <a:off x="4888800" y="2838960"/>
              <a:ext cx="3797640" cy="95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Times New Roman"/>
                </a:rPr>
                <a:t>Negative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. epidermidis &amp; S. saprophytic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Nase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cedure &amp;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oculate DNA agar with tested organism in circular mo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ubate at 37C for 24-48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 DNase activity by adding 1N HCl to the agar surface, a zone of clearing indicates a positive t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zone represents the absence of D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edium around colonies not producing DNase remains opaque, which is a reflection of the precipitation of DNA by the added ac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400176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vobiocin Sensi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4000" y="3941280"/>
            <a:ext cx="84960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A simple disk diffusion test for estimating novobiocin susceptibility used to distinguish </a:t>
            </a:r>
            <a:r>
              <a:rPr b="0" i="1" lang="en-US" sz="2100" spc="-1" strike="noStrike">
                <a:solidFill>
                  <a:srgbClr val="ffff00"/>
                </a:solidFill>
                <a:latin typeface="Arial"/>
              </a:rPr>
              <a:t>S. saprophyticus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 from other clinically spec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Inoculated overnight culture on Mueller-Hinton aga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Add novobiocin disk on inoculated pl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Incubate at 370C overnigh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Novobiocin resistance is intrinsic to </a:t>
            </a:r>
            <a:r>
              <a:rPr b="0" i="1" lang="en-US" sz="2100" spc="-1" strike="noStrike">
                <a:solidFill>
                  <a:srgbClr val="ffff00"/>
                </a:solidFill>
                <a:latin typeface="Arial"/>
              </a:rPr>
              <a:t>S. saprophyticus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 but uncommon in other clinically important speci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Organization Chart 7"/>
          <p:cNvGrpSpPr/>
          <p:nvPr/>
        </p:nvGrpSpPr>
        <p:grpSpPr>
          <a:xfrm>
            <a:off x="457200" y="1600200"/>
            <a:ext cx="4330440" cy="2188800"/>
            <a:chOff x="457200" y="1600200"/>
            <a:chExt cx="4330440" cy="2188800"/>
          </a:xfrm>
        </p:grpSpPr>
        <p:cxnSp>
          <p:nvCxnSpPr>
            <p:cNvPr id="287" name="_s7172"/>
            <p:cNvCxnSpPr>
              <a:stCxn id="288" idx="0"/>
              <a:endCxn id="289" idx="2"/>
            </p:cNvCxnSpPr>
            <p:nvPr/>
          </p:nvCxnSpPr>
          <p:spPr>
            <a:xfrm flipV="1" rot="16200000">
              <a:off x="2985840" y="2111040"/>
              <a:ext cx="439200" cy="1166760"/>
            </a:xfrm>
            <a:prstGeom prst="bentConnector3">
              <a:avLst>
                <a:gd name="adj1" fmla="val 217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7173"/>
            <p:cNvCxnSpPr>
              <a:stCxn id="291" idx="0"/>
              <a:endCxn id="289" idx="2"/>
            </p:cNvCxnSpPr>
            <p:nvPr/>
          </p:nvCxnSpPr>
          <p:spPr>
            <a:xfrm flipH="1" flipV="1" rot="5400000">
              <a:off x="1819800" y="2111040"/>
              <a:ext cx="439200" cy="1166760"/>
            </a:xfrm>
            <a:prstGeom prst="bentConnector3">
              <a:avLst>
                <a:gd name="adj1" fmla="val 217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9" name="_s7174"/>
            <p:cNvSpPr/>
            <p:nvPr/>
          </p:nvSpPr>
          <p:spPr>
            <a:xfrm>
              <a:off x="1623240" y="1600200"/>
              <a:ext cx="1998720" cy="8751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Novobiocin tes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7175"/>
            <p:cNvSpPr/>
            <p:nvPr/>
          </p:nvSpPr>
          <p:spPr>
            <a:xfrm>
              <a:off x="457200" y="2913840"/>
              <a:ext cx="1998720" cy="87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Sensiti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Times New Roman"/>
                </a:rPr>
                <a:t>S. aureu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Times New Roman"/>
                </a:rPr>
                <a:t>S. epidermidi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7176"/>
            <p:cNvSpPr/>
            <p:nvPr/>
          </p:nvSpPr>
          <p:spPr>
            <a:xfrm>
              <a:off x="2789280" y="2913840"/>
              <a:ext cx="1998360" cy="87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Resista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Times New Roman"/>
                </a:rPr>
                <a:t>S. saprophyticu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" name="Picture 15" descr="Novobiocin sensitivity"/>
          <p:cNvPicPr/>
          <p:nvPr/>
        </p:nvPicPr>
        <p:blipFill>
          <a:blip r:embed="rId6"/>
          <a:stretch/>
        </p:blipFill>
        <p:spPr>
          <a:xfrm>
            <a:off x="5516640" y="1197000"/>
            <a:ext cx="294300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l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203148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 s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as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nitol fermentation on M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ase Test by Tube and Slide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as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062520" y="188280"/>
            <a:ext cx="27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Gram St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68360" y="112500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 drop of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oop of Bac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4716360" y="177336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700360" y="1413000"/>
            <a:ext cx="1800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624400" y="205992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ean glass sli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479320" y="980280"/>
            <a:ext cx="21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read as a thin lay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587120" y="12675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owed to air dr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4708080" y="19155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xe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130200" y="155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mear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84360" y="2859120"/>
            <a:ext cx="669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turate the smear with </a:t>
            </a:r>
            <a:r>
              <a:rPr b="1" lang="en-US" sz="2000" spc="-1" strike="noStrike" u="sng">
                <a:solidFill>
                  <a:srgbClr val="7b46d0"/>
                </a:solidFill>
                <a:uFillTx/>
                <a:latin typeface="Times New Roman"/>
              </a:rPr>
              <a:t>crystal viole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1 minu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nse the slide gently with wa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turate the smear with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663300"/>
                </a:solidFill>
                <a:uFillTx/>
                <a:latin typeface="Times New Roman"/>
              </a:rPr>
              <a:t>iod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30 Seco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nse the slide gently with wa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oloriz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alcoh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nse the slide gently with wa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turate the sme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afran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1 minu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nse the slide gently with wa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efully blot the slide dry with bibulous pap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serve the slide under the microscop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187280" y="333360"/>
            <a:ext cx="712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5c984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45c984"/>
                </a:solidFill>
                <a:latin typeface="Arial"/>
              </a:rPr>
              <a:t>Gram staining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53960" y="1410840"/>
            <a:ext cx="73332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m positive bacteria will stain </a:t>
            </a:r>
            <a:r>
              <a:rPr b="1" lang="en-US" sz="2400" spc="-1" strike="noStrike" u="sng">
                <a:solidFill>
                  <a:srgbClr val="7b46d0"/>
                </a:solidFill>
                <a:uFillTx/>
                <a:latin typeface="Times New Roman"/>
              </a:rPr>
              <a:t>purple</a:t>
            </a:r>
            <a:r>
              <a:rPr b="1" lang="en-US" sz="2400" spc="-1" strike="noStrike" u="sng">
                <a:solidFill>
                  <a:srgbClr val="7b46d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m negative bacteria will stai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d/pink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m positive bacteria have a thick cell wall made o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Times New Roman"/>
                <a:hlinkClick r:id="rId1"/>
              </a:rPr>
              <a:t>peptidoglyc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as gram negative bacteria have thin layer of peptidoglyc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262520" y="40392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ells Description under the micro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810000" y="14832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ell respon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GV +  or  G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300px-Gram_Stain_Anthrax"/>
          <p:cNvPicPr/>
          <p:nvPr/>
        </p:nvPicPr>
        <p:blipFill>
          <a:blip r:embed="rId1"/>
          <a:stretch/>
        </p:blipFill>
        <p:spPr>
          <a:xfrm>
            <a:off x="1619280" y="2421000"/>
            <a:ext cx="568944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62040" y="134028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ell shape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ng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92720" y="2348280"/>
            <a:ext cx="10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Cocci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976040" y="234936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- Dipl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pe like-Strep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262520" y="40392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ells Description under the micro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300px-Arrangement_of_cocci_bacteria"/>
          <p:cNvPicPr/>
          <p:nvPr/>
        </p:nvPicPr>
        <p:blipFill>
          <a:blip r:embed="rId1"/>
          <a:stretch/>
        </p:blipFill>
        <p:spPr>
          <a:xfrm>
            <a:off x="2124000" y="2924280"/>
            <a:ext cx="475308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95880" y="148320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Ro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hort 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262520" y="40392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ells Description under the micro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280" y="227664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or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E_coli_2000_P7201172"/>
          <p:cNvPicPr/>
          <p:nvPr/>
        </p:nvPicPr>
        <p:blipFill>
          <a:blip r:embed="rId1"/>
          <a:stretch/>
        </p:blipFill>
        <p:spPr>
          <a:xfrm>
            <a:off x="4500720" y="1197000"/>
            <a:ext cx="3887640" cy="2408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Bacillus%20cereus%20fig3"/>
          <p:cNvPicPr/>
          <p:nvPr/>
        </p:nvPicPr>
        <p:blipFill>
          <a:blip r:embed="rId2"/>
          <a:stretch/>
        </p:blipFill>
        <p:spPr>
          <a:xfrm>
            <a:off x="4500720" y="3860640"/>
            <a:ext cx="3879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ification of Bac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Organization Chart 6"/>
          <p:cNvGrpSpPr/>
          <p:nvPr/>
        </p:nvGrpSpPr>
        <p:grpSpPr>
          <a:xfrm>
            <a:off x="457200" y="1600200"/>
            <a:ext cx="8229240" cy="4530240"/>
            <a:chOff x="457200" y="1600200"/>
            <a:chExt cx="8229240" cy="4530240"/>
          </a:xfrm>
        </p:grpSpPr>
        <p:cxnSp>
          <p:nvCxnSpPr>
            <p:cNvPr id="195" name="_s1028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5225040" y="2755800"/>
              <a:ext cx="907560" cy="2216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1029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3009960" y="2756880"/>
              <a:ext cx="907560" cy="221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1030"/>
            <p:cNvSpPr/>
            <p:nvPr/>
          </p:nvSpPr>
          <p:spPr>
            <a:xfrm>
              <a:off x="2671920" y="1600200"/>
              <a:ext cx="3798360" cy="181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imes New Roman"/>
                </a:rPr>
                <a:t>Bacteria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1"/>
            <p:cNvSpPr/>
            <p:nvPr/>
          </p:nvSpPr>
          <p:spPr>
            <a:xfrm>
              <a:off x="457200" y="4318560"/>
              <a:ext cx="3798720" cy="1811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Times New Roman"/>
                </a:rPr>
                <a:t>Gram-Positive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1032"/>
            <p:cNvSpPr/>
            <p:nvPr/>
          </p:nvSpPr>
          <p:spPr>
            <a:xfrm>
              <a:off x="4887720" y="4318560"/>
              <a:ext cx="37987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Times New Roman"/>
                </a:rPr>
                <a:t>Gram-negative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am-Positive Bac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Organization Chart 6"/>
          <p:cNvGrpSpPr/>
          <p:nvPr/>
        </p:nvGrpSpPr>
        <p:grpSpPr>
          <a:xfrm>
            <a:off x="457200" y="1600200"/>
            <a:ext cx="8229240" cy="4530240"/>
            <a:chOff x="457200" y="1600200"/>
            <a:chExt cx="8229240" cy="4530240"/>
          </a:xfrm>
        </p:grpSpPr>
        <p:cxnSp>
          <p:nvCxnSpPr>
            <p:cNvPr id="202" name="_s2052"/>
            <p:cNvCxnSpPr>
              <a:stCxn id="203" idx="0"/>
              <a:endCxn id="204" idx="2"/>
            </p:cNvCxnSpPr>
            <p:nvPr/>
          </p:nvCxnSpPr>
          <p:spPr>
            <a:xfrm flipV="1" rot="16200000">
              <a:off x="4335840" y="4277520"/>
              <a:ext cx="412920" cy="1648440"/>
            </a:xfrm>
            <a:prstGeom prst="bentConnector3">
              <a:avLst>
                <a:gd name="adj1" fmla="val 2766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5" name="_s2053"/>
            <p:cNvCxnSpPr>
              <a:stCxn id="206" idx="0"/>
              <a:endCxn id="204" idx="2"/>
            </p:cNvCxnSpPr>
            <p:nvPr/>
          </p:nvCxnSpPr>
          <p:spPr>
            <a:xfrm flipH="1" flipV="1" rot="5400000">
              <a:off x="2701440" y="4290840"/>
              <a:ext cx="412920" cy="1622160"/>
            </a:xfrm>
            <a:prstGeom prst="bentConnector3">
              <a:avLst>
                <a:gd name="adj1" fmla="val 2766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7" name="_s2054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6120360" y="2996640"/>
              <a:ext cx="414000" cy="1739880"/>
            </a:xfrm>
            <a:prstGeom prst="bentConnector3">
              <a:avLst>
                <a:gd name="adj1" fmla="val 2767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10" name="_s2055"/>
            <p:cNvCxnSpPr>
              <a:stCxn id="204" idx="0"/>
              <a:endCxn id="209" idx="2"/>
            </p:cNvCxnSpPr>
            <p:nvPr/>
          </p:nvCxnSpPr>
          <p:spPr>
            <a:xfrm flipH="1" flipV="1" rot="5400000">
              <a:off x="4381200" y="2997000"/>
              <a:ext cx="414000" cy="1739520"/>
            </a:xfrm>
            <a:prstGeom prst="bentConnector3">
              <a:avLst>
                <a:gd name="adj1" fmla="val 2767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11" name="_s2056"/>
            <p:cNvCxnSpPr>
              <a:stCxn id="209" idx="0"/>
              <a:endCxn id="212" idx="2"/>
            </p:cNvCxnSpPr>
            <p:nvPr/>
          </p:nvCxnSpPr>
          <p:spPr>
            <a:xfrm flipV="1" rot="16200000">
              <a:off x="4382280" y="1758600"/>
              <a:ext cx="411840" cy="1739520"/>
            </a:xfrm>
            <a:prstGeom prst="bentConnector3">
              <a:avLst>
                <a:gd name="adj1" fmla="val 277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13" name="_s2057"/>
            <p:cNvCxnSpPr>
              <a:stCxn id="214" idx="0"/>
              <a:endCxn id="212" idx="2"/>
            </p:cNvCxnSpPr>
            <p:nvPr/>
          </p:nvCxnSpPr>
          <p:spPr>
            <a:xfrm flipH="1" flipV="1" rot="5400000">
              <a:off x="2626920" y="1742760"/>
              <a:ext cx="411840" cy="1771560"/>
            </a:xfrm>
            <a:prstGeom prst="bentConnector3">
              <a:avLst>
                <a:gd name="adj1" fmla="val 277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12" name="_s2058"/>
            <p:cNvSpPr/>
            <p:nvPr/>
          </p:nvSpPr>
          <p:spPr>
            <a:xfrm>
              <a:off x="1332720" y="1600200"/>
              <a:ext cx="4770360" cy="822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Times New Roman"/>
                </a:rPr>
                <a:t>I- Gram Positive bacteria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2059"/>
            <p:cNvSpPr/>
            <p:nvPr/>
          </p:nvSpPr>
          <p:spPr>
            <a:xfrm>
              <a:off x="457200" y="2835720"/>
              <a:ext cx="2981160" cy="82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A- Gram positive cocc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_s2060"/>
            <p:cNvSpPr/>
            <p:nvPr/>
          </p:nvSpPr>
          <p:spPr>
            <a:xfrm>
              <a:off x="3935520" y="2835720"/>
              <a:ext cx="3043440" cy="82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B- Gram positive rod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2061"/>
            <p:cNvSpPr/>
            <p:nvPr/>
          </p:nvSpPr>
          <p:spPr>
            <a:xfrm>
              <a:off x="2228040" y="4072680"/>
              <a:ext cx="2980800" cy="822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pore-forming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2062"/>
            <p:cNvSpPr/>
            <p:nvPr/>
          </p:nvSpPr>
          <p:spPr>
            <a:xfrm>
              <a:off x="5706360" y="4072680"/>
              <a:ext cx="2980080" cy="82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Non spore-forming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Corynebacterium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2063"/>
            <p:cNvSpPr/>
            <p:nvPr/>
          </p:nvSpPr>
          <p:spPr>
            <a:xfrm>
              <a:off x="696240" y="5308200"/>
              <a:ext cx="2798640" cy="82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erobi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Bacillus anthrac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_s2064"/>
            <p:cNvSpPr/>
            <p:nvPr/>
          </p:nvSpPr>
          <p:spPr>
            <a:xfrm>
              <a:off x="3992400" y="5308200"/>
              <a:ext cx="2748600" cy="82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aerobi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Clostridiu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9:22:38Z</dcterms:created>
  <dc:creator>User</dc:creator>
  <dc:description/>
  <dc:language>en-US</dc:language>
  <cp:lastModifiedBy>Toshiba</cp:lastModifiedBy>
  <dcterms:modified xsi:type="dcterms:W3CDTF">2014-02-04T16:46:04Z</dcterms:modified>
  <cp:revision>37</cp:revision>
  <dc:subject/>
  <dc:title>Practical Medical Microbiology PHT382</dc:title>
</cp:coreProperties>
</file>