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B3B-BA9C-4178-831F-03170358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20FF-C833-4F3F-8C57-71B159737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DF8-1383-4206-8680-4F355A1F3A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0A2-D8F6-401E-A493-B5FC3DEF74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DE79-44EB-4030-9DB7-5603B41CF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8A8-9F59-43CB-8AD8-468A0EE31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C9BE-1849-424A-B962-E44117662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F782-E8EE-4851-A090-4CC2D032B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5BA5-8CDF-458A-8CE8-4E69B7E34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E1A9-6FE7-4629-851D-F1E8EE8CB4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CC9-A49D-499F-ACD1-FBE81290B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ED69-9C9F-4577-B81C-186A0813B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311-D1A4-4FCA-B69B-0A8A86F8C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611-B6A8-47B7-AFC2-C53FF0742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C36-C2A9-48E1-A8A6-72527080A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C79-7C54-46E0-8268-F8AA5177F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172-6146-46A7-8C2E-BF5F0FD8C1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F9A-67DE-4499-A76F-C864536E6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6C7-8890-4FA1-9D6B-26D38EF59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16E1-A7C5-4E5C-9D32-CC3F9397AC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EFC-BC58-47F9-A72C-18192C88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DA1-4E79-43E9-B274-8C8CD76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EF9-EE4D-4D5E-8426-C5DB49E9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226-5CC4-4946-BFBA-8E78BFCA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0803-CCC6-409E-84D0-48036C06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58D1-631E-4BB0-B7D6-08BF7D4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0D7A-59CF-4403-B310-4F8BC9E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A65-382D-4527-8C01-0EC2161A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652-AC53-4918-AB2F-BBE0E012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D908-7ACD-4883-AEF8-3D297CFE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089C-C570-4BBF-903F-1E74581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C2C-DA0F-4AA3-BFB7-58FE0F6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88F6-D9E8-429B-9D92-EE169A5F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1E1E-5268-4EC0-B3DE-32740CB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D638-3CFE-4837-8A92-4DD079D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9307-234F-4679-A813-D9E302F6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74B-82C6-49F3-8338-CE71F041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7851-BF2A-47AB-8F08-4015D34A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51F5-B6E0-40B4-B009-78CDE22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0F2C-D769-4814-9F94-28788ED1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B1E6-6EC2-4C98-8EAE-992459C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8D9F-18AA-4602-B64C-5F1439E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027-980C-4B84-A9BE-F8D6C30E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8B61-9587-4D19-8F1B-472FBE0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BAF0-A6DE-4389-8A74-280C815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F3A0-3B87-4AD5-BDB8-AE09ACA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1BA2-594A-4A36-A9B2-A1927AD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97F3-7ABD-4A65-9F0D-E962E43C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F983-CE49-4642-AD21-1139BB88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1961-29D7-403B-956A-43465A3C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9D10-EF96-4957-8A89-495638EE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8D71-61F7-41F5-B3DF-54346743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D7AA-276C-4CC4-AC23-2A0A1CB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357-0A23-406B-8692-2A6FD06E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EA4A-936B-4D28-A47C-2228924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C70F-B9B1-4E6A-8FBC-027EAAD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6299-8B43-4979-858C-D3858F83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614B-C584-4F4E-8042-C4E4A0D2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FD68-53EA-491B-95DB-D17FEA0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EA45-A12F-43F4-BC48-AA1DEFF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8896-31F5-4C16-8374-ABEE9B2B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FF0D-31F1-4EA2-B9BF-BBBC4273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9225-738D-4A42-B3E0-58E503C0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49CE-ECCC-49F0-98B0-5F97C232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374-8027-47A5-99E3-0D03305A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A90F-A30C-4FDA-84A5-C1FC6CE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DEDE-F16E-463A-BBD7-3D51B6C9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36FF-4413-44FA-9336-4EB1ACC2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F2A8-E623-4C29-BE93-9DCAA384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DF6C-3209-407B-BA69-BBC014E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1065-B852-49FA-B791-2C0AA78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D03D-BDFE-4778-A999-C9BEF3B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0AAC-2921-40B0-963F-87B8DAE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6738-2411-4FDD-ABBF-400C775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E1DE-21BC-4DEA-BAE8-C02A3D9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4E1-88E0-40F9-BB21-2C76D1A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EE4D-1980-4E42-BD50-37A5970A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325DA-0101-4E7E-8DAA-89D82A2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7F15-2630-4061-8A6D-6959152A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E18C-A8AF-4812-89AC-AA186113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69E5F-815A-428B-8FC4-DBFEC71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6F80-8780-4321-A706-FF3585FA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3D6F-6A45-4F71-B92E-1DB9FA2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E8FB-658F-4CFC-B84F-F5F4F87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3D3D3-D4BE-4EEE-ABD6-D02C80B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6ED38-0CA7-4692-9B20-F26FCBB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458-E6B3-4027-8DF2-6D01ADC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AFE58-2B51-4579-B106-AE5AF07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9FA6-4BC6-47A4-B5F6-460DA1F2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39560-A2CF-4994-929B-AE89BA5D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4167-F6A2-41F6-AA1D-8D3BCCF5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FB3F9-A526-438F-A2A0-69FC95E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7F20-08B4-4BB5-9D7F-390543E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9C2C-F963-4719-A71D-DBBE8284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CB116-73DA-409F-95AB-F64774C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EDCD-8D1B-4836-A8DB-7DCDFF2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1EE2C-F24D-40CA-977A-8A3FB84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BD2-208B-4773-A6E8-7348528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FEC3-5DFD-4196-B90C-952764E9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39D8-6B37-434D-8C98-5A63FF8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D37F-B33F-4030-BBD3-9FB2327D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B6B3-4144-4013-AD4D-2A46D53A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D2881-526E-4273-BEEE-1452FFE4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CC3-9DBE-450E-BA2D-416E977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F99-DA6E-4DF0-B59B-85358EC30C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6BE5-00D7-46B4-8900-6999521545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4273-FAB3-4223-B38A-7BAA9944CA0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227-E12C-4229-8264-35CF42C6AD4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7586-DF92-4EE3-A4EC-95F17AA77A0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A20E-2A9F-4FC5-953B-D9F564C875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A39C-7BDA-4BB1-8E50-C8E5A6F30C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14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15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9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9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9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9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lama</cp:lastModifiedBy>
  <dcterms:modified xsi:type="dcterms:W3CDTF">2012-05-07T16:34:30Z</dcterms:modified>
  <cp:revision>170</cp:revision>
  <dc:subject/>
  <dc:title>Slide 1</dc:title>
</cp:coreProperties>
</file>