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9EF3-7FE2-45FC-BD0F-B704F2E20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3DC8-CE8F-42A9-8383-FAAFF4AB92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47F3-55D3-447E-8F60-629E297A95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7225-5CC8-4D91-A585-A327EE3217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96AF-E921-4028-817A-9843FD6FDD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369B-9875-4C29-8C48-78EC816B60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1D12-A8F7-4934-9BB5-185BE30095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296D-CFBA-4F91-A6E0-1F550EC0D8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C846-3A01-465F-92B8-4DF3FDADC8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20C9-D94E-4E2D-9F12-D52360A1BF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0C20-2ABA-4CAE-A7C4-F4390716E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B3C5-3F8D-4F04-BF7B-86CF2F62C1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F063-2100-4D2D-BB04-FB0F019564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63CC-7143-4C5C-97CF-FD63F647B0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4A44-7274-4D44-8C35-A506A6F947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32AB-2DA0-4416-99EC-AB61DFB6BE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3807-971B-4711-88B0-E144FCCDB4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36C8-8C00-451E-82C6-FF08B5C9DD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53F6-79AE-479F-8F71-3DBDF35A94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F1CF-707B-4512-AB18-51B164A67F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CB9-204E-456F-AA1F-D8D53903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6DC6-599A-46AE-8813-09A0E64D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5F5-FA78-40DA-8E10-72E7C9C7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A4C9-CDF3-435B-A61D-2D32B6A8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6F31-7937-4CB6-8E19-9A419B76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9322-D47F-4904-AA7F-6636BB0A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C356-B211-4B72-B733-AD5405A1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5E6A-2E1F-4B4B-B74A-68594248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A54A-1AC9-4E63-86F9-30EAD741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FBA8-2160-4633-9E8D-450A97ED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61D6-9B4E-4F8B-94B0-FCC2A895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EF9-DF60-4BC4-8D67-7A0EBB55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A0F4-2E67-4782-A097-F2F035DD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F7C7-4CC9-44CD-9C47-4BF8A7EC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183C-F10D-42CC-8155-D06F482F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CE65-C5E0-47F9-B129-34F3C167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1287-FF43-450D-9A13-7C33C5C5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963A7-4C0D-4B53-BA47-F5F9F3D6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DABFD-F28C-4DC3-86B5-9B0F5677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25ED-5E7B-4D47-969E-7D59089C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FA981-A140-46EE-98DB-681956E3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9DE8-B202-4EC6-967E-2091C7F3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C4F-4DA6-47D4-A873-92F3A6F9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A21C3-0E6C-4625-BAB3-C41067B8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1BE1D-72C7-49A7-B4FD-83CD57C6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0006E-7CE7-45EF-948E-F1570535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798F5-9EE9-46D9-B20C-CC114BF4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E3F9B-5D7C-4352-B789-1F906545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083D-435E-43A2-8FEF-54FCE542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7AEB-A3FB-446C-B042-1F086401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69008-4517-465D-BE6B-C4387735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92149-4EF3-481B-8F68-1B90913D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1D425-DAF5-40B3-B47B-60073305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E45-5747-4115-8250-9FD825DE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44AF2-A6E8-439B-915F-C867FFB3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F4D06-297D-4233-A14F-46824A4C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FB978-1C05-42B5-97A0-4445C78E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4CF9C-D729-4C8D-9AE8-FC1CB34C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75FCE-1A92-46E0-8702-3681C9C2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8BD15-8EC0-45A0-A75B-6EFD052A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440B-8FE3-4391-AD18-AFC0A905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1205F-F325-47BA-A975-7415B7C1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C236-73CB-49ED-93A4-22928FCB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6B4C7-8D94-421E-8A9A-6BBE82D0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B50-7137-4DDB-970F-0A88ED5D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20088-CDAC-4204-90C4-F902FBE7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9BFB-58FB-4000-A6C4-A6A45B39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E3610-FE86-4C10-83B3-4D98054F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EED20-FE8E-4BC0-9B55-BAFED60F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2130A-9D0F-4B00-AEC9-D9D2AF56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77042-F121-4ADD-8653-39694F1A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C4FA2-1701-4703-81CC-16636934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29B8E-EA94-42C5-A607-521B48FB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3079C-656C-401E-B454-3FBAD15E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9F21A-63BC-4FAC-8678-1ABDA3DC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7FC-6659-45BE-A031-EB32A478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84BE3-2FDF-4D0B-84C8-2F6E2A41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FEDCB-A910-4C6A-B364-2D3725E3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0630C-61CA-41C9-BA21-9A4A4E8F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558F2-C1E4-4D2A-8E47-1794741C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0D46E-A89A-4C87-9DA9-9331348D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5FDAD-2924-45C2-8751-07E09D03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31648-4F87-4A1B-B3DF-25A8AB8B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6A891-D169-4AB6-82EE-5467A60B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16064-44E4-48EF-8A05-7DA4BCC0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01D32-BD3F-477C-83B9-E5D30EF9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715-866F-4E21-A85D-029B1556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3C737-D2BD-4463-BA9B-E293F907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70DD2-C612-4294-B53D-921B6E77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20003-596D-4E57-9368-D4C37A99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5F1D6-9BD1-4AB5-8761-C4498736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9F029-DAA9-4B5F-B544-6C2E394E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CCB45-4357-481E-B13A-D3EC6C53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14FB8-695E-4320-A94A-BBE2A36F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882FE-D0CC-458B-BCFF-FF0DA1F0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D73F4-CE6F-4037-AEDE-AFD3B892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72980-6596-4826-981F-C27CF544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F4F-8E61-4B3B-9340-D9D0B3FE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3FB54-49A6-459E-819F-35AD6670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FD9D7-21AA-4236-889C-E8787CBC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57C04-8F60-4204-A097-4895EE2D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166DA-9D7E-4FA4-906F-E21EE5D5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43B2E-3BDE-4983-9470-2B2A7A4D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A6E-9650-468D-9BC9-EC3B8E0A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125A-8327-459E-AE06-E1CDF7FA6F8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58E8-3FFF-4301-ABE1-685E4B578FC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7D5D-968F-46D6-ACCA-1256CF9851E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A78B-E8A0-4439-9A1F-6FB753B0366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5BEB-ECA9-4122-9FDE-2C95B8E802F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2B7A-8CC6-4D0C-AE29-F102856E45C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1680" y="12175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1680" y="12823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4680" y="137016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4680" y="143496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6560" y="14731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6560" y="15379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A7C4-E55F-4D7C-B3D4-1AA1870F6DC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How to prepare standard inoculum size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ndard inoculum should have turbidity equivalent to 0.5 McFarland standar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hould be from a freshly overnight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McFaraland: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are made by dissolving barium sulphate in water with different concentra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.5 McFaraland have a turbidity equivalent to 1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biotic Sensitivity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273af"/>
                </a:solidFill>
                <a:uFillTx/>
                <a:latin typeface="Corbel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1)   Broth dilutio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2)   Agar diffusion (solid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a)   Kirby-Bauer test (= disc test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 b)  Stock’s method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rbel"/>
              </a:rPr>
              <a:t>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antibiotic</a:t>
            </a: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dilution seri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rbel"/>
              </a:rPr>
              <a:t>       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bacterial suspensio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standard amoun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growth 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Line 9"/>
          <p:cNvSpPr/>
          <p:nvPr/>
        </p:nvSpPr>
        <p:spPr>
          <a:xfrm>
            <a:off x="2209680" y="4419720"/>
            <a:ext cx="0" cy="609480"/>
          </a:xfrm>
          <a:prstGeom prst="line">
            <a:avLst/>
          </a:prstGeom>
          <a:ln w="57240">
            <a:solidFill>
              <a:srgbClr val="d6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6" descr="mic_macdil_tet-72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18000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14" name="Picture 7" descr="mic_macrodil_tet_break-200"/>
          <p:cNvPicPr/>
          <p:nvPr/>
        </p:nvPicPr>
        <p:blipFill>
          <a:blip r:embed="rId2"/>
          <a:stretch/>
        </p:blipFill>
        <p:spPr>
          <a:xfrm>
            <a:off x="6324480" y="3657600"/>
            <a:ext cx="2133720" cy="3011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sp>
        <p:nvSpPr>
          <p:cNvPr id="415" name="TextBox 6"/>
          <p:cNvSpPr/>
          <p:nvPr/>
        </p:nvSpPr>
        <p:spPr>
          <a:xfrm>
            <a:off x="3049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MIC – minimal inhibitory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Inhibitory Concentration MI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stop growth of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Bactericidal Concentration MB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kill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pare 2 sets of 9 sterile tub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broth in each tub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antibiotic of interest in tube #1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tube #1 &amp; add to next tube &amp; so on tell tube #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ube #8 &amp; discard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1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est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1 using a pastuer pipet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one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2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cubate 24 hr  x  37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C </a:t>
            </a:r>
            <a:r>
              <a:rPr b="0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t tube showing no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Tube #9 has no antibiotic </a:t>
            </a:r>
            <a:r>
              <a:rPr b="0" lang="en-US" sz="3000" spc="-1" strike="noStrike">
                <a:solidFill>
                  <a:srgbClr val="c5f3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 has to be turbi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Flowchart: Magnetic Disk 5"/>
          <p:cNvSpPr/>
          <p:nvPr/>
        </p:nvSpPr>
        <p:spPr>
          <a:xfrm>
            <a:off x="23623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Flowchart: Magnetic Disk 7"/>
          <p:cNvSpPr/>
          <p:nvPr/>
        </p:nvSpPr>
        <p:spPr>
          <a:xfrm>
            <a:off x="16765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Flowchart: Magnetic Disk 8"/>
          <p:cNvSpPr/>
          <p:nvPr/>
        </p:nvSpPr>
        <p:spPr>
          <a:xfrm>
            <a:off x="9144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Flowchart: Magnetic Disk 9"/>
          <p:cNvSpPr/>
          <p:nvPr/>
        </p:nvSpPr>
        <p:spPr>
          <a:xfrm>
            <a:off x="31240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lowchart: Magnetic Disk 10"/>
          <p:cNvSpPr/>
          <p:nvPr/>
        </p:nvSpPr>
        <p:spPr>
          <a:xfrm>
            <a:off x="38098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Flowchart: Magnetic Disk 11"/>
          <p:cNvSpPr/>
          <p:nvPr/>
        </p:nvSpPr>
        <p:spPr>
          <a:xfrm>
            <a:off x="44956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Flowchart: Magnetic Disk 12"/>
          <p:cNvSpPr/>
          <p:nvPr/>
        </p:nvSpPr>
        <p:spPr>
          <a:xfrm>
            <a:off x="51814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Flowchart: Magnetic Disk 13"/>
          <p:cNvSpPr/>
          <p:nvPr/>
        </p:nvSpPr>
        <p:spPr>
          <a:xfrm>
            <a:off x="59436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lowchart: Magnetic Disk 14"/>
          <p:cNvSpPr/>
          <p:nvPr/>
        </p:nvSpPr>
        <p:spPr>
          <a:xfrm>
            <a:off x="67057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3" name="Straight Arrow Connector 16"/>
          <p:cNvCxnSpPr/>
          <p:nvPr/>
        </p:nvCxnSpPr>
        <p:spPr>
          <a:xfrm flipH="1">
            <a:off x="6933600" y="2057040"/>
            <a:ext cx="61020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34" name="TextBox 18"/>
          <p:cNvSpPr/>
          <p:nvPr/>
        </p:nvSpPr>
        <p:spPr>
          <a:xfrm>
            <a:off x="160308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Box 22"/>
          <p:cNvSpPr/>
          <p:nvPr/>
        </p:nvSpPr>
        <p:spPr>
          <a:xfrm>
            <a:off x="84096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23"/>
          <p:cNvSpPr/>
          <p:nvPr/>
        </p:nvSpPr>
        <p:spPr>
          <a:xfrm>
            <a:off x="30510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24"/>
          <p:cNvSpPr/>
          <p:nvPr/>
        </p:nvSpPr>
        <p:spPr>
          <a:xfrm>
            <a:off x="37368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25"/>
          <p:cNvSpPr/>
          <p:nvPr/>
        </p:nvSpPr>
        <p:spPr>
          <a:xfrm>
            <a:off x="4422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26"/>
          <p:cNvSpPr/>
          <p:nvPr/>
        </p:nvSpPr>
        <p:spPr>
          <a:xfrm>
            <a:off x="51843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27"/>
          <p:cNvSpPr/>
          <p:nvPr/>
        </p:nvSpPr>
        <p:spPr>
          <a:xfrm>
            <a:off x="58701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28"/>
          <p:cNvSpPr/>
          <p:nvPr/>
        </p:nvSpPr>
        <p:spPr>
          <a:xfrm>
            <a:off x="66322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30"/>
          <p:cNvSpPr/>
          <p:nvPr/>
        </p:nvSpPr>
        <p:spPr>
          <a:xfrm>
            <a:off x="22888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33"/>
          <p:cNvSpPr/>
          <p:nvPr/>
        </p:nvSpPr>
        <p:spPr>
          <a:xfrm>
            <a:off x="7416720" y="17524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Control tu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Only organis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Straight Connector 35"/>
          <p:cNvSpPr/>
          <p:nvPr/>
        </p:nvSpPr>
        <p:spPr>
          <a:xfrm>
            <a:off x="9144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Straight Connector 38"/>
          <p:cNvSpPr/>
          <p:nvPr/>
        </p:nvSpPr>
        <p:spPr>
          <a:xfrm>
            <a:off x="23623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traight Connector 39"/>
          <p:cNvSpPr/>
          <p:nvPr/>
        </p:nvSpPr>
        <p:spPr>
          <a:xfrm>
            <a:off x="31240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Straight Connector 40"/>
          <p:cNvSpPr/>
          <p:nvPr/>
        </p:nvSpPr>
        <p:spPr>
          <a:xfrm>
            <a:off x="38098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Straight Connector 41"/>
          <p:cNvSpPr/>
          <p:nvPr/>
        </p:nvSpPr>
        <p:spPr>
          <a:xfrm>
            <a:off x="44956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Straight Connector 42"/>
          <p:cNvSpPr/>
          <p:nvPr/>
        </p:nvSpPr>
        <p:spPr>
          <a:xfrm>
            <a:off x="51814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traight Connector 43"/>
          <p:cNvSpPr/>
          <p:nvPr/>
        </p:nvSpPr>
        <p:spPr>
          <a:xfrm>
            <a:off x="59436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Straight Connector 44"/>
          <p:cNvSpPr/>
          <p:nvPr/>
        </p:nvSpPr>
        <p:spPr>
          <a:xfrm>
            <a:off x="67057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traight Connector 45"/>
          <p:cNvSpPr/>
          <p:nvPr/>
        </p:nvSpPr>
        <p:spPr>
          <a:xfrm>
            <a:off x="16765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Flowchart: Preparation 49"/>
          <p:cNvSpPr/>
          <p:nvPr/>
        </p:nvSpPr>
        <p:spPr>
          <a:xfrm rot="5400000">
            <a:off x="43459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Flowchart: Preparation 50"/>
          <p:cNvSpPr/>
          <p:nvPr/>
        </p:nvSpPr>
        <p:spPr>
          <a:xfrm rot="5400000">
            <a:off x="50317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Flowchart: Preparation 51"/>
          <p:cNvSpPr/>
          <p:nvPr/>
        </p:nvSpPr>
        <p:spPr>
          <a:xfrm rot="5400000">
            <a:off x="579384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Flowchart: Preparation 52"/>
          <p:cNvSpPr/>
          <p:nvPr/>
        </p:nvSpPr>
        <p:spPr>
          <a:xfrm rot="5400000">
            <a:off x="6556320" y="4187880"/>
            <a:ext cx="603360" cy="30456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lowchart: Preparation 53"/>
          <p:cNvSpPr/>
          <p:nvPr/>
        </p:nvSpPr>
        <p:spPr>
          <a:xfrm rot="5400000">
            <a:off x="36601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Box 54"/>
          <p:cNvSpPr/>
          <p:nvPr/>
        </p:nvSpPr>
        <p:spPr>
          <a:xfrm>
            <a:off x="553320" y="518148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Box 55"/>
          <p:cNvSpPr/>
          <p:nvPr/>
        </p:nvSpPr>
        <p:spPr>
          <a:xfrm>
            <a:off x="1986480" y="518148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1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56"/>
          <p:cNvSpPr/>
          <p:nvPr/>
        </p:nvSpPr>
        <p:spPr>
          <a:xfrm>
            <a:off x="2748600" y="54100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6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57"/>
          <p:cNvSpPr/>
          <p:nvPr/>
        </p:nvSpPr>
        <p:spPr>
          <a:xfrm>
            <a:off x="3510720" y="51814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312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58"/>
          <p:cNvSpPr/>
          <p:nvPr/>
        </p:nvSpPr>
        <p:spPr>
          <a:xfrm>
            <a:off x="4120200" y="54864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156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Box 60"/>
          <p:cNvSpPr/>
          <p:nvPr/>
        </p:nvSpPr>
        <p:spPr>
          <a:xfrm>
            <a:off x="1299960" y="54100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25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Trouble shooting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turbid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started with low antibiotic conc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resistant organ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antibiotic not work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clear except tube #9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 Started with high antibiotic conc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I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The  more resistant the organism is </a:t>
            </a:r>
            <a:r>
              <a:rPr b="0" i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   the higher the M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B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 ; And its </a:t>
            </a:r>
            <a:r>
              <a:rPr b="0" lang="en-US" sz="3000" spc="-1" strike="noStrike">
                <a:solidFill>
                  <a:srgbClr val="a7d6ff"/>
                </a:solidFill>
                <a:latin typeface="Corbel"/>
              </a:rPr>
              <a:t>subculture have no growth on  pla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m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c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rob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al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 Thera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273af"/>
                </a:solidFill>
                <a:latin typeface="Corbel"/>
              </a:rPr>
              <a:t>Natural antibiotic agents:</a:t>
            </a:r>
            <a:r>
              <a:rPr b="0" lang="en-GB" sz="2800" spc="-1" strike="noStrike">
                <a:solidFill>
                  <a:srgbClr val="f273a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7a1ca"/>
                </a:solidFill>
                <a:latin typeface="Corbel"/>
              </a:rPr>
              <a:t>Produced by microorganisms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1b6ff"/>
                </a:solidFill>
                <a:latin typeface="Corbel"/>
              </a:rPr>
              <a:t>Penicillium notatum</a:t>
            </a:r>
            <a:r>
              <a:rPr b="0" lang="en-GB" sz="2600" spc="-1" strike="noStrike">
                <a:solidFill>
                  <a:srgbClr val="ff0066"/>
                </a:solidFill>
                <a:latin typeface="Corbel"/>
              </a:rPr>
              <a:t> </a:t>
            </a: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– penicillin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emi-synthetic antibiotic agents:</a:t>
            </a:r>
            <a:r>
              <a:rPr b="0" lang="en-GB" sz="2800" spc="-1" strike="noStrike">
                <a:solidFill>
                  <a:srgbClr val="f7a1ca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modified natural agents (large group of modern antibiotic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ynthetic antibiotic agent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related to natural antibiotics but completely industrially manufactur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MIC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Content Placeholder 3" descr="MIC FIGUR.gif"/>
          <p:cNvPicPr/>
          <p:nvPr/>
        </p:nvPicPr>
        <p:blipFill>
          <a:blip r:embed="rId1"/>
          <a:srcRect l="0" t="0" r="22667" b="0"/>
          <a:stretch/>
        </p:blipFill>
        <p:spPr>
          <a:xfrm>
            <a:off x="0" y="1676520"/>
            <a:ext cx="9120240" cy="481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0" name="Rectangle 15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16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157a"/>
                </a:solidFill>
                <a:latin typeface="Consolas"/>
              </a:rPr>
              <a:t>MBC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4" name="Content Placeholder 3" descr="mbc figur.gif"/>
          <p:cNvPicPr/>
          <p:nvPr/>
        </p:nvPicPr>
        <p:blipFill>
          <a:blip r:embed="rId1"/>
          <a:srcRect l="0" t="0" r="22790" b="0"/>
          <a:stretch/>
        </p:blipFill>
        <p:spPr>
          <a:xfrm>
            <a:off x="0" y="1600200"/>
            <a:ext cx="9144000" cy="483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5" name="Rectangle 4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5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Etest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strip test)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79" name="Picture 8" descr="mic_etest-72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359424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80" name="Picture 6" descr="mic_etest_close-200"/>
          <p:cNvPicPr/>
          <p:nvPr/>
        </p:nvPicPr>
        <p:blipFill>
          <a:blip r:embed="rId2"/>
          <a:stretch/>
        </p:blipFill>
        <p:spPr>
          <a:xfrm>
            <a:off x="4876920" y="1752480"/>
            <a:ext cx="1770120" cy="366552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81" name="Picture 7" descr="mic_etest_menisc-400"/>
          <p:cNvPicPr/>
          <p:nvPr/>
        </p:nvPicPr>
        <p:blipFill>
          <a:blip r:embed="rId3"/>
          <a:stretch/>
        </p:blipFill>
        <p:spPr>
          <a:xfrm>
            <a:off x="6858000" y="2743200"/>
            <a:ext cx="2021040" cy="17859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82" name="Picture 2" descr=""/>
          <p:cNvPicPr/>
          <p:nvPr/>
        </p:nvPicPr>
        <p:blipFill>
          <a:blip r:embed="rId4"/>
          <a:stretch/>
        </p:blipFill>
        <p:spPr>
          <a:xfrm>
            <a:off x="6781680" y="22860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Microsca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64760" y="1770120"/>
            <a:ext cx="479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standard size microtiter tra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ection of growt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hoto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24 h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luori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short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ata managed using computer-based algorithm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1"/>
          <a:srcRect l="3564" t="39235" r="83159" b="38143"/>
          <a:stretch/>
        </p:blipFill>
        <p:spPr>
          <a:xfrm>
            <a:off x="5638680" y="1676520"/>
            <a:ext cx="2819520" cy="22096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86" name="Content Placeholder 5" descr=""/>
          <p:cNvPicPr/>
          <p:nvPr/>
        </p:nvPicPr>
        <p:blipFill>
          <a:blip r:embed="rId2"/>
          <a:srcRect l="17432" t="39235" r="69214" b="38143"/>
          <a:stretch/>
        </p:blipFill>
        <p:spPr>
          <a:xfrm>
            <a:off x="5638680" y="4191120"/>
            <a:ext cx="2819520" cy="19810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87" name="Picture 2" descr=""/>
          <p:cNvPicPr/>
          <p:nvPr/>
        </p:nvPicPr>
        <p:blipFill>
          <a:blip r:embed="rId3"/>
          <a:stretch/>
        </p:blipFill>
        <p:spPr>
          <a:xfrm>
            <a:off x="35812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Phoenix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4760" y="1770120"/>
            <a:ext cx="441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roth Microdilution tes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growth detection it usese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dox indicator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acterial turbidity testin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0" name="Content Placeholder 4" descr=""/>
          <p:cNvPicPr/>
          <p:nvPr/>
        </p:nvPicPr>
        <p:blipFill>
          <a:blip r:embed="rId1"/>
          <a:srcRect l="17585" t="65818" r="72178" b="12195"/>
          <a:stretch/>
        </p:blipFill>
        <p:spPr>
          <a:xfrm>
            <a:off x="5410080" y="3505320"/>
            <a:ext cx="2878200" cy="274320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91" name="Picture 2" descr="http://www.bd.com/ds/images/products/img_phoenix-panels_100px.jpg"/>
          <p:cNvPicPr/>
          <p:nvPr/>
        </p:nvPicPr>
        <p:blipFill>
          <a:blip r:embed="rId2"/>
          <a:stretch/>
        </p:blipFill>
        <p:spPr>
          <a:xfrm>
            <a:off x="5867280" y="1600200"/>
            <a:ext cx="1968480" cy="17524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492" name="Picture 2" descr=""/>
          <p:cNvPicPr/>
          <p:nvPr/>
        </p:nvPicPr>
        <p:blipFill>
          <a:blip r:embed="rId3"/>
          <a:stretch/>
        </p:blipFill>
        <p:spPr>
          <a:xfrm>
            <a:off x="3809880" y="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Vite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thin plastic card, comprising 30 well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linked by capillari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acterial suspension will rehydrate reagent in well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rowth determined turbidometrically every 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for 15 h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an test up to 20 antibiotic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95" name="Content Placeholder 4" descr="http://tbn2.google.com/images?q=tbn:KyB6geVMIvOXHM:http://www.biomerieux-usa.com/images/products/vitek2/three_cards.jpg"/>
          <p:cNvPicPr/>
          <p:nvPr/>
        </p:nvPicPr>
        <p:blipFill>
          <a:blip r:embed="rId1"/>
          <a:stretch/>
        </p:blipFill>
        <p:spPr>
          <a:xfrm>
            <a:off x="5562720" y="1371600"/>
            <a:ext cx="2286000" cy="19810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96" name="Picture 5" descr="http://tbn1.google.com/images?q=tbn:x7LF9nF86AWaPM:http://www.clpmag.com/issues/images/2007-07/2007-07_03-06.jpg"/>
          <p:cNvPicPr/>
          <p:nvPr/>
        </p:nvPicPr>
        <p:blipFill>
          <a:blip r:embed="rId2"/>
          <a:stretch/>
        </p:blipFill>
        <p:spPr>
          <a:xfrm>
            <a:off x="5029200" y="3505320"/>
            <a:ext cx="3565440" cy="26668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97" name="Picture 2" descr=""/>
          <p:cNvPicPr/>
          <p:nvPr/>
        </p:nvPicPr>
        <p:blipFill>
          <a:blip r:embed="rId3"/>
          <a:stretch/>
        </p:blipFill>
        <p:spPr>
          <a:xfrm>
            <a:off x="342900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00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157a"/>
                </a:solidFill>
                <a:latin typeface="Consolas"/>
              </a:rPr>
              <a:t>Antibiotics are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Natural or synthetic products that are used to kill or stop the growth of Bacteria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ostatic - stop growth (don't kill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cidal – kill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Why do we do sensitivity testing?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which drug we use to the pati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the dose of antibiot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It is important to use the lowest effective concentration of the antibiotic to avoid toxicity in patient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strain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se are organisms obtained from the American Type Culture Collection (ATCC)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should be grown in standard condition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have a known recorded sensitivity to antibiotic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Organism Used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tandard Organism 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(Quality Control organism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9718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aphylococcus  aureus 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5923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seudomonas aeruginosa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785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scherichia coli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ATCC 2592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nterococcus faecalis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 ATCC 2921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Klepsiella pneumoni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ATCC 70060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reptococcus pneumoniae              ATCC 4961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emophilus influenz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ATCC 4924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Content Placeholder 4" descr="ATCC swab.jpg"/>
          <p:cNvPicPr/>
          <p:nvPr/>
        </p:nvPicPr>
        <p:blipFill>
          <a:blip r:embed="rId1"/>
          <a:stretch/>
        </p:blipFill>
        <p:spPr>
          <a:xfrm>
            <a:off x="5638680" y="3124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399" name="Content Placeholder 3" descr=""/>
          <p:cNvPicPr/>
          <p:nvPr/>
        </p:nvPicPr>
        <p:blipFill>
          <a:blip r:embed="rId1"/>
          <a:srcRect l="9589" t="10728" r="22102" b="36663"/>
          <a:stretch/>
        </p:blipFill>
        <p:spPr>
          <a:xfrm>
            <a:off x="609480" y="0"/>
            <a:ext cx="815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Medium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lama</cp:lastModifiedBy>
  <dcterms:modified xsi:type="dcterms:W3CDTF">2012-05-07T16:34:30Z</dcterms:modified>
  <cp:revision>170</cp:revision>
  <dc:subject/>
  <dc:title>Slide 1</dc:title>
</cp:coreProperties>
</file>