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BC3-143B-42C1-9B7F-607C6943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019-0436-40D1-88E0-071E6A54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C4E-5908-4821-B551-0FB87604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658-D0E7-4CF9-9D47-05CB6186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3E1E-0C47-485C-A4E6-DAFBB23E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0F56-4E52-4DD3-864A-70A9194C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5374-20CF-4C22-95DE-1E514500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7367-4043-4877-AE69-15143E2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DBDB-196E-4552-A46A-8AE0F2B8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BF98-E4FE-4172-A64F-77846D36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CBE1-731D-4B86-8B1D-9A17A40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3E69-5454-4D7A-B91D-A98CD309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8524-AAD4-47B2-8610-7528AF80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2347-09AA-4A83-A75F-649CE6CA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AC79-2A12-4DCB-88BF-F3C9EDC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4661-753E-4A2B-8341-03A7D1D7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B22E-17F7-4A2E-89DE-813BAA01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ACC-0059-41B1-9879-6BD62E61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1DC-582B-42F5-9403-ECEDCFCA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5E6-ECCE-4E0F-ADC4-FF24C8A5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1C4-42AE-4251-A2B2-BDBB43C3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2367-F109-48B2-A62F-03731F43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821F-BA2C-4BFF-ACD3-B4D470B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B33-576C-4E0A-AADD-B2405045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4218-F0CB-4FD6-9D45-C974DEFBF9D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000" y="798480"/>
            <a:ext cx="7085160" cy="6862680"/>
            <a:chOff x="-315000" y="79848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000" y="798480"/>
              <a:ext cx="7085160" cy="6862680"/>
              <a:chOff x="-315000" y="79848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000" y="798480"/>
                <a:ext cx="7085160" cy="6862680"/>
                <a:chOff x="-315000" y="79848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000" y="798480"/>
                  <a:ext cx="7085160" cy="6862680"/>
                  <a:chOff x="-315000" y="79848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000" y="798480"/>
                    <a:ext cx="7085160" cy="6862680"/>
                    <a:chOff x="-315000" y="79848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000" y="805680"/>
                      <a:ext cx="7075440" cy="6855480"/>
                      <a:chOff x="-315000" y="80568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000" y="805680"/>
                        <a:ext cx="7075440" cy="6855480"/>
                        <a:chOff x="-315000" y="80568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000" y="1283760"/>
                          <a:ext cx="6462720" cy="6377400"/>
                          <a:chOff x="-315000" y="128376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5120" y="4521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6920" y="43300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5880" y="32036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360" y="292824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3600" y="26604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6800" y="2405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5280" y="212112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880" y="155772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320"/>
                    <a:gd name="textAreaBottom" fmla="*/ 247680 h 24732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2840"/>
                    <a:gd name="textAreaBottom" fmla="*/ 223200 h 22284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ECE-1772-4E3F-924C-7841FAB05436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ff00"/>
                </a:solidFill>
                <a:uFillTx/>
                <a:latin typeface="Arial"/>
              </a:rPr>
              <a:t>الخليه النباتيه</a:t>
            </a:r>
            <a:br>
              <a:rPr sz="40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ي وحدة التركيب والوظيفه للكائن الحي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تتكون من:ـ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جدار الخليه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cell wall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بروتوبلاست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Cell content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Verdana"/>
              </a:rPr>
              <a:t>اولا :ـ (محتويات بروتوبلازميه حيه):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نوا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سيتوبلازم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عضيات محاطه باغشيه مثل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بلاستيدات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ميتوكندريا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جهاز جولجي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عضيات غير محاطه باغشيه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ريبوسومات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اجسام كروي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ctr" rtl="1"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انابيب دقيق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بلورات ابريه"/>
          <p:cNvPicPr/>
          <p:nvPr/>
        </p:nvPicPr>
        <p:blipFill>
          <a:blip r:embed="rId1"/>
          <a:stretch/>
        </p:blipFill>
        <p:spPr>
          <a:xfrm>
            <a:off x="4417920" y="189000"/>
            <a:ext cx="4726080" cy="3738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بلوره ابريه"/>
          <p:cNvPicPr/>
          <p:nvPr/>
        </p:nvPicPr>
        <p:blipFill>
          <a:blip r:embed="rId2"/>
          <a:stretch/>
        </p:blipFill>
        <p:spPr>
          <a:xfrm>
            <a:off x="179280" y="2924280"/>
            <a:ext cx="4176720" cy="39337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6"/>
          <p:cNvSpPr/>
          <p:nvPr/>
        </p:nvSpPr>
        <p:spPr>
          <a:xfrm>
            <a:off x="3129480" y="4365720"/>
            <a:ext cx="712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بلوره ابريه في خليه برنشيميه  في قشرة ساق نبات كشك الما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4" name="رابط كسهم مستقيم 5"/>
          <p:cNvCxnSpPr/>
          <p:nvPr/>
        </p:nvCxnSpPr>
        <p:spPr>
          <a:xfrm flipH="1" flipV="1">
            <a:off x="2699640" y="1699920"/>
            <a:ext cx="359640" cy="417744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85" name="مربع نص 6"/>
          <p:cNvSpPr/>
          <p:nvPr/>
        </p:nvSpPr>
        <p:spPr>
          <a:xfrm>
            <a:off x="2100600" y="126828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بلورات ابري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الرمل البلوري"/>
          <p:cNvPicPr/>
          <p:nvPr/>
        </p:nvPicPr>
        <p:blipFill>
          <a:blip r:embed="rId1"/>
          <a:stretch/>
        </p:blipFill>
        <p:spPr>
          <a:xfrm>
            <a:off x="4417920" y="189000"/>
            <a:ext cx="4726080" cy="5256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الرمل البلوري"/>
          <p:cNvPicPr/>
          <p:nvPr/>
        </p:nvPicPr>
        <p:blipFill>
          <a:blip r:embed="rId2"/>
          <a:stretch/>
        </p:blipFill>
        <p:spPr>
          <a:xfrm>
            <a:off x="0" y="1197000"/>
            <a:ext cx="4211640" cy="43686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6"/>
          <p:cNvSpPr/>
          <p:nvPr/>
        </p:nvSpPr>
        <p:spPr>
          <a:xfrm>
            <a:off x="1676520" y="5661000"/>
            <a:ext cx="613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لرمل البلوري في الخلايا البرنشيمي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ق.ع في العرق الوسطي لورقة نبات العتر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9" name="رابط كسهم مستقيم 5"/>
          <p:cNvCxnSpPr/>
          <p:nvPr/>
        </p:nvCxnSpPr>
        <p:spPr>
          <a:xfrm flipH="1" flipV="1">
            <a:off x="4066560" y="549000"/>
            <a:ext cx="3313800" cy="33120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0" name="مربع نص 6"/>
          <p:cNvSpPr/>
          <p:nvPr/>
        </p:nvSpPr>
        <p:spPr>
          <a:xfrm>
            <a:off x="2268360" y="40464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رمل بلور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4"/>
          <p:cNvSpPr/>
          <p:nvPr/>
        </p:nvSpPr>
        <p:spPr>
          <a:xfrm>
            <a:off x="3723840" y="316080"/>
            <a:ext cx="57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- كربونات الكالسيوم 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  التي تترسب على هيئة حوصله حجر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2" name="Picture 5" descr="حويصلة حجرية"/>
          <p:cNvPicPr/>
          <p:nvPr/>
        </p:nvPicPr>
        <p:blipFill>
          <a:blip r:embed="rId1"/>
          <a:stretch/>
        </p:blipFill>
        <p:spPr>
          <a:xfrm>
            <a:off x="324000" y="549360"/>
            <a:ext cx="4176720" cy="49672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حويصلة حجرية"/>
          <p:cNvPicPr/>
          <p:nvPr/>
        </p:nvPicPr>
        <p:blipFill>
          <a:blip r:embed="rId2"/>
          <a:stretch/>
        </p:blipFill>
        <p:spPr>
          <a:xfrm>
            <a:off x="4788000" y="2708280"/>
            <a:ext cx="4103640" cy="3622680"/>
          </a:xfrm>
          <a:prstGeom prst="rect">
            <a:avLst/>
          </a:prstGeom>
          <a:ln w="0">
            <a:noFill/>
          </a:ln>
        </p:spPr>
      </p:pic>
      <p:cxnSp>
        <p:nvCxnSpPr>
          <p:cNvPr id="394" name="رابط كسهم مستقيم 7"/>
          <p:cNvCxnSpPr/>
          <p:nvPr/>
        </p:nvCxnSpPr>
        <p:spPr>
          <a:xfrm>
            <a:off x="2339640" y="1915920"/>
            <a:ext cx="2809080" cy="1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5" name="مربع نص 8"/>
          <p:cNvSpPr/>
          <p:nvPr/>
        </p:nvSpPr>
        <p:spPr>
          <a:xfrm>
            <a:off x="5071320" y="177336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عن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96" name="رابط كسهم مستقيم 10"/>
          <p:cNvCxnSpPr/>
          <p:nvPr/>
        </p:nvCxnSpPr>
        <p:spPr>
          <a:xfrm>
            <a:off x="2339640" y="3141360"/>
            <a:ext cx="577080" cy="2880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97" name="مربع نص 11"/>
          <p:cNvSpPr/>
          <p:nvPr/>
        </p:nvSpPr>
        <p:spPr>
          <a:xfrm>
            <a:off x="2716200" y="602136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جسم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مربع نص 8"/>
          <p:cNvSpPr/>
          <p:nvPr/>
        </p:nvSpPr>
        <p:spPr>
          <a:xfrm>
            <a:off x="33480" y="573264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ق.ع في ورقة التين المطا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7"/>
          <p:cNvSpPr/>
          <p:nvPr/>
        </p:nvSpPr>
        <p:spPr>
          <a:xfrm>
            <a:off x="-312840" y="239760"/>
            <a:ext cx="10179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Verdana"/>
              </a:rPr>
              <a:t>البلاستيدات :ـ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هي اجسام بروتوبلازميه لزجه ذات شكل متميز توجد بالخلايا النباتيه  باعداد كثيره 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اما في الكائنات الاقل رقي مثل الطحالب توجد باعداد قليله .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مثل </a:t>
            </a: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طحلب السبيروجيرا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لذي يتميز ببلاستيده  حلزوني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8" descr="سبيروجيرا 2"/>
          <p:cNvPicPr/>
          <p:nvPr/>
        </p:nvPicPr>
        <p:blipFill>
          <a:blip r:embed="rId1"/>
          <a:stretch/>
        </p:blipFill>
        <p:spPr>
          <a:xfrm>
            <a:off x="250920" y="1557360"/>
            <a:ext cx="3025800" cy="2017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سبيروجيرا 3"/>
          <p:cNvPicPr/>
          <p:nvPr/>
        </p:nvPicPr>
        <p:blipFill>
          <a:blip r:embed="rId2"/>
          <a:stretch/>
        </p:blipFill>
        <p:spPr>
          <a:xfrm>
            <a:off x="4932360" y="2060640"/>
            <a:ext cx="987480" cy="1944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2"/>
          <p:cNvSpPr/>
          <p:nvPr/>
        </p:nvSpPr>
        <p:spPr>
          <a:xfrm>
            <a:off x="-1913760" y="4076640"/>
            <a:ext cx="1308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ما في النباتات الراقيه  فانها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تتميز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ببلاستيدات تختلف في احجامها واشكالها  ويمكن تمميز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انواع رئيسيه :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خضراء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hlor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لها اشكال قرصيه وتوجد بالنسيج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التمثيلي في الاوراق  وقشرة سيقان النباتات العشبيه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لونه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hrom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لها اشكال مختلفه وتاخذ الوان كثير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الاصفر والبرتقالي والاحمر كما في الجزر والطماطم والفلفل الرومي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عديمه اللون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eucoplasts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كتل بروتوبلازميه غير ثابتةالشكل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وتوجد بالقرب من النواة وتوجد في الاجزاء البعيده عن الضوء كالنخا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3" descr="البلاستيدات الخضراء"/>
          <p:cNvPicPr/>
          <p:nvPr/>
        </p:nvPicPr>
        <p:blipFill>
          <a:blip r:embed="rId3"/>
          <a:stretch/>
        </p:blipFill>
        <p:spPr>
          <a:xfrm>
            <a:off x="250920" y="4660920"/>
            <a:ext cx="2881080" cy="1981080"/>
          </a:xfrm>
          <a:prstGeom prst="rect">
            <a:avLst/>
          </a:prstGeom>
          <a:ln w="0">
            <a:noFill/>
          </a:ln>
        </p:spPr>
      </p:pic>
      <p:cxnSp>
        <p:nvCxnSpPr>
          <p:cNvPr id="338" name="رابط كسهم مستقيم 7"/>
          <p:cNvCxnSpPr/>
          <p:nvPr/>
        </p:nvCxnSpPr>
        <p:spPr>
          <a:xfrm>
            <a:off x="2556000" y="2133720"/>
            <a:ext cx="1224720" cy="5040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39" name="مربع نص 8"/>
          <p:cNvSpPr/>
          <p:nvPr/>
        </p:nvSpPr>
        <p:spPr>
          <a:xfrm>
            <a:off x="3269160" y="263700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بلاستيده حلزوني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مربع نص 10"/>
          <p:cNvSpPr/>
          <p:nvPr/>
        </p:nvSpPr>
        <p:spPr>
          <a:xfrm>
            <a:off x="548280" y="357336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طحلب السبيروجيرا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41" name="رابط كسهم مستقيم 12"/>
          <p:cNvCxnSpPr/>
          <p:nvPr/>
        </p:nvCxnSpPr>
        <p:spPr>
          <a:xfrm flipH="1">
            <a:off x="4426920" y="2492280"/>
            <a:ext cx="937080" cy="14544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البلاستيدات الملونه"/>
          <p:cNvPicPr/>
          <p:nvPr/>
        </p:nvPicPr>
        <p:blipFill>
          <a:blip r:embed="rId1"/>
          <a:stretch/>
        </p:blipFill>
        <p:spPr>
          <a:xfrm>
            <a:off x="1685880" y="1380960"/>
            <a:ext cx="5772240" cy="40960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912320" y="5493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بلاستيدات ملونه في الطماط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5400" y="5661000"/>
            <a:ext cx="91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تنشا من البلاستيدات الخضراء وتكثر بالخضار او تنشا من البلاستيده الاول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1322280" y="291960"/>
            <a:ext cx="78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Verdana"/>
              </a:rPr>
              <a:t>ثانيا  مكونات غير بروتوبلازميه غير حيه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0" y="981000"/>
            <a:ext cx="91440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هي محتويات غير حيه لا تدخل في تركيب البروتوبلازم وتوجد في  فراغ الخليه  الميته او الفجوات العصاري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كما انها مواد او نواتج الايض الغذائي ويمكن ان تظهر او تختفي في اوقات مختلفه من حياة الخلي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Verdana"/>
              </a:rPr>
              <a:t>قد تكون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 :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- نواتج مختزنه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-  نواتج افرازيه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Verdana"/>
              </a:rPr>
              <a:t>اهمها :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حبيبات النشاء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arch grains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حبيبات الاليرو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leurone grain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# -</a:t>
            </a: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بلورات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RYSTAL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0" y="115920"/>
            <a:ext cx="90028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ولا :  حبيبات النشاء :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وجد في خلايا النسيج الوسطي للاوراق  وفي خلايا السيقان والجذور وكذلك البذور وتكون بكثره بالاعضاء التخزينيه كدرنات البطاطس، يستعمل الاختلاف الشكلي فيها في تعريف النبات 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النشاء من اكثر المواد انتشارا في النبات  ويكون على هيئة حبيبات تتكون اولا في البلاستيدات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ثم تتحلل وتخزن كماده سكريه في الانسجه الخازنه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Verdana"/>
              </a:rPr>
              <a:t>تترسب مادة النشاء على هيئة </a:t>
            </a:r>
            <a:r>
              <a:rPr b="1" lang="ar-SA" sz="2800" spc="-1" strike="noStrike">
                <a:solidFill>
                  <a:srgbClr val="000099"/>
                </a:solidFill>
                <a:latin typeface="Verdana"/>
              </a:rPr>
              <a:t>طبقات حول نقطه السره</a:t>
            </a:r>
            <a:r>
              <a:rPr b="1" lang="ar-SA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( مركزيه  ، غير مركزيه  ، شق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حبيبات النشاء :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بسيط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مرك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- نصف مرك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5" descr="نشآ بسيطه"/>
          <p:cNvPicPr/>
          <p:nvPr/>
        </p:nvPicPr>
        <p:blipFill>
          <a:blip r:embed="rId1"/>
          <a:stretch/>
        </p:blipFill>
        <p:spPr>
          <a:xfrm>
            <a:off x="468360" y="2781360"/>
            <a:ext cx="2266920" cy="3394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حبيبة نشآ ذآت سره شق في الفاصوليا"/>
          <p:cNvPicPr/>
          <p:nvPr/>
        </p:nvPicPr>
        <p:blipFill>
          <a:blip r:embed="rId2"/>
          <a:stretch/>
        </p:blipFill>
        <p:spPr>
          <a:xfrm>
            <a:off x="4572000" y="2852640"/>
            <a:ext cx="2448000" cy="3022560"/>
          </a:xfrm>
          <a:prstGeom prst="rect">
            <a:avLst/>
          </a:prstGeom>
          <a:ln w="0">
            <a:noFill/>
          </a:ln>
        </p:spPr>
      </p:pic>
      <p:sp>
        <p:nvSpPr>
          <p:cNvPr id="350" name="مربع نص 5"/>
          <p:cNvSpPr/>
          <p:nvPr/>
        </p:nvSpPr>
        <p:spPr>
          <a:xfrm>
            <a:off x="-817920" y="6308640"/>
            <a:ext cx="54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في درنة  البطاطس توضح حبيبة النشاء البسيطه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مربع نص 6"/>
          <p:cNvSpPr/>
          <p:nvPr/>
        </p:nvSpPr>
        <p:spPr>
          <a:xfrm>
            <a:off x="4432320" y="6093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حبيبات نشاء في الفول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2" name="رابط كسهم مستقيم 8"/>
          <p:cNvCxnSpPr/>
          <p:nvPr/>
        </p:nvCxnSpPr>
        <p:spPr>
          <a:xfrm flipV="1">
            <a:off x="1547280" y="3644280"/>
            <a:ext cx="1585080" cy="648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53" name="مربع نص 9"/>
          <p:cNvSpPr/>
          <p:nvPr/>
        </p:nvSpPr>
        <p:spPr>
          <a:xfrm>
            <a:off x="2643840" y="35002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سره جانبيه في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حبيبة نشاء بسيطه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54" name="رابط كسهم مستقيم 11"/>
          <p:cNvCxnSpPr/>
          <p:nvPr/>
        </p:nvCxnSpPr>
        <p:spPr>
          <a:xfrm>
            <a:off x="6084720" y="3357720"/>
            <a:ext cx="1656720" cy="180072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55" name="مربع نص 12"/>
          <p:cNvSpPr/>
          <p:nvPr/>
        </p:nvSpPr>
        <p:spPr>
          <a:xfrm>
            <a:off x="6874920" y="53006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سره على هيئة ش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8604360" y="60480"/>
            <a:ext cx="16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95280" y="260280"/>
            <a:ext cx="8601120" cy="35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Verdana"/>
              </a:rPr>
              <a:t>ثانيا : البروتينات :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نشاء من اتحاد عدد من البروتينات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تختزن البروتينات على هيئة حبيبات الاليرون في الثمار والبذور وتتكون عن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طريق تجمعها في فجوات الخلايا  ثم تتجزأ الفجوات في الانسجه البالغه ال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فجوات صغيره تتحول كل منها الى احسام بروتينيه  تحاط بالغشاء البلازمي الداخلي مكونه من جسم شبه بلوري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ystalloid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وجسم شبه كروي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loboid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 يغمران في ماده بروتينيه تحاط بطبقه من البروتين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6" descr="الاليرون قريب"/>
          <p:cNvPicPr/>
          <p:nvPr/>
        </p:nvPicPr>
        <p:blipFill>
          <a:blip r:embed="rId1"/>
          <a:stretch/>
        </p:blipFill>
        <p:spPr>
          <a:xfrm>
            <a:off x="5580000" y="2997360"/>
            <a:ext cx="3168720" cy="3168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8" descr="حبيبات الاليرون في الخروع"/>
          <p:cNvPicPr/>
          <p:nvPr/>
        </p:nvPicPr>
        <p:blipFill>
          <a:blip r:embed="rId2"/>
          <a:stretch/>
        </p:blipFill>
        <p:spPr>
          <a:xfrm>
            <a:off x="611280" y="2997360"/>
            <a:ext cx="3770280" cy="32446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9"/>
          <p:cNvSpPr/>
          <p:nvPr/>
        </p:nvSpPr>
        <p:spPr>
          <a:xfrm>
            <a:off x="3311640" y="6458040"/>
            <a:ext cx="420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حبيبات الاليرون في بذرة  الخرو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1" name="رابط كسهم مستقيم 7"/>
          <p:cNvCxnSpPr/>
          <p:nvPr/>
        </p:nvCxnSpPr>
        <p:spPr>
          <a:xfrm flipV="1">
            <a:off x="6803640" y="2923560"/>
            <a:ext cx="864360" cy="1585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2" name="مربع نص 8"/>
          <p:cNvSpPr/>
          <p:nvPr/>
        </p:nvSpPr>
        <p:spPr>
          <a:xfrm>
            <a:off x="6478920" y="256536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جسم شبه كرو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3" name="رابط كسهم مستقيم 10"/>
          <p:cNvCxnSpPr/>
          <p:nvPr/>
        </p:nvCxnSpPr>
        <p:spPr>
          <a:xfrm flipH="1" flipV="1">
            <a:off x="5363280" y="3067920"/>
            <a:ext cx="1080360" cy="86580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4" name="مربع نص 11"/>
          <p:cNvSpPr/>
          <p:nvPr/>
        </p:nvSpPr>
        <p:spPr>
          <a:xfrm>
            <a:off x="4065480" y="263700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جسم شبه  بلوري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طبقة الاليرون"/>
          <p:cNvPicPr/>
          <p:nvPr/>
        </p:nvPicPr>
        <p:blipFill>
          <a:blip r:embed="rId1"/>
          <a:stretch/>
        </p:blipFill>
        <p:spPr>
          <a:xfrm>
            <a:off x="3276720" y="115920"/>
            <a:ext cx="5446440" cy="3456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طبقة الاليرون"/>
          <p:cNvPicPr/>
          <p:nvPr/>
        </p:nvPicPr>
        <p:blipFill>
          <a:blip r:embed="rId2"/>
          <a:stretch/>
        </p:blipFill>
        <p:spPr>
          <a:xfrm>
            <a:off x="250920" y="3649680"/>
            <a:ext cx="4752720" cy="320832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7"/>
          <p:cNvSpPr/>
          <p:nvPr/>
        </p:nvSpPr>
        <p:spPr>
          <a:xfrm>
            <a:off x="4070880" y="4941720"/>
            <a:ext cx="57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طبقة الاليرون في ق.ط في حبة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Verdana"/>
              </a:rPr>
              <a:t> القم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68" name="رابط كسهم مستقيم 5"/>
          <p:cNvCxnSpPr/>
          <p:nvPr/>
        </p:nvCxnSpPr>
        <p:spPr>
          <a:xfrm flipH="1">
            <a:off x="2194920" y="1268280"/>
            <a:ext cx="1585080" cy="648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69" name="مربع نص 6"/>
          <p:cNvSpPr/>
          <p:nvPr/>
        </p:nvSpPr>
        <p:spPr>
          <a:xfrm>
            <a:off x="537120" y="21337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حبيبات الاليرون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0" name="رابط كسهم مستقيم 8"/>
          <p:cNvCxnSpPr/>
          <p:nvPr/>
        </p:nvCxnSpPr>
        <p:spPr>
          <a:xfrm>
            <a:off x="7740360" y="1844640"/>
            <a:ext cx="577080" cy="223272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  <p:sp>
        <p:nvSpPr>
          <p:cNvPr id="371" name="مربع نص 9"/>
          <p:cNvSpPr/>
          <p:nvPr/>
        </p:nvSpPr>
        <p:spPr>
          <a:xfrm>
            <a:off x="7336080" y="39337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Verdana"/>
              </a:rPr>
              <a:t>خلايا الاندوسبير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4"/>
          <p:cNvSpPr/>
          <p:nvPr/>
        </p:nvSpPr>
        <p:spPr>
          <a:xfrm>
            <a:off x="3796200" y="264960"/>
            <a:ext cx="556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Verdana"/>
              </a:rPr>
              <a:t>ثالثا : البلورات :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Verdana"/>
              </a:rPr>
              <a:t>هي نواتج ايضيه من مركبات الكالسيوم منها 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99"/>
                </a:solidFill>
                <a:uFillTx/>
                <a:latin typeface="Verdana"/>
              </a:rPr>
              <a:t>1</a:t>
            </a:r>
            <a:r>
              <a:rPr b="1" lang="ar-SA" sz="2800" spc="-1" strike="noStrike" u="sng">
                <a:solidFill>
                  <a:srgbClr val="000099"/>
                </a:solidFill>
                <a:uFillTx/>
                <a:latin typeface="Verdana"/>
              </a:rPr>
              <a:t>- اكسالات الكالسيو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فرديه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litary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نجميه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ru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بلوره ابريه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phi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 رمل بلوري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 s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3" name="Picture 5" descr="بلوره  فرديه "/>
          <p:cNvPicPr/>
          <p:nvPr/>
        </p:nvPicPr>
        <p:blipFill>
          <a:blip r:embed="rId1"/>
          <a:stretch/>
        </p:blipFill>
        <p:spPr>
          <a:xfrm>
            <a:off x="250920" y="1844640"/>
            <a:ext cx="4392360" cy="3619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بلوره معدنيه"/>
          <p:cNvPicPr/>
          <p:nvPr/>
        </p:nvPicPr>
        <p:blipFill>
          <a:blip r:embed="rId2"/>
          <a:stretch/>
        </p:blipFill>
        <p:spPr>
          <a:xfrm>
            <a:off x="5724360" y="4276800"/>
            <a:ext cx="3189600" cy="2386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2"/>
          <p:cNvSpPr/>
          <p:nvPr/>
        </p:nvSpPr>
        <p:spPr>
          <a:xfrm>
            <a:off x="-834480" y="5732640"/>
            <a:ext cx="68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Verdana"/>
              </a:rPr>
              <a:t>بلوره فرديه في خلايا الورقه الحرشفيه للبص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6" name="رابط كسهم مستقيم 6"/>
          <p:cNvCxnSpPr/>
          <p:nvPr/>
        </p:nvCxnSpPr>
        <p:spPr>
          <a:xfrm>
            <a:off x="3780000" y="4292640"/>
            <a:ext cx="288000" cy="144036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بلورات أكسالات الكالسيوم"/>
          <p:cNvPicPr/>
          <p:nvPr/>
        </p:nvPicPr>
        <p:blipFill>
          <a:blip r:embed="rId1"/>
          <a:stretch/>
        </p:blipFill>
        <p:spPr>
          <a:xfrm>
            <a:off x="4427640" y="333360"/>
            <a:ext cx="4556160" cy="3645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بلوره نجميه"/>
          <p:cNvPicPr/>
          <p:nvPr/>
        </p:nvPicPr>
        <p:blipFill>
          <a:blip r:embed="rId2"/>
          <a:stretch/>
        </p:blipFill>
        <p:spPr>
          <a:xfrm>
            <a:off x="179280" y="342900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6"/>
          <p:cNvSpPr/>
          <p:nvPr/>
        </p:nvSpPr>
        <p:spPr>
          <a:xfrm>
            <a:off x="4284720" y="4869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بلوره نجميه من برنشيمه ساق الرم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80" name="رابط كسهم مستقيم 5"/>
          <p:cNvCxnSpPr/>
          <p:nvPr/>
        </p:nvCxnSpPr>
        <p:spPr>
          <a:xfrm>
            <a:off x="2195640" y="5516280"/>
            <a:ext cx="3529440" cy="1080"/>
          </a:xfrm>
          <a:prstGeom prst="straightConnector1">
            <a:avLst/>
          </a:prstGeom>
          <a:ln w="9360">
            <a:solidFill>
              <a:srgbClr val="95bf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27:03Z</dcterms:created>
  <dc:creator>HELP</dc:creator>
  <dc:description/>
  <dc:language>en-US</dc:language>
  <cp:lastModifiedBy>a</cp:lastModifiedBy>
  <dcterms:modified xsi:type="dcterms:W3CDTF">2016-09-30T14:27:00Z</dcterms:modified>
  <cp:revision>72</cp:revision>
  <dc:subject/>
  <dc:title>الخليه النباتيه هي وحدة التركيب والوظيفه للكائن الحي وتتكون من:ـ</dc:title>
</cp:coreProperties>
</file>