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893-80B8-4B85-B505-BAA0A22E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5C2-0AA3-4FE2-9B40-13C3F55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758-9189-4ED9-BCA4-FC0D8B22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7DB-912B-4464-AA58-F83FC9F3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2F9-3EBE-424F-BCFF-1D9BEA37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D111-3024-410B-A01E-D20D2D3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6035-DA95-4871-89D5-58D8F65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282-5E79-4487-86DE-8B4B9DA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34F-6F94-4145-8287-72C50581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FDF8-D712-40CB-A12C-2F60294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B60-3EF0-4FD4-A429-559B966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FFF-AB7C-4DF1-BC96-2C487803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1D67-BA86-43CA-9530-E98D553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9C9-CABB-456D-8713-5988712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7721-6ABD-425F-80D3-91FF640E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AEB-E111-407C-AB67-7A5C0B0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B485-77B1-43B3-B447-A36142D6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B0E-EB55-41A4-BF04-EA1BBDF0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BC7-E183-44A3-9078-45B45342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F04-9C63-42E1-915E-942ED1B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F82-56F1-402D-B8E6-6B4B2D5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8FC-67CE-4013-A12B-20361DC9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8B7-0531-4D0D-9704-265BC085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D9C-E3E4-4ACF-9777-DF82BEF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BB58-4790-4C90-A54D-5B622E2D588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CB5-A787-4FF4-BEB9-CC311F2EC6D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ff00"/>
                </a:solidFill>
                <a:uFillTx/>
                <a:latin typeface="Arial"/>
              </a:rPr>
              <a:t>الخليه النباتيه</a:t>
            </a:r>
            <a:br>
              <a:rPr sz="40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وحدة التركيب والوظيفه للكائن الحي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تكون من:ـ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جدار الخليه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cell wal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بروتوبلاست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Cell content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Verdana"/>
              </a:rPr>
              <a:t>اولا :ـ (محتويات بروتوبلازميه حيه):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نوا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سيتوبلازم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عضيات محاطه باغشيه مثل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بلاستيدات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ميتوكندريا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جهاز جولجي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عضيات غير محاطه باغشيه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ريبوسومات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اجسام كروي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انابيب دقيق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بلورات ابريه"/>
          <p:cNvPicPr/>
          <p:nvPr/>
        </p:nvPicPr>
        <p:blipFill>
          <a:blip r:embed="rId1"/>
          <a:stretch/>
        </p:blipFill>
        <p:spPr>
          <a:xfrm>
            <a:off x="4417920" y="189000"/>
            <a:ext cx="4726080" cy="3738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بلوره ابريه"/>
          <p:cNvPicPr/>
          <p:nvPr/>
        </p:nvPicPr>
        <p:blipFill>
          <a:blip r:embed="rId2"/>
          <a:stretch/>
        </p:blipFill>
        <p:spPr>
          <a:xfrm>
            <a:off x="179280" y="2924280"/>
            <a:ext cx="4176720" cy="3933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3129480" y="4365720"/>
            <a:ext cx="71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بلوره ابريه في خليه برنشيميه  في قشرة ساق نبات كشك الما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4" name="رابط كسهم مستقيم 5"/>
          <p:cNvCxnSpPr/>
          <p:nvPr/>
        </p:nvCxnSpPr>
        <p:spPr>
          <a:xfrm flipH="1" flipV="1">
            <a:off x="2699640" y="1699920"/>
            <a:ext cx="359640" cy="417744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85" name="مربع نص 6"/>
          <p:cNvSpPr/>
          <p:nvPr/>
        </p:nvSpPr>
        <p:spPr>
          <a:xfrm>
            <a:off x="2100600" y="12682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بلورات ابري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الرمل البلوري"/>
          <p:cNvPicPr/>
          <p:nvPr/>
        </p:nvPicPr>
        <p:blipFill>
          <a:blip r:embed="rId1"/>
          <a:stretch/>
        </p:blipFill>
        <p:spPr>
          <a:xfrm>
            <a:off x="4417920" y="189000"/>
            <a:ext cx="4726080" cy="5256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الرمل البلوري"/>
          <p:cNvPicPr/>
          <p:nvPr/>
        </p:nvPicPr>
        <p:blipFill>
          <a:blip r:embed="rId2"/>
          <a:stretch/>
        </p:blipFill>
        <p:spPr>
          <a:xfrm>
            <a:off x="0" y="1197000"/>
            <a:ext cx="4211640" cy="43686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1676520" y="5661000"/>
            <a:ext cx="61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لرمل البلوري في الخلايا البرنشيمي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ق.ع في العرق الوسطي لورقة نبات العتر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9" name="رابط كسهم مستقيم 5"/>
          <p:cNvCxnSpPr/>
          <p:nvPr/>
        </p:nvCxnSpPr>
        <p:spPr>
          <a:xfrm flipH="1" flipV="1">
            <a:off x="4066560" y="549000"/>
            <a:ext cx="3313800" cy="33120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0" name="مربع نص 6"/>
          <p:cNvSpPr/>
          <p:nvPr/>
        </p:nvSpPr>
        <p:spPr>
          <a:xfrm>
            <a:off x="2268360" y="40464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رمل بلور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3723840" y="316080"/>
            <a:ext cx="57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- كربونات الكالسيوم 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  التي تترسب على هيئة حوصله حجر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2" name="Picture 5" descr="حويصلة حجرية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4967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حويصلة حجرية"/>
          <p:cNvPicPr/>
          <p:nvPr/>
        </p:nvPicPr>
        <p:blipFill>
          <a:blip r:embed="rId2"/>
          <a:stretch/>
        </p:blipFill>
        <p:spPr>
          <a:xfrm>
            <a:off x="4788000" y="2708280"/>
            <a:ext cx="4103640" cy="3622680"/>
          </a:xfrm>
          <a:prstGeom prst="rect">
            <a:avLst/>
          </a:prstGeom>
          <a:ln w="0">
            <a:noFill/>
          </a:ln>
        </p:spPr>
      </p:pic>
      <p:cxnSp>
        <p:nvCxnSpPr>
          <p:cNvPr id="394" name="رابط كسهم مستقيم 7"/>
          <p:cNvCxnSpPr/>
          <p:nvPr/>
        </p:nvCxnSpPr>
        <p:spPr>
          <a:xfrm>
            <a:off x="2339640" y="1915920"/>
            <a:ext cx="2809080" cy="1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5" name="مربع نص 8"/>
          <p:cNvSpPr/>
          <p:nvPr/>
        </p:nvSpPr>
        <p:spPr>
          <a:xfrm>
            <a:off x="5071320" y="177336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عن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96" name="رابط كسهم مستقيم 10"/>
          <p:cNvCxnSpPr/>
          <p:nvPr/>
        </p:nvCxnSpPr>
        <p:spPr>
          <a:xfrm>
            <a:off x="2339640" y="3141360"/>
            <a:ext cx="577080" cy="2880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7" name="مربع نص 11"/>
          <p:cNvSpPr/>
          <p:nvPr/>
        </p:nvSpPr>
        <p:spPr>
          <a:xfrm>
            <a:off x="2716200" y="6021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جس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مربع نص 8"/>
          <p:cNvSpPr/>
          <p:nvPr/>
        </p:nvSpPr>
        <p:spPr>
          <a:xfrm>
            <a:off x="33480" y="57326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ق.ع في ورقة التين المطا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-312840" y="239760"/>
            <a:ext cx="1017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Verdana"/>
              </a:rPr>
              <a:t>البلاستيدات :ـ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هي اجسام بروتوبلازميه لزجه ذات شكل متميز توجد بالخلايا النباتيه  باعداد كثيره 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اما في الكائنات الاقل رقي مثل الطحالب توجد باعداد قليله .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مثل </a:t>
            </a: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طحلب السبيروجيرا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لذي يتميز ببلاستيده  حلزوني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8" descr="سبيروجيرا 2"/>
          <p:cNvPicPr/>
          <p:nvPr/>
        </p:nvPicPr>
        <p:blipFill>
          <a:blip r:embed="rId1"/>
          <a:stretch/>
        </p:blipFill>
        <p:spPr>
          <a:xfrm>
            <a:off x="250920" y="1557360"/>
            <a:ext cx="3025800" cy="2017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سبيروجيرا 3"/>
          <p:cNvPicPr/>
          <p:nvPr/>
        </p:nvPicPr>
        <p:blipFill>
          <a:blip r:embed="rId2"/>
          <a:stretch/>
        </p:blipFill>
        <p:spPr>
          <a:xfrm>
            <a:off x="4932360" y="2060640"/>
            <a:ext cx="987480" cy="1944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2"/>
          <p:cNvSpPr/>
          <p:nvPr/>
        </p:nvSpPr>
        <p:spPr>
          <a:xfrm>
            <a:off x="-1913760" y="4076640"/>
            <a:ext cx="1308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ما في النباتات الراقيه  فانها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تتميز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ببلاستيدات تختلف في احجامها واشكالها  ويمكن تمميز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انواع رئيسيه :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خضراء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hlor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لها اشكال قرصيه وتوجد بالنسي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التمثيلي في الاوراق  وقشرة سيقان النباتات العشبيه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لونه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hrom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لها اشكال مختلفه وتاخذ الوان كثير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الاصفر والبرتقالي والاحمر كما في الجزر والطماطم والفلفل الرومي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عديمه اللون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euc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تل بروتوبلازميه غير ثابتةالشكل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وتوجد بالقرب من النواة وتوجد في الاجزاء البعيده عن الضوء كالنخا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3" descr="البلاستيدات الخضراء"/>
          <p:cNvPicPr/>
          <p:nvPr/>
        </p:nvPicPr>
        <p:blipFill>
          <a:blip r:embed="rId3"/>
          <a:stretch/>
        </p:blipFill>
        <p:spPr>
          <a:xfrm>
            <a:off x="250920" y="4660920"/>
            <a:ext cx="2881080" cy="1981080"/>
          </a:xfrm>
          <a:prstGeom prst="rect">
            <a:avLst/>
          </a:prstGeom>
          <a:ln w="0">
            <a:noFill/>
          </a:ln>
        </p:spPr>
      </p:pic>
      <p:cxnSp>
        <p:nvCxnSpPr>
          <p:cNvPr id="338" name="رابط كسهم مستقيم 7"/>
          <p:cNvCxnSpPr/>
          <p:nvPr/>
        </p:nvCxnSpPr>
        <p:spPr>
          <a:xfrm>
            <a:off x="2556000" y="2133720"/>
            <a:ext cx="1224720" cy="5040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39" name="مربع نص 8"/>
          <p:cNvSpPr/>
          <p:nvPr/>
        </p:nvSpPr>
        <p:spPr>
          <a:xfrm>
            <a:off x="3269160" y="2637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بلاستيده حلزوني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مربع نص 10"/>
          <p:cNvSpPr/>
          <p:nvPr/>
        </p:nvSpPr>
        <p:spPr>
          <a:xfrm>
            <a:off x="548280" y="35733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طحلب السبيروجيرا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41" name="رابط كسهم مستقيم 12"/>
          <p:cNvCxnSpPr/>
          <p:nvPr/>
        </p:nvCxnSpPr>
        <p:spPr>
          <a:xfrm flipH="1">
            <a:off x="4426920" y="2492280"/>
            <a:ext cx="937080" cy="14544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البلاستيدات الملونه"/>
          <p:cNvPicPr/>
          <p:nvPr/>
        </p:nvPicPr>
        <p:blipFill>
          <a:blip r:embed="rId1"/>
          <a:stretch/>
        </p:blipFill>
        <p:spPr>
          <a:xfrm>
            <a:off x="1685880" y="1380960"/>
            <a:ext cx="5772240" cy="40960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912320" y="5493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بلاستيدات ملونه في الطماط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5400" y="566100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نشا من البلاستيدات الخضراء وتكثر بالخضار او تنشا من البلاستيده الاول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322280" y="291960"/>
            <a:ext cx="78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ثانيا  مكونات غير بروتوبلازميه غير حيه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98100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هي محتويات غير حيه لا تدخل في تركيب البروتوبلازم وتوجد في  فراغ الخليه  الميته او الفجوات العصار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كما انها مواد او نواتج الايض الغذائي ويمكن ان تظهر او تختفي في اوقات مختلفه من حياة الخلي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Verdana"/>
              </a:rPr>
              <a:t>قد تكون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: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- نواتج مختزنه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-  نواتج افرازيه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Verdana"/>
              </a:rPr>
              <a:t>اهمها :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حبيبات النشاء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arch grains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حبيبات الاليرو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eurone grain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بلورات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YSTAL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0" y="115920"/>
            <a:ext cx="90028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ولا :  حبيبات النشاء 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وجد في خلايا النسيج الوسطي للاوراق  وفي خلايا السيقان والجذور وكذلك البذور وتكون بكثره بالاعضاء التخزينيه كدرنات البطاطس، يستعمل الاختلاف الشكلي فيها في تعريف النبات 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لنشاء من اكثر المواد انتشارا في النبات  ويكون على هيئة حبيبات تتكون اولا في البلاستيدات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ثم تتحلل وتخزن كماده سكريه في الانسجه الخازن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Verdana"/>
              </a:rPr>
              <a:t>تترسب مادة النشاء على هيئة </a:t>
            </a:r>
            <a:r>
              <a:rPr b="1" lang="ar-SA" sz="2800" spc="-1" strike="noStrike">
                <a:solidFill>
                  <a:srgbClr val="000099"/>
                </a:solidFill>
                <a:latin typeface="Verdana"/>
              </a:rPr>
              <a:t>طبقات حول نقطه السره</a:t>
            </a:r>
            <a:r>
              <a:rPr b="1" lang="ar-SA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( مركزيه  ، غير مركزيه  ، شق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حبيبات النشاء :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بسيط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مرك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نصف مرك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5" descr="نشآ بسيطه"/>
          <p:cNvPicPr/>
          <p:nvPr/>
        </p:nvPicPr>
        <p:blipFill>
          <a:blip r:embed="rId1"/>
          <a:stretch/>
        </p:blipFill>
        <p:spPr>
          <a:xfrm>
            <a:off x="468360" y="2781360"/>
            <a:ext cx="2266920" cy="3394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حبيبة نشآ ذآت سره شق في الفاصوليا"/>
          <p:cNvPicPr/>
          <p:nvPr/>
        </p:nvPicPr>
        <p:blipFill>
          <a:blip r:embed="rId2"/>
          <a:stretch/>
        </p:blipFill>
        <p:spPr>
          <a:xfrm>
            <a:off x="4572000" y="2852640"/>
            <a:ext cx="2448000" cy="3022560"/>
          </a:xfrm>
          <a:prstGeom prst="rect">
            <a:avLst/>
          </a:prstGeom>
          <a:ln w="0">
            <a:noFill/>
          </a:ln>
        </p:spPr>
      </p:pic>
      <p:sp>
        <p:nvSpPr>
          <p:cNvPr id="350" name="مربع نص 5"/>
          <p:cNvSpPr/>
          <p:nvPr/>
        </p:nvSpPr>
        <p:spPr>
          <a:xfrm>
            <a:off x="-817920" y="630864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في درنة  البطاطس توضح حبيبة النشاء البسيطه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مربع نص 6"/>
          <p:cNvSpPr/>
          <p:nvPr/>
        </p:nvSpPr>
        <p:spPr>
          <a:xfrm>
            <a:off x="4432320" y="6093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حبيبات نشاء في الفول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2" name="رابط كسهم مستقيم 8"/>
          <p:cNvCxnSpPr/>
          <p:nvPr/>
        </p:nvCxnSpPr>
        <p:spPr>
          <a:xfrm flipV="1">
            <a:off x="1547280" y="3644280"/>
            <a:ext cx="1585080" cy="648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53" name="مربع نص 9"/>
          <p:cNvSpPr/>
          <p:nvPr/>
        </p:nvSpPr>
        <p:spPr>
          <a:xfrm>
            <a:off x="2643840" y="35002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سره جانبيه في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حبيبة نشاء بسيط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4" name="رابط كسهم مستقيم 11"/>
          <p:cNvCxnSpPr/>
          <p:nvPr/>
        </p:nvCxnSpPr>
        <p:spPr>
          <a:xfrm>
            <a:off x="6084720" y="3357720"/>
            <a:ext cx="1656720" cy="180072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55" name="مربع نص 12"/>
          <p:cNvSpPr/>
          <p:nvPr/>
        </p:nvSpPr>
        <p:spPr>
          <a:xfrm>
            <a:off x="6874920" y="53006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سره على هيئة ش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8604360" y="6048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95280" y="260280"/>
            <a:ext cx="86011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ثانيا : البروتينات :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نشاء من اتحاد عدد من البروتينات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ختزن البروتينات على هيئة حبيبات الاليرون في الثمار والبذور وتتكون عن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طريق تجمعها في فجوات الخلايا  ثم تتجزأ الفجوات في الانسجه البالغه ال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فجوات صغيره تتحول كل منها الى احسام بروتينيه  تحاط بالغشاء البلازمي الداخلي مكونه من جسم شبه بلوري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stalloid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وجسم شبه كروي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loboid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يغمران في ماده بروتينيه تحاط بطبقه من البروتين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6" descr="الاليرون قريب"/>
          <p:cNvPicPr/>
          <p:nvPr/>
        </p:nvPicPr>
        <p:blipFill>
          <a:blip r:embed="rId1"/>
          <a:stretch/>
        </p:blipFill>
        <p:spPr>
          <a:xfrm>
            <a:off x="5580000" y="299736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حبيبات الاليرون في الخروع"/>
          <p:cNvPicPr/>
          <p:nvPr/>
        </p:nvPicPr>
        <p:blipFill>
          <a:blip r:embed="rId2"/>
          <a:stretch/>
        </p:blipFill>
        <p:spPr>
          <a:xfrm>
            <a:off x="611280" y="2997360"/>
            <a:ext cx="3770280" cy="32446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9"/>
          <p:cNvSpPr/>
          <p:nvPr/>
        </p:nvSpPr>
        <p:spPr>
          <a:xfrm>
            <a:off x="3311640" y="645804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حبيبات الاليرون في بذرة  الخرو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1" name="رابط كسهم مستقيم 7"/>
          <p:cNvCxnSpPr/>
          <p:nvPr/>
        </p:nvCxnSpPr>
        <p:spPr>
          <a:xfrm flipV="1">
            <a:off x="6803640" y="2923560"/>
            <a:ext cx="864360" cy="1585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2" name="مربع نص 8"/>
          <p:cNvSpPr/>
          <p:nvPr/>
        </p:nvSpPr>
        <p:spPr>
          <a:xfrm>
            <a:off x="6478920" y="256536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جسم شبه كرو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3" name="رابط كسهم مستقيم 10"/>
          <p:cNvCxnSpPr/>
          <p:nvPr/>
        </p:nvCxnSpPr>
        <p:spPr>
          <a:xfrm flipH="1" flipV="1">
            <a:off x="5363280" y="3067920"/>
            <a:ext cx="1080360" cy="8658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4" name="مربع نص 11"/>
          <p:cNvSpPr/>
          <p:nvPr/>
        </p:nvSpPr>
        <p:spPr>
          <a:xfrm>
            <a:off x="4065480" y="263700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جسم شبه  بلور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طبقة الاليرون"/>
          <p:cNvPicPr/>
          <p:nvPr/>
        </p:nvPicPr>
        <p:blipFill>
          <a:blip r:embed="rId1"/>
          <a:stretch/>
        </p:blipFill>
        <p:spPr>
          <a:xfrm>
            <a:off x="3276720" y="115920"/>
            <a:ext cx="5446440" cy="3456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طبقة الاليرون"/>
          <p:cNvPicPr/>
          <p:nvPr/>
        </p:nvPicPr>
        <p:blipFill>
          <a:blip r:embed="rId2"/>
          <a:stretch/>
        </p:blipFill>
        <p:spPr>
          <a:xfrm>
            <a:off x="250920" y="3649680"/>
            <a:ext cx="4752720" cy="32083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7"/>
          <p:cNvSpPr/>
          <p:nvPr/>
        </p:nvSpPr>
        <p:spPr>
          <a:xfrm>
            <a:off x="4070880" y="4941720"/>
            <a:ext cx="57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طبقة الاليرون في ق.ط في حب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قم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8" name="رابط كسهم مستقيم 5"/>
          <p:cNvCxnSpPr/>
          <p:nvPr/>
        </p:nvCxnSpPr>
        <p:spPr>
          <a:xfrm flipH="1">
            <a:off x="2194920" y="1268280"/>
            <a:ext cx="1585080" cy="648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9" name="مربع نص 6"/>
          <p:cNvSpPr/>
          <p:nvPr/>
        </p:nvSpPr>
        <p:spPr>
          <a:xfrm>
            <a:off x="537120" y="21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حبيبات الاليرون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0" name="رابط كسهم مستقيم 8"/>
          <p:cNvCxnSpPr/>
          <p:nvPr/>
        </p:nvCxnSpPr>
        <p:spPr>
          <a:xfrm>
            <a:off x="7740360" y="1844640"/>
            <a:ext cx="577080" cy="223272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71" name="مربع نص 9"/>
          <p:cNvSpPr/>
          <p:nvPr/>
        </p:nvSpPr>
        <p:spPr>
          <a:xfrm>
            <a:off x="7336080" y="39337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خلايا الاندوسبير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3796200" y="264960"/>
            <a:ext cx="556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Verdana"/>
              </a:rPr>
              <a:t>ثالثا : البلورات :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هي نواتج ايضيه من مركبات الكالسيوم منها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Verdana"/>
              </a:rPr>
              <a:t>1</a:t>
            </a:r>
            <a:r>
              <a:rPr b="1" lang="ar-SA" sz="2800" spc="-1" strike="noStrike" u="sng">
                <a:solidFill>
                  <a:srgbClr val="000099"/>
                </a:solidFill>
                <a:uFillTx/>
                <a:latin typeface="Verdana"/>
              </a:rPr>
              <a:t>- اكسالات الكالسيو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فردي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litary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نجميه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u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ابريه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phi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رمل بلوري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 s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5" descr="بلوره  فرديه "/>
          <p:cNvPicPr/>
          <p:nvPr/>
        </p:nvPicPr>
        <p:blipFill>
          <a:blip r:embed="rId1"/>
          <a:stretch/>
        </p:blipFill>
        <p:spPr>
          <a:xfrm>
            <a:off x="250920" y="1844640"/>
            <a:ext cx="4392360" cy="3619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بلوره معدنيه"/>
          <p:cNvPicPr/>
          <p:nvPr/>
        </p:nvPicPr>
        <p:blipFill>
          <a:blip r:embed="rId2"/>
          <a:stretch/>
        </p:blipFill>
        <p:spPr>
          <a:xfrm>
            <a:off x="5724360" y="4276800"/>
            <a:ext cx="3189600" cy="2386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2"/>
          <p:cNvSpPr/>
          <p:nvPr/>
        </p:nvSpPr>
        <p:spPr>
          <a:xfrm>
            <a:off x="-834480" y="573264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بلوره فرديه في خلايا الورقه الحرشفيه للبص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6" name="رابط كسهم مستقيم 6"/>
          <p:cNvCxnSpPr/>
          <p:nvPr/>
        </p:nvCxnSpPr>
        <p:spPr>
          <a:xfrm>
            <a:off x="3780000" y="4292640"/>
            <a:ext cx="288000" cy="1440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بلورات أكسالات الكالسيوم"/>
          <p:cNvPicPr/>
          <p:nvPr/>
        </p:nvPicPr>
        <p:blipFill>
          <a:blip r:embed="rId1"/>
          <a:stretch/>
        </p:blipFill>
        <p:spPr>
          <a:xfrm>
            <a:off x="4427640" y="333360"/>
            <a:ext cx="4556160" cy="364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بلوره نجميه"/>
          <p:cNvPicPr/>
          <p:nvPr/>
        </p:nvPicPr>
        <p:blipFill>
          <a:blip r:embed="rId2"/>
          <a:stretch/>
        </p:blipFill>
        <p:spPr>
          <a:xfrm>
            <a:off x="179280" y="3429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4284720" y="4869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بلوره نجميه من برنشيمه ساق الرم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0" name="رابط كسهم مستقيم 5"/>
          <p:cNvCxnSpPr/>
          <p:nvPr/>
        </p:nvCxnSpPr>
        <p:spPr>
          <a:xfrm>
            <a:off x="2195640" y="5516280"/>
            <a:ext cx="3529440" cy="1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27:03Z</dcterms:created>
  <dc:creator>HELP</dc:creator>
  <dc:description/>
  <dc:language>en-US</dc:language>
  <cp:lastModifiedBy>a</cp:lastModifiedBy>
  <dcterms:modified xsi:type="dcterms:W3CDTF">2016-09-30T14:27:00Z</dcterms:modified>
  <cp:revision>72</cp:revision>
  <dc:subject/>
  <dc:title>الخليه النباتيه هي وحدة التركيب والوظيفه للكائن الحي وتتكون من:ـ</dc:title>
</cp:coreProperties>
</file>