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CB43-869C-489B-8B75-C953AAB88D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4956-C578-4D38-9B26-69E9863E56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FC7-8C8E-425D-9753-675B4D8C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877-5BFB-48AF-B867-B678CA5E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79D-EFE9-48CC-BA44-8D6D4A56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4BA-48E6-4006-8044-227970AE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15F-6447-425B-8867-EABFD9C5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2B5-F7FA-4FDE-B166-45204391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CE5-E817-40A0-85BB-ADB0055E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413-0A4D-4016-A56E-5A47D834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3EB-86FF-4353-9CF2-8284E5AC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7D3-2439-43C0-BDE6-27BD574C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646-5D74-4EDC-8F1E-98070ED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634-620E-4FCB-B9DA-663660A3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0726-AD74-4484-9CBC-0761D83C7B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مربع نص 1" descr=""/>
          <p:cNvPicPr/>
          <p:nvPr/>
        </p:nvPicPr>
        <p:blipFill>
          <a:blip r:embed="rId1"/>
          <a:stretch/>
        </p:blipFill>
        <p:spPr>
          <a:xfrm>
            <a:off x="3876840" y="2743200"/>
            <a:ext cx="4627440" cy="2712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 rot="1747800">
            <a:off x="1042560" y="1197000"/>
            <a:ext cx="3168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مستطيل 1" descr=""/>
          <p:cNvPicPr/>
          <p:nvPr/>
        </p:nvPicPr>
        <p:blipFill>
          <a:blip r:embed="rId1"/>
          <a:stretch/>
        </p:blipFill>
        <p:spPr>
          <a:xfrm>
            <a:off x="987480" y="176040"/>
            <a:ext cx="768024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2879640" cy="176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1989000" y="2349360"/>
            <a:ext cx="2718000" cy="2016360"/>
          </a:xfrm>
          <a:prstGeom prst="rect">
            <a:avLst/>
          </a:prstGeom>
          <a:ln w="0">
            <a:noFill/>
          </a:ln>
        </p:spPr>
      </p:pic>
      <p:pic>
        <p:nvPicPr>
          <p:cNvPr id="74" name="مستطيل 2" descr=""/>
          <p:cNvPicPr/>
          <p:nvPr/>
        </p:nvPicPr>
        <p:blipFill>
          <a:blip r:embed="rId4"/>
          <a:stretch/>
        </p:blipFill>
        <p:spPr>
          <a:xfrm>
            <a:off x="3071880" y="4479840"/>
            <a:ext cx="5900760" cy="89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539640" y="4495680"/>
            <a:ext cx="251964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مستطيل 1" descr=""/>
          <p:cNvPicPr/>
          <p:nvPr/>
        </p:nvPicPr>
        <p:blipFill>
          <a:blip r:embed="rId1"/>
          <a:stretch/>
        </p:blipFill>
        <p:spPr>
          <a:xfrm>
            <a:off x="2511360" y="390600"/>
            <a:ext cx="4359240" cy="772920"/>
          </a:xfrm>
          <a:prstGeom prst="rect">
            <a:avLst/>
          </a:prstGeom>
          <a:ln w="0">
            <a:noFill/>
          </a:ln>
        </p:spPr>
      </p:pic>
      <p:pic>
        <p:nvPicPr>
          <p:cNvPr id="77" name="مستطيل 2" descr=""/>
          <p:cNvPicPr/>
          <p:nvPr/>
        </p:nvPicPr>
        <p:blipFill>
          <a:blip r:embed="rId2"/>
          <a:stretch/>
        </p:blipFill>
        <p:spPr>
          <a:xfrm>
            <a:off x="2114640" y="1255680"/>
            <a:ext cx="59817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مستطيل 1" descr=""/>
          <p:cNvPicPr/>
          <p:nvPr/>
        </p:nvPicPr>
        <p:blipFill>
          <a:blip r:embed="rId1"/>
          <a:stretch/>
        </p:blipFill>
        <p:spPr>
          <a:xfrm>
            <a:off x="817560" y="378000"/>
            <a:ext cx="7521480" cy="485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3419640" y="5116680"/>
            <a:ext cx="4924440" cy="153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826920" y="5156280"/>
            <a:ext cx="259272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مستطيل 1" descr=""/>
          <p:cNvPicPr/>
          <p:nvPr/>
        </p:nvPicPr>
        <p:blipFill>
          <a:blip r:embed="rId1"/>
          <a:stretch/>
        </p:blipFill>
        <p:spPr>
          <a:xfrm>
            <a:off x="6480" y="133200"/>
            <a:ext cx="8893080" cy="4676760"/>
          </a:xfrm>
          <a:prstGeom prst="rect">
            <a:avLst/>
          </a:prstGeom>
          <a:ln w="0">
            <a:noFill/>
          </a:ln>
        </p:spPr>
      </p:pic>
      <p:pic>
        <p:nvPicPr>
          <p:cNvPr id="82" name="صورة 2" descr="f9"/>
          <p:cNvPicPr/>
          <p:nvPr/>
        </p:nvPicPr>
        <p:blipFill>
          <a:blip r:embed="rId2"/>
          <a:stretch/>
        </p:blipFill>
        <p:spPr>
          <a:xfrm>
            <a:off x="3567240" y="4713120"/>
            <a:ext cx="5235480" cy="18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24000" y="4830840"/>
            <a:ext cx="324324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مربع نص 1"/>
          <p:cNvSpPr/>
          <p:nvPr/>
        </p:nvSpPr>
        <p:spPr>
          <a:xfrm>
            <a:off x="2700360" y="2303640"/>
            <a:ext cx="3959280" cy="1557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</a:rPr>
              <a:t>انته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1962000" y="324000"/>
            <a:ext cx="574992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1" descr=""/>
          <p:cNvPicPr/>
          <p:nvPr/>
        </p:nvPicPr>
        <p:blipFill>
          <a:blip r:embed="rId1"/>
          <a:stretch/>
        </p:blipFill>
        <p:spPr>
          <a:xfrm>
            <a:off x="103320" y="841320"/>
            <a:ext cx="87786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مستطيل 1"/>
          <p:cNvSpPr/>
          <p:nvPr/>
        </p:nvSpPr>
        <p:spPr>
          <a:xfrm>
            <a:off x="285840" y="285840"/>
            <a:ext cx="871524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0000"/>
              </a:buClr>
              <a:buFont typeface="Arabic Transparent"/>
              <a:buChar char="•"/>
              <a:tabLst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- العنقو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وتكون فيها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لأزهار 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معنقة وتحمل على محور طويل وأعناق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لأزهار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متساوية تقريب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ً 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فى الطول. وذلك كما فى محاصيل العائلة الصليبي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ة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والفراولة والبطاطس والطماط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وهى تختلف عن</a:t>
            </a:r>
            <a:r>
              <a:rPr b="0" lang="ar-SA" sz="2400" spc="-1" strike="noStrike">
                <a:solidFill>
                  <a:srgbClr val="ff0000"/>
                </a:solidFill>
                <a:latin typeface="Tw Cen MT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w Cen MT"/>
              </a:rPr>
              <a:t>-</a:t>
            </a:r>
            <a:r>
              <a:rPr b="0" lang="ar-EG" sz="2400" spc="-1" strike="noStrike">
                <a:solidFill>
                  <a:srgbClr val="ff0000"/>
                </a:solidFill>
                <a:latin typeface="Tw Cen MT"/>
              </a:rPr>
              <a:t> النورة السنبلة 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ike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) حيث تنمو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الأزهار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 بنفس الطريقة على محور النورة إلا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أنها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 تكون غير معنقة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(أ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ى جالسة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.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5003640" y="2892600"/>
            <a:ext cx="1138320" cy="375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2771640" y="3147840"/>
            <a:ext cx="2452680" cy="371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285840" y="3036960"/>
            <a:ext cx="2160360" cy="291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6372360" y="2992320"/>
            <a:ext cx="248436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مستطيل 1"/>
          <p:cNvSpPr/>
          <p:nvPr/>
        </p:nvSpPr>
        <p:spPr>
          <a:xfrm>
            <a:off x="1476360" y="260280"/>
            <a:ext cx="71438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tabLst>
                <a:tab algn="l" pos="0"/>
                <a:tab algn="r" pos="29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-النورة الخ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tabLst>
                <a:tab algn="l" pos="0"/>
                <a:tab algn="r" pos="29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abic Transparent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raditional Arabic"/>
              </a:rPr>
              <a:t>وفيها تخرج أعناق الأزهار من نقطة واحدة وقد تكون  خيمية بسيطة كما فى الجزر أو خيمية مركبةكما فى البص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tabLst>
                <a:tab algn="l" pos="0"/>
                <a:tab algn="r" pos="29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048280" y="1830240"/>
            <a:ext cx="2987640" cy="308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187280" y="2147760"/>
            <a:ext cx="2681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مستطيل 1"/>
          <p:cNvSpPr/>
          <p:nvPr/>
        </p:nvSpPr>
        <p:spPr>
          <a:xfrm>
            <a:off x="611280" y="822240"/>
            <a:ext cx="82818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w Cen MT"/>
                <a:ea typeface="Arabic Transparent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Tw Cen MT"/>
                <a:ea typeface="Arabic Transparent"/>
              </a:rPr>
              <a:t>- </a:t>
            </a:r>
            <a:r>
              <a:rPr b="1" lang="ar-EG" sz="2400" spc="-1" strike="noStrike">
                <a:solidFill>
                  <a:srgbClr val="ff0000"/>
                </a:solidFill>
                <a:latin typeface="Tw Cen MT"/>
                <a:cs typeface="Arabic Transparent"/>
              </a:rPr>
              <a:t>النورات الرأس او الها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وهى عبارة عن مجموعة كثيفة من 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لأزهار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الجالسة على محور قصير كما فى نباتات العائلة المركبة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w Cen MT"/>
              </a:rPr>
              <a:t>تتكون من نوعين من الأزهار الشعاعية وتكون على الأطراف للنورة والأزهار القرصي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</a:rPr>
              <a:t>ة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</a:rPr>
              <a:t> وتكون في الداخل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698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مستطيل 1"/>
          <p:cNvSpPr/>
          <p:nvPr/>
        </p:nvSpPr>
        <p:spPr>
          <a:xfrm>
            <a:off x="1116000" y="714240"/>
            <a:ext cx="73850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- الأغريض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وهى نورة 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تكون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فيها 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لأزهار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جالسة على محور لحمى يحيط بها قنابة كبيرة وذلك كما فى القلقا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258920" y="2776680"/>
            <a:ext cx="68421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2" descr=""/>
          <p:cNvPicPr/>
          <p:nvPr/>
        </p:nvPicPr>
        <p:blipFill>
          <a:blip r:embed="rId1"/>
          <a:stretch/>
        </p:blipFill>
        <p:spPr>
          <a:xfrm>
            <a:off x="-12600" y="-115920"/>
            <a:ext cx="8881920" cy="6705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95280" y="914400"/>
            <a:ext cx="2076480" cy="161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2076480" cy="1663560"/>
          </a:xfrm>
          <a:prstGeom prst="rect">
            <a:avLst/>
          </a:prstGeom>
          <a:ln w="0">
            <a:noFill/>
          </a:ln>
        </p:spPr>
      </p:pic>
      <p:pic>
        <p:nvPicPr>
          <p:cNvPr id="68" name="مستطيل 4" descr=""/>
          <p:cNvPicPr/>
          <p:nvPr/>
        </p:nvPicPr>
        <p:blipFill>
          <a:blip r:embed="rId4"/>
          <a:stretch/>
        </p:blipFill>
        <p:spPr>
          <a:xfrm>
            <a:off x="4127400" y="5565600"/>
            <a:ext cx="4651560" cy="84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431640" y="4724280"/>
            <a:ext cx="20401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14240" y="214200"/>
            <a:ext cx="79297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5:21:50Z</dcterms:created>
  <dc:creator>laptop-sp1</dc:creator>
  <dc:description/>
  <dc:language>en-US</dc:language>
  <cp:lastModifiedBy>pc</cp:lastModifiedBy>
  <dcterms:modified xsi:type="dcterms:W3CDTF">2017-10-25T04:33:13Z</dcterms:modified>
  <cp:revision>69</cp:revision>
  <dc:subject/>
  <dc:title>الشريحة 1</dc:title>
</cp:coreProperties>
</file>